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5AC-432A-4ABF-89EB-B785B67A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F85-E2F1-45AD-BF84-8ACA9071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5370-0AFF-426C-ACCA-880EE9AC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E8DA-92A5-4F23-98DB-A98FB19A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E21-B965-494E-B494-62C552C1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6E3-EC41-40C9-9790-66FAC5D7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9E4-15B9-4C7B-9FDF-BB72579E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724-641B-45BE-9F21-4F3F4E93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91A-CA2D-46CF-B193-5F03B28B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845-0BD2-4086-8259-2B416B2F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D6E6-445B-43C9-BEC5-66BCFA54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3D1-A634-4A29-8230-78B100CB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0320" y="6324480"/>
            <a:ext cx="258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F996-B203-4E80-BAE1-4F267D0C720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 Road Map ’06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Helsingør, October 18th 2006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 Core – Less Likely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Rationals / Infinite Precision Integ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Complex Numb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Rank Opera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may do research and preliminary work but are unlikely to release anyth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... Unless we get ”pushed”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V11.1 Performance, Deployment, Stability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5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Faster / Simpler ⎕NA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lgorithm review with focus on Indexing and Searching (idioms &amp; core algorithms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otNet: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mproved Autocomple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Data Marshalling” Performance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Load Balancing” issues (starting multiple Dyalog processes for one class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Remove 64-bit Array Size Restric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stallability Issues”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Even more Quality Assurance tools and procedures in place for next releas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Web Presence”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pen Source Library (SALT, SPICE, WildServer, etc...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anuals On Line in Searchable for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ew training materials for ”modern young users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utorials on OO, .Net, Office Automation, making Web Pages, etc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anned demos (Video, screen capture), Blogs, Wiki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ultivate Agile Community Membership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Agile 2007 (Como, Ital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SHOULD do a presentation on arrays and objects at OOPSLA’07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Continuously look to what the Python &amp; Ruby folks are do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Please join us in this adventu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Professional” Produ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o be released on a separate timeframe and sold separately from the core product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emote Procedure Call mechanis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File Server for Component and Native Fil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Running APL as a ”Windows Service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cure Socket suppor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mote Procedure Call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25760" y="1565280"/>
            <a:ext cx="6924600" cy="50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PC Tool Advanta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ignificantly simpler programming model than TCPSocket, especially for multi-threaded clien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FAST, as events handled in C. APL is only called when there is ”something to do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B: Independent of underlying technolog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ould provide some protection against ”denial of service” attack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333333"/>
                </a:solidFill>
                <a:latin typeface="Geneva"/>
              </a:rPr>
              <a:t>Dyalog File Acceleration Server</a:t>
            </a:r>
            <a:endParaRPr b="1" lang="en-US" sz="36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process which runs on a server machine using the RPC tool to provide servic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No client-side code changes required, support will be built-in to ⎕N and ⎕F-system functions (TIE functions may be extended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imilar to ”SHAREFILES” product and SHARP APL file system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nitially targeting current users of shared files on Windows LA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Version aimed at Unix environments to follow...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 FAS Advanta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orkstations do not need access to mapped drives or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implified </a:t>
            </a: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pplication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 configurat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uch higher and more granular security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Better performan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rver ties files exclusively and caches directory and other informat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Higher reliabil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uch less risk of file damage as all disk I/O is happening locally on the serv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800" spc="-1" strike="noStrike">
                <a:solidFill>
                  <a:srgbClr val="333333"/>
                </a:solidFill>
                <a:latin typeface="Geneva"/>
              </a:rPr>
              <a:t>Dyalog FAS Advantages</a:t>
            </a:r>
            <a:endParaRPr b="1" lang="en-US" sz="4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Operabil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Server architecture allows instrumentation and monitoring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Extreme Reliability (not all in v1.0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24x7x365 Operations: On-line full and incremental backup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utomated recovery from transient network failure (or even a server restart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irroring and distributed data bas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3360" y="903240"/>
            <a:ext cx="835668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(Rerun from 2005)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-99864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86000" y="1805040"/>
            <a:ext cx="6029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Running APL as a ”Service”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will provide recommendations for tried and tested mechanisms for running Dyalog-based applications as Windows Servi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Additional components if requir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Dyalog APL will recognise that it is running as a service and not try to interact with a user under any circumstanc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Etc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Secure Socket Suppor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ecure Sockets provide encrypted communications between ”identified” partn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will look at providing support for secure sock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In the RPC tool (definite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For TCPSocket objects (possib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search: Microsoft.Ne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3000" y="1625400"/>
            <a:ext cx="835812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Managed Microsoft Office is still 5 years away, so no immediate ”panic” to provide managed APL(?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believe there are enhancements in the .Net pipeline, which will make it a better foundation for array language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are doing research and lobbying Microsoft (participating in regular ”CLR language labs” in Redmond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We are monitoring the situation closely and will keep you informed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Research: Multi-Core Processor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3000" y="2166840"/>
            <a:ext cx="8116920" cy="35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Modern processor CPU speeds are flattening off around 3-4 MHz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This is already so fast that a cache miss requires 100 wait states before data arrives from RAM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oon, chips with 8 or 16 processors will be comm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It is time to look at how an APL interpreter should adapt to new architectur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Other Possible Projec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Interface to math and statistics packages: NAG, IMSL, R/SPLUS, perhaps Matlab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The Road Ahead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his was a quick overview of the possible paths we see ahea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are always happy to hear from you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Please participate in pathfindin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Thank You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Dyalog Road Map ’06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ubject to change without notice due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Having a Good Think following 11.0 comple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Input and project funding from custom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hat Microsoft throws at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Our ability to recruit the right devel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Cosmic Ray Collisions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000" spc="-1" strike="noStrike">
                <a:solidFill>
                  <a:srgbClr val="333333"/>
                </a:solidFill>
                <a:latin typeface="Geneva"/>
              </a:rPr>
              <a:t>Completing Work in Progres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Version 11.0 Port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32-bit Windows on CD w/Release Note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64-bit Windows (final testing &amp; packaging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Windows Mobile 5, AIX (32&amp;64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Linux (Wine), Solari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Open Source on the Web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Dyalog’06 Presentat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ALT, SPICE, Wild Web Server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upport the Consultants Network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ersion 11.1 (”late 2007”)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A Few OO things we left ou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Unicode, possibly a few other core language extension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Source Code Management 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Tighter support for SALT &amp; SubVersion etc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Visual Studio Integration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Make it possible to ”dynamically embed” APL code in popular development tool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Consolid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Integrate new team members (Nicolas, Philip, ”X”)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Remove size restrictions, bugs &amp; limitations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33333"/>
                </a:solidFill>
                <a:latin typeface="Geneva"/>
              </a:rPr>
              <a:t>Focus on Performance, Deployment, Stability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: OO Things we Forgo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have used C# as a design guide for OO functionalit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We did leave some things out – are they important?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Stefano alerted us to one or two  towards the end of v11 test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:Access Overridable (done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”</a:t>
            </a: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Thread Local Storage”?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: OO Things we Forgo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960480" y="0"/>
            <a:ext cx="11364840" cy="710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 Core Langu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3480" y="174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High Probabilit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Geneva"/>
              </a:rPr>
              <a:t>Unicode (The Defining Feature of 11.1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Primary Design goal: No application changes REQUIRED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  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82=⎕DR string←'ABC'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1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    string[2]←'</a:t>
            </a:r>
            <a:r>
              <a:rPr b="0" lang="da-DK" sz="2800" spc="-1" strike="noStrike">
                <a:solidFill>
                  <a:srgbClr val="333333"/>
                </a:solidFill>
                <a:latin typeface="APL385 Unicode"/>
                <a:ea typeface="Arial Unicode MS"/>
              </a:rPr>
              <a:t>ᄎ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'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    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  <a:ea typeface="Arial Unicode MS"/>
              </a:rPr>
              <a:t>82=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da-DK" sz="2400" spc="-1" strike="noStrike">
                <a:solidFill>
                  <a:srgbClr val="333333"/>
                </a:solidFill>
                <a:latin typeface="APL385 Unicode"/>
                <a:ea typeface="Arial Unicode MS"/>
              </a:rPr>
              <a:t>DR string</a:t>
            </a:r>
            <a:br>
              <a:rPr sz="2400"/>
            </a:br>
            <a:r>
              <a:rPr b="0" lang="da-DK" sz="2400" spc="-1" strike="noStrike">
                <a:solidFill>
                  <a:srgbClr val="333333"/>
                </a:solidFill>
                <a:latin typeface="APL385 Unicode"/>
                <a:ea typeface="Arial Unicode MS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333333"/>
                </a:solidFill>
                <a:latin typeface="Geneva"/>
              </a:rPr>
              <a:t>V11.1 Core Langu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33333"/>
                </a:solidFill>
                <a:latin typeface="Geneva"/>
              </a:rPr>
              <a:t>Possib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Closures (dfns returning functions with local state – ”function objects”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33"/>
                </a:solidFill>
                <a:latin typeface="Geneva"/>
              </a:rPr>
              <a:t>NB: John would like to point out that installing ”9.0 FRE” uses a separate registry section and is ”safe”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yalog'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oad Map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5T15:26:23Z</dcterms:created>
  <dc:creator>Morten Kromberg</dc:creator>
  <dc:description/>
  <dc:language>en-US</dc:language>
  <cp:lastModifiedBy>Morten Kromberg</cp:lastModifiedBy>
  <dcterms:modified xsi:type="dcterms:W3CDTF">2006-10-19T05:27:39Z</dcterms:modified>
  <cp:revision>74</cp:revision>
  <dc:subject/>
  <dc:title>Introduction to OO for APLers</dc:title>
</cp:coreProperties>
</file>