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8A23D6-C2BD-411B-B363-6B8A2CC71F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68684-5CB2-4CDD-B542-21F91DC62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05AEAC-0C0E-4AE9-A8B4-6AB05718C0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569B7B-6126-45B7-92D1-043E1425C6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CFC86C-CC13-42DB-B928-79C79CE62F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8BE95D-D860-4EF2-BE3E-D85E3CCD06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347384-DB4F-44A0-8954-5EE150A545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5912A3-3A31-4CEA-9F05-2791A8C911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246AC8-BEC9-46D8-B99A-8DCABB2A7C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635953-815A-4E25-A52C-D370BC87DA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F3AAB-F845-40B6-85D8-8FFA5854D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E5C35-4CFA-4CA3-AAA1-154D1DE74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04F6D2-203D-4C11-9634-D85868848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C95CF-46AC-49E7-B499-7A020EE2DC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CFE209-C1CD-4BA1-A13F-DA3DF35A58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E39BCE-496D-4DC3-B102-D263655D78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8EAEB1-FF9E-4B04-BD27-2BD31A00ED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90A58-EF38-4C8D-8E38-13D6C0E3E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242A4-AAC2-4007-A55A-FBA4230EB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2AC44-C6F3-4E78-A572-A2789C689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418CD-65E9-4A35-8A62-9FBBE1928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7F080-D8E2-4207-8F73-9C0073137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C0268-DF20-4681-B67F-DBC7A5946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7DE68-CD6D-42EE-8C95-9DA0FEC3D0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ED01F-2D16-4F32-A38B-581B515629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4C41C-79E2-41C4-8251-91169F56D9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SQL Databases from APL (Dyalog &amp; other)</a:t>
            </a:r>
            <a:endParaRPr b="0" lang="en-US" sz="4400" spc="-1" strike="noStrike">
              <a:solidFill>
                <a:srgbClr val="000000"/>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 Merrill</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tical Software Corp.</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mesmerrill@usa.n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insert </a:t>
            </a:r>
            <a:r>
              <a:rPr b="0" lang="en-US" sz="4000" spc="-1" strike="noStrike">
                <a:solidFill>
                  <a:srgbClr val="000000"/>
                </a:solidFill>
                <a:latin typeface="Arial"/>
              </a:rPr>
              <a:t>&amp; </a:t>
            </a:r>
            <a:r>
              <a:rPr b="0" i="1" lang="en-US" sz="4000" spc="-1" strike="noStrike">
                <a:solidFill>
                  <a:srgbClr val="000000"/>
                </a:solidFill>
                <a:latin typeface="Arial"/>
              </a:rPr>
              <a:t>update</a:t>
            </a:r>
            <a:r>
              <a:rPr b="0" lang="en-US" sz="4000" spc="-1" strike="noStrike">
                <a:solidFill>
                  <a:srgbClr val="000000"/>
                </a:solidFill>
                <a:latin typeface="Arial"/>
              </a:rPr>
              <a:t>:  SQL’s Weak Spot</a:t>
            </a:r>
            <a:endParaRPr b="0" lang="en-US" sz="40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data is in memory (in an applic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nsert</a:t>
            </a:r>
            <a:r>
              <a:rPr b="0" lang="en-US" sz="2800" spc="-1" strike="noStrike">
                <a:solidFill>
                  <a:srgbClr val="000000"/>
                </a:solidFill>
                <a:latin typeface="Arial"/>
              </a:rPr>
              <a:t> statements allow you to add one row, giving values for each column in the new ro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pdate</a:t>
            </a:r>
            <a:r>
              <a:rPr b="0" lang="en-US" sz="2800" spc="-1" strike="noStrike">
                <a:solidFill>
                  <a:srgbClr val="000000"/>
                </a:solidFill>
                <a:latin typeface="Arial"/>
              </a:rPr>
              <a:t> statements typically reference a single row by its primary key (though it can change many columns in one </a:t>
            </a:r>
            <a:r>
              <a:rPr b="0" i="1" lang="en-US" sz="2800" spc="-1" strike="noStrike">
                <a:solidFill>
                  <a:srgbClr val="000000"/>
                </a:solidFill>
                <a:latin typeface="Arial"/>
              </a:rPr>
              <a:t>updat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ing a group of changes based on user input typically involves issuing many one-row-each </a:t>
            </a:r>
            <a:r>
              <a:rPr b="0" i="1" lang="en-US" sz="3200" spc="-1" strike="noStrike">
                <a:solidFill>
                  <a:srgbClr val="000000"/>
                </a:solidFill>
                <a:latin typeface="Arial"/>
              </a:rPr>
              <a:t>insert</a:t>
            </a:r>
            <a:r>
              <a:rPr b="0" lang="en-US" sz="3200" spc="-1" strike="noStrike">
                <a:solidFill>
                  <a:srgbClr val="000000"/>
                </a:solidFill>
                <a:latin typeface="Arial"/>
              </a:rPr>
              <a:t> or </a:t>
            </a:r>
            <a:r>
              <a:rPr b="0" i="1" lang="en-US" sz="3200" spc="-1" strike="noStrike">
                <a:solidFill>
                  <a:srgbClr val="000000"/>
                </a:solidFill>
                <a:latin typeface="Arial"/>
              </a:rPr>
              <a:t>update</a:t>
            </a:r>
            <a:r>
              <a:rPr b="0" lang="en-US" sz="3200" spc="-1" strike="noStrike">
                <a:solidFill>
                  <a:srgbClr val="000000"/>
                </a:solidFill>
                <a:latin typeface="Arial"/>
              </a:rPr>
              <a:t> stat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Row </a:t>
            </a:r>
            <a:r>
              <a:rPr b="0" i="1" lang="en-US" sz="4400" spc="-1" strike="noStrike">
                <a:solidFill>
                  <a:srgbClr val="000000"/>
                </a:solidFill>
                <a:latin typeface="Arial"/>
              </a:rPr>
              <a:t>insert</a:t>
            </a:r>
            <a:r>
              <a:rPr b="0" lang="en-US" sz="4400" spc="-1" strike="noStrike">
                <a:solidFill>
                  <a:srgbClr val="000000"/>
                </a:solidFill>
                <a:latin typeface="Arial"/>
              </a:rPr>
              <a:t> and </a:t>
            </a:r>
            <a:r>
              <a:rPr b="0" i="1" lang="en-US" sz="4400" spc="-1" strike="noStrike">
                <a:solidFill>
                  <a:srgbClr val="000000"/>
                </a:solidFill>
                <a:latin typeface="Arial"/>
              </a:rPr>
              <a:t>update</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nsert</a:t>
            </a:r>
            <a:r>
              <a:rPr b="0" lang="en-US" sz="3200" spc="-1" strike="noStrike">
                <a:solidFill>
                  <a:srgbClr val="000000"/>
                </a:solidFill>
                <a:latin typeface="Arial"/>
              </a:rPr>
              <a:t> supports adding the result of any </a:t>
            </a:r>
            <a:r>
              <a:rPr b="0" i="1" lang="en-US" sz="3200" spc="-1" strike="noStrike">
                <a:solidFill>
                  <a:srgbClr val="000000"/>
                </a:solidFill>
                <a:latin typeface="Arial"/>
              </a:rPr>
              <a:t>select</a:t>
            </a:r>
            <a:r>
              <a:rPr b="0" lang="en-US" sz="3200" spc="-1" strike="noStrike">
                <a:solidFill>
                  <a:srgbClr val="000000"/>
                </a:solidFill>
                <a:latin typeface="Arial"/>
              </a:rPr>
              <a:t> to an existing tab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update</a:t>
            </a:r>
            <a:r>
              <a:rPr b="0" lang="en-US" sz="3200" spc="-1" strike="noStrike">
                <a:solidFill>
                  <a:srgbClr val="000000"/>
                </a:solidFill>
                <a:latin typeface="Arial"/>
              </a:rPr>
              <a:t> similarly can update many rows of one table from the contents of another table, providing the tables can be joined (usually on the primary ke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yntax for this is not completely standard and some products may not support thi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 the data on the server if poss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a:t>
            </a:r>
            <a:r>
              <a:rPr b="0" i="1" lang="en-US" sz="4400" spc="-1" strike="noStrike">
                <a:solidFill>
                  <a:srgbClr val="000000"/>
                </a:solidFill>
                <a:latin typeface="Arial"/>
              </a:rPr>
              <a:t>delete</a:t>
            </a:r>
            <a:r>
              <a:rPr b="0" lang="en-US" sz="4400" spc="-1" strike="noStrike">
                <a:solidFill>
                  <a:srgbClr val="000000"/>
                </a:solidFill>
                <a:latin typeface="Arial"/>
              </a:rPr>
              <a:t> Does What It Says</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elete</a:t>
            </a:r>
            <a:r>
              <a:rPr b="0" lang="en-US" sz="3200" spc="-1" strike="noStrike">
                <a:solidFill>
                  <a:srgbClr val="000000"/>
                </a:solidFill>
                <a:latin typeface="Arial"/>
              </a:rPr>
              <a:t> can use the full power of </a:t>
            </a:r>
            <a:r>
              <a:rPr b="0" i="1" lang="en-US" sz="3200" spc="-1" strike="noStrike">
                <a:solidFill>
                  <a:srgbClr val="000000"/>
                </a:solidFill>
                <a:latin typeface="Arial"/>
              </a:rPr>
              <a:t>select</a:t>
            </a:r>
            <a:r>
              <a:rPr b="0" lang="en-US" sz="3200" spc="-1" strike="noStrike">
                <a:solidFill>
                  <a:srgbClr val="000000"/>
                </a:solidFill>
                <a:latin typeface="Arial"/>
              </a:rPr>
              <a:t> to determine what row or rows of a table should be deleted</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deleting rows based on a list of primary key values, implementations that limit the length of a SQL statement (or an individual clause within the statement) can require multiple </a:t>
            </a:r>
            <a:r>
              <a:rPr b="0" i="1" lang="en-US" sz="3200" spc="-1" strike="noStrike">
                <a:solidFill>
                  <a:srgbClr val="000000"/>
                </a:solidFill>
                <a:latin typeface="Arial"/>
              </a:rPr>
              <a:t>delete</a:t>
            </a:r>
            <a:r>
              <a:rPr b="0" lang="en-US" sz="3200" spc="-1" strike="noStrike">
                <a:solidFill>
                  <a:srgbClr val="000000"/>
                </a:solidFill>
                <a:latin typeface="Arial"/>
              </a:rPr>
              <a:t> statements to delete a large number of ro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Concepts You Must Know</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has only four data manipulation verbs</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DBMSs use Client / Server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has the concept of </a:t>
            </a:r>
            <a:r>
              <a:rPr b="0" i="1" lang="en-US" sz="3200" spc="-1" strike="noStrike">
                <a:solidFill>
                  <a:srgbClr val="000000"/>
                </a:solidFill>
                <a:latin typeface="Arial"/>
              </a:rPr>
              <a:t>nu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data is in a table (like an APL matri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columns are named, not numbe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columns are “strongly typ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ships are data not stru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 / Server Concepts</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send requests to the server and it responds with the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the DBMS server touches the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good to have the server do things like compute totals so that results are small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mber of back-and-forth interactions is potentially more significant than the amount of data being transfer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QL is the Language for Server Requests and Responses</a:t>
            </a:r>
            <a:endParaRPr b="0" lang="en-US" sz="40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program sends SQL statements (only) to the server and handles the respons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tools hide the fact that everything is done with SQL, by generating SQL for you</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L is very powerful for reading data (</a:t>
            </a:r>
            <a:r>
              <a:rPr b="0" i="1" lang="en-US" sz="2800" spc="-1" strike="noStrike">
                <a:solidFill>
                  <a:srgbClr val="000000"/>
                </a:solidFill>
                <a:latin typeface="Arial"/>
              </a:rPr>
              <a:t>select</a:t>
            </a:r>
            <a:r>
              <a:rPr b="0" lang="en-US" sz="2800" spc="-1" strike="noStrike">
                <a:solidFill>
                  <a:srgbClr val="000000"/>
                </a:solidFill>
                <a:latin typeface="Arial"/>
              </a:rPr>
              <a:t>) and deleting data (</a:t>
            </a:r>
            <a:r>
              <a:rPr b="0" i="1" lang="en-US" sz="2800" spc="-1" strike="noStrike">
                <a:solidFill>
                  <a:srgbClr val="000000"/>
                </a:solidFill>
                <a:latin typeface="Arial"/>
              </a:rPr>
              <a:t>delet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L is quite stupidly simple for writing data in memory into a table (</a:t>
            </a:r>
            <a:r>
              <a:rPr b="0" i="1" lang="en-US" sz="2800" spc="-1" strike="noStrike">
                <a:solidFill>
                  <a:srgbClr val="000000"/>
                </a:solidFill>
                <a:latin typeface="Arial"/>
              </a:rPr>
              <a:t>insert</a:t>
            </a:r>
            <a:r>
              <a:rPr b="0" lang="en-US" sz="2800" spc="-1" strike="noStrike">
                <a:solidFill>
                  <a:srgbClr val="000000"/>
                </a:solidFill>
                <a:latin typeface="Arial"/>
              </a:rPr>
              <a:t>, </a:t>
            </a:r>
            <a:r>
              <a:rPr b="0" i="1" lang="en-US" sz="2800" spc="-1" strike="noStrike">
                <a:solidFill>
                  <a:srgbClr val="000000"/>
                </a:solidFill>
                <a:latin typeface="Arial"/>
              </a:rPr>
              <a:t>updat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ver-the-wire protocol is complex, but is hidden by (most) client libra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e Program Touches the Data</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ingle coordinating program, the DBMS server, performs all access (reading and writing) to data files holding the SQL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 to data is controlled by the serv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er process can be run on a very powerful (expensive) compu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licting requests from different users can be handled more easi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 the Server Do the Work</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er </a:t>
            </a:r>
            <a:r>
              <a:rPr b="0" i="1" lang="en-US" sz="3200" spc="-1" strike="noStrike">
                <a:solidFill>
                  <a:srgbClr val="000000"/>
                </a:solidFill>
                <a:latin typeface="Arial"/>
              </a:rPr>
              <a:t>should</a:t>
            </a:r>
            <a:r>
              <a:rPr b="0" lang="en-US" sz="3200" spc="-1" strike="noStrike">
                <a:solidFill>
                  <a:srgbClr val="000000"/>
                </a:solidFill>
                <a:latin typeface="Arial"/>
              </a:rPr>
              <a:t> be a better computer than the one running your progra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ptimal if the server can get the job done without sending a lot of data over the wire to your progra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wnside:  the more you get the server to do the work (by sending SQL), the more you have to worry that things will need to change if you switch to another DB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void “Chatty” Programs</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interaction with the server takes time for the back-and-forth protocol, in addition to whatever actual data is pass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her than sending a series of steps to the server one after the other, it’s better to send one larger reque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L’s simplistic </a:t>
            </a:r>
            <a:r>
              <a:rPr b="0" i="1" lang="en-US" sz="2800" spc="-1" strike="noStrike">
                <a:solidFill>
                  <a:srgbClr val="000000"/>
                </a:solidFill>
                <a:latin typeface="Arial"/>
              </a:rPr>
              <a:t>insert</a:t>
            </a:r>
            <a:r>
              <a:rPr b="0" lang="en-US" sz="2800" spc="-1" strike="noStrike">
                <a:solidFill>
                  <a:srgbClr val="000000"/>
                </a:solidFill>
                <a:latin typeface="Arial"/>
              </a:rPr>
              <a:t> &amp; </a:t>
            </a:r>
            <a:r>
              <a:rPr b="0" i="1" lang="en-US" sz="2800" spc="-1" strike="noStrike">
                <a:solidFill>
                  <a:srgbClr val="000000"/>
                </a:solidFill>
                <a:latin typeface="Arial"/>
              </a:rPr>
              <a:t>update</a:t>
            </a:r>
            <a:r>
              <a:rPr b="0" lang="en-US" sz="2800" spc="-1" strike="noStrike">
                <a:solidFill>
                  <a:srgbClr val="000000"/>
                </a:solidFill>
                <a:latin typeface="Arial"/>
              </a:rPr>
              <a:t> is an iss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wnside:  the more you “bunch up” your requests, the more difficult it is to handle err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Concepts You Must Know</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has only four data manipulation verb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DBMSs use Client / Server techniques</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QL has the concept of </a:t>
            </a:r>
            <a:r>
              <a:rPr b="0" i="1" lang="en-US" sz="3200" spc="-1" strike="noStrike">
                <a:solidFill>
                  <a:srgbClr val="ff0000"/>
                </a:solidFill>
                <a:latin typeface="Arial"/>
              </a:rPr>
              <a:t>nu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data is in a table (like an APL matri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columns are named, not numbe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columns are “strongly typ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ships are data not stru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out my APL and SQL experienc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talk emphasizes information about SQL</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s you must know</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knesses you need to understan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as about SQL database design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so much about SQL?</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a few people learn the details about SQL, and build tools to shield other developers from the issu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you should not hide SQL from APLer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ery successful project that was a failur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L talking to SQL is not hard to do (any mo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s Concept Called </a:t>
            </a:r>
            <a:r>
              <a:rPr b="0" i="1" lang="en-US" sz="4400" spc="-1" strike="noStrike">
                <a:solidFill>
                  <a:srgbClr val="000000"/>
                </a:solidFill>
                <a:latin typeface="Arial"/>
              </a:rPr>
              <a:t>null</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nded to represent a “missing” or “unknown” value, rather than an “empty”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value is null, it is not equal to any particular value, nor is it not-equal to any particular value.  Suppose A is an arbitrary SQL expression:</a:t>
            </a: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_column = 5   </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_column = ‘hello’</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ne would think that the result of</a:t>
            </a: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or (not A)</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as to be </a:t>
            </a:r>
            <a:r>
              <a:rPr b="0" i="1" lang="en-US" sz="2800" spc="-1" strike="noStrike">
                <a:solidFill>
                  <a:srgbClr val="000000"/>
                </a:solidFill>
                <a:latin typeface="Arial"/>
              </a:rPr>
              <a:t>true</a:t>
            </a:r>
            <a:r>
              <a:rPr b="0" lang="en-US" sz="2800" spc="-1" strike="noStrike">
                <a:solidFill>
                  <a:srgbClr val="000000"/>
                </a:solidFill>
                <a:latin typeface="Arial"/>
              </a:rPr>
              <a:t> but in SQL that’s not the ca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null</a:t>
            </a:r>
            <a:r>
              <a:rPr b="0" lang="en-US" sz="4400" spc="-1" strike="noStrike">
                <a:solidFill>
                  <a:srgbClr val="000000"/>
                </a:solidFill>
                <a:latin typeface="Arial"/>
              </a:rPr>
              <a:t> Causes “three valued logic”</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Lers think we understand booleans, but then along comes SQL’s notion of </a:t>
            </a:r>
            <a:r>
              <a:rPr b="0" i="1" lang="en-US" sz="2800" spc="-1" strike="noStrike">
                <a:solidFill>
                  <a:srgbClr val="000000"/>
                </a:solidFill>
                <a:latin typeface="Arial"/>
              </a:rPr>
              <a:t>null</a:t>
            </a:r>
            <a:r>
              <a:rPr b="0" lang="en-US" sz="2800" spc="-1" strike="noStrike">
                <a:solidFill>
                  <a:srgbClr val="000000"/>
                </a:solidFill>
                <a:latin typeface="Arial"/>
              </a:rPr>
              <a:t> that changes the rules we’ve learn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nulls are involved, the result of a boolean expression is one of </a:t>
            </a:r>
            <a:r>
              <a:rPr b="0" i="1" lang="en-US" sz="2800" spc="-1" strike="noStrike">
                <a:solidFill>
                  <a:srgbClr val="000000"/>
                </a:solidFill>
                <a:latin typeface="Arial"/>
              </a:rPr>
              <a:t>true</a:t>
            </a:r>
            <a:r>
              <a:rPr b="0" lang="en-US" sz="2800" spc="-1" strike="noStrike">
                <a:solidFill>
                  <a:srgbClr val="000000"/>
                </a:solidFill>
                <a:latin typeface="Arial"/>
              </a:rPr>
              <a:t>, </a:t>
            </a:r>
            <a:r>
              <a:rPr b="0" i="1" lang="en-US" sz="2800" spc="-1" strike="noStrike">
                <a:solidFill>
                  <a:srgbClr val="000000"/>
                </a:solidFill>
                <a:latin typeface="Arial"/>
              </a:rPr>
              <a:t>false</a:t>
            </a:r>
            <a:r>
              <a:rPr b="0" lang="en-US" sz="2800" spc="-1" strike="noStrike">
                <a:solidFill>
                  <a:srgbClr val="000000"/>
                </a:solidFill>
                <a:latin typeface="Arial"/>
              </a:rPr>
              <a:t>, or </a:t>
            </a:r>
            <a:r>
              <a:rPr b="0" i="1" lang="en-US" sz="2800" spc="-1" strike="noStrike">
                <a:solidFill>
                  <a:srgbClr val="000000"/>
                </a:solidFill>
                <a:latin typeface="Arial"/>
              </a:rPr>
              <a:t>nul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sult of any expression is </a:t>
            </a:r>
            <a:r>
              <a:rPr b="0" i="1" lang="en-US" sz="2800" spc="-1" strike="noStrike">
                <a:solidFill>
                  <a:srgbClr val="000000"/>
                </a:solidFill>
                <a:latin typeface="Arial"/>
              </a:rPr>
              <a:t>null </a:t>
            </a:r>
            <a:r>
              <a:rPr b="0" lang="en-US" sz="2800" spc="-1" strike="noStrike">
                <a:solidFill>
                  <a:srgbClr val="000000"/>
                </a:solidFill>
                <a:latin typeface="Arial"/>
              </a:rPr>
              <a:t>if any value involved in the expression is </a:t>
            </a:r>
            <a:r>
              <a:rPr b="0" i="1" lang="en-US" sz="2800" spc="-1" strike="noStrike">
                <a:solidFill>
                  <a:srgbClr val="000000"/>
                </a:solidFill>
                <a:latin typeface="Arial"/>
              </a:rPr>
              <a:t>nul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QL function </a:t>
            </a:r>
            <a:r>
              <a:rPr b="0" i="1" lang="en-US" sz="2800" spc="-1" strike="noStrike">
                <a:solidFill>
                  <a:srgbClr val="000000"/>
                </a:solidFill>
                <a:latin typeface="Arial"/>
              </a:rPr>
              <a:t>coalesce</a:t>
            </a:r>
            <a:r>
              <a:rPr b="0" lang="en-US" sz="2800" spc="-1" strike="noStrike">
                <a:solidFill>
                  <a:srgbClr val="000000"/>
                </a:solidFill>
                <a:latin typeface="Arial"/>
              </a:rPr>
              <a:t> returns the first not-null parameter value passed:</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alesce(column, value_if_nu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Null Values Sparingly</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ing nulls sometimes makes sens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ely makes sense for date or tim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s sense for numeric data when 0 is not an appropriate “no information” replacement</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use a “missing value code” in the database, even if you use one in your APL data</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distinction between NULL and ‘’ (an empty string) is hard to see, justify, or explain to non-programmers (or programmer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imes it’s not your deci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Concepts You Must Know</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has only four data manipulation verb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DBMSs use Client / Server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has the concept of </a:t>
            </a:r>
            <a:r>
              <a:rPr b="0" i="1" lang="en-US" sz="3200" spc="-1" strike="noStrike">
                <a:solidFill>
                  <a:srgbClr val="000000"/>
                </a:solidFill>
                <a:latin typeface="Arial"/>
              </a:rPr>
              <a:t>null</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ll data is in a table (like an APL matrix)</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QL columns are named, not numbe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columns are “strongly typ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ships are data not stru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l SQL Data is in Tables</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no other persistent data stru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table values are conceptual scala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L can hold strings (enclosed char vecto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wise, no nested data (in standard SQ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PL had scalar strings, a SQL table would be just like a simple APL matri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locates rows using data values onl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notion like row number in an APL matri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Columns</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umns are named, not numbe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column has a (scalar) data ty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data types can support the special SQL value </a:t>
            </a:r>
            <a:r>
              <a:rPr b="0" i="1" lang="en-US" sz="3200" spc="-1" strike="noStrike">
                <a:solidFill>
                  <a:srgbClr val="000000"/>
                </a:solidFill>
                <a:latin typeface="Arial"/>
              </a:rPr>
              <a:t>nul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ing null values correctly can be difficul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umn Names</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difference between products is in what column names they allow</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allow spaces in names, but that makes it necessary to “quote” those column names (so SQL can parse statements using the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quoting techniques var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use simple, not-very-long nam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not always your cho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Concepts You Must Know</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has only four data manipulation verb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DBMSs use Client / Server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has the concept of </a:t>
            </a:r>
            <a:r>
              <a:rPr b="0" i="1" lang="en-US" sz="3200" spc="-1" strike="noStrike">
                <a:solidFill>
                  <a:srgbClr val="000000"/>
                </a:solidFill>
                <a:latin typeface="Arial"/>
              </a:rPr>
              <a:t>nu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data is in a table (like an APL matri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columns are named, not numbered</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QL columns are “strongly typ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ships are data not stru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lumn Type Catgeories</a:t>
            </a:r>
            <a:endParaRPr b="0" lang="en-US" sz="40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es and Ti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Interv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le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bers</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ers of various sizes (1, 2, 4, 8)</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ly no “unsigned integ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or 8-byte floating poi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ed width and number of decim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ey sometimes availab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4-bit integer with 4 implied decim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Background</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started working with APL professionally in 1975, as a user of STSC timeshar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le working at STSC, I took a course in relational database technology and SQL from a representative of a small company called Relational Software Inc.  Later they changed their name to Oracle – I’ve worked with SQL for longer than Oracle Corporation has exis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ings</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ed length with maximum siz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ble length with maximum siz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Unlimited size” often avail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byte data (Unicode) often avail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es and Times</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r more of date, time, datetim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pt of NULL is very useful he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s are stored as Julian date valu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support negative Julian dat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values are stored as fraction of a da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25 is 6am, 0.5 is noon, 0.75 is 6pm</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time values stored as (day# + timefra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only datetime is availabl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can are represented as being “on day 0”</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can be represented as being “at midnigh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 Intervals</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dly standa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universally available (SQL Serv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represented with a date or datetime value holding the result of subtracting one date or datetime value from ano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nary</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ed length with a maximum siz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ble length with a maximum siz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Unlimited size” often avail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olean</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ingle bi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a:t>
            </a:r>
            <a:r>
              <a:rPr b="0" lang="en-US" sz="2800" spc="-1" strike="noStrike">
                <a:solidFill>
                  <a:srgbClr val="000000"/>
                </a:solidFill>
                <a:latin typeface="Arial"/>
              </a:rPr>
              <a:t> “fixed or variable length with a maximum size” like string and binary data</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imes boolean columns support null (so there are 3 st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advice:  use a one-wide character column inst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Time for a Break ?</a:t>
            </a:r>
            <a:endParaRPr b="0" lang="en-US" sz="66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Concepts You Must Know</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has only four data manipulation verb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DBMSs use Client / Server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has the concept of </a:t>
            </a:r>
            <a:r>
              <a:rPr b="0" i="1" lang="en-US" sz="3200" spc="-1" strike="noStrike">
                <a:solidFill>
                  <a:srgbClr val="000000"/>
                </a:solidFill>
                <a:latin typeface="Arial"/>
              </a:rPr>
              <a:t>nu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data is in a table (like an APL matri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columns are named, not numbe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columns are “strongly typed”</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elationships are data not stru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Relationships Work in SQL</a:t>
            </a:r>
            <a:endParaRPr b="0" lang="en-US" sz="4400" spc="-1" strike="noStrike">
              <a:solidFill>
                <a:srgbClr val="000000"/>
              </a:solidFill>
              <a:latin typeface="Arial"/>
            </a:endParaRPr>
          </a:p>
        </p:txBody>
      </p:sp>
      <p:sp>
        <p:nvSpPr>
          <p:cNvPr id="15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 APL, you can choose to represent related structures by nesting</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 SQL, there are only tables and there is no possibility of nesting</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lationships are stored by having a column in one table store a value identifying a related row in another table (or </a:t>
            </a:r>
            <a:r>
              <a:rPr b="0" i="1" lang="en-US" sz="3600" spc="-1" strike="noStrike">
                <a:solidFill>
                  <a:srgbClr val="000000"/>
                </a:solidFill>
                <a:latin typeface="Arial"/>
              </a:rPr>
              <a:t>null</a:t>
            </a:r>
            <a:r>
              <a:rPr b="0" lang="en-US" sz="3600" spc="-1" strike="noStrike">
                <a:solidFill>
                  <a:srgbClr val="000000"/>
                </a:solidFill>
                <a:latin typeface="Arial"/>
              </a:rPr>
              <a:t> if there is no related row)</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Table Design</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columns in a table should represent information about one entity (or concep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w = data about one instan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umn = same data re many instance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rm “field” is deprecated (but widely used)</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table needs a “primary key” column whose value can be stored in any other table that has a relationship with rows in this tab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L-generated primary key values allow relationships to be represented easily and can prevent issues that arise when users think they want to change key val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QL Relationships</a:t>
            </a:r>
            <a:endParaRPr b="0" lang="en-US" sz="48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e to many (parent - child)</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y to one (lookup)</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erarchy</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y to man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Work at STSC</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automated connection of an Oracle database of microcomputer software sales data to the existing (APL-based) accounting syst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esigned a portable interface between STSC’s APL*Plus and SQL on these platform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MS talking to RD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MS talking to Orac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talking to Oracle</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d implemented the APL in those interfa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lationships – one to many</a:t>
            </a:r>
            <a:endParaRPr b="0" lang="en-US" sz="48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one) invoice can have any number (many) of line item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Item table has an InvoiceID column holding Invoice table primary key (PK) value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No line items for invoice N” is easily represented by there being no rows in the LineItem table with InvoiceID = N</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PL application might use nesting, storing a vector or matrix of lineitem data within each Invoice data stru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One to Many = Parent - Child</a:t>
            </a:r>
            <a:endParaRPr b="0" lang="en-US" sz="48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one” table (Invoice) is paren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many” table (LineItem) is child</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lumn holding primary key (PK) of another table is called a foreign key (FK) to (or into) that tabl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eign keys are critical to competent SQL database desig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lationships – many to one</a:t>
            </a:r>
            <a:endParaRPr b="0" lang="en-US" sz="48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can be any number (many) of employees in each (one) departmen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loyee table has a column holding Department table PK value (read as “FK to Depart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o employees in department N” is again easy</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thought of as parent / child; you don’t think of departments as “owning” employees the way invoices “own” line ite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PL application could (but wouldn’t) use nesting, storing a vector of EmployeeID values (but not Employee data) for each depart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lationships – hierarchy</a:t>
            </a:r>
            <a:endParaRPr b="0" lang="en-US" sz="48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ach employee has a manager; the manager is also an employee</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mployee table has a ManagerID column holding FK to the same (Employee) table</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p of hierarchy is represented by null ManagerID value (no manager)</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PL could use nesting, but I hav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ionships – many to many</a:t>
            </a: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s a third table to hold two many-to-one relationships to the other two tab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Student table records th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lass can have any number of students enrolled in i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student enrolls in any number of class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t use nesting for this (without double-storing the information), so APL applications usually do it the same 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SQL Design Thoughts</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use your product’s “identity” or “sequence” feature to create PK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in doubt, define another t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of extra tables that add flexi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ing historical data (not just the current value, but changes over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vice:  Use DBMS-assigned Values as Primary Keys</a:t>
            </a:r>
            <a:endParaRPr b="0" lang="en-US" sz="40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implementations support having the DBMS assign the value of a particular column to be 1+ the previous value, during </a:t>
            </a:r>
            <a:r>
              <a:rPr b="0" i="1" lang="en-US" sz="2800" spc="-1" strike="noStrike">
                <a:solidFill>
                  <a:srgbClr val="000000"/>
                </a:solidFill>
                <a:latin typeface="Arial"/>
              </a:rPr>
              <a:t>insert</a:t>
            </a:r>
            <a:r>
              <a:rPr b="0" lang="en-US" sz="2800" spc="-1" strike="noStrike">
                <a:solidFill>
                  <a:srgbClr val="000000"/>
                </a:solidFill>
                <a:latin typeface="Arial"/>
              </a:rPr>
              <a:t> of a new ro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umns defined this way make excellent PKs that are efficient and easily used as FK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umns that are user-visible “primary keys” (e.g. Product Code, Region Code, Department Code) become attribut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ing them no longer causes pain and trou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n In (Any) Doubt, Define Another Table</a:t>
            </a:r>
            <a:endParaRPr b="0" lang="en-US" sz="40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see a numeric suffix on a column name, that’s an indication that another table should have been buil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K columns in an Operation table named Doctor1 Doctor2 Doctor3 Doctor4 would be a poor desig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f more than 4 doctors involv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to have a child table with any number (even zero) of doctors for an ope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Tables Are Often Better</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cases where using more tables results in a more flexible syste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 table where both Customer and Employee tables have AddressID colum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 table has column </a:t>
            </a:r>
            <a:r>
              <a:rPr b="0" i="1" lang="en-US" sz="2400" spc="-1" strike="noStrike">
                <a:solidFill>
                  <a:srgbClr val="000000"/>
                </a:solidFill>
                <a:latin typeface="Arial"/>
              </a:rPr>
              <a:t>AddressType</a:t>
            </a:r>
            <a:r>
              <a:rPr b="0" lang="en-US" sz="2400" spc="-1" strike="noStrike">
                <a:solidFill>
                  <a:srgbClr val="000000"/>
                </a:solidFill>
                <a:latin typeface="Arial"/>
              </a:rPr>
              <a:t> (FK to AddressType table with descriptions Billing, Shipping, Home, Office…)</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 table where Patient table has NameI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umn </a:t>
            </a:r>
            <a:r>
              <a:rPr b="0" i="1" lang="en-US" sz="2400" spc="-1" strike="noStrike">
                <a:solidFill>
                  <a:srgbClr val="000000"/>
                </a:solidFill>
                <a:latin typeface="Arial"/>
              </a:rPr>
              <a:t>Primary</a:t>
            </a:r>
            <a:r>
              <a:rPr b="0" lang="en-US" sz="2400" spc="-1" strike="noStrike">
                <a:solidFill>
                  <a:srgbClr val="000000"/>
                </a:solidFill>
                <a:latin typeface="Arial"/>
              </a:rPr>
              <a:t> in Name table marks the current (primary) name to use for this pers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ical Data</a:t>
            </a: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that changes over time where history needs to be maintained can be in a child table with a ValidUntil column, and possibly also a ValidSince colum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urrently active child table row is marked by a null ValidUntil valu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active child table row on date X:</a:t>
            </a:r>
            <a:endParaRPr b="0" lang="en-US" sz="24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gt;= coalesce( ValidSince, X )) ^</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lt;= coalesce( ValidUntil, X ))</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needs to ensure that timespans don’t overlap</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store ID of active child table row in par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SC, Manugistics, and Later</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as a software development consultant for many years with both STSC and (after the name change) Manugistic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projects included migrating an APL-based database of foreign exchange trading data to Microsoft SQL Serv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founding Analytical Software Corp. I’ve worked extensively with clients using SQL Server from APL+W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Joins</a:t>
            </a: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data values are used to define relationships, SQL needs to be able to combine (</a:t>
            </a:r>
            <a:r>
              <a:rPr b="0" i="1" lang="en-US" sz="2800" spc="-1" strike="noStrike">
                <a:solidFill>
                  <a:srgbClr val="000000"/>
                </a:solidFill>
                <a:latin typeface="Arial"/>
              </a:rPr>
              <a:t>join</a:t>
            </a:r>
            <a:r>
              <a:rPr b="0" lang="en-US" sz="2800" spc="-1" strike="noStrike">
                <a:solidFill>
                  <a:srgbClr val="000000"/>
                </a:solidFill>
                <a:latin typeface="Arial"/>
              </a:rPr>
              <a:t>)</a:t>
            </a:r>
            <a:r>
              <a:rPr b="0" i="1" lang="en-US" sz="2800" spc="-1" strike="noStrike">
                <a:solidFill>
                  <a:srgbClr val="000000"/>
                </a:solidFill>
                <a:latin typeface="Arial"/>
              </a:rPr>
              <a:t> </a:t>
            </a:r>
            <a:r>
              <a:rPr b="0" lang="en-US" sz="2800" spc="-1" strike="noStrike">
                <a:solidFill>
                  <a:srgbClr val="000000"/>
                </a:solidFill>
                <a:latin typeface="Arial"/>
              </a:rPr>
              <a:t>tables based on the defined FK-to-table relations – and it can do so quite flexibl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SQL statement must re-specify the join condition(s); tools to generate SQL code can make this easier to get righ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L supports different kinds of join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ural joi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ft (or right) joi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 jo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Time for Lunch ?</a:t>
            </a:r>
            <a:endParaRPr b="0" lang="en-US" sz="66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QL Join is What in APL?</a:t>
            </a:r>
            <a:endParaRPr b="0" lang="en-US" sz="48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to: </a:t>
            </a:r>
            <a:r>
              <a:rPr b="0" lang="en-US" sz="2800" spc="-1" strike="noStrike">
                <a:solidFill>
                  <a:srgbClr val="000000"/>
                </a:solidFill>
                <a:latin typeface="Dyalog Std TT"/>
                <a:ea typeface="Dyalog Std TT"/>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ural joi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of </a:t>
            </a:r>
            <a:r>
              <a:rPr b="0" lang="en-US" sz="2400" spc="-1" strike="noStrike">
                <a:solidFill>
                  <a:srgbClr val="000000"/>
                </a:solidFill>
                <a:latin typeface="Dyalog Std TT"/>
                <a:ea typeface="Dyalog Std TT"/>
              </a:rPr>
              <a:t></a:t>
            </a:r>
            <a:r>
              <a:rPr b="0" lang="en-US" sz="2400" spc="-1" strike="noStrike">
                <a:solidFill>
                  <a:srgbClr val="000000"/>
                </a:solidFill>
                <a:latin typeface="Arial"/>
              </a:rPr>
              <a:t> that would cause </a:t>
            </a:r>
            <a:r>
              <a:rPr b="0" lang="en-US" sz="2400" spc="-1" strike="noStrike">
                <a:solidFill>
                  <a:srgbClr val="000000"/>
                </a:solidFill>
                <a:latin typeface="Dyalog Std TT"/>
                <a:ea typeface="Dyalog Std TT"/>
              </a:rPr>
              <a:t></a:t>
            </a:r>
            <a:r>
              <a:rPr b="0" lang="en-US" sz="2400" spc="-1" strike="noStrike">
                <a:solidFill>
                  <a:srgbClr val="000000"/>
                </a:solidFill>
                <a:latin typeface="Arial"/>
              </a:rPr>
              <a:t> in APL instead remove those rows from A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re are multiple rows that match in B, rows of A are repeated to match</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join:  adds a row of </a:t>
            </a:r>
            <a:r>
              <a:rPr b="0" i="1" lang="en-US" sz="2800" spc="-1" strike="noStrike">
                <a:solidFill>
                  <a:srgbClr val="000000"/>
                </a:solidFill>
                <a:latin typeface="Arial"/>
              </a:rPr>
              <a:t>null</a:t>
            </a:r>
            <a:r>
              <a:rPr b="0" lang="en-US" sz="2800" spc="-1" strike="noStrike">
                <a:solidFill>
                  <a:srgbClr val="000000"/>
                </a:solidFill>
                <a:latin typeface="Arial"/>
              </a:rPr>
              <a:t> values to B to avoid losing rows of A with unmatched valu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yalog Std TT"/>
                <a:ea typeface="Dyalog Std TT"/>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 join:  like APL outer product (usually this is a mistake) – all combinations of val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ionships vs. Join Types</a:t>
            </a: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ent-child relationship = left jo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up table = left jo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 join removes unmatched rows – make sure that’s what you wa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to-many should normally be two left joins from the middle table, because it’s two combined one-to-many relationsh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erarchies are non-trivial to hand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iven the Issues, Why Use SQL?</a:t>
            </a:r>
            <a:endParaRPr b="0" lang="en-US" sz="40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outside the APL wor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erb support for trans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ty is built-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ced database features would be very difficult to provide otherwi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Databases are Standard</a:t>
            </a: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de availability of experti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 and recovery are solved probl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parts of an application can be developed by others or using other to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non-APL tools can work with the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cal and physical data model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analy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base Transactions</a:t>
            </a: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 characteristic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omicity, Consistency, Isolation, Durability</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r-nothing data updates, ensuring data consistency even when there are errors during updat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user’s work is not affected by the work of other us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r application software crashes leave data intact after “a resta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urity Built In</a:t>
            </a: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BMS server controls all access to dat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 can be the only way to data; 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use Windows identity as SQL identit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 can be removed from the underlying tables, perhaps granting select access via views that use user ident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porations are accustomed to securing their databases, but not their (APL) fi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ced DBMS Features</a:t>
            </a: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exible high-performance indexing</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s (including “materialized” view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querie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d procedure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gger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ML data handling</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tioned table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erialized vie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base Indexes</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xiliary data structures to speed access to data, like the index of a boo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include multiple colum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unique index” prevents duplic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lustered index” changes the physical arrangement of row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ustering a child table by the parent key places all child rows adjacent on dis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Concepts You Must Know</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QL has only four data manipulation verb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DBMSs use Client / Server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has the concept of </a:t>
            </a:r>
            <a:r>
              <a:rPr b="0" i="1" lang="en-US" sz="3200" spc="-1" strike="noStrike">
                <a:solidFill>
                  <a:srgbClr val="000000"/>
                </a:solidFill>
                <a:latin typeface="Arial"/>
              </a:rPr>
              <a:t>nu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data is in a table (like an APL matri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columns are named, not numbe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columns are “strongly typ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ships are data not stru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base Views</a:t>
            </a: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most any SQL </a:t>
            </a:r>
            <a:r>
              <a:rPr b="0" i="1" lang="en-US" sz="3200" spc="-1" strike="noStrike">
                <a:solidFill>
                  <a:srgbClr val="000000"/>
                </a:solidFill>
                <a:latin typeface="Arial"/>
              </a:rPr>
              <a:t>select</a:t>
            </a:r>
            <a:r>
              <a:rPr b="0" lang="en-US" sz="3200" spc="-1" strike="noStrike">
                <a:solidFill>
                  <a:srgbClr val="000000"/>
                </a:solidFill>
                <a:latin typeface="Arial"/>
              </a:rPr>
              <a:t>  statement can be saved as a </a:t>
            </a:r>
            <a:r>
              <a:rPr b="0" i="1" lang="en-US" sz="3200" spc="-1" strike="noStrike">
                <a:solidFill>
                  <a:srgbClr val="000000"/>
                </a:solidFill>
                <a:latin typeface="Arial"/>
              </a:rPr>
              <a:t>view</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s act like virtual tables</a:t>
            </a:r>
            <a:endParaRPr b="0" lang="en-US" sz="32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 data in a view, only in the table or tables referenced by the view</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s can be targeted by </a:t>
            </a:r>
            <a:r>
              <a:rPr b="0" i="1" lang="en-US" sz="2800" spc="-1" strike="noStrike">
                <a:solidFill>
                  <a:srgbClr val="000000"/>
                </a:solidFill>
                <a:latin typeface="Arial"/>
              </a:rPr>
              <a:t>select</a:t>
            </a:r>
            <a:r>
              <a:rPr b="0" lang="en-US" sz="2800" spc="-1" strike="noStrike">
                <a:solidFill>
                  <a:srgbClr val="000000"/>
                </a:solidFill>
                <a:latin typeface="Arial"/>
              </a:rPr>
              <a:t> statements exactly as if they were physical tables</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ome limited cases, views can be updated</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can be granted access to a view rather than to the table(s) named in the 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Subqueries</a:t>
            </a: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statements can define </a:t>
            </a:r>
            <a:r>
              <a:rPr b="0" i="1" lang="en-US" sz="3200" spc="-1" strike="noStrike">
                <a:solidFill>
                  <a:srgbClr val="000000"/>
                </a:solidFill>
                <a:latin typeface="Arial"/>
              </a:rPr>
              <a:t>derived tables</a:t>
            </a:r>
            <a:r>
              <a:rPr b="0" lang="en-US" sz="3200" spc="-1" strike="noStrike">
                <a:solidFill>
                  <a:srgbClr val="000000"/>
                </a:solidFill>
                <a:latin typeface="Arial"/>
              </a:rPr>
              <a:t> that exist only for that </a:t>
            </a:r>
            <a:r>
              <a:rPr b="0" i="1" lang="en-US" sz="3200" spc="-1" strike="noStrike">
                <a:solidFill>
                  <a:srgbClr val="000000"/>
                </a:solidFill>
                <a:latin typeface="Arial"/>
              </a:rPr>
              <a:t>selec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a view that exists for one statem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has not purchased product X?</a:t>
            </a:r>
            <a:endParaRPr b="0" lang="en-US" sz="32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 from Customer where CustomerID not i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lect distinct inv.CustomerID</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Invoice as inv join LineItem as li</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inv.InvoiceID = li.InvoiceID</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li.Product = 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red Procedures and Triggers</a:t>
            </a: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s that run within the database</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d Procedures (SPs) can be called from client programs, or by other SP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ggers are a special type of SP that </a:t>
            </a:r>
            <a:r>
              <a:rPr b="0" i="1" lang="en-US" sz="2800" spc="-1" strike="noStrike">
                <a:solidFill>
                  <a:srgbClr val="000000"/>
                </a:solidFill>
                <a:latin typeface="Arial"/>
              </a:rPr>
              <a:t>fire</a:t>
            </a:r>
            <a:r>
              <a:rPr b="0" lang="en-US" sz="2800" spc="-1" strike="noStrike">
                <a:solidFill>
                  <a:srgbClr val="000000"/>
                </a:solidFill>
                <a:latin typeface="Arial"/>
              </a:rPr>
              <a:t> (run) on any of </a:t>
            </a:r>
            <a:r>
              <a:rPr b="0" i="1" lang="en-US" sz="2800" spc="-1" strike="noStrike">
                <a:solidFill>
                  <a:srgbClr val="000000"/>
                </a:solidFill>
                <a:latin typeface="Arial"/>
              </a:rPr>
              <a:t>insert, update, delet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used to validate or audit</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ually written a product-specific proprietary language</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in Java or .Net is becoming possi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ort for XML Data</a:t>
            </a: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ts are vying for the best support</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ML data can of course be stored as variable-length character data, but that doesn’t require any special support</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of XML support</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data or create virtual tables from XML</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XPath syntax to locate data within the XML stored in a column, and use that data to select row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itioned Tables</a:t>
            </a: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ing a logical table, one defined by a </a:t>
            </a:r>
            <a:r>
              <a:rPr b="0" i="1" lang="en-US" sz="3200" spc="-1" strike="noStrike">
                <a:solidFill>
                  <a:srgbClr val="000000"/>
                </a:solidFill>
                <a:latin typeface="Arial"/>
              </a:rPr>
              <a:t>union view</a:t>
            </a:r>
            <a:r>
              <a:rPr b="0" lang="en-US" sz="3200" spc="-1" strike="noStrike">
                <a:solidFill>
                  <a:srgbClr val="000000"/>
                </a:solidFill>
                <a:latin typeface="Arial"/>
              </a:rPr>
              <a:t>, into separate physical tab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pose is to divide the workload of accessing (or updating) the table between multiple serv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appropriate for huge tables, or ones that become a bottleneck in a transaction processing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ized Views</a:t>
            </a: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views are better off being computed once and stored, rather than being virtual (and thus re-computed each time they’re access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QL can know how to update the view when the underlying data changes, this can speed up access to the view at the cost of storing the materialized view and making needed upd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iews that are eligible to be materialized are fairly limited in most products to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Quick Look at Implementation</a:t>
            </a: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ually multiple tables in each physical file</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exible assignment of tables to files</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table’s data is a group of page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age of data contains multiple row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s of a table are linked together</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x data may be in file with table data</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xes reference rows by page and position within the p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ich database to choose?</a:t>
            </a: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often not your cho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can choose, what matters most to you?</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abil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knowledgeable peo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performance is critical, test lesser-known products; some are amazingly fast for simpler usage scenarios yet quite robust and st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 You Choose?</a:t>
            </a: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corporate development, the data likely already exists in a particular databas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if you are building a new system (or a new product) are you given the opportunity to select the database platfor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customers care only that it’s “one of the big ones” (Oracle, SQL Server, DB2)</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ustomers, the formula is often that the unknown is risky, and risk is b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Most Important?</a:t>
            </a: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censing costs vary dramatically</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e open source is “free” for a reason</a:t>
            </a:r>
            <a:endParaRPr b="0" lang="en-US" sz="28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upport unless you pay</a:t>
            </a:r>
            <a:endParaRPr b="0" lang="en-US" sz="24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ig three” cost an arm and a leg</a:t>
            </a:r>
            <a:endParaRPr b="0" lang="en-US" sz="28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your company may already license it</a:t>
            </a:r>
            <a:endParaRPr b="0" lang="en-US" sz="24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er-known products can be a great value</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it’s mission-critical, you want “big 3”</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it’s still your problem (and will be said to be your fault) if the database fai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ML: </a:t>
            </a:r>
            <a:r>
              <a:rPr b="0" i="1" lang="en-US" sz="4400" spc="-1" strike="noStrike">
                <a:solidFill>
                  <a:srgbClr val="000000"/>
                </a:solidFill>
                <a:latin typeface="Arial"/>
              </a:rPr>
              <a:t>select insert update delete</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s </a:t>
            </a:r>
            <a:r>
              <a:rPr b="0" i="1" lang="en-US" sz="3200" spc="-1" strike="noStrike">
                <a:solidFill>
                  <a:srgbClr val="000000"/>
                </a:solidFill>
                <a:latin typeface="Arial"/>
              </a:rPr>
              <a:t>select</a:t>
            </a:r>
            <a:r>
              <a:rPr b="0" lang="en-US" sz="3200" spc="-1" strike="noStrike">
                <a:solidFill>
                  <a:srgbClr val="000000"/>
                </a:solidFill>
                <a:latin typeface="Arial"/>
              </a:rPr>
              <a:t> is extraordinarily versati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s </a:t>
            </a:r>
            <a:r>
              <a:rPr b="0" i="1" lang="en-US" sz="3200" spc="-1" strike="noStrike">
                <a:solidFill>
                  <a:srgbClr val="000000"/>
                </a:solidFill>
                <a:latin typeface="Arial"/>
              </a:rPr>
              <a:t>insert</a:t>
            </a:r>
            <a:r>
              <a:rPr b="0" lang="en-US" sz="3200" spc="-1" strike="noStrike">
                <a:solidFill>
                  <a:srgbClr val="000000"/>
                </a:solidFill>
                <a:latin typeface="Arial"/>
              </a:rPr>
              <a:t> and </a:t>
            </a:r>
            <a:r>
              <a:rPr b="0" i="1" lang="en-US" sz="3200" spc="-1" strike="noStrike">
                <a:solidFill>
                  <a:srgbClr val="000000"/>
                </a:solidFill>
                <a:latin typeface="Arial"/>
              </a:rPr>
              <a:t>update</a:t>
            </a:r>
            <a:r>
              <a:rPr b="0" lang="en-US" sz="3200" spc="-1" strike="noStrike">
                <a:solidFill>
                  <a:srgbClr val="000000"/>
                </a:solidFill>
                <a:latin typeface="Arial"/>
              </a:rPr>
              <a:t> normally operate on a single row at a time and therefore are quite primitiv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0" i="1" lang="en-US" sz="3200" spc="-1" strike="noStrike">
                <a:solidFill>
                  <a:srgbClr val="000000"/>
                </a:solidFill>
                <a:latin typeface="Arial"/>
              </a:rPr>
              <a:t>insert</a:t>
            </a:r>
            <a:r>
              <a:rPr b="0" lang="en-US" sz="3200" spc="-1" strike="noStrike">
                <a:solidFill>
                  <a:srgbClr val="000000"/>
                </a:solidFill>
                <a:latin typeface="Arial"/>
              </a:rPr>
              <a:t> and </a:t>
            </a:r>
            <a:r>
              <a:rPr b="0" i="1" lang="en-US" sz="3200" spc="-1" strike="noStrike">
                <a:solidFill>
                  <a:srgbClr val="000000"/>
                </a:solidFill>
                <a:latin typeface="Arial"/>
              </a:rPr>
              <a:t>update</a:t>
            </a:r>
            <a:r>
              <a:rPr b="0" lang="en-US" sz="3200" spc="-1" strike="noStrike">
                <a:solidFill>
                  <a:srgbClr val="000000"/>
                </a:solidFill>
                <a:latin typeface="Arial"/>
              </a:rPr>
              <a:t> work on multiple rows, not a single row, they become very powerful (as powerful as </a:t>
            </a:r>
            <a:r>
              <a:rPr b="0" i="1" lang="en-US" sz="3200" spc="-1" strike="noStrike">
                <a:solidFill>
                  <a:srgbClr val="000000"/>
                </a:solidFill>
                <a:latin typeface="Arial"/>
              </a:rPr>
              <a:t>selec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s </a:t>
            </a:r>
            <a:r>
              <a:rPr b="0" i="1" lang="en-US" sz="3200" spc="-1" strike="noStrike">
                <a:solidFill>
                  <a:srgbClr val="000000"/>
                </a:solidFill>
                <a:latin typeface="Arial"/>
              </a:rPr>
              <a:t>delete</a:t>
            </a:r>
            <a:r>
              <a:rPr b="0" lang="en-US" sz="3200" spc="-1" strike="noStrike">
                <a:solidFill>
                  <a:srgbClr val="000000"/>
                </a:solidFill>
                <a:latin typeface="Arial"/>
              </a:rPr>
              <a:t> is usually simple but can use some powerful </a:t>
            </a:r>
            <a:r>
              <a:rPr b="0" i="1" lang="en-US" sz="3200" spc="-1" strike="noStrike">
                <a:solidFill>
                  <a:srgbClr val="000000"/>
                </a:solidFill>
                <a:latin typeface="Arial"/>
              </a:rPr>
              <a:t>select</a:t>
            </a:r>
            <a:r>
              <a:rPr b="0" lang="en-US" sz="3200" spc="-1" strike="noStrike">
                <a:solidFill>
                  <a:srgbClr val="000000"/>
                </a:solidFill>
                <a:latin typeface="Arial"/>
              </a:rPr>
              <a:t> techniq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Most Important?</a:t>
            </a: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imes you’ll need to find experti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cle is notorious for needing a gur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ny part of the application is built outside APL, you’ll find people more easily if you go with one of the big boy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is rarely known to be critic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ing out, you may have no idea if the DBMS’s performance will be a proble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pt in extreme cases, you can handl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er-known Products</a:t>
            </a: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 somewhat biased towards the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support is unbelievably gre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re swimming against the tide – help show the world that they deserve to exis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APL is already “weird” and “risk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r test results impress you as much as they’ve impressed me, why not use what you think is the best tool, despite the “risk” of an unknown to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L-based or APL-aware?</a:t>
            </a: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find a system that seems to fit well, and is either based on APL or has some special support for APL callers, why would </a:t>
            </a:r>
            <a:r>
              <a:rPr b="0" i="1" lang="en-US" sz="3200" spc="-1" strike="noStrike">
                <a:solidFill>
                  <a:srgbClr val="000000"/>
                </a:solidFill>
                <a:latin typeface="Arial"/>
              </a:rPr>
              <a:t>you</a:t>
            </a:r>
            <a:r>
              <a:rPr b="0" lang="en-US" sz="3200" spc="-1" strike="noStrike">
                <a:solidFill>
                  <a:srgbClr val="000000"/>
                </a:solidFill>
                <a:latin typeface="Arial"/>
              </a:rPr>
              <a:t> reject it automatical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you might not really be “using a SQL RDBMS” in all such those cases, and it depends on why you’re leaning towards SQL in the first pl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Time for a Break ?</a:t>
            </a:r>
            <a:endParaRPr b="0" lang="en-US" sz="6600" spc="-1" strike="noStrike">
              <a:solidFill>
                <a:srgbClr val="000000"/>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L Can Speak to SQL Easily</a:t>
            </a: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APL for Dyalog APL (uses ODB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vailable for Dyalog Unix (not free, nor are the best ODBC drivers for Unix)</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Direct apparently has the best Unix ODBC drivers; they are recommended by Dyalog (others work as well)</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e API for APL+Win is called APL+Lin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Net – Windows database API #6</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 (original), or OLE DB, via COM/OCX</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directly to some AP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 home-grown DLL, OCX, or AuxPro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APL Wins</a:t>
            </a: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very hard to prove that statement in every environment, with every workload</a:t>
            </a:r>
            <a:endParaRPr b="0" lang="en-US" sz="3200" spc="-1" strike="noStrike">
              <a:solidFill>
                <a:srgbClr val="000000"/>
              </a:solidFill>
              <a:latin typeface="Arial"/>
            </a:endParaRPr>
          </a:p>
          <a:p>
            <a:pPr marL="301680" indent="-301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t’s better</a:t>
            </a:r>
            <a:endParaRPr b="0" lang="en-US" sz="3200" spc="-1" strike="noStrike">
              <a:solidFill>
                <a:srgbClr val="000000"/>
              </a:solidFill>
              <a:latin typeface="Arial"/>
            </a:endParaRPr>
          </a:p>
          <a:p>
            <a:pPr lvl="1" marL="653760" indent="-251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the only interface that understands how APL works and inherently supports its arrays</a:t>
            </a:r>
            <a:endParaRPr b="0" lang="en-US" sz="2800" spc="-1" strike="noStrike">
              <a:solidFill>
                <a:srgbClr val="000000"/>
              </a:solidFill>
              <a:latin typeface="Arial"/>
            </a:endParaRPr>
          </a:p>
          <a:p>
            <a:pPr lvl="1" marL="653760" indent="-251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interfaces require major work to hide one-row-at-a-time programming models</a:t>
            </a:r>
            <a:endParaRPr b="0" lang="en-US" sz="2800" spc="-1" strike="noStrike">
              <a:solidFill>
                <a:srgbClr val="000000"/>
              </a:solidFill>
              <a:latin typeface="Arial"/>
            </a:endParaRPr>
          </a:p>
          <a:p>
            <a:pPr marL="301680" indent="-301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sion 5 has a new mechanism that can provide a significant performance improvement (10x better has been reported) with a relatively small ch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Choices Are Inferior</a:t>
            </a: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APL orien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loopy” with “scalar thinking” AP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recently have APIs (in .Net) reached parity with SQAPL techniques from 5+ years ag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bang your head against the wall when SQAPL comes free with Dyalog AP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APL is a </a:t>
            </a:r>
            <a:r>
              <a:rPr b="1" lang="en-US" sz="2800" spc="-1" strike="noStrike">
                <a:solidFill>
                  <a:srgbClr val="000000"/>
                </a:solidFill>
                <a:latin typeface="Arial"/>
              </a:rPr>
              <a:t>proven, tested, robust</a:t>
            </a:r>
            <a:r>
              <a:rPr b="0" lang="en-US" sz="2800" spc="-1" strike="noStrike">
                <a:solidFill>
                  <a:srgbClr val="000000"/>
                </a:solidFill>
                <a:latin typeface="Arial"/>
              </a:rPr>
              <a:t> solu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in something about the stupidity of trying to re-invent a tough, well-worn, smooth, very round whe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APL Sets</a:t>
            </a: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L developers think of changes to data happening all at once, when an array value is stored (e.g. in a file compon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ing an APL array as SQL data frequently involves multiple SQL operations, because each SQL operation changes only one row at a tim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APL Sets are an abstraction to make working with SQL data more APL-lik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s of Using Sets</a:t>
            </a: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plan to modify data, start by reading data using one of the “set” tools; the result is a “set handle” and a data matri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ify the matrix by adding and/or deleting rows, and/or updating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set update” to store the data, passing the set handle and the new matri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 Sets Work?</a:t>
            </a: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trieved data is stored, associated with the “set handle” that is returned to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call “set update”, APL is used to compare the old and new “tables” and make the changes by generating the needed SQL statements and running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s are an extraordinarily simple but powerful idea; take advantage of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Has DML and DDL</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ML means </a:t>
            </a:r>
            <a:r>
              <a:rPr b="0" i="1" lang="en-US" sz="3200" spc="-1" strike="noStrike">
                <a:solidFill>
                  <a:srgbClr val="000000"/>
                </a:solidFill>
                <a:latin typeface="Arial"/>
              </a:rPr>
              <a:t>data manipulation langu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s four DML verbs are </a:t>
            </a:r>
            <a:r>
              <a:rPr b="0" i="1" lang="en-US" sz="3200" spc="-1" strike="noStrike">
                <a:solidFill>
                  <a:srgbClr val="000000"/>
                </a:solidFill>
                <a:latin typeface="Arial"/>
              </a:rPr>
              <a:t>select, insert, update, dele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defining the database structure </a:t>
            </a:r>
            <a:r>
              <a:rPr b="0" i="1" lang="en-US" sz="3200" spc="-1" strike="noStrike">
                <a:solidFill>
                  <a:srgbClr val="000000"/>
                </a:solidFill>
                <a:latin typeface="Arial"/>
              </a:rPr>
              <a:t>(schema</a:t>
            </a:r>
            <a:r>
              <a:rPr b="0" lang="en-US" sz="3200" spc="-1" strike="noStrike">
                <a:solidFill>
                  <a:srgbClr val="000000"/>
                </a:solidFill>
                <a:latin typeface="Arial"/>
              </a:rPr>
              <a:t>)</a:t>
            </a:r>
            <a:r>
              <a:rPr b="0" i="1" lang="en-US" sz="3200" spc="-1" strike="noStrike">
                <a:solidFill>
                  <a:srgbClr val="000000"/>
                </a:solidFill>
                <a:latin typeface="Arial"/>
              </a:rPr>
              <a:t>,</a:t>
            </a:r>
            <a:r>
              <a:rPr b="0" lang="en-US" sz="3200" spc="-1" strike="noStrike">
                <a:solidFill>
                  <a:srgbClr val="000000"/>
                </a:solidFill>
                <a:latin typeface="Arial"/>
              </a:rPr>
              <a:t> SQL has DD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L means </a:t>
            </a:r>
            <a:r>
              <a:rPr b="0" i="1" lang="en-US" sz="3200" spc="-1" strike="noStrike">
                <a:solidFill>
                  <a:srgbClr val="000000"/>
                </a:solidFill>
                <a:latin typeface="Arial"/>
              </a:rPr>
              <a:t>data definition langu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L is less standardized between produ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QAPL’s Current “Sets” Implementation is Not Complete</a:t>
            </a:r>
            <a:endParaRPr b="0" lang="en-US" sz="40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uld use SQL transac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the new version of the in-memory array will be successfully stored in the database, or the database will be unchange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ld support DBMS-assigned “identity” value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I’ve said, I think these are very usefu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ing the identity values back to APL is very important (to avoid the need to re-que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Possible Enhancements</a:t>
            </a: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 a few bug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L handles are not closed ASAP</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casional inconsistent error handling (some now fixed)</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ld easily support multi-column keys (but I prefer to use identity values as key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ld support </a:t>
            </a:r>
            <a:r>
              <a:rPr b="0" i="1" lang="en-US" sz="3200" spc="-1" strike="noStrike">
                <a:solidFill>
                  <a:srgbClr val="000000"/>
                </a:solidFill>
                <a:latin typeface="Arial"/>
              </a:rPr>
              <a:t>optimistic concurrenc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ld support automatic updates to related (child) tab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base-Specific Tools</a:t>
            </a: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APL provides the tools to talk to various SQL databases.  (Remember that they only understand SQL statem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sirable tool would be one to improve the performance of </a:t>
            </a:r>
            <a:r>
              <a:rPr b="0" i="1" lang="en-US" sz="2800" spc="-1" strike="noStrike">
                <a:solidFill>
                  <a:srgbClr val="000000"/>
                </a:solidFill>
                <a:latin typeface="Arial"/>
              </a:rPr>
              <a:t>Set Update</a:t>
            </a:r>
            <a:r>
              <a:rPr b="0" lang="en-US" sz="2800" spc="-1" strike="noStrike">
                <a:solidFill>
                  <a:srgbClr val="000000"/>
                </a:solidFill>
                <a:latin typeface="Arial"/>
              </a:rPr>
              <a:t> by passing data to be updated in fewer steps, perhaps as XML.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SQL Server in particular, sending XML data for </a:t>
            </a:r>
            <a:r>
              <a:rPr b="0" i="1" lang="en-US" sz="2800" spc="-1" strike="noStrike">
                <a:solidFill>
                  <a:srgbClr val="000000"/>
                </a:solidFill>
                <a:latin typeface="Arial"/>
              </a:rPr>
              <a:t>insert</a:t>
            </a:r>
            <a:r>
              <a:rPr b="0" lang="en-US" sz="2800" spc="-1" strike="noStrike">
                <a:solidFill>
                  <a:srgbClr val="000000"/>
                </a:solidFill>
                <a:latin typeface="Arial"/>
              </a:rPr>
              <a:t> and </a:t>
            </a:r>
            <a:r>
              <a:rPr b="0" i="1" lang="en-US" sz="2800" spc="-1" strike="noStrike">
                <a:solidFill>
                  <a:srgbClr val="000000"/>
                </a:solidFill>
                <a:latin typeface="Arial"/>
              </a:rPr>
              <a:t>update</a:t>
            </a:r>
            <a:r>
              <a:rPr b="0" lang="en-US" sz="2800" spc="-1" strike="noStrike">
                <a:solidFill>
                  <a:srgbClr val="000000"/>
                </a:solidFill>
                <a:latin typeface="Arial"/>
              </a:rPr>
              <a:t> can let them operate in bulk, rather than one row at a time.  Impressive performance gains would be quite like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ing SQAPL’s API</a:t>
            </a: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orking with an APL+Win client, I did major design and implementation work on an object-oriented layer built on the SQAPL code.  This included making most of the enhancements discussed above, adding major features for calling stored procedures, creating and modifying tables, and much more.  I hope to have a similar opportunity in Dyalog AP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formance Issues</a:t>
            </a:r>
            <a:endParaRPr b="0" lang="en-US" sz="4400" spc="-1" strike="noStrike">
              <a:solidFill>
                <a:srgbClr val="000000"/>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of these are SQL / DBMS issues, not issues of the APL interface to SQ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 vs WAN makes a huge difference (latenc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using a “middle tier” in WAN cas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ature of these issues varies wildly from one DBMS to anothe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me SQL statement may be very fast in one implementation, very slow in ano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guring Out What’s Wrong</a:t>
            </a: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L is the wrong tool for analyzing performance proble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L can’t see what the DBMS is do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L can’t see the system-level slowdow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APL tools exist for no other purpos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problem is “too much back and forth”, can you find a way to “blast” the data across in fewer ste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adata Based Tools</a:t>
            </a: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APL applications are based on, or at least use, metadata – data about the data being manipulated.  APLers use these techniques naturally.  It surprises me how infrequently other programmers in other languages seem to do s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s that know your database structure can be used for many things.  For example, if the table hierarchy is available as metadata, a routine can be written to produce the SQL </a:t>
            </a:r>
            <a:r>
              <a:rPr b="0" i="1" lang="en-US" sz="2800" spc="-1" strike="noStrike">
                <a:solidFill>
                  <a:srgbClr val="000000"/>
                </a:solidFill>
                <a:latin typeface="Arial"/>
              </a:rPr>
              <a:t>where</a:t>
            </a:r>
            <a:r>
              <a:rPr b="0" lang="en-US" sz="2800" spc="-1" strike="noStrike">
                <a:solidFill>
                  <a:srgbClr val="000000"/>
                </a:solidFill>
                <a:latin typeface="Arial"/>
              </a:rPr>
              <a:t> clause to join an arbitrary list of tab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Tools</a:t>
            </a: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ing the datatype of database table columns can simplify creating UI scree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ing the relationship between tables can let (tools called by) model code retrieve related data automatical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mating changes to the database schema given metadata is possible – I know, I’ve done it.  (It’s not triv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s Learned</a:t>
            </a: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lways</a:t>
            </a:r>
            <a:r>
              <a:rPr b="0" lang="en-US" sz="3200" spc="-1" strike="noStrike">
                <a:solidFill>
                  <a:srgbClr val="000000"/>
                </a:solidFill>
                <a:latin typeface="Arial"/>
              </a:rPr>
              <a:t> (except that one should never say </a:t>
            </a:r>
            <a:r>
              <a:rPr b="0" i="1" lang="en-US" sz="3200" spc="-1" strike="noStrike">
                <a:solidFill>
                  <a:srgbClr val="000000"/>
                </a:solidFill>
                <a:latin typeface="Arial"/>
              </a:rPr>
              <a:t>always</a:t>
            </a:r>
            <a:r>
              <a:rPr b="0" lang="en-US" sz="3200" spc="-1" strike="noStrike">
                <a:solidFill>
                  <a:srgbClr val="000000"/>
                </a:solidFill>
                <a:latin typeface="Arial"/>
              </a:rPr>
              <a:t>) use identity values as PK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ess you can </a:t>
            </a:r>
            <a:r>
              <a:rPr b="1" i="1" lang="en-US" sz="2800" spc="-1" strike="noStrike">
                <a:solidFill>
                  <a:srgbClr val="000000"/>
                </a:solidFill>
                <a:latin typeface="Arial"/>
              </a:rPr>
              <a:t>prove</a:t>
            </a:r>
            <a:r>
              <a:rPr b="0" lang="en-US" sz="2800" spc="-1" strike="noStrike">
                <a:solidFill>
                  <a:srgbClr val="000000"/>
                </a:solidFill>
                <a:latin typeface="Arial"/>
              </a:rPr>
              <a:t> that you have one of the (very rare, in my opinion) cases where there’s a </a:t>
            </a:r>
            <a:r>
              <a:rPr b="1" i="1" lang="en-US" sz="2800" spc="-1" strike="noStrike">
                <a:solidFill>
                  <a:srgbClr val="000000"/>
                </a:solidFill>
                <a:latin typeface="Arial"/>
              </a:rPr>
              <a:t>real </a:t>
            </a:r>
            <a:r>
              <a:rPr b="0" lang="en-US" sz="2800" spc="-1" strike="noStrike">
                <a:solidFill>
                  <a:srgbClr val="000000"/>
                </a:solidFill>
                <a:latin typeface="Arial"/>
              </a:rPr>
              <a:t>reason not to</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D PKs are an alternative to identity values, but …</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comparatively “fat” vs. integer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blems with identity values are overstated</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ny location” benefit is oversta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Lessons</a:t>
            </a: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lways</a:t>
            </a:r>
            <a:r>
              <a:rPr b="0" lang="en-US" sz="3200" spc="-1" strike="noStrike">
                <a:solidFill>
                  <a:srgbClr val="000000"/>
                </a:solidFill>
                <a:latin typeface="Arial"/>
              </a:rPr>
              <a:t> write APL that writes SQ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tools to help you do s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hide SQL from APL develop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ble names should be singular (my opinion); not all people agre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not to base your design on the ability of your (current) DBMS to handle it we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a:t>
            </a:r>
            <a:r>
              <a:rPr b="0" i="1" lang="en-US" sz="4400" spc="-1" strike="noStrike">
                <a:solidFill>
                  <a:srgbClr val="000000"/>
                </a:solidFill>
                <a:latin typeface="Arial"/>
              </a:rPr>
              <a:t>select</a:t>
            </a:r>
            <a:r>
              <a:rPr b="0" lang="en-US" sz="4400" spc="-1" strike="noStrike">
                <a:solidFill>
                  <a:srgbClr val="000000"/>
                </a:solidFill>
                <a:latin typeface="Arial"/>
              </a:rPr>
              <a:t> is Very Powerful</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elect</a:t>
            </a:r>
            <a:r>
              <a:rPr b="0" lang="en-US" sz="2800" spc="-1" strike="noStrike">
                <a:solidFill>
                  <a:srgbClr val="000000"/>
                </a:solidFill>
                <a:latin typeface="Arial"/>
              </a:rPr>
              <a:t> supports extremely complex statements that can access data from multiple tables, potentially joining them using every available join technique in a single que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ch of </a:t>
            </a:r>
            <a:r>
              <a:rPr b="0" i="1" lang="en-US" sz="2800" spc="-1" strike="noStrike">
                <a:solidFill>
                  <a:srgbClr val="000000"/>
                </a:solidFill>
                <a:latin typeface="Arial"/>
              </a:rPr>
              <a:t>select</a:t>
            </a:r>
            <a:r>
              <a:rPr b="0" lang="en-US" sz="2800" spc="-1" strike="noStrike">
                <a:solidFill>
                  <a:srgbClr val="000000"/>
                </a:solidFill>
                <a:latin typeface="Arial"/>
              </a:rPr>
              <a:t>’s power is based on the ability to define</a:t>
            </a:r>
            <a:r>
              <a:rPr b="0" i="1" lang="en-US" sz="2800" spc="-1" strike="noStrike">
                <a:solidFill>
                  <a:srgbClr val="000000"/>
                </a:solidFill>
                <a:latin typeface="Arial"/>
              </a:rPr>
              <a:t> derived tables</a:t>
            </a:r>
            <a:r>
              <a:rPr b="0" lang="en-US" sz="2800" spc="-1" strike="noStrike">
                <a:solidFill>
                  <a:srgbClr val="000000"/>
                </a:solidFill>
                <a:latin typeface="Arial"/>
              </a:rPr>
              <a:t> within a statement, and use those tables as if they held real data – but no data is actually stored to run the quer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ntax is intended let you express intent without specifying a particular processing sequenc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ful does not mean simple or intui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proven (by me) Ideas</a:t>
            </a: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are thoughts that haven’t been fully implemented (at least not by me in APL), so be aware of that before basing your development on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represents some potential “best practices” that borrow significantly from work done by others, mostly in other langua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 Definition is Often Hazy</a:t>
            </a: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ine between UI, data model, and database can be uncl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manipulated by the UI of a form is most easily stored in attributes of the for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programs have a “UI data model” that’s separate from the model of the data as stored persistently (whether or not it’s stored in a SQL databa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 Caused by UI Models</a:t>
            </a: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must be coordinat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model data is stored in the UI, making changes to either the UI or the data definition forces them to change at the same tim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I validation code works from the UI mode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for event-handling in the UI naturally does BR (business rule) validation using UI-stored data.</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ion logic gets repeat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el must enforce BRs to prevent bad data from being stored, so logic gets repea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Model Code in the UI</a:t>
            </a: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model’s data is simple – and the power of APL to manipulate data structures makes that common when writing in APL – it can be tempting to do the manipulation direct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interface code should avoid that, instead invoking methods of the model even though they may be trivi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web app – server-side code can’t rely on data being correct when submitted, so it must do valid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for browser-side validation either repeats the logic or consults the server.  Ideally, the latter is done asynchronously (using an Ajax-style mod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I / Data Model Separation</a:t>
            </a: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clear that the user interface code is best kept separate from (a client of) data model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results in models that are easier to test, and easier to re-use in other contex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UI needs to implement a </a:t>
            </a:r>
            <a:r>
              <a:rPr b="0" i="1" lang="en-US" sz="2800" spc="-1" strike="noStrike">
                <a:solidFill>
                  <a:srgbClr val="000000"/>
                </a:solidFill>
                <a:latin typeface="Arial"/>
              </a:rPr>
              <a:t>Save</a:t>
            </a:r>
            <a:r>
              <a:rPr b="0" lang="en-US" sz="2800" spc="-1" strike="noStrike">
                <a:solidFill>
                  <a:srgbClr val="000000"/>
                </a:solidFill>
                <a:latin typeface="Arial"/>
              </a:rPr>
              <a:t> action, it can be tempting to use your app’s data storage APIs directly in the code that gathers the data from where it’s stored in the U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would be to call a model’s Save meth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I Forms Reference a Model</a:t>
            </a: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I forms should have a reference to a model object.</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l should be able to hold data about multiple data instances (database table rows) – this is APL, after all.</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l can have documented events to which the UI can subscribe.</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I data should be passed to the model as soon as poss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ified Memory / Database Model</a:t>
            </a:r>
            <a:endParaRPr b="0" lang="en-US" sz="4000" spc="-1" strike="noStrike">
              <a:solidFill>
                <a:srgbClr val="000000"/>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del should know about the state of the data it holds relative to the databas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t in the database (vs. new data)?</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it is, has it changed since the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t currently valid (ready to be sav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ot, what error message data is there?</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good source of design ideas is Scott Ambler’s ActiveRecord model.  It is only slightly array-oriented, so it is not ideal unchang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ing Models</a:t>
            </a: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rite model methods on an as-needed basis.  APL programmers often work to create tools that have much more functionality than is needed today.  When writing models, put required functionality into lower-level tools (creating them as needed) and keep only high-level logic, and calls to the lower-level tools, in the models.  Maximize the work not d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Big Thank You to Morten</a:t>
            </a: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 would not be here if Morten had not asked me to deliver this talk.  I had not seen Dyalog APL in more than 20 years, having used only APL*PLUS (now APL+) for all that time.  I appreciate seeing where Dyalog APL is today, and I’m always happy to visit Denmark.  I’ve enjoyed what’s felt like a warm welcome from this community.  I thank both you and Morten for your generos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9T00:26:08Z</dcterms:created>
  <dc:creator>J. Merrill</dc:creator>
  <dc:description/>
  <dc:language>en-US</dc:language>
  <cp:lastModifiedBy>J. Merrill</cp:lastModifiedBy>
  <dcterms:modified xsi:type="dcterms:W3CDTF">2006-10-25T01:55:24Z</dcterms:modified>
  <cp:revision>35</cp:revision>
  <dc:subject/>
  <dc:title>Using SQL Databases from Dyalog APL (v11+)</dc:title>
</cp:coreProperties>
</file>