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95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72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61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91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41.png" ContentType="image/png"/>
  <Override PartName="/ppt/media/image39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7.wmf" ContentType="image/x-wmf"/>
  <Override PartName="/ppt/media/image50.png" ContentType="image/png"/>
  <Override PartName="/ppt/media/image51.png" ContentType="image/png"/>
  <Override PartName="/ppt/media/image12.png" ContentType="image/png"/>
  <Override PartName="/ppt/media/image49.png" ContentType="image/png"/>
  <Override PartName="/ppt/media/image52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48.png" ContentType="image/png"/>
  <Override PartName="/ppt/media/image9.jpeg" ContentType="image/jpeg"/>
  <Override PartName="/ppt/media/image37.png" ContentType="image/png"/>
  <Override PartName="/ppt/media/image30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13.png" ContentType="image/png"/>
  <Override PartName="/ppt/media/image5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53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70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41.xml.rels" ContentType="application/vnd.openxmlformats-package.relationships+xml"/>
  <Override PartName="/ppt/slides/_rels/slide169.xml.rels" ContentType="application/vnd.openxmlformats-package.relationships+xml"/>
  <Override PartName="/ppt/slides/_rels/slide120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  <p:sldId id="385" r:id="rId135"/>
    <p:sldId id="386" r:id="rId136"/>
    <p:sldId id="387" r:id="rId137"/>
    <p:sldId id="388" r:id="rId138"/>
    <p:sldId id="389" r:id="rId139"/>
    <p:sldId id="390" r:id="rId140"/>
    <p:sldId id="391" r:id="rId141"/>
    <p:sldId id="392" r:id="rId142"/>
    <p:sldId id="393" r:id="rId143"/>
    <p:sldId id="394" r:id="rId144"/>
    <p:sldId id="395" r:id="rId145"/>
    <p:sldId id="396" r:id="rId146"/>
    <p:sldId id="397" r:id="rId147"/>
    <p:sldId id="398" r:id="rId148"/>
    <p:sldId id="399" r:id="rId149"/>
    <p:sldId id="400" r:id="rId150"/>
    <p:sldId id="401" r:id="rId151"/>
    <p:sldId id="402" r:id="rId152"/>
    <p:sldId id="403" r:id="rId153"/>
    <p:sldId id="404" r:id="rId154"/>
    <p:sldId id="405" r:id="rId155"/>
    <p:sldId id="406" r:id="rId156"/>
    <p:sldId id="407" r:id="rId157"/>
    <p:sldId id="408" r:id="rId158"/>
    <p:sldId id="409" r:id="rId159"/>
    <p:sldId id="410" r:id="rId160"/>
    <p:sldId id="411" r:id="rId161"/>
    <p:sldId id="412" r:id="rId162"/>
    <p:sldId id="413" r:id="rId163"/>
    <p:sldId id="414" r:id="rId164"/>
    <p:sldId id="415" r:id="rId165"/>
    <p:sldId id="416" r:id="rId166"/>
    <p:sldId id="417" r:id="rId167"/>
    <p:sldId id="418" r:id="rId168"/>
    <p:sldId id="419" r:id="rId169"/>
    <p:sldId id="420" r:id="rId170"/>
    <p:sldId id="421" r:id="rId171"/>
    <p:sldId id="422" r:id="rId172"/>
    <p:sldId id="423" r:id="rId173"/>
    <p:sldId id="424" r:id="rId174"/>
    <p:sldId id="425" r:id="rId1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slide" Target="slides/slide130.xml"/><Relationship Id="rId136" Type="http://schemas.openxmlformats.org/officeDocument/2006/relationships/slide" Target="slides/slide131.xml"/><Relationship Id="rId137" Type="http://schemas.openxmlformats.org/officeDocument/2006/relationships/slide" Target="slides/slide132.xml"/><Relationship Id="rId138" Type="http://schemas.openxmlformats.org/officeDocument/2006/relationships/slide" Target="slides/slide133.xml"/><Relationship Id="rId139" Type="http://schemas.openxmlformats.org/officeDocument/2006/relationships/slide" Target="slides/slide134.xml"/><Relationship Id="rId140" Type="http://schemas.openxmlformats.org/officeDocument/2006/relationships/slide" Target="slides/slide135.xml"/><Relationship Id="rId141" Type="http://schemas.openxmlformats.org/officeDocument/2006/relationships/slide" Target="slides/slide136.xml"/><Relationship Id="rId142" Type="http://schemas.openxmlformats.org/officeDocument/2006/relationships/slide" Target="slides/slide137.xml"/><Relationship Id="rId143" Type="http://schemas.openxmlformats.org/officeDocument/2006/relationships/slide" Target="slides/slide138.xml"/><Relationship Id="rId144" Type="http://schemas.openxmlformats.org/officeDocument/2006/relationships/slide" Target="slides/slide139.xml"/><Relationship Id="rId145" Type="http://schemas.openxmlformats.org/officeDocument/2006/relationships/slide" Target="slides/slide140.xml"/><Relationship Id="rId146" Type="http://schemas.openxmlformats.org/officeDocument/2006/relationships/slide" Target="slides/slide141.xml"/><Relationship Id="rId147" Type="http://schemas.openxmlformats.org/officeDocument/2006/relationships/slide" Target="slides/slide142.xml"/><Relationship Id="rId148" Type="http://schemas.openxmlformats.org/officeDocument/2006/relationships/slide" Target="slides/slide143.xml"/><Relationship Id="rId149" Type="http://schemas.openxmlformats.org/officeDocument/2006/relationships/slide" Target="slides/slide144.xml"/><Relationship Id="rId150" Type="http://schemas.openxmlformats.org/officeDocument/2006/relationships/slide" Target="slides/slide145.xml"/><Relationship Id="rId151" Type="http://schemas.openxmlformats.org/officeDocument/2006/relationships/slide" Target="slides/slide146.xml"/><Relationship Id="rId152" Type="http://schemas.openxmlformats.org/officeDocument/2006/relationships/slide" Target="slides/slide147.xml"/><Relationship Id="rId153" Type="http://schemas.openxmlformats.org/officeDocument/2006/relationships/slide" Target="slides/slide148.xml"/><Relationship Id="rId154" Type="http://schemas.openxmlformats.org/officeDocument/2006/relationships/slide" Target="slides/slide149.xml"/><Relationship Id="rId155" Type="http://schemas.openxmlformats.org/officeDocument/2006/relationships/slide" Target="slides/slide150.xml"/><Relationship Id="rId156" Type="http://schemas.openxmlformats.org/officeDocument/2006/relationships/slide" Target="slides/slide151.xml"/><Relationship Id="rId157" Type="http://schemas.openxmlformats.org/officeDocument/2006/relationships/slide" Target="slides/slide152.xml"/><Relationship Id="rId158" Type="http://schemas.openxmlformats.org/officeDocument/2006/relationships/slide" Target="slides/slide153.xml"/><Relationship Id="rId159" Type="http://schemas.openxmlformats.org/officeDocument/2006/relationships/slide" Target="slides/slide154.xml"/><Relationship Id="rId160" Type="http://schemas.openxmlformats.org/officeDocument/2006/relationships/slide" Target="slides/slide155.xml"/><Relationship Id="rId161" Type="http://schemas.openxmlformats.org/officeDocument/2006/relationships/slide" Target="slides/slide156.xml"/><Relationship Id="rId162" Type="http://schemas.openxmlformats.org/officeDocument/2006/relationships/slide" Target="slides/slide157.xml"/><Relationship Id="rId163" Type="http://schemas.openxmlformats.org/officeDocument/2006/relationships/slide" Target="slides/slide158.xml"/><Relationship Id="rId164" Type="http://schemas.openxmlformats.org/officeDocument/2006/relationships/slide" Target="slides/slide159.xml"/><Relationship Id="rId165" Type="http://schemas.openxmlformats.org/officeDocument/2006/relationships/slide" Target="slides/slide160.xml"/><Relationship Id="rId166" Type="http://schemas.openxmlformats.org/officeDocument/2006/relationships/slide" Target="slides/slide161.xml"/><Relationship Id="rId167" Type="http://schemas.openxmlformats.org/officeDocument/2006/relationships/slide" Target="slides/slide162.xml"/><Relationship Id="rId168" Type="http://schemas.openxmlformats.org/officeDocument/2006/relationships/slide" Target="slides/slide163.xml"/><Relationship Id="rId169" Type="http://schemas.openxmlformats.org/officeDocument/2006/relationships/slide" Target="slides/slide164.xml"/><Relationship Id="rId170" Type="http://schemas.openxmlformats.org/officeDocument/2006/relationships/slide" Target="slides/slide165.xml"/><Relationship Id="rId171" Type="http://schemas.openxmlformats.org/officeDocument/2006/relationships/slide" Target="slides/slide166.xml"/><Relationship Id="rId172" Type="http://schemas.openxmlformats.org/officeDocument/2006/relationships/slide" Target="slides/slide167.xml"/><Relationship Id="rId173" Type="http://schemas.openxmlformats.org/officeDocument/2006/relationships/slide" Target="slides/slide168.xml"/><Relationship Id="rId174" Type="http://schemas.openxmlformats.org/officeDocument/2006/relationships/slide" Target="slides/slide169.xml"/><Relationship Id="rId175" Type="http://schemas.openxmlformats.org/officeDocument/2006/relationships/slide" Target="slides/slide170.xml"/><Relationship Id="rId1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-36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3885840" y="21240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2396-9126-4B33-A3F9-B0C52EB92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bcd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bcd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2 is not seen from 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’s M2 is still not seen from M1 as it has not been overridden. B’s M2 is only accessible directly by doing inst_B.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2 is only accessible directly by doing inst_B.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ex: 2.2 is a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better understand why this is, we need to go back a bit a review some notion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gular ns come in 2 flavours: with and without ⎕S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]DF returns the previous display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ain, nothing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can list the contents of ABC. RED is something WE have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not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tion of passing messages is omni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c is replaced comple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 the Caption is in the form we cannot see it di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ing items is of dubious value (since they are subject to being destroyed upon re-definition) but perfectly le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e 2 forms of []NL usage: F1.[]NC and []NC ‘F1...’. They are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ption is not something WE have brought in. There are also some INVISIBLE members INSIDE the form but we don’t have access to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regular namespace has NO internal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VERY import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internal members are (have to be)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art from []DF, all this stuff is not new, it was already in V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 items: field/method x public/private x shared/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S0 &amp; FS0 are in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WILL disappear if the class is redefined (e.g. with []FI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can also have other NSs within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ain we can add external objects to this instance and they will disappear ASA the class is redef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behaviour should not be relied up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ed {jot} does the t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usual names can be added extern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amples here? Complex, Keyed files, S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ould be done via a namespace but the []NS []OR ‘Complex’ + R I&lt;- would be cumber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yntax is more restrictive too: strings MUST be enclosed and named arguments MUST be properly enclosed in V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t a single, widely-agreed upon definition of object-oriented programming. However, a survey of nearly 40 years of computing literature identified a number of fundamental concepts, identified in the strong majority of definitions of OOP. Reliable research supporting or dismissing OOP has been difficult to come b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the only possible values are 0, 1 and 3. 3 is new, 0 &amp; 1 were in V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yntax is more restrictive too: strings MUST be enclosed and named arguments MUST be properly enclosed in V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ialo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lass creates instances with standard buttons attached to the bot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don’t HAVE to but it is a good idea to create your classes in separate namespa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 C# and other languages will be able to use fn &lt;GenIndices&gt; which takes an Int and returns a list of 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is compulsory, GREEN is op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THAT easy! Let’s assume it is in ns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APLClass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ice the name used is the name declared, not the original APL name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ain, this is not new, it existed in V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like a “struct” 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ode goes in an ASMX file. </a:t>
            </a:r>
            <a:r>
              <a:rPr b="0" lang="en-GB" sz="1200" spc="-1" strike="noStrike">
                <a:solidFill>
                  <a:srgbClr val="009999"/>
                </a:solidFill>
                <a:latin typeface="Arial"/>
              </a:rPr>
              <a:t>System.Web.Services.WebService is an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ML is generated from the ASMX file that looks like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ode goes in an ASMX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not new, you could already edit APL code in text files outside the interpreter in V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V11 this can now be done INSIDE the se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 has always used overloading internally when dealing with primitives like + and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t if coders end up doing simple things in complex ways just because they c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: 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neuver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nterface could require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eer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powe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mplementation and 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lass could implement it via a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eering whee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nd a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ped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la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lass could implement it via a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ic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for steering an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o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for power and 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lass via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udde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ail movem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ws releases memory when unused. New prim are squash, power, enhancements are to LCM &amp; G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rfaces allow to map some names (from the class) onto another set of names (of the instanc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: a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Volv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ould be an instance of 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essn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n instance of a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la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In OO there are many types of objects, they are not listed here (e.g. singleton, immutable, prototyp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all OO languages support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structor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or eve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onstructor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.  Instances are also called ‘actors’ in some lit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ured works in italic are found in DYW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. of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struct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file to be unt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can also be prot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har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lso calle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s i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ethod). Shared code can be called directly via the class, no instance requi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languages use the term FINAL instead of READONLY; the terms vary from one language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har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lso calle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as i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ethod). Ex: VISIBL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hing to do with money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 Not all languages support it, e.g. VB, it is an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bject-bas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ue is a class, green is an instance. Fido is an instance of a Collie. It also has all the characteristics of a Dog and an An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will be interactive, stop and ask questions any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many ways to do this and not all languages do it in a consistent manner. There is a lot is disagreement in that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and B are independant. &lt;M2&gt; is a subroutine of &lt;M1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 is based on A. When it calls M1, M2 is not seen from M1. M2 could be called by other f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 wants to override M2 but A does not allow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OO languages do NOT offer encaps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quares are classes. It’s akin to localized vars in APL (except that they can be seen in subfns. SHARED is also called STATIC someti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ter on, Stephen Taylor will present a real lif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akin to localized vars in APL. Protected is not supported yet in DY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also other possibilities. Not all languages support these concepts. DYW does not.  This one is, among others, seen in C++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pled with nesting the complexity of a system can become overwhelm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can do that in APL using :case on []DR of the arg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Foo is called with an integer the left fn is used. If it is called with a string the right one is used. Else an error occu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mmon example is the primitive ‘+’ which is overloaded in most languages. Its args have to be often coerced (e.g. 1+0.5+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because everyone else is doing it or MS$ (or anyone else) sets the trend or... Explain in more detail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will now go over each one of these, not necessarily in the same 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e circle to denote editing a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od is a fn, op or Dfn/op. Only regular fns can be public. Properties are like variables whose assignment (or reading) is caught via a fn BEFORE being done.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’ll see this in more details in the Encapsulatio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may be more than 1 constru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perties can be shared too; ra contains Name (their can be many!), NewValue &amp; maybe Ind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ns are not really cop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had to use the Properties windows on fns and to export the 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fancy naming (“message passing”) scheme does not apply here – its use is kept to stay synchronized with the fundamental concepts s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member this? Rex is a Collie, a Dog, an A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’s a simpler exam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arrot  calls Bird’s constructor to create Desc, then, upon return, Desc is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time constructors will take arg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[]NL -2 and the format returned. ‘minus’ means ‘Public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 of called constructors. Before setting it Name, Collie calls the Dog ctor which, before setting its Type, calls the Animal 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ew discipline, paradigm, technology, methodology. The acceptance was due a lot to C-&gt;C++ by not having programmers to learn a new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these statements are not used the default is </a:t>
            </a:r>
            <a:r>
              <a:rPr b="0" i="1" lang="en-GB" sz="1200" spc="-1" strike="noStrike">
                <a:solidFill>
                  <a:srgbClr val="99cc00"/>
                </a:solidFill>
                <a:latin typeface="Arial"/>
              </a:rPr>
              <a:t>pri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AST word in the :FIELD statements is the var n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is a slight difference between a variable and a private instance field: their []N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rder is unimportant; if &lt;general&gt; is not there and there is no match on the length a LENGTH error will be repo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es can include pointers to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Ss can have a source too – to be seen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interface is a way to achieve MULTIPLE inheritance, which is not offered in all languages and not in DY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e jot to denote “edit an interface”. This is a way to standardize naming conven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S cannot be defined in classes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se will now be explained. The usual APL rules apply when dealing with properties where it makes sense (e.g. (3 take rotate prop)&lt;-v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apitalization of the S/GET fns is unimportant. The name is supplied as many names can share the property and the code may react differently to ea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ed is often used in M$ soft like Excel (e.g. Sheet[‘sheet1’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et/get fns are called ONCE per index (until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a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s available). This type of property is the only one that requires a SHAPE f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dexer value will be a vector of the same length as SHA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an only happen for simple &amp; numbered props as keyed props need indexers to be supp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ghtweight properties; simplifies code. The call is made AFTER the assig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ails fo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Base is used to pass arguments to the base class’ 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137880" y="468000"/>
            <a:ext cx="6553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⎕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 is used to call the base class’ fn if public of co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BB00-4430-4EBF-9617-AC4DA6469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998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494F-FC3D-4D19-B300-AA5B1F83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2C14-5BDD-4F0A-BFB7-D824C8733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1902-40D5-4B7B-A02F-F0E10C8B4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104E-1B2D-4499-95BF-C49315E15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9859-AE67-429B-B2DA-B7757D44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D861-8F9E-4243-BA1D-36D5FEB4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03E0-073C-4405-9E69-EEB0F725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37CB-DF7A-4FD9-A909-CD223D5B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7F01-DC14-4FF4-A382-05A9F5BA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B8E0-6955-49B1-A89D-8EDE67DC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1A91-74ED-45DF-8586-1C16E0B1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6B6D-B775-4C54-A80A-29B41132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D5E8-178A-4EB7-BBB8-AADC5039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7998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1757-2DE6-4249-9E58-39CAA38F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C712-9F66-49F0-97FD-20DDCC32C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0A02-E742-45E9-AAA7-9C949287C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48F8A-8391-4CCF-A03F-F167F8DB5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34633-12A6-4120-8186-AB8532B9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BC9FE-A7E9-4FEC-8594-F1A31478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4A14A-A8C0-4D59-92B8-34BE6618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952F5-C4F9-4CDC-9E28-19887640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5183-1A93-4485-993B-D91DE48A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B4073-03B2-4131-ADBF-D6A23666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B71CA-FF09-44D4-9816-B4FDEA18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99214-8F5D-4540-8A8A-1D263707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3FF4E-62F5-41AA-87FE-369F163C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7998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6263A-6CA5-46A5-9B5A-BCB37E0D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17CCC-2492-455B-8EE8-FBD700C02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84501-92A1-40EB-90E0-C4DAC1925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A4CD-58BD-4895-BA79-9D7479E3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89B0-DB97-4AFC-A4C7-A154CCF0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0114-1AC5-4AAF-942B-50DF81DD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38A5-9660-4E33-95DC-B9ED5638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F9C7-A624-470C-91DF-2E15887B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4D70-D2B3-4681-AF26-14C0675D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cd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669E-818D-466B-BD3D-FF44C6736A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bcd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76F1-3468-46C9-B45A-08A4C3041E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0EA4-8998-41F1-BFDE-9B2D63874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4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4600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90082"/>
                </a:solidFill>
                <a:latin typeface="Arial Black"/>
              </a:rPr>
              <a:t>Object Oriented Programming in APL</a:t>
            </a:r>
            <a:endParaRPr b="0" lang="en-US" sz="44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050920" y="2133720"/>
            <a:ext cx="51134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A New Sense of Direction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(Oh, Oh!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Dan Baronet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2006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80808"/>
                </a:solidFill>
                <a:latin typeface="Arial"/>
              </a:rPr>
              <a:t>V1.01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The evolution of data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27856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 traditional (procedural) systems, data is separated from code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6000" y="2637000"/>
            <a:ext cx="720720" cy="1081080"/>
          </a:xfrm>
          <a:prstGeom prst="flowChartInputOutput">
            <a:avLst/>
          </a:prstGeom>
          <a:solidFill>
            <a:srgbClr val="fbcd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16000" y="3789360"/>
            <a:ext cx="720720" cy="1081080"/>
          </a:xfrm>
          <a:prstGeom prst="flowChartInputOutput">
            <a:avLst/>
          </a:prstGeom>
          <a:solidFill>
            <a:srgbClr val="fbcd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484360" y="4797360"/>
            <a:ext cx="720720" cy="1081080"/>
          </a:xfrm>
          <a:prstGeom prst="flowChartInputOutput">
            <a:avLst/>
          </a:prstGeom>
          <a:solidFill>
            <a:srgbClr val="fbcd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20000" y="2637000"/>
            <a:ext cx="720720" cy="1081080"/>
          </a:xfrm>
          <a:prstGeom prst="flowChartInputOutput">
            <a:avLst/>
          </a:prstGeom>
          <a:solidFill>
            <a:srgbClr val="fbcdff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80000" y="2781360"/>
            <a:ext cx="1081080" cy="72072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778200" y="3789360"/>
            <a:ext cx="1081080" cy="72072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80000" y="4797360"/>
            <a:ext cx="1081080" cy="72072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22880" y="2276640"/>
            <a:ext cx="0" cy="50472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27560" y="5516640"/>
            <a:ext cx="0" cy="50472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27560" y="3500280"/>
            <a:ext cx="0" cy="2890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13160" y="4508640"/>
            <a:ext cx="0" cy="28872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166" name=""/>
          <p:cNvCxnSpPr>
            <a:stCxn id="155" idx="5"/>
            <a:endCxn id="159" idx="1"/>
          </p:cNvCxnSpPr>
          <p:nvPr/>
        </p:nvCxnSpPr>
        <p:spPr>
          <a:xfrm flipV="1">
            <a:off x="1763280" y="3141000"/>
            <a:ext cx="2017080" cy="37080"/>
          </a:xfrm>
          <a:prstGeom prst="straightConnector1">
            <a:avLst/>
          </a:prstGeom>
          <a:ln w="9360">
            <a:solidFill>
              <a:srgbClr val="080808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7" name=""/>
          <p:cNvCxnSpPr>
            <a:stCxn id="159" idx="3"/>
            <a:endCxn id="158" idx="2"/>
          </p:cNvCxnSpPr>
          <p:nvPr/>
        </p:nvCxnSpPr>
        <p:spPr>
          <a:xfrm>
            <a:off x="4860720" y="3141360"/>
            <a:ext cx="2230920" cy="37080"/>
          </a:xfrm>
          <a:prstGeom prst="straightConnector1">
            <a:avLst/>
          </a:prstGeom>
          <a:ln w="9360">
            <a:solidFill>
              <a:srgbClr val="080808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8" name=""/>
          <p:cNvCxnSpPr>
            <a:stCxn id="156" idx="5"/>
            <a:endCxn id="159" idx="1"/>
          </p:cNvCxnSpPr>
          <p:nvPr/>
        </p:nvCxnSpPr>
        <p:spPr>
          <a:xfrm flipV="1">
            <a:off x="1763280" y="3141000"/>
            <a:ext cx="2017080" cy="118980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56" idx="5"/>
            <a:endCxn id="160" idx="1"/>
          </p:cNvCxnSpPr>
          <p:nvPr/>
        </p:nvCxnSpPr>
        <p:spPr>
          <a:xfrm flipV="1">
            <a:off x="1763640" y="4149000"/>
            <a:ext cx="2015280" cy="18180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0" idx="3"/>
            <a:endCxn id="158" idx="2"/>
          </p:cNvCxnSpPr>
          <p:nvPr/>
        </p:nvCxnSpPr>
        <p:spPr>
          <a:xfrm flipV="1">
            <a:off x="4859280" y="3177360"/>
            <a:ext cx="2232720" cy="97236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7" idx="5"/>
            <a:endCxn id="161" idx="1"/>
          </p:cNvCxnSpPr>
          <p:nvPr/>
        </p:nvCxnSpPr>
        <p:spPr>
          <a:xfrm flipV="1">
            <a:off x="3132000" y="5157000"/>
            <a:ext cx="648360" cy="18180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4B9A-1930-421C-B77F-BFBB2732F6E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Non-Based class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67" name=""/>
          <p:cNvSpPr/>
          <p:nvPr/>
        </p:nvSpPr>
        <p:spPr>
          <a:xfrm>
            <a:off x="1087560" y="530064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A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335560" y="527688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788000" y="2181240"/>
            <a:ext cx="129672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299280" y="290196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722920" y="3117960"/>
            <a:ext cx="79236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435640" y="2757600"/>
            <a:ext cx="0" cy="287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5506920" y="3478320"/>
            <a:ext cx="936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435640" y="3478320"/>
            <a:ext cx="0" cy="431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870160" y="14112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B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0F4E-8F4F-43E4-AA89-8B313C8C208E}" type="slidenum">
              <a:t>1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Based class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2"/>
          <a:stretch/>
        </p:blipFill>
        <p:spPr>
          <a:xfrm>
            <a:off x="1058760" y="1628640"/>
            <a:ext cx="2803680" cy="352908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/>
          <p:nvPr/>
        </p:nvSpPr>
        <p:spPr>
          <a:xfrm>
            <a:off x="1126800" y="5445000"/>
            <a:ext cx="263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: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A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191200" y="537372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3"/>
          <a:stretch/>
        </p:blipFill>
        <p:spPr>
          <a:xfrm>
            <a:off x="5219640" y="1628640"/>
            <a:ext cx="2603520" cy="349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36F8-5644-4926-A624-F03FD105C9C1}" type="slidenum">
              <a:t>1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Based class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89" name=""/>
          <p:cNvSpPr/>
          <p:nvPr/>
        </p:nvSpPr>
        <p:spPr>
          <a:xfrm>
            <a:off x="1087560" y="530064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A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335560" y="527688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292720" y="202716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There is no M1 in 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o A’s (on which B is based) M1 is use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651640" y="2962440"/>
            <a:ext cx="129672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B: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F686-A3AA-478E-ADDC-C1AF1314835A}" type="slidenum">
              <a:t>1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verridden class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05" name=""/>
          <p:cNvSpPr/>
          <p:nvPr/>
        </p:nvSpPr>
        <p:spPr>
          <a:xfrm>
            <a:off x="1126800" y="5445000"/>
            <a:ext cx="263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: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A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154120" y="5373720"/>
            <a:ext cx="343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 becaus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t has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not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been overridden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3960720" cy="3459240"/>
          </a:xfrm>
          <a:prstGeom prst="rect">
            <a:avLst/>
          </a:prstGeom>
          <a:ln w="0">
            <a:noFill/>
          </a:ln>
        </p:spPr>
      </p:pic>
      <p:sp>
        <p:nvSpPr>
          <p:cNvPr id="708" name=""/>
          <p:cNvSpPr/>
          <p:nvPr/>
        </p:nvSpPr>
        <p:spPr>
          <a:xfrm>
            <a:off x="3059280" y="3645000"/>
            <a:ext cx="1368360" cy="28872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3"/>
          <a:stretch/>
        </p:blipFill>
        <p:spPr>
          <a:xfrm>
            <a:off x="5148360" y="1628640"/>
            <a:ext cx="2604960" cy="342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3D30-F159-488E-9F08-4EC07E866759}" type="slidenum">
              <a:t>1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Based class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11" name=""/>
          <p:cNvSpPr/>
          <p:nvPr/>
        </p:nvSpPr>
        <p:spPr>
          <a:xfrm>
            <a:off x="1087560" y="530064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A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335560" y="527688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292720" y="200808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There is no M1 in 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o A’s (on which B is based) M1 is use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724360" y="292428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B: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07DF-A127-401C-B355-565EE9DB9969}" type="slidenum">
              <a:t>1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" descr=""/>
          <p:cNvPicPr/>
          <p:nvPr/>
        </p:nvPicPr>
        <p:blipFill>
          <a:blip r:embed="rId2"/>
          <a:stretch/>
        </p:blipFill>
        <p:spPr>
          <a:xfrm>
            <a:off x="4788000" y="1628640"/>
            <a:ext cx="3568680" cy="3419640"/>
          </a:xfrm>
          <a:prstGeom prst="rect">
            <a:avLst/>
          </a:prstGeom>
          <a:ln w="0">
            <a:noFill/>
          </a:ln>
        </p:spPr>
      </p:pic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verridden class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28" name=""/>
          <p:cNvSpPr/>
          <p:nvPr/>
        </p:nvSpPr>
        <p:spPr>
          <a:xfrm>
            <a:off x="1126800" y="5445000"/>
            <a:ext cx="263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: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A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154120" y="5373720"/>
            <a:ext cx="304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B’s M2 becaus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t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has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been overridden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3"/>
          <a:stretch/>
        </p:blipFill>
        <p:spPr>
          <a:xfrm>
            <a:off x="684360" y="1628640"/>
            <a:ext cx="3960720" cy="3459240"/>
          </a:xfrm>
          <a:prstGeom prst="rect">
            <a:avLst/>
          </a:prstGeom>
          <a:ln w="0">
            <a:noFill/>
          </a:ln>
        </p:spPr>
      </p:pic>
      <p:sp>
        <p:nvSpPr>
          <p:cNvPr id="731" name=""/>
          <p:cNvSpPr/>
          <p:nvPr/>
        </p:nvSpPr>
        <p:spPr>
          <a:xfrm>
            <a:off x="3059280" y="3645000"/>
            <a:ext cx="1368360" cy="28872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085160" y="3602160"/>
            <a:ext cx="996840" cy="28872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9F8F-0647-49F7-B8B1-2F3581219012}" type="slidenum">
              <a:t>1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5680080" y="292428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Based class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35" name=""/>
          <p:cNvSpPr/>
          <p:nvPr/>
        </p:nvSpPr>
        <p:spPr>
          <a:xfrm>
            <a:off x="1087560" y="530064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A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65080" y="5276880"/>
            <a:ext cx="251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B’s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>
              <a:alpha val="36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835280" y="3141720"/>
            <a:ext cx="3960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272200" y="202716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There is no M1 in 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o A’s (on which B is based) M1 is use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1547280" y="3500280"/>
            <a:ext cx="424836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B: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FC6C-4163-4BF8-BF1F-9D2F072A9FB6}" type="slidenum">
              <a:t>1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6800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Destructor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They are used to clean-up after an instance is destroyed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KingLear←⎕new life 'Lear'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King  Lear  is born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)erase KingLear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Lear  is dead, long live the king.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2"/>
          <a:stretch/>
        </p:blipFill>
        <p:spPr>
          <a:xfrm>
            <a:off x="5292720" y="1557360"/>
            <a:ext cx="3625920" cy="301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C06F-DED1-47EF-831C-A6ECCA38A7C8}" type="slidenum">
              <a:t>10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11280" y="15228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 details: </a:t>
            </a:r>
            <a:r>
              <a:rPr b="0" lang="en-US" sz="2800" spc="-1" strike="noStrike">
                <a:solidFill>
                  <a:srgbClr val="fbcdff"/>
                </a:solidFill>
                <a:latin typeface="Arial Black"/>
              </a:rPr>
              <a:t>⎕NC/⎕NL </a:t>
            </a:r>
            <a:endParaRPr b="0" lang="en-US" sz="28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NC/⎕NL extension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Those 2 system functions have been extended to deal with the new objects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Since classes and instances are a </a:t>
            </a:r>
            <a:r>
              <a:rPr b="0" i="1" lang="en-GB" sz="2400" spc="-1" strike="noStrike">
                <a:solidFill>
                  <a:srgbClr val="080808"/>
                </a:solidFill>
                <a:latin typeface="Arial"/>
              </a:rPr>
              <a:t>type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 of namespace their </a:t>
            </a:r>
            <a:r>
              <a:rPr b="0" i="1" lang="en-GB" sz="2400" spc="-1" strike="noStrike">
                <a:solidFill>
                  <a:srgbClr val="080808"/>
                </a:solidFill>
                <a:latin typeface="Arial"/>
              </a:rPr>
              <a:t>basic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 classification is 9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NC ‘myClass’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To find their </a:t>
            </a:r>
            <a:r>
              <a:rPr b="0" i="1" lang="en-GB" sz="2400" spc="-1" strike="noStrike">
                <a:solidFill>
                  <a:srgbClr val="080808"/>
                </a:solidFill>
                <a:latin typeface="Arial"/>
              </a:rPr>
              <a:t>sub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-class they need to be enclosed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NC </a:t>
            </a: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⊂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‘myClass’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9.4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E15B-2E3E-4120-8231-E9691CD0CCE2}" type="slidenum">
              <a:t>10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11280" y="15228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 details: </a:t>
            </a:r>
            <a:r>
              <a:rPr b="0" lang="en-US" sz="2800" spc="-1" strike="noStrike">
                <a:solidFill>
                  <a:srgbClr val="fbcdff"/>
                </a:solidFill>
                <a:latin typeface="Arial Black"/>
              </a:rPr>
              <a:t>⎕NC/⎕NL </a:t>
            </a:r>
            <a:endParaRPr b="0" lang="en-US" sz="28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NC/⎕NL extension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NL has also been extended to report all objects of a given sub-class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⍴⍴⎕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NL 9.4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Furthermore, if one of the argument to ⎕NL is negative the result is returned in vector format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⍴⍴⎕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NL -9.4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A191-C2F2-4209-8594-70A2519A443D}" type="slidenum">
              <a:t>1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The evolution of data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27856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is is the same in traditional APL systems, data is separated from code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590840" y="2708280"/>
            <a:ext cx="5933880" cy="2897280"/>
            <a:chOff x="1590840" y="2708280"/>
            <a:chExt cx="5933880" cy="2897280"/>
          </a:xfrm>
        </p:grpSpPr>
        <p:pic>
          <p:nvPicPr>
            <p:cNvPr id="175" name="" descr=""/>
            <p:cNvPicPr/>
            <p:nvPr/>
          </p:nvPicPr>
          <p:blipFill>
            <a:blip r:embed="rId2"/>
            <a:stretch/>
          </p:blipFill>
          <p:spPr>
            <a:xfrm>
              <a:off x="1590840" y="2708280"/>
              <a:ext cx="5933880" cy="289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1656720" y="4181040"/>
              <a:ext cx="1038600" cy="49104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99560" y="4708440"/>
              <a:ext cx="1038960" cy="49104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56720" y="3657600"/>
              <a:ext cx="1038600" cy="49104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07280" y="3665520"/>
              <a:ext cx="1038600" cy="49104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50000" y="3661560"/>
              <a:ext cx="1038600" cy="49104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56080" y="4181040"/>
              <a:ext cx="1038600" cy="49104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83360" y="3653640"/>
              <a:ext cx="1038600" cy="490680"/>
            </a:xfrm>
            <a:prstGeom prst="rect">
              <a:avLst/>
            </a:prstGeom>
            <a:solidFill>
              <a:srgbClr val="fbcdff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74C8-87FD-4FDA-8D12-1FC020DD8F8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11280" y="15228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 details: </a:t>
            </a:r>
            <a:r>
              <a:rPr b="0" lang="en-US" sz="2800" spc="-1" strike="noStrike">
                <a:solidFill>
                  <a:srgbClr val="fbcdff"/>
                </a:solidFill>
                <a:latin typeface="Arial Black"/>
              </a:rPr>
              <a:t>⎕NC/⎕NL </a:t>
            </a:r>
            <a:endParaRPr b="0" lang="en-US" sz="28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NC/⎕NL extension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NL and 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⎕NC are symmetric such tha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n∊⎕NC ⎕NL |n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vn∊⎕NL-⎕NC¨vn  ⍝ vn is a list of name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50B6-1DAC-47C0-BAB6-F6A9A4871630}" type="slidenum">
              <a:t>1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11280" y="15228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 details: </a:t>
            </a:r>
            <a:r>
              <a:rPr b="0" lang="en-US" sz="2800" spc="-1" strike="noStrike">
                <a:solidFill>
                  <a:srgbClr val="fbcdff"/>
                </a:solidFill>
                <a:latin typeface="Arial Black"/>
              </a:rPr>
              <a:t>⎕NC/⎕NL </a:t>
            </a:r>
            <a:endParaRPr b="0" lang="en-US" sz="28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324000" y="141300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NC/⎕NL extension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NL and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⎕NC also apply to variables and functions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The complete list is: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3/4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n.1  Variable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Traditional fn/op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NS created by ⎕NS             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n.2  Field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D-fns or –op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Instance (could be form)      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n.3  Property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Derived/Primitive            -                   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n.4  -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Class                         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n.5  -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Interface                     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n.6  External/shared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External          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External Class                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n.7  -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External Interface            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42F4-D8BF-4B96-8CCD-26C261CFFBF2}" type="slidenum">
              <a:t>1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11280" y="15228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 details: </a:t>
            </a:r>
            <a:r>
              <a:rPr b="0" lang="en-US" sz="2800" spc="-1" strike="noStrike">
                <a:solidFill>
                  <a:srgbClr val="fbcdff"/>
                </a:solidFill>
                <a:latin typeface="Arial Black"/>
              </a:rPr>
              <a:t>⎕NC/⎕NL </a:t>
            </a:r>
            <a:endParaRPr b="0" lang="en-US" sz="28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324000" y="141300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NC/⎕NL extension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NL also reports instance members when used with a negative argumen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nstance.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⎕NL -2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.1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⍝ report all field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C7B3-A4BC-4A4B-99EC-73BDC3EDDB09}" type="slidenum">
              <a:t>1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80808"/>
                </a:solidFill>
                <a:latin typeface="Arial"/>
              </a:rPr>
              <a:t>Types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 of Namespaces and their ⎕NC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1</a:t>
            </a:r>
            <a:r>
              <a:rPr b="0" lang="en-GB" sz="3200" spc="-1" strike="noStrike" baseline="30000">
                <a:solidFill>
                  <a:srgbClr val="080808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two already existed in V10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Regular N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9.1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Form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9.2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stance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9.2 (NOT 9.3!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Classe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9.4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terface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9.5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title"/>
          </p:nvPr>
        </p:nvSpPr>
        <p:spPr>
          <a:xfrm>
            <a:off x="611280" y="152280"/>
            <a:ext cx="820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4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8609-1AD9-4710-9D70-0658C0B8E755}" type="slidenum">
              <a:t>1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278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: ⎕DF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68000" y="1411200"/>
            <a:ext cx="84963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default display form of a namespace is its path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+‘t1.s1’ ⎕NS ‘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#.t1.s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We can change this using ⎕DF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1.s1.⎕df  ‘(S1: son of t1)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1.s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(S1: son of t1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BBBE-5A7E-4850-9B8E-BCFFC6E535F6}" type="slidenum">
              <a:t>1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Display form of namespac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91760" y="1484280"/>
            <a:ext cx="8327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</a:t>
            </a:r>
            <a:r>
              <a:rPr b="0" lang="en-GB" sz="2800" spc="-1" strike="noStrike">
                <a:solidFill>
                  <a:srgbClr val="080808"/>
                </a:solidFill>
                <a:latin typeface="APL385 Unicode"/>
              </a:rPr>
              <a:t>←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1.s1   ⍝ even if assigned a new name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⍝ what does this look like?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(S1: son of t1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≡t1.s1   ⍝ it “remembers” its referenc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⍬≡⍴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⍝ it is still just a ref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⍴⍕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⍝ its display has a length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733C-2495-44B9-9B49-11F930E1FBC8}" type="slidenum">
              <a:t>1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namespac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1.s1.v11←’var’ ⍝ If we change the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1.s1.⎕fx ‘f1’ ‘...’ ⍝ contents of s1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,t1.s1.⎕nl 2 3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 v1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,abc.⎕nl 2 3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⍝ abc will “see” i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 v1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NC ’abc’  ‘t1’  ‘t1.s1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9.1  9.1  9.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276720" y="4508640"/>
            <a:ext cx="1008000" cy="360360"/>
          </a:xfrm>
          <a:prstGeom prst="rect">
            <a:avLst/>
          </a:prstGeom>
          <a:solidFill>
            <a:srgbClr val="be9dcb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908000" y="5013360"/>
            <a:ext cx="503280" cy="360360"/>
          </a:xfrm>
          <a:prstGeom prst="rect">
            <a:avLst/>
          </a:prstGeom>
          <a:solidFill>
            <a:srgbClr val="be9dcb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39640" y="5013360"/>
            <a:ext cx="50328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692360" y="4508640"/>
            <a:ext cx="79200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235160" y="5013360"/>
            <a:ext cx="503280" cy="360360"/>
          </a:xfrm>
          <a:prstGeom prst="rect">
            <a:avLst/>
          </a:prstGeom>
          <a:solidFill>
            <a:srgbClr val="6bfd87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627280" y="4508640"/>
            <a:ext cx="503280" cy="360360"/>
          </a:xfrm>
          <a:prstGeom prst="rect">
            <a:avLst/>
          </a:prstGeom>
          <a:solidFill>
            <a:srgbClr val="6bfd87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360A-9A1F-4A3F-AD4B-9CDC0587F03C}" type="slidenum">
              <a:t>1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namespac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63480" y="1456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o get a 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distinct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copy of t1.s1 we need to do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←⎕NS ⎕OR ‘t1.s1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,abc.⎕NL  2  3    ⍝ everything is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copied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 v1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⍝ even its nam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(S1: son of t1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≡t1.s1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⍝ but they’re differen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.⎕fd ‘I am ABC’    ⋄   abc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 am ABC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B5E4-2B4D-4E85-882E-B0CE5146345F}" type="slidenum">
              <a:t>1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8" name="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779" name="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namespac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82" name=""/>
          <p:cNvSpPr/>
          <p:nvPr/>
        </p:nvSpPr>
        <p:spPr>
          <a:xfrm>
            <a:off x="325800" y="126828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086520" y="12682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868720" y="2060640"/>
            <a:ext cx="11592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BC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013080" y="2852640"/>
            <a:ext cx="7293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f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..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727960" y="4508640"/>
            <a:ext cx="153396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11←’var’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116720" y="249228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abc.⎕NL  2  3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50000" y="3016080"/>
            <a:ext cx="67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f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v1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971280" y="3068640"/>
            <a:ext cx="5040360" cy="144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H="1" flipV="1">
            <a:off x="971640" y="3716280"/>
            <a:ext cx="4680000" cy="100800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6417-EB5E-4C9E-BE16-7C97CF068DCD}" type="slidenum">
              <a:t>1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1" name="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792" name="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namespac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795" name=""/>
          <p:cNvSpPr/>
          <p:nvPr/>
        </p:nvSpPr>
        <p:spPr>
          <a:xfrm>
            <a:off x="6086520" y="12682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868720" y="2060640"/>
            <a:ext cx="11592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BC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013080" y="2602080"/>
            <a:ext cx="7293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f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..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651640" y="3963960"/>
            <a:ext cx="2089080" cy="1922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11←’var’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  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tx←{,⍵}      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  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26160" y="1461960"/>
            <a:ext cx="3367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You can add</a:t>
            </a:r>
            <a:br>
              <a:rPr sz="2800"/>
            </a:b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o a namespace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x←{,⍵}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‘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’ ⎕ns ‘tx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nd &lt;tx&gt; appear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without ‘v11’ or &lt;f1&gt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going away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383F-6353-4C93-8B63-961E8C244FCA}" type="slidenum">
              <a:t>1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The evolution of data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27856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 OO systems, data is more tightly coupled with code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042920" y="2349360"/>
            <a:ext cx="3024000" cy="1656000"/>
            <a:chOff x="1042920" y="2349360"/>
            <a:chExt cx="3024000" cy="1656000"/>
          </a:xfrm>
        </p:grpSpPr>
        <p:sp>
          <p:nvSpPr>
            <p:cNvPr id="186" name=""/>
            <p:cNvSpPr/>
            <p:nvPr/>
          </p:nvSpPr>
          <p:spPr>
            <a:xfrm>
              <a:off x="1042920" y="2349360"/>
              <a:ext cx="3024000" cy="1656000"/>
            </a:xfrm>
            <a:prstGeom prst="flowChartProcess">
              <a:avLst/>
            </a:prstGeom>
            <a:solidFill>
              <a:srgbClr val="cc9900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privat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cod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58920" y="263700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32000" y="263700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6804000" y="2781360"/>
            <a:ext cx="1081080" cy="72072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042920" y="4221000"/>
            <a:ext cx="3024000" cy="1656000"/>
            <a:chOff x="1042920" y="4221000"/>
            <a:chExt cx="3024000" cy="1656000"/>
          </a:xfrm>
        </p:grpSpPr>
        <p:sp>
          <p:nvSpPr>
            <p:cNvPr id="191" name=""/>
            <p:cNvSpPr/>
            <p:nvPr/>
          </p:nvSpPr>
          <p:spPr>
            <a:xfrm>
              <a:off x="1042920" y="4221000"/>
              <a:ext cx="3024000" cy="1656000"/>
            </a:xfrm>
            <a:prstGeom prst="flowChartProcess">
              <a:avLst/>
            </a:prstGeom>
            <a:solidFill>
              <a:srgbClr val="cc9900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privat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cod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58920" y="450864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32000" y="450864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804000" y="3683160"/>
            <a:ext cx="1081080" cy="72072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4610160"/>
            <a:ext cx="1081080" cy="72072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307280" y="3530520"/>
            <a:ext cx="0" cy="14292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307280" y="4429080"/>
            <a:ext cx="0" cy="14292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07280" y="5330880"/>
            <a:ext cx="0" cy="360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307280" y="2397240"/>
            <a:ext cx="0" cy="360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11640" y="2924280"/>
            <a:ext cx="1081080" cy="576000"/>
          </a:xfrm>
          <a:prstGeom prst="flowChartPunchedCard">
            <a:avLst/>
          </a:prstGeom>
          <a:solidFill>
            <a:srgbClr val="ffff3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80808"/>
                </a:solidFill>
                <a:latin typeface="Arial"/>
              </a:rPr>
              <a:t>Do this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84720" y="4653000"/>
            <a:ext cx="1081080" cy="576360"/>
          </a:xfrm>
          <a:prstGeom prst="flowChartPunchedCard">
            <a:avLst/>
          </a:prstGeom>
          <a:solidFill>
            <a:srgbClr val="ffff3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80808"/>
                </a:solidFill>
                <a:latin typeface="Arial"/>
              </a:rPr>
              <a:t>Do tha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80000" y="2924280"/>
            <a:ext cx="3313080" cy="215640"/>
          </a:xfrm>
          <a:prstGeom prst="leftRightArrow">
            <a:avLst>
              <a:gd name="adj1" fmla="val 50000"/>
              <a:gd name="adj2" fmla="val 305856"/>
            </a:avLst>
          </a:prstGeom>
          <a:solidFill>
            <a:srgbClr val="790082">
              <a:alpha val="59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373720" y="2924280"/>
            <a:ext cx="998640" cy="7347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5508720" y="4581360"/>
            <a:ext cx="998280" cy="7351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780000" y="4797360"/>
            <a:ext cx="3168360" cy="216000"/>
          </a:xfrm>
          <a:prstGeom prst="leftArrow">
            <a:avLst>
              <a:gd name="adj1" fmla="val 50000"/>
              <a:gd name="adj2" fmla="val 366708"/>
            </a:avLst>
          </a:prstGeom>
          <a:solidFill>
            <a:srgbClr val="790082">
              <a:alpha val="58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3319-3A6E-43A6-8C06-0F4A896D0E7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"/>
          <p:cNvGrpSpPr/>
          <p:nvPr/>
        </p:nvGrpSpPr>
        <p:grpSpPr>
          <a:xfrm>
            <a:off x="4716360" y="1916280"/>
            <a:ext cx="3527640" cy="3097080"/>
            <a:chOff x="4716360" y="1916280"/>
            <a:chExt cx="3527640" cy="3097080"/>
          </a:xfrm>
        </p:grpSpPr>
        <p:sp>
          <p:nvSpPr>
            <p:cNvPr id="801" name=""/>
            <p:cNvSpPr/>
            <p:nvPr/>
          </p:nvSpPr>
          <p:spPr>
            <a:xfrm>
              <a:off x="4716360" y="1916280"/>
              <a:ext cx="3527640" cy="309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716360" y="2462400"/>
              <a:ext cx="352764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namespac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04" name=""/>
          <p:cNvSpPr/>
          <p:nvPr/>
        </p:nvSpPr>
        <p:spPr>
          <a:xfrm>
            <a:off x="6086520" y="12682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507280" y="1989000"/>
            <a:ext cx="189360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#.[Namespace]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5435640" y="3500280"/>
            <a:ext cx="208908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  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tx←{,⍵}      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  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24000" y="1461960"/>
            <a:ext cx="417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But if you use 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←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nstead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x←{,⍵}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←⎕ns ‘tx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&lt;tx&gt; appears in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bc’ alone and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display form is reset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6659-31C5-4D75-85E4-A19498F058B3}" type="slidenum">
              <a:t>1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Display form of a Form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default display form of a Form is its path, just like a namespace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+‘F1’ ⎕WC ‘form’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#.F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We can change this using ⎕DF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.⎕df ‘&lt;F1 is in great form&gt;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&lt;F1 is in great form&gt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A608-9CDE-4EC2-9AB0-A9C471615B93}" type="slidenum">
              <a:t>1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Display form of a form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we can add items to it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.b1’ ⎕wc ‘button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e2’ F1.⎕wc ‘edit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nc ‘F1’  ‘F1.b1’  ‘F1.e2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9.2  9.2  9.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⍝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we have 3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instances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of built-in APL form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.e2   F1  ⍝ each with its own nam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#.F1.e2   &lt;F1 is in great form&gt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900000" y="4724280"/>
            <a:ext cx="100800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39640" y="5229360"/>
            <a:ext cx="136836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050920" y="5229360"/>
            <a:ext cx="3384720" cy="360360"/>
          </a:xfrm>
          <a:prstGeom prst="rect">
            <a:avLst/>
          </a:prstGeom>
          <a:solidFill>
            <a:srgbClr val="be9dcb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124000" y="4724280"/>
            <a:ext cx="505080" cy="360360"/>
          </a:xfrm>
          <a:prstGeom prst="rect">
            <a:avLst/>
          </a:prstGeom>
          <a:solidFill>
            <a:srgbClr val="be9dcb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658880" y="3181320"/>
            <a:ext cx="609480" cy="360360"/>
          </a:xfrm>
          <a:prstGeom prst="rect">
            <a:avLst/>
          </a:prstGeom>
          <a:solidFill>
            <a:srgbClr val="be9dcb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95440" y="3716280"/>
            <a:ext cx="576000" cy="360360"/>
          </a:xfrm>
          <a:prstGeom prst="rect">
            <a:avLst/>
          </a:prstGeom>
          <a:solidFill>
            <a:srgbClr val="be9dcb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08360" y="3189240"/>
            <a:ext cx="107964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979640" y="3716280"/>
            <a:ext cx="576360" cy="360360"/>
          </a:xfrm>
          <a:prstGeom prst="rect">
            <a:avLst/>
          </a:prstGeom>
          <a:solidFill>
            <a:srgbClr val="ddfc20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427120" y="3189240"/>
            <a:ext cx="1081080" cy="360360"/>
          </a:xfrm>
          <a:prstGeom prst="rect">
            <a:avLst/>
          </a:prstGeom>
          <a:solidFill>
            <a:srgbClr val="6bfd87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292400" y="3716280"/>
            <a:ext cx="576000" cy="360360"/>
          </a:xfrm>
          <a:prstGeom prst="rect">
            <a:avLst/>
          </a:prstGeom>
          <a:solidFill>
            <a:srgbClr val="6bfd87">
              <a:alpha val="5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91E8-9ED6-49C5-91A9-39B33A1D92A4}" type="slidenum">
              <a:t>1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"/>
          <p:cNvGrpSpPr/>
          <p:nvPr/>
        </p:nvGrpSpPr>
        <p:grpSpPr>
          <a:xfrm>
            <a:off x="4932360" y="2131920"/>
            <a:ext cx="3527280" cy="3672000"/>
            <a:chOff x="4932360" y="2131920"/>
            <a:chExt cx="3527280" cy="3672000"/>
          </a:xfrm>
        </p:grpSpPr>
        <p:sp>
          <p:nvSpPr>
            <p:cNvPr id="823" name=""/>
            <p:cNvSpPr/>
            <p:nvPr/>
          </p:nvSpPr>
          <p:spPr>
            <a:xfrm>
              <a:off x="4932360" y="2131920"/>
              <a:ext cx="3527280" cy="367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932360" y="2779560"/>
              <a:ext cx="352728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a form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29920" y="1484280"/>
            <a:ext cx="497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form contains 2 objects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⍴⎕←⎕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nl  2 3 9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b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e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2 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nc ‘b1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nc ‘Caption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547960" y="2276640"/>
            <a:ext cx="22899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&lt;F1 is in great form&g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2"/>
          <a:stretch/>
        </p:blipFill>
        <p:spPr>
          <a:xfrm>
            <a:off x="5724360" y="3068640"/>
            <a:ext cx="571680" cy="390600"/>
          </a:xfrm>
          <a:prstGeom prst="rect">
            <a:avLst/>
          </a:prstGeom>
          <a:ln w="0">
            <a:noFill/>
          </a:ln>
        </p:spPr>
      </p:pic>
      <p:pic>
        <p:nvPicPr>
          <p:cNvPr id="829" name="" descr=""/>
          <p:cNvPicPr/>
          <p:nvPr/>
        </p:nvPicPr>
        <p:blipFill>
          <a:blip r:embed="rId3"/>
          <a:stretch/>
        </p:blipFill>
        <p:spPr>
          <a:xfrm>
            <a:off x="6588000" y="3141720"/>
            <a:ext cx="1285920" cy="26676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/>
          <p:nvPr/>
        </p:nvSpPr>
        <p:spPr>
          <a:xfrm>
            <a:off x="6950520" y="306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e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651640" y="2997360"/>
            <a:ext cx="720720" cy="50292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516720" y="3068640"/>
            <a:ext cx="1440000" cy="36036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D270-B5B0-4FBB-AE0E-BCAA13404511}" type="slidenum">
              <a:t>1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a form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39280" y="1555920"/>
            <a:ext cx="770436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 form is pretty much like a namespace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t can contain variables and functions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.v1←’some var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.⎕fx ‘f1’ ‘whatever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.⎕nl 2 3   ⍝ these are POSITIVE number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v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ose are the items WE have added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5000-76E4-4ADB-BABC-BA0D66115628}" type="slidenum">
              <a:t>1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5" name=""/>
          <p:cNvGrpSpPr/>
          <p:nvPr/>
        </p:nvGrpSpPr>
        <p:grpSpPr>
          <a:xfrm>
            <a:off x="4932360" y="2131920"/>
            <a:ext cx="3527280" cy="3672000"/>
            <a:chOff x="4932360" y="2131920"/>
            <a:chExt cx="3527280" cy="3672000"/>
          </a:xfrm>
        </p:grpSpPr>
        <p:sp>
          <p:nvSpPr>
            <p:cNvPr id="836" name=""/>
            <p:cNvSpPr/>
            <p:nvPr/>
          </p:nvSpPr>
          <p:spPr>
            <a:xfrm>
              <a:off x="4932360" y="2131920"/>
              <a:ext cx="3527280" cy="367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932360" y="2779560"/>
              <a:ext cx="352728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a form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29920" y="1484280"/>
            <a:ext cx="6057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form now contains 4 objects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⍴⎕←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.⎕nl  2 3 9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PL385 Unicode"/>
              </a:rPr>
              <a:t>b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PL385 Unicode"/>
              </a:rPr>
              <a:t>e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PL385 Unicode"/>
              </a:rPr>
              <a:t>f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PL385 Unicode"/>
              </a:rPr>
              <a:t>v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4 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nc ‘F1.b1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547960" y="2276640"/>
            <a:ext cx="22899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&lt;F1 is in great form&gt;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41" name="" descr=""/>
          <p:cNvPicPr/>
          <p:nvPr/>
        </p:nvPicPr>
        <p:blipFill>
          <a:blip r:embed="rId2"/>
          <a:stretch/>
        </p:blipFill>
        <p:spPr>
          <a:xfrm>
            <a:off x="5724360" y="3068640"/>
            <a:ext cx="571680" cy="390600"/>
          </a:xfrm>
          <a:prstGeom prst="rect">
            <a:avLst/>
          </a:prstGeom>
          <a:ln w="0">
            <a:noFill/>
          </a:ln>
        </p:spPr>
      </p:pic>
      <p:pic>
        <p:nvPicPr>
          <p:cNvPr id="842" name="" descr=""/>
          <p:cNvPicPr/>
          <p:nvPr/>
        </p:nvPicPr>
        <p:blipFill>
          <a:blip r:embed="rId3"/>
          <a:stretch/>
        </p:blipFill>
        <p:spPr>
          <a:xfrm>
            <a:off x="6588000" y="3141720"/>
            <a:ext cx="1285920" cy="266760"/>
          </a:xfrm>
          <a:prstGeom prst="rect">
            <a:avLst/>
          </a:prstGeom>
          <a:ln w="0">
            <a:noFill/>
          </a:ln>
        </p:spPr>
      </p:pic>
      <p:sp>
        <p:nvSpPr>
          <p:cNvPr id="843" name=""/>
          <p:cNvSpPr/>
          <p:nvPr/>
        </p:nvSpPr>
        <p:spPr>
          <a:xfrm>
            <a:off x="6950520" y="306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e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867640" y="3573360"/>
            <a:ext cx="16437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 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f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whatever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613480" y="4941720"/>
            <a:ext cx="21952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1←’some var’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5651640" y="2997360"/>
            <a:ext cx="720720" cy="50292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516720" y="3068640"/>
            <a:ext cx="1440000" cy="36036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86FF-7777-4C73-B379-22506F3ACC17}" type="slidenum">
              <a:t>1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a form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362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BUT a form also has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properties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and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methods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.⎕wx←1  ⍝ to be able to see them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⍴⎕←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.⎕nl -2 3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ccelerator  ... Caption ...  YRang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65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.⎕nc </a:t>
            </a:r>
            <a:r>
              <a:rPr b="0" lang="en-GB" sz="2800" spc="-1" strike="noStrike">
                <a:solidFill>
                  <a:srgbClr val="080808"/>
                </a:solidFill>
                <a:latin typeface="APL385 Unicode"/>
              </a:rPr>
              <a:t>⊂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’Caption’   ⍝ Caption is externa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¯2.6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ose are the only visible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members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inside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the form. They do NOT appear in ⎕nl +2 3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582E-F9C8-469F-9433-F035C0E282B9}" type="slidenum">
              <a:t>1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a form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6840" y="1555920"/>
            <a:ext cx="814716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form has 2 types of functions and variables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749"/>
              </a:spcBef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ose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internal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and specific to its typ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ose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external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, those we add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1</a:t>
            </a:r>
            <a:r>
              <a:rPr b="0" lang="en-GB" sz="2800" spc="-1" strike="noStrike" baseline="30000">
                <a:solidFill>
                  <a:srgbClr val="080808"/>
                </a:solidFill>
                <a:latin typeface="Arial"/>
              </a:rPr>
              <a:t>st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ones can be listed with a NEGATIVE ⎕NL argumen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2</a:t>
            </a:r>
            <a:r>
              <a:rPr b="0" lang="en-GB" sz="2800" spc="-1" strike="noStrike" baseline="30000">
                <a:solidFill>
                  <a:srgbClr val="080808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ones can be listed with a POSITIVE ⎕NL argumen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7C3C-0070-426F-B800-08754A5A909B}" type="slidenum">
              <a:t>1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namespac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53" name=""/>
          <p:cNvSpPr/>
          <p:nvPr/>
        </p:nvSpPr>
        <p:spPr>
          <a:xfrm>
            <a:off x="684360" y="1916280"/>
            <a:ext cx="77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All namespaces have a common structur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84360" y="3068640"/>
            <a:ext cx="721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y inherit system variable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system variables exist both internally AND externally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BE79-438F-42D2-AB7A-9B7FFC2A0F48}" type="slidenum">
              <a:t>1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a form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86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f we redefine the form all </a:t>
            </a:r>
            <a:r>
              <a:rPr b="0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external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objects disappear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+‘F1’⎕wc’form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#.F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⍴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.⎕nl 2 3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0 0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⍴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1.⎕nl-2 3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65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4932360" y="2131920"/>
            <a:ext cx="3527280" cy="3672000"/>
            <a:chOff x="4932360" y="2131920"/>
            <a:chExt cx="3527280" cy="3672000"/>
          </a:xfrm>
        </p:grpSpPr>
        <p:sp>
          <p:nvSpPr>
            <p:cNvPr id="858" name=""/>
            <p:cNvSpPr/>
            <p:nvPr/>
          </p:nvSpPr>
          <p:spPr>
            <a:xfrm>
              <a:off x="4932360" y="2131920"/>
              <a:ext cx="3527280" cy="367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932360" y="2779560"/>
              <a:ext cx="352728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860" name=""/>
          <p:cNvSpPr/>
          <p:nvPr/>
        </p:nvSpPr>
        <p:spPr>
          <a:xfrm>
            <a:off x="6373800" y="2276640"/>
            <a:ext cx="6379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#.F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A2A3-4AE4-4B57-A17A-3DF357A8F24E}" type="slidenum">
              <a:t>1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The evolution of data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27856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n OO APL systems, data is also tightly coupled with code but in a more procedural manner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042920" y="2349360"/>
            <a:ext cx="3024000" cy="1656000"/>
            <a:chOff x="1042920" y="2349360"/>
            <a:chExt cx="3024000" cy="1656000"/>
          </a:xfrm>
        </p:grpSpPr>
        <p:sp>
          <p:nvSpPr>
            <p:cNvPr id="209" name=""/>
            <p:cNvSpPr/>
            <p:nvPr/>
          </p:nvSpPr>
          <p:spPr>
            <a:xfrm>
              <a:off x="1042920" y="2349360"/>
              <a:ext cx="3024000" cy="1656000"/>
            </a:xfrm>
            <a:prstGeom prst="flowChartProcess">
              <a:avLst/>
            </a:prstGeom>
            <a:solidFill>
              <a:srgbClr val="cc9900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privat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cod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58920" y="263700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32000" y="263700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076720" y="2824200"/>
            <a:ext cx="1081080" cy="72072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042920" y="4221000"/>
            <a:ext cx="3024000" cy="1656000"/>
            <a:chOff x="1042920" y="4221000"/>
            <a:chExt cx="3024000" cy="1656000"/>
          </a:xfrm>
        </p:grpSpPr>
        <p:sp>
          <p:nvSpPr>
            <p:cNvPr id="214" name=""/>
            <p:cNvSpPr/>
            <p:nvPr/>
          </p:nvSpPr>
          <p:spPr>
            <a:xfrm>
              <a:off x="1042920" y="4221000"/>
              <a:ext cx="3024000" cy="1656000"/>
            </a:xfrm>
            <a:prstGeom prst="flowChartProcess">
              <a:avLst/>
            </a:prstGeom>
            <a:solidFill>
              <a:srgbClr val="cc9900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privat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code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58920" y="450864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32000" y="4508640"/>
              <a:ext cx="720720" cy="1081080"/>
            </a:xfrm>
            <a:prstGeom prst="flowChartInputOutput">
              <a:avLst/>
            </a:prstGeom>
            <a:solidFill>
              <a:srgbClr val="fbcdff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5076720" y="3726000"/>
            <a:ext cx="1081080" cy="72072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76720" y="4653000"/>
            <a:ext cx="1081080" cy="72072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80000" y="3573360"/>
            <a:ext cx="0" cy="14292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580000" y="4471920"/>
            <a:ext cx="0" cy="14292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580000" y="5373720"/>
            <a:ext cx="0" cy="360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80000" y="2440080"/>
            <a:ext cx="0" cy="360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223" name=""/>
          <p:cNvCxnSpPr/>
          <p:nvPr/>
        </p:nvCxnSpPr>
        <p:spPr>
          <a:xfrm flipH="1" flipV="1" rot="10800000">
            <a:off x="5362920" y="2996280"/>
            <a:ext cx="2520" cy="361080"/>
          </a:xfrm>
          <a:prstGeom prst="curvedConnector5">
            <a:avLst>
              <a:gd name="adj1" fmla="val -249100000"/>
              <a:gd name="adj2" fmla="val 50000"/>
              <a:gd name="adj3" fmla="val -249100000"/>
            </a:avLst>
          </a:prstGeom>
          <a:ln w="9360">
            <a:solidFill>
              <a:srgbClr val="080808"/>
            </a:solidFill>
            <a:prstDash val="dash"/>
            <a:miter/>
            <a:headEnd len="med" type="diamond" w="med"/>
            <a:tailEnd len="med" type="triangle" w="med"/>
          </a:ln>
        </p:spPr>
      </p:cxnSp>
      <p:cxnSp>
        <p:nvCxnSpPr>
          <p:cNvPr id="224" name=""/>
          <p:cNvCxnSpPr/>
          <p:nvPr/>
        </p:nvCxnSpPr>
        <p:spPr>
          <a:xfrm flipH="1" flipV="1" rot="10800000">
            <a:off x="5292360" y="4867920"/>
            <a:ext cx="2160" cy="361080"/>
          </a:xfrm>
          <a:prstGeom prst="curvedConnector5">
            <a:avLst>
              <a:gd name="adj1" fmla="val -249100000"/>
              <a:gd name="adj2" fmla="val 50000"/>
              <a:gd name="adj3" fmla="val -249100000"/>
            </a:avLst>
          </a:prstGeom>
          <a:ln w="9360">
            <a:solidFill>
              <a:srgbClr val="080808"/>
            </a:solidFill>
            <a:prstDash val="dash"/>
            <a:miter/>
            <a:headEnd len="med" type="diamond" w="med"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54BA-52B9-475D-8926-D4ADBB8C44B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a clas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62" name=""/>
          <p:cNvSpPr/>
          <p:nvPr/>
        </p:nvSpPr>
        <p:spPr>
          <a:xfrm>
            <a:off x="325800" y="126828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6086160" y="1341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hrIn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250920" y="2492280"/>
            <a:ext cx="4249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Classes are a different kind of namespace but they behave identically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⍝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NO external objec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⍴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hrIns.⎕NL  2  3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0 0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65" name="" descr=""/>
          <p:cNvPicPr/>
          <p:nvPr/>
        </p:nvPicPr>
        <p:blipFill>
          <a:blip r:embed="rId2"/>
          <a:stretch/>
        </p:blipFill>
        <p:spPr>
          <a:xfrm>
            <a:off x="4471920" y="1916280"/>
            <a:ext cx="427680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716D-C0BB-439A-8E4F-10088EEAD81C}" type="slidenum">
              <a:t>1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6" name="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867" name="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a clas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70" name=""/>
          <p:cNvSpPr/>
          <p:nvPr/>
        </p:nvSpPr>
        <p:spPr>
          <a:xfrm>
            <a:off x="325800" y="126828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941800" y="1341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hrIn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222880" y="2060640"/>
            <a:ext cx="24638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aster Share/instanc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293800" y="278136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MS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4935240" y="3933720"/>
            <a:ext cx="2178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FS1 (no value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H="1" flipV="1">
            <a:off x="1979280" y="2781360"/>
            <a:ext cx="3313080" cy="287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 flipH="1" flipV="1">
            <a:off x="971280" y="2924280"/>
            <a:ext cx="3816360" cy="12254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50920" y="2133720"/>
            <a:ext cx="410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hrIns.⎕NL -2  3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S1  MS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private members cannot be seen or accessed from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outside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660720" y="278136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b2b2b2"/>
                </a:solidFill>
                <a:latin typeface="APL385 Unicode"/>
              </a:rPr>
              <a:t>MS0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5006520" y="4653000"/>
            <a:ext cx="2178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Arial"/>
              </a:rPr>
              <a:t>FS0 (no value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1365-37AC-4C7F-BE61-F957B4B32AB3}" type="slidenum">
              <a:t>1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0" name="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881" name="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a clas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84" name=""/>
          <p:cNvSpPr/>
          <p:nvPr/>
        </p:nvSpPr>
        <p:spPr>
          <a:xfrm>
            <a:off x="325800" y="126828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5941800" y="1341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hrIn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222880" y="2060640"/>
            <a:ext cx="24638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aster Share/instanc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5293800" y="260676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MS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5295600" y="3429000"/>
            <a:ext cx="2178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FS1 (no value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12920" y="1941480"/>
            <a:ext cx="423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You can add items “outside” a class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x←{,⍵}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‘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hrIns’ ⎕ns ‘tx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hrIns.v11←3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nd they appear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without anything els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going away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5292720" y="4005360"/>
            <a:ext cx="208908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v11←3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tx←{,⍵}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ACBD-C7BF-4E11-A212-1F26CA21C35A}" type="slidenum">
              <a:t>1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1" name=""/>
          <p:cNvGrpSpPr/>
          <p:nvPr/>
        </p:nvGrpSpPr>
        <p:grpSpPr>
          <a:xfrm>
            <a:off x="4716360" y="1916280"/>
            <a:ext cx="3527640" cy="3671640"/>
            <a:chOff x="4716360" y="1916280"/>
            <a:chExt cx="3527640" cy="3671640"/>
          </a:xfrm>
        </p:grpSpPr>
        <p:sp>
          <p:nvSpPr>
            <p:cNvPr id="892" name=""/>
            <p:cNvSpPr/>
            <p:nvPr/>
          </p:nvSpPr>
          <p:spPr>
            <a:xfrm>
              <a:off x="4716360" y="1916280"/>
              <a:ext cx="3527640" cy="367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716360" y="2563560"/>
              <a:ext cx="352764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a clas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895" name=""/>
          <p:cNvSpPr/>
          <p:nvPr/>
        </p:nvSpPr>
        <p:spPr>
          <a:xfrm>
            <a:off x="325800" y="126828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941800" y="134136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hrIn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222880" y="2060640"/>
            <a:ext cx="24638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aster Share/instanc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293800" y="260676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MS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295600" y="3429000"/>
            <a:ext cx="21787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FS1 (no value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413280" y="1941480"/>
            <a:ext cx="3205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hrIns.⎕NC 2 3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x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v1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hrIns.⎕nc-2 3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x  v11  FS1  MS1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5292720" y="4005360"/>
            <a:ext cx="208908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v11←3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tx←{,⍵}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06B8-DED3-4AD9-B007-8CED23C154F5}" type="slidenum">
              <a:t>1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2" name=""/>
          <p:cNvGrpSpPr/>
          <p:nvPr/>
        </p:nvGrpSpPr>
        <p:grpSpPr>
          <a:xfrm>
            <a:off x="4716360" y="1916280"/>
            <a:ext cx="3527640" cy="3097080"/>
            <a:chOff x="4716360" y="1916280"/>
            <a:chExt cx="3527640" cy="3097080"/>
          </a:xfrm>
        </p:grpSpPr>
        <p:sp>
          <p:nvSpPr>
            <p:cNvPr id="903" name=""/>
            <p:cNvSpPr/>
            <p:nvPr/>
          </p:nvSpPr>
          <p:spPr>
            <a:xfrm>
              <a:off x="4716360" y="1916280"/>
              <a:ext cx="3527640" cy="309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716360" y="2462400"/>
              <a:ext cx="352764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an instanc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06" name=""/>
          <p:cNvSpPr/>
          <p:nvPr/>
        </p:nvSpPr>
        <p:spPr>
          <a:xfrm>
            <a:off x="325800" y="126828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157800" y="134136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I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5724720" y="1989000"/>
            <a:ext cx="14868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#.[ShrIns]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6949440" y="270828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MS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662520" y="3716280"/>
            <a:ext cx="153540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FS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(no value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412920" y="1941480"/>
            <a:ext cx="394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I1←⎕new ShrIn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⍴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I1.⎕NL 3 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0 0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I1.⎕NL -3 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I1  FS1  MI1  MS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shared members are visible through the instance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6516720" y="2491920"/>
            <a:ext cx="0" cy="252108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149440" y="2708280"/>
            <a:ext cx="91224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∇</a:t>
            </a: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MI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∇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4862160" y="3719520"/>
            <a:ext cx="1535400" cy="82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FI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(no value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934160" y="5013360"/>
            <a:ext cx="145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Instanc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member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589800" y="5013360"/>
            <a:ext cx="145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member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93C8-724B-4B24-A351-2B1BFFA0A521}" type="slidenum">
              <a:t>1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an interfac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18" name=""/>
          <p:cNvSpPr/>
          <p:nvPr/>
        </p:nvSpPr>
        <p:spPr>
          <a:xfrm>
            <a:off x="325800" y="126828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408960" y="1941480"/>
            <a:ext cx="4399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)ed ∘ maneuvering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⍴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aneuvering.⎕NC -2 3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aneuvering.v11←12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aneuvering.⎕NC -2 3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v11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20" name="" descr=""/>
          <p:cNvPicPr/>
          <p:nvPr/>
        </p:nvPicPr>
        <p:blipFill>
          <a:blip r:embed="rId2"/>
          <a:stretch/>
        </p:blipFill>
        <p:spPr>
          <a:xfrm>
            <a:off x="5292720" y="1628640"/>
            <a:ext cx="3352680" cy="320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D7B6-0121-4A82-B81E-92470BA010F6}" type="slidenum">
              <a:t>1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tents of an interfac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22" name=""/>
          <p:cNvSpPr/>
          <p:nvPr/>
        </p:nvSpPr>
        <p:spPr>
          <a:xfrm>
            <a:off x="325800" y="126828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Outside world (e.g. WS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79280" y="1989000"/>
            <a:ext cx="489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The methods in the interface can only be seen when exposed through the dyadic ⎕CLASS system function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VW←⎕new Car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(VW ⎕class maneuvering).⎕nl -3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Accellerate SlowDown Steer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24" name="" descr=""/>
          <p:cNvPicPr/>
          <p:nvPr/>
        </p:nvPicPr>
        <p:blipFill>
          <a:blip r:embed="rId2"/>
          <a:stretch/>
        </p:blipFill>
        <p:spPr>
          <a:xfrm>
            <a:off x="5003640" y="1700280"/>
            <a:ext cx="4077000" cy="390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ABD2-A3B2-4DE4-801E-37D6C8EE956A}" type="slidenum">
              <a:t>1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:Includ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598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is statement is used when wanting to include CODE (not data) into a clas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is may be because the code to include is common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27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3127320" cy="374328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5364000" y="2781360"/>
            <a:ext cx="1872000" cy="36036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1BF9-5646-494A-8434-48E294B1FC59}" type="slidenum">
              <a:t>1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 details summary</a:t>
            </a:r>
            <a:endParaRPr b="0" lang="en-US" sz="36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42520" y="1484280"/>
            <a:ext cx="8061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any new system commands &amp; fn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nterfaces show how it is don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Numbered Properties are implemented in a special manner in AP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riggers offer lightweight propertie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NL/⎕NC have been extended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notion of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external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names is importan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nclusion of common code is possibl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59BF-D63A-4B20-92D4-79BA8FD83EE0}" type="slidenum">
              <a:t>1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24000" y="152280"/>
            <a:ext cx="8712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End of 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3131640" y="2205000"/>
            <a:ext cx="2590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200" spc="-1" strike="noStrike">
                <a:solidFill>
                  <a:srgbClr val="080808"/>
                </a:solidFill>
                <a:latin typeface="Arial"/>
              </a:rPr>
              <a:t>?</a:t>
            </a:r>
            <a:endParaRPr b="0" lang="en-US" sz="1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3A82-5DA9-442E-AE1E-A6856584BC64}" type="slidenum">
              <a:t>1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26920" y="2708280"/>
            <a:ext cx="76327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e9dcb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Times New Roman"/>
              </a:rPr>
              <a:t>Defini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e9dcb"/>
                  </a:gs>
                  <a:gs pos="100000">
                    <a:srgbClr val="0000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08200" y="281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108000"/>
            <a:ext cx="8712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The Object Oriented paradigm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BBA9-9BF8-4D2F-B4B6-24D837574E2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 txBox="1"/>
          <p:nvPr/>
        </p:nvSpPr>
        <p:spPr>
          <a:xfrm>
            <a:off x="395280" y="2205000"/>
            <a:ext cx="828036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Examp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CB77-74FF-4B12-B574-9B75CEBEC6C6}" type="slidenum">
              <a:t>1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mplex Clas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395280" y="1371600"/>
            <a:ext cx="4032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This class is used to create complex numbers.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It can perform most simple math operations on them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This class has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2 public instance field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1 public shared field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2 private field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5 instance function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36" name="" descr=""/>
          <p:cNvPicPr/>
          <p:nvPr/>
        </p:nvPicPr>
        <p:blipFill>
          <a:blip r:embed="rId2"/>
          <a:stretch/>
        </p:blipFill>
        <p:spPr>
          <a:xfrm>
            <a:off x="4800600" y="0"/>
            <a:ext cx="4343400" cy="702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440B-C9A2-46A3-A4B6-32A218D183BE}" type="slidenum">
              <a:t>1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mplex Clas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395280" y="1371600"/>
            <a:ext cx="4032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This class also has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5 shared function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These perform the basic operations: + × ÷ *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2"/>
          <a:stretch/>
        </p:blipFill>
        <p:spPr>
          <a:xfrm>
            <a:off x="5364000" y="1268280"/>
            <a:ext cx="3691080" cy="546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CCE4-FE39-44C8-B790-4F288F3A91E3}" type="slidenum">
              <a:t>1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mplex Clas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395280" y="1371600"/>
            <a:ext cx="345600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This class also has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2 constructors and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2 private function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one of which is a trigger for when one of the fields is modified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2"/>
          <a:stretch/>
        </p:blipFill>
        <p:spPr>
          <a:xfrm>
            <a:off x="3851280" y="1268280"/>
            <a:ext cx="5181480" cy="507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96FC-D3FF-423D-B30B-952FBF19F534}" type="slidenum">
              <a:t>1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Keyed component fil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idea is to have a file whose components are accessed  by key instead of a number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Sort of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file.Read ‘key’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76A4-FA71-4CA0-ACAE-1349DBD0B8DB}" type="slidenum">
              <a:t>1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Keyed </a:t>
            </a:r>
            <a:br>
              <a:rPr sz="3600"/>
            </a:b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component file</a:t>
            </a:r>
            <a:endParaRPr b="0" lang="en-US" sz="36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4680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ince it is made from a component file it might be better to define a component file class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Like this →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is class ties a file, creating it if necessary, and unties it (and destroys it if it was temporary) upon deleting the instanc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47" name="" descr=""/>
          <p:cNvPicPr/>
          <p:nvPr/>
        </p:nvPicPr>
        <p:blipFill>
          <a:blip r:embed="rId2"/>
          <a:stretch/>
        </p:blipFill>
        <p:spPr>
          <a:xfrm>
            <a:off x="4884840" y="0"/>
            <a:ext cx="4259160" cy="702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D60C-5B7F-4234-8040-A0B1BA7B0D6D}" type="slidenum">
              <a:t>1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 txBox="1"/>
          <p:nvPr/>
        </p:nvSpPr>
        <p:spPr>
          <a:xfrm>
            <a:off x="395280" y="1484280"/>
            <a:ext cx="856944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.Net and oth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good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E9DD-767B-42C6-99F5-F68796F6D104}" type="slidenum">
              <a:t>14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.Net and other goodi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n addition to the classes which you can write in APL, version 11.0 allows you to work with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Dyalog GUI classes, including OLE Servers and and OLE Controls (ActiveX components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icrosoft.Net classe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E7DB-D345-4AF9-9188-43DFB33644BC}" type="slidenum">
              <a:t>1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.Net and other goodi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n version 11.0, these classes can be used in exactly the same way as instances of classes which have been implemented in APL.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You create instances of them with ⎕NEW, and you can manipulate the public properties, methods and events which they expose (but unlike APL classes, you cannot see or modify the implementation)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3430-440D-4197-9599-2554D2BA42CD}" type="slidenum">
              <a:t>1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Forms and more via ⎕NEW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712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It is possible to create forms using ⎕new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f1←⎕NEW 'form‘ ((‘caption’ ‘MyForm’)('size' (12 16)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Note that the class </a:t>
            </a:r>
            <a:r>
              <a:rPr b="0" i="1" lang="en-GB" sz="2400" spc="-1" strike="noStrike">
                <a:solidFill>
                  <a:srgbClr val="080808"/>
                </a:solidFill>
                <a:latin typeface="Arial"/>
              </a:rPr>
              <a:t>name 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for built-in GUI objects is provided as a string rather than as a reference to a name in the workspace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You can create OLE controls with ⎕new too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xl←⎕NEW 'OleClient‘ (</a:t>
            </a: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⊂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'ClassName‘ 'Excel.Application'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77B0-7D38-4E45-B3D6-D5C9993AC06C}" type="slidenum">
              <a:t>1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798984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Object Oriented paradigm is based on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627280" y="2133720"/>
            <a:ext cx="4032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asse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stances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Member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Message passing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heritanc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Encapsulation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Polymorphism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7550-2FF3-4014-B242-5352053B546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⎕</a:t>
            </a: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WX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is system function eXposes Window’s interface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0= do NOT expose anything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+1= expose names and report in ⎕NL with negative argument, use V10 syntax where properties are treated as functions (e.g. Sheet.(Item 3)...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+2= use new V11 syntax (e.g. Sheet[3]...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E049-951C-4467-BDA8-0C060C6054CB}" type="slidenum">
              <a:t>1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712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xl←⎕NEW 'OleClient‘ (</a:t>
            </a:r>
            <a:r>
              <a:rPr b="0" lang="en-GB" sz="2400" spc="-1" strike="noStrike">
                <a:solidFill>
                  <a:srgbClr val="080808"/>
                </a:solidFill>
                <a:latin typeface="APL385 Unicode"/>
              </a:rPr>
              <a:t>⊂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'ClassName‘ 'Excel.Application'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wx allows to use V10 syntax of the new V11 syntax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xl.⎕wx←1 ⍝ use V10 form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xl. ActiveWorkbook.Sheets.(Item 1).Nam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xl.⎕wx←3 ⍝ use V11 form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xl.ActiveWorkbook.Sheets[</a:t>
            </a:r>
            <a:r>
              <a:rPr b="0" lang="en-GB" sz="2800" spc="-1" strike="noStrike">
                <a:solidFill>
                  <a:srgbClr val="080808"/>
                </a:solidFill>
                <a:latin typeface="APL385 Unicode"/>
              </a:rPr>
              <a:t>⊂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’Sheet2'].Index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⎕</a:t>
            </a: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WX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EC67-77F5-4A82-8E4E-D560F6534073}" type="slidenum">
              <a:t>1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.Net and other goodi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08000" y="1268280"/>
            <a:ext cx="3456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tandardize dialog boxe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f1←⎕NEW Dialog ('Hello World' (50 250) ⍬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Note how the class is based on ‘Form’ (a string) and not </a:t>
            </a:r>
            <a:r>
              <a:rPr b="0" i="1" lang="en-GB" sz="2000" spc="-1" strike="noStrike">
                <a:solidFill>
                  <a:srgbClr val="080808"/>
                </a:solidFill>
                <a:latin typeface="Arial"/>
              </a:rPr>
              <a:t>Form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(a name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You can do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fm←⎕NEW ‘form’ ..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61" name="" descr=""/>
          <p:cNvPicPr/>
          <p:nvPr/>
        </p:nvPicPr>
        <p:blipFill>
          <a:blip r:embed="rId2"/>
          <a:stretch/>
        </p:blipFill>
        <p:spPr>
          <a:xfrm>
            <a:off x="3564000" y="1247760"/>
            <a:ext cx="5508720" cy="4917960"/>
          </a:xfrm>
          <a:prstGeom prst="rect">
            <a:avLst/>
          </a:prstGeom>
          <a:ln w="0">
            <a:noFill/>
          </a:ln>
        </p:spPr>
      </p:pic>
      <p:pic>
        <p:nvPicPr>
          <p:cNvPr id="962" name="" descr=""/>
          <p:cNvPicPr/>
          <p:nvPr/>
        </p:nvPicPr>
        <p:blipFill>
          <a:blip r:embed="rId3"/>
          <a:stretch/>
        </p:blipFill>
        <p:spPr>
          <a:xfrm>
            <a:off x="5724360" y="4941720"/>
            <a:ext cx="2448000" cy="78120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3995640" y="3500280"/>
            <a:ext cx="4105440" cy="46512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764240" y="1700280"/>
            <a:ext cx="576000" cy="21600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7B65-462F-4C9E-8EEE-7322E1F0A773}" type="slidenum">
              <a:t>1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.Net and other goodi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.Net utilitie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There is a lot of utilities out there that can be used in APL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For example, the Date/Time utilities found in the .Net </a:t>
            </a:r>
            <a:r>
              <a:rPr b="0" i="1" lang="en-GB" sz="2000" spc="-1" strike="noStrike">
                <a:solidFill>
                  <a:srgbClr val="080808"/>
                </a:solidFill>
                <a:latin typeface="Arial"/>
              </a:rPr>
              <a:t>DateTime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class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They are found in the </a:t>
            </a:r>
            <a:r>
              <a:rPr b="0" i="1" lang="en-GB" sz="2000" spc="-1" strike="noStrike">
                <a:solidFill>
                  <a:srgbClr val="080808"/>
                </a:solidFill>
                <a:latin typeface="Arial"/>
              </a:rPr>
              <a:t>System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namespace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To be able to use the </a:t>
            </a:r>
            <a:r>
              <a:rPr b="0" i="1" lang="en-GB" sz="2000" spc="-1" strike="noStrike">
                <a:solidFill>
                  <a:srgbClr val="080808"/>
                </a:solidFill>
                <a:latin typeface="Arial"/>
              </a:rPr>
              <a:t>DateTime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class you must indicate to APL that it resides in the </a:t>
            </a:r>
            <a:r>
              <a:rPr b="0" i="1" lang="en-GB" sz="2000" spc="-1" strike="noStrike">
                <a:solidFill>
                  <a:srgbClr val="080808"/>
                </a:solidFill>
                <a:latin typeface="Arial"/>
              </a:rPr>
              <a:t>System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namespace with ⎕USING: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USING←’System’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now←⎕new DateTime ⎕t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now ⍝ let’s see its display form: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2006/10/15 21:47:08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nc ‘now’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195640" y="3843360"/>
            <a:ext cx="936360" cy="28908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2340000" y="4148280"/>
            <a:ext cx="1150920" cy="28872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161B-19B5-4282-9657-2244263937AE}" type="slidenum">
              <a:t>1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.Net and other goodi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280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.Net for other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o allow other languages to use your code you should organize your classes in namespaces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55640" y="3068640"/>
            <a:ext cx="7201080" cy="3024360"/>
          </a:xfrm>
          <a:prstGeom prst="rect">
            <a:avLst/>
          </a:prstGeom>
          <a:noFill/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810000" y="414036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W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835280" y="3284640"/>
            <a:ext cx="5832360" cy="1224000"/>
          </a:xfrm>
          <a:prstGeom prst="rect">
            <a:avLst/>
          </a:prstGeom>
          <a:noFill/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835280" y="4581360"/>
            <a:ext cx="5832360" cy="1295640"/>
          </a:xfrm>
          <a:prstGeom prst="rect">
            <a:avLst/>
          </a:prstGeom>
          <a:noFill/>
          <a:ln w="284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910880" y="36450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0808"/>
                </a:solidFill>
                <a:latin typeface="Arial"/>
              </a:rPr>
              <a:t>NS1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910880" y="501336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0808"/>
                </a:solidFill>
                <a:latin typeface="Arial"/>
              </a:rPr>
              <a:t>NS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156360" y="3429000"/>
            <a:ext cx="1224000" cy="863640"/>
          </a:xfrm>
          <a:prstGeom prst="flowChartPredefinedProcess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3206160" y="37162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Class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4572000" y="3429000"/>
            <a:ext cx="1224000" cy="863640"/>
          </a:xfrm>
          <a:prstGeom prst="flowChartPredefinedProcess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3059280" y="3429000"/>
            <a:ext cx="1223640" cy="863640"/>
          </a:xfrm>
          <a:prstGeom prst="flowChartPredefinedProcess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2987640" y="4724280"/>
            <a:ext cx="1224000" cy="863640"/>
          </a:xfrm>
          <a:prstGeom prst="flowChartPredefinedProcess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4427640" y="4724280"/>
            <a:ext cx="1224000" cy="863640"/>
          </a:xfrm>
          <a:prstGeom prst="flowChartPredefinedProcess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4719240" y="37162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Class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303600" y="371628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ClassC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134520" y="49417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ClassX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574520" y="49417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Class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3D31-7E9D-4B3D-9FBF-351939D28BC1}" type="slidenum">
              <a:t>1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.Net and other goodi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77043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.Net for other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o allow other languages to use your code you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declare how it works </a:t>
            </a:r>
            <a:br>
              <a:rPr sz="2800"/>
            </a:b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using the :Signature</a:t>
            </a:r>
            <a:br>
              <a:rPr sz="2800"/>
            </a:b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tatemen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export it through the</a:t>
            </a:r>
            <a:br>
              <a:rPr sz="2800"/>
            </a:b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ile/Export/.Net DLL</a:t>
            </a:r>
            <a:br>
              <a:rPr sz="2800"/>
            </a:b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enu item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2"/>
          <a:stretch/>
        </p:blipFill>
        <p:spPr>
          <a:xfrm>
            <a:off x="4788000" y="2637000"/>
            <a:ext cx="3467160" cy="20574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292720" y="3716280"/>
            <a:ext cx="2879640" cy="21744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738840" y="3645000"/>
            <a:ext cx="800280" cy="36036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ABBE-1E56-48CF-9E9F-1E2BDD72B241}" type="slidenum">
              <a:t>1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:Signature statement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This statement is used for the outside world where type is important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It is made up of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9900"/>
                </a:solidFill>
                <a:latin typeface="Arial"/>
              </a:rPr>
              <a:t>:Signature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3eb2f"/>
                </a:solidFill>
                <a:latin typeface="Arial"/>
              </a:rPr>
              <a:t>[rt←]</a:t>
            </a:r>
            <a:r>
              <a:rPr b="0" lang="en-GB" sz="2400" spc="-1" strike="noStrike">
                <a:solidFill>
                  <a:srgbClr val="ddfc2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fnname</a:t>
            </a:r>
            <a:r>
              <a:rPr b="0" lang="en-GB" sz="2400" spc="-1" strike="noStrike">
                <a:solidFill>
                  <a:srgbClr val="ddfc2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3eb2f"/>
                </a:solidFill>
                <a:latin typeface="Arial"/>
              </a:rPr>
              <a:t>[at1 [name1]   [</a:t>
            </a:r>
            <a:r>
              <a:rPr b="1" lang="en-GB" sz="2400" spc="-1" strike="noStrike">
                <a:solidFill>
                  <a:srgbClr val="03eb2f"/>
                </a:solidFill>
                <a:latin typeface="Arial"/>
              </a:rPr>
              <a:t>,</a:t>
            </a:r>
            <a:r>
              <a:rPr b="0" lang="en-GB" sz="2400" spc="-1" strike="noStrike">
                <a:solidFill>
                  <a:srgbClr val="03eb2f"/>
                </a:solidFill>
                <a:latin typeface="Arial"/>
              </a:rPr>
              <a:t>ng2   [</a:t>
            </a:r>
            <a:r>
              <a:rPr b="1" lang="en-GB" sz="2400" spc="-1" strike="noStrike">
                <a:solidFill>
                  <a:srgbClr val="03eb2f"/>
                </a:solidFill>
                <a:latin typeface="Arial"/>
              </a:rPr>
              <a:t>,</a:t>
            </a:r>
            <a:r>
              <a:rPr b="0" lang="en-GB" sz="2400" spc="-1" strike="noStrike">
                <a:solidFill>
                  <a:srgbClr val="03eb2f"/>
                </a:solidFill>
                <a:latin typeface="Arial"/>
              </a:rPr>
              <a:t>...] ] ]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3eb2f"/>
                </a:solidFill>
                <a:latin typeface="Arial"/>
              </a:rPr>
              <a:t>rt←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is the return type. If present it MUST be followed by ←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Arial"/>
              </a:rPr>
              <a:t>fnname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is the name of the function as seen from outside. It does not have to match the function name. This MUST be there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3eb2f"/>
                </a:solidFill>
                <a:latin typeface="Arial"/>
              </a:rPr>
              <a:t>at1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is the 1</a:t>
            </a:r>
            <a:r>
              <a:rPr b="0" lang="en-GB" sz="2000" spc="-1" strike="noStrike" baseline="30000">
                <a:solidFill>
                  <a:srgbClr val="080808"/>
                </a:solidFill>
                <a:latin typeface="Arial"/>
              </a:rPr>
              <a:t>st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argument type, if present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3eb2f"/>
                </a:solidFill>
                <a:latin typeface="Arial"/>
              </a:rPr>
              <a:t>name1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is the name of the 1</a:t>
            </a:r>
            <a:r>
              <a:rPr b="0" lang="en-GB" sz="2000" spc="-1" strike="noStrike" baseline="30000">
                <a:solidFill>
                  <a:srgbClr val="080808"/>
                </a:solidFill>
                <a:latin typeface="Arial"/>
              </a:rPr>
              <a:t>st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argument as seen from outside. If elided the DLL documentation will skip it and only show the typ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cc9900"/>
                </a:solidFill>
                <a:latin typeface="Arial"/>
              </a:rPr>
              <a:t>,</a:t>
            </a:r>
            <a:r>
              <a:rPr b="0" i="1" lang="en-GB" sz="2000" spc="-1" strike="noStrike">
                <a:solidFill>
                  <a:srgbClr val="03eb2f"/>
                </a:solidFill>
                <a:latin typeface="Arial"/>
              </a:rPr>
              <a:t>ng2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is the same at/name group for the 2</a:t>
            </a:r>
            <a:r>
              <a:rPr b="0" lang="en-GB" sz="2000" spc="-1" strike="noStrike" baseline="30000">
                <a:solidFill>
                  <a:srgbClr val="080808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argument. If present, the comma MUST be there as it delimits group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cc9900"/>
                </a:solidFill>
                <a:latin typeface="Arial"/>
              </a:rPr>
              <a:t>,</a:t>
            </a:r>
            <a:r>
              <a:rPr b="1" lang="en-GB" sz="2400" spc="-1" strike="noStrike">
                <a:solidFill>
                  <a:srgbClr val="03eb2f"/>
                </a:solidFill>
                <a:latin typeface="Arial"/>
              </a:rPr>
              <a:t>...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same for the other argument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2711-1537-462C-BED2-D1A6A4F45AE0}" type="slidenum">
              <a:t>1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.Net and other goodi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425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.Net for other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Here’s how a C# program would use this program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using System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using APLClasses;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     // the namespace in which our clas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469ff"/>
                </a:solidFill>
                <a:latin typeface="Arial"/>
              </a:rPr>
              <a:t>public class MainClass {</a:t>
            </a:r>
            <a:r>
              <a:rPr b="0" lang="en-GB" sz="2400" spc="-1" strike="noStrike">
                <a:solidFill>
                  <a:srgbClr val="b469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b469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b469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// is found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469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b469ff"/>
                </a:solidFill>
                <a:latin typeface="Arial"/>
              </a:rPr>
              <a:t>public static void Main() {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469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b469ff"/>
                </a:solidFill>
                <a:latin typeface="Arial"/>
              </a:rPr>
              <a:t>Primitives apl = new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 Primitives();  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// the APL clas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int[] rslt = apl.GenIndices(10);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// THE cal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b469ff"/>
                </a:solidFill>
                <a:latin typeface="Arial"/>
              </a:rPr>
              <a:t>for (int i=0;i&lt;rslt.Length;i++) Console.WriteLine(rslt[i])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469ff"/>
                </a:solidFill>
                <a:latin typeface="Arial"/>
              </a:rPr>
              <a:t>} }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2676600" y="4581360"/>
            <a:ext cx="1584360" cy="28764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6253-C06B-4873-AF24-B2F80AF57946}" type="slidenum">
              <a:t>1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.Net and other goodi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209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.Net for other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Here’s how another APL program would use this program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⎕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using←'APLclasses,c:\...\apl.dll'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pr←⎕NEW Primitive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pr.GenIndices 10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Arial"/>
              </a:rPr>
              <a:t>1 2 3 4 5 6 7 8 9 10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316160" y="4005360"/>
            <a:ext cx="1584360" cy="36036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C8A7-99D8-4405-857F-0A7168A6CBE3}" type="slidenum">
              <a:t>1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.Net and other goodi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396360" y="1517400"/>
            <a:ext cx="8496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Web services can be written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using APLScript, the scripting version of Dyalog APL, where logic is separated from page layou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 ASMX files and ASPX file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 workspaces “behind”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4AB9-7248-4167-81C4-6CBF051948F1}" type="slidenum">
              <a:t>1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000" y="1371600"/>
            <a:ext cx="835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1. Classes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A class defines the abstract characteristics of a 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thing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, akin to a blueprint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It describes a collection of 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variables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methods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(functions), possibly with a 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constructor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method that can be used to create objects of the class and a 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destructor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to remove the objects thus created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B8EA-4365-45A9-933A-8FABCBDD50F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.Net and other goodi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396360" y="1517400"/>
            <a:ext cx="8496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Example of Web services written in APLScrip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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</a:t>
            </a:r>
            <a:r>
              <a:rPr b="0" lang="en-GB" sz="2000" spc="-1" strike="noStrike">
                <a:solidFill>
                  <a:srgbClr val="9933ff"/>
                </a:solidFill>
                <a:latin typeface="APLPLUS"/>
                <a:ea typeface="APLPLUS"/>
              </a:rPr>
              <a:t></a:t>
            </a:r>
            <a:r>
              <a:rPr b="0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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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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</a:t>
            </a:r>
            <a:r>
              <a:rPr b="0" i="1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</a:t>
            </a:r>
            <a:r>
              <a:rPr b="0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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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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PLPLUS"/>
                <a:ea typeface="APLPLUS"/>
              </a:rPr>
              <a:t>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971640" y="3740040"/>
            <a:ext cx="2736720" cy="36036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4301-B4A7-4D55-A5BD-9FED992F228A}" type="slidenum">
              <a:t>1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.Net and other goodi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258560" y="1268280"/>
            <a:ext cx="698508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Example of Web services written in APLScrip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007" name="" descr=""/>
          <p:cNvPicPr/>
          <p:nvPr/>
        </p:nvPicPr>
        <p:blipFill>
          <a:blip r:embed="rId2"/>
          <a:stretch/>
        </p:blipFill>
        <p:spPr>
          <a:xfrm>
            <a:off x="2449440" y="2133720"/>
            <a:ext cx="4210200" cy="406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BA1C-F91D-48CF-92B1-55FE7D8A70DD}" type="slidenum">
              <a:t>1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.Net and other goodi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3635280" y="1484280"/>
            <a:ext cx="5112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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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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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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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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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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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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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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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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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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0808"/>
                </a:solidFill>
                <a:latin typeface="APLPLUS"/>
                <a:ea typeface="APLPLUS"/>
              </a:rPr>
              <a:t>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316480" y="4869000"/>
            <a:ext cx="934920" cy="28872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780000" y="1900080"/>
            <a:ext cx="863280" cy="289080"/>
          </a:xfrm>
          <a:prstGeom prst="rect">
            <a:avLst/>
          </a:prstGeom>
          <a:solidFill>
            <a:srgbClr val="ddfc20">
              <a:alpha val="43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447840" y="15476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376920" y="16686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With ASPX files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4932360" y="4292640"/>
            <a:ext cx="1079640" cy="431640"/>
          </a:xfrm>
          <a:prstGeom prst="rect">
            <a:avLst/>
          </a:prstGeom>
          <a:solidFill>
            <a:srgbClr val="fbcdff">
              <a:alpha val="43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179280" y="2492280"/>
            <a:ext cx="3355920" cy="1482840"/>
            <a:chOff x="179280" y="2492280"/>
            <a:chExt cx="3355920" cy="1482840"/>
          </a:xfrm>
        </p:grpSpPr>
        <p:pic>
          <p:nvPicPr>
            <p:cNvPr id="1016" name="" descr=""/>
            <p:cNvPicPr/>
            <p:nvPr/>
          </p:nvPicPr>
          <p:blipFill>
            <a:blip r:embed="rId2"/>
            <a:stretch/>
          </p:blipFill>
          <p:spPr>
            <a:xfrm>
              <a:off x="179280" y="2492280"/>
              <a:ext cx="3355920" cy="14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7" name=""/>
            <p:cNvSpPr/>
            <p:nvPr/>
          </p:nvSpPr>
          <p:spPr>
            <a:xfrm>
              <a:off x="250920" y="3421080"/>
              <a:ext cx="792000" cy="287280"/>
            </a:xfrm>
            <a:prstGeom prst="rect">
              <a:avLst/>
            </a:prstGeom>
            <a:solidFill>
              <a:srgbClr val="fbcdff">
                <a:alpha val="43000"/>
              </a:srgbClr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179280" y="4149720"/>
            <a:ext cx="3355920" cy="1482840"/>
            <a:chOff x="179280" y="4149720"/>
            <a:chExt cx="3355920" cy="1482840"/>
          </a:xfrm>
        </p:grpSpPr>
        <p:pic>
          <p:nvPicPr>
            <p:cNvPr id="1019" name="" descr=""/>
            <p:cNvPicPr/>
            <p:nvPr/>
          </p:nvPicPr>
          <p:blipFill>
            <a:blip r:embed="rId3"/>
            <a:stretch/>
          </p:blipFill>
          <p:spPr>
            <a:xfrm>
              <a:off x="179280" y="4149720"/>
              <a:ext cx="3355920" cy="14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0" name=""/>
            <p:cNvSpPr/>
            <p:nvPr/>
          </p:nvSpPr>
          <p:spPr>
            <a:xfrm>
              <a:off x="250920" y="5076720"/>
              <a:ext cx="792000" cy="289080"/>
            </a:xfrm>
            <a:prstGeom prst="rect">
              <a:avLst/>
            </a:prstGeom>
            <a:solidFill>
              <a:srgbClr val="fbcdff">
                <a:alpha val="43000"/>
              </a:srgbClr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80FC-B63C-4A33-BF10-89163A71F6A8}" type="slidenum">
              <a:t>1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:Using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: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Using vs ⎕USING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:</a:t>
            </a:r>
            <a:r>
              <a:rPr b="0" i="1" lang="en-GB" sz="3200" spc="-1" strike="noStrike">
                <a:solidFill>
                  <a:srgbClr val="080808"/>
                </a:solidFill>
                <a:latin typeface="Arial"/>
              </a:rPr>
              <a:t>Using X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is akin to ⎕USING,←X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t appends X to ⎕USING except when no argument is supplied where it means “</a:t>
            </a:r>
            <a:r>
              <a:rPr b="0" lang="en-GB" sz="3200" spc="-1" strike="noStrike">
                <a:solidFill>
                  <a:srgbClr val="080808"/>
                </a:solidFill>
                <a:latin typeface="APL385 Unicode"/>
              </a:rPr>
              <a:t>←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0⍴⊂⍬”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 a script/class it is necessary to determine the base class/interface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77AD-0E81-460D-9987-CE4DD49EC7CC}" type="slidenum">
              <a:t>1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Namespaces in script form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024" name=""/>
          <p:cNvSpPr/>
          <p:nvPr/>
        </p:nvSpPr>
        <p:spPr>
          <a:xfrm>
            <a:off x="324000" y="1989000"/>
            <a:ext cx="4555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)ed ⍟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name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will edit a new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name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using the same source format as classes and interfaces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source can then be retrieved using ⎕SRC and fixed using ⎕FIX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025" name="" descr=""/>
          <p:cNvPicPr/>
          <p:nvPr/>
        </p:nvPicPr>
        <p:blipFill>
          <a:blip r:embed="rId2"/>
          <a:stretch/>
        </p:blipFill>
        <p:spPr>
          <a:xfrm>
            <a:off x="4859280" y="2565360"/>
            <a:ext cx="3960720" cy="2852640"/>
          </a:xfrm>
          <a:prstGeom prst="rect">
            <a:avLst/>
          </a:prstGeom>
          <a:ln w="0">
            <a:noFill/>
          </a:ln>
        </p:spPr>
      </p:pic>
      <p:sp>
        <p:nvSpPr>
          <p:cNvPr id="1026" name=""/>
          <p:cNvSpPr/>
          <p:nvPr/>
        </p:nvSpPr>
        <p:spPr>
          <a:xfrm>
            <a:off x="322920" y="1341360"/>
            <a:ext cx="629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Namespaces can have a sourc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2CEA-9194-4F21-8FA3-6D588BC3300C}" type="slidenum">
              <a:t>1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verloading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Primitives cannot be overloaded by APL classes but some .Net classes are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Ex: DateTime objects can be compared using =, &gt;, etc. sorted using ‘grade up’ or added to TimeSpans using +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using←'System'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d1←⎕new DateTime ⎕t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d2←⎕new DateTime (2006 10 16)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t1←⎕new TimeSpan (7 2 0 0) ⍝ 7 days, 2 hour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+d3←d1-t1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2006/10/03 17:12:01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d1&lt;d2,d3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1 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3494-645C-45B0-B098-22AB60F810B0}" type="slidenum">
              <a:t>1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/>
          </p:nvPr>
        </p:nvSpPr>
        <p:spPr>
          <a:xfrm>
            <a:off x="395280" y="1371600"/>
            <a:ext cx="856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re are many advantages to using OO languages over procedural languages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ease of modification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reduced maintenance cost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easier to mod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can speed up development tim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clusion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BCB0-C0C8-42D6-A931-60149C2E6151}" type="slidenum">
              <a:t>1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/>
          </p:nvPr>
        </p:nvSpPr>
        <p:spPr>
          <a:xfrm>
            <a:off x="395280" y="1371600"/>
            <a:ext cx="8569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OO languages make abstraction easy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ey encourage architectures with elaborate layers.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ey can be good when the problem domain is truly complex and demands a lot of abstraction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onclusion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0AC2-D273-44E6-A3EA-7DF99B7BD8E3}" type="slidenum">
              <a:t>1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458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All OO languages show some tendency to suck programmers into the trap of excessive layering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Object frameworks and object browsers are not a substitute for good design or documentation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areful!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301F-31C9-45F3-B103-4F0D43A8962E}" type="slidenum">
              <a:t>1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4582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oo many layers destroy transparency: It becomes too difficult to see down through them and mentally model what the code is actually doing.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e Rules of Simplicity, Clarity, and Transparency can get violated wholesale, and the result is code full of obscure bugs and continuing maintenance problem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areful!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0241-FA2E-4592-8019-151580B5EDF7}" type="slidenum">
              <a:t>1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000" y="1371600"/>
            <a:ext cx="835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class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80808"/>
                </a:solidFill>
                <a:uFillTx/>
                <a:latin typeface="Arial"/>
              </a:rPr>
              <a:t>can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implement one or more </a:t>
            </a:r>
            <a:r>
              <a:rPr b="0" i="1" lang="en-US" sz="3200" spc="-1" strike="noStrike">
                <a:solidFill>
                  <a:srgbClr val="cc9900"/>
                </a:solidFill>
                <a:latin typeface="Arial"/>
              </a:rPr>
              <a:t>interfaces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An 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interface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describes 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what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it should do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0" i="1" lang="en-GB" sz="3200" spc="-1" strike="noStrike">
                <a:solidFill>
                  <a:srgbClr val="080808"/>
                </a:solidFill>
                <a:latin typeface="Arial"/>
              </a:rPr>
              <a:t>clas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describes 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how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it should be don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f a class implements an interface it should do it completely, no partial implementation is allowed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4427-9036-4E4E-AD8D-6EE40535FAE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/>
          </p:nvPr>
        </p:nvSpPr>
        <p:spPr>
          <a:xfrm>
            <a:off x="3059280" y="3213000"/>
            <a:ext cx="3457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Buyer beware!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Careful!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FF00-47DB-4DDF-8E09-78E133140790}" type="slidenum">
              <a:t>1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nterfaces - exampl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79280" y="1373040"/>
            <a:ext cx="8785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following 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maneuvering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interface describes what </a:t>
            </a:r>
            <a:r>
              <a:rPr b="0" lang="en-GB" sz="3200" spc="-1" strike="noStrike" u="sng">
                <a:solidFill>
                  <a:srgbClr val="080808"/>
                </a:solidFill>
                <a:uFillTx/>
                <a:latin typeface="Arial"/>
              </a:rPr>
              <a:t>ha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to be done with a machine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Method Steer (direction); // where to go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Method Accellerate (power); // go faster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Method SlowDown (strength); // go slower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t does NOT specify 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how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it should be don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08F7-B475-46C3-B0BF-3A2C017F049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5943600" y="1557360"/>
            <a:ext cx="3205080" cy="42498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nterfaces - exampl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8000" y="1196640"/>
            <a:ext cx="820728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is 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car 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object implements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 maneuvering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9280" y="1874880"/>
            <a:ext cx="6264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Class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car : maneuvering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ethod SteeringWheel: implement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aneuvering.Steer (turn)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ethod GasPedal: implement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aneuvering.Accellerate (push)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ethod BreakPedal: implement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aneuvering.SlowDown (hit)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EDFF-1E52-42F2-8D89-0CCD249B951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ntroduction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000" y="2997000"/>
            <a:ext cx="8134200" cy="31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teroperability &amp; 64 bit O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New WS managemen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New primitives &amp; enhancements to other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Object Orientation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47640" y="1557360"/>
            <a:ext cx="52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V11 has been released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Here are the major features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9589-9DA2-43AC-8E33-0EFA5D212F8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722920" y="1773360"/>
            <a:ext cx="3421080" cy="40320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nterfaces - exampl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853308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is 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plane 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object implements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 maneuvering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1892160"/>
            <a:ext cx="7867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Class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plane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: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maneuvering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ethod Stick: implements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aneuvering.Steer (move)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ethod Handle: implements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aneuvering.Accellerate (pushpull)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ethod Flaps: implements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aneuvering.SlowDown (degree);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EBA1-DC55-4253-B5C2-31C7B5FE21A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7989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2. Instances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ose are tangible objects created from a specific clas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Upon creation any specific action is carried out by the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constructor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of the class if need b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Upon destruction, the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destructor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is responsible for cleaning up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36EE-73AD-43D5-BDBF-E257A5E0344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24000" y="13716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3. Members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s is the code and the data of a clas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code is divided into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Method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(functions) and data is divided into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Field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(variables)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re are also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ropertie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which are Fields implemented via functions to read/set them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All these are visible from outside when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ublic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or invisible from outside if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rivate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D0F5-8A7E-4C70-8141-C1E0C47ECDD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7989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Members: Methods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ose can either reside in the class (</a:t>
            </a:r>
            <a:r>
              <a:rPr b="0" i="1" lang="en-US" sz="3200" spc="-1" strike="noStrike">
                <a:solidFill>
                  <a:srgbClr val="cc9900"/>
                </a:solidFill>
                <a:latin typeface="Arial"/>
              </a:rPr>
              <a:t>shared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method) or in the instance (</a:t>
            </a:r>
            <a:r>
              <a:rPr b="0" i="1" lang="en-US" sz="3200" spc="-1" strike="noStrike">
                <a:solidFill>
                  <a:srgbClr val="cc9900"/>
                </a:solidFill>
                <a:latin typeface="Arial"/>
              </a:rPr>
              <a:t>instance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method)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re are also </a:t>
            </a:r>
            <a:r>
              <a:rPr b="0" i="1" lang="en-GB" sz="3200" spc="-1" strike="noStrike">
                <a:solidFill>
                  <a:srgbClr val="080808"/>
                </a:solidFill>
                <a:latin typeface="Arial"/>
              </a:rPr>
              <a:t>abstract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methods (e.g. in interfaces) with no code, only calling syntax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80808"/>
                </a:solidFill>
                <a:latin typeface="Arial"/>
              </a:rPr>
              <a:t>Constructor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and </a:t>
            </a:r>
            <a:r>
              <a:rPr b="0" i="1" lang="en-GB" sz="3200" spc="-1" strike="noStrike">
                <a:solidFill>
                  <a:srgbClr val="080808"/>
                </a:solidFill>
                <a:latin typeface="Arial"/>
              </a:rPr>
              <a:t>destructor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are method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53EA-4D0F-4557-ACB0-F86168774FB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7989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Members: Fields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ose can either reside in the class (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shared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field) or in the instance (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instance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field)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y can also be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read only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D9F3-C4E9-451B-A2EE-0EEBE864EDD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7989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Members: Properties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ose are 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Fields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mplemented by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access</a:t>
            </a:r>
            <a:r>
              <a:rPr b="0" i="1" lang="en-GB" sz="3200" spc="-1" strike="noStrike">
                <a:solidFill>
                  <a:srgbClr val="080808"/>
                </a:solidFill>
                <a:latin typeface="Arial"/>
              </a:rPr>
              <a:t>ing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methods, i.e.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PL385 Unicode"/>
              </a:rPr>
              <a:t> </a:t>
            </a:r>
            <a:r>
              <a:rPr b="0" lang="en-GB" sz="3200" spc="-1" strike="noStrike">
                <a:solidFill>
                  <a:srgbClr val="080808"/>
                </a:solidFill>
                <a:latin typeface="APL385 Unicode"/>
              </a:rPr>
              <a:t>PropX</a:t>
            </a:r>
            <a:r>
              <a:rPr b="0" lang="en-GB" sz="2800" spc="-1" strike="noStrike">
                <a:solidFill>
                  <a:srgbClr val="080808"/>
                </a:solidFill>
                <a:latin typeface="APL385 Unicode"/>
              </a:rPr>
              <a:t>←</a:t>
            </a:r>
            <a:r>
              <a:rPr b="0" lang="fr-CA" sz="2800" spc="-1" strike="noStrike">
                <a:solidFill>
                  <a:srgbClr val="080808"/>
                </a:solidFill>
                <a:latin typeface="APL385 Unicode"/>
              </a:rPr>
              <a:t>value </a:t>
            </a:r>
            <a:r>
              <a:rPr b="0" lang="fr-CA" sz="2800" spc="-1" strike="noStrike">
                <a:solidFill>
                  <a:srgbClr val="080808"/>
                </a:solidFill>
                <a:latin typeface="APL385 Unicode"/>
              </a:rPr>
              <a:t>	</a:t>
            </a:r>
            <a:r>
              <a:rPr b="0" lang="fr-CA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80808"/>
                </a:solidFill>
                <a:latin typeface="Arial"/>
              </a:rPr>
              <a:t>is implemented by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80808"/>
                </a:solidFill>
                <a:latin typeface="APL385 Unicode"/>
              </a:rPr>
              <a:t> </a:t>
            </a:r>
            <a:r>
              <a:rPr b="0" lang="fr-CA" sz="2800" spc="-1" strike="noStrike">
                <a:solidFill>
                  <a:srgbClr val="080808"/>
                </a:solidFill>
                <a:latin typeface="APL385 Unicode"/>
              </a:rPr>
              <a:t>SET valu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ey can either reside in the class (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shared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property) or in the instance (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instance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property)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F30F-B3AC-4BE2-B6CF-FE78411F4F3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24000" y="13716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4. Message passing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s is the (usually asynchronous) sending (often by copy) of a data item to a communication endpoint (process, thread, socket, 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etc.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 procedural languages it corresponds to a call made to a routin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1544-56F7-4567-8AF0-B075A0BC9FB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24000" y="13716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5. Inheritance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This is a way to avoid rewriting code by writing general classes and classes that </a:t>
            </a:r>
            <a:r>
              <a:rPr b="0" i="1" lang="fr-CA" sz="3200" spc="-1" strike="noStrike">
                <a:solidFill>
                  <a:srgbClr val="080808"/>
                </a:solidFill>
                <a:latin typeface="Arial"/>
              </a:rPr>
              <a:t>derive</a:t>
            </a: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 from them and </a:t>
            </a:r>
            <a:r>
              <a:rPr b="0" i="1" lang="fr-CA" sz="3200" spc="-1" strike="noStrike">
                <a:solidFill>
                  <a:srgbClr val="080808"/>
                </a:solidFill>
                <a:latin typeface="Arial"/>
              </a:rPr>
              <a:t>inherit</a:t>
            </a: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 their </a:t>
            </a:r>
            <a:r>
              <a:rPr b="0" i="1" lang="fr-CA" sz="3200" spc="-1" strike="noStrike">
                <a:solidFill>
                  <a:srgbClr val="080808"/>
                </a:solidFill>
                <a:latin typeface="Arial"/>
              </a:rPr>
              <a:t>members</a:t>
            </a: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This helps achieve </a:t>
            </a:r>
            <a:r>
              <a:rPr b="0" i="1" lang="fr-CA" sz="3200" spc="-1" strike="noStrike">
                <a:solidFill>
                  <a:srgbClr val="080808"/>
                </a:solidFill>
                <a:latin typeface="Arial"/>
              </a:rPr>
              <a:t>reusability, </a:t>
            </a: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a cornerstone of OO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E7C1-A3B1-4FFA-B65A-732C824A7AB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24000" y="13716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Inheritance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We say that a (</a:t>
            </a:r>
            <a:r>
              <a:rPr b="0" i="1" lang="fr-CA" sz="3200" spc="-1" strike="noStrike">
                <a:solidFill>
                  <a:srgbClr val="080808"/>
                </a:solidFill>
                <a:latin typeface="Arial"/>
              </a:rPr>
              <a:t>derived)</a:t>
            </a: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 class is </a:t>
            </a:r>
            <a:r>
              <a:rPr b="0" i="1" lang="fr-CA" sz="3200" spc="-1" strike="noStrike">
                <a:solidFill>
                  <a:srgbClr val="cc9900"/>
                </a:solidFill>
                <a:latin typeface="Arial"/>
              </a:rPr>
              <a:t>based</a:t>
            </a: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 on another on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080808"/>
                </a:solidFill>
                <a:latin typeface="Arial"/>
              </a:rPr>
              <a:t>All</a:t>
            </a: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 classes (but one) are derived from another one or by </a:t>
            </a:r>
            <a:r>
              <a:rPr b="0" i="1" lang="fr-CA" sz="3200" spc="-1" strike="noStrike">
                <a:solidFill>
                  <a:srgbClr val="080808"/>
                </a:solidFill>
                <a:latin typeface="Arial"/>
              </a:rPr>
              <a:t>System.Object</a:t>
            </a: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 (the default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DA12-79EF-4FDC-A81E-44D5B5CF290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820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Inheritance: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Based classes (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reusability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 </a:t>
            </a:r>
            <a:r>
              <a:rPr b="0" lang="en-GB" sz="2800" spc="-1" strike="noStrike">
                <a:solidFill>
                  <a:srgbClr val="00ccff"/>
                </a:solidFill>
                <a:latin typeface="Arial"/>
              </a:rPr>
              <a:t>class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can be based on another based class. See </a:t>
            </a:r>
            <a:r>
              <a:rPr b="0" lang="en-GB" sz="2800" spc="-1" strike="noStrike">
                <a:solidFill>
                  <a:srgbClr val="00ccff"/>
                </a:solidFill>
                <a:latin typeface="Arial"/>
              </a:rPr>
              <a:t>class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Collie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based on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Dog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based on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Anima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4360" y="4221000"/>
            <a:ext cx="158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Anima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71640" y="342900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Dog: Anima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48360" y="501156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Rex (Collie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71640" y="479736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Fish: Anima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948360" y="386064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Fido (Collie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9280" y="314172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Big Dane: Dog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59280" y="450864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Collie: Dog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270" name=""/>
          <p:cNvCxnSpPr>
            <a:stCxn id="263" idx="3"/>
            <a:endCxn id="264" idx="1"/>
          </p:cNvCxnSpPr>
          <p:nvPr/>
        </p:nvCxnSpPr>
        <p:spPr>
          <a:xfrm flipV="1">
            <a:off x="2268360" y="3933000"/>
            <a:ext cx="504000" cy="79308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271" name=""/>
          <p:cNvCxnSpPr>
            <a:stCxn id="263" idx="3"/>
            <a:endCxn id="266" idx="1"/>
          </p:cNvCxnSpPr>
          <p:nvPr/>
        </p:nvCxnSpPr>
        <p:spPr>
          <a:xfrm>
            <a:off x="2268360" y="4726080"/>
            <a:ext cx="504000" cy="57636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272" name=""/>
          <p:cNvCxnSpPr>
            <a:stCxn id="264" idx="3"/>
            <a:endCxn id="268" idx="1"/>
          </p:cNvCxnSpPr>
          <p:nvPr/>
        </p:nvCxnSpPr>
        <p:spPr>
          <a:xfrm flipV="1">
            <a:off x="4356000" y="3646080"/>
            <a:ext cx="504000" cy="28800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64" idx="3"/>
            <a:endCxn id="269" idx="1"/>
          </p:cNvCxnSpPr>
          <p:nvPr/>
        </p:nvCxnSpPr>
        <p:spPr>
          <a:xfrm>
            <a:off x="4356000" y="3933360"/>
            <a:ext cx="504000" cy="108036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69" idx="3"/>
            <a:endCxn id="267" idx="1"/>
          </p:cNvCxnSpPr>
          <p:nvPr/>
        </p:nvCxnSpPr>
        <p:spPr>
          <a:xfrm flipV="1">
            <a:off x="6443640" y="4365000"/>
            <a:ext cx="505440" cy="64836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275" name=""/>
          <p:cNvCxnSpPr>
            <a:stCxn id="269" idx="3"/>
            <a:endCxn id="265" idx="1"/>
          </p:cNvCxnSpPr>
          <p:nvPr/>
        </p:nvCxnSpPr>
        <p:spPr>
          <a:xfrm>
            <a:off x="6443640" y="5013360"/>
            <a:ext cx="505440" cy="50400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sp>
        <p:nvSpPr>
          <p:cNvPr id="276" name=""/>
          <p:cNvSpPr/>
          <p:nvPr/>
        </p:nvSpPr>
        <p:spPr>
          <a:xfrm>
            <a:off x="7021800" y="340344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bfd87"/>
                </a:solidFill>
                <a:latin typeface="Arial"/>
              </a:rPr>
              <a:t>Instance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051000" y="440064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Arial"/>
              </a:rPr>
              <a:t>Classe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9280" y="4724280"/>
            <a:ext cx="505080" cy="0"/>
          </a:xfrm>
          <a:prstGeom prst="line">
            <a:avLst/>
          </a:prstGeom>
          <a:ln w="9360">
            <a:solidFill>
              <a:srgbClr val="08080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0431-B6C5-418E-9083-0E286CAF6BE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790082"/>
                </a:solidFill>
                <a:latin typeface="Arial Black"/>
              </a:rPr>
              <a:t>This talk is based on 2 things:</a:t>
            </a:r>
            <a:endParaRPr b="0" lang="en-US" sz="36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99640" y="2852640"/>
            <a:ext cx="777564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80808"/>
                </a:solidFill>
                <a:latin typeface="Arial"/>
              </a:rPr>
              <a:t>Why? Why should I know about this? Why am I here?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80808"/>
                </a:solidFill>
                <a:latin typeface="Arial"/>
              </a:rPr>
              <a:t>OK, I’m still here, how do I use it?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1557360"/>
            <a:ext cx="8136000" cy="934920"/>
          </a:xfrm>
          <a:prstGeom prst="rect">
            <a:avLst/>
          </a:prstGeom>
          <a:noFill/>
          <a:ln w="572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90B2-B4EE-47DB-A0A0-500952FAE3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4000" y="13716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Inheritance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When an </a:t>
            </a:r>
            <a:r>
              <a:rPr b="0" i="1" lang="fr-CA" sz="3200" spc="-1" strike="noStrike">
                <a:solidFill>
                  <a:srgbClr val="cc9900"/>
                </a:solidFill>
                <a:latin typeface="Arial"/>
              </a:rPr>
              <a:t>instance</a:t>
            </a: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 is created from a class </a:t>
            </a:r>
            <a:r>
              <a:rPr b="0" i="1" lang="fr-CA" sz="3200" spc="-1" strike="noStrike">
                <a:solidFill>
                  <a:srgbClr val="cc9900"/>
                </a:solidFill>
                <a:latin typeface="Arial"/>
              </a:rPr>
              <a:t>based</a:t>
            </a: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 on another one it inherits all its members automatically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Members can be redefined but subroutines must be specifically set to </a:t>
            </a:r>
            <a:r>
              <a:rPr b="0" i="1" lang="fr-CA" sz="3200" spc="-1" strike="noStrike">
                <a:solidFill>
                  <a:srgbClr val="cc9900"/>
                </a:solidFill>
                <a:latin typeface="Arial"/>
              </a:rPr>
              <a:t>override</a:t>
            </a:r>
            <a:r>
              <a:rPr b="0" lang="fr-CA" sz="3200" spc="-1" strike="noStrike">
                <a:solidFill>
                  <a:srgbClr val="080808"/>
                </a:solidFill>
                <a:latin typeface="Arial"/>
              </a:rPr>
              <a:t> base class subroutine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7D13-651F-41D6-AA4E-BD409E0B553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820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Inheritance: 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multiple inheritanc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A </a:t>
            </a:r>
            <a:r>
              <a:rPr b="0" lang="en-GB" sz="3200" spc="-1" strike="noStrike">
                <a:solidFill>
                  <a:srgbClr val="00ccff"/>
                </a:solidFill>
                <a:latin typeface="Arial"/>
              </a:rPr>
              <a:t>clas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can be based on several other classes. See </a:t>
            </a:r>
            <a:r>
              <a:rPr b="0" lang="en-GB" sz="3200" spc="-1" strike="noStrike">
                <a:solidFill>
                  <a:srgbClr val="00ccff"/>
                </a:solidFill>
                <a:latin typeface="Arial"/>
              </a:rPr>
              <a:t>class 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Mule made out of 2 different classe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1640" y="314172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Hors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71640" y="450864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Donke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285" name=""/>
          <p:cNvCxnSpPr>
            <a:stCxn id="284" idx="3"/>
            <a:endCxn id="286" idx="1"/>
          </p:cNvCxnSpPr>
          <p:nvPr/>
        </p:nvCxnSpPr>
        <p:spPr>
          <a:xfrm flipV="1">
            <a:off x="4356000" y="4438440"/>
            <a:ext cx="721440" cy="57528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83" idx="3"/>
            <a:endCxn id="286" idx="1"/>
          </p:cNvCxnSpPr>
          <p:nvPr/>
        </p:nvCxnSpPr>
        <p:spPr>
          <a:xfrm>
            <a:off x="4356000" y="3646080"/>
            <a:ext cx="721440" cy="79308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sp>
        <p:nvSpPr>
          <p:cNvPr id="286" name=""/>
          <p:cNvSpPr/>
          <p:nvPr/>
        </p:nvSpPr>
        <p:spPr>
          <a:xfrm>
            <a:off x="5076720" y="393372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ul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668A-2BA8-4E2D-BAE4-B038DA80B96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verride concept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289" name=""/>
          <p:cNvSpPr/>
          <p:nvPr/>
        </p:nvSpPr>
        <p:spPr>
          <a:xfrm>
            <a:off x="1117800" y="4460760"/>
            <a:ext cx="242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// 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NEW A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65800" y="4437000"/>
            <a:ext cx="242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// 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NEW B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788000" y="2181240"/>
            <a:ext cx="129672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299280" y="290196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722920" y="3117960"/>
            <a:ext cx="79236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35640" y="2757600"/>
            <a:ext cx="0" cy="287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5506920" y="3478320"/>
            <a:ext cx="936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435640" y="3478320"/>
            <a:ext cx="0" cy="431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70160" y="14112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B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042920" y="5013360"/>
            <a:ext cx="93528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292720" y="5013360"/>
            <a:ext cx="93492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5CA6-B6EC-40C5-87CD-46D418226863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Based class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08" name=""/>
          <p:cNvSpPr/>
          <p:nvPr/>
        </p:nvSpPr>
        <p:spPr>
          <a:xfrm>
            <a:off x="1117800" y="4460760"/>
            <a:ext cx="242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// 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NEW A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365800" y="4437000"/>
            <a:ext cx="242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// 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NEW B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292720" y="202716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There is no M1 in 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o A’s (on which B is based) M1 is use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651640" y="2962440"/>
            <a:ext cx="129672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B: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042920" y="5013360"/>
            <a:ext cx="93528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292720" y="5013360"/>
            <a:ext cx="93492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F531-063F-4766-8365-2B26F603D72B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Based class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26" name="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547640" y="2781360"/>
            <a:ext cx="0" cy="287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619280" y="3502080"/>
            <a:ext cx="936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547640" y="2060640"/>
            <a:ext cx="0" cy="360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92720" y="200808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There is no M1 in 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o A’s (on which B is based) M1 is use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580000" y="2924280"/>
            <a:ext cx="15112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: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Overrid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B: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117800" y="4460760"/>
            <a:ext cx="242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// 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NEW A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65800" y="4437000"/>
            <a:ext cx="242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// 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NEW B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042920" y="5013360"/>
            <a:ext cx="93528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292720" y="5013360"/>
            <a:ext cx="93492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055600" y="5589720"/>
            <a:ext cx="381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A:M2 does not allow to be overriden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9BFA-33B2-4A1B-838A-BF65174CEEDA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5580000" y="2924280"/>
            <a:ext cx="15112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: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Overrid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B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Based class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46" name=""/>
          <p:cNvSpPr/>
          <p:nvPr/>
        </p:nvSpPr>
        <p:spPr>
          <a:xfrm>
            <a:off x="900000" y="2205000"/>
            <a:ext cx="1297080" cy="1655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Overridabl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411280" y="2925720"/>
            <a:ext cx="1297080" cy="720720"/>
          </a:xfrm>
          <a:prstGeom prst="flowChartProcess">
            <a:avLst/>
          </a:prstGeom>
          <a:solidFill>
            <a:srgbClr val="bbe0e3">
              <a:alpha val="36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I am A’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835280" y="3141720"/>
            <a:ext cx="374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547640" y="2637000"/>
            <a:ext cx="0" cy="287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547640" y="3502080"/>
            <a:ext cx="0" cy="431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890360" y="14320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510520" y="14130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B: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547640" y="2060640"/>
            <a:ext cx="482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547640" y="2060640"/>
            <a:ext cx="0" cy="21600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47640" y="3933720"/>
            <a:ext cx="4824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272200" y="2027160"/>
            <a:ext cx="232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There is no M1 in 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o A’s (on which B is based) M1 is use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547280" y="3500280"/>
            <a:ext cx="424836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117800" y="4460760"/>
            <a:ext cx="242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// 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NEW A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65800" y="4437000"/>
            <a:ext cx="242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// 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NEW B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042920" y="5013360"/>
            <a:ext cx="93528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292720" y="5013360"/>
            <a:ext cx="934920" cy="360360"/>
          </a:xfrm>
          <a:prstGeom prst="rect">
            <a:avLst/>
          </a:prstGeom>
          <a:solidFill>
            <a:srgbClr val="ffff33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481400" y="5589720"/>
            <a:ext cx="61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A:M2 does allow to be overriden AND B wants to override i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207A-A868-4978-9479-D6E46898855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632720" cy="45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6. Encapsulation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Hides the underlying functionality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It conceals the exact details of how a particular class works from objects (external or internal) that use its cod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is allows to modify 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e internal implementation of a class without requiring changes to its services (i.e. methods).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2480-0C31-41E3-BA11-66E1ACBEAFB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Example: a car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Consider a car: the functionality is hidden, it is encapsulated, you don’t see all the wiring inside, you’re only given specific controls to manipulate the car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2195640" y="3284640"/>
            <a:ext cx="4608360" cy="307332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3"/>
          <a:stretch/>
        </p:blipFill>
        <p:spPr>
          <a:xfrm>
            <a:off x="2077920" y="3068640"/>
            <a:ext cx="4799160" cy="351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BDAF-6721-423D-84A8-7A6C1C95D2E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Encapsulation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o allow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acces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to a member there are various level definition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For example, to expose a member you must use some syntax that will declare it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ublic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By default,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rivate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is the norm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963C-650E-4F43-81B6-16473315ED8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908000" y="4221000"/>
            <a:ext cx="4969080" cy="1872000"/>
          </a:xfrm>
          <a:prstGeom prst="ellipse">
            <a:avLst/>
          </a:prstGeom>
          <a:solidFill>
            <a:srgbClr val="790082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24000" y="13716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Encapsulation: private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A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rivate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member cannot be seen from anywhere. Only other Methods can access it from inside the class if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rivate shared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or from within the instance if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rivate instance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348000" y="4581360"/>
            <a:ext cx="2016000" cy="1079640"/>
          </a:xfrm>
          <a:prstGeom prst="rect">
            <a:avLst/>
          </a:prstGeom>
          <a:solidFill>
            <a:srgbClr val="dddddd"/>
          </a:solidFill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 is onl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een in th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pale are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572000" y="4724280"/>
            <a:ext cx="647640" cy="287280"/>
          </a:xfrm>
          <a:prstGeom prst="rect">
            <a:avLst/>
          </a:prstGeom>
          <a:solidFill>
            <a:srgbClr val="790082"/>
          </a:solidFill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ub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0" y="5229360"/>
            <a:ext cx="647640" cy="287280"/>
          </a:xfrm>
          <a:prstGeom prst="rect">
            <a:avLst/>
          </a:prstGeom>
          <a:solidFill>
            <a:srgbClr val="790082"/>
          </a:solidFill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ub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C294-FA75-4EBD-8413-EF1F8E1D269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Synopsi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32000" y="1413000"/>
            <a:ext cx="6408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54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Why should I be here?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54120" indent="-65412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Reason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5412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How do I use this?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54120" indent="-65412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History of OO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54120" indent="-65412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Definition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54120" indent="-65412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APL way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54120" indent="-65412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mplementation detail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54120" indent="0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Real Life Example (SJT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6FE7-1660-4115-A5F2-5FAF8FF357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24000" y="13716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Encapsulation: protected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A </a:t>
            </a:r>
            <a:r>
              <a:rPr b="0" i="1" lang="en-GB" sz="3200" spc="-1" strike="noStrike">
                <a:solidFill>
                  <a:srgbClr val="080808"/>
                </a:solidFill>
                <a:latin typeface="Arial"/>
              </a:rPr>
              <a:t>protected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member can only be seen from within the instance of from within instances within it.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908000" y="4221000"/>
            <a:ext cx="4969080" cy="1872000"/>
          </a:xfrm>
          <a:prstGeom prst="ellipse">
            <a:avLst/>
          </a:prstGeom>
          <a:solidFill>
            <a:srgbClr val="790082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348000" y="4581360"/>
            <a:ext cx="2016000" cy="1079640"/>
          </a:xfrm>
          <a:prstGeom prst="rect">
            <a:avLst/>
          </a:prstGeom>
          <a:solidFill>
            <a:srgbClr val="dddddd"/>
          </a:solidFill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 is only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een in th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pale are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0" y="4724280"/>
            <a:ext cx="647640" cy="287280"/>
          </a:xfrm>
          <a:prstGeom prst="rect">
            <a:avLst/>
          </a:prstGeom>
          <a:solidFill>
            <a:srgbClr val="dddddd"/>
          </a:solidFill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ub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0" y="5229360"/>
            <a:ext cx="647640" cy="287280"/>
          </a:xfrm>
          <a:prstGeom prst="rect">
            <a:avLst/>
          </a:prstGeom>
          <a:solidFill>
            <a:srgbClr val="dddddd"/>
          </a:solidFill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ub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0966-4A43-4FFC-A232-F98C1164193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24000" y="13716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Encapsulation: public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A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ublic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member can be seen from anywhere. All Methods can access it from anywhere whether it is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ublic shared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or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ublic instance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08000" y="4221000"/>
            <a:ext cx="4969080" cy="18720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348000" y="4581360"/>
            <a:ext cx="2016000" cy="1079640"/>
          </a:xfrm>
          <a:prstGeom prst="rect">
            <a:avLst/>
          </a:prstGeom>
          <a:solidFill>
            <a:srgbClr val="dddddd"/>
          </a:solidFill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 is seen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n all the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pale are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572000" y="4724280"/>
            <a:ext cx="647640" cy="287280"/>
          </a:xfrm>
          <a:prstGeom prst="rect">
            <a:avLst/>
          </a:prstGeom>
          <a:solidFill>
            <a:srgbClr val="dddddd"/>
          </a:solidFill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ub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0" y="5229360"/>
            <a:ext cx="647640" cy="287280"/>
          </a:xfrm>
          <a:prstGeom prst="rect">
            <a:avLst/>
          </a:prstGeom>
          <a:solidFill>
            <a:srgbClr val="dddddd"/>
          </a:solidFill>
          <a:ln w="1908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ub2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E337-BBA2-468D-B23B-D7417987CB4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24000" y="13716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Encapsulation: friend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A class declared </a:t>
            </a:r>
            <a:r>
              <a:rPr b="0" i="1" lang="en-GB" sz="3200" spc="-1" strike="noStrike">
                <a:solidFill>
                  <a:srgbClr val="080808"/>
                </a:solidFill>
                <a:latin typeface="Arial"/>
              </a:rPr>
              <a:t>friend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can see the offerer’s private and public member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508720" y="3718080"/>
            <a:ext cx="2160360" cy="1726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Private Pv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Public Pu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Friend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90360" y="30891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A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870160" y="306864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lass B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547640" y="3716280"/>
            <a:ext cx="2160720" cy="93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Private Av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Public Au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08720" y="4292640"/>
            <a:ext cx="215892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595680" y="4076640"/>
            <a:ext cx="22003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 flipV="1">
            <a:off x="3564000" y="4292640"/>
            <a:ext cx="2233440" cy="21600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919800" y="4838760"/>
            <a:ext cx="372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Here A sees B’s member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as its own member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281F-06F3-4D68-8C85-E797264C2DB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24000" y="13716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7. Polymorphism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It is behavior that allows a single definition to be used with different 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types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of data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is is a way to call various sections of code using the same nam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yped languages can tell the difference by looking at the “signature” of the functions (their number of arguments and their types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C19A-33D3-459F-958E-33859576B19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40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Polymorphism example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39640" y="1989000"/>
            <a:ext cx="3600720" cy="3018600"/>
          </a:xfrm>
          <a:prstGeom prst="rect">
            <a:avLst/>
          </a:prstGeom>
          <a:solidFill>
            <a:srgbClr val="fbc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Foo (integer arg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{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// fn called with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// an integer arg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Print “Int arg”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788000" y="1989000"/>
            <a:ext cx="3600360" cy="3018600"/>
          </a:xfrm>
          <a:prstGeom prst="rect">
            <a:avLst/>
          </a:prstGeom>
          <a:solidFill>
            <a:srgbClr val="fbc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Foo (string arg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{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// fn called with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// a string arg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Print “String arg”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621440" y="5229360"/>
            <a:ext cx="580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ame function name, different cod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4B19-38D0-4F8B-8A8B-B752A679355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O fundamental concept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24000" y="1371240"/>
            <a:ext cx="8640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Polymorphism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3120" y="2133720"/>
            <a:ext cx="8170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A program that accepts multiple definition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s said to be </a:t>
            </a:r>
            <a:r>
              <a:rPr b="0" i="1" lang="en-GB" sz="3200" spc="-1" strike="noStrike">
                <a:solidFill>
                  <a:srgbClr val="080808"/>
                </a:solidFill>
                <a:latin typeface="Arial"/>
              </a:rPr>
              <a:t>overloaded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Sometimes arguments have to be</a:t>
            </a:r>
            <a:r>
              <a:rPr b="0" i="1" lang="en-GB" sz="3200" spc="-1" strike="noStrike">
                <a:solidFill>
                  <a:srgbClr val="080808"/>
                </a:solidFill>
                <a:latin typeface="Arial"/>
              </a:rPr>
              <a:t> coerced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to a new type to achieve proper behaviour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C044-3E6D-483F-BC61-B23C38D96A7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cdff"/>
                </a:solidFill>
                <a:latin typeface="Arial Black"/>
              </a:rPr>
              <a:t>OO C</a:t>
            </a: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oncepts</a:t>
            </a:r>
            <a:r>
              <a:rPr b="0" lang="en-US" sz="4000" spc="-1" strike="noStrike">
                <a:solidFill>
                  <a:srgbClr val="fbcdff"/>
                </a:solidFill>
                <a:latin typeface="Arial Black"/>
              </a:rPr>
              <a:t> Summary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OO is based on +-7 key concept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Classes are blueprint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stances are objects created from classe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y contain members (data &amp; code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ir access is restricted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relation between classes is based on inheritance or specific acces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6E8E-4C48-43FD-9537-A1845C37195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End of OO basic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131640" y="2205000"/>
            <a:ext cx="2590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200" spc="-1" strike="noStrike">
                <a:solidFill>
                  <a:srgbClr val="080808"/>
                </a:solidFill>
                <a:latin typeface="Arial"/>
              </a:rPr>
              <a:t>?</a:t>
            </a:r>
            <a:endParaRPr b="0" lang="en-US" sz="1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EAAD-47EC-4D6B-A94B-7961828C7DA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900000" y="1844640"/>
            <a:ext cx="727236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T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Dyalog AP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w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69C4-22FA-45C1-AAEC-F80DDB65E339}" type="slidenum">
              <a:t>4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061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Dyalog follows C# rules closely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extensions to the language have been made in following with the :Keywords scheme introduced in the 90s (All new keywords start with ‘:’ 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Some new system functions have been added and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Some new system commands also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A15E-E5CB-46B5-B313-1CFFEAAA2A3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Reasons: why do this?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80808"/>
                </a:solidFill>
                <a:latin typeface="Arial"/>
              </a:rPr>
              <a:t>Because Object Orientation is a Valuable Tool of Thought!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80808"/>
                </a:solidFill>
                <a:latin typeface="Arial"/>
              </a:rPr>
              <a:t>To be able to Share Tools and Components more Easily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80808"/>
                </a:solidFill>
                <a:latin typeface="Arial"/>
              </a:rPr>
              <a:t>To help us Manage Complexity in all Project Phase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o use .Net more easily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7054-363D-4005-B960-5F57397B471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798984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Let’s see how Dyalog APL does this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627280" y="2133720"/>
            <a:ext cx="4032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asse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stances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Member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Message passing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heritanc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Encapsulation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Polymorphism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67B2-46F4-4A6D-8551-14EE6AA5354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class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A class can be defined using the )EDitor as in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)ED ○ MyClas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Upon exiting, MyClass will be defined in the current namespace (e.g. #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4067280" y="1989000"/>
            <a:ext cx="3313080" cy="28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7941-A434-4AAC-A323-72EC31CB141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class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 the workspace </a:t>
            </a:r>
            <a:r>
              <a:rPr b="0" i="1" lang="en-GB" sz="3200" spc="-1" strike="noStrike">
                <a:solidFill>
                  <a:srgbClr val="080808"/>
                </a:solidFill>
                <a:latin typeface="Arial"/>
              </a:rPr>
              <a:t>MyClas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appears as a namespace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NC ‘MyClass’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)CLASSE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MyClas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66CD-493A-4D78-A5D4-B6682771BDE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member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members in a class are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9900"/>
                </a:solidFill>
                <a:latin typeface="Arial"/>
              </a:rPr>
              <a:t>Field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: same as a variabl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ethod: same as a function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9900"/>
                </a:solidFill>
                <a:latin typeface="Arial"/>
              </a:rPr>
              <a:t>Property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: looks and feels like a variable but implemented as a pair of function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All can be either </a:t>
            </a:r>
            <a:r>
              <a:rPr b="0" lang="en-GB" sz="3200" spc="-1" strike="noStrike">
                <a:solidFill>
                  <a:srgbClr val="cc9900"/>
                </a:solidFill>
                <a:latin typeface="Arial"/>
              </a:rPr>
              <a:t>public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or </a:t>
            </a:r>
            <a:r>
              <a:rPr b="0" lang="en-GB" sz="3200" spc="-1" strike="noStrike">
                <a:solidFill>
                  <a:srgbClr val="cc9900"/>
                </a:solidFill>
                <a:latin typeface="Arial"/>
              </a:rPr>
              <a:t>private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(the default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0674-9D3B-4E4A-9B9C-DCF8EE81457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member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3313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class to the right shows a few fields (vars) and their acces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access is the same for methods (fns) and propertie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3695760" y="1413000"/>
            <a:ext cx="5268960" cy="423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E224-CB21-432B-B798-19BE97A3820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member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3168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class to the right shows a few methods (fns) and their access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&lt;mon1&gt; is also used as a constructor. It MUST be public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4440240" y="1341360"/>
            <a:ext cx="4289400" cy="460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9193-5BB0-4A6F-933A-449B2DC9AB8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member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3168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class to the right shows 2 properties and their access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1</a:t>
            </a:r>
            <a:r>
              <a:rPr b="0" lang="en-GB" sz="2800" spc="-1" strike="noStrike" baseline="30000">
                <a:solidFill>
                  <a:srgbClr val="080808"/>
                </a:solidFill>
                <a:latin typeface="Arial"/>
              </a:rPr>
              <a:t>st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one is private and readonly (it has no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set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fn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2</a:t>
            </a:r>
            <a:r>
              <a:rPr b="0" lang="en-GB" sz="2800" spc="-1" strike="noStrike" baseline="30000">
                <a:solidFill>
                  <a:srgbClr val="080808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one is public read/writ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4572000" y="1413000"/>
            <a:ext cx="3683160" cy="460836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5435640" y="2276640"/>
            <a:ext cx="2521080" cy="865080"/>
          </a:xfrm>
          <a:prstGeom prst="rect">
            <a:avLst/>
          </a:prstGeom>
          <a:solidFill>
            <a:srgbClr val="ff0000">
              <a:alpha val="3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435640" y="3284640"/>
            <a:ext cx="2521080" cy="2160360"/>
          </a:xfrm>
          <a:prstGeom prst="rect">
            <a:avLst/>
          </a:prstGeom>
          <a:solidFill>
            <a:srgbClr val="ff0000">
              <a:alpha val="3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3F74-456D-426C-A60F-27951B89CB74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323640" y="1371600"/>
            <a:ext cx="8134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Classes are like blueprints: they define how things should b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NEW  is a new system function that creates an object using a class as an instance.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Whatever is in the class will appear in the instance as a copy, not a referenc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instanc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1235-5C27-4136-8B32-9576C298AF5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323640" y="1371600"/>
            <a:ext cx="8134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NEW accepts a one or two elements argument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1</a:t>
            </a:r>
            <a:r>
              <a:rPr b="0" lang="en-GB" sz="3200" spc="-1" strike="noStrike" baseline="30000">
                <a:solidFill>
                  <a:srgbClr val="080808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one is the class (not its name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2</a:t>
            </a:r>
            <a:r>
              <a:rPr b="0" lang="en-GB" sz="3200" spc="-1" strike="noStrike" baseline="30000">
                <a:solidFill>
                  <a:srgbClr val="080808"/>
                </a:solidFill>
                <a:latin typeface="Arial"/>
              </a:rPr>
              <a:t>nd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, if present, is what to start/initialize it with. It can only be supplied if the class accepts a value as initializer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⎕NEW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E246-AAE5-4890-BC2B-FBC3510D560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323640" y="1371600"/>
            <a:ext cx="8134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yInstance←⎕NEW   MyClas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display form includes [brackets] by defaul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myInstanc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#.[MyClass]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t is another type of namespac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NC ‘myInstance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⎕NEW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34A6-6524-4C1B-B91D-A97BB9680D8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.Net was already in V10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371600"/>
            <a:ext cx="8820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ability to use 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.Net 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with classes was already there in V10 but it was more difficult to us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50920" y="2852640"/>
            <a:ext cx="2914560" cy="3024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316320" y="2852640"/>
            <a:ext cx="2192400" cy="3027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5707080" y="2852640"/>
            <a:ext cx="3257640" cy="303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0376-A984-4EF2-9688-7ABA6DCFC27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323640" y="1371240"/>
            <a:ext cx="813420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Classes may require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something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to initialize the instance. Ex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)ED ○ Anima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title"/>
          </p:nvPr>
        </p:nvSpPr>
        <p:spPr>
          <a:xfrm>
            <a:off x="3236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constructor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4211640" y="1989000"/>
            <a:ext cx="4248000" cy="36529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290520" y="3108240"/>
            <a:ext cx="4151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Here an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animal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mus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be have at least two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characteristics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# of leg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sounds it make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1DEA-805D-40F1-9FE6-222B7A79997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323640" y="1371240"/>
            <a:ext cx="813420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Several instances can be made up of the same Animal class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title"/>
          </p:nvPr>
        </p:nvSpPr>
        <p:spPr>
          <a:xfrm>
            <a:off x="3236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constructor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3562200" y="1916280"/>
            <a:ext cx="4681800" cy="207468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363960" y="2655720"/>
            <a:ext cx="856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After running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this function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we have: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)ob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fish monkey myInstance snake tiger Animal MyClas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NC ‘animals’   ⍝ this is a variable holding 4 instance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animals.Nlegs   ⍝ how many legs for each animal?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4 0 0 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8EB7-CF6B-4120-88F2-0C2F492182E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79280" y="152280"/>
            <a:ext cx="8856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: message passing</a:t>
            </a:r>
            <a:endParaRPr b="0" lang="en-US" sz="36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 APL this merely consists in calling the methods directly either from the instance or from the class if shared, e.g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Myclass.sharedFn arg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myInstance.Fn args ⍝ if any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7726-37B7-4838-9F3B-BB9F2BD1C98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95280" y="152280"/>
            <a:ext cx="856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inheritanc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820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Inheritance: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Based classe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 </a:t>
            </a:r>
            <a:r>
              <a:rPr b="0" lang="en-GB" sz="2800" spc="-1" strike="noStrike">
                <a:solidFill>
                  <a:srgbClr val="00ccff"/>
                </a:solidFill>
                <a:latin typeface="Arial"/>
              </a:rPr>
              <a:t>class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can be based on another based class. See </a:t>
            </a:r>
            <a:r>
              <a:rPr b="0" lang="en-GB" sz="2800" spc="-1" strike="noStrike">
                <a:solidFill>
                  <a:srgbClr val="00ccff"/>
                </a:solidFill>
                <a:latin typeface="Arial"/>
              </a:rPr>
              <a:t>class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Collie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based on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Dog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based on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Anima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4221000"/>
            <a:ext cx="158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Anima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771640" y="342900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Dog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: Anima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948360" y="501156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Rex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(Collie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771640" y="479736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Fish: Anima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948360" y="386064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Fido (Collie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859280" y="314172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Big Dane: Dog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859280" y="450864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Collie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: Dog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462" name=""/>
          <p:cNvCxnSpPr>
            <a:stCxn id="455" idx="3"/>
            <a:endCxn id="456" idx="1"/>
          </p:cNvCxnSpPr>
          <p:nvPr/>
        </p:nvCxnSpPr>
        <p:spPr>
          <a:xfrm flipV="1">
            <a:off x="2268360" y="3933000"/>
            <a:ext cx="504000" cy="793080"/>
          </a:xfrm>
          <a:prstGeom prst="straightConnector1">
            <a:avLst/>
          </a:prstGeom>
          <a:ln w="2844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5" idx="3"/>
            <a:endCxn id="458" idx="1"/>
          </p:cNvCxnSpPr>
          <p:nvPr/>
        </p:nvCxnSpPr>
        <p:spPr>
          <a:xfrm>
            <a:off x="2268360" y="4726080"/>
            <a:ext cx="504000" cy="57636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6" idx="3"/>
            <a:endCxn id="460" idx="1"/>
          </p:cNvCxnSpPr>
          <p:nvPr/>
        </p:nvCxnSpPr>
        <p:spPr>
          <a:xfrm flipV="1">
            <a:off x="4356000" y="3646080"/>
            <a:ext cx="504000" cy="28800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465" name=""/>
          <p:cNvCxnSpPr>
            <a:stCxn id="456" idx="3"/>
            <a:endCxn id="461" idx="1"/>
          </p:cNvCxnSpPr>
          <p:nvPr/>
        </p:nvCxnSpPr>
        <p:spPr>
          <a:xfrm>
            <a:off x="4356000" y="3933360"/>
            <a:ext cx="504000" cy="1080360"/>
          </a:xfrm>
          <a:prstGeom prst="straightConnector1">
            <a:avLst/>
          </a:prstGeom>
          <a:ln w="2844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466" name=""/>
          <p:cNvCxnSpPr>
            <a:stCxn id="461" idx="3"/>
            <a:endCxn id="459" idx="1"/>
          </p:cNvCxnSpPr>
          <p:nvPr/>
        </p:nvCxnSpPr>
        <p:spPr>
          <a:xfrm flipV="1">
            <a:off x="6443640" y="4365000"/>
            <a:ext cx="505440" cy="64836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1" idx="3"/>
            <a:endCxn id="457" idx="1"/>
          </p:cNvCxnSpPr>
          <p:nvPr/>
        </p:nvCxnSpPr>
        <p:spPr>
          <a:xfrm>
            <a:off x="6443640" y="5013360"/>
            <a:ext cx="505440" cy="504000"/>
          </a:xfrm>
          <a:prstGeom prst="straightConnector1">
            <a:avLst/>
          </a:prstGeom>
          <a:ln w="28440">
            <a:solidFill>
              <a:srgbClr val="080808"/>
            </a:solidFill>
            <a:miter/>
            <a:tailEnd len="med" type="triangle" w="med"/>
          </a:ln>
        </p:spPr>
      </p:cxnSp>
      <p:sp>
        <p:nvSpPr>
          <p:cNvPr id="468" name=""/>
          <p:cNvSpPr/>
          <p:nvPr/>
        </p:nvSpPr>
        <p:spPr>
          <a:xfrm>
            <a:off x="7021800" y="340344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bfd87"/>
                </a:solidFill>
                <a:latin typeface="Arial"/>
              </a:rPr>
              <a:t>Instance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051000" y="440064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Arial"/>
              </a:rPr>
              <a:t>Classe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79280" y="4724280"/>
            <a:ext cx="505080" cy="0"/>
          </a:xfrm>
          <a:prstGeom prst="line">
            <a:avLst/>
          </a:prstGeom>
          <a:ln w="9360">
            <a:solidFill>
              <a:srgbClr val="08080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5909-3C48-45B0-B73C-A45028CA3E1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323640" y="1341000"/>
            <a:ext cx="81342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Example: a bird’s generic description is ‘plain Bird’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116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Birdy←⎕NEW Bird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116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Birdy.Desc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1166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plain Bird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07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inheritanc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73" name=""/>
          <p:cNvSpPr/>
          <p:nvPr/>
        </p:nvSpPr>
        <p:spPr>
          <a:xfrm>
            <a:off x="971640" y="3860640"/>
            <a:ext cx="158436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Bir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3" idx="3"/>
            <a:endCxn id="475" idx="1"/>
          </p:cNvCxnSpPr>
          <p:nvPr/>
        </p:nvCxnSpPr>
        <p:spPr>
          <a:xfrm>
            <a:off x="2555640" y="4365360"/>
            <a:ext cx="361080" cy="108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916360" y="386064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Birdy (Bird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11280" y="4365720"/>
            <a:ext cx="360360" cy="0"/>
          </a:xfrm>
          <a:prstGeom prst="line">
            <a:avLst/>
          </a:prstGeom>
          <a:ln w="9360">
            <a:solidFill>
              <a:srgbClr val="08080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4788000" y="2060640"/>
            <a:ext cx="3887640" cy="276696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324000" y="3141720"/>
            <a:ext cx="1511280" cy="50328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516720" y="3625920"/>
            <a:ext cx="1224000" cy="28872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91840" y="5124600"/>
            <a:ext cx="80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When Birdy is created, Bird’s </a:t>
            </a:r>
            <a:r>
              <a:rPr b="0" i="1" lang="en-GB" sz="2800" spc="-1" strike="noStrike">
                <a:solidFill>
                  <a:srgbClr val="080808"/>
                </a:solidFill>
                <a:latin typeface="Arial"/>
              </a:rPr>
              <a:t>constructor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is called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40F2-4376-4BCB-AB62-F8B89803974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5076720" y="1197000"/>
            <a:ext cx="3888000" cy="276696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5364000" y="3068640"/>
            <a:ext cx="3637080" cy="344952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323640" y="1341000"/>
            <a:ext cx="4392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Example: 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a parrot is a bird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oco←⎕NEW Parro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oco.Desc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Not a plain Bird, a Parro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07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inheritanc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395280" y="3933720"/>
            <a:ext cx="5256000" cy="1942920"/>
            <a:chOff x="395280" y="3933720"/>
            <a:chExt cx="5256000" cy="1942920"/>
          </a:xfrm>
        </p:grpSpPr>
        <p:sp>
          <p:nvSpPr>
            <p:cNvPr id="486" name=""/>
            <p:cNvSpPr/>
            <p:nvPr/>
          </p:nvSpPr>
          <p:spPr>
            <a:xfrm>
              <a:off x="715680" y="4733640"/>
              <a:ext cx="1410120" cy="799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Bird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cxnSp>
          <p:nvCxnSpPr>
            <p:cNvPr id="487" name=""/>
            <p:cNvCxnSpPr>
              <a:stCxn id="486" idx="3"/>
              <a:endCxn id="488" idx="1"/>
            </p:cNvCxnSpPr>
            <p:nvPr/>
          </p:nvCxnSpPr>
          <p:spPr>
            <a:xfrm flipV="1">
              <a:off x="2126160" y="4333680"/>
              <a:ext cx="321120" cy="800640"/>
            </a:xfrm>
            <a:prstGeom prst="straightConnector1">
              <a:avLst/>
            </a:prstGeom>
            <a:ln w="9360">
              <a:solidFill>
                <a:srgbClr val="080808"/>
              </a:solidFill>
              <a:miter/>
              <a:tailEnd len="med" type="triangle" w="med"/>
            </a:ln>
          </p:spPr>
        </p:cxnSp>
        <p:sp>
          <p:nvSpPr>
            <p:cNvPr id="488" name=""/>
            <p:cNvSpPr/>
            <p:nvPr/>
          </p:nvSpPr>
          <p:spPr>
            <a:xfrm>
              <a:off x="2446920" y="3933720"/>
              <a:ext cx="1410120" cy="79992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Birdy (Bird)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95280" y="5134320"/>
              <a:ext cx="320400" cy="0"/>
            </a:xfrm>
            <a:prstGeom prst="line">
              <a:avLst/>
            </a:prstGeom>
            <a:ln w="9360">
              <a:solidFill>
                <a:srgbClr val="080808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446920" y="5076720"/>
              <a:ext cx="1410120" cy="799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Parrot: Bird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cxnSp>
          <p:nvCxnSpPr>
            <p:cNvPr id="491" name=""/>
            <p:cNvCxnSpPr>
              <a:stCxn id="486" idx="3"/>
              <a:endCxn id="490" idx="1"/>
            </p:cNvCxnSpPr>
            <p:nvPr/>
          </p:nvCxnSpPr>
          <p:spPr>
            <a:xfrm>
              <a:off x="2126160" y="5134320"/>
              <a:ext cx="321120" cy="343440"/>
            </a:xfrm>
            <a:prstGeom prst="straightConnector1">
              <a:avLst/>
            </a:prstGeom>
            <a:ln w="9360">
              <a:solidFill>
                <a:srgbClr val="080808"/>
              </a:solidFill>
              <a:miter/>
              <a:tailEnd len="med" type="triangle" w="med"/>
            </a:ln>
          </p:spPr>
        </p:cxnSp>
        <p:sp>
          <p:nvSpPr>
            <p:cNvPr id="492" name=""/>
            <p:cNvSpPr/>
            <p:nvPr/>
          </p:nvSpPr>
          <p:spPr>
            <a:xfrm>
              <a:off x="4241160" y="5076720"/>
              <a:ext cx="1410120" cy="799920"/>
            </a:xfrm>
            <a:prstGeom prst="rect">
              <a:avLst/>
            </a:prstGeom>
            <a:solidFill>
              <a:srgbClr val="6bfd87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Arial"/>
                </a:rPr>
                <a:t>Coco (Parrot)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cxnSp>
          <p:nvCxnSpPr>
            <p:cNvPr id="493" name=""/>
            <p:cNvCxnSpPr>
              <a:stCxn id="490" idx="3"/>
              <a:endCxn id="492" idx="1"/>
            </p:cNvCxnSpPr>
            <p:nvPr/>
          </p:nvCxnSpPr>
          <p:spPr>
            <a:xfrm>
              <a:off x="3856680" y="5477040"/>
              <a:ext cx="384840" cy="1080"/>
            </a:xfrm>
            <a:prstGeom prst="straightConnector1">
              <a:avLst/>
            </a:prstGeom>
            <a:ln w="9360">
              <a:solidFill>
                <a:srgbClr val="080808"/>
              </a:solidFill>
              <a:miter/>
              <a:tailEnd len="med" type="triangle" w="med"/>
            </a:ln>
          </p:spPr>
        </p:cxnSp>
      </p:grpSp>
      <p:sp>
        <p:nvSpPr>
          <p:cNvPr id="494" name=""/>
          <p:cNvSpPr/>
          <p:nvPr/>
        </p:nvSpPr>
        <p:spPr>
          <a:xfrm>
            <a:off x="6804000" y="2781360"/>
            <a:ext cx="1224000" cy="25380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408720" y="5380200"/>
            <a:ext cx="2340000" cy="21744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55680" y="2852640"/>
            <a:ext cx="3456000" cy="36036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708360" y="2133720"/>
            <a:ext cx="7164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118200" y="4005360"/>
            <a:ext cx="7164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028000" y="4797360"/>
            <a:ext cx="7128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443640" y="2276640"/>
            <a:ext cx="71640" cy="7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501" name=""/>
          <p:cNvCxnSpPr>
            <a:stCxn id="497" idx="5"/>
            <a:endCxn id="498" idx="7"/>
          </p:cNvCxnSpPr>
          <p:nvPr/>
        </p:nvCxnSpPr>
        <p:spPr>
          <a:xfrm flipH="1" rot="16200000">
            <a:off x="4062240" y="1899720"/>
            <a:ext cx="1823400" cy="2410560"/>
          </a:xfrm>
          <a:prstGeom prst="curvedConnector5">
            <a:avLst>
              <a:gd name="adj1" fmla="val 49901"/>
              <a:gd name="adj2" fmla="val 49992"/>
              <a:gd name="adj3" fmla="val 49901"/>
            </a:avLst>
          </a:prstGeom>
          <a:ln w="381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502" name=""/>
          <p:cNvCxnSpPr>
            <a:stCxn id="499" idx="1"/>
            <a:endCxn id="500" idx="1"/>
          </p:cNvCxnSpPr>
          <p:nvPr/>
        </p:nvCxnSpPr>
        <p:spPr>
          <a:xfrm flipV="1" rot="16200000">
            <a:off x="5985720" y="2755080"/>
            <a:ext cx="2521800" cy="1585080"/>
          </a:xfrm>
          <a:prstGeom prst="curvedConnector5">
            <a:avLst>
              <a:gd name="adj1" fmla="val 129711"/>
              <a:gd name="adj2" fmla="val 50000"/>
              <a:gd name="adj3" fmla="val 129711"/>
            </a:avLst>
          </a:prstGeom>
          <a:ln w="28440">
            <a:solidFill>
              <a:srgbClr val="080808"/>
            </a:solidFill>
            <a:miter/>
            <a:tailEnd len="med" type="triangle" w="med"/>
          </a:ln>
        </p:spPr>
      </p:cxnSp>
      <p:sp>
        <p:nvSpPr>
          <p:cNvPr id="503" name=""/>
          <p:cNvSpPr/>
          <p:nvPr/>
        </p:nvSpPr>
        <p:spPr>
          <a:xfrm>
            <a:off x="6443640" y="2637000"/>
            <a:ext cx="2089080" cy="2879640"/>
          </a:xfrm>
          <a:custGeom>
            <a:avLst/>
            <a:gdLst/>
            <a:ahLst/>
            <a:rect l="l" t="t" r="r" b="b"/>
            <a:pathLst>
              <a:path w="1316" h="2087">
                <a:moveTo>
                  <a:pt x="0" y="0"/>
                </a:moveTo>
                <a:cubicBezTo>
                  <a:pt x="26" y="128"/>
                  <a:pt x="53" y="257"/>
                  <a:pt x="227" y="317"/>
                </a:cubicBezTo>
                <a:cubicBezTo>
                  <a:pt x="401" y="377"/>
                  <a:pt x="885" y="159"/>
                  <a:pt x="1044" y="363"/>
                </a:cubicBezTo>
                <a:cubicBezTo>
                  <a:pt x="1203" y="567"/>
                  <a:pt x="1316" y="1338"/>
                  <a:pt x="1180" y="1542"/>
                </a:cubicBezTo>
                <a:cubicBezTo>
                  <a:pt x="1044" y="1746"/>
                  <a:pt x="424" y="1497"/>
                  <a:pt x="227" y="1588"/>
                </a:cubicBezTo>
                <a:cubicBezTo>
                  <a:pt x="30" y="1679"/>
                  <a:pt x="15" y="1883"/>
                  <a:pt x="0" y="2087"/>
                </a:cubicBezTo>
              </a:path>
            </a:pathLst>
          </a:custGeom>
          <a:noFill/>
          <a:ln w="9360">
            <a:solidFill>
              <a:srgbClr val="080808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227640" y="4149720"/>
            <a:ext cx="71640" cy="574560"/>
          </a:xfrm>
          <a:prstGeom prst="line">
            <a:avLst/>
          </a:prstGeom>
          <a:ln w="2844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459480" y="5157720"/>
            <a:ext cx="0" cy="503280"/>
          </a:xfrm>
          <a:prstGeom prst="line">
            <a:avLst/>
          </a:prstGeom>
          <a:ln w="2844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F14F-4C7C-4A46-A037-069AFAD2E72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323640" y="1341000"/>
            <a:ext cx="8351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We can create classes and instances at all level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07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inheritanc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508" name=""/>
          <p:cNvSpPr/>
          <p:nvPr/>
        </p:nvSpPr>
        <p:spPr>
          <a:xfrm>
            <a:off x="611280" y="342900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Bir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556000" y="433080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Parrot: Bird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77080" y="4724280"/>
            <a:ext cx="1800360" cy="936720"/>
          </a:xfrm>
          <a:prstGeom prst="rect">
            <a:avLst/>
          </a:prstGeom>
          <a:solidFill>
            <a:srgbClr val="6bfd87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Tweety (Macaw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643280" y="501336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acaw: Parro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08" idx="3"/>
            <a:endCxn id="509" idx="1"/>
          </p:cNvCxnSpPr>
          <p:nvPr/>
        </p:nvCxnSpPr>
        <p:spPr>
          <a:xfrm>
            <a:off x="2195280" y="3933360"/>
            <a:ext cx="361080" cy="90252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8" idx="3"/>
            <a:endCxn id="514" idx="1"/>
          </p:cNvCxnSpPr>
          <p:nvPr/>
        </p:nvCxnSpPr>
        <p:spPr>
          <a:xfrm flipV="1">
            <a:off x="2195280" y="3069360"/>
            <a:ext cx="361080" cy="86436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9" idx="3"/>
            <a:endCxn id="511" idx="1"/>
          </p:cNvCxnSpPr>
          <p:nvPr/>
        </p:nvCxnSpPr>
        <p:spPr>
          <a:xfrm>
            <a:off x="4140000" y="4835520"/>
            <a:ext cx="503640" cy="68292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516" name=""/>
          <p:cNvCxnSpPr>
            <a:stCxn id="511" idx="3"/>
            <a:endCxn id="510" idx="1"/>
          </p:cNvCxnSpPr>
          <p:nvPr/>
        </p:nvCxnSpPr>
        <p:spPr>
          <a:xfrm flipV="1">
            <a:off x="6227640" y="5192280"/>
            <a:ext cx="650160" cy="32616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sp>
        <p:nvSpPr>
          <p:cNvPr id="517" name=""/>
          <p:cNvSpPr/>
          <p:nvPr/>
        </p:nvSpPr>
        <p:spPr>
          <a:xfrm>
            <a:off x="7021800" y="426708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bfd87"/>
                </a:solidFill>
                <a:latin typeface="Arial"/>
              </a:rPr>
              <a:t>Instance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762280" y="393372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Arial"/>
              </a:rPr>
              <a:t>Classe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556000" y="2565360"/>
            <a:ext cx="1584360" cy="1008000"/>
          </a:xfrm>
          <a:prstGeom prst="rect">
            <a:avLst/>
          </a:prstGeom>
          <a:solidFill>
            <a:srgbClr val="6bfd87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Birdy (Bird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50920" y="3933720"/>
            <a:ext cx="360360" cy="0"/>
          </a:xfrm>
          <a:prstGeom prst="line">
            <a:avLst/>
          </a:prstGeom>
          <a:ln w="9360">
            <a:solidFill>
              <a:srgbClr val="08080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788000" y="350028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Coco (Parrot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521" name=""/>
          <p:cNvCxnSpPr>
            <a:stCxn id="509" idx="3"/>
            <a:endCxn id="520" idx="1"/>
          </p:cNvCxnSpPr>
          <p:nvPr/>
        </p:nvCxnSpPr>
        <p:spPr>
          <a:xfrm flipV="1">
            <a:off x="4140000" y="4005000"/>
            <a:ext cx="648360" cy="83088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454C-C62D-4A0D-A559-FCE0EB8160A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95280" y="152280"/>
            <a:ext cx="856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inheritanc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820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Inheritance: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constructors with argument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Using the animal kingdom as example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84360" y="4221000"/>
            <a:ext cx="158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Anima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771640" y="342900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Dog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: Anima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948360" y="501156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Rex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(Collie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771640" y="479736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Fish: Animal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948360" y="3860640"/>
            <a:ext cx="1584360" cy="1008360"/>
          </a:xfrm>
          <a:prstGeom prst="rect">
            <a:avLst/>
          </a:prstGeom>
          <a:solidFill>
            <a:srgbClr val="6bfd87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Fido (Collie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859280" y="314172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Big Dane: Dog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859280" y="4508640"/>
            <a:ext cx="1584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Collie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: Dog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531" name=""/>
          <p:cNvCxnSpPr>
            <a:stCxn id="524" idx="3"/>
            <a:endCxn id="525" idx="1"/>
          </p:cNvCxnSpPr>
          <p:nvPr/>
        </p:nvCxnSpPr>
        <p:spPr>
          <a:xfrm flipV="1">
            <a:off x="2268360" y="3933000"/>
            <a:ext cx="504000" cy="793080"/>
          </a:xfrm>
          <a:prstGeom prst="straightConnector1">
            <a:avLst/>
          </a:prstGeom>
          <a:ln w="2844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532" name=""/>
          <p:cNvCxnSpPr>
            <a:stCxn id="524" idx="3"/>
            <a:endCxn id="527" idx="1"/>
          </p:cNvCxnSpPr>
          <p:nvPr/>
        </p:nvCxnSpPr>
        <p:spPr>
          <a:xfrm>
            <a:off x="2268360" y="4726080"/>
            <a:ext cx="504000" cy="57636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533" name=""/>
          <p:cNvCxnSpPr>
            <a:stCxn id="525" idx="3"/>
            <a:endCxn id="529" idx="1"/>
          </p:cNvCxnSpPr>
          <p:nvPr/>
        </p:nvCxnSpPr>
        <p:spPr>
          <a:xfrm flipV="1">
            <a:off x="4356000" y="3646080"/>
            <a:ext cx="504000" cy="28800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534" name=""/>
          <p:cNvCxnSpPr>
            <a:stCxn id="525" idx="3"/>
            <a:endCxn id="530" idx="1"/>
          </p:cNvCxnSpPr>
          <p:nvPr/>
        </p:nvCxnSpPr>
        <p:spPr>
          <a:xfrm>
            <a:off x="4356000" y="3933360"/>
            <a:ext cx="504000" cy="1080360"/>
          </a:xfrm>
          <a:prstGeom prst="straightConnector1">
            <a:avLst/>
          </a:prstGeom>
          <a:ln w="2844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535" name=""/>
          <p:cNvCxnSpPr>
            <a:stCxn id="530" idx="3"/>
            <a:endCxn id="528" idx="1"/>
          </p:cNvCxnSpPr>
          <p:nvPr/>
        </p:nvCxnSpPr>
        <p:spPr>
          <a:xfrm flipV="1">
            <a:off x="6443640" y="4365000"/>
            <a:ext cx="505440" cy="648360"/>
          </a:xfrm>
          <a:prstGeom prst="straightConnector1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536" name=""/>
          <p:cNvCxnSpPr>
            <a:stCxn id="530" idx="3"/>
            <a:endCxn id="526" idx="1"/>
          </p:cNvCxnSpPr>
          <p:nvPr/>
        </p:nvCxnSpPr>
        <p:spPr>
          <a:xfrm>
            <a:off x="6443640" y="5013360"/>
            <a:ext cx="505440" cy="504000"/>
          </a:xfrm>
          <a:prstGeom prst="straightConnector1">
            <a:avLst/>
          </a:prstGeom>
          <a:ln w="28440">
            <a:solidFill>
              <a:srgbClr val="080808"/>
            </a:solidFill>
            <a:miter/>
            <a:tailEnd len="med" type="triangle" w="med"/>
          </a:ln>
        </p:spPr>
      </p:cxnSp>
      <p:sp>
        <p:nvSpPr>
          <p:cNvPr id="537" name=""/>
          <p:cNvSpPr/>
          <p:nvPr/>
        </p:nvSpPr>
        <p:spPr>
          <a:xfrm>
            <a:off x="7021800" y="340344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bfd87"/>
                </a:solidFill>
                <a:latin typeface="Arial"/>
              </a:rPr>
              <a:t>Instance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051000" y="440064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ccff"/>
                </a:solidFill>
                <a:latin typeface="Arial"/>
              </a:rPr>
              <a:t>Classe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79280" y="4724280"/>
            <a:ext cx="505080" cy="0"/>
          </a:xfrm>
          <a:prstGeom prst="line">
            <a:avLst/>
          </a:prstGeom>
          <a:ln w="9360">
            <a:solidFill>
              <a:srgbClr val="08080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0F06-AF1C-43F3-95A3-648B189FD82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: inheritance</a:t>
            </a:r>
            <a:endParaRPr b="0" lang="en-US" sz="3600" spc="-1" strike="noStrike">
              <a:solidFill>
                <a:srgbClr val="fbcdff"/>
              </a:solidFill>
              <a:latin typeface="Arial Black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4067280" y="1341360"/>
            <a:ext cx="3400200" cy="251460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826920" y="1341360"/>
            <a:ext cx="2791080" cy="282888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57040" y="4221000"/>
            <a:ext cx="4321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pet←⎕NEW Collie ‘Rex’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pet.⎕nl -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Name  Nlegs  Sounds  Typ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pet.(Name Type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Rex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canis familiaris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4"/>
          <a:stretch/>
        </p:blipFill>
        <p:spPr>
          <a:xfrm>
            <a:off x="5580000" y="3068640"/>
            <a:ext cx="3191040" cy="270504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2195640" y="3220920"/>
            <a:ext cx="576000" cy="28728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435640" y="2109960"/>
            <a:ext cx="431640" cy="21564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948360" y="3844800"/>
            <a:ext cx="432000" cy="21600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24000" y="5084640"/>
            <a:ext cx="4103640" cy="360360"/>
          </a:xfrm>
          <a:prstGeom prst="rect">
            <a:avLst/>
          </a:prstGeom>
          <a:solidFill>
            <a:srgbClr val="ff0000">
              <a:alpha val="52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411280" y="1708200"/>
            <a:ext cx="2089440" cy="384120"/>
          </a:xfrm>
          <a:prstGeom prst="leftArrow">
            <a:avLst>
              <a:gd name="adj1" fmla="val 50000"/>
              <a:gd name="adj2" fmla="val 135989"/>
            </a:avLst>
          </a:prstGeom>
          <a:solidFill>
            <a:srgbClr val="790082">
              <a:alpha val="3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rot="3022200">
            <a:off x="4621680" y="2540520"/>
            <a:ext cx="1871640" cy="384120"/>
          </a:xfrm>
          <a:prstGeom prst="leftArrow">
            <a:avLst>
              <a:gd name="adj1" fmla="val 50000"/>
              <a:gd name="adj2" fmla="val 121813"/>
            </a:avLst>
          </a:prstGeom>
          <a:solidFill>
            <a:srgbClr val="790082">
              <a:alpha val="3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 rot="20800200">
            <a:off x="3634920" y="3860280"/>
            <a:ext cx="2376720" cy="384480"/>
          </a:xfrm>
          <a:prstGeom prst="leftArrow">
            <a:avLst>
              <a:gd name="adj1" fmla="val 50000"/>
              <a:gd name="adj2" fmla="val 154541"/>
            </a:avLst>
          </a:prstGeom>
          <a:solidFill>
            <a:srgbClr val="790082">
              <a:alpha val="30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C216-F984-43D4-AF7E-414EB7CF8F33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: inheritance</a:t>
            </a:r>
            <a:endParaRPr b="0" lang="en-US" sz="3600" spc="-1" strike="noStrike">
              <a:solidFill>
                <a:srgbClr val="fbcdff"/>
              </a:solidFill>
              <a:latin typeface="Arial Black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4067280" y="1341360"/>
            <a:ext cx="3400200" cy="251460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3"/>
          <a:stretch/>
        </p:blipFill>
        <p:spPr>
          <a:xfrm>
            <a:off x="826920" y="1341360"/>
            <a:ext cx="2791080" cy="282888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57040" y="4221000"/>
            <a:ext cx="4321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pet←⎕NEW Collie ‘Rex’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pet.⎕nl -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Name  Nlegs  Sounds  Typ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pet.(Name Type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Rex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canis familiaris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4"/>
          <a:stretch/>
        </p:blipFill>
        <p:spPr>
          <a:xfrm>
            <a:off x="5580000" y="3068640"/>
            <a:ext cx="3191040" cy="270504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6012000" y="4437000"/>
            <a:ext cx="2663640" cy="36036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500720" y="2421000"/>
            <a:ext cx="2879640" cy="36036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332000" y="2276640"/>
            <a:ext cx="180000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317080" y="4572000"/>
            <a:ext cx="3585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951440" y="2233440"/>
            <a:ext cx="431640" cy="289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804000" y="2492280"/>
            <a:ext cx="576360" cy="358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590840" y="2070000"/>
            <a:ext cx="100800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497640" y="4105440"/>
            <a:ext cx="35892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708360" y="4221000"/>
            <a:ext cx="93672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568" name=""/>
          <p:cNvCxnSpPr>
            <a:stCxn id="567" idx="7"/>
            <a:endCxn id="566" idx="1"/>
          </p:cNvCxnSpPr>
          <p:nvPr/>
        </p:nvCxnSpPr>
        <p:spPr>
          <a:xfrm flipH="1" flipV="1" rot="5400000">
            <a:off x="5452920" y="3193200"/>
            <a:ext cx="153000" cy="2042280"/>
          </a:xfrm>
          <a:prstGeom prst="curvedConnector5">
            <a:avLst>
              <a:gd name="adj1" fmla="val 271698"/>
              <a:gd name="adj2" fmla="val 50000"/>
              <a:gd name="adj3" fmla="val 271698"/>
            </a:avLst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569" name=""/>
          <p:cNvCxnSpPr>
            <a:stCxn id="562" idx="1"/>
            <a:endCxn id="563" idx="5"/>
          </p:cNvCxnSpPr>
          <p:nvPr/>
        </p:nvCxnSpPr>
        <p:spPr>
          <a:xfrm flipV="1" rot="16200000">
            <a:off x="5785920" y="2021760"/>
            <a:ext cx="2116800" cy="3050280"/>
          </a:xfrm>
          <a:prstGeom prst="curvedConnector5">
            <a:avLst>
              <a:gd name="adj1" fmla="val 49957"/>
              <a:gd name="adj2" fmla="val 50000"/>
              <a:gd name="adj3" fmla="val 49957"/>
            </a:avLst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570" name=""/>
          <p:cNvCxnSpPr>
            <a:stCxn id="564" idx="3"/>
            <a:endCxn id="565" idx="4"/>
          </p:cNvCxnSpPr>
          <p:nvPr/>
        </p:nvCxnSpPr>
        <p:spPr>
          <a:xfrm flipV="1" rot="16200000">
            <a:off x="4270680" y="190800"/>
            <a:ext cx="442080" cy="4793400"/>
          </a:xfrm>
          <a:prstGeom prst="curvedConnector5">
            <a:avLst>
              <a:gd name="adj1" fmla="val -61450"/>
              <a:gd name="adj2" fmla="val 50000"/>
              <a:gd name="adj3" fmla="val -61450"/>
            </a:avLst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02DB-A5FF-4537-A235-C61136BCB2DF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History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07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OO is not new, it’s been around for a whil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Pretty much the same story as AP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50s: conception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60s: 1</a:t>
            </a:r>
            <a:r>
              <a:rPr b="0" lang="en-GB" sz="3200" spc="-1" strike="noStrike" baseline="30000">
                <a:solidFill>
                  <a:srgbClr val="080808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implementation (SIMULA compiler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70s: 1</a:t>
            </a:r>
            <a:r>
              <a:rPr b="0" lang="en-GB" sz="3200" spc="-1" strike="noStrike" baseline="30000">
                <a:solidFill>
                  <a:srgbClr val="080808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user base, Smalltalk compiler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80s: into Eiffel to bridge the “gap”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90s: popularity grows (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≠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APL) thanks to C++ and Java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2144-7297-4547-826A-45EB5B3BC1E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94920" y="11592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: </a:t>
            </a:r>
            <a:r>
              <a:rPr b="0" lang="en-US" sz="3600" spc="-1" strike="noStrike">
                <a:solidFill>
                  <a:srgbClr val="fbcdff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00000" y="1587240"/>
            <a:ext cx="73440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onceals the exact details of how a particular class works from objects that use its cod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o allow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acces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to a member there are various access level definition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1514-3B4D-47E4-B6DC-38368387603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107640" y="1557360"/>
            <a:ext cx="8713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o expose a member you 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must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make it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ublic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For a </a:t>
            </a:r>
            <a:r>
              <a:rPr b="0" lang="en-GB" sz="3200" spc="-1" strike="noStrike">
                <a:solidFill>
                  <a:srgbClr val="cc9900"/>
                </a:solidFill>
                <a:latin typeface="Arial"/>
              </a:rPr>
              <a:t>property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or a method (fn) you must use the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:Access public 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Statemen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For a </a:t>
            </a:r>
            <a:r>
              <a:rPr b="0" lang="en-GB" sz="3200" spc="-1" strike="noStrike">
                <a:solidFill>
                  <a:srgbClr val="cc9900"/>
                </a:solidFill>
                <a:latin typeface="Arial"/>
              </a:rPr>
              <a:t>field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(var) you must use this statement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:Field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ublic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MyField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394920" y="11592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: </a:t>
            </a:r>
            <a:r>
              <a:rPr b="0" lang="en-US" sz="3600" spc="-1" strike="noStrike">
                <a:solidFill>
                  <a:srgbClr val="fbcdff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3071-64F1-45FD-AE66-CBFED929D77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3313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class to the right shows a few fields (vars) and their acces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access is the same for methods (fns) and propertie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3695760" y="1413000"/>
            <a:ext cx="5268960" cy="423216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2"/>
          <p:cNvSpPr>
            <a:spLocks noGrp="1"/>
          </p:cNvSpPr>
          <p:nvPr>
            <p:ph type="title"/>
          </p:nvPr>
        </p:nvSpPr>
        <p:spPr>
          <a:xfrm>
            <a:off x="394920" y="11592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: </a:t>
            </a:r>
            <a:r>
              <a:rPr b="0" lang="en-US" sz="3600" spc="-1" strike="noStrike">
                <a:solidFill>
                  <a:srgbClr val="fbcdff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2B90-60A5-48BC-B5EA-87F57F7D756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899640" y="1341000"/>
            <a:ext cx="7489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Shared vs instanc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Each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instance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gets a copy of each member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f a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Field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is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shared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it is kept in the class for all instances to see (and used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title"/>
          </p:nvPr>
        </p:nvSpPr>
        <p:spPr>
          <a:xfrm>
            <a:off x="394920" y="11592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: </a:t>
            </a:r>
            <a:r>
              <a:rPr b="0" lang="en-US" sz="3600" spc="-1" strike="noStrike">
                <a:solidFill>
                  <a:srgbClr val="fbcdff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1111-2BA0-48C8-8A9A-3CBA6D93863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609120" y="1557000"/>
            <a:ext cx="8210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Shared vs instanc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Example: keepCoun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Here each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instance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has its own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rivate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ID and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public 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class keeps track of the number of instances created privately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title"/>
          </p:nvPr>
        </p:nvSpPr>
        <p:spPr>
          <a:xfrm>
            <a:off x="394920" y="11592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: </a:t>
            </a:r>
            <a:r>
              <a:rPr b="0" lang="en-US" sz="3600" spc="-1" strike="noStrike">
                <a:solidFill>
                  <a:srgbClr val="fbcdff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CE49-9F2E-4424-9998-20E6B2CC829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82105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Shared vs instanc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in1←⎕new keepCount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I am XYZ1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in2←⎕new keepCount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I am XYZ2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in3←⎕new keepCount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I am XYZ3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keepCount.Count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keepCount.⎕nl-2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Count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in2.⎕nl-2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Count  MyName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in1.Count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title"/>
          </p:nvPr>
        </p:nvSpPr>
        <p:spPr>
          <a:xfrm>
            <a:off x="394920" y="115920"/>
            <a:ext cx="8350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bcdff"/>
                </a:solidFill>
                <a:latin typeface="Arial Black"/>
              </a:rPr>
              <a:t>Implementation: </a:t>
            </a:r>
            <a:r>
              <a:rPr b="0" lang="en-US" sz="3600" spc="-1" strike="noStrike">
                <a:solidFill>
                  <a:srgbClr val="fbcdff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fbcdff"/>
              </a:solidFill>
              <a:latin typeface="Arial Black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2"/>
          <a:stretch/>
        </p:blipFill>
        <p:spPr>
          <a:xfrm>
            <a:off x="4932360" y="1341360"/>
            <a:ext cx="3929040" cy="475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75CE-F524-4592-9AAE-47770A26E12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23640" y="1483920"/>
            <a:ext cx="806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 APL a function CANNOT have different definitions using a single nam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OTOH, a constructor MAY have several definition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Since APL is typeless the only way to tell which function to use is by the NUMBER of arguments, from 0 (niladic) to any number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144360" y="115920"/>
            <a:ext cx="9036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</a:t>
            </a:r>
            <a:r>
              <a:rPr b="0" lang="en-US" sz="4000" spc="-1" strike="noStrike">
                <a:solidFill>
                  <a:srgbClr val="fbcdff"/>
                </a:solidFill>
                <a:latin typeface="Arial Black"/>
              </a:rPr>
              <a:t>Polymorphism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F3EE-98B8-4509-8CAF-3B0AFE347D3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5363640" y="1268280"/>
            <a:ext cx="3025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:Class manyCtors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∇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general x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This ctor any arg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It can be anything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:Implements constructor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∇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nil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This ctor takes no arg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:Implements constructor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∇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mon1(a1)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This ctor takes 1 arg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It MUST be a vector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:Implements constructor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∇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mon5(a1 a2 a3 a4 a5)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This ctor takes 5 arg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⍝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It MUST be exactly 5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:Implements constructor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  </a:t>
            </a: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:Access public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    ∇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PL385 Unicode"/>
              </a:rPr>
              <a:t>:EndClass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144360" y="115920"/>
            <a:ext cx="9036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: </a:t>
            </a:r>
            <a:r>
              <a:rPr b="0" lang="en-US" sz="4000" spc="-1" strike="noStrike">
                <a:solidFill>
                  <a:srgbClr val="fbcdff"/>
                </a:solidFill>
                <a:latin typeface="Arial Black"/>
              </a:rPr>
              <a:t>Polymorphism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589" name=""/>
          <p:cNvSpPr/>
          <p:nvPr/>
        </p:nvSpPr>
        <p:spPr>
          <a:xfrm>
            <a:off x="395280" y="1390680"/>
            <a:ext cx="48974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Depending on the number of arguments, the proper fn will be used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2480-33AD-4221-8C0A-1E239E4BBD5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summary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061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Dyalog follows C# rules closely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)ED to edit classe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classes are much like namespace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ir members (vars &amp; fns) cannot all be accessed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[]NEW makes an instanc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classes can be based on another on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y use constructors to initialize them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43AB-AF60-4469-B3FD-18C198061DD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71280" y="152280"/>
            <a:ext cx="6838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End of implementation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131640" y="2205000"/>
            <a:ext cx="2590920" cy="31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ctr"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200" spc="-1" strike="noStrike">
                <a:solidFill>
                  <a:srgbClr val="080808"/>
                </a:solidFill>
                <a:latin typeface="Arial"/>
              </a:rPr>
              <a:t>?</a:t>
            </a:r>
            <a:endParaRPr b="0" lang="en-US" sz="1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D6B1-3363-41F7-83ED-3337F8ED785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The evolution of data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4582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Elementary data elements (like int) and arrays of them (all the same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Structures (like {i: int; d: date}), many elementary elements or structures (recurs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Namespaces (structures whose elements are referred to by name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Classes (namespaces with initializers &amp; cleaners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5C43-9EB8-4E17-8277-2035E89853A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395280" y="1484280"/>
            <a:ext cx="856944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Implement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33">
                    <a:alpha val="86000"/>
                  </a:srgbClr>
                </a:solidFill>
                <a:latin typeface="Times New Roman"/>
              </a:rPr>
              <a:t>Detai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33">
                  <a:alpha val="86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5201-725A-4B20-ADDE-840FFFE78AFE}" type="slidenum">
              <a:t>8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re is a lot more that has been implemented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Dyalog APL uncovered new territory when venturing into OO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 keeping with the dynamic nature of APL a lot of questions were raised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And many were answered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9344-2584-4AA4-B194-9CE17C52245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24000" y="137160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Classes: new system functions/command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Aft>
                <a:spcPts val="2001"/>
              </a:spcAft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)ED ○name (</a:t>
            </a:r>
            <a:r>
              <a:rPr b="0" i="1" lang="en-GB" sz="3200" spc="-1" strike="noStrike">
                <a:solidFill>
                  <a:srgbClr val="080808"/>
                </a:solidFill>
                <a:latin typeface="Arial"/>
              </a:rPr>
              <a:t>circle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to edit a new </a:t>
            </a:r>
            <a:r>
              <a:rPr b="0" i="1" lang="en-GB" sz="3200" spc="-1" strike="noStrike">
                <a:solidFill>
                  <a:srgbClr val="cc9900"/>
                </a:solidFill>
                <a:latin typeface="Arial"/>
              </a:rPr>
              <a:t>clas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Aft>
                <a:spcPts val="2001"/>
              </a:spcAft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SRC: Just like ⎕NR returns a function in nested form, ⎕SRC will return the representation of a class in nested form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Aft>
                <a:spcPts val="2001"/>
              </a:spcAft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FIX: Just like ⎕FX creates a function, ⎕FIX creates a clas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65E4-271D-4437-80C1-04BFABFC0A1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42560" y="1371600"/>
            <a:ext cx="8893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Classes: new system functions/command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CLASSES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returns the tree of reference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)CLASSES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lists all classes in the namespac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)ED ⍟ns/○cl/∘interf;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ns can contain classe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DF 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 allows to alter the display of a class (any namespace)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 class can implement an </a:t>
            </a:r>
            <a:r>
              <a:rPr b="0" i="1" lang="en-GB" sz="2800" spc="-1" strike="noStrike">
                <a:solidFill>
                  <a:srgbClr val="cc9900"/>
                </a:solidFill>
                <a:latin typeface="Arial"/>
              </a:rPr>
              <a:t>Interfac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)INTERFACES  lists all interfaces in the namespac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C4B6-702F-42DB-9C6C-AB514CA0AD9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684000" y="1371600"/>
            <a:ext cx="835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Classes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class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80808"/>
                </a:solidFill>
                <a:uFillTx/>
                <a:latin typeface="Arial"/>
              </a:rPr>
              <a:t>can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implement one or more </a:t>
            </a:r>
            <a:r>
              <a:rPr b="0" i="1" lang="en-US" sz="3200" spc="-1" strike="noStrike">
                <a:solidFill>
                  <a:srgbClr val="cc9900"/>
                </a:solidFill>
                <a:latin typeface="Arial"/>
              </a:rPr>
              <a:t>interfaces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An </a:t>
            </a:r>
            <a:r>
              <a:rPr b="0" i="1" lang="en-US" sz="3200" spc="-1" strike="noStrike">
                <a:solidFill>
                  <a:srgbClr val="080808"/>
                </a:solidFill>
                <a:latin typeface="Arial"/>
              </a:rPr>
              <a:t>interface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describes 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</a:rPr>
              <a:t>what</a:t>
            </a: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 it should do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0" i="1" lang="en-GB" sz="3200" spc="-1" strike="noStrike">
                <a:solidFill>
                  <a:srgbClr val="080808"/>
                </a:solidFill>
                <a:latin typeface="Arial"/>
              </a:rPr>
              <a:t>clas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describes 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how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it should be don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7BD2-4DFC-4310-A4F6-4CB1B1CC62A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is 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maneuvering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interface describes what </a:t>
            </a:r>
            <a:r>
              <a:rPr b="0" lang="en-GB" sz="3200" spc="-1" strike="noStrike" u="sng">
                <a:solidFill>
                  <a:srgbClr val="080808"/>
                </a:solidFill>
                <a:uFillTx/>
                <a:latin typeface="Arial"/>
              </a:rPr>
              <a:t>has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 to be done with a machine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)ed ∘maneuvering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t does NOT specify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how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it should be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done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2"/>
          <a:stretch/>
        </p:blipFill>
        <p:spPr>
          <a:xfrm>
            <a:off x="4427640" y="2365200"/>
            <a:ext cx="4066920" cy="372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1D09-2C04-49C3-885C-59201E2FAD8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" descr=""/>
          <p:cNvPicPr/>
          <p:nvPr/>
        </p:nvPicPr>
        <p:blipFill>
          <a:blip r:embed="rId2"/>
          <a:stretch/>
        </p:blipFill>
        <p:spPr>
          <a:xfrm>
            <a:off x="4859280" y="1844640"/>
            <a:ext cx="4048200" cy="402912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/>
          </p:nvPr>
        </p:nvSpPr>
        <p:spPr>
          <a:xfrm>
            <a:off x="756720" y="1196640"/>
            <a:ext cx="82076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is 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car 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class implements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 maneuvering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09" name=""/>
          <p:cNvSpPr/>
          <p:nvPr/>
        </p:nvSpPr>
        <p:spPr>
          <a:xfrm>
            <a:off x="243720" y="2332080"/>
            <a:ext cx="5356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VW←⎕new Car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VW.GasPedal 6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Going   up   to  6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(maneuvering ⎕class VW).Steer 14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Heading   NW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(maneuvering ⎕class VW).Accellerate 12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Going   up   to  12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VW.GasPedal 10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Going   down   to  10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VW.BreakPedal 1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Breaking..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DE71-CDF5-41F4-86F0-68C1133B576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" descr=""/>
          <p:cNvPicPr/>
          <p:nvPr/>
        </p:nvPicPr>
        <p:blipFill>
          <a:blip r:embed="rId2"/>
          <a:stretch/>
        </p:blipFill>
        <p:spPr>
          <a:xfrm>
            <a:off x="4572000" y="1773360"/>
            <a:ext cx="4276800" cy="437184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647640" y="1196640"/>
            <a:ext cx="824544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his 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plane 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class implements</a:t>
            </a: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 maneuvering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13" name=""/>
          <p:cNvSpPr/>
          <p:nvPr/>
        </p:nvSpPr>
        <p:spPr>
          <a:xfrm>
            <a:off x="-6120" y="2133720"/>
            <a:ext cx="53575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C172←⎕new Plane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C172.Stick 23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Heading 2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C172.Handle 20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Going   up   to  20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C172.Stick 23 11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Climbing,  Heading 2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(maneuvering ⎕class C172).Steer 21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Heading 21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(maneuvering ⎕class C172).SlowDown 20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Flaps   20  degrees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DAE4-B843-42DF-BD04-B6EEF63793D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16000" y="1371600"/>
            <a:ext cx="8820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Members: new system functions/command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Can be another nested class (but not a ns)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STANCES lists the instances of a clas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NEW creates an instanc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Trigger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Special Property case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5D0F-CB33-4840-B821-15D1FED689F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16000" y="1371600"/>
            <a:ext cx="88200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Propertie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n other languages they are implemented as a pair of functions.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n APL this simple case is handled naturally. It is called the SIMPLE case and is the default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A 2</a:t>
            </a:r>
            <a:r>
              <a:rPr b="0" lang="en-GB" sz="2800" spc="-1" strike="noStrike" baseline="30000">
                <a:solidFill>
                  <a:srgbClr val="080808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case where indexing is made using any object (as opposed to numbers) is also handled easily. This is the KEYED case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array nature of APL introduced a notion of NUMBERED property. This is the 3</a:t>
            </a:r>
            <a:r>
              <a:rPr b="0" lang="en-GB" sz="2800" spc="-1" strike="noStrike" baseline="30000">
                <a:solidFill>
                  <a:srgbClr val="080808"/>
                </a:solidFill>
                <a:latin typeface="Arial"/>
              </a:rPr>
              <a:t>rd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 case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36C6-787A-425C-A1E5-E07D3EC737E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Data in Dyalog APL (DYW)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In DYW all these objects exist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You can often simulate one by another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For ex: a table of names &amp; values can represent a namespace of variables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DYW can also store the ⎕OR of a namespace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943C-2197-419A-963E-5974FD8AFEA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16000" y="1371600"/>
            <a:ext cx="88200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Properties: SIMPLE cas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When a property is set,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ts SET function is called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When retrieved, its GET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function is called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pa’ is a namespace containing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name of the property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(Name) and its value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(NewValue)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5435640" y="1557360"/>
            <a:ext cx="3384360" cy="439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2E74-EE8B-4FC1-BA24-E571F22038C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08000" y="1371600"/>
            <a:ext cx="550872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Properties: KEYED cas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set/get function call is made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pa’ is a namespace also containing the indices of the property (Indexers)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Pk MUST be used with [brackets] and their contents cannot be elided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ir shape must conform to APL rules for assignment and result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2"/>
          <a:stretch/>
        </p:blipFill>
        <p:spPr>
          <a:xfrm>
            <a:off x="5560920" y="1484280"/>
            <a:ext cx="3328920" cy="439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6583-74E7-4202-BC1B-ED3AA29E851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08000" y="1371600"/>
            <a:ext cx="59040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Properties: NUMBERED cas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set/get function call is made, ONCE per index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pa’ is a namespace also containing the index to deal with (Indexers)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Pn may be used with indices. The SHAPE fn is used to check and generate indices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ir shape must conform to APL rules for assignment and result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2"/>
          <a:stretch/>
        </p:blipFill>
        <p:spPr>
          <a:xfrm>
            <a:off x="6224760" y="1484280"/>
            <a:ext cx="2701800" cy="41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AE3C-1CCF-47F0-B76E-9A148025A331}" type="slidenum">
              <a:t>9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08000" y="1371600"/>
            <a:ext cx="81360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Default Properties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re can be only one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f a default property exist, [indexing] can be done directly on the instance. Doing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nst[index]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s the same as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nst.defProp[index]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If a property is the default then using “squad indexing” applies to the whole property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B4F4-B38D-4725-86F6-3E657E246C4C}" type="slidenum">
              <a:t>9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50920" y="10699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0808"/>
                </a:solidFill>
                <a:latin typeface="Arial"/>
              </a:rPr>
              <a:t>Triggers</a:t>
            </a:r>
            <a:endParaRPr b="0" lang="en-US" sz="32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5832360" cy="26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←⎕NEW trigger1 ('Daniel' 'Baronet'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Full name is Daniel Barone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Full name is Daniel Barone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.FirstName←'Dan'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Full name is Dan Baronet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2"/>
          <a:stretch/>
        </p:blipFill>
        <p:spPr>
          <a:xfrm>
            <a:off x="4500720" y="2492280"/>
            <a:ext cx="4176720" cy="360864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3A2B-7BC7-483E-81A9-616514983120}" type="slidenum">
              <a:t>9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39280" y="137160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Inheritance: new system functions/commands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:</a:t>
            </a:r>
            <a:r>
              <a:rPr b="0" i="1" lang="en-GB" sz="2400" spc="-1" strike="noStrike">
                <a:solidFill>
                  <a:srgbClr val="cc9900"/>
                </a:solidFill>
                <a:latin typeface="Arial"/>
              </a:rPr>
              <a:t>Based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 used to call base class constructor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BASE used to call base class function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cc9900"/>
                </a:solidFill>
                <a:latin typeface="Arial"/>
              </a:rPr>
              <a:t>override/abl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Destructors are called when the instance is destroyed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NC/⎕NL have been extended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THIS is the same as (⎕NS’’).##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cc9900"/>
                </a:solidFill>
                <a:latin typeface="Arial"/>
              </a:rPr>
              <a:t>:implements, :acces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can be GUI based (ex: :Class F: ‘form’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cc9900"/>
                </a:solidFill>
                <a:latin typeface="Arial"/>
              </a:rPr>
              <a:t>:includ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E1FB-C32D-434B-AD07-6BF6439D3839}" type="slidenum">
              <a:t>9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" descr=""/>
          <p:cNvPicPr/>
          <p:nvPr/>
        </p:nvPicPr>
        <p:blipFill>
          <a:blip r:embed="rId2"/>
          <a:stretch/>
        </p:blipFill>
        <p:spPr>
          <a:xfrm>
            <a:off x="4067280" y="1341360"/>
            <a:ext cx="3400200" cy="251460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/>
          <p:cNvPicPr/>
          <p:nvPr/>
        </p:nvPicPr>
        <p:blipFill>
          <a:blip r:embed="rId3"/>
          <a:stretch/>
        </p:blipFill>
        <p:spPr>
          <a:xfrm>
            <a:off x="826920" y="1341360"/>
            <a:ext cx="2791080" cy="28288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57040" y="4221000"/>
            <a:ext cx="43214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pet←⎕NEW Collie ‘Rex’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pet.⎕nl -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Name  Nlegs  Sounds  Type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pet.(Name Type)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Rex   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canis familiaris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4"/>
          <a:stretch/>
        </p:blipFill>
        <p:spPr>
          <a:xfrm>
            <a:off x="5580000" y="3068640"/>
            <a:ext cx="3191040" cy="270504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6012000" y="4437000"/>
            <a:ext cx="2663640" cy="36036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500720" y="2421000"/>
            <a:ext cx="2879640" cy="36036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332000" y="2276640"/>
            <a:ext cx="1800000" cy="215640"/>
          </a:xfrm>
          <a:prstGeom prst="rect">
            <a:avLst/>
          </a:prstGeom>
          <a:solidFill>
            <a:srgbClr val="ddfc20">
              <a:alpha val="51000"/>
            </a:srgbClr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8317080" y="4572000"/>
            <a:ext cx="3585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951440" y="2233440"/>
            <a:ext cx="431640" cy="289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804000" y="2492280"/>
            <a:ext cx="576360" cy="358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590840" y="2070000"/>
            <a:ext cx="100800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497640" y="4105440"/>
            <a:ext cx="35892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708360" y="4221000"/>
            <a:ext cx="93672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649" name=""/>
          <p:cNvCxnSpPr>
            <a:stCxn id="648" idx="7"/>
            <a:endCxn id="647" idx="1"/>
          </p:cNvCxnSpPr>
          <p:nvPr/>
        </p:nvCxnSpPr>
        <p:spPr>
          <a:xfrm flipH="1" flipV="1" rot="5400000">
            <a:off x="5452920" y="3193200"/>
            <a:ext cx="153000" cy="2042280"/>
          </a:xfrm>
          <a:prstGeom prst="curvedConnector5">
            <a:avLst>
              <a:gd name="adj1" fmla="val 271698"/>
              <a:gd name="adj2" fmla="val 50000"/>
              <a:gd name="adj3" fmla="val 271698"/>
            </a:avLst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650" name=""/>
          <p:cNvCxnSpPr>
            <a:stCxn id="643" idx="1"/>
            <a:endCxn id="644" idx="5"/>
          </p:cNvCxnSpPr>
          <p:nvPr/>
        </p:nvCxnSpPr>
        <p:spPr>
          <a:xfrm flipV="1" rot="16200000">
            <a:off x="5785920" y="2021760"/>
            <a:ext cx="2116800" cy="3050280"/>
          </a:xfrm>
          <a:prstGeom prst="curvedConnector5">
            <a:avLst>
              <a:gd name="adj1" fmla="val 49957"/>
              <a:gd name="adj2" fmla="val 50000"/>
              <a:gd name="adj3" fmla="val 49957"/>
            </a:avLst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651" name=""/>
          <p:cNvCxnSpPr>
            <a:stCxn id="645" idx="3"/>
            <a:endCxn id="646" idx="4"/>
          </p:cNvCxnSpPr>
          <p:nvPr/>
        </p:nvCxnSpPr>
        <p:spPr>
          <a:xfrm flipV="1" rot="16200000">
            <a:off x="4270680" y="190800"/>
            <a:ext cx="442080" cy="4793400"/>
          </a:xfrm>
          <a:prstGeom prst="curvedConnector5">
            <a:avLst>
              <a:gd name="adj1" fmla="val -61450"/>
              <a:gd name="adj2" fmla="val 50000"/>
              <a:gd name="adj3" fmla="val -61450"/>
            </a:avLst>
          </a:prstGeom>
          <a:ln w="9360">
            <a:solidFill>
              <a:srgbClr val="080808"/>
            </a:solidFill>
            <a:miter/>
            <a:tailEnd len="med" type="triangle" w="med"/>
          </a:ln>
        </p:spPr>
      </p:cxn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40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: :Bas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16E3-E0D9-4928-8654-133CB7D0273E}" type="slidenum">
              <a:t>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68360" y="1700280"/>
            <a:ext cx="53276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⎕</a:t>
            </a: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Base is used to call base function like :base is used to call the constructor with an argument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is is used when the base function is shadowed by a class member. As in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in1←⎕new derivedClass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in1.sqr 20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40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: ⎕Base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2"/>
          <a:stretch/>
        </p:blipFill>
        <p:spPr>
          <a:xfrm>
            <a:off x="6156360" y="1557360"/>
            <a:ext cx="1866960" cy="213372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3"/>
          <a:stretch/>
        </p:blipFill>
        <p:spPr>
          <a:xfrm>
            <a:off x="5651640" y="3789360"/>
            <a:ext cx="2952720" cy="233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30AA-BDA6-4AA3-988E-0DDEC2DE9633}" type="slidenum">
              <a:t>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324000" y="4292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68360" y="1700280"/>
            <a:ext cx="532764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80808"/>
                </a:solidFill>
                <a:latin typeface="Arial"/>
              </a:rPr>
              <a:t>Override and overridable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se concepts allow a base class code to be overridden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Arial"/>
              </a:rPr>
              <a:t>The following slides will attempt to explain this in more details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40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Implementation detail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BF81-3EE6-43EA-9984-2A5AD7DF9955}" type="slidenum">
              <a:t>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bcdff"/>
                </a:solidFill>
                <a:latin typeface="Arial Black"/>
              </a:rPr>
              <a:t>Non-Based classes</a:t>
            </a:r>
            <a:endParaRPr b="0" lang="en-US" sz="4000" spc="-1" strike="noStrike">
              <a:solidFill>
                <a:srgbClr val="fbcdff"/>
              </a:solidFill>
              <a:latin typeface="Arial Black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2"/>
          <a:stretch/>
        </p:blipFill>
        <p:spPr>
          <a:xfrm>
            <a:off x="1023840" y="1628640"/>
            <a:ext cx="2746440" cy="345600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3"/>
          <a:stretch/>
        </p:blipFill>
        <p:spPr>
          <a:xfrm>
            <a:off x="5219640" y="1628640"/>
            <a:ext cx="2737080" cy="345600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>
            <a:off x="1087560" y="530064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A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A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335560" y="5276880"/>
            <a:ext cx="257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⍝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M1 calls its own M2: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(⎕NEW B).M1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I am B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OAP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7843-F928-4766-8FE2-C6DB1B3C474A}" type="slidenum">
              <a:t>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02:30:52Z</dcterms:created>
  <dc:creator>DanB</dc:creator>
  <dc:description/>
  <dc:language>en-US</dc:language>
  <cp:lastModifiedBy>DanB</cp:lastModifiedBy>
  <dcterms:modified xsi:type="dcterms:W3CDTF">2006-10-18T07:19:36Z</dcterms:modified>
  <cp:revision>87</cp:revision>
  <dc:subject/>
  <dc:title>OO Obj OR pgm</dc:title>
</cp:coreProperties>
</file>