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5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9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1.png" ContentType="image/png"/>
  <Override PartName="/ppt/media/image39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7.wmf" ContentType="image/x-wmf"/>
  <Override PartName="/ppt/media/image50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37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5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7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  <p:sldId id="413" r:id="rId163"/>
    <p:sldId id="414" r:id="rId164"/>
    <p:sldId id="415" r:id="rId165"/>
    <p:sldId id="416" r:id="rId166"/>
    <p:sldId id="417" r:id="rId167"/>
    <p:sldId id="418" r:id="rId168"/>
    <p:sldId id="419" r:id="rId169"/>
    <p:sldId id="420" r:id="rId170"/>
    <p:sldId id="421" r:id="rId171"/>
    <p:sldId id="422" r:id="rId172"/>
    <p:sldId id="423" r:id="rId173"/>
    <p:sldId id="424" r:id="rId174"/>
    <p:sldId id="425" r:id="rId1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slide" Target="slides/slide158.xml"/><Relationship Id="rId164" Type="http://schemas.openxmlformats.org/officeDocument/2006/relationships/slide" Target="slides/slide159.xml"/><Relationship Id="rId165" Type="http://schemas.openxmlformats.org/officeDocument/2006/relationships/slide" Target="slides/slide160.xml"/><Relationship Id="rId166" Type="http://schemas.openxmlformats.org/officeDocument/2006/relationships/slide" Target="slides/slide161.xml"/><Relationship Id="rId167" Type="http://schemas.openxmlformats.org/officeDocument/2006/relationships/slide" Target="slides/slide162.xml"/><Relationship Id="rId168" Type="http://schemas.openxmlformats.org/officeDocument/2006/relationships/slide" Target="slides/slide163.xml"/><Relationship Id="rId169" Type="http://schemas.openxmlformats.org/officeDocument/2006/relationships/slide" Target="slides/slide164.xml"/><Relationship Id="rId170" Type="http://schemas.openxmlformats.org/officeDocument/2006/relationships/slide" Target="slides/slide165.xml"/><Relationship Id="rId171" Type="http://schemas.openxmlformats.org/officeDocument/2006/relationships/slide" Target="slides/slide166.xml"/><Relationship Id="rId172" Type="http://schemas.openxmlformats.org/officeDocument/2006/relationships/slide" Target="slides/slide167.xml"/><Relationship Id="rId173" Type="http://schemas.openxmlformats.org/officeDocument/2006/relationships/slide" Target="slides/slide168.xml"/><Relationship Id="rId174" Type="http://schemas.openxmlformats.org/officeDocument/2006/relationships/slide" Target="slides/slide169.xml"/><Relationship Id="rId175" Type="http://schemas.openxmlformats.org/officeDocument/2006/relationships/slide" Target="slides/slide170.xml"/><Relationship Id="rId1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-36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388584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0FDD-4F4B-41FC-9FB9-CBB67D250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cd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bcd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not seen from 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’s M2 is still not seen from M1 as it has not been overridden. B’s 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: 2.2 i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better understand why this is, we need to go back a bit a review some notion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lar ns come in 2 flavours: with and without ⎕S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]DF returns the previous display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nothing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list the contents of ABC. RED is something WE hav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tion of passing messages is omni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c is replaced comple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 the Caption is in the form we cannot see it 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ing items is of dubious value (since they are subject to being destroyed upon re-definition) but perfectly 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2 forms of []NL usage: F1.[]NC and []NC ‘F1...’. They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tion is not something WE have brought in. There are also some INVISIBLE members INSIDE the form but we don’t have access to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regular namespace has NO internal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VERY 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internal members are (have to be)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art from []DF, all this stuff is not new, it was already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items: field/method x public/private x shared/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S0 &amp; FS0 are 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WILL disappear if the class is redefined (e.g. with []FI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can also have other NSs withi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 we can add external objects to this instance and they will disappear ASA the class is redef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behaviour should not be relied up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ed {jot} does the 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usual names can be added ex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s here? Complex, Keyed files, S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uld be done via a namespace but the []NS []OR ‘Complex’ + R I&lt;- would be cumber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 a single, widely-agreed upon definition of object-oriented programming. However, a survey of nearly 40 years of computing literature identified a number of fundamental concepts, identified in the strong majority of definitions of OOP. Reliable research supporting or dismissing OOP has been difficult to come b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the only possible values are 0, 1 and 3. 3 is new, 0 &amp; 1 were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ialo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creates instances with standard buttons attached to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don’t HAVE to but it is a good idea to create your classes in separate namesp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C# and other languages will be able to use fn &lt;GenIndices&gt; which takes an Int and returns a list of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is compulsory, GREEN is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THAT easy! Let’s assume it is in n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PLClass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name used is the name declared, not the original APL name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this is not new, it existed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like a “struct”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 </a:t>
            </a:r>
            <a:r>
              <a:rPr b="0" lang="en-GB" sz="1200" spc="-1" strike="noStrike">
                <a:solidFill>
                  <a:srgbClr val="009999"/>
                </a:solidFill>
                <a:latin typeface="Arial"/>
              </a:rPr>
              <a:t>System.Web.Services.WebService is a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ML is generated from the ASMX file that looks lik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, you could already edit APL code in text files outside the interpreter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V11 this can now be done INSIDE the s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 has always used overloading internally when dealing with primitives like + and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if coders end up doing simple things in complex ways just because the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neuver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terface could requir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eer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mplementation and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could implement it via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eering whee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ped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could implement it via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ic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r steering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o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r power and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vi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udd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ail movem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s releases memory when unused. New prim are squash, power, enhancements are to LCM &amp; G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faces allow to map some names (from the class) onto another set of names (of the instan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olv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ould be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essn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In OO there are many types of objects, they are not listed here (e.g. singleton, immutable, prototyp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all OO languages support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or eve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on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.  Instances are also called ‘actors’ in some lit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ed works in italic are found in DYW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file to be un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can also be pro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Shared code can be called directly via the class, no instance requ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languages use the term FINAL instead of READONLY; the terms vary from one languag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Ex: VISIBL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hing to do with money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Not all languages support it, e.g. VB, it is a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bject-bas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 is a class, green is an instance. Fido is an instance of a Collie. It also has all the characteristics of a Dog and an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will be interactive, stop and ask questions any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ways to do this and not all languages do it in a consistent manner. There is a lot is disagreement in that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and B are independant. &lt;M2&gt; is a subroutine of &lt;M1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 is based on A. When it calls M1, M2 is not seen from M1. M2 could be called by other f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 wants to override M2 but A does not allow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OO languages do NOT offer encaps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quares are classes. It’s akin to localized vars in APL (except that they can be seen in subfns. SHARED is also called STATIC some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ter on, Stephen Taylor will present a real lif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kin to localized vars in APL. Protected is not supported yet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lso other possibilities. Not all languages support these concepts. DYW does not.  This one is, among others, seen in C+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pled with nesting the complexity of a system can become overwhelm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do that in APL using :case on []DR of the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Foo is called with an integer the left fn is used. If it is called with a string the right one is used. Else an error occ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mmon example is the primitive ‘+’ which is overloaded in most languages. Its args have to be often coerced (e.g. 1+0.5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because everyone else is doing it or MS$ (or anyone else) sets the trend or... Explain in more detai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will now go over each one of these, not necessarily in the same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circle to denote editing a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 is a fn, op or Dfn/op. Only regular fns can be public. Properties are like variables whose assignment (or reading) is caught via a fn BEFORE being done.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ll see this in more details in the Encapsul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may be more than 1 constru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rties can be shared too; ra contains Name (their can be many!), NewValue &amp; maybe I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ns are not really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had to use the Properties windows on fns and to export the 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fancy naming (“message passing”) scheme does not apply here – its use is kept to stay synchronized with the fundamental concepts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ember this? Rex is a Collie, a Dog, an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’s a simpler ex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arrot  calls Bird’s constructor to create Desc, then, upon return, Desc is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ime constructors will take arg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[]NL -2 and the format returned. ‘minus’ means ‘Public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 of called constructors. Before setting it Name, Collie calls the Dog ctor which, before setting its Type, calls the Animal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ew discipline, paradigm, technology, methodology. The acceptance was due a lot to C-&gt;C++ by not having programmers to learn a new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hese statements are not used the default is </a:t>
            </a:r>
            <a:r>
              <a:rPr b="0" i="1" lang="en-GB" sz="1200" spc="-1" strike="noStrike">
                <a:solidFill>
                  <a:srgbClr val="99cc00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word in the :FIELD statements is the var n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 slight difference between a variable and a private instance field: their []N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rder is unimportant; if &lt;general&gt; is not there and there is no match on the length a LENGTH error will be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s can include pointers 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s can have a source too – to be seen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interface is a way to achieve MULTIPLE inheritance, which is not offered in all languages and not in DY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jot to denote “edit an interface”. This is a way to standardize naming conven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 cannot be defined in classes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se will now be explained. The usual APL rules apply when dealing with properties where it makes sense (e.g. (3 take rotate prop)&lt;-v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apitalization of the S/GET fns is unimportant. The name is supplied as many names can share the property and the code may react differently to e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ed is often used in M$ soft like Excel (e.g. Sheet[‘sheet1’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t/get fns are called ONCE per index (until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vailable). This type of property is the only one that requires a SHAPE f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dexer value will be a vector of the same length as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only happen for simple &amp; numbered props as keyed props need indexers to be sup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weight properties; simplifies code. The call is made AFTER the assig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ils fo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Base is used to pass arguments to the base class’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⎕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 is used to call the base class’ fn if public of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C5EF-03F5-4BF8-AECF-2038ACBC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8F87-4036-405B-9F1F-F4D73AFE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5EE-F674-4AFC-BFAB-7452B831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1037-208B-4973-AC5E-09102DA5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1FD8-5FE4-4C88-8FC9-B53FFDD4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D09E-786D-4F19-A8B5-0024782D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A632-7C02-49EC-8593-7B9BECDE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3691-8A20-474D-ABB8-79E19C47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49B7-6282-49B4-BAE2-10B1A3B9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8242-26F1-4993-B229-A862B86C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46AF-09DB-49FA-BA9B-C8E8C8C0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3B0A-0E09-417C-B606-544E07A8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6DC4-17EC-4F47-9589-C487E7AC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1ACA-03A4-4994-B054-716E1315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A61B-4F95-463D-AC7E-274E5D7A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C21D-1841-43EA-A22F-554721C6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1C59-AAB4-49B0-B02C-8718702F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1E37A-1BB4-4AFD-9B98-2660A3BA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6F4B8-3A7E-4767-9F3E-0F075112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685F5-95D0-4965-BE01-1F91ED5D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6E71F-02E2-4654-A40E-06A6FBBC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2A7B0-3430-4794-9178-E9846C35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D3E-0D4A-45D8-B6D5-7F92F453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83C16-7A30-471D-8351-9D3417FF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6EFD2-43AD-4A03-A37F-A228C3B0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22C8B-40E0-411E-ADE0-0262D6A3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C20ED-6180-4253-91BA-DB49B65D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BBB70-AFBC-4EC2-B8D8-CFC9FFBD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49926-4DE6-42AA-8A2C-528E55C5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79F34-7407-4628-80A8-297FD8B1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B865-1302-4F5D-812B-58EF99E9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34E-46E5-4A4D-B720-07AD9BF1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BAE-85DF-47D6-BDB2-153AB44F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2784-4350-4561-BD5C-C3FD4507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ED71-9CB8-4947-A0FF-DC14C183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56F-A126-4642-8E99-9D91054A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1A10-2058-4A36-B41E-F35FA3818C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cd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DE4D-ED34-4143-9351-5218F1785E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9DFB-DADC-4654-BB0B-DE73FBBAE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4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4600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90082"/>
                </a:solidFill>
                <a:latin typeface="Arial Black"/>
              </a:rPr>
              <a:t>Object Oriented Programming in APL</a:t>
            </a:r>
            <a:endParaRPr b="0" lang="en-US" sz="44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050920" y="2133720"/>
            <a:ext cx="5113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New Sense of Direc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(Oh, Oh!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Dan Barone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80808"/>
                </a:solidFill>
                <a:latin typeface="Arial"/>
              </a:rPr>
              <a:t>V1.01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evolution of data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traditional (procedural) systems, data is separated from cod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2637000"/>
            <a:ext cx="720720" cy="108108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3789360"/>
            <a:ext cx="720720" cy="108108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84360" y="4797360"/>
            <a:ext cx="720720" cy="108108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2637000"/>
            <a:ext cx="720720" cy="108108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80000" y="27813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78200" y="37893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47973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22880" y="2276640"/>
            <a:ext cx="0" cy="504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27560" y="5516640"/>
            <a:ext cx="0" cy="504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27560" y="3500280"/>
            <a:ext cx="0" cy="2890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13160" y="4508640"/>
            <a:ext cx="0" cy="288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55" idx="5"/>
            <a:endCxn id="159" idx="1"/>
          </p:cNvCxnSpPr>
          <p:nvPr/>
        </p:nvCxnSpPr>
        <p:spPr>
          <a:xfrm flipV="1">
            <a:off x="1763280" y="3141000"/>
            <a:ext cx="2017080" cy="37080"/>
          </a:xfrm>
          <a:prstGeom prst="straightConnector1">
            <a:avLst/>
          </a:prstGeom>
          <a:ln w="9360">
            <a:solidFill>
              <a:srgbClr val="08080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59" idx="3"/>
            <a:endCxn id="158" idx="2"/>
          </p:cNvCxnSpPr>
          <p:nvPr/>
        </p:nvCxnSpPr>
        <p:spPr>
          <a:xfrm>
            <a:off x="4860720" y="3141360"/>
            <a:ext cx="2230920" cy="37080"/>
          </a:xfrm>
          <a:prstGeom prst="straightConnector1">
            <a:avLst/>
          </a:prstGeom>
          <a:ln w="9360">
            <a:solidFill>
              <a:srgbClr val="08080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8" name=""/>
          <p:cNvCxnSpPr>
            <a:stCxn id="156" idx="5"/>
            <a:endCxn id="159" idx="1"/>
          </p:cNvCxnSpPr>
          <p:nvPr/>
        </p:nvCxnSpPr>
        <p:spPr>
          <a:xfrm flipV="1">
            <a:off x="1763280" y="3141000"/>
            <a:ext cx="2017080" cy="11898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6" idx="5"/>
            <a:endCxn id="160" idx="1"/>
          </p:cNvCxnSpPr>
          <p:nvPr/>
        </p:nvCxnSpPr>
        <p:spPr>
          <a:xfrm flipV="1">
            <a:off x="1763640" y="4149000"/>
            <a:ext cx="2015280" cy="1818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0" idx="3"/>
            <a:endCxn id="158" idx="2"/>
          </p:cNvCxnSpPr>
          <p:nvPr/>
        </p:nvCxnSpPr>
        <p:spPr>
          <a:xfrm flipV="1">
            <a:off x="4859280" y="3177360"/>
            <a:ext cx="2232720" cy="972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7" idx="5"/>
            <a:endCxn id="161" idx="1"/>
          </p:cNvCxnSpPr>
          <p:nvPr/>
        </p:nvCxnSpPr>
        <p:spPr>
          <a:xfrm flipV="1">
            <a:off x="3132000" y="5157000"/>
            <a:ext cx="648360" cy="1818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D9B-DFF5-41C8-9602-957DE8F5C45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Non-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67" name="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E01-0CE3-471A-8045-3CFB3F6A51E8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1058760" y="1628640"/>
            <a:ext cx="2803680" cy="352908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1126800" y="5445000"/>
            <a:ext cx="263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191200" y="537372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2603520" cy="349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5C8-3A0C-473E-BA9D-5D40CAEBE6F1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89" name="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CA9-066D-4D74-A6A7-18A8E060CE19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verridden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05" name=""/>
          <p:cNvSpPr/>
          <p:nvPr/>
        </p:nvSpPr>
        <p:spPr>
          <a:xfrm>
            <a:off x="1126800" y="5445000"/>
            <a:ext cx="263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154120" y="5373720"/>
            <a:ext cx="343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 becaus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t has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not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3"/>
          <a:stretch/>
        </p:blipFill>
        <p:spPr>
          <a:xfrm>
            <a:off x="5148360" y="1628640"/>
            <a:ext cx="2604960" cy="342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20F0-7FAE-445C-883C-EC5D4C0B76A4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11" name="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2436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229B-808F-4902-B050-8717ADAC9D1F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568680" cy="341964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verridden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28" name=""/>
          <p:cNvSpPr/>
          <p:nvPr/>
        </p:nvSpPr>
        <p:spPr>
          <a:xfrm>
            <a:off x="1126800" y="5445000"/>
            <a:ext cx="263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154120" y="5373720"/>
            <a:ext cx="304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B’s M2 becaus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t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ha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085160" y="3602160"/>
            <a:ext cx="99684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001-CA7B-423E-A8C0-D5F70193757B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568008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35" name="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65080" y="5276880"/>
            <a:ext cx="251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B’s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35280" y="3141720"/>
            <a:ext cx="3960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338C-B889-43AE-AB85-9721EADF4FCF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680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Destructo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ey are used to clean-up after an instance is destroyed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KingLear←⎕new life 'Lear'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King  Lear  is born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)erase KingLea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Lear  is dead, long live the king.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5292720" y="1557360"/>
            <a:ext cx="3625920" cy="301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F544-1084-470A-9ABE-6F452DAA0132}" type="slidenum">
              <a:t>10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: </a:t>
            </a:r>
            <a:r>
              <a:rPr b="0" lang="en-US" sz="2800" spc="-1" strike="noStrike">
                <a:solidFill>
                  <a:srgbClr val="fbcdff"/>
                </a:solidFill>
                <a:latin typeface="Arial Black"/>
              </a:rPr>
              <a:t>⎕NC/⎕NL </a:t>
            </a:r>
            <a:endParaRPr b="0" lang="en-US" sz="28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NC/⎕NL extens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ose 2 system functions have been extended to deal with the new objects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Since classes and instances are a </a:t>
            </a: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type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of namespace their </a:t>
            </a: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basic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classification is 9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C ‘myClass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o find their </a:t>
            </a: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sub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-class they need to be enclosed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C 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⊂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‘myClass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9.4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11F4-2D47-41D8-96B2-6D29C0758242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: </a:t>
            </a:r>
            <a:r>
              <a:rPr b="0" lang="en-US" sz="2800" spc="-1" strike="noStrike">
                <a:solidFill>
                  <a:srgbClr val="fbcdff"/>
                </a:solidFill>
                <a:latin typeface="Arial Black"/>
              </a:rPr>
              <a:t>⎕NC/⎕NL </a:t>
            </a:r>
            <a:endParaRPr b="0" lang="en-US" sz="28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NC/⎕NL extens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L has also been extended to report all objects of a given sub-class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⍴⍴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L 9.4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urthermore, if one of the argument to ⎕NL is negative the result is returned in vector format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⍴⍴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L -9.4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308-D952-4C93-89B1-4AFF16928EF9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evolution of data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is the same in traditional APL systems, data is separated from cod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590840" y="2708280"/>
            <a:ext cx="5933880" cy="2897280"/>
            <a:chOff x="1590840" y="2708280"/>
            <a:chExt cx="5933880" cy="2897280"/>
          </a:xfrm>
        </p:grpSpPr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1590840" y="2708280"/>
              <a:ext cx="5933880" cy="289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656720" y="4181040"/>
              <a:ext cx="103860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99560" y="4708440"/>
              <a:ext cx="103896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56720" y="3657600"/>
              <a:ext cx="103860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07280" y="3665520"/>
              <a:ext cx="103860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0000" y="3661560"/>
              <a:ext cx="103860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56080" y="4181040"/>
              <a:ext cx="103860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83360" y="3653640"/>
              <a:ext cx="1038600" cy="49068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35CE-5ADA-427C-9AB2-E904FD1F12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: </a:t>
            </a:r>
            <a:r>
              <a:rPr b="0" lang="en-US" sz="2800" spc="-1" strike="noStrike">
                <a:solidFill>
                  <a:srgbClr val="fbcdff"/>
                </a:solidFill>
                <a:latin typeface="Arial Black"/>
              </a:rPr>
              <a:t>⎕NC/⎕NL </a:t>
            </a:r>
            <a:endParaRPr b="0" lang="en-US" sz="28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NC/⎕NL extens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L and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⎕NC are symmetric such tha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∊⎕NC ⎕NL |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vn∊⎕NL-⎕NC¨vn  ⍝ vn is a list of nam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DF0-8D4E-4412-A6A3-AA037EB97033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: </a:t>
            </a:r>
            <a:r>
              <a:rPr b="0" lang="en-US" sz="2800" spc="-1" strike="noStrike">
                <a:solidFill>
                  <a:srgbClr val="fbcdff"/>
                </a:solidFill>
                <a:latin typeface="Arial Black"/>
              </a:rPr>
              <a:t>⎕NC/⎕NL </a:t>
            </a:r>
            <a:endParaRPr b="0" lang="en-US" sz="28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324000" y="141300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NC/⎕NL extens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L and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⎕NC also apply to variables and functions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The complete list is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3/4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1  Variable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raditional fn/op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S created by ⎕NS 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2  Field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-fns or –op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Instance (could be form)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3  Property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erived/Primitive            -       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4  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Class             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5  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Interface         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6  External/shared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External     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External Class    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7  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External Interface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F89-7A35-4A79-8118-F833B929EE2C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: </a:t>
            </a:r>
            <a:r>
              <a:rPr b="0" lang="en-US" sz="2800" spc="-1" strike="noStrike">
                <a:solidFill>
                  <a:srgbClr val="fbcdff"/>
                </a:solidFill>
                <a:latin typeface="Arial Black"/>
              </a:rPr>
              <a:t>⎕NC/⎕NL </a:t>
            </a:r>
            <a:endParaRPr b="0" lang="en-US" sz="28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24000" y="141300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NC/⎕NL extens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NL also reports instance members when used with a negative argum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stance.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⎕NL -2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1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⍝ report all field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355-9AD8-4C16-A024-75EDFA890401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80808"/>
                </a:solidFill>
                <a:latin typeface="Arial"/>
              </a:rPr>
              <a:t>Types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 of Namespaces and their ⎕NC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1</a:t>
            </a:r>
            <a:r>
              <a:rPr b="0" lang="en-GB" sz="32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wo already existed in V10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Regular N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.1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rm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.2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stance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.2 (NOT 9.3!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.4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terface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.5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4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175-6E3F-4B75-92D8-E48EF5D76733}" type="slidenum">
              <a:t>1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278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: ⎕DF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68000" y="1411200"/>
            <a:ext cx="84963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default display form of a namespace is its path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+‘t1.s1’ ⎕NS ‘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.t1.s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e can change this using ⎕DF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1.s1.⎕df  ‘(S1: son of t1)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1.s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(S1: son of t1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83F0-2CFA-4962-B00A-70DF2129AF63}" type="slidenum">
              <a:t>1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Display form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1760" y="1484280"/>
            <a:ext cx="8327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←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1.s1   ⍝ even if assigned a new name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⍝ what does this look like?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(S1: son of t1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≡t1.s1   ⍝ it “remembers” its referen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⍬≡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⍝ it is still just a ref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⍝ its display has a length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74E-24E8-4656-8066-AF03D15C3DF0}" type="slidenum">
              <a:t>1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1.s1.v11←’var’ ⍝ If we change the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1.s1.⎕fx ‘f1’ ‘...’ ⍝ contents of s1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,t1.s1.⎕nl 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 v1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,abc.⎕nl 2 3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⍝ abc will “see” i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 v1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’abc’  ‘t1’  ‘t1.s1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9.1  9.1  9.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276720" y="4508640"/>
            <a:ext cx="100800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908000" y="5013360"/>
            <a:ext cx="50328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39640" y="5013360"/>
            <a:ext cx="50328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692360" y="4508640"/>
            <a:ext cx="79200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235160" y="5013360"/>
            <a:ext cx="50328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508640"/>
            <a:ext cx="50328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543F-ED19-44FF-AB89-7A95BB921E5A}" type="slidenum">
              <a:t>1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63480" y="1456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o get a 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distinct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copy of t1.s1 we need to do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←⎕NS ⎕OR ‘t1.s1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,abc.⎕NL  2  3    ⍝ everything is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copie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 v1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⍝ even its nam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(S1: son of t1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≡t1.s1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⍝ but they’re differ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.⎕fd ‘I am ABC’    ⋄   ab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 am AB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8C63-2468-4E3B-88A5-E803D368905F}" type="slidenum">
              <a:t>1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779" name="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82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13080" y="285264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727960" y="4508640"/>
            <a:ext cx="15339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116720" y="24922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bc.⎕NL  2  3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0000" y="301608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v1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971280" y="3068640"/>
            <a:ext cx="5040360" cy="144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 flipV="1">
            <a:off x="971640" y="3716280"/>
            <a:ext cx="4680000" cy="1008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C143-FDC1-4929-865A-86677F21E835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792" name="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95" name="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013080" y="260208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651640" y="3963960"/>
            <a:ext cx="2089080" cy="192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26160" y="1461960"/>
            <a:ext cx="336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You can add</a:t>
            </a:r>
            <a:br>
              <a:rPr sz="2800"/>
            </a:b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o a namespace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’ ⎕ns ‘tx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nd &lt;tx&gt; appear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ithout ‘v11’ or &lt;f1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2A1-1BF6-44F4-B4AB-0E3BBAD8015D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evolution of data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OO systems, data is more tightly coupled with cod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042920" y="2349360"/>
            <a:ext cx="3024000" cy="1656000"/>
            <a:chOff x="1042920" y="2349360"/>
            <a:chExt cx="3024000" cy="1656000"/>
          </a:xfrm>
        </p:grpSpPr>
        <p:sp>
          <p:nvSpPr>
            <p:cNvPr id="186" name=""/>
            <p:cNvSpPr/>
            <p:nvPr/>
          </p:nvSpPr>
          <p:spPr>
            <a:xfrm>
              <a:off x="1042920" y="2349360"/>
              <a:ext cx="3024000" cy="1656000"/>
            </a:xfrm>
            <a:prstGeom prst="flowChartProcess">
              <a:avLst/>
            </a:prstGeom>
            <a:solidFill>
              <a:srgbClr val="cc99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privat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58920" y="2637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32000" y="2637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804000" y="27813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042920" y="4221000"/>
            <a:ext cx="3024000" cy="1656000"/>
            <a:chOff x="1042920" y="4221000"/>
            <a:chExt cx="3024000" cy="1656000"/>
          </a:xfrm>
        </p:grpSpPr>
        <p:sp>
          <p:nvSpPr>
            <p:cNvPr id="191" name=""/>
            <p:cNvSpPr/>
            <p:nvPr/>
          </p:nvSpPr>
          <p:spPr>
            <a:xfrm>
              <a:off x="1042920" y="4221000"/>
              <a:ext cx="3024000" cy="1656000"/>
            </a:xfrm>
            <a:prstGeom prst="flowChartProcess">
              <a:avLst/>
            </a:prstGeom>
            <a:solidFill>
              <a:srgbClr val="cc99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privat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58920" y="4508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32000" y="4508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804000" y="36831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46101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07280" y="3530520"/>
            <a:ext cx="0" cy="1429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07280" y="4429080"/>
            <a:ext cx="0" cy="1429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7280" y="533088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07280" y="23972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11640" y="2924280"/>
            <a:ext cx="1081080" cy="576000"/>
          </a:xfrm>
          <a:prstGeom prst="flowChartPunchedCard">
            <a:avLst/>
          </a:prstGeom>
          <a:solidFill>
            <a:srgbClr val="ffff3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80808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4653000"/>
            <a:ext cx="1081080" cy="576360"/>
          </a:xfrm>
          <a:prstGeom prst="flowChartPunchedCard">
            <a:avLst/>
          </a:prstGeom>
          <a:solidFill>
            <a:srgbClr val="ffff3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80808"/>
                </a:solidFill>
                <a:latin typeface="Arial"/>
              </a:rPr>
              <a:t>Do tha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0000" y="2924280"/>
            <a:ext cx="3313080" cy="215640"/>
          </a:xfrm>
          <a:prstGeom prst="leftRightArrow">
            <a:avLst>
              <a:gd name="adj1" fmla="val 50000"/>
              <a:gd name="adj2" fmla="val 305856"/>
            </a:avLst>
          </a:prstGeom>
          <a:solidFill>
            <a:srgbClr val="790082">
              <a:alpha val="59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373720" y="2924280"/>
            <a:ext cx="998640" cy="7347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5508720" y="4581360"/>
            <a:ext cx="998280" cy="735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780000" y="4797360"/>
            <a:ext cx="3168360" cy="216000"/>
          </a:xfrm>
          <a:prstGeom prst="leftArrow">
            <a:avLst>
              <a:gd name="adj1" fmla="val 50000"/>
              <a:gd name="adj2" fmla="val 366708"/>
            </a:avLst>
          </a:prstGeom>
          <a:solidFill>
            <a:srgbClr val="790082">
              <a:alpha val="58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275-B9B3-428B-8DBA-4790AF78D3F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801" name="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04" name="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507280" y="1989000"/>
            <a:ext cx="18936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#.[Namespace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435640" y="3500280"/>
            <a:ext cx="20890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24000" y="1461960"/>
            <a:ext cx="417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ut if you use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←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stead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←⎕ns ‘tx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&lt;tx&gt; appears i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’ alone an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display form is reset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626A-D0C3-4E54-A91D-D64BFFF60842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Display form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default display form of a Form is its path, just like a namespace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+‘F1’ ⎕WC ‘form’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.F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e can change this using ⎕DF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df ‘&lt;F1 is in great form&gt;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&lt;F1 is in great form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435E-A547-44E2-975F-591984372912}" type="slidenum">
              <a:t>1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Display form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e can add items to it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b1’ ⎕wc ‘button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e2’ F1.⎕wc ‘edit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‘F1’  ‘F1.b1’  ‘F1.e2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9.2  9.2  9.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⍝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e have 3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instance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f built-in APL form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e2   F1  ⍝ each with its own nam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.F1.e2   &lt;F1 is in great form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900000" y="4724280"/>
            <a:ext cx="100800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39640" y="5229360"/>
            <a:ext cx="1368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050920" y="5229360"/>
            <a:ext cx="338472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124000" y="4724280"/>
            <a:ext cx="50508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658880" y="3181320"/>
            <a:ext cx="60948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95440" y="3716280"/>
            <a:ext cx="57600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08360" y="3189240"/>
            <a:ext cx="107964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979640" y="3716280"/>
            <a:ext cx="576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427120" y="3189240"/>
            <a:ext cx="108108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292400" y="3716280"/>
            <a:ext cx="57600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CE8-7648-45EE-9BF3-3628F209D56B}" type="slidenum">
              <a:t>1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823" name="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497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form contains 2 object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⎕←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l  2 3 9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e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2 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‘b1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‘Caption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2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3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F1B4-9A8D-4CD6-BBC5-A78A83D8E76C}" type="slidenum">
              <a:t>1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39280" y="1555920"/>
            <a:ext cx="77043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 form is pretty much like a namespac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t can contain variables and function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v1←’some var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fx ‘f1’ ‘whatever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l 2 3   ⍝ these are POSITIVE number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v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ose are the items WE have added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EAD7-F9A8-4658-BA74-47B0E3F75FE0}" type="slidenum">
              <a:t>1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836" name="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6057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form now contains 4 object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⎕←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l  2 3 9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b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e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f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v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4 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‘F1.b1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2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3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867640" y="3573360"/>
            <a:ext cx="16437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 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whateve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613480" y="4941720"/>
            <a:ext cx="219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←’some var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90C9-3053-4BE8-9B7B-A912808F9E95}" type="slidenum">
              <a:t>1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UT a form also has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propertie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method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wx←1  ⍝ to be able to see the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⎕←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l -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ccelerator  ... Caption ...  YRang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65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c </a:t>
            </a: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’Caption’   ⍝ Caption is externa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¯2.6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ose are the only visible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member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inside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the form. They do NOT appear in ⎕nl +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5DB-7D3D-471E-8EEE-D93C57EBFD2B}" type="slidenum">
              <a:t>1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6840" y="1555920"/>
            <a:ext cx="81471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form has 2 types of functions and variable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ose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internal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and specific to its typ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ose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external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, those we ad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1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nes can be listed with a NEGATIVE ⎕NL argum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2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nes can be listed with a POSITIVE ⎕NL argum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50D0-D191-46C4-8D20-0204B327704C}" type="slidenum">
              <a:t>1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53" name=""/>
          <p:cNvSpPr/>
          <p:nvPr/>
        </p:nvSpPr>
        <p:spPr>
          <a:xfrm>
            <a:off x="684360" y="1916280"/>
            <a:ext cx="77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All namespaces have a common structur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84360" y="3068640"/>
            <a:ext cx="721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y inherit system variabl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ystem variables exist both internally AND externally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7F97-78C9-49F2-AA5C-ED935F34EC6C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f we redefine the form all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external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bjects disappear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+‘F1’⎕wc’form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.F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l 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l-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65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858" name="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6373800" y="2276640"/>
            <a:ext cx="6379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#.F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705-B150-439A-9073-6B48D837E331}" type="slidenum">
              <a:t>1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evolution of data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 OO APL systems, data is also tightly coupled with code but in a more procedural manner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042920" y="2349360"/>
            <a:ext cx="3024000" cy="1656000"/>
            <a:chOff x="1042920" y="2349360"/>
            <a:chExt cx="3024000" cy="1656000"/>
          </a:xfrm>
        </p:grpSpPr>
        <p:sp>
          <p:nvSpPr>
            <p:cNvPr id="209" name=""/>
            <p:cNvSpPr/>
            <p:nvPr/>
          </p:nvSpPr>
          <p:spPr>
            <a:xfrm>
              <a:off x="1042920" y="2349360"/>
              <a:ext cx="3024000" cy="1656000"/>
            </a:xfrm>
            <a:prstGeom prst="flowChartProcess">
              <a:avLst/>
            </a:prstGeom>
            <a:solidFill>
              <a:srgbClr val="cc99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privat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58920" y="2637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32000" y="2637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076720" y="282420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042920" y="4221000"/>
            <a:ext cx="3024000" cy="1656000"/>
            <a:chOff x="1042920" y="4221000"/>
            <a:chExt cx="3024000" cy="1656000"/>
          </a:xfrm>
        </p:grpSpPr>
        <p:sp>
          <p:nvSpPr>
            <p:cNvPr id="214" name=""/>
            <p:cNvSpPr/>
            <p:nvPr/>
          </p:nvSpPr>
          <p:spPr>
            <a:xfrm>
              <a:off x="1042920" y="4221000"/>
              <a:ext cx="3024000" cy="1656000"/>
            </a:xfrm>
            <a:prstGeom prst="flowChartProcess">
              <a:avLst/>
            </a:prstGeom>
            <a:solidFill>
              <a:srgbClr val="cc99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privat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58920" y="4508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32000" y="4508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076720" y="372600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465300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3573360"/>
            <a:ext cx="0" cy="1429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4471920"/>
            <a:ext cx="0" cy="1429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80000" y="537372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244008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223" name=""/>
          <p:cNvCxnSpPr/>
          <p:nvPr/>
        </p:nvCxnSpPr>
        <p:spPr>
          <a:xfrm flipH="1" flipV="1" rot="10800000">
            <a:off x="5362920" y="2996280"/>
            <a:ext cx="2520" cy="361080"/>
          </a:xfrm>
          <a:prstGeom prst="curvedConnector5">
            <a:avLst>
              <a:gd name="adj1" fmla="val -249100000"/>
              <a:gd name="adj2" fmla="val 50000"/>
              <a:gd name="adj3" fmla="val -249100000"/>
            </a:avLst>
          </a:prstGeom>
          <a:ln w="9360">
            <a:solidFill>
              <a:srgbClr val="080808"/>
            </a:solidFill>
            <a:prstDash val="dash"/>
            <a:miter/>
            <a:headEnd len="med" type="diamond" w="med"/>
            <a:tailEnd len="med" type="triangle" w="med"/>
          </a:ln>
        </p:spPr>
      </p:cxnSp>
      <p:cxnSp>
        <p:nvCxnSpPr>
          <p:cNvPr id="224" name=""/>
          <p:cNvCxnSpPr/>
          <p:nvPr/>
        </p:nvCxnSpPr>
        <p:spPr>
          <a:xfrm flipH="1" flipV="1" rot="10800000">
            <a:off x="5292360" y="4867920"/>
            <a:ext cx="2160" cy="361080"/>
          </a:xfrm>
          <a:prstGeom prst="curvedConnector5">
            <a:avLst>
              <a:gd name="adj1" fmla="val -249100000"/>
              <a:gd name="adj2" fmla="val 50000"/>
              <a:gd name="adj3" fmla="val -249100000"/>
            </a:avLst>
          </a:prstGeom>
          <a:ln w="9360">
            <a:solidFill>
              <a:srgbClr val="080808"/>
            </a:solidFill>
            <a:prstDash val="dash"/>
            <a:miter/>
            <a:headEnd len="med" type="diamond" w="med"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1DB-A1AC-4B95-B5E0-E2C9ED20C7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62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08616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50920" y="2492280"/>
            <a:ext cx="42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lasses are a different kind of namespace but they behave identically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⍝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O external objec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.⎕NL  2 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4471920" y="1916280"/>
            <a:ext cx="42768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64CE-8C8B-42CE-A2C7-FBF12C772A9C}" type="slidenum">
              <a:t>1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6" name="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867" name="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70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29380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935240" y="393372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 flipV="1">
            <a:off x="1979280" y="2781360"/>
            <a:ext cx="331308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H="1" flipV="1">
            <a:off x="971280" y="2924280"/>
            <a:ext cx="3816360" cy="12254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50920" y="2133720"/>
            <a:ext cx="410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.⎕NL -2 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S1  MS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private members cannot be seen or accessed from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outside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66072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MS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006520" y="4653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rial"/>
              </a:rPr>
              <a:t>FS0 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C894-BF4F-47CB-82BC-4D1083C9C038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881" name="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84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12920" y="1941480"/>
            <a:ext cx="423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You can add items “outside” a clas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’ ⎕ns ‘tx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.v11←3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nd they appear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ithout anything els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EAC-1538-4E4F-BADE-EB04CCF7EE36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892" name="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95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13280" y="1941480"/>
            <a:ext cx="32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.⎕NC 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x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.⎕nc-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x  v11  FS1  MS1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FFD-D351-4F72-A5D5-90588B55DE9E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903" name="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n ins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06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157800" y="13413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I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724720" y="1989000"/>
            <a:ext cx="14868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#.[ShrIns]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9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662520" y="371628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2920" y="1941480"/>
            <a:ext cx="394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I1←⎕new ShrI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I1.⎕NL 3 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I1.⎕NL -3 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I1  FS1  MI1  MS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hared members are visible through the instanc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6516720" y="2491920"/>
            <a:ext cx="0" cy="252108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1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MI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862160" y="371952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FI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3416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Instanc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58980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F9FC-7B57-497C-8A60-1A04382407BE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n interfa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18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08960" y="1941480"/>
            <a:ext cx="439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ed ∘ maneuveri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v11←1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335268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B1D-1062-4D08-9E27-52D3E4B22DDC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n interfa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22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79280" y="198900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e methods in the interface can only be seen when exposed through the dyadic ⎕CLASS system function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VW←⎕new Ca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(VW ⎕class maneuvering).⎕nl -3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ccellerate SlowDown Stee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4077000" cy="390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723C-F379-486B-8F90-C55B545ECE00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:Includ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598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statement is used when wanting to include CODE (not data) into a cla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may be because the code to include is common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127320" cy="3743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5364000" y="2781360"/>
            <a:ext cx="1872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34C-C3D3-4E3B-82C4-4606FAFBE7C8}" type="slidenum">
              <a:t>1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 summary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42520" y="148428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y new system commands &amp; f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terfaces show how it is don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umbered Properties are implemented in a special manner in AP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riggers offer lightweight properti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L/⎕NC have been extende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notion of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external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names is importa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clusion of common code is possibl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375-AD54-4DE2-9509-FA375D525C7C}" type="slidenum">
              <a:t>1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End of 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131640" y="2205000"/>
            <a:ext cx="2590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1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9707-069B-4DCD-8EAB-B7669471811F}" type="slidenum">
              <a:t>1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26920" y="2708280"/>
            <a:ext cx="76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9dcb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Times New Roman"/>
              </a:rPr>
              <a:t>Defini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9dcb"/>
                  </a:gs>
                  <a:gs pos="100000">
                    <a:srgbClr val="00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08200" y="28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10800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Object Oriented paradig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A94-4352-4482-AA7A-48E968E7116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 txBox="1"/>
          <p:nvPr/>
        </p:nvSpPr>
        <p:spPr>
          <a:xfrm>
            <a:off x="395280" y="2205000"/>
            <a:ext cx="8280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Examp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873-4AA9-4FD5-9EBD-C1AA0D7819D5}" type="slidenum">
              <a:t>1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mplex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39528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class is used to create complex numbers.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It can perform most simple math operations on them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class ha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 public instance field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1 public shared fiel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 private field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5 instance function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702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A62-9D5A-413F-B593-8AA01CE2F86F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mplex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39528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class also ha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5 shared function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ese perform the basic operations: + × ÷ *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5364000" y="1268280"/>
            <a:ext cx="3691080" cy="546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934-6DA5-4EB1-A3D9-30A88342C7E7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mplex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395280" y="1371600"/>
            <a:ext cx="34560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class also ha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 constructors an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 private function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one of which is a trigger for when one of the fields is modifie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2"/>
          <a:stretch/>
        </p:blipFill>
        <p:spPr>
          <a:xfrm>
            <a:off x="3851280" y="1268280"/>
            <a:ext cx="5181480" cy="507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1C5-615F-414F-8F92-EC1C8B5DF46D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Keyed component fil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idea is to have a file whose components are accessed  by key instead of a numbe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ort of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ile.Read ‘key’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D9D-7848-46EA-95D7-15A5B4B728A5}" type="slidenum">
              <a:t>1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Keyed </a:t>
            </a:r>
            <a:br>
              <a:rPr sz="3600"/>
            </a:b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component file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680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ince it is made from a component file it might be better to define a component file clas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Like this →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is class ties a file, creating it if necessary, and unties it (and destroys it if it was temporary) upon deleting the instan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2"/>
          <a:stretch/>
        </p:blipFill>
        <p:spPr>
          <a:xfrm>
            <a:off x="4884840" y="0"/>
            <a:ext cx="4259160" cy="702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EAA-7F71-476E-A353-DF1C0C45D250}" type="slidenum">
              <a:t>1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395280" y="1484280"/>
            <a:ext cx="8569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.Net and oth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good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0CC-A6E5-4B54-BA34-3C138D25494C}" type="slidenum">
              <a:t>1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 addition to the classes which you can write in APL, version 11.0 allows you to work with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Dyalog GUI classes, including OLE Servers and and OLE Controls (ActiveX component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icrosoft.Net class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173-C642-46F8-9A9D-92797D01F379}" type="slidenum">
              <a:t>1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 version 11.0, these classes can be used in exactly the same way as instances of classes which have been implemented in APL.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You create instances of them with ⎕NEW, and you can manipulate the public properties, methods and events which they expose (but unlike APL classes, you cannot see or modify the implementation)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0F4-167E-44F8-B856-80E31A9BD2BB}" type="slidenum">
              <a:t>1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Forms and more via ⎕NEW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It is possible to create forms using ⎕new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1←⎕NEW 'form‘ ((‘caption’ ‘MyForm’)('size' (12 16)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ote that the class </a:t>
            </a: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name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or built-in GUI objects is provided as a string rather than as a reference to a name in the workspace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You can create OLE controls with ⎕new too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xl←⎕NEW 'OleClient‘ (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'ClassName‘ 'Excel.Application'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A461-DE75-45E3-BABC-3CF41ACE4758}" type="slidenum">
              <a:t>1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Object Oriented paradigm is based on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27280" y="2133720"/>
            <a:ext cx="403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stances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mb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ssage passin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ncapsula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Polymorphism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C1F-981A-495F-AD4C-3DB691E3D03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⎕</a:t>
            </a: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WX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is system function eXposes Window’s interface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= do NOT expose anythi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+1= expose names and report in ⎕NL with negative argument, use V10 syntax where properties are treated as functions (e.g. Sheet.(Item 3)...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+2= use new V11 syntax (e.g. Sheet[3]...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8371-893C-40AF-A23A-C481FD194094}" type="slidenum">
              <a:t>1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xl←⎕NEW 'OleClient‘ (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'ClassName‘ 'Excel.Application'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x allows to use V10 syntax of the new V11 syntax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xl.⎕wx←1 ⍝ use V10 for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xl. ActiveWorkbook.Sheets.(Item 1).Nam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xl.⎕wx←3 ⍝ use V11 for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xl.ActiveWorkbook.Sheets[</a:t>
            </a: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’Sheet2'].Index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⎕</a:t>
            </a: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WX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0B67-45BF-4AD0-B9C0-6E5E984B94DC}" type="slidenum">
              <a:t>1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3456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tandardize dialog box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f1←⎕NEW Dialog ('Hello World' (50 250) ⍬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Note how the class is based on ‘Form’ (a string) and not </a:t>
            </a:r>
            <a:r>
              <a:rPr b="0" i="1" lang="en-GB" sz="2000" spc="-1" strike="noStrike">
                <a:solidFill>
                  <a:srgbClr val="080808"/>
                </a:solidFill>
                <a:latin typeface="Arial"/>
              </a:rPr>
              <a:t>Form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(a name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You can do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fm←⎕NEW ‘form’ ..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2"/>
          <a:stretch/>
        </p:blipFill>
        <p:spPr>
          <a:xfrm>
            <a:off x="3564000" y="1247760"/>
            <a:ext cx="5508720" cy="4917960"/>
          </a:xfrm>
          <a:prstGeom prst="rect">
            <a:avLst/>
          </a:prstGeom>
          <a:ln w="0">
            <a:noFill/>
          </a:ln>
        </p:spPr>
      </p:pic>
      <p:pic>
        <p:nvPicPr>
          <p:cNvPr id="962" name="" descr=""/>
          <p:cNvPicPr/>
          <p:nvPr/>
        </p:nvPicPr>
        <p:blipFill>
          <a:blip r:embed="rId3"/>
          <a:stretch/>
        </p:blipFill>
        <p:spPr>
          <a:xfrm>
            <a:off x="5724360" y="4941720"/>
            <a:ext cx="2448000" cy="78120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3995640" y="3500280"/>
            <a:ext cx="4105440" cy="4651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764240" y="1700280"/>
            <a:ext cx="576000" cy="21600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0BF-1D1F-4638-BD76-F84F7E8C1A4D}" type="slidenum">
              <a:t>1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Net utiliti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There is a lot of utilities out there that can be used in APL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For example, the Date/Time utilities found in the .Net </a:t>
            </a:r>
            <a:r>
              <a:rPr b="0" i="1" lang="en-GB" sz="2000" spc="-1" strike="noStrike">
                <a:solidFill>
                  <a:srgbClr val="080808"/>
                </a:solidFill>
                <a:latin typeface="Arial"/>
              </a:rPr>
              <a:t>DateTime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class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They are found in the </a:t>
            </a:r>
            <a:r>
              <a:rPr b="0" i="1" lang="en-GB" sz="2000" spc="-1" strike="noStrike">
                <a:solidFill>
                  <a:srgbClr val="080808"/>
                </a:solidFill>
                <a:latin typeface="Arial"/>
              </a:rPr>
              <a:t>System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namespace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To be able to use the </a:t>
            </a:r>
            <a:r>
              <a:rPr b="0" i="1" lang="en-GB" sz="2000" spc="-1" strike="noStrike">
                <a:solidFill>
                  <a:srgbClr val="080808"/>
                </a:solidFill>
                <a:latin typeface="Arial"/>
              </a:rPr>
              <a:t>DateTime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class you must indicate to APL that it resides in the </a:t>
            </a:r>
            <a:r>
              <a:rPr b="0" i="1" lang="en-GB" sz="2000" spc="-1" strike="noStrike">
                <a:solidFill>
                  <a:srgbClr val="080808"/>
                </a:solidFill>
                <a:latin typeface="Arial"/>
              </a:rPr>
              <a:t>System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namespace with ⎕USING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USING←’System’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now←⎕new DateTime ⎕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now ⍝ let’s see its display form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2006/10/15 21:47:08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nc ‘now’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195640" y="3843360"/>
            <a:ext cx="93636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340000" y="4148280"/>
            <a:ext cx="1150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D2A7-ED46-4A32-A80F-ED5E2AD1FA33}" type="slidenum">
              <a:t>1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.Net for oth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o allow other languages to use your code you should organize your classes in namespace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55640" y="3068640"/>
            <a:ext cx="7201080" cy="3024360"/>
          </a:xfrm>
          <a:prstGeom prst="rect">
            <a:avLst/>
          </a:prstGeom>
          <a:noFill/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10000" y="414036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W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835280" y="3284640"/>
            <a:ext cx="5832360" cy="1224000"/>
          </a:xfrm>
          <a:prstGeom prst="rect">
            <a:avLst/>
          </a:prstGeom>
          <a:noFill/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835280" y="4581360"/>
            <a:ext cx="5832360" cy="1295640"/>
          </a:xfrm>
          <a:prstGeom prst="rect">
            <a:avLst/>
          </a:prstGeom>
          <a:noFill/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910880" y="3645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N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910880" y="50133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NS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15636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20616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lass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57200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059280" y="3429000"/>
            <a:ext cx="1223640" cy="863640"/>
          </a:xfrm>
          <a:prstGeom prst="flowChartPredefinedProcess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98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42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71924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lass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30360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lassC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13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lassX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57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lass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A236-8425-4C5C-B705-260CC3C983E4}" type="slidenum">
              <a:t>1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704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.Net for oth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o allow other languages to use your code you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declare how it works </a:t>
            </a:r>
            <a:br>
              <a:rPr sz="2800"/>
            </a:b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using the :Signature</a:t>
            </a:r>
            <a:br>
              <a:rPr sz="2800"/>
            </a:b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tatem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export it through the</a:t>
            </a:r>
            <a:br>
              <a:rPr sz="2800"/>
            </a:b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ile/Export/.Net DLL</a:t>
            </a:r>
            <a:br>
              <a:rPr sz="2800"/>
            </a:b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nu ite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2"/>
          <a:stretch/>
        </p:blipFill>
        <p:spPr>
          <a:xfrm>
            <a:off x="4788000" y="2637000"/>
            <a:ext cx="3467160" cy="20574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292720" y="3716280"/>
            <a:ext cx="2879640" cy="2174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738840" y="3645000"/>
            <a:ext cx="80028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D8F-BA71-433E-9F68-87B2403851E8}" type="slidenum">
              <a:t>1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:Signature statement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statement is used for the outside world where type is important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t is made up of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9900"/>
                </a:solidFill>
                <a:latin typeface="Arial"/>
              </a:rPr>
              <a:t>:Signature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3eb2f"/>
                </a:solidFill>
                <a:latin typeface="Arial"/>
              </a:rPr>
              <a:t>[rt←]</a:t>
            </a:r>
            <a:r>
              <a:rPr b="0" lang="en-GB" sz="2400" spc="-1" strike="noStrike">
                <a:solidFill>
                  <a:srgbClr val="ddfc2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fnname</a:t>
            </a:r>
            <a:r>
              <a:rPr b="0" lang="en-GB" sz="2400" spc="-1" strike="noStrike">
                <a:solidFill>
                  <a:srgbClr val="ddfc2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3eb2f"/>
                </a:solidFill>
                <a:latin typeface="Arial"/>
              </a:rPr>
              <a:t>[at1 [name1]   [</a:t>
            </a:r>
            <a:r>
              <a:rPr b="1" lang="en-GB" sz="2400" spc="-1" strike="noStrike">
                <a:solidFill>
                  <a:srgbClr val="03eb2f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Arial"/>
              </a:rPr>
              <a:t>ng2   [</a:t>
            </a:r>
            <a:r>
              <a:rPr b="1" lang="en-GB" sz="2400" spc="-1" strike="noStrike">
                <a:solidFill>
                  <a:srgbClr val="03eb2f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Arial"/>
              </a:rPr>
              <a:t>...] ] ]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Arial"/>
              </a:rPr>
              <a:t>rt←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s the return type. If present it MUST be followed by ←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fnname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is the name of the function as seen from outside. It does not have to match the function name. This MUST be there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Arial"/>
              </a:rPr>
              <a:t>at1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s the 1</a:t>
            </a:r>
            <a:r>
              <a:rPr b="0" lang="en-GB" sz="20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argument type, if prese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Arial"/>
              </a:rPr>
              <a:t>name1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s the name of the 1</a:t>
            </a:r>
            <a:r>
              <a:rPr b="0" lang="en-GB" sz="20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argument as seen from outside. If elided the DLL documentation will skip it and only show the typ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cc9900"/>
                </a:solidFill>
                <a:latin typeface="Arial"/>
              </a:rPr>
              <a:t>,</a:t>
            </a:r>
            <a:r>
              <a:rPr b="0" i="1" lang="en-GB" sz="2000" spc="-1" strike="noStrike">
                <a:solidFill>
                  <a:srgbClr val="03eb2f"/>
                </a:solidFill>
                <a:latin typeface="Arial"/>
              </a:rPr>
              <a:t>ng2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s the same at/name group for the 2</a:t>
            </a:r>
            <a:r>
              <a:rPr b="0" lang="en-GB" sz="2000" spc="-1" strike="noStrike" baseline="30000">
                <a:solidFill>
                  <a:srgbClr val="080808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argument. If present, the comma MUST be there as it delimits group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cc9900"/>
                </a:solidFill>
                <a:latin typeface="Arial"/>
              </a:rPr>
              <a:t>,</a:t>
            </a:r>
            <a:r>
              <a:rPr b="1" lang="en-GB" sz="2400" spc="-1" strike="noStrike">
                <a:solidFill>
                  <a:srgbClr val="03eb2f"/>
                </a:solidFill>
                <a:latin typeface="Arial"/>
              </a:rPr>
              <a:t>...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same for the other argum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0F91-EBFB-4331-9B3A-DCDB8C2B600F}" type="slidenum">
              <a:t>1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425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.Net for oth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Here’s how a C# program would use this program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using System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using APLClasses;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    // the namespace in which our cla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public class MainClass {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// is foun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public static void Main() {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Primitives apl = new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Primitives();  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// the APL cla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int[] rslt = apl.GenIndices(10);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// THE cal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for (int i=0;i&lt;rslt.Length;i++) Console.WriteLine(rslt[i]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} }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676600" y="4581360"/>
            <a:ext cx="1584360" cy="2876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0B3-6B7C-4F0E-AFAA-7E9BEDFB13BB}" type="slidenum">
              <a:t>1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.Net for oth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Here’s how another APL program would use this program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using←'APLclasses,c:\...\apl.dll'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pr←⎕NEW Primitiv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pr.GenIndices 1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1 2 3 4 5 6 7 8 9 1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316160" y="4005360"/>
            <a:ext cx="158436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614-3588-4696-B6C1-051572AC9B44}" type="slidenum">
              <a:t>1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Web services can be written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using APLScript, the scripting version of Dyalog APL, where logic is separated from page layou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ASMX files and ASPX fil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workspaces “behind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38F-9DE9-4637-A9F5-EA0DFEF2BAC9}" type="slidenum">
              <a:t>1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137160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1. Classe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 class defines the abstract characteristics of a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thing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, akin to a blueprint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It describes a collection of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variable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method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(functions), possibly with a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constructor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method that can be used to create objects of the class and a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destructor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to remove the objects thus creat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0D4F-5D7C-4481-A83F-CA62F0D63D9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Example of Web services written in APLScrip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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</a:t>
            </a:r>
            <a:r>
              <a:rPr b="0" lang="en-GB" sz="2000" spc="-1" strike="noStrike">
                <a:solidFill>
                  <a:srgbClr val="9933ff"/>
                </a:solidFill>
                <a:latin typeface="APLPLUS"/>
                <a:ea typeface="APLPLUS"/>
              </a:rPr>
              <a:t></a:t>
            </a: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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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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</a:t>
            </a:r>
            <a:r>
              <a:rPr b="0" i="1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</a:t>
            </a: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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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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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971640" y="3740040"/>
            <a:ext cx="273672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DD9-AAFC-401E-AAE5-7F1DF8FE4755}" type="slidenum">
              <a:t>1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Example of Web services written in APLScrip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2"/>
          <a:stretch/>
        </p:blipFill>
        <p:spPr>
          <a:xfrm>
            <a:off x="2449440" y="2133720"/>
            <a:ext cx="4210200" cy="406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8132-B280-4FF6-A9FA-728FEBD5CDA0}" type="slidenum">
              <a:t>1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635280" y="1484280"/>
            <a:ext cx="511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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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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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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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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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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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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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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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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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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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316480" y="4869000"/>
            <a:ext cx="934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780000" y="1900080"/>
            <a:ext cx="86328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47840" y="1547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76920" y="16686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ith ASPX file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932360" y="4292640"/>
            <a:ext cx="1079640" cy="431640"/>
          </a:xfrm>
          <a:prstGeom prst="rect">
            <a:avLst/>
          </a:prstGeom>
          <a:solidFill>
            <a:srgbClr val="fbcdff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179280" y="2492280"/>
            <a:ext cx="3355920" cy="1482840"/>
            <a:chOff x="179280" y="2492280"/>
            <a:chExt cx="3355920" cy="1482840"/>
          </a:xfrm>
        </p:grpSpPr>
        <p:pic>
          <p:nvPicPr>
            <p:cNvPr id="1016" name="" descr=""/>
            <p:cNvPicPr/>
            <p:nvPr/>
          </p:nvPicPr>
          <p:blipFill>
            <a:blip r:embed="rId2"/>
            <a:stretch/>
          </p:blipFill>
          <p:spPr>
            <a:xfrm>
              <a:off x="179280" y="249228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7" name=""/>
            <p:cNvSpPr/>
            <p:nvPr/>
          </p:nvSpPr>
          <p:spPr>
            <a:xfrm>
              <a:off x="250920" y="3421080"/>
              <a:ext cx="792000" cy="287280"/>
            </a:xfrm>
            <a:prstGeom prst="rect">
              <a:avLst/>
            </a:prstGeom>
            <a:solidFill>
              <a:srgbClr val="fbcdff">
                <a:alpha val="43000"/>
              </a:srgbClr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179280" y="4149720"/>
            <a:ext cx="3355920" cy="1482840"/>
            <a:chOff x="179280" y="4149720"/>
            <a:chExt cx="3355920" cy="1482840"/>
          </a:xfrm>
        </p:grpSpPr>
        <p:pic>
          <p:nvPicPr>
            <p:cNvPr id="1019" name="" descr=""/>
            <p:cNvPicPr/>
            <p:nvPr/>
          </p:nvPicPr>
          <p:blipFill>
            <a:blip r:embed="rId3"/>
            <a:stretch/>
          </p:blipFill>
          <p:spPr>
            <a:xfrm>
              <a:off x="179280" y="414972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0" name=""/>
            <p:cNvSpPr/>
            <p:nvPr/>
          </p:nvSpPr>
          <p:spPr>
            <a:xfrm>
              <a:off x="250920" y="5076720"/>
              <a:ext cx="792000" cy="289080"/>
            </a:xfrm>
            <a:prstGeom prst="rect">
              <a:avLst/>
            </a:prstGeom>
            <a:solidFill>
              <a:srgbClr val="fbcdff">
                <a:alpha val="43000"/>
              </a:srgbClr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C80A-F415-472A-B0CB-01227697CF52}" type="slidenum">
              <a:t>1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:Using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Using vs ⎕USIN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Using X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s akin to ⎕USING,←X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t appends X to ⎕USING except when no argument is supplied where it means “</a:t>
            </a:r>
            <a:r>
              <a:rPr b="0" lang="en-GB" sz="3200" spc="-1" strike="noStrike">
                <a:solidFill>
                  <a:srgbClr val="080808"/>
                </a:solidFill>
                <a:latin typeface="APL385 Unicode"/>
              </a:rPr>
              <a:t>←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0⍴⊂⍬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a script/class it is necessary to determine the base class/interfac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7F1C-8650-488C-B3EC-74436F0B4FEA}" type="slidenum">
              <a:t>1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Namespaces in script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24" name=""/>
          <p:cNvSpPr/>
          <p:nvPr/>
        </p:nvSpPr>
        <p:spPr>
          <a:xfrm>
            <a:off x="324000" y="1989000"/>
            <a:ext cx="455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ed ⍟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ill edit a new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using the same source format as classes and interface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ource can then be retrieved using ⎕SRC and fixed using ⎕FIX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4859280" y="2565360"/>
            <a:ext cx="3960720" cy="285264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322920" y="1341360"/>
            <a:ext cx="629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Namespaces can have a sour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185-5545-4749-9067-EAB77B6DA708}" type="slidenum">
              <a:t>1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verloading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rimitives cannot be overloaded by APL classes but some .Net classes are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Ex: DateTime objects can be compared using =, &gt;, etc. sorted using ‘grade up’ or added to TimeSpans using +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using←'System'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1←⎕new DateTime ⎕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2←⎕new DateTime (2006 10 16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1←⎕new TimeSpan (7 2 0 0) ⍝ 7 days, 2 hour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+d3←d1-t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2006/10/03 17:12:0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1&lt;d2,d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1 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A2B-F317-499B-8459-0EF68C39B890}" type="slidenum">
              <a:t>1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395280" y="1371600"/>
            <a:ext cx="856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re are many advantages to using OO languages over procedural languages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ase of modifica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reduced maintenance cost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asier to mod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an speed up development tim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clus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2F85-D04A-48CF-AFCD-012FF31ECAA7}" type="slidenum">
              <a:t>1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/>
          </p:nvPr>
        </p:nvSpPr>
        <p:spPr>
          <a:xfrm>
            <a:off x="395280" y="1371600"/>
            <a:ext cx="856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OO languages make abstraction eas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ey encourage architectures with elaborate layers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ey can be good when the problem domain is truly complex and demands a lot of abstraction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clus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7617-344F-43E6-B5CA-CFAF2B0A5D1B}" type="slidenum">
              <a:t>1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ll OO languages show some tendency to suck programmers into the trap of excessive layerin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Object frameworks and object browsers are not a substitute for good design or documenta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areful!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E09-315E-4F6F-B75D-7CB548D854A0}" type="slidenum">
              <a:t>1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oo many layers destroy transparency: It becomes too difficult to see down through them and mentally model what the code is actually doing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e Rules of Simplicity, Clarity, and Transparency can get violated wholesale, and the result is code full of obscure bugs and continuing maintenance problem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areful!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207-2BDA-475B-8521-4AFD61AC5BD0}" type="slidenum">
              <a:t>1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000" y="137160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80808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implement one or more </a:t>
            </a:r>
            <a:r>
              <a:rPr b="0" i="1" lang="en-US" sz="3200" spc="-1" strike="noStrike">
                <a:solidFill>
                  <a:srgbClr val="cc9900"/>
                </a:solidFill>
                <a:latin typeface="Arial"/>
              </a:rPr>
              <a:t>interface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interface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describes 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it should do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cla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describe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how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t should be don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f a class implements an interface it should do it completely, no partial implementation is allow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46EF-087A-46AC-85FC-A1FF3FD6FC9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/>
          </p:nvPr>
        </p:nvSpPr>
        <p:spPr>
          <a:xfrm>
            <a:off x="3059280" y="3213000"/>
            <a:ext cx="3457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Buyer beware!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areful!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232B-D084-4ABE-A476-8CF9BB167150}" type="slidenum">
              <a:t>1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nterfaces - exampl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79280" y="1373040"/>
            <a:ext cx="8785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following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nterface describes what </a:t>
            </a:r>
            <a:r>
              <a:rPr b="0" lang="en-GB" sz="3200" spc="-1" strike="noStrike" u="sng">
                <a:solidFill>
                  <a:srgbClr val="080808"/>
                </a:solidFill>
                <a:uFillTx/>
                <a:latin typeface="Arial"/>
              </a:rPr>
              <a:t>ha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o be done with a machin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thod Steer (direction); // where to go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thod Accellerate (power); // go faste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thod SlowDown (strength); // go slowe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t does NOT specify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how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t should be don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5D49-A873-4A8B-8188-9541460F2D1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943600" y="1557360"/>
            <a:ext cx="3205080" cy="42498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nterfaces - exampl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82072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car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bject implements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 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9280" y="1874880"/>
            <a:ext cx="62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car : maneuvering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SteeringWheel: implement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Steer (turn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GasPedal: implement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Accellerate (push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BreakPedal: implement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SlowDown (hit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D848-63CD-412B-A873-1745CE5935C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2997000"/>
            <a:ext cx="8134200" cy="31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teroperability &amp; 64 bit O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ew WS managemen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ew primitives &amp; enhancements to oth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Object Orienta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155736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V11 has been releas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Here are the major features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86D3-1372-4EE7-A0F2-513289BC4C7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722920" y="1773360"/>
            <a:ext cx="3421080" cy="4032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nterfaces - exampl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5330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lane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bject implements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 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892160"/>
            <a:ext cx="786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plane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: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maneuvering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Stick: implements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Steer (move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Handle: implements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Accellerate (pushpull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Flaps: implements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SlowDown (degree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8F2D-529D-46FA-A492-3C46150D104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2. Instance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ose are tangible objects created from a specific cla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Upon creation any specific action is carried out by the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constructor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f the class if need b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Upon destruction, the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destructor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s responsible for cleaning up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8B7-C1B8-497E-947D-4E0E86D164B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3. Member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s is the code and the data of a cla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code is divided into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Method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(functions) and data is divided into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Field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(variables)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re are also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opertie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which are Fields implemented via functions to read/set them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ll these are visible from outside when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r invisible from outside if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D84-6230-4829-8257-807A20EB12E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Members: Method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ose can either reside in the class (</a:t>
            </a:r>
            <a:r>
              <a:rPr b="0" i="1" lang="en-US" sz="3200" spc="-1" strike="noStrike">
                <a:solidFill>
                  <a:srgbClr val="cc9900"/>
                </a:solidFill>
                <a:latin typeface="Arial"/>
              </a:rPr>
              <a:t>shared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method) or in the instance (</a:t>
            </a:r>
            <a:r>
              <a:rPr b="0" i="1" lang="en-US" sz="3200" spc="-1" strike="noStrike">
                <a:solidFill>
                  <a:srgbClr val="cc9900"/>
                </a:solidFill>
                <a:latin typeface="Arial"/>
              </a:rPr>
              <a:t>instance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method)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re are also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abstrac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ethods (e.g. in interfaces) with no code, only calling syntax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Constructor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destructor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are method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9C21-5168-424A-A0F7-FF929CB90F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Members: Field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ose can either reside in the class (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shared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field) or in the instance (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instance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field)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y can also be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read only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3FA-AE7D-42A9-8989-E3D41CD1766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Members: Propertie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ose are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Field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mplemented by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access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ethods, i.e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PL385 Unicode"/>
              </a:rPr>
              <a:t> </a:t>
            </a:r>
            <a:r>
              <a:rPr b="0" lang="en-GB" sz="3200" spc="-1" strike="noStrike">
                <a:solidFill>
                  <a:srgbClr val="080808"/>
                </a:solidFill>
                <a:latin typeface="APL385 Unicode"/>
              </a:rPr>
              <a:t>PropX</a:t>
            </a: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←</a:t>
            </a:r>
            <a:r>
              <a:rPr b="0" lang="fr-CA" sz="2800" spc="-1" strike="noStrike">
                <a:solidFill>
                  <a:srgbClr val="080808"/>
                </a:solidFill>
                <a:latin typeface="APL385 Unicode"/>
              </a:rPr>
              <a:t>value </a:t>
            </a:r>
            <a:r>
              <a:rPr b="0" lang="fr-CA" sz="2800" spc="-1" strike="noStrike">
                <a:solidFill>
                  <a:srgbClr val="080808"/>
                </a:solidFill>
                <a:latin typeface="APL385 Unicode"/>
              </a:rPr>
              <a:t>	</a:t>
            </a:r>
            <a:r>
              <a:rPr b="0" lang="fr-CA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80808"/>
                </a:solidFill>
                <a:latin typeface="Arial"/>
              </a:rPr>
              <a:t>is implemented by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80808"/>
                </a:solidFill>
                <a:latin typeface="APL385 Unicode"/>
              </a:rPr>
              <a:t> </a:t>
            </a:r>
            <a:r>
              <a:rPr b="0" lang="fr-CA" sz="2800" spc="-1" strike="noStrike">
                <a:solidFill>
                  <a:srgbClr val="080808"/>
                </a:solidFill>
                <a:latin typeface="APL385 Unicode"/>
              </a:rPr>
              <a:t>SET valu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ey can either reside in the class (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shared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property) or in the instance (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instance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property)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0C8-78A8-4C42-9F73-10A7DFFBC5C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4. Message passing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s is the (usually asynchronous) sending (often by copy) of a data item to a communication endpoint (process, thread, socket,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etc.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procedural languages it corresponds to a call made to a routin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86F-A3F2-471B-A371-B42A0E5E9C2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5. Inheritance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This is a way to avoid rewriting code by writing general classes and classes that 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derive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from them and 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inherit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their 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members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This helps achieve 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reusability, 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a cornerstone of OO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BDE-5D09-4047-AD34-9EA4C8C79A8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Inheritance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We say that a (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derived)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class is </a:t>
            </a:r>
            <a:r>
              <a:rPr b="0" i="1" lang="fr-CA" sz="3200" spc="-1" strike="noStrike">
                <a:solidFill>
                  <a:srgbClr val="cc9900"/>
                </a:solidFill>
                <a:latin typeface="Arial"/>
              </a:rPr>
              <a:t>based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on another on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80808"/>
                </a:solidFill>
                <a:latin typeface="Arial"/>
              </a:rPr>
              <a:t>All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classes (but one) are derived from another one or by 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System.Object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(the default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197-1F89-4495-A383-534E920AE9C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Inheritance: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classes (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reusability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Arial"/>
              </a:rPr>
              <a:t>clas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Arial"/>
              </a:rPr>
              <a:t>clas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Collie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on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Dog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on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Anima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4360" y="4221000"/>
            <a:ext cx="158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7164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Dog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501156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Rex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71640" y="4797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sh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48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do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g Dane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5928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Collie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270" name=""/>
          <p:cNvCxnSpPr>
            <a:stCxn id="263" idx="3"/>
            <a:endCxn id="264" idx="1"/>
          </p:cNvCxnSpPr>
          <p:nvPr/>
        </p:nvCxnSpPr>
        <p:spPr>
          <a:xfrm flipV="1">
            <a:off x="2268360" y="3933000"/>
            <a:ext cx="504000" cy="79308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63" idx="3"/>
            <a:endCxn id="266" idx="1"/>
          </p:cNvCxnSpPr>
          <p:nvPr/>
        </p:nvCxnSpPr>
        <p:spPr>
          <a:xfrm>
            <a:off x="2268360" y="4726080"/>
            <a:ext cx="504000" cy="576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64" idx="3"/>
            <a:endCxn id="268" idx="1"/>
          </p:cNvCxnSpPr>
          <p:nvPr/>
        </p:nvCxnSpPr>
        <p:spPr>
          <a:xfrm flipV="1">
            <a:off x="4356000" y="3646080"/>
            <a:ext cx="504000" cy="2880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4" idx="3"/>
            <a:endCxn id="269" idx="1"/>
          </p:cNvCxnSpPr>
          <p:nvPr/>
        </p:nvCxnSpPr>
        <p:spPr>
          <a:xfrm>
            <a:off x="4356000" y="3933360"/>
            <a:ext cx="504000" cy="1080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9" idx="3"/>
            <a:endCxn id="267" idx="1"/>
          </p:cNvCxnSpPr>
          <p:nvPr/>
        </p:nvCxnSpPr>
        <p:spPr>
          <a:xfrm flipV="1">
            <a:off x="6443640" y="4365000"/>
            <a:ext cx="505440" cy="648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69" idx="3"/>
            <a:endCxn id="265" idx="1"/>
          </p:cNvCxnSpPr>
          <p:nvPr/>
        </p:nvCxnSpPr>
        <p:spPr>
          <a:xfrm>
            <a:off x="6443640" y="5013360"/>
            <a:ext cx="505440" cy="5040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7021800" y="34034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51000" y="44006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4724280"/>
            <a:ext cx="50508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9AD9-F0BA-4C52-A8BF-C6BC07A63B8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90082"/>
                </a:solidFill>
                <a:latin typeface="Arial Black"/>
              </a:rPr>
              <a:t>This talk is based on 2 things: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2852640"/>
            <a:ext cx="777564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80808"/>
                </a:solidFill>
                <a:latin typeface="Arial"/>
              </a:rPr>
              <a:t>Why? Why should I know about this? Why am I here?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80808"/>
                </a:solidFill>
                <a:latin typeface="Arial"/>
              </a:rPr>
              <a:t>OK, I’m still here, how do I use it?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557360"/>
            <a:ext cx="8136000" cy="934920"/>
          </a:xfrm>
          <a:prstGeom prst="rect">
            <a:avLst/>
          </a:prstGeom>
          <a:noFill/>
          <a:ln w="57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36B-E54E-409D-92C7-BF193C26DF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Inheritance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When an </a:t>
            </a:r>
            <a:r>
              <a:rPr b="0" i="1" lang="fr-CA" sz="3200" spc="-1" strike="noStrike">
                <a:solidFill>
                  <a:srgbClr val="cc9900"/>
                </a:solidFill>
                <a:latin typeface="Arial"/>
              </a:rPr>
              <a:t>instance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is created from a class </a:t>
            </a:r>
            <a:r>
              <a:rPr b="0" i="1" lang="fr-CA" sz="3200" spc="-1" strike="noStrike">
                <a:solidFill>
                  <a:srgbClr val="cc9900"/>
                </a:solidFill>
                <a:latin typeface="Arial"/>
              </a:rPr>
              <a:t>based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on another one it inherits all its members automatically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Members can be redefined but subroutines must be specifically set to </a:t>
            </a:r>
            <a:r>
              <a:rPr b="0" i="1" lang="fr-CA" sz="3200" spc="-1" strike="noStrike">
                <a:solidFill>
                  <a:srgbClr val="cc9900"/>
                </a:solidFill>
                <a:latin typeface="Arial"/>
              </a:rPr>
              <a:t>override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base class subroutine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99D-B66F-4901-AC07-4786B5001A4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Inheritance: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multiple inheri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cla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can be based on several other classes. See </a:t>
            </a: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class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ule made out of 2 different classe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164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Hors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7164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Donke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285" name=""/>
          <p:cNvCxnSpPr>
            <a:stCxn id="284" idx="3"/>
            <a:endCxn id="286" idx="1"/>
          </p:cNvCxnSpPr>
          <p:nvPr/>
        </p:nvCxnSpPr>
        <p:spPr>
          <a:xfrm flipV="1">
            <a:off x="4356000" y="4438440"/>
            <a:ext cx="721440" cy="57528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83" idx="3"/>
            <a:endCxn id="286" idx="1"/>
          </p:cNvCxnSpPr>
          <p:nvPr/>
        </p:nvCxnSpPr>
        <p:spPr>
          <a:xfrm>
            <a:off x="4356000" y="3646080"/>
            <a:ext cx="721440" cy="79308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>
            <a:off x="5076720" y="3933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u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ACC-AEF1-4C5A-8099-BEF8913F51F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verride concept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89" name=""/>
          <p:cNvSpPr/>
          <p:nvPr/>
        </p:nvSpPr>
        <p:spPr>
          <a:xfrm>
            <a:off x="1117800" y="446076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65800" y="443700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A625-0755-40FE-AB94-B44E35928008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1117800" y="446076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65800" y="443700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BB37-31FE-41F0-8324-8CC2E2563A3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Overrid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17800" y="446076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65800" y="443700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55600" y="5589720"/>
            <a:ext cx="38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:M2 does not allow to be override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9AD0-81E6-4015-9B0E-27ADF606CF0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Overrid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Overridab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35280" y="3141720"/>
            <a:ext cx="374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47640" y="263700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47640" y="2060640"/>
            <a:ext cx="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17800" y="446076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65800" y="443700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81400" y="5589720"/>
            <a:ext cx="61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:M2 does allow to be overriden AND B wants to override i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E54-E9EA-4CD8-9887-E9BC5FCE7C6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63272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6. Encapsulation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Hides the underlying functionality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It conceals the exact details of how a particular class works from objects (external or internal) that use its cod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allows to modify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e internal implementation of a class without requiring changes to its services (i.e. methods)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5E0-5825-4F95-8111-99DDE758F1C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Example: a car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onsider a car: the functionality is hidden, it is encapsulated, you don’t see all the wiring inside, you’re only given specific controls to manipulate the car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2195640" y="3284640"/>
            <a:ext cx="4608360" cy="30733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2077920" y="3068640"/>
            <a:ext cx="4799160" cy="351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7A5-3B51-473F-BB25-1653BF1606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o allow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acce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o a member there are various level definition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r example, to expose a member you must use some syntax that will declare it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By default,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s the norm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267-30E7-4A20-9F36-46AD4CFD18E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790082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Encapsulation: private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ember cannot be seen from anywhere. Only other Methods can access it from inside the class if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 share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r from within the instance if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 instanc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 is onl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en in th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ale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790082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790082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307-F516-4F02-B0D3-D744011B4F2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Synopsi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32000" y="1413000"/>
            <a:ext cx="6408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54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Why should I be here?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-65412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Reas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How do I use this?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-65412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History of OO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-65412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-65412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APL wa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-65412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mplementation detail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Real Life Example (SJT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342-3AEB-478B-8E00-7783859B80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Encapsulation: protected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protecte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ember can only be seen from within the instance of from within instances within it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790082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 is onl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en in th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ale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359-9B4C-4663-81AF-0569CCB5069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Encapsulation: public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ember can be seen from anywhere. All Methods can access it from anywhere whether it is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 share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r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 instanc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 is see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n all th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ale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F4D-546D-43C1-B797-B34ACA22F0A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Encapsulation: friend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class declared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frien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can see the offerer’s private and public member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08720" y="3718080"/>
            <a:ext cx="2160360" cy="1726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rivate Pv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ublic Pu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riend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90360" y="30891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870160" y="306864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547640" y="3716280"/>
            <a:ext cx="2160720" cy="93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rivate Av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ublic Au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08720" y="4292640"/>
            <a:ext cx="215892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595680" y="4076640"/>
            <a:ext cx="22003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3564000" y="4292640"/>
            <a:ext cx="223344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19800" y="4838760"/>
            <a:ext cx="37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Here A sees B’s member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s its own member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882-9C73-4F6B-B2FF-65417E86E1E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7. Polymorphism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It is behavior that allows a single definition to be used with different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type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of data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is a way to call various sections of code using the same nam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yped languages can tell the difference by looking at the “signature” of the functions (their number of arguments and their types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4E7-BE4A-46A4-B6AC-8D4782F658B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Polymorphism example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9640" y="1989000"/>
            <a:ext cx="3600720" cy="3018600"/>
          </a:xfrm>
          <a:prstGeom prst="rect">
            <a:avLst/>
          </a:prstGeom>
          <a:solidFill>
            <a:srgbClr val="fb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o (integer arg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// fn called with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// an integer ar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Print “Int arg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1989000"/>
            <a:ext cx="3600360" cy="3018600"/>
          </a:xfrm>
          <a:prstGeom prst="rect">
            <a:avLst/>
          </a:prstGeom>
          <a:solidFill>
            <a:srgbClr val="fb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o (string arg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// fn called with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// a string ar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Print “String arg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21440" y="5229360"/>
            <a:ext cx="58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ame function name, different cod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22A1-ED2D-413A-A0EE-919B58BE05C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8640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Polymorphism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3120" y="2133720"/>
            <a:ext cx="8170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program that accepts multiple definit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s said to be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overload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ometimes arguments have to be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 coerced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to a new type to achieve proper behaviou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7C8-FBEB-4127-BA33-EAF2D68EB80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OO C</a:t>
            </a: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ncepts</a:t>
            </a: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 Summary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O is based on +-7 key concept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 are blueprint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stances are objects created from clas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y contain members (data &amp; code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ir access is restricted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relation between classes is based on inheritance or specific acces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96C6-8C2B-4FDA-BB12-23B9FC5ED1D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End of OO basic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131640" y="2205000"/>
            <a:ext cx="2590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1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2597-0B58-4222-BF25-74D7F9A8560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900000" y="1844640"/>
            <a:ext cx="7272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Dyalog AP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w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482-D1BA-4F2C-89E1-77C24AECE01F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Dyalog follows C# rules closel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extensions to the language have been made in following with the :Keywords scheme introduced in the 90s (All new keywords start with ‘:’ 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ome new system functions have been added and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ome new system commands also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0E22-AD80-49F9-9194-F88872FC521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Reasons: why do this?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80808"/>
                </a:solidFill>
                <a:latin typeface="Arial"/>
              </a:rPr>
              <a:t>Because Object Orientation is a Valuable Tool of Thought!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80808"/>
                </a:solidFill>
                <a:latin typeface="Arial"/>
              </a:rPr>
              <a:t>To be able to Share Tools and Components more Easil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80808"/>
                </a:solidFill>
                <a:latin typeface="Arial"/>
              </a:rPr>
              <a:t>To help us Manage Complexity in all Project Pha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o use .Net more easil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FA8-DB0F-4684-8B06-3B8A993982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Let’s see how Dyalog APL does this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627280" y="2133720"/>
            <a:ext cx="403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stances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mb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ssage passin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ncapsula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Polymorphism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2D0-6097-44DC-8BA0-3C61B0FB621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class can be defined using the )EDitor as in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ED ○ MyClas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Upon exiting, MyClass will be defined in the current namespace (e.g. #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4067280" y="1989000"/>
            <a:ext cx="3313080" cy="28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C53-5672-4203-BA43-73246A0013F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the workspace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MyCla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appears as a namespac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C ‘MyClass’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CLAS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yClas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AF92-BE02-4C4A-8831-DB027E8494D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membe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members in a class ar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Field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: same as a variabl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: same as a functio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Property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: looks and feels like a variable but implemented as a pair of functio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ll can be either </a:t>
            </a: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r </a:t>
            </a: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privat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(the default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82B-EA3E-4617-9D0C-ED5DC908D7E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membe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3313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class to the right shows a few fields (vars) and their acce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access is the same for methods (fns) and propertie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3695760" y="1413000"/>
            <a:ext cx="5268960" cy="423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DEDD-2230-4B65-9325-B466FC02973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membe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316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class to the right shows a few methods (fns) and their acces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&lt;mon1&gt; is also used as a constructor. It MUST be public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4440240" y="1341360"/>
            <a:ext cx="4289400" cy="460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1D6C-5B90-41CD-9D0B-C35A60BC182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membe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316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class to the right shows 2 properties and their acces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1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ne is private and readonly (it has no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set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fn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2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ne is public read/writ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3683160" cy="46083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5435640" y="2276640"/>
            <a:ext cx="2521080" cy="865080"/>
          </a:xfrm>
          <a:prstGeom prst="rect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435640" y="3284640"/>
            <a:ext cx="2521080" cy="2160360"/>
          </a:xfrm>
          <a:prstGeom prst="rect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8AD3-F2CA-4AA3-936A-CC3987C94510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323640" y="1371600"/>
            <a:ext cx="813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 are like blueprints: they define how things should b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EW  is a new system function that creates an object using a class as an instance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Whatever is in the class will appear in the instance as a copy, not a refere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stan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7F4-2CF9-4BF1-82B5-8A3A5DB5878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323640" y="1371600"/>
            <a:ext cx="813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EW accepts a one or two elements argument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1</a:t>
            </a:r>
            <a:r>
              <a:rPr b="0" lang="en-GB" sz="32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ne is the class (not its name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2</a:t>
            </a:r>
            <a:r>
              <a:rPr b="0" lang="en-GB" sz="3200" spc="-1" strike="noStrike" baseline="30000">
                <a:solidFill>
                  <a:srgbClr val="080808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, if present, is what to start/initialize it with. It can only be supplied if the class accepts a value as initialize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⎕NEW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8CA-B84D-46E3-8FBB-FC16055886C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23640" y="1371600"/>
            <a:ext cx="813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yInstance←⎕NEW   MyClas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display form includes [brackets] by defaul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yInstan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.[MyClass]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t is another type of namespa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‘myInstance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⎕NEW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4DC-BEBE-4298-AC23-7D28CCEA76D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was already in V10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7160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ability to use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.Net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with classes was already there in V10 but it was more difficult to us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2914560" cy="3024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316320" y="2852640"/>
            <a:ext cx="2192400" cy="3027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707080" y="2852640"/>
            <a:ext cx="3257640" cy="30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F65-5EF6-4AE2-A2B0-4D36DD94D6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323640" y="1371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lasses may require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something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to initialize the instance. Ex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ED ○ Anima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title"/>
          </p:nvPr>
        </p:nvSpPr>
        <p:spPr>
          <a:xfrm>
            <a:off x="3236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constructo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4211640" y="1989000"/>
            <a:ext cx="4248000" cy="36529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290520" y="3108240"/>
            <a:ext cx="415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Here an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animal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mus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e have at least two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haracteristic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 of leg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ounds it mak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CA3-8053-432A-9B84-7FA2D6EE04E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23640" y="1371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everal instances can be made up of the same Animal clas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3236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constructo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3562200" y="1916280"/>
            <a:ext cx="4681800" cy="20746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63960" y="2655720"/>
            <a:ext cx="85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fter running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functio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we have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)ob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ish monkey myInstance snake tiger Animal MyCla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C ‘animals’   ⍝ this is a variable holding 4 instanc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nimals.Nlegs   ⍝ how many legs for each animal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4 0 0 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A7E-8D92-435D-ADF0-971CF7108C8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8856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message passing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APL this merely consists in calling the methods directly either from the instance or from the class if shared, e.g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yclass.sharedFn arg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yInstance.Fn args ⍝ if an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D3A8-9CF4-4858-B138-3FB53066909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152280"/>
            <a:ext cx="856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Inheritance: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class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Arial"/>
              </a:rPr>
              <a:t>clas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Arial"/>
              </a:rPr>
              <a:t>clas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Collie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on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Dog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on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Anima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4221000"/>
            <a:ext cx="158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7164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948360" y="501156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Rex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71640" y="4797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sh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48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do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85928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g Dane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85928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ollie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462" name=""/>
          <p:cNvCxnSpPr>
            <a:stCxn id="455" idx="3"/>
            <a:endCxn id="456" idx="1"/>
          </p:cNvCxnSpPr>
          <p:nvPr/>
        </p:nvCxnSpPr>
        <p:spPr>
          <a:xfrm flipV="1">
            <a:off x="2268360" y="3933000"/>
            <a:ext cx="504000" cy="79308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58" idx="1"/>
          </p:cNvCxnSpPr>
          <p:nvPr/>
        </p:nvCxnSpPr>
        <p:spPr>
          <a:xfrm>
            <a:off x="2268360" y="4726080"/>
            <a:ext cx="504000" cy="576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6" idx="3"/>
            <a:endCxn id="460" idx="1"/>
          </p:cNvCxnSpPr>
          <p:nvPr/>
        </p:nvCxnSpPr>
        <p:spPr>
          <a:xfrm flipV="1">
            <a:off x="4356000" y="3646080"/>
            <a:ext cx="504000" cy="2880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465" name=""/>
          <p:cNvCxnSpPr>
            <a:stCxn id="456" idx="3"/>
            <a:endCxn id="461" idx="1"/>
          </p:cNvCxnSpPr>
          <p:nvPr/>
        </p:nvCxnSpPr>
        <p:spPr>
          <a:xfrm>
            <a:off x="4356000" y="3933360"/>
            <a:ext cx="504000" cy="108036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466" name=""/>
          <p:cNvCxnSpPr>
            <a:stCxn id="461" idx="3"/>
            <a:endCxn id="459" idx="1"/>
          </p:cNvCxnSpPr>
          <p:nvPr/>
        </p:nvCxnSpPr>
        <p:spPr>
          <a:xfrm flipV="1">
            <a:off x="6443640" y="4365000"/>
            <a:ext cx="505440" cy="648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1" idx="3"/>
            <a:endCxn id="457" idx="1"/>
          </p:cNvCxnSpPr>
          <p:nvPr/>
        </p:nvCxnSpPr>
        <p:spPr>
          <a:xfrm>
            <a:off x="6443640" y="5013360"/>
            <a:ext cx="505440" cy="50400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468" name=""/>
          <p:cNvSpPr/>
          <p:nvPr/>
        </p:nvSpPr>
        <p:spPr>
          <a:xfrm>
            <a:off x="7021800" y="34034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051000" y="44006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79280" y="4724280"/>
            <a:ext cx="50508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9BD1-7C69-41A3-A9D8-A942B701164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1342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Example: a bird’s generic description is ‘plain Bird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Birdy←⎕NEW Bir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Birdy.Desc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lain Bir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73" name=""/>
          <p:cNvSpPr/>
          <p:nvPr/>
        </p:nvSpPr>
        <p:spPr>
          <a:xfrm>
            <a:off x="971640" y="3860640"/>
            <a:ext cx="158436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r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3" idx="3"/>
            <a:endCxn id="475" idx="1"/>
          </p:cNvCxnSpPr>
          <p:nvPr/>
        </p:nvCxnSpPr>
        <p:spPr>
          <a:xfrm>
            <a:off x="2555640" y="4365360"/>
            <a:ext cx="361080" cy="108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916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rdy (Bird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11280" y="4365720"/>
            <a:ext cx="36036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3887640" cy="27669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24000" y="3141720"/>
            <a:ext cx="1511280" cy="503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516720" y="3625920"/>
            <a:ext cx="1224000" cy="28872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91840" y="5124600"/>
            <a:ext cx="80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hen Birdy is created, Bird’s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constructor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is calle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0AC-C516-4DF8-952A-A03E00933AE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5076720" y="1197000"/>
            <a:ext cx="3888000" cy="27669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5364000" y="3068640"/>
            <a:ext cx="3637080" cy="344952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4392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Example: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 parrot is a bir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oco←⎕NEW Parro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oco.Desc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ot a plain Bird, a Parro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95280" y="3933720"/>
            <a:ext cx="5256000" cy="1942920"/>
            <a:chOff x="395280" y="3933720"/>
            <a:chExt cx="5256000" cy="1942920"/>
          </a:xfrm>
        </p:grpSpPr>
        <p:sp>
          <p:nvSpPr>
            <p:cNvPr id="486" name=""/>
            <p:cNvSpPr/>
            <p:nvPr/>
          </p:nvSpPr>
          <p:spPr>
            <a:xfrm>
              <a:off x="715680" y="473364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Bir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cxnSp>
          <p:nvCxnSpPr>
            <p:cNvPr id="487" name=""/>
            <p:cNvCxnSpPr>
              <a:stCxn id="486" idx="3"/>
              <a:endCxn id="488" idx="1"/>
            </p:cNvCxnSpPr>
            <p:nvPr/>
          </p:nvCxnSpPr>
          <p:spPr>
            <a:xfrm flipV="1">
              <a:off x="2126160" y="4333680"/>
              <a:ext cx="321120" cy="800640"/>
            </a:xfrm>
            <a:prstGeom prst="straightConnector1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</p:cxnSp>
        <p:sp>
          <p:nvSpPr>
            <p:cNvPr id="488" name=""/>
            <p:cNvSpPr/>
            <p:nvPr/>
          </p:nvSpPr>
          <p:spPr>
            <a:xfrm>
              <a:off x="2446920" y="393372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Birdy (Bird)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5280" y="5134320"/>
              <a:ext cx="320400" cy="0"/>
            </a:xfrm>
            <a:prstGeom prst="line">
              <a:avLst/>
            </a:prstGeom>
            <a:ln w="9360">
              <a:solidFill>
                <a:srgbClr val="08080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446920" y="507672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Parrot: Bir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cxnSp>
          <p:nvCxnSpPr>
            <p:cNvPr id="491" name=""/>
            <p:cNvCxnSpPr>
              <a:stCxn id="486" idx="3"/>
              <a:endCxn id="490" idx="1"/>
            </p:cNvCxnSpPr>
            <p:nvPr/>
          </p:nvCxnSpPr>
          <p:spPr>
            <a:xfrm>
              <a:off x="2126160" y="5134320"/>
              <a:ext cx="321120" cy="343440"/>
            </a:xfrm>
            <a:prstGeom prst="straightConnector1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4241160" y="507672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Coco (Parrot)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90" idx="3"/>
              <a:endCxn id="492" idx="1"/>
            </p:cNvCxnSpPr>
            <p:nvPr/>
          </p:nvCxnSpPr>
          <p:spPr>
            <a:xfrm>
              <a:off x="3856680" y="5477040"/>
              <a:ext cx="384840" cy="1080"/>
            </a:xfrm>
            <a:prstGeom prst="straightConnector1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</p:cxnSp>
      </p:grpSp>
      <p:sp>
        <p:nvSpPr>
          <p:cNvPr id="494" name=""/>
          <p:cNvSpPr/>
          <p:nvPr/>
        </p:nvSpPr>
        <p:spPr>
          <a:xfrm>
            <a:off x="6804000" y="2781360"/>
            <a:ext cx="1224000" cy="2538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408720" y="5380200"/>
            <a:ext cx="2340000" cy="2174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55680" y="2852640"/>
            <a:ext cx="3456000" cy="36036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708360" y="213372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18200" y="400536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028000" y="479736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443640" y="227664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501" name=""/>
          <p:cNvCxnSpPr>
            <a:stCxn id="497" idx="5"/>
            <a:endCxn id="498" idx="7"/>
          </p:cNvCxnSpPr>
          <p:nvPr/>
        </p:nvCxnSpPr>
        <p:spPr>
          <a:xfrm flipH="1" rot="16200000">
            <a:off x="4062240" y="1899720"/>
            <a:ext cx="1823400" cy="2410560"/>
          </a:xfrm>
          <a:prstGeom prst="curvedConnector5">
            <a:avLst>
              <a:gd name="adj1" fmla="val 49901"/>
              <a:gd name="adj2" fmla="val 49992"/>
              <a:gd name="adj3" fmla="val 49901"/>
            </a:avLst>
          </a:prstGeom>
          <a:ln w="381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stCxn id="499" idx="1"/>
            <a:endCxn id="500" idx="1"/>
          </p:cNvCxnSpPr>
          <p:nvPr/>
        </p:nvCxnSpPr>
        <p:spPr>
          <a:xfrm flipV="1" rot="16200000">
            <a:off x="5985720" y="2755080"/>
            <a:ext cx="2521800" cy="1585080"/>
          </a:xfrm>
          <a:prstGeom prst="curvedConnector5">
            <a:avLst>
              <a:gd name="adj1" fmla="val 129711"/>
              <a:gd name="adj2" fmla="val 50000"/>
              <a:gd name="adj3" fmla="val 129711"/>
            </a:avLst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6443640" y="2637000"/>
            <a:ext cx="2089080" cy="2879640"/>
          </a:xfrm>
          <a:custGeom>
            <a:avLst/>
            <a:gdLst/>
            <a:ahLst/>
            <a:rect l="l" t="t" r="r" b="b"/>
            <a:pathLst>
              <a:path w="1316" h="2087">
                <a:moveTo>
                  <a:pt x="0" y="0"/>
                </a:moveTo>
                <a:cubicBezTo>
                  <a:pt x="26" y="128"/>
                  <a:pt x="53" y="257"/>
                  <a:pt x="227" y="317"/>
                </a:cubicBezTo>
                <a:cubicBezTo>
                  <a:pt x="401" y="377"/>
                  <a:pt x="885" y="159"/>
                  <a:pt x="1044" y="363"/>
                </a:cubicBezTo>
                <a:cubicBezTo>
                  <a:pt x="1203" y="567"/>
                  <a:pt x="1316" y="1338"/>
                  <a:pt x="1180" y="1542"/>
                </a:cubicBezTo>
                <a:cubicBezTo>
                  <a:pt x="1044" y="1746"/>
                  <a:pt x="424" y="1497"/>
                  <a:pt x="227" y="1588"/>
                </a:cubicBezTo>
                <a:cubicBezTo>
                  <a:pt x="30" y="1679"/>
                  <a:pt x="15" y="1883"/>
                  <a:pt x="0" y="2087"/>
                </a:cubicBezTo>
              </a:path>
            </a:pathLst>
          </a:custGeom>
          <a:noFill/>
          <a:ln w="9360">
            <a:solidFill>
              <a:srgbClr val="080808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227640" y="4149720"/>
            <a:ext cx="71640" cy="574560"/>
          </a:xfrm>
          <a:prstGeom prst="line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459480" y="5157720"/>
            <a:ext cx="0" cy="503280"/>
          </a:xfrm>
          <a:prstGeom prst="line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D4D-DDAF-4EE4-B7F9-B1E735BEF2D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351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We can create classes and instances at all level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08" name=""/>
          <p:cNvSpPr/>
          <p:nvPr/>
        </p:nvSpPr>
        <p:spPr>
          <a:xfrm>
            <a:off x="61128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r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56000" y="43308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arrot: Bir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77080" y="4724280"/>
            <a:ext cx="1800360" cy="93672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weety (Macaw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43280" y="5013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acaw: Parro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08" idx="3"/>
            <a:endCxn id="509" idx="1"/>
          </p:cNvCxnSpPr>
          <p:nvPr/>
        </p:nvCxnSpPr>
        <p:spPr>
          <a:xfrm>
            <a:off x="2195280" y="3933360"/>
            <a:ext cx="361080" cy="90252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8" idx="3"/>
            <a:endCxn id="514" idx="1"/>
          </p:cNvCxnSpPr>
          <p:nvPr/>
        </p:nvCxnSpPr>
        <p:spPr>
          <a:xfrm flipV="1">
            <a:off x="2195280" y="3069360"/>
            <a:ext cx="361080" cy="864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9" idx="3"/>
            <a:endCxn id="511" idx="1"/>
          </p:cNvCxnSpPr>
          <p:nvPr/>
        </p:nvCxnSpPr>
        <p:spPr>
          <a:xfrm>
            <a:off x="4140000" y="4835520"/>
            <a:ext cx="503640" cy="68292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11" idx="3"/>
            <a:endCxn id="510" idx="1"/>
          </p:cNvCxnSpPr>
          <p:nvPr/>
        </p:nvCxnSpPr>
        <p:spPr>
          <a:xfrm flipV="1">
            <a:off x="6227640" y="5192280"/>
            <a:ext cx="650160" cy="3261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7021800" y="42670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62280" y="39337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56000" y="2565360"/>
            <a:ext cx="1584360" cy="100800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rdy (Bird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0920" y="3933720"/>
            <a:ext cx="36036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88000" y="350028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Coco (Parrot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521" name=""/>
          <p:cNvCxnSpPr>
            <a:stCxn id="509" idx="3"/>
            <a:endCxn id="520" idx="1"/>
          </p:cNvCxnSpPr>
          <p:nvPr/>
        </p:nvCxnSpPr>
        <p:spPr>
          <a:xfrm flipV="1">
            <a:off x="4140000" y="4005000"/>
            <a:ext cx="648360" cy="83088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635-FE94-4D8E-9A60-3820422BD84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5280" y="152280"/>
            <a:ext cx="856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Inheritance: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onstructors with argument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Using the animal kingdom as exampl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4360" y="4221000"/>
            <a:ext cx="158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77164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948360" y="501156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Rex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771640" y="4797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sh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948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do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85928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g Dane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85928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ollie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531" name=""/>
          <p:cNvCxnSpPr>
            <a:stCxn id="524" idx="3"/>
            <a:endCxn id="525" idx="1"/>
          </p:cNvCxnSpPr>
          <p:nvPr/>
        </p:nvCxnSpPr>
        <p:spPr>
          <a:xfrm flipV="1">
            <a:off x="2268360" y="3933000"/>
            <a:ext cx="504000" cy="79308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32" name=""/>
          <p:cNvCxnSpPr>
            <a:stCxn id="524" idx="3"/>
            <a:endCxn id="527" idx="1"/>
          </p:cNvCxnSpPr>
          <p:nvPr/>
        </p:nvCxnSpPr>
        <p:spPr>
          <a:xfrm>
            <a:off x="2268360" y="4726080"/>
            <a:ext cx="504000" cy="576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33" name=""/>
          <p:cNvCxnSpPr>
            <a:stCxn id="525" idx="3"/>
            <a:endCxn id="529" idx="1"/>
          </p:cNvCxnSpPr>
          <p:nvPr/>
        </p:nvCxnSpPr>
        <p:spPr>
          <a:xfrm flipV="1">
            <a:off x="4356000" y="3646080"/>
            <a:ext cx="504000" cy="2880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34" name=""/>
          <p:cNvCxnSpPr>
            <a:stCxn id="525" idx="3"/>
            <a:endCxn id="530" idx="1"/>
          </p:cNvCxnSpPr>
          <p:nvPr/>
        </p:nvCxnSpPr>
        <p:spPr>
          <a:xfrm>
            <a:off x="4356000" y="3933360"/>
            <a:ext cx="504000" cy="108036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30" idx="3"/>
            <a:endCxn id="528" idx="1"/>
          </p:cNvCxnSpPr>
          <p:nvPr/>
        </p:nvCxnSpPr>
        <p:spPr>
          <a:xfrm flipV="1">
            <a:off x="6443640" y="4365000"/>
            <a:ext cx="505440" cy="648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36" name=""/>
          <p:cNvCxnSpPr>
            <a:stCxn id="530" idx="3"/>
            <a:endCxn id="526" idx="1"/>
          </p:cNvCxnSpPr>
          <p:nvPr/>
        </p:nvCxnSpPr>
        <p:spPr>
          <a:xfrm>
            <a:off x="6443640" y="5013360"/>
            <a:ext cx="505440" cy="50400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537" name=""/>
          <p:cNvSpPr/>
          <p:nvPr/>
        </p:nvSpPr>
        <p:spPr>
          <a:xfrm>
            <a:off x="7021800" y="34034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051000" y="44006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9280" y="4724280"/>
            <a:ext cx="50508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1B6B-587D-4541-B839-0EA843C1565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←⎕NEW Collie ‘Rex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⎕nl -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ame  Nlegs  Sounds  Typ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(Name Typ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anis familiari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2195640" y="3220920"/>
            <a:ext cx="576000" cy="287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435640" y="2109960"/>
            <a:ext cx="431640" cy="215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948360" y="3844800"/>
            <a:ext cx="43200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4000" y="5084640"/>
            <a:ext cx="4103640" cy="36036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411280" y="1708200"/>
            <a:ext cx="2089440" cy="384120"/>
          </a:xfrm>
          <a:prstGeom prst="leftArrow">
            <a:avLst>
              <a:gd name="adj1" fmla="val 50000"/>
              <a:gd name="adj2" fmla="val 135989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3022200">
            <a:off x="4621680" y="2540520"/>
            <a:ext cx="1871640" cy="384120"/>
          </a:xfrm>
          <a:prstGeom prst="leftArrow">
            <a:avLst>
              <a:gd name="adj1" fmla="val 50000"/>
              <a:gd name="adj2" fmla="val 121813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 rot="20800200">
            <a:off x="3634920" y="3860280"/>
            <a:ext cx="2376720" cy="384480"/>
          </a:xfrm>
          <a:prstGeom prst="leftArrow">
            <a:avLst>
              <a:gd name="adj1" fmla="val 50000"/>
              <a:gd name="adj2" fmla="val 154541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B20-8AD5-4C85-BFD6-0B2AD73E9E5A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←⎕NEW Collie ‘Rex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⎕nl -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ame  Nlegs  Sounds  Typ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(Name Typ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anis familiari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4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568" name=""/>
          <p:cNvCxnSpPr>
            <a:stCxn id="567" idx="7"/>
            <a:endCxn id="566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69" name=""/>
          <p:cNvCxnSpPr>
            <a:stCxn id="562" idx="1"/>
            <a:endCxn id="563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4" idx="3"/>
            <a:endCxn id="565" idx="4"/>
          </p:cNvCxnSpPr>
          <p:nvPr/>
        </p:nvCxnSpPr>
        <p:spPr>
          <a:xfrm flipV="1" rot="16200000">
            <a:off x="4270680" y="190800"/>
            <a:ext cx="442080" cy="4793400"/>
          </a:xfrm>
          <a:prstGeom prst="curvedConnector5">
            <a:avLst>
              <a:gd name="adj1" fmla="val -61450"/>
              <a:gd name="adj2" fmla="val 50000"/>
              <a:gd name="adj3" fmla="val -61450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30C-48F7-4C99-B146-03FF4CC114A8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History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0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O is not new, it’s been around for a whil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Pretty much the same story as AP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50s: concep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60s: 1</a:t>
            </a:r>
            <a:r>
              <a:rPr b="0" lang="en-GB" sz="32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mplementation (SIMULA compiler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70s: 1</a:t>
            </a:r>
            <a:r>
              <a:rPr b="0" lang="en-GB" sz="32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user base, Smalltalk compile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80s: into Eiffel to bridge the “gap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0s: popularity grows (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≠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PL) thanks to C++ and Java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97D7-BC8E-432C-A968-CD7CD3DC19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00000" y="1587240"/>
            <a:ext cx="73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onceals the exact details of how a particular class works from objects that use its cod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o allow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acce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o a member there are various access level definition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FA0-98D1-48AC-85FE-FEB42300BDF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107640" y="155736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o expose a member you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mus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ake it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r a </a:t>
            </a: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property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r a method (fn) you must use the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:Access public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tatemen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r a </a:t>
            </a: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fiel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(var) you must use this statement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:Fiel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yField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6F58-6118-42B9-A346-A73F31C33B6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3313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class to the right shows a few fields (vars) and their acce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access is the same for methods (fns) and propertie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3695760" y="1413000"/>
            <a:ext cx="5268960" cy="423216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710-F811-44D6-BB24-5CF228BC475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899640" y="1341000"/>
            <a:ext cx="7489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Shared vs ins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ach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instanc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gets a copy of each membe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f a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Fiel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s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share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t is kept in the class for all instances to see (and used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9227-2F5F-4007-A857-695DBEA7BCD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609120" y="1557000"/>
            <a:ext cx="821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Shared vs ins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xample: keepCoun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Here each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instanc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has its own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D and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class keeps track of the number of instances created privately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5616-6D76-4667-9A4A-4E4E2BA1C0A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210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Shared vs ins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n1←⎕new keepCou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 am XYZ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n2←⎕new keepCou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 am XYZ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n3←⎕new keepCou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 am XYZ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keepCount.Cou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keepCount.⎕nl-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ount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n2.⎕nl-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ount  MyName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n1.Cou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929040" cy="475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B9F9-5768-4602-B744-762F8B53963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23640" y="1483920"/>
            <a:ext cx="806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APL a function CANNOT have different definitions using a single nam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TOH, a constructor MAY have several definition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ince APL is typeless the only way to tell which function to use is by the NUMBER of arguments, from 0 (niladic) to any numbe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144360" y="11592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Polymorphis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08A-4FBD-4BCB-B118-DEBD24FFA05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5363640" y="1268280"/>
            <a:ext cx="302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Class manyCtor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general x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This ctor any ar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It can be anythin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nil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This ctor takes no ar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mon1(a1)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This ctor takes 1 ar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It MUST be a vector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mon5(a1 a2 a3 a4 a5)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This ctor takes 5 ar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It MUST be exactly 5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EndClas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144360" y="11592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Polymorphis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89" name=""/>
          <p:cNvSpPr/>
          <p:nvPr/>
        </p:nvSpPr>
        <p:spPr>
          <a:xfrm>
            <a:off x="395280" y="1390680"/>
            <a:ext cx="4897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Depending on the number of arguments, the proper fn will be used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64D-5FDA-4184-816A-D6FA14400D3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summary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Dyalog follows C# rules closel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ED to edit clas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 are much like namespac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ir members (vars &amp; fns) cannot all be accessed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[]NEW makes an ins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 can be based on another on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y use constructors to initialize them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9E6-E764-4D99-8E39-FEC5413CC0B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71280" y="152280"/>
            <a:ext cx="6838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End of implementat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131640" y="2205000"/>
            <a:ext cx="2590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1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5E79-DB9C-4C9D-850D-F053D112CBC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evolution of data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582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lementary data elements (like int) and arrays of them (all the same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tructures (like {i: int; d: date}), many elementary elements or structures (recurs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amespaces (structures whose elements are referred to by name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 (namespaces with initializers &amp; cleaners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1A72-A303-4F31-9628-3ADD66882D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95280" y="1484280"/>
            <a:ext cx="8569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Implemen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Detai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50F8-87AE-464A-877E-8B5828F3E66B}" type="slidenum">
              <a:t>8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re is a lot more that has been implement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Dyalog APL uncovered new territory when venturing into OO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keeping with the dynamic nature of APL a lot of questions were rais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nd many were answer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4010-F037-4D48-B70D-2A15D771961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Classes: new system functions/command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ED ○name (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circl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o edit a new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cla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RC: Just like ⎕NR returns a function in nested form, ⎕SRC will return the representation of a class in nested form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IX: Just like ⎕FX creates a function, ⎕FIX creates a cla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74D-7EAE-4F6B-A919-7278E249795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42560" y="1371600"/>
            <a:ext cx="889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Classes: new system functions/command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LASSES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returns the tree of referenc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CLASSE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lists all classes in the namespa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ED ⍟ns/○cl/∘interf;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s can contain class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DF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allows to alter the display of a class (any namespace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 class can implement an </a:t>
            </a:r>
            <a:r>
              <a:rPr b="0" i="1" lang="en-GB" sz="2800" spc="-1" strike="noStrike">
                <a:solidFill>
                  <a:srgbClr val="cc9900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INTERFACES  lists all interfaces in the namespa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F08-422D-4E78-8310-ABA1BB2091A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684000" y="137160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Classes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80808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implement one or more </a:t>
            </a:r>
            <a:r>
              <a:rPr b="0" i="1" lang="en-US" sz="3200" spc="-1" strike="noStrike">
                <a:solidFill>
                  <a:srgbClr val="cc9900"/>
                </a:solidFill>
                <a:latin typeface="Arial"/>
              </a:rPr>
              <a:t>interface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interface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describes 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it should do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cla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describe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how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t should be don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22D-3EEC-4FD1-BE18-30F6EE37A16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nterface describes what </a:t>
            </a:r>
            <a:r>
              <a:rPr b="0" lang="en-GB" sz="3200" spc="-1" strike="noStrike" u="sng">
                <a:solidFill>
                  <a:srgbClr val="080808"/>
                </a:solidFill>
                <a:uFillTx/>
                <a:latin typeface="Arial"/>
              </a:rPr>
              <a:t>ha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o be done with a machin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ed ∘maneuverin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t does NOT specify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ow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it should be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don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4427640" y="2365200"/>
            <a:ext cx="4066920" cy="372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D380-F2D3-4E4A-B040-08462904160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4048200" cy="402912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756720" y="1196640"/>
            <a:ext cx="82076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car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 implements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 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09" name=""/>
          <p:cNvSpPr/>
          <p:nvPr/>
        </p:nvSpPr>
        <p:spPr>
          <a:xfrm>
            <a:off x="243720" y="2332080"/>
            <a:ext cx="5356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VW←⎕new Car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VW.GasPedal 6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Going   up   to  6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(maneuvering ⎕class VW).Steer 14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Heading   NW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(maneuvering ⎕class VW).Accellerate 1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Going   up   to  1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VW.GasPedal 1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Going   down   to  1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VW.BreakPedal 1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Breaking..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2366-8029-434D-BADB-E9EAD47DFC3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4276800" cy="437184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647640" y="1196640"/>
            <a:ext cx="8245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lane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 implements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 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13" name=""/>
          <p:cNvSpPr/>
          <p:nvPr/>
        </p:nvSpPr>
        <p:spPr>
          <a:xfrm>
            <a:off x="-6120" y="2133720"/>
            <a:ext cx="5357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172←⎕new Plan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172.Stick 2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Heading 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172.Handle 2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Going   up   to  2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172.Stick 23 1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limbing,  Heading 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(maneuvering ⎕class C172).Steer 21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Heading 21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(maneuvering ⎕class C172).SlowDown 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Flaps   20  degre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B0E-1570-4691-9CBA-849B6D3DE75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16000" y="137160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Members: new system functions/command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an be another nested class (but not a ns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STANCES lists the instances of a clas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EW creates an ins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rigg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pecial Property ca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03C-AB88-4133-B055-08C56E05114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16000" y="1371600"/>
            <a:ext cx="88200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roperti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 other languages they are implemented as a pair of functions.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 APL this simple case is handled naturally. It is called the SIMPLE case and is the default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 2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case where indexing is made using any object (as opposed to numbers) is also handled easily. This is the KEYED cas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array nature of APL introduced a notion of NUMBERED property. This is the 3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rd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cas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11E-E77D-4A7A-8DC0-B387210D8E5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Data in Dyalog APL (DYW)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DYW all these objects exist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You can often simulate one by anothe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r ex: a table of names &amp; values can represent a namespace of variable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DYW can also store the ⎕OR of a namespac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DDAB-FBB9-4262-AD4B-BB3348D2BA7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16000" y="1371600"/>
            <a:ext cx="88200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roperties: SIMPLE cas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hen a property is set,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ts SET function is called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hen retrieved, its GE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unction is called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pa’ is a namespace containi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name of the property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(Name) and its valu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(NewValue)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38436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6CBC-BD9F-4B51-AC40-59D1CE43577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8000" y="1371600"/>
            <a:ext cx="550872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roperties: KEYED cas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et/get function call is mad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pa’ is a namespace also containing the indices of the property (Indexers)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Pk MUST be used with [brackets] and their contents cannot be elided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ir shape must conform to APL rules for assignment and result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5560920" y="1484280"/>
            <a:ext cx="332892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2879-D1F9-4431-8F4F-56DDA584B2E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8000" y="1371600"/>
            <a:ext cx="59040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roperties: NUMBERED cas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et/get function call is made, ONCE per index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pa’ is a namespace also containing the index to deal with (Indexers)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Pn may be used with indices. The SHAPE fn is used to check and generate indice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ir shape must conform to APL rules for assignment and result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6224760" y="1484280"/>
            <a:ext cx="270180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0CC-8B59-45AB-ADEB-6062BEF6B92B}" type="slidenum">
              <a:t>9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08000" y="1371600"/>
            <a:ext cx="81360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Default Properti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re can be only on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f a default property exist, [indexing] can be done directly on the instance. Doi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st[index]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s the same as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st.defProp[index]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f a property is the default then using “squad indexing” applies to the whole property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9AE3-6204-43EB-A39B-3C0B1D187E35}" type="slidenum">
              <a:t>9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50920" y="1069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Triggers</a:t>
            </a:r>
            <a:endParaRPr b="0" lang="en-US" sz="32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583236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←⎕NEW trigger1 ('Daniel' 'Baronet'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Full name is Daniel Barone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Full name is Daniel Barone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.FirstName←'Dan'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Full name is Dan Barone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4500720" y="2492280"/>
            <a:ext cx="4176720" cy="36086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C4B-2B9F-4C82-98D9-9DE26B673DFB}" type="slidenum">
              <a:t>9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9280" y="13716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Inheritance: new system functions/command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0" i="1" lang="en-GB" sz="2400" spc="-1" strike="noStrike">
                <a:solidFill>
                  <a:srgbClr val="cc9900"/>
                </a:solidFill>
                <a:latin typeface="Arial"/>
              </a:rPr>
              <a:t>Based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used to call base class constructo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BASE used to call base class function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cc9900"/>
                </a:solidFill>
                <a:latin typeface="Arial"/>
              </a:rPr>
              <a:t>override/ab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Destructors are called when the instance is destroye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C/⎕NL have been extende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is the same as (⎕NS’’).##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cc9900"/>
                </a:solidFill>
                <a:latin typeface="Arial"/>
              </a:rPr>
              <a:t>:implements, :acce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an be GUI based (ex: :Class F: ‘form’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cc9900"/>
                </a:solidFill>
                <a:latin typeface="Arial"/>
              </a:rPr>
              <a:t>:includ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70A3-7D9E-4C39-B0CB-FFEB8021DA2E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←⎕NEW Collie ‘Rex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⎕nl -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ame  Nlegs  Sounds  Typ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(Name Typ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anis familiari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4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649" name=""/>
          <p:cNvCxnSpPr>
            <a:stCxn id="648" idx="7"/>
            <a:endCxn id="647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650" name=""/>
          <p:cNvCxnSpPr>
            <a:stCxn id="643" idx="1"/>
            <a:endCxn id="644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651" name=""/>
          <p:cNvCxnSpPr>
            <a:stCxn id="645" idx="3"/>
            <a:endCxn id="646" idx="4"/>
          </p:cNvCxnSpPr>
          <p:nvPr/>
        </p:nvCxnSpPr>
        <p:spPr>
          <a:xfrm flipV="1" rot="16200000">
            <a:off x="4270680" y="190800"/>
            <a:ext cx="442080" cy="4793400"/>
          </a:xfrm>
          <a:prstGeom prst="curvedConnector5">
            <a:avLst>
              <a:gd name="adj1" fmla="val -61450"/>
              <a:gd name="adj2" fmla="val 50000"/>
              <a:gd name="adj3" fmla="val -61450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: :Bas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8E9-F7A1-48DC-8C64-7FEC954BA0CF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8360" y="1700280"/>
            <a:ext cx="53276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 is used to call base function like :base is used to call the constructor with an argument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is is used when the base function is shadowed by a class member. As i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in1←⎕new derivedCla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in1.sqr 2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: ⎕Bas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6156360" y="1557360"/>
            <a:ext cx="1866960" cy="213372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3"/>
          <a:stretch/>
        </p:blipFill>
        <p:spPr>
          <a:xfrm>
            <a:off x="5651640" y="3789360"/>
            <a:ext cx="2952720" cy="23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9C6B-8EF8-4202-AFF3-0DC6073812C7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1700280"/>
            <a:ext cx="5327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verride and overridabl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se concepts allow a base class code to be overridden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following slides will attempt to explain this in more detail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CC13-1B55-4A17-9446-786F9F5A0AF5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Non-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1023840" y="1628640"/>
            <a:ext cx="2746440" cy="34560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2737080" cy="345600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8B45-4D61-4A06-8A6A-6CC96B839A6B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2:30:52Z</dcterms:created>
  <dc:creator>DanB</dc:creator>
  <dc:description/>
  <dc:language>en-US</dc:language>
  <cp:lastModifiedBy>DanB</cp:lastModifiedBy>
  <dcterms:modified xsi:type="dcterms:W3CDTF">2006-10-18T07:19:36Z</dcterms:modified>
  <cp:revision>87</cp:revision>
  <dc:subject/>
  <dc:title>OO Obj OR pgm</dc:title>
</cp:coreProperties>
</file>