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B09-0908-4B42-B42B-30DD0441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0D4-E107-4630-95FB-75F8B210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05F-5272-4611-8BD2-73012965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0B1-A56D-4F0D-80DA-08F177B3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81A-25D4-4BB8-A3A4-438C2EE8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6BB-AEF9-4F40-BD59-6C1E8A9F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2FE-A69D-4450-869C-BA9C6D9D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F22-1180-4F0E-B8ED-3A6E949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FF3-5732-4B3E-9AF1-195BED4D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E151-1FE1-4BD1-AB98-667B6581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203-DEEB-423E-8FF8-DA5D318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C9A-406A-4BEE-A2B0-0FE1E2FC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0320" y="6324480"/>
            <a:ext cx="258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096A-0AA6-442C-985A-D53B3E100E4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elsingør, October 18th 2006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– Less Like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tionals / Infinite Precision Inte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nk Oper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may do research and preliminary work but are unlikely to release anyt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Unless we get ”push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V11.1 Performance, Deployment, Stabilit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aster / Simpler ⎕N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gorithm review with focus on Indexing and Searching (idioms &amp; core algorithm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otNe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roved Autocomple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ata Marshalling” Perform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ad Balancing” issues (starting multiple Dyalog processes for one clas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move 64-bit Array Size Restri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stallability Issue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more Quality Assurance tools and procedures in place for nex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b Presence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Library (SALT, SPICE, WildServer, etc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uals On Line in Searchable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ew training materials for ”modern young user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utorials on OO, .Net, Office Automation, making Web Pages, et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nned demos (Video, screen capture), Blogs, Wiki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ultivate Agile Community Membership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gile 2007 (Como, Ital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SHOULD do a presentation on arrays and objects at OOPSLA’07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tinuously look to what the Python &amp; Ruby folks are do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join us in this adven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fessional” Produ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be released on a separate timeframe and sold separately from the core produc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mote Procedure Call mechanis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ile Server for Component and Native Fil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ning APL as a ”Windows Servic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mote Procedure Cal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25760" y="1565280"/>
            <a:ext cx="6924600" cy="50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PC Tool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gnificantly simpler programming model than TCPSocket, especially for multi-threaded cli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AST, as events handled in C. APL is only called when there is ”something to d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Independent of underlying technolog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uld provide some protection against ”denial of service” atta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Dyalog File Acceleration Server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cess which runs on a server machine using the RPC tool to provide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client-side code changes required, support will be built-in to ⎕N and ⎕F-system functions (TIE functions may be extend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milar to ”SHAREFILES” product and SHARP APL file syste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itially targeting current users of shared files on Windows LA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aimed at Unix environments to follow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orkstations do not need access to mapped drives or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mplified 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nfigur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higher and more granular secur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perform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ties files exclusively and caches directory and other inform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igher reli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less risk of file damage as all disk I/O is happening locally on the serv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per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architecture allows instrumentation and monito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Extreme Reliability (not all in v1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24x7x365 Operations: On-line full and incremental backup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utomated recovery from transient network failure (or even a server restar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rroring and distributed data ba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3360" y="903240"/>
            <a:ext cx="8356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(Rerun from 2005)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99864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6000" y="1805040"/>
            <a:ext cx="6029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Running APL as a ”Service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provide recommendations for tried and tested mechanisms for running Dyalog-based applications as Windows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itional components if requir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APL will recognise that it is running as a service and not try to interact with a user under any circumsta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tc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ecure Sockets provide encrypted communications between ”identified” partn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will look at providing support for secure sock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 the RPC tool (definite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or TCPSocket objects (possib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icrosoft.Ne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3000" y="1625400"/>
            <a:ext cx="83581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aged Microsoft Office is still 5 years away, so no immediate ”panic” to provide managed APL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believe there are enhancements in the .Net pipeline, which will make it a better foundation for array langu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doing research and lobbying Microsoft (participating in regular ”CLR language labs” in Redmon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monitoring the situation closely and will keep you inform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ulti-Core Process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3000" y="2166840"/>
            <a:ext cx="8116920" cy="35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dern processor CPU speeds are flattening off around 3-4 MH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is already so fast that a cache miss requires 100 wait states before data arrives from RA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on, chips with 8 or 16 processors will be comm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time to look at how an APL interpreter should adapt to new architec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Possible Projec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terface to math and statistics packages: NAG, IMSL, R/SPLUS, perhaps Matlab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is was a quick overview of the possible paths we see ah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are always happy to hear from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participate in pathfind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ank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ubject to change without notice due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aving a Good Think following 11.0 comple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put and project funding from custom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hat Microsoft throws at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ur ability to recruit the right devel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smic Ray Collisions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mpleting Work in Progres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Version 11.0 Por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32-bit Windows on CD w/Release No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64-bit Windows (final testing &amp; packaging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Mobile 5, AIX (32&amp;64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nux (Wine), Solari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on the Web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’06 Present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ALT, SPICE, Wild Web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 the Consultants Net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1.1 (”late 2007”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Few OO things we left o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, possibly a few other core language exten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ighter support for SALT &amp; SubVersion etc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Visual Studio Integr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it possible to ”dynamically embed” APL code in popular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nsolid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grate new team members (Nicolas, Philip, ”X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ove size restrictions, bugs &amp; limit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Deployment, Stabilit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have used C# as a design guide for OO functiona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did leave some things out – are they important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tefano alerted us to one or two  towards the end of v11 test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:Access Overridable (don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read Local Storage”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1364840" cy="710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High Probabilit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 (The Defining Feature of 11.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imary Design goal: No application changes REQUIRED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82=⎕DR string←'ABC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string[2]←'</a:t>
            </a:r>
            <a:r>
              <a:rPr b="0" lang="da-DK" sz="28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ᄎ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82=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DR string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losures (dfns returning functions with local state – ”function objects”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John would like to point out that installing ”9.0 FRE” uses a separate registry section and is ”saf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26:23Z</dcterms:created>
  <dc:creator>Morten Kromberg</dc:creator>
  <dc:description/>
  <dc:language>en-US</dc:language>
  <cp:lastModifiedBy>Morten Kromberg</cp:lastModifiedBy>
  <dcterms:modified xsi:type="dcterms:W3CDTF">2006-10-19T05:27:39Z</dcterms:modified>
  <cp:revision>74</cp:revision>
  <dc:subject/>
  <dc:title>Introduction to OO for APLers</dc:title>
</cp:coreProperties>
</file>