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1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1.jpeg" ContentType="image/jpeg"/>
  <Override PartName="/ppt/media/image44.png" ContentType="image/png"/>
  <Override PartName="/ppt/media/image35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17.png" ContentType="image/png"/>
  <Override PartName="/ppt/media/image53.png" ContentType="image/png"/>
  <Override PartName="/ppt/media/image9.png" ContentType="image/png"/>
  <Override PartName="/ppt/media/image18.gif" ContentType="image/gif"/>
  <Override PartName="/ppt/media/image57.png" ContentType="image/png"/>
  <Override PartName="/ppt/media/image2.jpeg" ContentType="image/jpeg"/>
  <Override PartName="/ppt/media/image21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8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6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68.png" ContentType="image/png"/>
  <Override PartName="/ppt/media/image67.jpeg" ContentType="image/jpeg"/>
  <Override PartName="/ppt/media/image72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5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B9D5-1869-4FE3-A69A-F5F1243040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1967-229E-460A-BBD4-789A1438C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4129-6FD2-44FB-8E47-A8B62976C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1D78-7755-4FBC-B854-818CCF85C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138B-B312-4487-93A7-10964D3A94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6DDF-2901-40EE-ACC9-12D8313FA8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6D46-85E6-45BA-901D-F524E84B6E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D6A72-F2C3-4AD4-ABEC-0759D6D9F6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50FF-F3E7-40A5-AD99-F0C1E5268C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7CDF-70BF-4409-BF62-81247693FA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434C-D357-4897-B7C1-BC4332FE7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BDF3-AFB4-4AF6-90AF-4A463EA73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6A4A-796A-4234-B972-7916D3FBA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BAE7-496A-4256-A406-B68D8EDAE5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FD7A-7894-4CE4-851D-6FD561DBCD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F794-8531-43EF-BCB4-F90C4EBA0A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01FC-EE26-4EAF-B8D1-A8CD9181A4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709E-4C6A-466D-8FDA-5A302098F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5EDE1-764D-4F07-A976-7DBB7C22B7A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DC2A-45A8-4B2E-B635-E4E49FDD4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2BC4-3152-4B98-B7FB-6EF77D2AF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2D2F-46CD-4117-9289-A1C1191FA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3F8E-FD0B-4B2B-9439-F6A0C7ADE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F0E8-22FC-43D1-9E8F-BBD8D6C38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019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244B-450C-434E-8F40-3F682274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6200" y="6180120"/>
            <a:ext cx="100980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3201" t="0" r="0" b="0"/>
          <a:stretch/>
        </p:blipFill>
        <p:spPr>
          <a:xfrm>
            <a:off x="0" y="0"/>
            <a:ext cx="9180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C0B7-C086-49E3-8A40-E8C4918A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0" y="5624640"/>
            <a:ext cx="1784520" cy="111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Eurosti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Eurostil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Eurosti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Eurosti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5228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57200"/>
            <a:ext cx="8077320" cy="838080"/>
          </a:xfrm>
          <a:prstGeom prst="rect">
            <a:avLst/>
          </a:prstGeom>
          <a:solidFill>
            <a:srgbClr val="28184d"/>
          </a:solidFill>
          <a:ln w="9360">
            <a:solidFill>
              <a:srgbClr val="281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645336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184d"/>
                </a:solidFill>
                <a:latin typeface="Verdana"/>
              </a:rPr>
              <a:t>As quick as you thin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99480" y="6100920"/>
            <a:ext cx="113652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7315200" cy="1371600"/>
          </a:xfrm>
          <a:prstGeom prst="rect">
            <a:avLst/>
          </a:prstGeom>
          <a:solidFill>
            <a:srgbClr val="281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553840" y="2971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Wingdings 2"/>
                <a:ea typeface="Wingdings 2"/>
              </a:rPr>
              <a:t>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2160720" cy="135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harrysoftware.com/" TargetMode="External"/><Relationship Id="rId2" Type="http://schemas.openxmlformats.org/officeDocument/2006/relationships/hyperlink" Target="mailto:scoez@harrysoftware.com" TargetMode="External"/><Relationship Id="rId3" Type="http://schemas.openxmlformats.org/officeDocument/2006/relationships/hyperlink" Target="mailto:planducci@harrysoftware.com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image" Target="../media/image30.png"/><Relationship Id="rId14" Type="http://schemas.openxmlformats.org/officeDocument/2006/relationships/image" Target="../media/image31.jpeg"/><Relationship Id="rId15" Type="http://schemas.openxmlformats.org/officeDocument/2006/relationships/image" Target="../media/image32.pn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537080" cy="28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6880" y="48690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As quick as you th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Dyalog logo"/>
          <p:cNvPicPr/>
          <p:nvPr/>
        </p:nvPicPr>
        <p:blipFill>
          <a:blip r:embed="rId2"/>
          <a:stretch/>
        </p:blipFill>
        <p:spPr>
          <a:xfrm>
            <a:off x="4545000" y="6032520"/>
            <a:ext cx="2638440" cy="49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040520" y="5950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60160" y="630864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Land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éphane Co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2620800"/>
            <a:ext cx="3168720" cy="17449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52720" y="4221000"/>
            <a:ext cx="2880000" cy="22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75440" y="2835360"/>
            <a:ext cx="2705040" cy="2089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o structure &amp; display inform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3036960"/>
            <a:ext cx="2756160" cy="1471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730920" y="4149720"/>
            <a:ext cx="23050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108000" y="4672080"/>
            <a:ext cx="3529080" cy="149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med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Report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powerful &amp; pertinent present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85960" cy="2663640"/>
          </a:xfrm>
          <a:prstGeom prst="rect">
            <a:avLst/>
          </a:prstGeom>
          <a:ln w="12600">
            <a:solidFill>
              <a:srgbClr val="120575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2781000" cy="1717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086600" y="2435400"/>
            <a:ext cx="1892160" cy="2665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32720" y="4994280"/>
            <a:ext cx="2232000" cy="167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933560" cy="145080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613320" y="4538520"/>
            <a:ext cx="3046320" cy="2203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4920" y="4422600"/>
            <a:ext cx="3946680" cy="2175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1052640"/>
            <a:ext cx="7010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59236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2200" y="3068640"/>
            <a:ext cx="252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123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</a:t>
            </a:r>
            <a:r>
              <a:rPr b="0" i="1" lang="en-US" sz="4400" spc="-1" strike="noStrike">
                <a:solidFill>
                  <a:srgbClr val="333399"/>
                </a:solidFill>
                <a:latin typeface="Eurostile"/>
              </a:rPr>
              <a:t>DataWEB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360" y="213372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sign the application pages and dynamics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and run it on your Intranet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broadcast results and information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ploy according to your user domains, groups and profiles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47640" y="4975200"/>
            <a:ext cx="2016360" cy="154944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9920" y="119700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 4 step proces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278080"/>
            <a:ext cx="590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1: Create your report at the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detail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2: Replace pertinent values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by paramete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3: Insert and design within a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WEB application page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4: Deploy to the intranet.  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9548" b="0"/>
          <a:stretch/>
        </p:blipFill>
        <p:spPr>
          <a:xfrm>
            <a:off x="6156360" y="2349360"/>
            <a:ext cx="917640" cy="6717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6227640" y="2997360"/>
            <a:ext cx="2718000" cy="1535040"/>
            <a:chOff x="6227640" y="2997360"/>
            <a:chExt cx="2718000" cy="1535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rcRect l="0" t="0" r="9548" b="0"/>
            <a:stretch/>
          </p:blipFill>
          <p:spPr>
            <a:xfrm>
              <a:off x="622764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rcRect l="0" t="0" r="9548" b="0"/>
            <a:stretch/>
          </p:blipFill>
          <p:spPr>
            <a:xfrm>
              <a:off x="644364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rcRect l="0" t="0" r="9548" b="0"/>
            <a:stretch/>
          </p:blipFill>
          <p:spPr>
            <a:xfrm>
              <a:off x="665964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rcRect l="0" t="0" r="9548" b="0"/>
            <a:stretch/>
          </p:blipFill>
          <p:spPr>
            <a:xfrm>
              <a:off x="6875640" y="3645000"/>
              <a:ext cx="9172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rcRect l="0" t="0" r="9548" b="0"/>
            <a:stretch/>
          </p:blipFill>
          <p:spPr>
            <a:xfrm>
              <a:off x="709128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rcRect l="0" t="0" r="9548" b="0"/>
            <a:stretch/>
          </p:blipFill>
          <p:spPr>
            <a:xfrm>
              <a:off x="716436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rcRect l="0" t="0" r="9548" b="0"/>
            <a:stretch/>
          </p:blipFill>
          <p:spPr>
            <a:xfrm>
              <a:off x="738036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rcRect l="0" t="0" r="9548" b="0"/>
            <a:stretch/>
          </p:blipFill>
          <p:spPr>
            <a:xfrm>
              <a:off x="773892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rcRect l="0" t="0" r="9548" b="0"/>
            <a:stretch/>
          </p:blipFill>
          <p:spPr>
            <a:xfrm>
              <a:off x="7812000" y="3645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rcRect l="0" t="0" r="9548" b="0"/>
            <a:stretch/>
          </p:blipFill>
          <p:spPr>
            <a:xfrm>
              <a:off x="802800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6227640" y="4724280"/>
            <a:ext cx="1197000" cy="89856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615080" y="5950080"/>
            <a:ext cx="55728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300720" y="6005520"/>
            <a:ext cx="1008000" cy="376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2743200"/>
            <a:ext cx="7956720" cy="41497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0"/>
            <a:ext cx="8028000" cy="47530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1070280" y="548280"/>
            <a:ext cx="6858000" cy="576108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915" y="4616"/>
                </a:lnTo>
                <a:lnTo>
                  <a:pt x="14028" y="4616"/>
                </a:lnTo>
                <a:lnTo>
                  <a:pt x="14028" y="7572"/>
                </a:lnTo>
                <a:lnTo>
                  <a:pt x="16984" y="7572"/>
                </a:lnTo>
                <a:lnTo>
                  <a:pt x="16984" y="6685"/>
                </a:lnTo>
                <a:lnTo>
                  <a:pt x="21600" y="10800"/>
                </a:lnTo>
                <a:lnTo>
                  <a:pt x="16984" y="14915"/>
                </a:lnTo>
                <a:lnTo>
                  <a:pt x="16984" y="14028"/>
                </a:lnTo>
                <a:lnTo>
                  <a:pt x="4616" y="14028"/>
                </a:lnTo>
                <a:lnTo>
                  <a:pt x="4616" y="14915"/>
                </a:lnTo>
                <a:lnTo>
                  <a:pt x="0" y="10800"/>
                </a:lnTo>
                <a:lnTo>
                  <a:pt x="4616" y="6685"/>
                </a:lnTo>
                <a:lnTo>
                  <a:pt x="4616" y="7572"/>
                </a:lnTo>
                <a:lnTo>
                  <a:pt x="7572" y="7572"/>
                </a:lnTo>
                <a:lnTo>
                  <a:pt x="7572" y="4616"/>
                </a:lnTo>
                <a:lnTo>
                  <a:pt x="6685" y="4616"/>
                </a:lnTo>
                <a:close/>
              </a:path>
            </a:pathLst>
          </a:custGeom>
          <a:solidFill>
            <a:srgbClr val="ffbe35"/>
          </a:solidFill>
          <a:ln w="2844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0920" y="4653000"/>
            <a:ext cx="316872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3573360"/>
            <a:ext cx="4537080" cy="8431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ARRYPilot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2779560"/>
            <a:ext cx="213516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Dash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567240" y="5472000"/>
            <a:ext cx="93168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689360" y="5484960"/>
            <a:ext cx="890640" cy="1184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699160" y="5472000"/>
            <a:ext cx="88884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4282920" y="2133720"/>
            <a:ext cx="208944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Net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1125360"/>
            <a:ext cx="4608720" cy="215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141720"/>
            <a:ext cx="1152720" cy="718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1079640" cy="2160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RRY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Manager,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314172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25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50"/>
                            </p:stCondLst>
                            <p:childTnLst>
                              <p:par>
                                <p:cTn id="447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5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3472 L 0.08854 -0.29075 E">
                                      <p:cBhvr>
                                        <p:cTn id="5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b8"/>
                </a:solidFill>
                <a:latin typeface="Eurostile"/>
              </a:rPr>
              <a:t>HARRYVectorServer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b8"/>
                </a:solidFill>
                <a:latin typeface="Eurostile"/>
              </a:rPr>
              <a:t>Very fast datamarts: </a:t>
            </a: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 2: IBM Z90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X: AIX, SUN, HP 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NT: WINDOWS XP &amp; 2003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LINUX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4600" y="1844640"/>
            <a:ext cx="2184480" cy="4969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Vector Architecture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9" name=""/>
          <p:cNvSpPr/>
          <p:nvPr/>
        </p:nvSpPr>
        <p:spPr>
          <a:xfrm>
            <a:off x="4932360" y="2492280"/>
            <a:ext cx="42116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dap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Mark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Sales, logistic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WEB logging analys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ny large database dedicated to intensive studi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24876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9920" y="105228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he VectorServers many benefits: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07648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Extremely fast on complex queries, scan, calculat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Unlimited number of columns or dimensions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Boolean fields and bitmap indexing, 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Dynamical functions and dimens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Ranging or interval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IF(CONDITION;TRUE;FALSE)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ypologies or Seg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..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Selection: Where and Coun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789440" y="2057400"/>
            <a:ext cx="43200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057400"/>
            <a:ext cx="431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7440" y="205740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5740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057400"/>
            <a:ext cx="431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97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1557360"/>
            <a:ext cx="3959280" cy="430200"/>
          </a:xfrm>
          <a:prstGeom prst="leftRightArrow">
            <a:avLst>
              <a:gd name="adj1" fmla="val 50000"/>
              <a:gd name="adj2" fmla="val 183215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3744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7800" y="206064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8760" y="1628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Vector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31040" y="3508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7880" y="15573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Active 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2480" y="321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8640" y="2540160"/>
            <a:ext cx="83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Partition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120" y="3213000"/>
            <a:ext cx="266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292428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386064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4797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5661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3120" y="2362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3289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415296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08968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900000" y="2492280"/>
            <a:ext cx="208764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3573360"/>
            <a:ext cx="215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3933720"/>
            <a:ext cx="215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4149720"/>
            <a:ext cx="2016360" cy="172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3716280"/>
            <a:ext cx="215928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56280" y="2205000"/>
            <a:ext cx="85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719680" y="31881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738680" y="325260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5275440" y="3236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268680" y="32695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6592680" y="324792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ni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172280" y="32169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9440" y="5319720"/>
            <a:ext cx="294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ctorServer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working on partition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d blocks. Block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he minimum read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Vector index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4365720"/>
            <a:ext cx="55515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Index allows: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To create a selection bitmap from a matrix describing each value with addresse for a variable in table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Without file read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666120" y="1413000"/>
            <a:ext cx="82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21360" y="2057400"/>
            <a:ext cx="287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2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11280" y="2205000"/>
          <a:ext cx="2698560" cy="1644840"/>
        </p:xfrm>
        <a:graphic>
          <a:graphicData uri="http://schemas.openxmlformats.org/drawingml/2006/table">
            <a:tbl>
              <a:tblPr/>
              <a:tblGrid>
                <a:gridCol w="838080"/>
                <a:gridCol w="1860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resses in vector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5,194,2056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12,16,17,18,27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,10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684360" y="2637000"/>
            <a:ext cx="45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49880" y="263700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ahoma"/>
              </a:rPr>
              <a:t>Bitmap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19640" y="2349360"/>
            <a:ext cx="172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219640" y="2565360"/>
            <a:ext cx="1800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19640" y="2852640"/>
            <a:ext cx="180036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852640"/>
            <a:ext cx="172872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2700360"/>
            <a:ext cx="6912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Eurostile"/>
              </a:rPr>
              <a:t>Our Job</a:t>
            </a:r>
            <a:endParaRPr b="1" lang="en-US" sz="8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PL/M conversion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PL/M Version 10 &amp; 11…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vailability on WINDOWS, UNIX, LINUX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Version 7.1 de HVS, released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Overpasses the 4 Giga Bytes file limit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UNIX, LINUX et WINDOWS files directly compatible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Nouveau look &amp; feel XP </a:t>
            </a:r>
            <a:br>
              <a:rPr sz="2000"/>
            </a:b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pour la console et le monitoring</a:t>
            </a:r>
            <a:endParaRPr b="1" lang="en-US" sz="20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1640" y="1220760"/>
            <a:ext cx="5081760" cy="2712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95280" y="1951200"/>
            <a:ext cx="7351560" cy="4141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36720" y="3922560"/>
            <a:ext cx="8172360" cy="2891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132000" y="1438200"/>
            <a:ext cx="5616720" cy="541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287280" y="3860640"/>
            <a:ext cx="817236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2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Performances: 6.5 M Rec, 315 col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06400" y="1700280"/>
            <a:ext cx="7078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VectorServer, next…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64 bit full version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dministration module as a ‘console’ 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ored relational views ‘join-like’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rallelization, multi-processing &amp; clustering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Vector loaded in // on several instance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ispatch one query on several server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ynamical profile session update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The fashion show room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JAVA…!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857680" y="1484280"/>
            <a:ext cx="3632040" cy="1525320"/>
            <a:chOff x="2857680" y="1484280"/>
            <a:chExt cx="3632040" cy="1525320"/>
          </a:xfrm>
        </p:grpSpPr>
        <p:grpSp>
          <p:nvGrpSpPr>
            <p:cNvPr id="349" name=""/>
            <p:cNvGrpSpPr/>
            <p:nvPr/>
          </p:nvGrpSpPr>
          <p:grpSpPr>
            <a:xfrm>
              <a:off x="3111480" y="1916280"/>
              <a:ext cx="3211200" cy="1093320"/>
              <a:chOff x="3111480" y="1916280"/>
              <a:chExt cx="3211200" cy="1093320"/>
            </a:xfrm>
          </p:grpSpPr>
          <p:sp>
            <p:nvSpPr>
              <p:cNvPr id="350" name=""/>
              <p:cNvSpPr/>
              <p:nvPr/>
            </p:nvSpPr>
            <p:spPr>
              <a:xfrm>
                <a:off x="3111480" y="2270880"/>
                <a:ext cx="2835000" cy="73872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7320" y="1916280"/>
                <a:ext cx="2205360" cy="90504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WEB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4462560" y="148428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308560" y="1611360"/>
              <a:ext cx="70632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784840" y="2114640"/>
              <a:ext cx="704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2857680" y="203040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5"/>
            <a:stretch/>
          </p:blipFill>
          <p:spPr>
            <a:xfrm>
              <a:off x="3533760" y="1625760"/>
              <a:ext cx="7063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2195640" y="1484280"/>
            <a:ext cx="4608360" cy="1798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 alternative new architectu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3821040" y="5597640"/>
            <a:ext cx="1487520" cy="86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HARRY</a:t>
            </a:r>
            <a:br>
              <a:rPr sz="12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5365800"/>
            <a:ext cx="380376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Auxiliary 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1920" y="4248000"/>
            <a:ext cx="4697640" cy="99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80"/>
                </a:solidFill>
                <a:latin typeface="Arial"/>
              </a:rPr>
              <a:t>HARR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80"/>
                </a:solidFill>
                <a:latin typeface="Tahoma"/>
              </a:rPr>
              <a:t>Workspace </a:t>
            </a:r>
            <a:br>
              <a:rPr sz="16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6056280"/>
            <a:ext cx="13845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2480" y="6056280"/>
            <a:ext cx="13809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XX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645000"/>
            <a:ext cx="3111480" cy="650880"/>
          </a:xfrm>
          <a:prstGeom prst="rect">
            <a:avLst/>
          </a:prstGeom>
          <a:gradFill rotWithShape="0">
            <a:gsLst>
              <a:gs pos="0">
                <a:srgbClr val="3333cc">
                  <a:alpha val="50196"/>
                </a:srgbClr>
              </a:gs>
              <a:gs pos="100000">
                <a:srgbClr val="ffff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ARRY JAVA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87760" y="3079800"/>
            <a:ext cx="3633840" cy="488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Application 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272200">
            <a:off x="2950920" y="5597640"/>
            <a:ext cx="414360" cy="628560"/>
          </a:xfrm>
          <a:prstGeom prst="upDownArrow">
            <a:avLst>
              <a:gd name="adj1" fmla="val 50000"/>
              <a:gd name="adj2" fmla="val 30198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5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167600">
            <a:off x="5665680" y="5597280"/>
            <a:ext cx="336600" cy="628560"/>
          </a:xfrm>
          <a:prstGeom prst="upDownArrow">
            <a:avLst>
              <a:gd name="adj1" fmla="val 50000"/>
              <a:gd name="adj2" fmla="val 37174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8360" y="3378240"/>
            <a:ext cx="4392720" cy="842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Pilot &amp; Dictionary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2925720"/>
            <a:ext cx="1152720" cy="71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92428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The HNS JAVA interfac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o give to developers a total and accurate control on HARRYVS at the appropriate level for their application.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ccess to every command or function and parameters of HARRYVectorServe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Example: </a:t>
            </a: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HARRY « 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L:</a:t>
            </a: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FAMILY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=702 »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Loads the selection bitmap in WS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Returns the count to application</a:t>
            </a: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Access to every HARRYVectorServer features or facility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uxiliary processor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83055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Goals : To create a dynamic link between an external server  (Oracle, SQLServer, DB2/U, etc.) and the HARRYVectorServer WS through this server native middleware.</a:t>
            </a:r>
            <a:br>
              <a:rPr sz="2000"/>
            </a:b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Runs a query and sends the result to WS.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Notice: Query is only checked by the remote remote server.</a:t>
            </a: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SQLORACL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_QUER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NAME,FISRT,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ERSO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=‘MFG'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5360" y="239544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41880" y="2421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– ORAC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63760" y="3490920"/>
            <a:ext cx="44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QLORACLE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8000" y="436392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57600" y="579420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411280" y="443700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09480" y="357336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retur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491560" y="3429000"/>
            <a:ext cx="822240" cy="863640"/>
            <a:chOff x="2491560" y="3429000"/>
            <a:chExt cx="822240" cy="863640"/>
          </a:xfrm>
        </p:grpSpPr>
        <p:sp>
          <p:nvSpPr>
            <p:cNvPr id="390" name=""/>
            <p:cNvSpPr/>
            <p:nvPr/>
          </p:nvSpPr>
          <p:spPr>
            <a:xfrm>
              <a:off x="2771640" y="342900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1560" y="357336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_ID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959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code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&amp;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"/>
                            </p:stCondLst>
                            <p:childTnLst>
                              <p:par>
                                <p:cTn id="9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" y="2395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3560" y="227664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 – Key selection within vecto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6680" y="3490920"/>
            <a:ext cx="32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SEL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LIST1 IN Cus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272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3600" y="58197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Load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4284360" y="465300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977920" y="3789360"/>
            <a:ext cx="1000800" cy="863640"/>
            <a:chOff x="2977920" y="3789360"/>
            <a:chExt cx="1000800" cy="863640"/>
          </a:xfrm>
        </p:grpSpPr>
        <p:sp>
          <p:nvSpPr>
            <p:cNvPr id="407" name=""/>
            <p:cNvSpPr/>
            <p:nvPr/>
          </p:nvSpPr>
          <p:spPr>
            <a:xfrm>
              <a:off x="3348000" y="378936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7920" y="3933720"/>
              <a:ext cx="100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675760" y="610704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RY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500280"/>
            <a:ext cx="7308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08040" y="292428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Cus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51640" y="3429000"/>
            <a:ext cx="7272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94480" y="392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149720"/>
            <a:ext cx="936720" cy="358920"/>
          </a:xfrm>
          <a:prstGeom prst="leftRightArrow">
            <a:avLst>
              <a:gd name="adj1" fmla="val 50000"/>
              <a:gd name="adj2" fmla="val 5195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93372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3000" y="191628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Selected customers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8542 0.01065 E">
                                      <p:cBhvr>
                                        <p:cTn id="1109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48200" y="2637000"/>
            <a:ext cx="3187800" cy="229860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1244160"/>
            <a:ext cx="72914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pplications deployed through the WEB and Window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76720" y="3121200"/>
            <a:ext cx="2557440" cy="19634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068720" y="4653000"/>
            <a:ext cx="1943280" cy="145872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32360" y="5661000"/>
            <a:ext cx="1162080" cy="81756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7840" y="2629080"/>
            <a:ext cx="3241800" cy="196668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300720" y="4743360"/>
            <a:ext cx="2735280" cy="185436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222120" y="4738680"/>
            <a:ext cx="2478240" cy="18590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330280" y="5373720"/>
            <a:ext cx="2170440" cy="137628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Softwa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harrysoftware.com</a:t>
            </a: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éphane Coez, R&amp;D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scoez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ul Landucci, CEO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planducci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248840"/>
            <a:ext cx="7283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nalysis and reports for developers &amp; expert users 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544840"/>
            <a:ext cx="3195720" cy="239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1616040" cy="107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11280" y="4432320"/>
            <a:ext cx="3168720" cy="238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16360" y="2604960"/>
            <a:ext cx="3240360" cy="22654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945040" y="4581360"/>
            <a:ext cx="3019680" cy="21211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HARRYSoftware,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Our Client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The company asset! 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8000" cy="51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00720" y="6093000"/>
            <a:ext cx="2514600" cy="663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2307960" cy="505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51280" y="174456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808360" cy="139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113364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332000" y="6016680"/>
            <a:ext cx="2438280" cy="725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24000" y="5445000"/>
            <a:ext cx="2341440" cy="525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851280" y="6165720"/>
            <a:ext cx="1905120" cy="4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702560" y="3943440"/>
            <a:ext cx="129708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020000" y="3519360"/>
            <a:ext cx="939600" cy="77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8023320" y="4724280"/>
            <a:ext cx="1012680" cy="72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740720" y="333360"/>
            <a:ext cx="1233360" cy="1720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5940360" y="69228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5506920" y="2349360"/>
            <a:ext cx="3457800" cy="1008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468360" y="3860640"/>
            <a:ext cx="1116000" cy="11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5867280" y="4076640"/>
            <a:ext cx="1152720" cy="109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2916360" y="5300640"/>
            <a:ext cx="4681440" cy="773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3059280" y="4292640"/>
            <a:ext cx="2736720" cy="76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0"/>
          <a:stretch/>
        </p:blipFill>
        <p:spPr>
          <a:xfrm>
            <a:off x="1979640" y="3716280"/>
            <a:ext cx="844560" cy="1066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1"/>
          <a:stretch/>
        </p:blipFill>
        <p:spPr>
          <a:xfrm>
            <a:off x="3252960" y="2790720"/>
            <a:ext cx="2039760" cy="1143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3025800" cy="1852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 Foundation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7640" y="2277720"/>
            <a:ext cx="698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ed for business user require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Powerful and complete vs. competito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ne single interface to Relational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LAP environ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Consistent, fast and customized deploy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77080" y="2647800"/>
            <a:ext cx="2232000" cy="157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295800" y="4869000"/>
            <a:ext cx="2716200" cy="1914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2952720" cy="22147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The HARRY Suite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Version 7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, Version 7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One single GUI interface to relational, multidimensional and vector DB: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Accessing ORACLE, ESSBASE, MS-SQL Server, MS OLAP, HARRYVS… from your dictionary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 parameterized queries, through the same GUI interface and automatisms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Navigate within OLAP environments,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ransform any query to an application page or broadcast it…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7:38:06Z</dcterms:created>
  <dc:creator>Paul Landucci</dc:creator>
  <dc:description/>
  <dc:language>en-US</dc:language>
  <cp:lastModifiedBy>Paul Landucci</cp:lastModifiedBy>
  <dcterms:modified xsi:type="dcterms:W3CDTF">2006-10-25T03:15:29Z</dcterms:modified>
  <cp:revision>15</cp:revision>
  <dc:subject/>
  <dc:title>Diapositive 1</dc:title>
</cp:coreProperties>
</file>