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F37-1488-4735-BC8E-C65F3B39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0377-30EC-46E7-A4DC-AE432246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356-FA5A-4E05-930D-7F91A27B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6F1-E3C2-4D3D-8226-69DC9AAA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346-6458-46C5-930C-1771CD58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B846-CBAA-4F27-8767-492AC676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3DE-D4BD-48D7-8BD4-7D4D4837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09B6-10DA-4EC2-898F-A27C2AB5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59A4-9DD0-4425-A371-7607CF61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F2B-6AB6-44BD-9970-73C83040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DBA-D05A-45C4-B7E9-E7BA4756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0D4-B27D-42D4-AC80-CF0CF155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71BE-54B1-4F80-A6AF-AAE1C577F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Open Source Code Managemen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Morten Krom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Dyalog User Conference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Version 1 October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87E-A80C-4B90-BAB1-09B876D55C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n Excel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How Else Can we Us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146-0B3A-43E5-A5C6-3702B57EC2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Web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”Wild Web Server” is an HTTP Server written entirely in Dyalog v11 by Stefano Lanzavecc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upport for ”APLS” files was added by myself and Nicolas Delcros since 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t is perhaps the strongest testament to the value of OO and APL code in script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ther uses for Script Fi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E7C-168F-46CA-A806-6C73CF89C7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ow about a C# GUI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ther uses for Script Fi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616B-CF1C-4332-AB33-1CFDDE58F3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few more words about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PICE is an experimental command line extension to the Dyalog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t looks in ”classes\spice” and tries to load all the ”.dyalog” files in this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et’s examine a sample SPIC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intention is to make it really easy to share developm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More about SP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7D5-AF3D-4244-AF66-C0A9DBACAE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toring Dyalog source code in text files has many benefits, in parti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Easy integration with many popular development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can e-mail code to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can easily share development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28D-FD06-4456-AAFF-3FA5642DF1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cripts are especially practical when combining APL with other tools,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Building web 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Embedding Dyalog within Visual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A tool like SALT ensures that changes get written back to the source right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D5B-822C-4EE2-A844-D9CC18D01D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s with the Object Oriented features themselves, I would not recommend that you immediately rewrite your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Please Experiment with it, at least look at the samples we dis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your own apps, it is most useful for (new) components used in many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... Or if a large team need to put something together from small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73E-C625-44D2-813F-32BD678E99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ource Code Management is an important topic which we will continue to focus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aim to complete SALT &amp; SPICE by 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Even smoother integration with Visual Studio will </a:t>
            </a:r>
            <a:r>
              <a:rPr b="0" i="1" lang="da-DK" sz="3600" spc="-1" strike="noStrike">
                <a:solidFill>
                  <a:srgbClr val="000000"/>
                </a:solidFill>
                <a:latin typeface="Arial"/>
              </a:rPr>
              <a:t>probably</a:t>
            </a: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 be a goal for 1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8DB-CAE1-41BA-B199-CE693AADAD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ependencies between SALTed modules (”using” state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lasses spread across more than one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Making SALT extensible so people can easily add commands or manage special meta-data inline i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ould SALT versioning be withdrawn (people can use other Version Control tool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Problems Left to Solve inclu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923-CAAA-4A58-BDC9-A37A5D8D03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Dyalog will invest in developing new libraries of modular components using an ”Open Source”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ALT, SPICE and the ”Wild Web Server” are our pilot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invite you all to help provide a new generation of tools for us, and for future generations of APL 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all to Ar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857-3010-44B9-97F9-EA6FC0B61A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s you may have noticed, Version 11.0 was a little late... the BIG news about it is that it is now ”out” (for 32-bit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64-bit Windows, Windows Mobile 5, AIX, Linux and Solaris all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11.0 still has a few bugs but Dan, Nicolas and Beta Testers have done a good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e are still ramping up our QA, and the next release will be eve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ue to the delay, there are few NEW ”technical news sessions”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AAC-0AE5-44DF-9C75-DD0E4F656D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Dyalog aims to provide a web-based repository for open-source projects (probably using SubVer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will clean up, document and publish ”recommended”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There will also be a ”less managed”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Prepare to contribu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ur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F97-EEBF-4B8F-8968-8DE3E658B4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7200"/>
            </a:b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(in advance </a:t>
            </a:r>
            <a:r>
              <a:rPr b="0" lang="da-DK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E84-F9B5-404C-8E7C-CC7C3B4260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t 13:45 today, Geoff Streeter is doing an updated presentation on 64-bit Dyalog A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t 14:30, John Scholes is more or less repeating last years presentation on non-OO language enhancements in v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O tutorial is being run as two full-day workshops by Dan Baronet (Mon+F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(more)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4E1-B6DD-41B3-B2B0-C0BFAE8098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 suspect John Daintree is going to show some new uses of v11.0 to us to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Nicolas Delcros is talking about his first project at Dyalog at 14:30 today: An experimental port of the Linux product to ”WineLi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 will now try to present some ideas on source code management which have resulted from working with version 1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(more)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7CD2-463D-4E13-AEC5-5877BBC4C3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version 11.0, Classes and Namespaces   have a ”script” form (returned by ⎕S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is means that a group of related code (and constants) can easily be treated as a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particular, the script can be written to a Unicod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is allows a number of new ways of working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8F9-7CA6-47E0-9402-7D03ED01F5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Let’s take a look at a classical APL Appl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975-7ABE-4432-BDEA-D9C246DF5B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inReg is a nice application, but if I want to use it as a component in my system(s), I have to copy it around th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intaining the source in a single, easily-editable location is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ource code management systems exist, but are proprietary, closed ”black box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e propose a new beginning based on Unicode tex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et’s examine how this might work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Developing ”Compone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858-32A7-4EDC-BC3E-FA4E8394AE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ALT is an experimental tool, intended to provide ”bare bones” support for source in tex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ALT uses an undocumented callback on the Editor object to save changes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 Unicode MS"/>
              </a:rPr>
              <a:t>As we have seen, SALT provides rudimentary version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 Unicode MS"/>
              </a:rPr>
              <a:t>Now, imagine that we want to build a stand-alone applicat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 A L T = Simple APL Library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B0E-7CF8-49E1-A7D4-B91349CCBA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have seen that ”SALTED” files allow us ”zero footprint” use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embed our components in simple stand-alon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do simple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use non-APL development tools like ”CompareIt!” if they support 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ow else can we use our compon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 A L T = Simple APL Library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726-95B0-4EA8-BBD7-F3B7D94731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08:15Z</dcterms:created>
  <dc:creator>vibeke</dc:creator>
  <dc:description/>
  <dc:language>en-US</dc:language>
  <cp:lastModifiedBy>Morten Kromberg</cp:lastModifiedBy>
  <dcterms:modified xsi:type="dcterms:W3CDTF">2006-10-17T09:30:14Z</dcterms:modified>
  <cp:revision>48</cp:revision>
  <dc:subject/>
  <dc:title>Slide 1</dc:title>
</cp:coreProperties>
</file>