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png" ContentType="image/png"/>
  <Override PartName="/ppt/media/image40.jpeg" ContentType="image/jpeg"/>
  <Override PartName="/ppt/media/image51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55.jpeg" ContentType="image/jpeg"/>
  <Override PartName="/ppt/media/image41.jpeg" ContentType="image/jpeg"/>
  <Override PartName="/ppt/media/image44.png" ContentType="image/png"/>
  <Override PartName="/ppt/media/image35.png" ContentType="image/png"/>
  <Override PartName="/ppt/media/image33.jpeg" ContentType="image/jpeg"/>
  <Override PartName="/ppt/media/image32.png" ContentType="image/pn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39.png" ContentType="image/png"/>
  <Override PartName="/ppt/media/image64.jpeg" ContentType="image/jpeg"/>
  <Override PartName="/ppt/media/image17.png" ContentType="image/png"/>
  <Override PartName="/ppt/media/image53.png" ContentType="image/png"/>
  <Override PartName="/ppt/media/image9.png" ContentType="image/png"/>
  <Override PartName="/ppt/media/image18.gif" ContentType="image/gif"/>
  <Override PartName="/ppt/media/image57.png" ContentType="image/png"/>
  <Override PartName="/ppt/media/image2.jpeg" ContentType="image/jpeg"/>
  <Override PartName="/ppt/media/image21.jpeg" ContentType="image/jpeg"/>
  <Override PartName="/ppt/media/image22.png" ContentType="image/png"/>
  <Override PartName="/ppt/media/image24.png" ContentType="image/png"/>
  <Override PartName="/ppt/media/image73.jpeg" ContentType="image/jpeg"/>
  <Override PartName="/ppt/media/image28.png" ContentType="image/png"/>
  <Override PartName="/ppt/media/image29.jpeg" ContentType="image/jpeg"/>
  <Override PartName="/ppt/media/image23.png" ContentType="image/png"/>
  <Override PartName="/ppt/media/image60.png" ContentType="image/png"/>
  <Override PartName="/ppt/media/image79.png" ContentType="image/png"/>
  <Override PartName="/ppt/media/image26.jpeg" ContentType="image/jpeg"/>
  <Override PartName="/ppt/media/image42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63.png" ContentType="image/png"/>
  <Override PartName="/ppt/media/image74.png" ContentType="image/png"/>
  <Override PartName="/ppt/media/image25.png" ContentType="image/png"/>
  <Override PartName="/ppt/media/image62.png" ContentType="image/png"/>
  <Override PartName="/ppt/media/image71.jpeg" ContentType="image/jpeg"/>
  <Override PartName="/ppt/media/image68.png" ContentType="image/png"/>
  <Override PartName="/ppt/media/image67.jpeg" ContentType="image/jpeg"/>
  <Override PartName="/ppt/media/image72.jpeg" ContentType="image/jpeg"/>
  <Override PartName="/ppt/media/image1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1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5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7A36E-0770-46AF-B101-1F95FE958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6C8F-5077-4725-86AA-6347A9EEA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DB20-21EE-41D3-B900-2B72F7A30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1015-6500-48DB-9505-FD5828009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618D-CFDB-49E0-9C2F-BB184580F0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75CA-9276-4282-BDBF-3CF9D4C2C9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D525-9452-4A74-A557-41735E678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35D40-1874-43A0-8C5E-507E293433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CF4B-E04B-434E-A852-1BD6C21F92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3277-9E9C-4F54-991A-7043F38075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C762-A1A0-42E8-967D-5D08D18C5F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EE29-F155-40FD-83FC-B636BDB00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5DD99-8327-4492-87A0-F429991468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8CFC-1C65-4378-9767-0C37349A93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505B-CE5B-44E0-9E93-8D95F409EE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43D8-8825-4DE9-95E9-2BBA238149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1036-7BE8-46CF-BF40-4FBC9A751A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DE15-4DF9-430E-8686-522D0128EC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5571-B14A-4AF3-8998-3D1435DB39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4116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49520" y="198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4116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49520" y="4050720"/>
            <a:ext cx="2674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B0AB-0880-457F-8359-B884CCEE0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3880" y="533160"/>
            <a:ext cx="794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D14F-A52E-469D-85C8-415B09BFC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EEE8-889F-4AC0-948E-13F50FB7A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9080" y="405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490D-83E3-40E0-A960-E3402C467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9080" y="1980720"/>
            <a:ext cx="4052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050720"/>
            <a:ext cx="83055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D605-62FE-40FF-9445-2A3444843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90192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D555-3F7A-4DCE-8293-72244A5A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06200" y="6180120"/>
            <a:ext cx="1009800" cy="63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23201" t="0" r="0" b="0"/>
          <a:stretch/>
        </p:blipFill>
        <p:spPr>
          <a:xfrm>
            <a:off x="0" y="0"/>
            <a:ext cx="9180360" cy="187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Click to edit the title text format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A13-E35D-4B84-B5D5-0653C9027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0" y="5624640"/>
            <a:ext cx="1784520" cy="1117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Click to edit the outline text format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Eurostil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Eurostile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Eurostile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Eurostil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Eurostil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Eurostile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15228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57200"/>
            <a:ext cx="8077320" cy="838080"/>
          </a:xfrm>
          <a:prstGeom prst="rect">
            <a:avLst/>
          </a:prstGeom>
          <a:solidFill>
            <a:srgbClr val="28184d"/>
          </a:solidFill>
          <a:ln w="9360">
            <a:solidFill>
              <a:srgbClr val="2818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645336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8184d"/>
                </a:solidFill>
                <a:latin typeface="Verdana"/>
              </a:rPr>
              <a:t>As quick as you thin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899480" y="6100920"/>
            <a:ext cx="113652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2590920" cy="6858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219320"/>
            <a:ext cx="7315200" cy="1371600"/>
          </a:xfrm>
          <a:prstGeom prst="rect">
            <a:avLst/>
          </a:prstGeom>
          <a:solidFill>
            <a:srgbClr val="2818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553840" y="2971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Wingdings 2"/>
                <a:ea typeface="Wingdings 2"/>
              </a:rPr>
              <a:t>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948360" y="5445000"/>
            <a:ext cx="2160720" cy="13543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28184d"/>
              </a:buClr>
              <a:buSzPct val="80000"/>
              <a:buFont typeface="Wingdings 2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be35"/>
              </a:buClr>
              <a:buSzPct val="80000"/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184d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0.png"/><Relationship Id="rId6" Type="http://schemas.openxmlformats.org/officeDocument/2006/relationships/image" Target="../media/image60.png"/><Relationship Id="rId7" Type="http://schemas.openxmlformats.org/officeDocument/2006/relationships/image" Target="../media/image60.png"/><Relationship Id="rId8" Type="http://schemas.openxmlformats.org/officeDocument/2006/relationships/image" Target="../media/image60.png"/><Relationship Id="rId9" Type="http://schemas.openxmlformats.org/officeDocument/2006/relationships/image" Target="../media/image60.png"/><Relationship Id="rId10" Type="http://schemas.openxmlformats.org/officeDocument/2006/relationships/image" Target="../media/image60.png"/><Relationship Id="rId11" Type="http://schemas.openxmlformats.org/officeDocument/2006/relationships/image" Target="../media/image60.png"/><Relationship Id="rId12" Type="http://schemas.openxmlformats.org/officeDocument/2006/relationships/image" Target="../media/image61.png"/><Relationship Id="rId13" Type="http://schemas.openxmlformats.org/officeDocument/2006/relationships/image" Target="../media/image62.png"/><Relationship Id="rId14" Type="http://schemas.openxmlformats.org/officeDocument/2006/relationships/image" Target="../media/image63.png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5.png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harrysoftware.com/" TargetMode="External"/><Relationship Id="rId2" Type="http://schemas.openxmlformats.org/officeDocument/2006/relationships/hyperlink" Target="mailto:scoez@harrysoftware.com" TargetMode="External"/><Relationship Id="rId3" Type="http://schemas.openxmlformats.org/officeDocument/2006/relationships/hyperlink" Target="mailto:planducci@harrysoftware.com" TargetMode="External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jpeg"/><Relationship Id="rId13" Type="http://schemas.openxmlformats.org/officeDocument/2006/relationships/image" Target="../media/image30.png"/><Relationship Id="rId14" Type="http://schemas.openxmlformats.org/officeDocument/2006/relationships/image" Target="../media/image31.jpeg"/><Relationship Id="rId15" Type="http://schemas.openxmlformats.org/officeDocument/2006/relationships/image" Target="../media/image32.png"/><Relationship Id="rId16" Type="http://schemas.openxmlformats.org/officeDocument/2006/relationships/image" Target="../media/image33.jpe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jpeg"/><Relationship Id="rId21" Type="http://schemas.openxmlformats.org/officeDocument/2006/relationships/image" Target="../media/image38.png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537080" cy="28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86880" y="4869000"/>
            <a:ext cx="26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Comic Sans MS"/>
              </a:rPr>
              <a:t>As quick as you thin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Dyalog logo"/>
          <p:cNvPicPr/>
          <p:nvPr/>
        </p:nvPicPr>
        <p:blipFill>
          <a:blip r:embed="rId2"/>
          <a:stretch/>
        </p:blipFill>
        <p:spPr>
          <a:xfrm>
            <a:off x="4545000" y="6032520"/>
            <a:ext cx="2638440" cy="49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040520" y="5950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60160" y="6308640"/>
            <a:ext cx="127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Landu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éphane Co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771640" y="2620800"/>
            <a:ext cx="3168720" cy="1744920"/>
          </a:xfrm>
          <a:prstGeom prst="rect">
            <a:avLst/>
          </a:prstGeom>
          <a:ln w="12600">
            <a:solidFill>
              <a:srgbClr val="5f5f5f"/>
            </a:solidFill>
            <a:miter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52720" y="4221000"/>
            <a:ext cx="2880000" cy="229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175440" y="2835360"/>
            <a:ext cx="2705040" cy="2089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o structure &amp; display inform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79280" y="3036960"/>
            <a:ext cx="2756160" cy="1471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6730920" y="4149720"/>
            <a:ext cx="2305080" cy="188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108000" y="4672080"/>
            <a:ext cx="3529080" cy="1493640"/>
          </a:xfrm>
          <a:prstGeom prst="rect">
            <a:avLst/>
          </a:prstGeom>
          <a:ln w="12600">
            <a:solidFill>
              <a:srgbClr val="808080"/>
            </a:solidFill>
            <a:miter/>
          </a:ln>
        </p:spPr>
      </p:pic>
    </p:spTree>
  </p:cSld>
  <p:transition spd="med">
    <p:fade thruBlk="true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Report,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powerful &amp; pertinent presentation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85960" cy="2663640"/>
          </a:xfrm>
          <a:prstGeom prst="rect">
            <a:avLst/>
          </a:prstGeom>
          <a:ln w="12600">
            <a:solidFill>
              <a:srgbClr val="120575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195640" y="2637000"/>
            <a:ext cx="2781000" cy="1717560"/>
          </a:xfrm>
          <a:prstGeom prst="rect">
            <a:avLst/>
          </a:prstGeom>
          <a:ln w="9360">
            <a:solidFill>
              <a:srgbClr val="292929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086600" y="2435400"/>
            <a:ext cx="1892160" cy="2665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732720" y="4994280"/>
            <a:ext cx="2232000" cy="167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003640" y="2997360"/>
            <a:ext cx="1933560" cy="1450800"/>
          </a:xfrm>
          <a:prstGeom prst="rect">
            <a:avLst/>
          </a:prstGeom>
          <a:ln w="6480">
            <a:solidFill>
              <a:srgbClr val="0000cc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3613320" y="4538520"/>
            <a:ext cx="3046320" cy="22035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34920" y="4422600"/>
            <a:ext cx="3946680" cy="21751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9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8800" y="1052640"/>
            <a:ext cx="7010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592360" cy="19447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2200" y="3068640"/>
            <a:ext cx="2521080" cy="1828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08000" y="422100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1123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</a:t>
            </a:r>
            <a:r>
              <a:rPr b="0" i="1" lang="en-US" sz="4400" spc="-1" strike="noStrike">
                <a:solidFill>
                  <a:srgbClr val="333399"/>
                </a:solidFill>
                <a:latin typeface="Eurostile"/>
              </a:rPr>
              <a:t>DataWEB</a:t>
            </a: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24360" y="213372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sign the application pages and dynamics,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and run it on your Intranet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broadcast results and information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To deploy according to your user domains, groups and profiles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547640" y="4975200"/>
            <a:ext cx="2016360" cy="154944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9920" y="119700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 4 step proces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278080"/>
            <a:ext cx="5905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1: Create your report at the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detail level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2: Replace pertinent values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by paramete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3: Insert and design within a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       WEB application page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Eurostile"/>
              </a:rPr>
              <a:t>Step 4: Deploy to the intranet.  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9548" b="0"/>
          <a:stretch/>
        </p:blipFill>
        <p:spPr>
          <a:xfrm>
            <a:off x="6156360" y="2349360"/>
            <a:ext cx="917640" cy="67176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6227640" y="2997360"/>
            <a:ext cx="2718000" cy="1535040"/>
            <a:chOff x="6227640" y="2997360"/>
            <a:chExt cx="2718000" cy="15350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rcRect l="0" t="0" r="9548" b="0"/>
            <a:stretch/>
          </p:blipFill>
          <p:spPr>
            <a:xfrm>
              <a:off x="622764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rcRect l="0" t="0" r="9548" b="0"/>
            <a:stretch/>
          </p:blipFill>
          <p:spPr>
            <a:xfrm>
              <a:off x="644364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rcRect l="0" t="0" r="9548" b="0"/>
            <a:stretch/>
          </p:blipFill>
          <p:spPr>
            <a:xfrm>
              <a:off x="665964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rcRect l="0" t="0" r="9548" b="0"/>
            <a:stretch/>
          </p:blipFill>
          <p:spPr>
            <a:xfrm>
              <a:off x="6875640" y="3645000"/>
              <a:ext cx="9172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rcRect l="0" t="0" r="9548" b="0"/>
            <a:stretch/>
          </p:blipFill>
          <p:spPr>
            <a:xfrm>
              <a:off x="709128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rcRect l="0" t="0" r="9548" b="0"/>
            <a:stretch/>
          </p:blipFill>
          <p:spPr>
            <a:xfrm>
              <a:off x="7164360" y="299736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rcRect l="0" t="0" r="9548" b="0"/>
            <a:stretch/>
          </p:blipFill>
          <p:spPr>
            <a:xfrm>
              <a:off x="7380360" y="3213000"/>
              <a:ext cx="91764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rcRect l="0" t="0" r="9548" b="0"/>
            <a:stretch/>
          </p:blipFill>
          <p:spPr>
            <a:xfrm>
              <a:off x="7738920" y="3429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rcRect l="0" t="0" r="9548" b="0"/>
            <a:stretch/>
          </p:blipFill>
          <p:spPr>
            <a:xfrm>
              <a:off x="7812000" y="3645000"/>
              <a:ext cx="91764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rcRect l="0" t="0" r="9548" b="0"/>
            <a:stretch/>
          </p:blipFill>
          <p:spPr>
            <a:xfrm>
              <a:off x="8028000" y="3860640"/>
              <a:ext cx="917640" cy="67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6227640" y="4724280"/>
            <a:ext cx="1197000" cy="89856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615080" y="5950080"/>
            <a:ext cx="557280" cy="53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6300720" y="6005520"/>
            <a:ext cx="1008000" cy="376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2743200"/>
            <a:ext cx="7956720" cy="41497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0"/>
            <a:ext cx="8028000" cy="475308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1070280" y="548280"/>
            <a:ext cx="6858000" cy="5761080"/>
          </a:xfrm>
          <a:custGeom>
            <a:avLst/>
            <a:gdLst>
              <a:gd name="textAreaLeft" fmla="*/ 0 w 6858000"/>
              <a:gd name="textAreaRight" fmla="*/ 6858360 w 6858000"/>
              <a:gd name="textAreaTop" fmla="*/ 0 h 5761080"/>
              <a:gd name="textAreaBottom" fmla="*/ 5761080 h 576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915" y="4616"/>
                </a:lnTo>
                <a:lnTo>
                  <a:pt x="14028" y="4616"/>
                </a:lnTo>
                <a:lnTo>
                  <a:pt x="14028" y="7572"/>
                </a:lnTo>
                <a:lnTo>
                  <a:pt x="16984" y="7572"/>
                </a:lnTo>
                <a:lnTo>
                  <a:pt x="16984" y="6685"/>
                </a:lnTo>
                <a:lnTo>
                  <a:pt x="21600" y="10800"/>
                </a:lnTo>
                <a:lnTo>
                  <a:pt x="16984" y="14915"/>
                </a:lnTo>
                <a:lnTo>
                  <a:pt x="16984" y="14028"/>
                </a:lnTo>
                <a:lnTo>
                  <a:pt x="4616" y="14028"/>
                </a:lnTo>
                <a:lnTo>
                  <a:pt x="4616" y="14915"/>
                </a:lnTo>
                <a:lnTo>
                  <a:pt x="0" y="10800"/>
                </a:lnTo>
                <a:lnTo>
                  <a:pt x="4616" y="6685"/>
                </a:lnTo>
                <a:lnTo>
                  <a:pt x="4616" y="7572"/>
                </a:lnTo>
                <a:lnTo>
                  <a:pt x="7572" y="7572"/>
                </a:lnTo>
                <a:lnTo>
                  <a:pt x="7572" y="4616"/>
                </a:lnTo>
                <a:lnTo>
                  <a:pt x="6685" y="4616"/>
                </a:lnTo>
                <a:close/>
              </a:path>
            </a:pathLst>
          </a:custGeom>
          <a:solidFill>
            <a:srgbClr val="ffbe35"/>
          </a:solidFill>
          <a:ln w="28440">
            <a:solidFill>
              <a:srgbClr val="ffbe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90920" y="4653000"/>
            <a:ext cx="316872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3573360"/>
            <a:ext cx="4537080" cy="8431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ARRYPilot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37200" y="2779560"/>
            <a:ext cx="2135160" cy="576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Dash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567240" y="5472000"/>
            <a:ext cx="93168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689360" y="5484960"/>
            <a:ext cx="890640" cy="11840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699160" y="5472000"/>
            <a:ext cx="888840" cy="11970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270" name=""/>
          <p:cNvSpPr/>
          <p:nvPr/>
        </p:nvSpPr>
        <p:spPr>
          <a:xfrm>
            <a:off x="4282920" y="2133720"/>
            <a:ext cx="2089440" cy="647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ARRYNet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1125360"/>
            <a:ext cx="4608720" cy="215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3141720"/>
            <a:ext cx="1152720" cy="7189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16000" y="2421000"/>
            <a:ext cx="1079640" cy="2160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RRY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Manager,</a:t>
            </a: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Verdana"/>
              </a:rPr>
              <a:t>H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314172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25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50"/>
                            </p:stCondLst>
                            <p:childTnLst>
                              <p:par>
                                <p:cTn id="446" nodeType="after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03472 L 0.08854 -0.29075 E">
                                      <p:cBhvr>
                                        <p:cTn id="514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202b8"/>
                </a:solidFill>
                <a:latin typeface="Eurostile"/>
              </a:rPr>
              <a:t>HARRYVectorServer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b8"/>
                </a:solidFill>
                <a:latin typeface="Eurostile"/>
              </a:rPr>
              <a:t>Very fast datamarts: </a:t>
            </a: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 2: IBM Z90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X: AIX, SUN, HP 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NT: WINDOWS XP &amp; 2003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 </a:t>
            </a:r>
            <a:r>
              <a:rPr b="1" lang="en-US" sz="1800" spc="-1" strike="noStrike">
                <a:solidFill>
                  <a:srgbClr val="0202b8"/>
                </a:solidFill>
                <a:latin typeface="Eurostile"/>
              </a:rPr>
              <a:t>HARRY-LINUX</a:t>
            </a: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  <a:p>
            <a:pPr lvl="1" marL="457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924600" y="1844640"/>
            <a:ext cx="2184480" cy="49690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Vector Architecture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79" name=""/>
          <p:cNvSpPr/>
          <p:nvPr/>
        </p:nvSpPr>
        <p:spPr>
          <a:xfrm>
            <a:off x="4932360" y="2492280"/>
            <a:ext cx="421164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dap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Market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Sales, logistic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WEB logging analys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0" lang="fr-FR" sz="3200" spc="-1" strike="noStrike">
                <a:solidFill>
                  <a:srgbClr val="333399"/>
                </a:solidFill>
                <a:latin typeface="Eurostile"/>
              </a:rPr>
              <a:t>Any large database dedicated to intensive studie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2487600"/>
            <a:ext cx="4464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29920" y="105228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The VectorServers many benefits: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4000" y="207648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Extremely fast on complex queries, scan, calculat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Unlimited number of columns or dimensions,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Boolean fields and bitmap indexing,  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Dynamical functions and dimensions,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Ranging or interval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IF(CONDITION;TRUE;FALSE)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ypologies or Seg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Eurostile"/>
              </a:rPr>
              <a:t>...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Selection: Where and Count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4789440" y="2057400"/>
            <a:ext cx="43200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2057400"/>
            <a:ext cx="431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7440" y="205740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16720" y="205740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2057400"/>
            <a:ext cx="431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97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16360" y="1557360"/>
            <a:ext cx="3959280" cy="430200"/>
          </a:xfrm>
          <a:prstGeom prst="leftRightArrow">
            <a:avLst>
              <a:gd name="adj1" fmla="val 50000"/>
              <a:gd name="adj2" fmla="val 183215"/>
            </a:avLst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37440" y="2060640"/>
            <a:ext cx="28728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7800" y="2060640"/>
            <a:ext cx="647640" cy="4032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8760" y="16286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Vector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31040" y="35082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37880" y="1557360"/>
            <a:ext cx="128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Active 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2480" y="3213000"/>
            <a:ext cx="432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8640" y="2540160"/>
            <a:ext cx="83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Partition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itm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120" y="3213000"/>
            <a:ext cx="266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00360" y="292428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360" y="386064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00360" y="479736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5661000"/>
            <a:ext cx="6048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3120" y="2362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328932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415296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5089680"/>
            <a:ext cx="73224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Block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900000" y="2492280"/>
            <a:ext cx="208764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3573360"/>
            <a:ext cx="215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3933720"/>
            <a:ext cx="215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4149720"/>
            <a:ext cx="2016360" cy="172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3716280"/>
            <a:ext cx="215928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56280" y="2205000"/>
            <a:ext cx="85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719680" y="318816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4738680" y="325260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5275440" y="3236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 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268680" y="32695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Qua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6592680" y="3247920"/>
            <a:ext cx="8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Unit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7172280" y="32169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9440" y="5319720"/>
            <a:ext cx="294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VectorServer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working on partition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and blocks. Block i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ahoma"/>
              </a:rPr>
              <a:t>the minimum read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Vector index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4365720"/>
            <a:ext cx="55515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Index allows: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To create a selection bitmap from a matrix describing each value with addresse for a variable in table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Without file read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6666120" y="1413000"/>
            <a:ext cx="82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Selection</a:t>
            </a:r>
            <a:br>
              <a:rPr sz="1200"/>
            </a:br>
            <a:r>
              <a:rPr b="0" lang="fr-FR" sz="1200" spc="-1" strike="noStrike">
                <a:solidFill>
                  <a:srgbClr val="3333cc"/>
                </a:solidFill>
                <a:latin typeface="Tahoma"/>
              </a:rPr>
              <a:t>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21360" y="2057400"/>
            <a:ext cx="2876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4224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611280" y="2205000"/>
          <a:ext cx="2698560" cy="1644840"/>
        </p:xfrm>
        <a:graphic>
          <a:graphicData uri="http://schemas.openxmlformats.org/drawingml/2006/table">
            <a:tbl>
              <a:tblPr/>
              <a:tblGrid>
                <a:gridCol w="838080"/>
                <a:gridCol w="18604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resses in vector 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5,194,2056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12,16,17,18,27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,10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684360" y="2637000"/>
            <a:ext cx="45352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49880" y="263700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Tahoma"/>
              </a:rPr>
              <a:t>Bitmap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219640" y="2349360"/>
            <a:ext cx="17287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219640" y="2565360"/>
            <a:ext cx="1800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19640" y="2852640"/>
            <a:ext cx="1800360" cy="165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852640"/>
            <a:ext cx="1728720" cy="237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1989000"/>
            <a:ext cx="266760" cy="72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2700360"/>
            <a:ext cx="6912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Eurostile"/>
              </a:rPr>
              <a:t>Our Job</a:t>
            </a:r>
            <a:endParaRPr b="1" lang="en-US" sz="80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PL/M conversion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PL/M Version 10 &amp; 11…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vailability on WINDOWS, UNIX, LINUX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Version 7.1 de HVS, released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Overpasses the 4 Giga Bytes file limit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UNIX, LINUX et WINDOWS files directly compatible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Nouveau look &amp; feel XP </a:t>
            </a:r>
            <a:br>
              <a:rPr sz="2000"/>
            </a:br>
            <a:r>
              <a:rPr b="1" lang="en-US" sz="2000" spc="-1" strike="noStrike">
                <a:solidFill>
                  <a:srgbClr val="ffcf01"/>
                </a:solidFill>
                <a:latin typeface="Verdana"/>
              </a:rPr>
              <a:t>pour la console et le monitoring</a:t>
            </a:r>
            <a:endParaRPr b="1" lang="en-US" sz="20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31640" y="1220760"/>
            <a:ext cx="5081760" cy="27129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395280" y="1951200"/>
            <a:ext cx="7351560" cy="4141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36720" y="3922560"/>
            <a:ext cx="8172360" cy="2891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132000" y="1438200"/>
            <a:ext cx="5616720" cy="5411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tretch/>
        </p:blipFill>
        <p:spPr>
          <a:xfrm>
            <a:off x="287280" y="3860640"/>
            <a:ext cx="8172360" cy="28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1" dur="1" fill="hold"/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Performances: 6.5 M Rec, 315 col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806400" y="1700280"/>
            <a:ext cx="7078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VectorServer, next…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64 bit full version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Administration module as a ‘console’ 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ored relational views ‘join-like’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rallelization, multi-processing &amp; clustering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Vector loaded in // on several instance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ispatch one query on several servers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Load balancing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Dynamical profile session update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47920" y="121932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Verdana"/>
              </a:rPr>
              <a:t>The fashion show room</a:t>
            </a:r>
            <a:endParaRPr b="1" lang="en-US" sz="28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04960" y="29714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184d"/>
                </a:solidFill>
                <a:latin typeface="Verdana"/>
              </a:rPr>
              <a:t>JAVA…!</a:t>
            </a:r>
            <a:endParaRPr b="1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2857680" y="1484280"/>
            <a:ext cx="3632040" cy="1525320"/>
            <a:chOff x="2857680" y="1484280"/>
            <a:chExt cx="3632040" cy="1525320"/>
          </a:xfrm>
        </p:grpSpPr>
        <p:grpSp>
          <p:nvGrpSpPr>
            <p:cNvPr id="349" name=""/>
            <p:cNvGrpSpPr/>
            <p:nvPr/>
          </p:nvGrpSpPr>
          <p:grpSpPr>
            <a:xfrm>
              <a:off x="3111480" y="1916280"/>
              <a:ext cx="3211200" cy="1093320"/>
              <a:chOff x="3111480" y="1916280"/>
              <a:chExt cx="3211200" cy="1093320"/>
            </a:xfrm>
          </p:grpSpPr>
          <p:sp>
            <p:nvSpPr>
              <p:cNvPr id="350" name=""/>
              <p:cNvSpPr/>
              <p:nvPr/>
            </p:nvSpPr>
            <p:spPr>
              <a:xfrm>
                <a:off x="3111480" y="2270880"/>
                <a:ext cx="2835000" cy="73872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7320" y="1916280"/>
                <a:ext cx="2205360" cy="905040"/>
              </a:xfrm>
              <a:prstGeom prst="ellipse">
                <a:avLst/>
              </a:prstGeom>
              <a:noFill/>
              <a:ln w="12600">
                <a:solidFill>
                  <a:srgbClr val="003b7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1" lang="en-US" sz="1200" spc="-1" strike="noStrike">
                    <a:solidFill>
                      <a:srgbClr val="333399"/>
                    </a:solidFill>
                    <a:latin typeface="Arial"/>
                  </a:rPr>
                  <a:t>WEB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2" name="" descr=""/>
            <p:cNvPicPr/>
            <p:nvPr/>
          </p:nvPicPr>
          <p:blipFill>
            <a:blip r:embed="rId1"/>
            <a:stretch/>
          </p:blipFill>
          <p:spPr>
            <a:xfrm>
              <a:off x="4462560" y="148428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308560" y="1611360"/>
              <a:ext cx="706320" cy="6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5784840" y="2114640"/>
              <a:ext cx="7048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2857680" y="2030400"/>
              <a:ext cx="706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5"/>
            <a:stretch/>
          </p:blipFill>
          <p:spPr>
            <a:xfrm>
              <a:off x="3533760" y="1625760"/>
              <a:ext cx="706320" cy="68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2195640" y="1484280"/>
            <a:ext cx="4608360" cy="1798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DataWEB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Interactive reporting, 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Ad hoc queries,</a:t>
            </a:r>
            <a:br>
              <a:rPr sz="1800"/>
            </a:br>
            <a:r>
              <a:rPr b="0" lang="fr-FR" sz="1800" spc="-1" strike="noStrike">
                <a:solidFill>
                  <a:srgbClr val="000066"/>
                </a:solidFill>
                <a:latin typeface="Tahoma"/>
              </a:rPr>
              <a:t>Mutidimensional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navig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 alternative new architectu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3821040" y="5597640"/>
            <a:ext cx="1487520" cy="86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HARRY</a:t>
            </a:r>
            <a:br>
              <a:rPr sz="12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17840" y="5365800"/>
            <a:ext cx="380376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Auxiliary proces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131920" y="4248000"/>
            <a:ext cx="4697640" cy="99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80"/>
                </a:solidFill>
                <a:latin typeface="Arial"/>
              </a:rPr>
              <a:t>HARRY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80"/>
                </a:solidFill>
                <a:latin typeface="Tahoma"/>
              </a:rPr>
              <a:t>Workspace </a:t>
            </a:r>
            <a:br>
              <a:rPr sz="1600"/>
            </a:br>
            <a:r>
              <a:rPr b="1" lang="fr-FR" sz="1200" spc="-1" strike="noStrike">
                <a:solidFill>
                  <a:srgbClr val="000080"/>
                </a:solidFill>
                <a:latin typeface="Tahoma"/>
              </a:rPr>
              <a:t>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233440" y="6056280"/>
            <a:ext cx="13845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32480" y="6056280"/>
            <a:ext cx="1380960" cy="72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Tahoma"/>
              </a:rPr>
              <a:t>XX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645000"/>
            <a:ext cx="3111480" cy="650880"/>
          </a:xfrm>
          <a:prstGeom prst="rect">
            <a:avLst/>
          </a:prstGeom>
          <a:gradFill rotWithShape="0">
            <a:gsLst>
              <a:gs pos="0">
                <a:srgbClr val="3333cc">
                  <a:alpha val="50196"/>
                </a:srgbClr>
              </a:gs>
              <a:gs pos="100000">
                <a:srgbClr val="ffff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0" bIns="38520" anchor="ctr" anchorCtr="1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ARRY JAVA Cla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87760" y="3079800"/>
            <a:ext cx="3633840" cy="4888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ahoma"/>
              </a:rPr>
              <a:t>Application 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2272200">
            <a:off x="2950920" y="5597640"/>
            <a:ext cx="414360" cy="628560"/>
          </a:xfrm>
          <a:prstGeom prst="upDownArrow">
            <a:avLst>
              <a:gd name="adj1" fmla="val 50000"/>
              <a:gd name="adj2" fmla="val 30198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852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167600">
            <a:off x="5665680" y="5597280"/>
            <a:ext cx="336600" cy="628560"/>
          </a:xfrm>
          <a:prstGeom prst="upDownArrow">
            <a:avLst>
              <a:gd name="adj1" fmla="val 50000"/>
              <a:gd name="adj2" fmla="val 37174"/>
            </a:avLst>
          </a:prstGeom>
          <a:gradFill rotWithShape="0">
            <a:gsLst>
              <a:gs pos="0">
                <a:srgbClr val="ffffff"/>
              </a:gs>
              <a:gs pos="50000">
                <a:srgbClr val="808080"/>
              </a:gs>
              <a:gs pos="100000">
                <a:srgbClr val="ffffff"/>
              </a:gs>
            </a:gsLst>
            <a:lin ang="132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68360" y="3378240"/>
            <a:ext cx="4392720" cy="842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Verdana"/>
              </a:rPr>
              <a:t>HARRYPilot &amp; Dictionary</a:t>
            </a:r>
            <a:r>
              <a:rPr b="0" lang="fr-FR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24360" y="2925720"/>
            <a:ext cx="1152720" cy="7192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619280" y="2924280"/>
            <a:ext cx="1150920" cy="792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The HNS JAVA interfac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To give to developers a total and accurate control on HARRYVS at the appropriate level for their application.</a:t>
            </a:r>
            <a:br>
              <a:rPr sz="2000"/>
            </a:b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Access to every command or function and parameters of HARRYVectorServer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Example: </a:t>
            </a: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HARRY « 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SEL:</a:t>
            </a: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FAMILY</a:t>
            </a: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=702 »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Loads the selection bitmap in WS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ffcf01"/>
              </a:buClr>
              <a:buSzPct val="80000"/>
              <a:buFont typeface="Wingdings 2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184d"/>
                </a:solidFill>
                <a:latin typeface="Verdana"/>
              </a:rPr>
              <a:t>Returns the count to application</a:t>
            </a: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184d"/>
                </a:solidFill>
                <a:latin typeface="Verdana"/>
              </a:rPr>
              <a:t>Access to every HARRYVectorServer features or facility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Auxiliary processors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844640"/>
            <a:ext cx="83055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Goals : To create a dynamic link between an external server  (Oracle, SQLServer, DB2/U, etc.) and the HARRYVectorServer WS through this server native middleware.</a:t>
            </a:r>
            <a:br>
              <a:rPr sz="2000"/>
            </a:b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Runs a query and sends the result to WS.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28184d"/>
              </a:buClr>
              <a:buSzPct val="8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Notice: Query is only checked by the remote remote server.</a:t>
            </a:r>
            <a:br>
              <a:rPr sz="1800"/>
            </a:br>
            <a:r>
              <a:rPr b="0" lang="en-US" sz="1800" spc="-1" strike="noStrike">
                <a:solidFill>
                  <a:srgbClr val="28184d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 SQLORACL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yntax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_QUER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xample 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QLORACLE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LECT NAME,FISRT,SALARY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ROM PERSO WHER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=‘MFG'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15360" y="2395440"/>
            <a:ext cx="10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41880" y="2421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1 – ORACLE 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463760" y="3490920"/>
            <a:ext cx="445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QLORACLE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08000" y="436392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57600" y="579420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SELECT CUSTID,COUN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LIS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WHERE account &gt;= 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2411280" y="443700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09480" y="3573360"/>
            <a:ext cx="90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retur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491560" y="3429000"/>
            <a:ext cx="822240" cy="863640"/>
            <a:chOff x="2491560" y="3429000"/>
            <a:chExt cx="822240" cy="863640"/>
          </a:xfrm>
        </p:grpSpPr>
        <p:sp>
          <p:nvSpPr>
            <p:cNvPr id="390" name=""/>
            <p:cNvSpPr/>
            <p:nvPr/>
          </p:nvSpPr>
          <p:spPr>
            <a:xfrm>
              <a:off x="2771640" y="342900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91560" y="357336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_ID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95920" y="19162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code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&amp;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500"/>
                            </p:stCondLst>
                            <p:childTnLst>
                              <p:par>
                                <p:cTn id="9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500"/>
                            </p:stCondLst>
                            <p:childTnLst>
                              <p:par>
                                <p:cTn id="9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500"/>
                            </p:stCondLst>
                            <p:childTnLst>
                              <p:par>
                                <p:cTn id="9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Example: a two server query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1296720" cy="990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403280" y="2995560"/>
            <a:ext cx="6553440" cy="194616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8040" y="2395440"/>
            <a:ext cx="104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91480" y="3692520"/>
            <a:ext cx="105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orkspa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V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73560" y="227664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 – Key selection within vector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261800">
            <a:off x="1618920" y="2492280"/>
            <a:ext cx="719280" cy="1152720"/>
          </a:xfrm>
          <a:prstGeom prst="downArrow">
            <a:avLst>
              <a:gd name="adj1" fmla="val 50000"/>
              <a:gd name="adj2" fmla="val 4006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056680" y="3490920"/>
            <a:ext cx="32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HARRY_EXEC «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SEL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:LIST1 IN Cust_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272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43600" y="581976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ahoma"/>
              </a:rPr>
              <a:t>Load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0800000">
            <a:off x="4284360" y="465300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977920" y="3789360"/>
            <a:ext cx="1000800" cy="863640"/>
            <a:chOff x="2977920" y="3789360"/>
            <a:chExt cx="1000800" cy="863640"/>
          </a:xfrm>
        </p:grpSpPr>
        <p:sp>
          <p:nvSpPr>
            <p:cNvPr id="407" name=""/>
            <p:cNvSpPr/>
            <p:nvPr/>
          </p:nvSpPr>
          <p:spPr>
            <a:xfrm>
              <a:off x="3348000" y="3789360"/>
              <a:ext cx="289080" cy="863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7920" y="3933720"/>
              <a:ext cx="100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Customer</a:t>
              </a:r>
              <a:br>
                <a:rPr sz="1400"/>
              </a:b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li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5675760" y="6107040"/>
            <a:ext cx="168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RRYVector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3500280"/>
            <a:ext cx="73080" cy="1224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08040" y="292428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Cust_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374200" y="155736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elect the customers who have today receivabl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for more than 1,500 Eur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651640" y="3429000"/>
            <a:ext cx="7272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694480" y="3925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35280" y="4149720"/>
            <a:ext cx="936720" cy="358920"/>
          </a:xfrm>
          <a:prstGeom prst="leftRightArrow">
            <a:avLst>
              <a:gd name="adj1" fmla="val 50000"/>
              <a:gd name="adj2" fmla="val 5195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643280" y="3933720"/>
            <a:ext cx="1008360" cy="432000"/>
          </a:xfrm>
          <a:prstGeom prst="rightArrow">
            <a:avLst>
              <a:gd name="adj1" fmla="val 50000"/>
              <a:gd name="adj2" fmla="val 583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71640" y="5446800"/>
            <a:ext cx="2232000" cy="12952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6040" y="534816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RA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3000" y="1916280"/>
            <a:ext cx="185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Selected customers </a:t>
            </a:r>
            <a:br>
              <a:rPr sz="1400"/>
            </a:br>
            <a:r>
              <a:rPr b="0" lang="fr-FR" sz="1400" spc="-1" strike="noStrike">
                <a:solidFill>
                  <a:srgbClr val="ff0000"/>
                </a:solidFill>
                <a:latin typeface="Tahoma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8306400">
            <a:off x="1834560" y="2420640"/>
            <a:ext cx="718920" cy="1152360"/>
          </a:xfrm>
          <a:prstGeom prst="downArrow">
            <a:avLst>
              <a:gd name="adj1" fmla="val 50000"/>
              <a:gd name="adj2" fmla="val 40073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28542 0.01065 E">
                                      <p:cBhvr>
                                        <p:cTn id="1108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48200" y="2637000"/>
            <a:ext cx="3187800" cy="229860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1244160"/>
            <a:ext cx="72914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pplications deployed through the WEB and Window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276720" y="3121200"/>
            <a:ext cx="2557440" cy="19634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068720" y="4653000"/>
            <a:ext cx="1943280" cy="145872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4932360" y="5661000"/>
            <a:ext cx="1162080" cy="81756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177840" y="2629080"/>
            <a:ext cx="3241800" cy="196668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6300720" y="4743360"/>
            <a:ext cx="2735280" cy="185436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222120" y="4738680"/>
            <a:ext cx="2478240" cy="1859040"/>
          </a:xfrm>
          <a:prstGeom prst="rect">
            <a:avLst/>
          </a:prstGeom>
          <a:ln w="9360">
            <a:solidFill>
              <a:srgbClr val="3728fa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2330280" y="5373720"/>
            <a:ext cx="2170440" cy="1376280"/>
          </a:xfrm>
          <a:prstGeom prst="rect">
            <a:avLst/>
          </a:prstGeom>
          <a:ln w="12600">
            <a:solidFill>
              <a:srgbClr val="3728fa"/>
            </a:solidFill>
            <a:miter/>
          </a:ln>
        </p:spPr>
      </p:pic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3880" y="533160"/>
            <a:ext cx="794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Verdana"/>
              </a:rPr>
              <a:t>HARRYSoftware</a:t>
            </a:r>
            <a:endParaRPr b="1" lang="en-US" sz="2400" spc="-1" strike="noStrike">
              <a:solidFill>
                <a:srgbClr val="ffcf01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harrysoftware.com</a:t>
            </a: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Stéphane Coez, R&amp;D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scoez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184d"/>
                </a:solidFill>
                <a:latin typeface="Verdana"/>
              </a:rPr>
              <a:t>Paul Landucci, CEO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planducci@harrysoftware.com</a:t>
            </a: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18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920" y="1248840"/>
            <a:ext cx="7283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Analysis and reports for developers &amp; expert users  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2544840"/>
            <a:ext cx="3195720" cy="2396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5157720"/>
            <a:ext cx="1616040" cy="10778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411280" y="4432320"/>
            <a:ext cx="3168720" cy="2381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4716360" y="2604960"/>
            <a:ext cx="3240360" cy="2265480"/>
          </a:xfrm>
          <a:prstGeom prst="rect">
            <a:avLst/>
          </a:prstGeom>
          <a:ln w="12600">
            <a:solidFill>
              <a:srgbClr val="000099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5945040" y="4581360"/>
            <a:ext cx="3019680" cy="21211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HARRYSoftware,</a:t>
            </a:r>
            <a:br>
              <a:rPr sz="6000"/>
            </a:br>
            <a:r>
              <a:rPr b="1" lang="en-US" sz="6000" spc="-1" strike="noStrike">
                <a:solidFill>
                  <a:srgbClr val="333399"/>
                </a:solidFill>
                <a:latin typeface="Eurostile"/>
              </a:rPr>
              <a:t>Our Clients</a:t>
            </a:r>
            <a:endParaRPr b="1" lang="en-US" sz="60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The company asset! 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8000" cy="517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300720" y="6093000"/>
            <a:ext cx="2514600" cy="6634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2307960" cy="5050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851280" y="1744560"/>
            <a:ext cx="1657440" cy="820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179280" y="2205000"/>
            <a:ext cx="2808360" cy="1395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0" y="981000"/>
            <a:ext cx="1133640" cy="107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332000" y="6016680"/>
            <a:ext cx="2438280" cy="7254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324000" y="5445000"/>
            <a:ext cx="2341440" cy="5256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3851280" y="6165720"/>
            <a:ext cx="1905120" cy="4240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702560" y="3943440"/>
            <a:ext cx="129708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020000" y="3519360"/>
            <a:ext cx="939600" cy="773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8023320" y="4724280"/>
            <a:ext cx="1012680" cy="72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740720" y="333360"/>
            <a:ext cx="1233360" cy="17208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5940360" y="69228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5"/>
          <a:stretch/>
        </p:blipFill>
        <p:spPr>
          <a:xfrm>
            <a:off x="5506920" y="2349360"/>
            <a:ext cx="3457800" cy="100836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16"/>
          <a:stretch/>
        </p:blipFill>
        <p:spPr>
          <a:xfrm>
            <a:off x="468360" y="3860640"/>
            <a:ext cx="1116000" cy="1152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17"/>
          <a:stretch/>
        </p:blipFill>
        <p:spPr>
          <a:xfrm>
            <a:off x="5867280" y="4076640"/>
            <a:ext cx="1152720" cy="10954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18"/>
          <a:stretch/>
        </p:blipFill>
        <p:spPr>
          <a:xfrm>
            <a:off x="2916360" y="5300640"/>
            <a:ext cx="4681440" cy="773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9"/>
          <a:stretch/>
        </p:blipFill>
        <p:spPr>
          <a:xfrm>
            <a:off x="3059280" y="4292640"/>
            <a:ext cx="2736720" cy="766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20"/>
          <a:stretch/>
        </p:blipFill>
        <p:spPr>
          <a:xfrm>
            <a:off x="1979640" y="3716280"/>
            <a:ext cx="844560" cy="1066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1"/>
          <a:stretch/>
        </p:blipFill>
        <p:spPr>
          <a:xfrm>
            <a:off x="3252960" y="2790720"/>
            <a:ext cx="2039760" cy="1143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 spd="med"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8000" y="4941720"/>
            <a:ext cx="3025800" cy="185292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 Foundations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7640" y="2277720"/>
            <a:ext cx="6985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ed for business user require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Powerful and complete vs. competitor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ne single interface to Relational and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OLAP environments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32640" indent="-332640">
              <a:lnSpc>
                <a:spcPct val="70000"/>
              </a:lnSpc>
              <a:spcBef>
                <a:spcPts val="1400"/>
              </a:spcBef>
              <a:spcAft>
                <a:spcPts val="524"/>
              </a:spcAft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Consistent, fast and customized deployment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77080" y="2647800"/>
            <a:ext cx="2232000" cy="15732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295800" y="4869000"/>
            <a:ext cx="2716200" cy="191448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012000" y="4581360"/>
            <a:ext cx="2952720" cy="2214720"/>
          </a:xfrm>
          <a:prstGeom prst="rect">
            <a:avLst/>
          </a:prstGeom>
          <a:ln w="12600">
            <a:solidFill>
              <a:srgbClr val="000066"/>
            </a:solidFill>
            <a:miter/>
          </a:ln>
        </p:spPr>
      </p:pic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Eurostile"/>
              </a:rPr>
              <a:t>The HARRY Suite</a:t>
            </a:r>
            <a:endParaRPr b="1" lang="en-US" sz="5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26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Eurostile"/>
              </a:rPr>
              <a:t>Version 7</a:t>
            </a:r>
            <a:endParaRPr b="1" lang="en-US" sz="36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9920" y="126828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Eurostile"/>
              </a:rPr>
              <a:t>HARRYPilot, Version 7</a:t>
            </a:r>
            <a:endParaRPr b="0" lang="en-US" sz="4400" spc="-1" strike="noStrike">
              <a:solidFill>
                <a:srgbClr val="333399"/>
              </a:solidFill>
              <a:latin typeface="Eurosti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Eurostile"/>
              </a:rPr>
              <a:t>One single GUI interface to relational, multidimensional and vector DB:</a:t>
            </a:r>
            <a:endParaRPr b="0" lang="en-US" sz="32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Accessing ORACLE, ESSBASE, MS-SQL Server, MS OLAP, HARRYVS… from your dictionary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Design parameterized queries, through the same GUI interface and automatisms,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Navigate within OLAP environments, 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Eurostile"/>
              </a:rPr>
              <a:t>Transform any query to an application page or broadcast it…</a:t>
            </a: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7:38:06Z</dcterms:created>
  <dc:creator>Paul Landucci</dc:creator>
  <dc:description/>
  <dc:language>en-US</dc:language>
  <cp:lastModifiedBy>Paul Landucci</cp:lastModifiedBy>
  <dcterms:modified xsi:type="dcterms:W3CDTF">2006-10-25T03:15:29Z</dcterms:modified>
  <cp:revision>15</cp:revision>
  <dc:subject/>
  <dc:title>Diapositive 1</dc:title>
</cp:coreProperties>
</file>