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389D-CC6D-4698-B4FD-742D780C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858-45AE-47FE-9EEF-42436FD8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EDA-8057-4BFF-8118-5622D3B5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F4E-114D-43E2-BA3B-DE83D1B7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740-7F89-43F1-8AE6-82E737EB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F0A-D725-4395-94EB-5AD64926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542-7523-4561-8BDD-9FC34F17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8504-97D3-443E-A326-F37141F9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FEEA-6432-4C7D-9661-14ABD552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492-C15A-49BE-AC4B-0C154461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E27-8CF8-4A7F-8C50-161759A4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F9B-24C6-4728-A1F4-F40173F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3492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9D9A-E119-4644-BE8B-2F8B8149E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Open Source Code Managemen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Morten Krom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Dyalog User Conference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Version 1 October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399-44C6-4B73-BEB4-14DAF127FA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n Excel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How Else Can we Use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232-3511-4E27-9E59-0136B8F1D1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Web P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”Wild Web Server” is an HTTP Server written entirely in Dyalog v11 by Stefano Lanzavecc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upport for ”APLS” files was added by myself and Nicolas Delcros since 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t is perhaps the strongest testament to the value of OO and APL code in scripts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Other uses for Script Fil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D84-856E-4729-B9E2-B640B927FD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ow about a C# GUI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Other uses for Script Fil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75B-F51C-4DCF-90CD-9C40D55FF9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 few more words about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PICE is an experimental command line extension to the Dyalog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t looks in ”classes\spice” and tries to load all the ”.dyalog” files in this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Let’s examine a sample SPIC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e intention is to make it really easy to share development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More about SP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7C1-B8C7-4A69-BDD2-D504B8FF29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toring Dyalog source code in text files has many benefits, in parti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Easy integration with many popular development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can e-mail code to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can easily share development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FDC-AE02-45AE-A924-B913C74097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cripts are especially practical when combining APL with other tools, 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... Building web p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... Embedding Dyalog within Visual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... A tool like SALT ensures that changes get written back to the source right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28D-AF84-4FC1-834C-0DA3EE76B4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s with the Object Oriented features themselves, I would not recommend that you immediately rewrite your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Please Experiment with it, at least look at the samples we dis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your own apps, it is most useful for (new) components used in many p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... Or if a large team need to put something together from small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D26-DC3C-4410-B17B-1F89857EAF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ource Code Management is an important topic which we will continue to focus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aim to complete SALT &amp; SPICE by 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Even smoother integration with Visual Studio will </a:t>
            </a:r>
            <a:r>
              <a:rPr b="0" i="1" lang="da-DK" sz="3600" spc="-1" strike="noStrike">
                <a:solidFill>
                  <a:srgbClr val="000000"/>
                </a:solidFill>
                <a:latin typeface="Arial"/>
              </a:rPr>
              <a:t>probably</a:t>
            </a: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 be a goal for 11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63E-3825-487D-806E-E50DF049BC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Dependencies between SALTed modules (”using” state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Classes spread across more than one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Making SALT extensible so people can easily add commands or manage special meta-data inline i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hould SALT versioning be withdrawn (people can use other Version Control tool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Problems Left to Solve inclu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D36-1B8E-40A3-9232-B95444C2D2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Dyalog will invest in developing new libraries of modular components using an ”Open Source”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SALT, SPICE and the ”Wild Web Server” are our pilot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invite you all to help provide a new generation of tools for us, and for future generations of APL 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Call to Ar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F05-B680-4FA8-9900-1303351C77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As you may have noticed, Version 11.0 was a little late... the BIG news about it is that it is now ”out” (for 32-bit 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64-bit Windows, Windows Mobile 5, AIX, Linux and Solaris all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11.0 still has a few bugs but Dan, Nicolas and Beta Testers have done a good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e are still ramping up our QA, and the next release will be even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Due to the delay, there are few NEW ”technical news sessions” this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A Few Words about V11.0 Presentation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20B-C126-4BB9-8239-71A4E72264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Dyalog aims to provide a web-based repository for open-source projects (probably using SubVer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We will clean up, document and publish ”recommended”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There will also be a ”less managed” 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Arial"/>
              </a:rPr>
              <a:t>Prepare to contribu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Our Commi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25D-76A9-4644-81BF-5304BDAE47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da-DK" sz="72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7200"/>
            </a:br>
            <a:r>
              <a:rPr b="0" lang="da-DK" sz="7200" spc="-1" strike="noStrike">
                <a:solidFill>
                  <a:srgbClr val="000000"/>
                </a:solidFill>
                <a:latin typeface="Arial"/>
              </a:rPr>
              <a:t>(in advance </a:t>
            </a:r>
            <a:r>
              <a:rPr b="0" lang="da-DK" sz="7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da-DK" sz="7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C70-0C36-4D41-9B3B-051DAB2361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t 13:45 today, Geoff Streeter is doing an updated presentation on 64-bit Dyalog A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At 14:30, John Scholes is more or less repeating last years presentation on non-OO language enhancements in v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O tutorial is being run as two full-day workshops by Dan Baronet (Mon+F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A Few (more) Words about V11.0 Presentation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418-DA32-4B58-9FA4-612AB67CFD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 suspect John Daintree is going to show some new uses of v11.0 to us to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Nicolas Delcros is talking about his first project at Dyalog at 14:30 today: An experimental port of the Linux product to ”WineLi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 will now try to present some ideas on source code management which have resulted from working with version 1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A Few (more) Words about V11.0 Presentation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AF9-AA48-4BCB-9B8B-328F5F7626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version 11.0, Classes and Namespaces   have a ”script” form (returned by ⎕S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is means that a group of related code (and constants) can easily be treated as a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In particular, the script can be written to a Unicod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his allows a number of new ways of working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D87-9E49-4DF6-AA28-FB4C1B1145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Let’s take a look at a classical APL Appl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CA5-2808-4A83-8DC8-258524566F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LinReg is a nice application, but if I want to use it as a component in my system(s), I have to copy it around th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Maintaining the source in a single, easily-editable location is tr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ource code management systems exist, but are proprietary, closed ”black box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We propose a new beginning based on Unicode text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Let’s examine how this might work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Developing ”Componen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0E58-FB3A-4F36-AD9B-0AD033B4AF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ALT is an experimental tool, intended to provide ”bare bones” support for source in tex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SALT uses an undocumented callback on the Editor object to save changes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 Unicode MS"/>
              </a:rPr>
              <a:t>As we have seen, SALT provides rudimentary version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 Unicode MS"/>
              </a:rPr>
              <a:t>Now, imagine that we want to build a stand-alone applicati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S A L T = Simple APL Library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EA9-101B-413F-8849-84F7AD4BE4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have seen that ”SALTED” files allow us ”zero footprint” use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can embed our components in simple stand-alon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can do simple ver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We can use non-APL development tools like ”CompareIt!” if they support 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How else can we use our compon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382840" cy="449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76500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8604360" cy="117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182080" y="6191280"/>
            <a:ext cx="961920" cy="666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S A L T = Simple APL Library Tool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6438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Web Applications at Dyalog ’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46D-439C-4D64-93D5-AB5793BF11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08:15Z</dcterms:created>
  <dc:creator>vibeke</dc:creator>
  <dc:description/>
  <dc:language>en-US</dc:language>
  <cp:lastModifiedBy>Morten Kromberg</cp:lastModifiedBy>
  <dcterms:modified xsi:type="dcterms:W3CDTF">2006-10-17T09:30:14Z</dcterms:modified>
  <cp:revision>48</cp:revision>
  <dc:subject/>
  <dc:title>Slide 1</dc:title>
</cp:coreProperties>
</file>