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6.wmf" ContentType="image/x-wmf"/>
  <Override PartName="/ppt/media/image18.wmf" ContentType="image/x-wmf"/>
  <Override PartName="/ppt/media/image83.wmf" ContentType="image/x-wmf"/>
  <Override PartName="/ppt/media/image48.png" ContentType="image/png"/>
  <Override PartName="/ppt/media/image63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73.png" ContentType="image/png"/>
  <Override PartName="/ppt/media/image61.png" ContentType="image/png"/>
  <Override PartName="/ppt/media/image96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5.wmf" ContentType="image/x-wmf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0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24.png" ContentType="image/png"/>
  <Override PartName="/ppt/media/image11.png" ContentType="image/png"/>
  <Override PartName="/ppt/media/image90.png" ContentType="image/png"/>
  <Override PartName="/ppt/media/image25.png" ContentType="image/png"/>
  <Override PartName="/ppt/media/image53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2AD2-C807-4CE3-B958-CC31DF901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we don't resave the work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BC3-1BD1-4793-8DEA-37AE5FCC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011-0C76-46E5-AD40-921B37EF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4B1-BB63-494D-816F-3235EEA1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A09-BDC5-4DC4-A4D5-0EA45634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DCCC-C4AF-4810-949A-81C7F99B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D5F2-4F90-4E96-8D65-F4D0B2D0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4B83-115E-452C-9A67-D1CC9AF5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F5C7-2C2A-422C-89DF-D656C589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40EE-98E9-41F3-85B0-2F95E7F8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664E-D546-482C-BA65-ED9ABFAF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8311-700F-4823-A3F6-39B7CAA8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9F8-3426-4528-9B64-CE65AEB9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2D4D-B60C-41BB-B80B-5098CB8E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9BEE-8408-4823-840D-F68B0153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424D-93A1-4542-9AA3-D05DB3A9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659B-F7F6-48FA-ACDF-88721236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EC62-C1F1-4931-993E-E264A04F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062-B7CC-441C-8851-7EDC4C5C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477-9457-4E49-A4DE-D2D569D2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10C-0702-45AF-9D4B-36C60D08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62F-9A56-452D-89AD-58B95818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B34-A855-4C50-94C8-33593466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E63-323B-4418-BF4E-C4114740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1D5-E549-4EB5-B426-E7B03027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FDE7-FAE2-462A-B70E-230A52B9853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F687-9C83-4803-99D0-2301709E7F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914400" algn="ctr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Genev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4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object (class or namespace)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671480" y="2658960"/>
            <a:ext cx="5801040" cy="40100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690560" y="5761080"/>
            <a:ext cx="6494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4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1" name="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rot="19881000">
            <a:off x="2770560" y="4714920"/>
            <a:ext cx="1424160" cy="442800"/>
          </a:xfrm>
          <a:custGeom>
            <a:avLst/>
            <a:gdLst>
              <a:gd name="textAreaLeft" fmla="*/ 222480 w 1424160"/>
              <a:gd name="textAreaRight" fmla="*/ 1246320 w 1424160"/>
              <a:gd name="textAreaTop" fmla="*/ 110520 h 442800"/>
              <a:gd name="textAreaBottom" fmla="*/ 332280 h 44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2494800">
            <a:off x="5246280" y="4797000"/>
            <a:ext cx="1413000" cy="441360"/>
          </a:xfrm>
          <a:custGeom>
            <a:avLst/>
            <a:gdLst>
              <a:gd name="textAreaLeft" fmla="*/ 220680 w 1413000"/>
              <a:gd name="textAreaRight" fmla="*/ 1236600 w 141300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20552400">
            <a:off x="5535360" y="3573360"/>
            <a:ext cx="1412640" cy="441360"/>
          </a:xfrm>
          <a:custGeom>
            <a:avLst/>
            <a:gdLst>
              <a:gd name="textAreaLeft" fmla="*/ 220680 w 1412640"/>
              <a:gd name="textAreaRight" fmla="*/ 1236240 w 141264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 rot="163800">
            <a:off x="2699280" y="3716280"/>
            <a:ext cx="1423800" cy="442440"/>
          </a:xfrm>
          <a:custGeom>
            <a:avLst/>
            <a:gdLst>
              <a:gd name="textAreaLeft" fmla="*/ 222480 w 1423800"/>
              <a:gd name="textAreaRight" fmla="*/ 1245960 w 1423800"/>
              <a:gd name="textAreaTop" fmla="*/ 110520 h 442440"/>
              <a:gd name="textAreaBottom" fmla="*/ 331920 h 442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6" name="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3" name="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374364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1692360" y="2471760"/>
            <a:ext cx="547200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37436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692360" y="2482920"/>
            <a:ext cx="5545080" cy="3610080"/>
            <a:chOff x="1692360" y="2482920"/>
            <a:chExt cx="5545080" cy="3610080"/>
          </a:xfrm>
        </p:grpSpPr>
        <p:pic>
          <p:nvPicPr>
            <p:cNvPr id="663" name="" descr=""/>
            <p:cNvPicPr/>
            <p:nvPr/>
          </p:nvPicPr>
          <p:blipFill>
            <a:blip r:embed="rId2"/>
            <a:stretch/>
          </p:blipFill>
          <p:spPr>
            <a:xfrm>
              <a:off x="1692360" y="248292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3295800" y="3365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76920" y="434016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1692360" y="2489040"/>
            <a:ext cx="5472000" cy="350712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should have been supplied with a memory stick containing all the necessary code: subversion, TortoiseSVN, the new SALT/SPICE files and work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should be found under folder "SALT &amp; Subversion"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also find there a presentation on how to convert a V10 app into V11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UCS-2)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cause of compatibility with Unix,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needs to be enabled to us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V1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, this means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ing a scri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763640" y="3933720"/>
            <a:ext cx="5760720" cy="2303280"/>
            <a:chOff x="1763640" y="3933720"/>
            <a:chExt cx="5760720" cy="23032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57607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205240" y="4906440"/>
              <a:ext cx="128124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84560" y="4712760"/>
              <a:ext cx="96156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4292640"/>
            <a:ext cx="143964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167" name="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175" name="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183" name="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1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205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35280" y="378936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213" name="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219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rot="19881000">
              <a:off x="4066560" y="4220640"/>
              <a:ext cx="1800000" cy="57636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224" name="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50846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8835800">
            <a:off x="4032000" y="4365000"/>
            <a:ext cx="1079640" cy="432000"/>
          </a:xfrm>
          <a:prstGeom prst="leftRightArrow">
            <a:avLst>
              <a:gd name="adj1" fmla="val 50000"/>
              <a:gd name="adj2" fmla="val 497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9466200">
            <a:off x="4104720" y="4365360"/>
            <a:ext cx="1800000" cy="57600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datab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5280" y="3787920"/>
            <a:ext cx="5471640" cy="1585440"/>
            <a:chOff x="1835280" y="3787920"/>
            <a:chExt cx="5471640" cy="1585440"/>
          </a:xfrm>
        </p:grpSpPr>
        <p:sp>
          <p:nvSpPr>
            <p:cNvPr id="98" name=""/>
            <p:cNvSpPr/>
            <p:nvPr/>
          </p:nvSpPr>
          <p:spPr>
            <a:xfrm>
              <a:off x="1835280" y="390060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18120" y="378792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9120" y="469440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245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9b7ba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3634920" y="386028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ll have qualities and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Mo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mands involve program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's name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MUST be installed for it to ru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268" name="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ext files for the namespaces has several benefi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will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conversion tools to transform the non-scripted namespaces into scripted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we wi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  \ROBOTS\Troopers\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779480" y="2284560"/>
            <a:ext cx="554508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303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5280" y="378936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t can be shar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)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18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rot="19881000">
              <a:off x="4066560" y="4220640"/>
              <a:ext cx="1800000" cy="57636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84072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84072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87280" y="2928960"/>
            <a:ext cx="6985080" cy="2805120"/>
            <a:chOff x="1187280" y="2928960"/>
            <a:chExt cx="6985080" cy="28051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187280" y="2928960"/>
              <a:ext cx="698508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476360" y="4437000"/>
              <a:ext cx="64944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763640" y="2424240"/>
            <a:ext cx="5545080" cy="36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763640" y="2421000"/>
            <a:ext cx="5545080" cy="3610080"/>
            <a:chOff x="1763640" y="2421000"/>
            <a:chExt cx="5545080" cy="361008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1763640" y="242100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367080" y="330372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48200" y="427824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OO concept of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(and simila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namesp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can be edited in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626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932280" y="4192560"/>
            <a:ext cx="1000080" cy="216000"/>
          </a:xfrm>
          <a:prstGeom prst="rect">
            <a:avLst/>
          </a:prstGeom>
          <a:gradFill rotWithShape="0">
            <a:gsLst>
              <a:gs pos="0">
                <a:srgbClr val="3333cc">
                  <a:alpha val="54117"/>
                </a:srgbClr>
              </a:gs>
              <a:gs pos="100000">
                <a:srgbClr val="3333cc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908000" y="2133720"/>
            <a:ext cx="5328000" cy="3738600"/>
            <a:chOff x="1908000" y="2133720"/>
            <a:chExt cx="5328000" cy="373860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1908000" y="213372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798720" y="420228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59280" y="314208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go back to the original workspace to work from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.SALT.Load 'Troopers/Pound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in updated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90" idx="3"/>
            <a:endCxn id="393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"/>
          <p:cNvCxnSpPr>
            <a:stCxn id="391" idx="3"/>
            <a:endCxn id="394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0" name=""/>
          <p:cNvCxnSpPr>
            <a:stCxn id="386" idx="3"/>
            <a:endCxn id="397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1" name=""/>
          <p:cNvCxnSpPr>
            <a:stCxn id="387" idx="3"/>
            <a:endCxn id="396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2" name=""/>
          <p:cNvCxnSpPr>
            <a:stCxn id="385" idx="3"/>
            <a:endCxn id="395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8" name="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"/>
          <p:cNvCxnSpPr>
            <a:stCxn id="417" idx="3"/>
            <a:endCxn id="420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21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7" name=""/>
          <p:cNvCxnSpPr>
            <a:stCxn id="413" idx="3"/>
            <a:endCxn id="424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8" name=""/>
          <p:cNvCxnSpPr>
            <a:stCxn id="414" idx="3"/>
            <a:endCxn id="423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9" name=""/>
          <p:cNvCxnSpPr>
            <a:stCxn id="412" idx="3"/>
            <a:endCxn id="422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"/>
          <p:cNvCxnSpPr>
            <a:stCxn id="424" idx="3"/>
            <a:endCxn id="433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1" name=""/>
          <p:cNvCxnSpPr>
            <a:stCxn id="423" idx="3"/>
            <a:endCxn id="434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2" name=""/>
          <p:cNvCxnSpPr>
            <a:stCxn id="422" idx="3"/>
            <a:endCxn id="432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3" name=""/>
          <p:cNvCxnSpPr>
            <a:stCxn id="421" idx="3"/>
            <a:endCxn id="438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4" name=""/>
          <p:cNvCxnSpPr>
            <a:stCxn id="420" idx="3"/>
            <a:endCxn id="437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452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rot="9466200">
              <a:off x="4104720" y="4365360"/>
              <a:ext cx="1800000" cy="57600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000"/>
                <a:gd name="textAreaBottom" fmla="*/ 432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329440" cy="3390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"/>
          <p:cNvSpPr/>
          <p:nvPr/>
        </p:nvSpPr>
        <p:spPr>
          <a:xfrm>
            <a:off x="3238560" y="3284640"/>
            <a:ext cx="43164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03640" y="3687840"/>
            <a:ext cx="360360" cy="36036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470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9b7ba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0800000">
              <a:off x="3634920" y="386028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55640" y="2349360"/>
            <a:ext cx="7632720" cy="3065760"/>
            <a:chOff x="755640" y="2349360"/>
            <a:chExt cx="7632720" cy="306576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755640" y="2349360"/>
              <a:ext cx="76327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1096920" y="4024440"/>
              <a:ext cx="6494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692360" y="2471760"/>
            <a:ext cx="547200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692360" y="2482920"/>
            <a:ext cx="5545080" cy="3610080"/>
            <a:chOff x="1692360" y="2482920"/>
            <a:chExt cx="5545080" cy="3610080"/>
          </a:xfrm>
        </p:grpSpPr>
        <p:pic>
          <p:nvPicPr>
            <p:cNvPr id="526" name="" descr=""/>
            <p:cNvPicPr/>
            <p:nvPr/>
          </p:nvPicPr>
          <p:blipFill>
            <a:blip r:embed="rId2"/>
            <a:stretch/>
          </p:blipFill>
          <p:spPr>
            <a:xfrm>
              <a:off x="1692360" y="248292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295800" y="3365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976920" y="434016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1908000" y="2211480"/>
            <a:ext cx="5328000" cy="3738600"/>
            <a:chOff x="1908000" y="2211480"/>
            <a:chExt cx="5328000" cy="3738600"/>
          </a:xfrm>
        </p:grpSpPr>
        <p:pic>
          <p:nvPicPr>
            <p:cNvPr id="550" name="" descr=""/>
            <p:cNvPicPr/>
            <p:nvPr/>
          </p:nvPicPr>
          <p:blipFill>
            <a:blip r:embed="rId4"/>
            <a:stretch/>
          </p:blipFill>
          <p:spPr>
            <a:xfrm>
              <a:off x="1908000" y="221148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3798720" y="428004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59280" y="321984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51640" y="62064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at is SAL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a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party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44360" y="2266920"/>
            <a:ext cx="887256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3059280" y="2492280"/>
            <a:ext cx="5276520" cy="28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1908000" y="2211480"/>
            <a:ext cx="5328000" cy="3738600"/>
            <a:chOff x="1908000" y="2211480"/>
            <a:chExt cx="5328000" cy="3738600"/>
          </a:xfrm>
        </p:grpSpPr>
        <p:pic>
          <p:nvPicPr>
            <p:cNvPr id="585" name="" descr=""/>
            <p:cNvPicPr/>
            <p:nvPr/>
          </p:nvPicPr>
          <p:blipFill>
            <a:blip r:embed="rId3"/>
            <a:stretch/>
          </p:blipFill>
          <p:spPr>
            <a:xfrm>
              <a:off x="1908000" y="221148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798720" y="428004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59280" y="321984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5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529080" y="1484280"/>
            <a:ext cx="5435640" cy="466092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you enter ‘?’ in the input are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11440" y="5425920"/>
            <a:ext cx="376200" cy="432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07-09-27T22:04:33Z</dcterms:modified>
  <cp:revision>60</cp:revision>
  <dc:subject/>
  <dc:title>SALT and subversion</dc:title>
</cp:coreProperties>
</file>