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7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59.wmf" ContentType="image/x-wmf"/>
  <Override PartName="/ppt/media/image56.png" ContentType="image/png"/>
  <Override PartName="/ppt/media/image55.png" ContentType="image/png"/>
  <Override PartName="/ppt/media/image54.png" ContentType="image/png"/>
  <Override PartName="/ppt/media/image11.wmf" ContentType="image/x-wmf"/>
  <Override PartName="/ppt/media/image52.png" ContentType="image/png"/>
  <Override PartName="/ppt/media/image51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wmf" ContentType="image/x-wmf"/>
  <Override PartName="/ppt/media/image43.wmf" ContentType="image/x-wmf"/>
  <Override PartName="/ppt/media/image86.png" ContentType="image/png"/>
  <Override PartName="/ppt/media/image42.png" ContentType="image/png"/>
  <Override PartName="/ppt/media/image39.png" ContentType="image/png"/>
  <Override PartName="/ppt/media/image61.wmf" ContentType="image/x-wmf"/>
  <Override PartName="/ppt/media/image38.png" ContentType="image/png"/>
  <Override PartName="/ppt/media/image37.png" ContentType="image/png"/>
  <Override PartName="/ppt/media/image36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41.png" ContentType="image/png"/>
  <Override PartName="/ppt/media/image9.wmf" ContentType="image/x-wmf"/>
  <Override PartName="/ppt/media/image40.png" ContentType="image/png"/>
  <Override PartName="/ppt/media/image8.wmf" ContentType="image/x-wmf"/>
  <Override PartName="/ppt/media/image85.wmf" ContentType="image/x-wmf"/>
  <Override PartName="/ppt/media/image13.png" ContentType="image/png"/>
  <Override PartName="/ppt/media/image1.png" ContentType="image/png"/>
  <Override PartName="/ppt/media/image7.wmf" ContentType="image/x-wmf"/>
  <Override PartName="/ppt/media/image19.wmf" ContentType="image/x-wmf"/>
  <Override PartName="/ppt/media/image49.png" ContentType="image/png"/>
  <Override PartName="/ppt/media/image12.png" ContentType="image/png"/>
  <Override PartName="/ppt/media/image50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92.png" ContentType="image/png"/>
  <Override PartName="/ppt/media/image27.png" ContentType="image/png"/>
  <Override PartName="/ppt/media/image64.png" ContentType="image/png"/>
  <Override PartName="/ppt/media/image68.wmf" ContentType="image/x-wmf"/>
  <Override PartName="/ppt/media/image70.png" ContentType="image/png"/>
  <Override PartName="/ppt/media/image65.png" ContentType="image/png"/>
  <Override PartName="/ppt/media/image66.png" ContentType="image/png"/>
  <Override PartName="/ppt/media/image89.png" ContentType="image/png"/>
  <Override PartName="/ppt/media/image28.png" ContentType="image/png"/>
  <Override PartName="/ppt/media/image93.png" ContentType="image/png"/>
  <Override PartName="/ppt/media/image76.wmf" ContentType="image/x-wmf"/>
  <Override PartName="/ppt/media/image25.png" ContentType="image/png"/>
  <Override PartName="/ppt/media/image90.png" ContentType="image/png"/>
  <Override PartName="/ppt/media/image88.png" ContentType="image/png"/>
  <Override PartName="/ppt/media/image67.png" ContentType="image/png"/>
  <Override PartName="/ppt/media/image87.wmf" ContentType="image/x-wmf"/>
  <Override PartName="/ppt/media/image10.png" ContentType="image/png"/>
  <Override PartName="/ppt/media/image47.png" ContentType="image/png"/>
  <Override PartName="/ppt/media/image84.png" ContentType="image/png"/>
  <Override PartName="/ppt/media/image79.wmf" ContentType="image/x-wmf"/>
  <Override PartName="/ppt/media/image77.wmf" ContentType="image/x-wmf"/>
  <Override PartName="/ppt/media/image75.png" ContentType="image/png"/>
  <Override PartName="/ppt/media/image6.wmf" ContentType="image/x-wmf"/>
  <Override PartName="/ppt/media/image74.png" ContentType="image/png"/>
  <Override PartName="/ppt/media/image5.wmf" ContentType="image/x-wmf"/>
  <Override PartName="/ppt/media/image73.png" ContentType="image/png"/>
  <Override PartName="/ppt/media/image4.wmf" ContentType="image/x-wmf"/>
  <Override PartName="/ppt/media/image72.wmf" ContentType="image/x-wmf"/>
  <Override PartName="/ppt/media/image69.png" ContentType="image/png"/>
  <Override PartName="/ppt/media/image71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83.png" ContentType="image/png"/>
  <Override PartName="/ppt/media/image82.png" ContentType="image/png"/>
  <Override PartName="/ppt/media/image17.png" ContentType="image/png"/>
  <Override PartName="/ppt/media/image81.png" ContentType="image/png"/>
  <Override PartName="/ppt/media/image16.png" ContentType="image/png"/>
  <Override PartName="/ppt/media/image80.png" ContentType="image/png"/>
  <Override PartName="/ppt/media/image15.png" ContentType="image/png"/>
  <Override PartName="/ppt/media/image29.png" ContentType="image/png"/>
  <Override PartName="/ppt/media/image94.png" ContentType="image/png"/>
  <Override PartName="/ppt/media/image57.png" ContentType="image/png"/>
  <Override PartName="/ppt/media/image14.wmf" ContentType="image/x-wmf"/>
  <Override PartName="/ppt/media/image53.png" ContentType="image/png"/>
  <Override PartName="/ppt/media/image2.jpeg" ContentType="image/jpeg"/>
  <Override PartName="/ppt/media/image31.png" ContentType="image/png"/>
  <Override PartName="/ppt/media/image58.png" ContentType="image/png"/>
  <Override PartName="/ppt/media/image3.wmf" ContentType="image/x-wmf"/>
  <Override PartName="/ppt/media/image35.wmf" ContentType="image/x-wmf"/>
  <Override PartName="/ppt/media/image78.png" ContentType="image/png"/>
  <Override PartName="/ppt/media/image91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B5D5-ACF6-4989-A539-2B4BA76DB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{circle} to edit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functions accept ‘?’ to show how they work. Versions will be discussed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class does NOT need to match the name of th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tern a la DOS can be supplied although the behaviour will be different than from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older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ile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needs not match the registr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pad is found thanks to the OS PATH, no need to include i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ull path to the program really should b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est may NOT be most recent. It also works with 2 different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lass in the ws whose versions on file have been deleted won’t be aware of that and subsequent save will keep using version numb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message is to remind the user that any class depending on this file may no longer hold valid 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ript does not have to contain the same name for the class/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Class is really TB under the co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213B-47AB-4D97-B459-E305BBE4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CC3-954C-4D5B-ABE8-6E0A0A57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5B3-3A00-4F7B-B556-371B79FF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3A39-D963-420A-ABA8-F2890569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A19-BE3B-444F-8386-A9C53523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5A48-A93B-47CA-BE6D-385534EA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ECB-6FE1-40A1-B87C-00D1FD6A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C80-CA92-49AF-8F0A-BE6CA393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3221-5033-4863-9370-4ACA93E6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E11-292D-4C33-A517-7CB2B624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9C51-8F2B-45F8-80B2-A686D86A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DD3-952F-4773-A217-F6CCB5EB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A221-6679-41A4-A6CE-203AED785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1.wmf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wmf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68.wmf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68.wmf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79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Book Antiqua"/>
              </a:rPr>
              <a:t>SALT in Dyalo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1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F7DE-D0ED-4F02-A5E1-9EBF718763E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rt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starting Dyalog SALT will identify it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38240" y="2276640"/>
            <a:ext cx="7134120" cy="3609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42920" y="3357720"/>
            <a:ext cx="6769080" cy="57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7545-CA36-4E90-8B66-2B00C4DCA1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now store any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134120" cy="3609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771640" y="3573360"/>
            <a:ext cx="3238560" cy="1762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451640" y="333360"/>
            <a:ext cx="1333440" cy="17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EE9A-BCD9-4F44-8A41-6821BA3C0EB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re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rguments. This is the only function to do so. To find its syntax give it a single ‘?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7134120" cy="2724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33400" y="4121280"/>
            <a:ext cx="1254240" cy="16164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6680" y="4130640"/>
            <a:ext cx="358920" cy="14292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4360" y="3879720"/>
            <a:ext cx="358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9B8-F64D-4CBA-AF09-17C4500897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7134120" cy="3610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4105440"/>
            <a:ext cx="403380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3943440"/>
            <a:ext cx="934920" cy="14292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9280" y="3943440"/>
            <a:ext cx="358920" cy="14292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236-D1A1-4C92-9FAA-2397217A495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will store source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\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is the value found initially in the regist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KEY_CURRENT_USER\Software\Dyalog\Dyalog APL/W 11.0\SALT\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urce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will replace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by whatever location Dyalog is install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D96-750D-4091-821E-E66D3A95469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e Dyalog was install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1 and the registry key w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[Dyalog]\Clas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 the sources will all be stor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1\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ce we asked to store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final path, after adding the extension,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:\Program Files\Dyalog\V11\Classes\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760" y="2276640"/>
            <a:ext cx="540072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2760" y="3860640"/>
            <a:ext cx="698508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43080" y="2814480"/>
            <a:ext cx="316728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5464080"/>
            <a:ext cx="878508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948360" y="44280"/>
            <a:ext cx="2125440" cy="1731960"/>
            <a:chOff x="6948360" y="44280"/>
            <a:chExt cx="2125440" cy="17319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77403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9483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3D89-979D-4C62-8DC9-0CD61E36670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location is desired the regist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KEY_CURRENT_USER\Software\Dyalog\Dyalog APL/W 11.0\SALT\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urce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be modified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to specify the lo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For example you could decide that all scripts go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  <a:ea typeface="ＭＳ 明朝"/>
              </a:rPr>
              <a:t>\CMS\DY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instead of the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A3C-EB97-40BB-A071-B6FC4C5B3D2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iewing the file in Notep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345440" cy="474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492360" y="4005360"/>
            <a:ext cx="3384720" cy="1765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053080" y="3357720"/>
            <a:ext cx="64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ble click the file opens with Note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688160" y="115920"/>
            <a:ext cx="1455840" cy="13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A32C-E8AD-4A4E-8F2E-9E65166BF0E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258320" cy="3038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53480" y="1628640"/>
            <a:ext cx="742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pathname as argu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its 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D5D-6DEE-43D2-A4B3-71EFA9FF899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4200" y="1628640"/>
            <a:ext cx="79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the contents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5629320" cy="2838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C5CB-907C-49DD-9421-7EDD499F7DB0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451640" y="1989000"/>
            <a:ext cx="1208160" cy="2374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300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L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ol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source code management system for Classes and script-based Namespaces in Dyalog AP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041-0753-4C6C-B264-0BCCE8A4B57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4200" y="1413000"/>
            <a:ext cx="63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recursive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897520" cy="4378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94040" y="2608200"/>
            <a:ext cx="82548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027-4440-4846-ABAF-24255D8848BA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lows to look at a script with an external editor or to browse using the OS’ explor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6858000" cy="2743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74B0-6167-4993-BB1C-DDD8FB3A98F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older merely opens up the disk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6858000" cy="1828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5448240" cy="2695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256-AAA1-45C3-B0CC-15BB401BAC2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564000" y="3213000"/>
            <a:ext cx="5057640" cy="2924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8FDC-9F45-4C74-9D93-79FB74324CD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ile opens up the file with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il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\Othell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228920" cy="3324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8EEC-5C84-4A59-8114-4486828BA41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the program us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hange this change the SALT registry ke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ditorCM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use another program for just this time use the modifi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name of the program to use 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Explore’Othello –use=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B3C4-96C2-44E7-8C4E-166DAA85216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s can be brought back from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 the use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3743280" cy="1942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3352680" cy="219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480-3DD5-4F36-B413-6E19982E087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objects are brought in the current namespace. To select a different namespace use the –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3752640" cy="2638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059280" y="4724280"/>
            <a:ext cx="9349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066840" cy="1581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457280" y="5138640"/>
            <a:ext cx="719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88000" y="375120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1E8-7583-41C6-BE63-3E9E66597E4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functions assume global settings, e.g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sume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view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setting comes from the registry and is brought into the session at start-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modified for the session or even for the time a function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ettings can be modified for the session and even saved back into the regi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96D-CD3C-41F3-B776-7C2C071B8C9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rticular setting has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just like in the regi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only be a string. It may be emp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398680" y="3068640"/>
            <a:ext cx="4334040" cy="362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C5E-AA10-4567-9DB6-6A8EBE5C526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5560" y="1844280"/>
            <a:ext cx="8507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onsists in a series of functions stored in []SE to manipulate the source ([]SRC) of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rce code for each object (class or namespace) is stored in a single Unicode text file with a file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functions take 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do thei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scrib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rgum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possibly som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-modifi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4702-01D0-4EE1-BD06-B0DE5F88B4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unction takes ‘’, 1 name or 1 name  followed by a value. With ‘’ it returns all the settings and their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4276440" cy="2514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F54-2A0E-4507-96C1-49E368658CA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1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returns the value associated with that particular name. Here the path to the editor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124000" y="3789360"/>
            <a:ext cx="4896000" cy="2409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9AC6-E004-4125-90D4-3587DDD3B2E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associat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Here we change the editor to use for the session to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dPad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68360" y="3789360"/>
            <a:ext cx="5040360" cy="23464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6A47-FD88-40BF-A7C6-4E71B3F7BC6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763640" y="2852640"/>
            <a:ext cx="5903640" cy="1081080"/>
            <a:chOff x="1763640" y="2852640"/>
            <a:chExt cx="5903640" cy="1081080"/>
          </a:xfrm>
        </p:grpSpPr>
        <p:sp>
          <p:nvSpPr>
            <p:cNvPr id="203" name=""/>
            <p:cNvSpPr/>
            <p:nvPr/>
          </p:nvSpPr>
          <p:spPr>
            <a:xfrm>
              <a:off x="5896080" y="2852640"/>
              <a:ext cx="177120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63640" y="2852640"/>
              <a:ext cx="171144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75080" y="3364200"/>
              <a:ext cx="2421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52000" y="1628640"/>
            <a:ext cx="750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permanently stored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ry 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perman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556000" y="4076640"/>
            <a:ext cx="4305240" cy="2276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356000" y="4743360"/>
            <a:ext cx="9367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A81E-EAF6-49A9-B9A6-746E5EDFA867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1628640"/>
            <a:ext cx="746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restored from the reg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re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92360" y="2781360"/>
            <a:ext cx="5833440" cy="1079280"/>
            <a:chOff x="1692360" y="2781360"/>
            <a:chExt cx="5833440" cy="1079280"/>
          </a:xfrm>
        </p:grpSpPr>
        <p:sp>
          <p:nvSpPr>
            <p:cNvPr id="213" name=""/>
            <p:cNvSpPr/>
            <p:nvPr/>
          </p:nvSpPr>
          <p:spPr>
            <a:xfrm>
              <a:off x="5775840" y="2781360"/>
              <a:ext cx="174996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92360" y="2781360"/>
              <a:ext cx="169128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383280" y="3292200"/>
              <a:ext cx="2392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556000" y="4005360"/>
            <a:ext cx="4305240" cy="2276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356000" y="4672080"/>
            <a:ext cx="64764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85D-5182-4F65-8B3A-059D906E0B85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" y="1722600"/>
            <a:ext cx="824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s can also be overridden temporarily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ation of a statement, for example to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orarily another editor while explo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8259840" cy="21812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284720" y="4159080"/>
            <a:ext cx="41036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074-8907-4393-879E-5BEC13449C2A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494480" y="1847880"/>
            <a:ext cx="1614600" cy="38862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has a number of features that make it more interesting than a simple store and retrieve utility. It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re several versions of a 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ve 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n scripts without fixing them in the 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106D-A3E4-4C21-816A-B23DCECA790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E66-CDA7-42FE-93A3-B33C8C3568A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also happens if you modify a fn of a class on the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30D-8A51-4E61-ABE5-BEFF4A8AF79D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store and KEEP several ver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a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using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you t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to start using version numb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124000" y="4076640"/>
            <a:ext cx="5181840" cy="1943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219640" y="4897440"/>
            <a:ext cx="115272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11640" y="4734000"/>
            <a:ext cx="8650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F28-230A-4DF0-902F-991D3982C9DD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functions are monadic.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ve classes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a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rot="232800">
            <a:off x="5795640" y="2133360"/>
            <a:ext cx="2376360" cy="426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CEE7-FB07-4F99-9D37-7FA8454DE12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time you modify a script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res the definition in a new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3171960" cy="2610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41308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8652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5640" y="4292640"/>
            <a:ext cx="1440000" cy="504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80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605-C615-4008-9ABD-6F16A7615BB7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4333680" cy="21909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4333680" cy="17524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 can show the various ver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" y="3635280"/>
            <a:ext cx="73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you need to supply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59280" y="4759200"/>
            <a:ext cx="718920" cy="225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8160" y="2887560"/>
            <a:ext cx="338472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5056200"/>
            <a:ext cx="338436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17000" y="5445000"/>
            <a:ext cx="286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started withou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ing the original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versio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763640" y="5618160"/>
            <a:ext cx="367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28640" y="5516640"/>
            <a:ext cx="287640" cy="217440"/>
          </a:xfrm>
          <a:prstGeom prst="ellipse">
            <a:avLst/>
          </a:prstGeom>
          <a:solidFill>
            <a:srgbClr val="bbe0e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13040" y="429264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atest version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ways visible and on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211280" y="3141360"/>
            <a:ext cx="1368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356000" y="465300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408D-D087-4B44-9A95-F0D3B3F1C1A8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used for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ust give it the name of the script(s) and the versions to comp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 version is specified the 2 highest versions ar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single number is specified it is compared with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:  []SE.SALT.Compare ‘fileA –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compare version 5 of &lt;fileA&gt; with its highest version (probably also most rec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279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0F77-2B42-4E4F-AE87-981DFCA0C315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rmally,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ill use its own com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de to perform the compari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different program is wanted it should either be specified on the statement line with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 or be set permanently in the regi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egistry key to use is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mpareC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should specify the path of the program to use or ‘APL’ if SALT is to do it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285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FCCE-9720-4EF7-B9A7-5F983981FE04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to us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Compare It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 third party piece of software available from the net, you can set the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gistry key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ompare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[ProgramFiles]\Compare It!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th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full path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its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ert </a:t>
            </a: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-use=pathnameToProgr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ll said program in the statement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291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663560" y="4660920"/>
            <a:ext cx="6077160" cy="15048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4211640" y="5373720"/>
            <a:ext cx="3240000" cy="144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76DD-8A30-492A-BE27-24A8FD540C8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6360" cy="40197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299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984320" y="55897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program pops up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E99-9A1D-4000-B54B-F942EF804754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304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‘APL’ is the method chosen to comp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utput will appear in the sessio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203640" y="2565360"/>
            <a:ext cx="5276880" cy="3314880"/>
            <a:chOff x="3203640" y="2565360"/>
            <a:chExt cx="5276880" cy="331488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3203640" y="2565360"/>
              <a:ext cx="5276880" cy="33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3203640" y="400536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03640" y="461664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75600" y="4005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inser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56880" y="46036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modifi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5940360" y="4797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5940360" y="4202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70880" y="3860640"/>
            <a:ext cx="221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00360" y="407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00360" y="4076640"/>
            <a:ext cx="43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00360" y="4076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0036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6C04-DE41-40A7-AAE6-13E0FB988DE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a while many versions may clutter a folder and some versions may get ridden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T allows to selectively erase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Version is the function to use,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076480" cy="12668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67DA-76E1-405F-8119-4AB5A605CFBD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less than a version (e.g.7)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&lt;7 (or &gt;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them all instea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aves 1 version (the highest version) around which it renames to remove the version number. T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4.dyalo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1D07-4006-4AF2-ABA3-4006747E246A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1042920" y="2492280"/>
            <a:ext cx="6991560" cy="2295720"/>
            <a:chOff x="1042920" y="2492280"/>
            <a:chExt cx="6991560" cy="2295720"/>
          </a:xfrm>
        </p:grpSpPr>
        <p:pic>
          <p:nvPicPr>
            <p:cNvPr id="334" name="" descr=""/>
            <p:cNvPicPr/>
            <p:nvPr/>
          </p:nvPicPr>
          <p:blipFill>
            <a:blip r:embed="rId1"/>
            <a:stretch/>
          </p:blipFill>
          <p:spPr>
            <a:xfrm>
              <a:off x="1042920" y="2492280"/>
              <a:ext cx="6991560" cy="22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4427640" y="3141720"/>
              <a:ext cx="965160" cy="24120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llapsing effec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achieved with higher versions by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collap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3492360" y="3429000"/>
            <a:ext cx="2171880" cy="12668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735120" y="5006880"/>
            <a:ext cx="772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75600" y="5013360"/>
            <a:ext cx="71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st file of the group deleted has been give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version number and renamed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1042920" y="2492280"/>
            <a:ext cx="6991560" cy="229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5DB-304F-4031-BD8E-D0BE6BFA1D43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04000" y="44280"/>
            <a:ext cx="2254320" cy="2303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stores source in Uni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UCS-2) files whose extension 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Window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V11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cause of compatibility with Unix, the naming of the files is case sen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AB7A-5C51-41F8-84B9-F3E7E7D3770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208400" y="3789360"/>
            <a:ext cx="4305240" cy="245736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scripts ar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into the ws they become objects ready to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 if script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class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n this class can be used immediately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4080" y="441324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57720" y="487836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E59-5247-4997-B91B-9C5986FA4EA4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284720" y="3573360"/>
            <a:ext cx="4305240" cy="26863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a different nam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instructed t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class instead of fixing it in the ws by us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16720" y="4508640"/>
            <a:ext cx="8650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81640" y="543564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413480" y="4562640"/>
            <a:ext cx="57492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E188-E04A-4E65-9F28-69357D2CBD2D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140360" y="3645000"/>
            <a:ext cx="4171680" cy="25430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it is unnecessary to bring in the class and only an instanc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ses internall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to achieve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53160" y="475920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71640" y="46432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27560" y="53830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7332-00AB-490A-AB20-563D2412772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also supports the loading and starting of applications from an “application file” with an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145-5D48-40F1-BE2E-6088BC940ADD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put in the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le the instructions to perform the task: all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nd 1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.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6012000" y="3068640"/>
            <a:ext cx="2504880" cy="10573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6012000" y="4365720"/>
            <a:ext cx="2504880" cy="21715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971640" y="3933720"/>
            <a:ext cx="4371840" cy="21812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708360" y="2421000"/>
            <a:ext cx="2590920" cy="79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877080" y="3716280"/>
            <a:ext cx="7128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659640" y="3933720"/>
            <a:ext cx="712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71CC-F183-40BA-A32B-2C418147C1C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goo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to have multiple working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perform the required loads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 external ut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s with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647040" y="0"/>
            <a:ext cx="249696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316-8F45-4E80-A0FE-7663C6481F9B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have several working directories to split work into logical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: you could put all utilities in a separate t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ell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different directories you list them in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gistry ke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ourceFold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parated by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Dyalog]\Classes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\CMS\Dy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90840" y="5392800"/>
            <a:ext cx="576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F732-0F87-46D0-8F13-1B0902D1542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332000" y="4332240"/>
            <a:ext cx="6985080" cy="19573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arches directories in the order specified until it finds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also specify the directories via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nd make it permanen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86480" y="511668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508720" y="5089680"/>
            <a:ext cx="323640" cy="322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D7E-3C27-43A5-AA37-D3BA86C61F4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required loads to be done automatically. For example, if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eeds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be present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specify in the code tha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8CDA-35CC-4F50-9E04-F596FF16634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276720" y="4653000"/>
            <a:ext cx="2514600" cy="17524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6084720" y="4410000"/>
            <a:ext cx="2762280" cy="1971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3705120" cy="20476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227640" y="3429000"/>
            <a:ext cx="2160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250920" y="1989000"/>
            <a:ext cx="4381560" cy="2476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 flipH="1">
            <a:off x="4067280" y="3213000"/>
            <a:ext cx="201744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08000" y="3213000"/>
            <a:ext cx="475164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4355640" y="5229000"/>
            <a:ext cx="201636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DD0-F5B0-42A3-BEF3-907992DCD89F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NO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peci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quirements (not even .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11 is the minimum version SALT will run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is packaged and comes in already available with V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6AE-D3A8-4AD0-8E7F-A0CC7F57C62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not par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ut were creat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They are located under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Uti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763640" y="2690640"/>
            <a:ext cx="6048360" cy="3475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700360" y="525780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140360" y="3645000"/>
            <a:ext cx="79200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71D-269C-40C1-9689-5F73786FB11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alling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utility allows to view the calling tree of a fn in a namespace or to cross-reference all the functions and their references. To us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←⎕new CallingTree ‘class -option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Calls ‘ctor -view’ ⍝ show calls from &lt;ctor&gt;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View ⍝ to view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Xref  ⍝ 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ross-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3995640" y="4076640"/>
            <a:ext cx="2084400" cy="23050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733-873A-42EF-BB90-2DBAD8B041B7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fileUt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58560" y="1557360"/>
            <a:ext cx="8785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 the moment this file contains a namespace with fns to traverse a directory tree using 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n &lt;showExpr&gt; allows to show regular expressions in text (&amp; Unicode) file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 -type=php -rec’ 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showExpr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 ‘\bA.*= *123\b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how names starting with 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being assigned the numb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12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PH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iles und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re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siv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335-5B80-41D6-A710-E2ACB032564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Reg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Mat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lass allows to create a Regex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stance given a pattern and possibly o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ptions are m=multiline (default), s=singleline, i=case in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attern accept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PL name and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 number, e.g.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 ⍺←⍵ 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eans 2 names assigned 2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1445-F0E5-4B17-8997-BF571EC9E16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omp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contains functions to perform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produces a report of the differences between 2 lists of string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([]NR ‘Fa’) compecv ([]NR ‘Fb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mpare 2 functions and show where lines have been deleted, inserted and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A01-D1AC-49FB-AE1C-497474754972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onv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found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yalog\too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functions to perform conversion of namespaces to []SRC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nve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takes the name of a namespace and changes it into sourced mode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nvertCode.Convert ‘mynamespac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nvert it. You can then edit it and store it using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026-F001-4EC8-85B7-EF768B63BF9D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E73-AA29-408E-AF0F-BB192FD8DC07}" type="slidenum">
              <a:t>6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cover for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be initialized directly from SA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2484360" y="4076640"/>
            <a:ext cx="4286160" cy="20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6CB-80C2-40AB-88F6-FA0D120A63EF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1546200" y="2908440"/>
            <a:ext cx="6121440" cy="30416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5689440" y="4178160"/>
            <a:ext cx="27468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50C-61D5-4AD0-B7C9-48124D6AF012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list of all available commands you enter ‘?’ in the input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2124000" y="2374920"/>
            <a:ext cx="5256360" cy="3987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2152800" y="5689440"/>
            <a:ext cx="27432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521D-6561-43AC-856C-6FF0DBE8DD99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is NOT enabled when V11 is inst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ake it effective you must manually modify thi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gist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ke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KEY_CURRENT_USER\Software\Dyalog\Dyalog APL/W 11.0\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59280" y="4653000"/>
            <a:ext cx="3024000" cy="20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C8E-3B59-462A-A7CD-A8CCBBB84E7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t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locate strings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cate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abc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c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‘\[‘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nd where ‘[‘ is catenated to the left (remember to add the ‘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\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to prevent ‘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 from being interpreted as a regex symb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EDB7-2D5D-4F9A-B289-E0AEBB193DDE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pr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props 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turns the properties of objec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i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shows its ChildList and its Event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DC0D-9F42-4174-BBF0-A2A42889AE82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ALT 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ompare file1 fil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ompare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ist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ad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emoveversions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89F-7AC8-4978-9AA7-B4E6C069A2E8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di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compare 2 functions in the workspace. This is the Dfn &lt;fndiff&gt; implemented as a SPICE comm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fndiff fnA f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6AB-9DA7-4796-B78E-434FCA5687B9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the calls made by a fn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alls file f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simple (fns only) or detailed showing if elements are local, global, glocal, labels, used, etc. It takes into account ⍎, []TRAP st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viewed in a tre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67F-E6D8-4B64-B282-AD90536FE6B1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e details of calls made by fn Run in file spice\Pr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is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  is unused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 is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is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876920" cy="34099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4105440" y="2862360"/>
            <a:ext cx="79200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859280" y="3319560"/>
            <a:ext cx="79236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500720" y="3068640"/>
            <a:ext cx="431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5F8E-25DA-4DED-A785-1F95774CB4E4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280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e example viewed in a tree objects by add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t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7991280" cy="18842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592520" y="414972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4080" y="453708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692000" y="4292640"/>
            <a:ext cx="2879640" cy="28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5090-B72B-4BE7-A015-5D442756FE2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540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allows to see the scope (Public, Shared, Ctor, Dtor), size and syntax of functions is a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819520" cy="459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E7F-45D8-43DE-A6D6-0DB7E7A2B22B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xr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a cross-reference of all the objects made by all the fns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ref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mbol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me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3635280" y="2622600"/>
            <a:ext cx="4795920" cy="397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5DD2-3939-4C39-829E-EAB7237ADB94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&amp; SPICE are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used as a start point to maintain code and small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es provide new ways to make code shar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provides a way to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8244000" y="476280"/>
            <a:ext cx="287280" cy="503280"/>
          </a:xfrm>
          <a:custGeom>
            <a:avLst/>
            <a:gdLst>
              <a:gd name="textAreaLeft" fmla="*/ 63000 w 287280"/>
              <a:gd name="textAreaRight" fmla="*/ 224280 w 287280"/>
              <a:gd name="textAreaTop" fmla="*/ 110520 h 503280"/>
              <a:gd name="textAreaBottom" fmla="*/ 3927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C100-6693-4486-A539-0A4967119DE2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559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SALT registry k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KEY_CURRENT_USER\Software\Dyalog\Dyalog APL/W 11.0\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s some keys which must be specified a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539640" y="3357720"/>
          <a:ext cx="8146800" cy="2768040"/>
        </p:xfrm>
        <a:graphic>
          <a:graphicData uri="http://schemas.openxmlformats.org/drawingml/2006/table">
            <a:tbl>
              <a:tblPr/>
              <a:tblGrid>
                <a:gridCol w="1752480"/>
                <a:gridCol w="2321280"/>
                <a:gridCol w="407304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Default 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What is i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dd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ntrols whether SALT is initialized when the session file is load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mpare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P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how to call a file comparison util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ourceFol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[Dyalog]\Clas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folders for source files separated by ";". Default folder is located below the main Dyalog fold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Editor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notepad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which program to run to edit script files outside A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0FEF-6446-4CFE-B245-94F4BCA4A74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ALT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7956720" y="548280"/>
            <a:ext cx="863280" cy="431640"/>
          </a:xfrm>
          <a:custGeom>
            <a:avLst/>
            <a:gdLst>
              <a:gd name="textAreaLeft" fmla="*/ 189720 w 863280"/>
              <a:gd name="textAreaRight" fmla="*/ 673560 w 86328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D57-1F77-4E99-8468-3A8B49955D09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KEY_CURRENT_USER\Software\Dyalog\Dyalog APL/W 11.0\SALT\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dd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have the value ‘1’ for SALT to be ena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is key is set all subsequent sessions will have SALT enabled until this key is changed back to ‘0’ (not ‘1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470-5CB7-4EDF-AD2B-1184B662ECE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07-05-14T21:15:20Z</dcterms:modified>
  <cp:revision>40</cp:revision>
  <dc:subject/>
  <dc:title>SALT in Dyalog</dc:title>
</cp:coreProperties>
</file>