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07D-4F3C-4D43-8608-99140370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126-B73B-4F90-916C-2AF5E968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9E1-F91A-470B-8F9A-6B9FB200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349-88C9-498B-89EE-E8EFEAD2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10A-4592-47FC-82CB-C031D373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8B1-F40C-4697-A7EC-3BB06454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9DB-F301-4A10-9A4A-8B327564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63A-F975-4D1D-B22D-E874B1C8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9A2-2FE5-4C5E-A025-FF5A620C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255-BBBD-40DD-86EA-1FED674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3E8-503A-4A6D-A577-D66107A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27E-F496-4403-8E0F-80B4DB0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98F5-1189-4D51-9759-CE4738D3A1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456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onverting workspaces  and using SALT &amp; </a:t>
            </a:r>
            <a:r>
              <a:rPr b="1" i="1" lang="en-US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to maintain them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117-98C5-4D86-9B1E-412B60A6B26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workspace is divided into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namespace contains all the units' logic, here its name is 'R' (for Robo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unit's logic is also contained in a namespace whose name is the name of the unit (like CARLA or AI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2CE-D297-41E8-8255-E8B21714F4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84360" y="1773360"/>
            <a:ext cx="5940360" cy="33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08000" y="5300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, namespa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where all the Units' logic re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355-7B00-4825-B96E-47486884804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ing the workspace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nvolves modifying individual units' code in their respectiv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 resaving the entire workspace when finished with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vents other users from updating the workspace at the same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437-E5F7-47FF-99F9-6B448263A6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796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728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92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880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67336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92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68624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345168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32172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48244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420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836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DFD-1255-4C4A-A0FC-B16FE88778A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Un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08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9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41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64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9720" y="26733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64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20068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00852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83616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03928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828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08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9640" y="3537000"/>
            <a:ext cx="11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8880" y="5035680"/>
            <a:ext cx="59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overwritten by Tester B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 if the namespace changed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28A-F492-4127-85ED-8784A390D36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other problem with this model is that changes are irrever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n tracking changes is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ing differences in code is hard to doc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E97-B429-4B3D-BFE3-C1018213B0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allows namespaces to exist in script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ead of hav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80000" y="2733840"/>
            <a:ext cx="514800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88C-BA32-47C1-82A4-F1E6DBBE2C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736640"/>
            <a:ext cx="284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have everything in script form, including the definition of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43280" y="1622520"/>
            <a:ext cx="5067360" cy="45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8B0-1AB3-4851-84DA-007501D593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s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Keeping namespaces in scripted form allows to save them in (Unicode) text files outside the work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11280" y="3933720"/>
            <a:ext cx="5832360" cy="1656000"/>
            <a:chOff x="1511280" y="3933720"/>
            <a:chExt cx="5832360" cy="1656000"/>
          </a:xfrm>
        </p:grpSpPr>
        <p:sp>
          <p:nvSpPr>
            <p:cNvPr id="130" name=""/>
            <p:cNvSpPr/>
            <p:nvPr/>
          </p:nvSpPr>
          <p:spPr>
            <a:xfrm>
              <a:off x="1511280" y="4329000"/>
              <a:ext cx="2700360" cy="115272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9640" y="443700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19640" y="47800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51213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3640" y="39337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96000" y="45100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8000" y="50864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743280" y="414936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743280" y="4723920"/>
              <a:ext cx="205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43280" y="5230800"/>
              <a:ext cx="28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493-0B46-4958-8B44-FCD19CF283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pdating can now be done in parallel for different namespaces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"/>
          <p:cNvSpPr/>
          <p:nvPr/>
        </p:nvSpPr>
        <p:spPr>
          <a:xfrm>
            <a:off x="685080" y="221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640" y="43290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313056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6244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9408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62440" y="226692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453040" y="24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4088520" y="246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40640" y="18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6960" y="556416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NOT overwritten by 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394812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564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884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9756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68840" y="48117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61240" y="4119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5291640" y="411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3200" y="4714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52520" y="2406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96440" y="41590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190-9BF9-405D-AAC7-05CBCC86A73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an example of converting an existing application to SALT and using a version control system afterwards to maintain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C2B-C2C4-48B5-B32F-426C30E4E1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ier to track changes now that files are in human readable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aring files can be done easily in APL or by any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progra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0CC-C6CE-47A9-81B3-D0155AEF87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tep is to convert the workspace to the new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3A4-FB9C-4006-B61F-1329E24106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2475000"/>
            <a:ext cx="6481800" cy="35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D85-2748-47B2-8640-D9DBC384BB9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71280" y="1736280"/>
            <a:ext cx="74120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79640" y="2784600"/>
            <a:ext cx="6984720" cy="2805120"/>
            <a:chOff x="1079640" y="2784600"/>
            <a:chExt cx="6984720" cy="28051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1079640" y="2784600"/>
              <a:ext cx="698472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366560" y="4289760"/>
              <a:ext cx="649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C31-7549-4888-BA33-E3CB22B5BFD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640" y="1521000"/>
            <a:ext cx="737712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the work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BF7-9443-4C92-95A0-EE35F2F41AA0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34920" y="1521000"/>
            <a:ext cx="741384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sure the workdir includes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684360" y="2313000"/>
            <a:ext cx="7416720" cy="3827520"/>
            <a:chOff x="684360" y="2313000"/>
            <a:chExt cx="7416720" cy="382752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971640" y="2313000"/>
              <a:ext cx="712944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4360" y="4597560"/>
              <a:ext cx="360036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3B4-5C65-458B-8447-27C0FD9EABEE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07640" y="1521000"/>
            <a:ext cx="73407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ring in the conversion tool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71640" y="2303640"/>
            <a:ext cx="7129440" cy="3827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19280" y="4924440"/>
            <a:ext cx="25574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687-059E-4E48-B22F-036F600B871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76000" y="1725120"/>
            <a:ext cx="77756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 is a namespace containing code to perform conversion of regular (non sourced)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unction to use in it is &lt;Convert&gt;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C67-D4A2-490D-AA70-38D94324801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68360" y="2349360"/>
            <a:ext cx="6410520" cy="3600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76000" y="159228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convert namespace 'UTIL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27280" y="4238640"/>
            <a:ext cx="3168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68360" y="2349360"/>
            <a:ext cx="6407280" cy="3598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943280" y="2205000"/>
            <a:ext cx="531468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BAB-C4D7-4A1F-A3A9-9C923B8ABA99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onvert several namespaces first )CS where the namespace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11280" y="2708280"/>
            <a:ext cx="6172200" cy="344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1B6-A1D5-4AB9-9FCD-A9B2CF928E6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opics of Discus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'll see the conversion process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use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,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third party product, to control its versioning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2F8-50CF-4ED9-A9DA-9EF2640D64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use an expression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74920" y="2133720"/>
            <a:ext cx="6192720" cy="3768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71640" y="2914560"/>
            <a:ext cx="320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0F3-601A-4817-8921-8EF038F1B18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plorer now shows us the namespaces with the new icon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E82-8AE6-4C5F-810B-A84605E43795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next step is to store those namespaces in Unicode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gain, SALT comes in hand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797-45F7-49AE-9B27-41D40DC761C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9080" y="2701800"/>
            <a:ext cx="647856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cide where to put them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SALT Sav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931-5EBD-478D-A3BC-D1EB3037CD9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808280"/>
            <a:ext cx="71661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ave function takes a string argument of: 'namespace location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11280" y="3068640"/>
            <a:ext cx="583416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557-0ED5-4403-91E3-B72B0CF75F8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75247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ll the namespaces at once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58920" y="2529000"/>
            <a:ext cx="6589800" cy="3481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00360" y="3409920"/>
            <a:ext cx="4464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D7F-3462-4281-B99C-1AE8C090621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'remembers' where each script was sav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nging one of them now means SALT will change the file as soon as the script is modified through the edito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19B-32BC-48FC-AA88-36B354B71B7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1000" y="158904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Here's what one of the units' logic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27B-E4B9-4A43-B881-316B73817F85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5080" y="158904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nd here we make a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268360" y="2241720"/>
            <a:ext cx="4751640" cy="3809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916360" y="3205080"/>
            <a:ext cx="22320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067-1C45-46F2-9A69-7B0273EEAD0A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71280" y="167328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SALT detected the change and offers to change the scrip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40000" y="2705040"/>
            <a:ext cx="4356000" cy="23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969-7ADB-4125-9E8E-CAEDF485D1F8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tu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AAD is a military weapons manufacturing compan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ne of its best sellers is the SD2, a device used to search and destroy specific targ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481-AFC0-46E1-9909-F09AAA0FA1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1944720"/>
            <a:ext cx="83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You should )SAVE the workspace here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SALT will remember where the edited namespaces are stored and detect if changes have been made outside APL (e.g. with Not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E0F-C416-4EFD-B241-81976B6271AE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 of the work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mes with its own versioning of files and comparison functions but it is primitive compared to state of the art version control systems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DA7-1802-4960-BAAD-B4AA0A5C7A4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company like BAAD it is preferable to use existing software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 first need somewhere to put the scripts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E91-8EB6-468E-83C6-9F03BC88F8E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picked folde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weapo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68360" y="2168640"/>
            <a:ext cx="4695840" cy="4267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3600360" cy="2249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79640" y="2781360"/>
            <a:ext cx="3853080" cy="14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4CE-181B-44DF-B2C2-B03134CD1BB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now import the scripts into the reposito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(we put our code in 'Troops')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4600800" cy="4610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40360" cy="3774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600360" y="144936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26B-DB64-4760-81C1-67088F57357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7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e of the testers now checks out a copy: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51280" y="1665360"/>
            <a:ext cx="3198960" cy="4500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527280" y="1700280"/>
            <a:ext cx="5148360" cy="3612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816360" y="2384280"/>
            <a:ext cx="3780000" cy="2049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564000" y="148428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E91-6BB0-4F58-B6B1-1C7C9E63E33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other tester can do the same thing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"/>
          <p:cNvSpPr/>
          <p:nvPr/>
        </p:nvSpPr>
        <p:spPr>
          <a:xfrm>
            <a:off x="4213080" y="3173400"/>
            <a:ext cx="1244880" cy="15271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rot="20261400">
            <a:off x="2446920" y="4581000"/>
            <a:ext cx="1758960" cy="630360"/>
          </a:xfrm>
          <a:custGeom>
            <a:avLst/>
            <a:gdLst>
              <a:gd name="textAreaLeft" fmla="*/ 275040 w 1758960"/>
              <a:gd name="textAreaRight" fmla="*/ 1539720 w 1758960"/>
              <a:gd name="textAreaTop" fmla="*/ 157680 h 630360"/>
              <a:gd name="textAreaBottom" fmla="*/ 473040 h 63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95200">
            <a:off x="5364000" y="4701960"/>
            <a:ext cx="1773360" cy="682560"/>
          </a:xfrm>
          <a:custGeom>
            <a:avLst/>
            <a:gdLst>
              <a:gd name="textAreaLeft" fmla="*/ 276840 w 1773360"/>
              <a:gd name="textAreaRight" fmla="*/ 1551960 w 1773360"/>
              <a:gd name="textAreaTop" fmla="*/ 170640 h 682560"/>
              <a:gd name="textAreaBottom" fmla="*/ 511920 h 68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0552400">
            <a:off x="5564160" y="3358800"/>
            <a:ext cx="1671840" cy="617400"/>
          </a:xfrm>
          <a:custGeom>
            <a:avLst/>
            <a:gdLst>
              <a:gd name="textAreaLeft" fmla="*/ 261000 w 1671840"/>
              <a:gd name="textAreaRight" fmla="*/ 1463040 w 1671840"/>
              <a:gd name="textAreaTop" fmla="*/ 154440 h 617400"/>
              <a:gd name="textAreaBottom" fmla="*/ 463320 h 61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163800">
            <a:off x="2484360" y="3600000"/>
            <a:ext cx="1638360" cy="560520"/>
          </a:xfrm>
          <a:custGeom>
            <a:avLst/>
            <a:gdLst>
              <a:gd name="textAreaLeft" fmla="*/ 255960 w 1638360"/>
              <a:gd name="textAreaRight" fmla="*/ 1433520 w 1638360"/>
              <a:gd name="textAreaTop" fmla="*/ 140040 h 560520"/>
              <a:gd name="textAreaBottom" fmla="*/ 420480 h 56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138-2238-4615-ACE7-34C1A88E674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59280" y="1665360"/>
            <a:ext cx="4714920" cy="43718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6920" y="1980720"/>
            <a:ext cx="31323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 can check what's in his fol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00A-73F6-4EBB-BC06-9F014803C50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023920"/>
            <a:ext cx="30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hen grab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eva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column (th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mes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600360" y="1700280"/>
            <a:ext cx="5004000" cy="26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9E4-BAB0-4A22-B55E-295330F2874E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ke sure his own folder is in th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workdi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lis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679920" y="1693800"/>
            <a:ext cx="493236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D00-4473-4CD9-8484-E830F061958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uni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self contained: its behaviour is set once and does not require external inpu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(possibly 1000s) models, each with a different code name. The logic (code) of each is uniqu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B1A-D008-4F89-A697-5AFA55AAAB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672000" y="1700280"/>
            <a:ext cx="4932360" cy="263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bring in his files in the 'R' namespac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908000" y="4165560"/>
            <a:ext cx="554364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C04-EF51-42B6-B5AA-B76F7DE2FAF1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5198 L 4.44444E-006 0.00023 E">
                                      <p:cBhvr>
                                        <p:cTn id="11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 can now repeat this procedure each time he )LOADs the workspace or )SAVE his own copy (e.g. 'tester1robots') which will be )loaded instea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6D8-840C-418B-A090-142D188BC056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3681360"/>
            <a:ext cx="1260360" cy="1332000"/>
          </a:xfrm>
          <a:prstGeom prst="flowChartMagneticDisk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E29-E39B-4539-A436-AB73CC746E3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38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en changes are ready to be checked in you do (here DANIMAL has been change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3971880" cy="2400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795920" y="172728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535640" y="155736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4535640" y="156384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3672000" y="252900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16F-CC34-40C5-9211-C38D0C6C45F3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"/>
          <p:cNvSpPr/>
          <p:nvPr/>
        </p:nvSpPr>
        <p:spPr>
          <a:xfrm>
            <a:off x="3959280" y="3681360"/>
            <a:ext cx="1260360" cy="1332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559800">
            <a:off x="2555640" y="3715920"/>
            <a:ext cx="1187280" cy="46836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0589000">
            <a:off x="2592000" y="4868640"/>
            <a:ext cx="1187640" cy="46800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rot="20640600">
            <a:off x="5472000" y="3573360"/>
            <a:ext cx="1261080" cy="468360"/>
          </a:xfrm>
          <a:custGeom>
            <a:avLst/>
            <a:gdLst>
              <a:gd name="textAreaLeft" fmla="*/ 196920 w 1261080"/>
              <a:gd name="textAreaRight" fmla="*/ 1103760 w 1261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rot="978000">
            <a:off x="5434920" y="4939920"/>
            <a:ext cx="1260360" cy="468360"/>
          </a:xfrm>
          <a:custGeom>
            <a:avLst/>
            <a:gdLst>
              <a:gd name="textAreaLeft" fmla="*/ 196920 w 1260360"/>
              <a:gd name="textAreaRight" fmla="*/ 1103040 w 1260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8FB-0FBB-445C-980C-E1FDCBD231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VC should be able to handle conflicts, report on differences and generate complete new systems from the current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869-E86F-4501-9818-DD23397E3DD8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ocal or smaller systems you may choose to use SALT's limited versioning and comparing abilities but a solid Version Control system is a must for large syst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042-8421-4ADB-AFE5-8E243C3CED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version control will probably do bu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ll supported and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DAC-94EA-49D0-A658-FE72C9A58E5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nit is made of 2 main compon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driving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weapons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"/>
          <p:cNvSpPr/>
          <p:nvPr/>
        </p:nvSpPr>
        <p:spPr>
          <a:xfrm>
            <a:off x="3562200" y="4869000"/>
            <a:ext cx="1801800" cy="6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40360" y="4113360"/>
            <a:ext cx="1522440" cy="792000"/>
            <a:chOff x="4140360" y="4113360"/>
            <a:chExt cx="1522440" cy="792000"/>
          </a:xfrm>
        </p:grpSpPr>
        <p:sp>
          <p:nvSpPr>
            <p:cNvPr id="56" name=""/>
            <p:cNvSpPr/>
            <p:nvPr/>
          </p:nvSpPr>
          <p:spPr>
            <a:xfrm>
              <a:off x="4140360" y="4113360"/>
              <a:ext cx="1041480" cy="792000"/>
            </a:xfrm>
            <a:prstGeom prst="can">
              <a:avLst>
                <a:gd name="adj" fmla="val 334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489200">
              <a:off x="5263560" y="4102560"/>
              <a:ext cx="169920" cy="6044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A37-EE3C-491C-84B6-225E178622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esting the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viously, testing these devices in real life presents a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its infinite wisdom the company has decided to use a simulator written in 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ingle workspace holds all the syst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587-3606-4F13-8806-6708C0E0A4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2200" y="1654200"/>
            <a:ext cx="5257800" cy="453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06160" y="4746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ing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8000" y="3573360"/>
            <a:ext cx="395640" cy="12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4328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51280" y="2815920"/>
            <a:ext cx="1225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192640"/>
            <a:ext cx="9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5800" y="3327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948360" y="2600280"/>
            <a:ext cx="61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948360" y="3105000"/>
            <a:ext cx="61128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948360" y="3573000"/>
            <a:ext cx="61128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948360" y="3860640"/>
            <a:ext cx="611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948360" y="3968640"/>
            <a:ext cx="61128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840" y="18446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F3A-A2D2-48A9-A9E1-B4D5B45479E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43280" y="1676520"/>
            <a:ext cx="5524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02F-ECCD-4EDA-9110-5505E6BD0CA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16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B</cp:lastModifiedBy>
  <dcterms:modified xsi:type="dcterms:W3CDTF">2007-09-27T16:04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