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2C8-7320-4F69-8574-6A01A407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982-B3DB-4864-935F-102691F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498-5AA5-4660-8BC1-667C5740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4C8-4F06-4673-A841-5B0B931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7CB-374B-4744-A1F8-8B38208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0E4-FBEC-4FCA-80EB-C3E179B0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7C1-711D-424F-AD84-EDF0E1F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87E-A346-4090-93E9-8C7AF417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A47-9DB2-4AA7-94CC-3670D09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41C-8212-4D93-953A-9C64480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63E-8D6E-40B4-A9BB-76A724F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69B-FA5A-41DA-81BA-06AEC75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E07-AFE0-4BD4-8EA2-2955A9FF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ing Microsoft DirectX .NET interface with Dyalog APL 11.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x Bala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s of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anorama head, tripod or monopod   and digital camera make a series of pictures capturing 360 degree from left to right and 180 degree from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titching software (PTGui), stitch series of pictures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8600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267080" y="373392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72200" y="1143000"/>
            <a:ext cx="266688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172200" y="4114800"/>
            <a:ext cx="2666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502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190188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483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705720" y="2438280"/>
            <a:ext cx="190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rinceton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en Kromberg for last minute acceptance of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Brown for helping me with VR tou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for suppor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rect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is a set of low-level APIs for creating games and other high-performance multimedia applications. It includes support for high-performance 2D and 3D graphics, sound, and in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DirectX for Manage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9 Active namespaces and 4 which are considered obso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.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PrivateImplementation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crosoft.DirectX.Direct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L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ound during explor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 class object delegated to external environment from APL application is not “callable” (external environment can not call methods of that obj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are not “correctly” described inside DirectX .NET interface so Dyalog APL is “confused” and rejects trying to run methods (Device creation method is 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not find a way to generate System.Type class from APL. C# uses “typeof” system function and alternative solution in APL is not obv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the class can not be callback function for objects created insid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for all thos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# Class library, which will serve as alternative way of communication between APL and DirectX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utorials were repeated in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Video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Panorama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1 – Devic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2 – Build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3 – Rotat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4 – 3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5 – Using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 Video play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directly with Dyalog APL and does not requir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ly plays a lot of 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 does not allow Class Methods to be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be placed on APL Form object and requiring .NET Form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s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3D cube inside Direct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27:34Z</dcterms:created>
  <dc:creator>Administrator</dc:creator>
  <dc:description/>
  <dc:language>en-US</dc:language>
  <cp:lastModifiedBy>Administrator</cp:lastModifiedBy>
  <dcterms:modified xsi:type="dcterms:W3CDTF">2007-11-21T18:43:00Z</dcterms:modified>
  <cp:revision>15</cp:revision>
  <dc:subject/>
  <dc:title>Exploring Microsoft DirectX .NET interface with Dyalog APL 11.0 </dc:title>
</cp:coreProperties>
</file>