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24.png" ContentType="image/png"/>
  <Override PartName="/ppt/media/image3.jpeg" ContentType="image/jpeg"/>
  <Override PartName="/ppt/media/image30.png" ContentType="image/png"/>
  <Override PartName="/ppt/media/image2.wmf" ContentType="image/x-wmf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35.jpeg" ContentType="image/jpeg"/>
  <Override PartName="/ppt/media/image47.png" ContentType="image/png"/>
  <Override PartName="/ppt/media/image41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3.png" ContentType="image/png"/>
  <Override PartName="/ppt/media/image50.jpeg" ContentType="image/jpeg"/>
  <Override PartName="/ppt/media/image52.png" ContentType="image/png"/>
  <Override PartName="/ppt/media/image51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2.png" ContentType="image/png"/>
  <Override PartName="/ppt/media/image39.png" ContentType="image/png"/>
  <Override PartName="/ppt/media/image9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601200" cy="7315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176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971880" y="1764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236240" y="720720"/>
            <a:ext cx="453708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move the slide</a:t>
            </a:r>
            <a:endParaRPr b="0" lang="en-US" sz="51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88120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971880" y="881208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90BBE6-CD26-47B0-BFB1-F7E6FDE672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alog - 15 years, first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APL based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 our customers to create their own applic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ost common use is to automate the steps required to transfer data from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system to one or more destination systems that have no other way to commun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will see exactly how that is done by the execution of customer scripts by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L code that runs below the su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ght up front: Scripts in this context have nothing in common with the kind of script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ve seen examples of elsewhere during the confer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tte mentioned many things in her opening presentation that are wonderfully relevant to this present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 will point out where I find the commo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ystem level too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tree: see all objects executed at any point from a root script. See structure and edit any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e: log every line – see incorrect path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file viewer to look at all of the detail of an order as it exists in th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 com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+ var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categ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ng, changing, formatting, simple and more complex calculation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: take drop and variations , take to a delim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gic and decisions are accomplished through "if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/ field; field/ quoted text; field/number; field/ at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 sub-scripts and the other object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nteresting of the rest are the ability to create scripts that require arguments and can return explici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tired of writing utility scripts that needed me to set up a field of a specific name that was used inside that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getting the data back from a specif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ose utility scripts led to a new command – I am in charge of the development after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example of that is the union, intersection and difference commands – much faster as a command that doing it within as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 to log in to a specific switch – a Nortel DMS 100 if anyone is familiar with that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sequence – send something, look at reply to see if we are in the right place, got an acceptabl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few slides are examples drawn from several different customers of the 4 steps that are usually involv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; data validation; translation and the update of the destination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parts of the order collection process from the CommSoft ord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xes around data sent from a script, the order system reply is undern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part of the script that would send the first bit and process the respo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each "send"script evaluates previous information to decide on next information to retrie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get the list of charge codes associated with this order, we need to divide them up into the 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re being removed, being added and staying the sa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ation and translation depends on values in those three lists (and many other things as wel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ents of the add and remove lists may be manipulated to add other codes, or to remove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s, depending on how some data relationships work out. We'll see an example of that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lides that show some of the details that go into figuring out the business rules that each order must fo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page document from a customer several years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 page 7 and already have 20 foot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C discu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items to the charge code li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the final value of a field called EAS. That field affects a critical translation 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her down the line, so we need to be sure we get it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shows the relationship between the values of 3 different fields, and the a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need to be taken. The resulting action affects one or more additional valida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 steps farther along on this docu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translating charge codes to switch str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script has been scrolled, so we cant see the section where it is working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through a list of charge codes, then examining each to determine the work that needs to be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 of the switch commands is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update via the Java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ligent automation. Thought of Gitte's comments about embedding the knowledge within the applica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at is what we end up doing with in these situations, where the scripts embody the knowledg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of the experts within the company. Everything they know about how to process an orde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t into the scri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ily maintained: I have tried to create the VTC product so that the domain experts at the 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es – the switch engineers, the customer service reps and so on could, if need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this scripting language in order to make changes to the application by editing a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dding a new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able – just add more files or more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to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y quickly so I leave time for the more important bits, for questions at 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or any questions that might come u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0% of the development list and I have added a few items to this list in the last few wee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hings that Gitte mentioned yesterday that are very appropriate to my own APL experi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 APL's presence in Univer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ublishing a new APL text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first experience with APL came at the University of Rochester, but while I was working there, not as a stu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, I found a copy of this book in the University libr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at book, I taught my self enough APL to what I had been asked to do, and al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ize that I enjoyed working with APL enough to want to do it fu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at e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: teamed up with friend — Bruce Hutton to write The Connection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92, Bruce had retired from his position as a telephone switch engineer, and The Connection wa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of his ideas about how to sole two problems that he saw every day while at the phon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– I can go back even further in the history of Dyalog interfaces than you did yesterday, si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nection was developed in Version 6, and I am still supporting it in that environment in SCO Un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er opening remarks, Gitte also talked about companies starting out in someone's garage – not quite the case here, but for the first year or s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rked at a desk in Bruce's living room, which was the company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– The Connection turned out to be quite a successful way to solve the phone company problem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30 to 35 installed systems by the end of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ly continues to be used in about 20 companies, some of whom have been running it for almost 15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99, corporate events way over my pay grade led to the sale of the Hutton Co, and the later closing of the Rochester off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enters the picture. They have been selling software to phone companies for more 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ew of The Connection, and liked what it did. Asked me to write a product with the same functionality only be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t about that for about 10 seconds before saying Y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 Mulligan – get another swing at an automation product, with no penalty stro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ed early 2002 – modestly successful so f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bought TC from company that bought the company that bought the Hutton 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e to have my hands around that product – have done two updates to add functionality, 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Soft focus is on VTC for sales and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% error rate for manual up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platform, or development environment on top of whic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s the vendor, or the customer, can create highly customized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 re-use of scripts from one site to the next even with identical hardware/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ic environment, and, to the best of our ability, all of the script comm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we created, the internal APL data structures, the data structures that a user can create, and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you can design an application are all independent of any indus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ntributes to the great flexibility of the applications that can be created – more than a dozen that we have do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ustomers themselves have come up additional applications on their own. That flexibility has also allowed u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scripts that connect to over 60 different network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efi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efits can be immediate and significant, because we get rid of the people … not physically, but metaphor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ing the manual steps in the update process immediately reduces the error rate to about 2% or les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mmediately reduces the order completion time. Across all of our customers, about 30%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s are completed in the switches within 1 minute from the time they are submitted to the ord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60% within 5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TC archite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s talk to server with APL socket – simple and fast data transf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Menu small and unobtru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s in either Windows or Linux, and client and server can be installed under different operating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er pieces: some APL files for configuration information and data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controller and script processing tasks. Do not run within the controller worksp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operating system jobs out side of the controller 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 real work occurs within the script processes – this is where the commands in a scrip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d by the underlying APL code – all communication, data manipulation and so on occurs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 process spawns script processes through []CMD. Here are the arguments used for each 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and rename runtime executable so you can track the VTC process in the Windows task 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pnum= parameter so the process will know which task it is supposed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inux – use console interpreter and export all parameters before starting interpr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and rename workspace so you can see which Linux process corresponds to the VTC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via TCP sockets, when possible. Through Java interface to do SSH, Corba, SNMP and other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much looking forward to Congo to simplify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 comms in windows from a serial DLL from Insight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application design at customer site. A VTC application is not a single item, rather a col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ssociated processes and data fi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rest of the presentation, I will be describing the use of FIELDS within V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s are application's equivalent of an APL variable, but the fields are contained within a two colum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 in the workspace: names in first col., values in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pdate, no restrictions on type or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each part of the application in more det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rocess does one thing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– most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rules (weeks or months to discov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 from charge codes to switch strings. Usually in delimited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fields (in and out) for each de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action files: allow audit trail for order – what process handled that order, and wh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ask – read file for available order, fields in data indicate switch type, switch name or location if more than one of that 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 in, break off first segment from one field, send, look at response, contin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mplete, save in last file for the status update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36600" y="720720"/>
            <a:ext cx="4537080" cy="3457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673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e rules, know the design – time to actually create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objects, but scripts are 98% of what you would w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ipt commands, syntax and form are totally made up – not based on anything e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lumns: talk about the second column in a few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column: start with a line label, or a command name, with keywords that indicate the specific var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command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data provides all of the parameters needed,and can be Field named, quoted text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haracters, system fiel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 tools: line numbers change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 and re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(from Dyalog Compare 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click = revert to last saved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804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5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804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5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A2F-28B1-4575-B357-4D9A996E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66A-50F2-4E52-BE79-F3F8266B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774-A65D-41AA-AF1D-3F5AD3D5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CC3F-2764-4DAB-9A96-4C7B648D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1F0-2B88-459C-A7BE-D37ED348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59920" y="812880"/>
            <a:ext cx="81802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B8C-FB3E-4FEB-9372-B321DF7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DB5-8A2F-4648-A079-4FD33C9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7E6A-0C70-49DA-8461-FA7D5D5B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8CF-3DE2-434E-BB7C-D178A05F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6DA3-673D-47A0-9741-950B1DA4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9AE6-6240-420C-9821-0293813E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2804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35720" y="23569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720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2804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35720" y="4394520"/>
            <a:ext cx="22924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297-C784-4060-90EF-F837438A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920" y="812880"/>
            <a:ext cx="81802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9320" y="43945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7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9320" y="2356920"/>
            <a:ext cx="347436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720" y="4394520"/>
            <a:ext cx="7120080" cy="1860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920" y="812880"/>
            <a:ext cx="8180280" cy="1218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Click to edit the title text forma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2356920"/>
            <a:ext cx="7120080" cy="3900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71520" indent="-3715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the outline text format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spcBef>
                <a:spcPts val="751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cond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2" marL="1216080" indent="-241200"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Third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3" marL="1692360" indent="-243000">
              <a:spcBef>
                <a:spcPts val="751"/>
              </a:spcBef>
              <a:buClr>
                <a:srgbClr val="000000"/>
              </a:buClr>
              <a:buFont typeface="Frutiger 47LightCn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our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4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if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5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ix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6" marL="2174760" indent="-241200">
              <a:spcBef>
                <a:spcPts val="751"/>
              </a:spcBef>
              <a:buClr>
                <a:srgbClr val="000000"/>
              </a:buClr>
              <a:buFont typeface="Frutiger 47LightCn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venth Outline Level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0" y="0"/>
          <a:ext cx="9601200" cy="731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601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0" y="162000"/>
            <a:ext cx="9601200" cy="81288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9400" y="244440"/>
            <a:ext cx="624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cript Driven Data Exchan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40760" y="6512040"/>
            <a:ext cx="1120680" cy="55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816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06360"/>
            <a:ext cx="9601200" cy="1219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edit the title text format</a:t>
            </a:r>
            <a:endParaRPr b="0" lang="en-US" sz="51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650880"/>
            <a:ext cx="815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5100" spc="-1" strike="noStrike">
                <a:solidFill>
                  <a:srgbClr val="005d9c"/>
                </a:solidFill>
                <a:latin typeface="Frutiger 67BoldCn"/>
              </a:rPr>
              <a:t>Click to edit Master title style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2112840"/>
            <a:ext cx="81597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Master text sty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Secon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Third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7207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279600" y="6664320"/>
            <a:ext cx="304200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80320" y="6664320"/>
            <a:ext cx="2000160" cy="488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828F2-7689-42B1-AA76-39AED71A548C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601200" cy="731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601200" cy="73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162000"/>
            <a:ext cx="9601200" cy="81288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9400" y="244440"/>
            <a:ext cx="6242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cript Driven Data Exchan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79880" y="1711440"/>
            <a:ext cx="864072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lick to edit the outline text format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482760" indent="0" algn="ctr"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2" marL="966960" indent="7920" algn="ctr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3" marL="1449360" algn="ctr">
              <a:spcBef>
                <a:spcPts val="524"/>
              </a:spcBef>
              <a:buClr>
                <a:srgbClr val="000000"/>
              </a:buClr>
              <a:buFont typeface="Frutiger 47LightCn"/>
              <a:buChar char="–"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4" marL="1933560" algn="ctr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5" marL="1933560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6" marL="1933560">
              <a:spcBef>
                <a:spcPts val="524"/>
              </a:spcBef>
              <a:buClr>
                <a:srgbClr val="000000"/>
              </a:buClr>
              <a:buFont typeface="Frutiger 47Light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wmf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image" Target="../media/image48.png"/><Relationship Id="rId25" Type="http://schemas.openxmlformats.org/officeDocument/2006/relationships/image" Target="../media/image49.jpeg"/><Relationship Id="rId26" Type="http://schemas.openxmlformats.org/officeDocument/2006/relationships/image" Target="../media/image50.jpeg"/><Relationship Id="rId27" Type="http://schemas.openxmlformats.org/officeDocument/2006/relationships/image" Target="../media/image51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33600" y="3269880"/>
            <a:ext cx="6534000" cy="1971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Roger Kumler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Communication Software Consultants</a:t>
            </a: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Frutiger 67BoldCn"/>
              </a:rPr>
              <a:t>(CommSoft)</a:t>
            </a:r>
            <a:endParaRPr b="0" lang="en-US" sz="30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1920" y="5479920"/>
            <a:ext cx="2692440" cy="1098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Albany, NY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www.commsoft.ne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0" name=""/>
          <p:cNvSpPr/>
          <p:nvPr/>
        </p:nvSpPr>
        <p:spPr>
          <a:xfrm>
            <a:off x="1625760" y="1154160"/>
            <a:ext cx="635148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5d9c"/>
                </a:solidFill>
                <a:latin typeface="Frutiger 47LightCn"/>
              </a:rPr>
              <a:t>Script Driven Data Exchange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800" spc="-1" strike="noStrike">
                <a:solidFill>
                  <a:srgbClr val="005d9c"/>
                </a:solidFill>
                <a:latin typeface="Frutiger 47LightCn"/>
              </a:rPr>
              <a:t>Between Incompatible Syste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38160" y="345960"/>
            <a:ext cx="5865840" cy="487440"/>
          </a:xfrm>
          <a:prstGeom prst="rect">
            <a:avLst/>
          </a:prstGeom>
          <a:solidFill>
            <a:srgbClr val="005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6440" y="5479920"/>
            <a:ext cx="2060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Dyalog 2007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Princeton, NJ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1000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289080" y="1797120"/>
            <a:ext cx="8788320" cy="53179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8000"/>
          </a:bodyPr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execution tree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All objects referenced by a root script, to all levels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trace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Line by line record of every line executed in every script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Transaction file viewer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Display and edit all data in a transaction file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Process Input/Output log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Records all socket and serial port I/O, in both decimal and ASCII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ystem log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Errors, scheduled event execution, user login/logout, process start/stop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Line label check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11000" indent="-25128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Find script line labels that are referenced but not defined; defined but not referenced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Object export and import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Make use of objects created at another site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  <a:p>
            <a:pPr marL="308880" indent="-308880">
              <a:spcBef>
                <a:spcPts val="4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Unused objects: </a:t>
            </a:r>
            <a:r>
              <a:rPr b="1" lang="en-US" sz="1900" spc="-1" strike="noStrike">
                <a:solidFill>
                  <a:srgbClr val="005d9c"/>
                </a:solidFill>
                <a:latin typeface="Frutiger 57Cn"/>
              </a:rPr>
              <a:t>For clean up after project completion</a:t>
            </a:r>
            <a:endParaRPr b="0" lang="en-US" sz="19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39600" y="991800"/>
            <a:ext cx="5330880" cy="77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Implementation Tools - 2</a:t>
            </a:r>
            <a:br>
              <a:rPr sz="3800"/>
            </a:br>
            <a:r>
              <a:rPr b="0" lang="en-US" sz="2100" spc="-1" strike="noStrike">
                <a:solidFill>
                  <a:srgbClr val="005d9c"/>
                </a:solidFill>
                <a:latin typeface="Frutiger 67BoldCn"/>
              </a:rPr>
              <a:t>Development / Maintenance Tools</a:t>
            </a:r>
            <a:endParaRPr b="0" lang="en-US" sz="21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" y="1009440"/>
            <a:ext cx="4421160" cy="50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60 Script Command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03" name=""/>
          <p:cNvSpPr/>
          <p:nvPr/>
        </p:nvSpPr>
        <p:spPr>
          <a:xfrm>
            <a:off x="317520" y="1855800"/>
            <a:ext cx="123192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1000"/>
          </a:bodyPr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addto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_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a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nv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ec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93840" y="1855800"/>
            <a:ext cx="106848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6000"/>
          </a:bodyPr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app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de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73400" y="1855800"/>
            <a:ext cx="1452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f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inter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left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l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29200" y="1855800"/>
            <a:ext cx="16131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u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movedu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rightjust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997760" y="1855800"/>
            <a:ext cx="114624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ans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vtc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64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" y="1009440"/>
            <a:ext cx="5962680" cy="50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cript Command Categorie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9400" y="1503360"/>
            <a:ext cx="927072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Create, change, and format the contents of field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Allow simple arithmetic to complex expressions, with standard order of operation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Data manipulation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take, drop, insert, remove, replace, justify left or right, center, spread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“</a:t>
            </a: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IF…” comparisons with flow control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Numeric: eq, ne, gt, ge, lt, le, and, or; Character: contains, begins, ends, match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540360" indent="-19656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Attribute: exists, empty, blank, numeric …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Run child scripts, lookup tables, screen scrape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execute, lookup, filter, find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Communication: socket &amp; serial ports; web browser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open, send, close; web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Transaction file operation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save, read, query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Native file operation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read, append, replace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cript arguments and defaults, return explicit result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425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et operations on delimited strings: </a:t>
            </a:r>
            <a:r>
              <a:rPr b="1" lang="en-US" sz="1700" spc="-1" strike="noStrike">
                <a:solidFill>
                  <a:srgbClr val="005d9c"/>
                </a:solidFill>
                <a:latin typeface="Frutiger 57Cn"/>
              </a:rPr>
              <a:t>union, difference, intersection</a:t>
            </a:r>
            <a:endParaRPr b="0" lang="en-US" sz="1700" spc="-1" strike="noStrike">
              <a:solidFill>
                <a:srgbClr val="005d9c"/>
              </a:solidFill>
              <a:latin typeface="Frutiger 57Cn"/>
            </a:endParaRPr>
          </a:p>
          <a:p>
            <a:pPr marL="196560" indent="-1965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System shell commands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310" name=""/>
          <p:cNvSpPr/>
          <p:nvPr/>
        </p:nvSpPr>
        <p:spPr>
          <a:xfrm>
            <a:off x="276120" y="6972480"/>
            <a:ext cx="35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2657520" y="466560"/>
            <a:ext cx="6896160" cy="6801120"/>
            <a:chOff x="2657520" y="466560"/>
            <a:chExt cx="6896160" cy="680112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2657520" y="466560"/>
              <a:ext cx="6896160" cy="68011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313" name=""/>
            <p:cNvSpPr/>
            <p:nvPr/>
          </p:nvSpPr>
          <p:spPr>
            <a:xfrm>
              <a:off x="8756640" y="620640"/>
              <a:ext cx="77148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647800" y="1000080"/>
            <a:ext cx="4457880" cy="10191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57520" y="2600280"/>
            <a:ext cx="4457520" cy="60948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57520" y="3800520"/>
            <a:ext cx="4457520" cy="101916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57520" y="619200"/>
            <a:ext cx="1752480" cy="2188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57520" y="2419200"/>
            <a:ext cx="390600" cy="18288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647800" y="3618000"/>
            <a:ext cx="390600" cy="182520"/>
          </a:xfrm>
          <a:prstGeom prst="rect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00560" y="5295960"/>
            <a:ext cx="1562040" cy="266760"/>
          </a:xfrm>
          <a:prstGeom prst="wedgeRectCallout">
            <a:avLst>
              <a:gd name="adj1" fmla="val -170527"/>
              <a:gd name="adj2" fmla="val 3214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utiger 47LightCn"/>
              </a:rPr>
              <a:t>0 = normal ex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080" y="958320"/>
            <a:ext cx="2749680" cy="1598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Login Script</a:t>
            </a:r>
            <a:br>
              <a:rPr sz="3800"/>
            </a:b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Using a </a:t>
            </a:r>
            <a:br>
              <a:rPr sz="3800"/>
            </a:b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cke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039000" y="628560"/>
            <a:ext cx="3555360" cy="6543720"/>
            <a:chOff x="6039000" y="628560"/>
            <a:chExt cx="3555360" cy="6543720"/>
          </a:xfrm>
        </p:grpSpPr>
        <p:sp>
          <p:nvSpPr>
            <p:cNvPr id="323" name=""/>
            <p:cNvSpPr/>
            <p:nvPr/>
          </p:nvSpPr>
          <p:spPr>
            <a:xfrm>
              <a:off x="6819480" y="847800"/>
              <a:ext cx="2269800" cy="6039000"/>
            </a:xfrm>
            <a:custGeom>
              <a:avLst/>
              <a:gdLst/>
              <a:ahLst/>
              <a:rect l="l" t="t" r="r" b="b"/>
              <a:pathLst>
                <a:path w="1274" h="3815">
                  <a:moveTo>
                    <a:pt x="1237" y="0"/>
                  </a:moveTo>
                  <a:cubicBezTo>
                    <a:pt x="1209" y="533"/>
                    <a:pt x="1274" y="2581"/>
                    <a:pt x="1068" y="3198"/>
                  </a:cubicBezTo>
                  <a:cubicBezTo>
                    <a:pt x="862" y="3815"/>
                    <a:pt x="223" y="3597"/>
                    <a:pt x="0" y="370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58000" y="628560"/>
              <a:ext cx="936360" cy="2192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o_so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39000" y="6886800"/>
              <a:ext cx="1561680" cy="285480"/>
            </a:xfrm>
            <a:prstGeom prst="wedgeRectCallout">
              <a:avLst>
                <a:gd name="adj1" fmla="val -215648"/>
                <a:gd name="adj2" fmla="val 33333"/>
              </a:avLst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Non-zero = err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93600" y="4702320"/>
            <a:ext cx="3627360" cy="2184120"/>
            <a:chOff x="93600" y="4702320"/>
            <a:chExt cx="3627360" cy="218412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93600" y="5033880"/>
              <a:ext cx="3627360" cy="1852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328" name=""/>
            <p:cNvSpPr/>
            <p:nvPr/>
          </p:nvSpPr>
          <p:spPr>
            <a:xfrm>
              <a:off x="93600" y="5651640"/>
              <a:ext cx="101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. . 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2400" y="4702320"/>
              <a:ext cx="1820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Frutiger 47LightCn"/>
                </a:rPr>
                <a:t>Parent of login scri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4000" y="1020600"/>
            <a:ext cx="3641760" cy="773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Order Collection</a:t>
            </a:r>
            <a:br>
              <a:rPr sz="3800"/>
            </a:br>
            <a:r>
              <a:rPr b="0" lang="en-US" sz="2500" spc="-1" strike="noStrike">
                <a:solidFill>
                  <a:srgbClr val="005d9c"/>
                </a:solidFill>
                <a:latin typeface="Frutiger 67BoldCn"/>
              </a:rPr>
              <a:t>Data stream</a:t>
            </a:r>
            <a:endParaRPr b="0" lang="en-US" sz="25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31" name=""/>
          <p:cNvSpPr/>
          <p:nvPr/>
        </p:nvSpPr>
        <p:spPr>
          <a:xfrm>
            <a:off x="5450040" y="3311640"/>
            <a:ext cx="4005000" cy="552240"/>
          </a:xfrm>
          <a:prstGeom prst="wedgeRectCallout">
            <a:avLst>
              <a:gd name="adj1" fmla="val -151902"/>
              <a:gd name="adj2" fmla="val 1264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Between each request, the script decides what to ask for next, based on previously received da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10040" y="6192720"/>
            <a:ext cx="4865400" cy="552600"/>
          </a:xfrm>
          <a:prstGeom prst="wedgeRectCallout">
            <a:avLst>
              <a:gd name="adj1" fmla="val -96763"/>
              <a:gd name="adj2" fmla="val -4233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fter collection, separate the charge codes into: Those being removed, those being added, those that do not chang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409680" y="1798560"/>
            <a:ext cx="8921520" cy="4342320"/>
            <a:chOff x="409680" y="1798560"/>
            <a:chExt cx="8921520" cy="4342320"/>
          </a:xfrm>
        </p:grpSpPr>
        <p:sp>
          <p:nvSpPr>
            <p:cNvPr id="334" name=""/>
            <p:cNvSpPr/>
            <p:nvPr/>
          </p:nvSpPr>
          <p:spPr>
            <a:xfrm>
              <a:off x="409680" y="2301840"/>
              <a:ext cx="85068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9680" y="3078000"/>
              <a:ext cx="7151760" cy="23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9680" y="4603680"/>
              <a:ext cx="687708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9680" y="5365800"/>
              <a:ext cx="2400120" cy="22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680" y="3838680"/>
              <a:ext cx="6500880" cy="23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9680" y="1798560"/>
              <a:ext cx="8921520" cy="43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Starting the order collection loo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Checking for regular orders in Comm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NEX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 0000423079 BUS;CDR;CHG; . . . ;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ORDER_STATUS~,~CHANGE_TYPE~,~ACCOUNT_STATUS~,~SUPRT_SUPERTYPE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H,I,,NEW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ORDER_NBR~,~SERVICE_TYPE~,~ACCOUNT_NBR~,~ACCOUNT_TYPE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0000591508,RES,0000101374,PT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PHONE_NPA~,~PHONE_EXCH~,~PHONE_SUFFIX~,~PIC_TER~,~PIC_TRA~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520,642,0001,00333,00333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&gt;&gt;&gt;&gt; executing PT_setup_insta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GET DATA 0000423079+~FTR~                    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DATA=0000423079+ACWLB,R,A;CRTVXN,R,A;ACFUSC,R,A;ACSOC,N,A;ACEAS,R,A;ACUSFAZ,R,A;AC911AZ,R,A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ACFAC,R,A;AC1FR,R,A;CSUPR,R,A;$DONE$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270800" y="1096920"/>
            <a:ext cx="8330400" cy="3689280"/>
            <a:chOff x="1270800" y="1096920"/>
            <a:chExt cx="8330400" cy="3689280"/>
          </a:xfrm>
        </p:grpSpPr>
        <p:sp>
          <p:nvSpPr>
            <p:cNvPr id="341" name=""/>
            <p:cNvSpPr/>
            <p:nvPr/>
          </p:nvSpPr>
          <p:spPr>
            <a:xfrm rot="20345400">
              <a:off x="1351080" y="1670040"/>
              <a:ext cx="3073320" cy="355680"/>
            </a:xfrm>
            <a:prstGeom prst="leftArrow">
              <a:avLst>
                <a:gd name="adj1" fmla="val 50000"/>
                <a:gd name="adj2" fmla="val 21601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7000">
              <a:off x="1273320" y="2722320"/>
              <a:ext cx="3073320" cy="355320"/>
            </a:xfrm>
            <a:prstGeom prst="leftArrow">
              <a:avLst>
                <a:gd name="adj1" fmla="val 50000"/>
                <a:gd name="adj2" fmla="val 216236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"/>
            <a:stretch/>
          </p:blipFill>
          <p:spPr>
            <a:xfrm>
              <a:off x="3956040" y="1096920"/>
              <a:ext cx="5645160" cy="36892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9840" y="934920"/>
            <a:ext cx="3046320" cy="65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Validation - 1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3344760" y="1036800"/>
            <a:ext cx="5451480" cy="6135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740040" y="2184480"/>
            <a:ext cx="0" cy="1666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9200" y="1595520"/>
            <a:ext cx="2772000" cy="873000"/>
          </a:xfrm>
          <a:prstGeom prst="wedgeRectCallout">
            <a:avLst>
              <a:gd name="adj1" fmla="val 69254"/>
              <a:gd name="adj2" fmla="val 85657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t least one of these fields must not be blank. If they are all blank, the script will fail the ord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9200" y="3078000"/>
            <a:ext cx="2613240" cy="1818000"/>
          </a:xfrm>
          <a:prstGeom prst="wedgeRectCallout">
            <a:avLst>
              <a:gd name="adj1" fmla="val 82444"/>
              <a:gd name="adj2" fmla="val -305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0" anchor="t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Adding or removing packages of features often puts the same charge code in both the list to remove and the list to ad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Only want to change elements that are unique to each list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9200" y="6645240"/>
            <a:ext cx="1830600" cy="527040"/>
          </a:xfrm>
          <a:prstGeom prst="wedgeRectCallout">
            <a:avLst>
              <a:gd name="adj1" fmla="val 124861"/>
              <a:gd name="adj2" fmla="val 20833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Page 7, and already up to 20 footnotes!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9840" y="934920"/>
            <a:ext cx="2975040" cy="65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Validation - 2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51" name=""/>
          <p:cNvSpPr/>
          <p:nvPr/>
        </p:nvSpPr>
        <p:spPr>
          <a:xfrm>
            <a:off x="260280" y="4272120"/>
            <a:ext cx="2239920" cy="888840"/>
          </a:xfrm>
          <a:prstGeom prst="wedgeRectCallout">
            <a:avLst>
              <a:gd name="adj1" fmla="val 73513"/>
              <a:gd name="adj2" fmla="val -110379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Establishing toll restriction settings usually requires evaluating multiple factor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60280" y="5491080"/>
            <a:ext cx="2149560" cy="1595520"/>
          </a:xfrm>
          <a:prstGeom prst="wedgeRectCallout">
            <a:avLst>
              <a:gd name="adj1" fmla="val 78435"/>
              <a:gd name="adj2" fmla="val 5921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Some switches require two updates: to apply the physical attribute to the line, and to update a routing table within the switch for that number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997360" y="361800"/>
            <a:ext cx="6499080" cy="6705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60280" y="1717560"/>
            <a:ext cx="2149560" cy="863640"/>
          </a:xfrm>
          <a:prstGeom prst="wedgeRectCallout">
            <a:avLst>
              <a:gd name="adj1" fmla="val 95050"/>
              <a:gd name="adj2" fmla="val -13601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2736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Frutiger 47LightCn"/>
              </a:rPr>
              <a:t>Resolve the final value from multiple flags that have been set previously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86240" y="1604880"/>
            <a:ext cx="0" cy="82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00200" y="6931080"/>
            <a:ext cx="29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9840" y="960120"/>
            <a:ext cx="2620800" cy="600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Translat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0480" y="1544760"/>
            <a:ext cx="5879880" cy="4114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0480" y="2193840"/>
            <a:ext cx="1809720" cy="325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80" y="3017880"/>
            <a:ext cx="2979720" cy="528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480" y="4043520"/>
            <a:ext cx="2220840" cy="711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21440" y="1015920"/>
            <a:ext cx="2340000" cy="528840"/>
          </a:xfrm>
          <a:prstGeom prst="wedgeRectCallout">
            <a:avLst>
              <a:gd name="adj1" fmla="val -230486"/>
              <a:gd name="adj2" fmla="val 200638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Initialize fields to accumulate command strin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80200" y="1727280"/>
            <a:ext cx="2521080" cy="528480"/>
          </a:xfrm>
          <a:prstGeom prst="wedgeRectCallout">
            <a:avLst>
              <a:gd name="adj1" fmla="val -177912"/>
              <a:gd name="adj2" fmla="val 244870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Create static portion of the command, with phone numb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0" y="3414600"/>
            <a:ext cx="2100240" cy="762120"/>
          </a:xfrm>
          <a:prstGeom prst="wedgeRectCallout">
            <a:avLst>
              <a:gd name="adj1" fmla="val -88254"/>
              <a:gd name="adj2" fmla="val 83777"/>
            </a:avLst>
          </a:prstGeo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utiger 47LightCn"/>
              </a:rPr>
              <a:t>Execute scripts to create &amp; accumulate command strings from order cod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520560" y="3089160"/>
            <a:ext cx="9080640" cy="4226040"/>
            <a:chOff x="520560" y="3089160"/>
            <a:chExt cx="9080640" cy="422604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5270400" y="3089160"/>
              <a:ext cx="4330800" cy="42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520560" y="5853240"/>
              <a:ext cx="1760760" cy="792000"/>
            </a:xfrm>
            <a:prstGeom prst="wedgeRectCallout">
              <a:avLst>
                <a:gd name="adj1" fmla="val 272347"/>
                <a:gd name="adj2" fmla="val -304699"/>
              </a:avLst>
            </a:prstGeom>
            <a:solidFill>
              <a:srgbClr val="ffff99"/>
            </a:solidFill>
            <a:ln w="19080">
              <a:solidFill>
                <a:srgbClr val="005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240" rIns="10224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Frutiger 47LightCn"/>
                </a:rPr>
                <a:t>For call waiting, add these two EDITSUB command segm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90640" y="6248520"/>
              <a:ext cx="2100600" cy="792000"/>
            </a:xfrm>
            <a:prstGeom prst="wedgeRectCallout">
              <a:avLst>
                <a:gd name="adj1" fmla="val 73490"/>
                <a:gd name="adj2" fmla="val -180342"/>
              </a:avLst>
            </a:prstGeom>
            <a:solidFill>
              <a:srgbClr val="ffff99"/>
            </a:solidFill>
            <a:ln w="19080">
              <a:solidFill>
                <a:srgbClr val="005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2240" rIns="10224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Frutiger 47LightCn"/>
                </a:rPr>
                <a:t>For this package, add all of these EDITSUB and CANCLASS comma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81560" y="3414600"/>
              <a:ext cx="3670200" cy="42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1280" y="4419720"/>
              <a:ext cx="4170240" cy="18288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920" y="985680"/>
            <a:ext cx="5861160" cy="549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witch Update – Using Java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768240" y="1922400"/>
            <a:ext cx="7934400" cy="5274360"/>
            <a:chOff x="768240" y="1922400"/>
            <a:chExt cx="7934400" cy="5274360"/>
          </a:xfrm>
        </p:grpSpPr>
        <p:sp>
          <p:nvSpPr>
            <p:cNvPr id="373" name=""/>
            <p:cNvSpPr/>
            <p:nvPr/>
          </p:nvSpPr>
          <p:spPr>
            <a:xfrm>
              <a:off x="768240" y="1922400"/>
              <a:ext cx="7934400" cy="52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ocket &lt;S3_127001&gt; connected to destination (connect callback)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Javawrapper read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class=net.commsoft.ems.MetaSwitchEMS | method=net.commsoft.ems.MetaSwitchEMS | instance=EMS3 | param=10.254.29.88 | param=commsoft | param=Com1Soft | param=Clift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 successfully construc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log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Voicemail | param=9288654423 | param=928865624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WaitingWithCallerID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ingNameDelivery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ingNumberDelivery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enableCallWaiting | param=92886544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EMS3.logou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</a:rPr>
                <a:t>Succes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8240" y="2697120"/>
              <a:ext cx="7934400" cy="41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8240" y="3589200"/>
              <a:ext cx="1023840" cy="24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68240" y="4114800"/>
              <a:ext cx="513720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8240" y="4606920"/>
              <a:ext cx="4680000" cy="2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240" y="5116680"/>
              <a:ext cx="435456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8240" y="5626080"/>
              <a:ext cx="453708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8240" y="6127920"/>
              <a:ext cx="367020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8240" y="6627960"/>
              <a:ext cx="112716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352520" y="985680"/>
            <a:ext cx="8248680" cy="1698120"/>
            <a:chOff x="1352520" y="985680"/>
            <a:chExt cx="8248680" cy="1698120"/>
          </a:xfrm>
        </p:grpSpPr>
        <p:sp>
          <p:nvSpPr>
            <p:cNvPr id="383" name=""/>
            <p:cNvSpPr/>
            <p:nvPr/>
          </p:nvSpPr>
          <p:spPr>
            <a:xfrm flipV="1" rot="5400000">
              <a:off x="1338840" y="1764720"/>
              <a:ext cx="932040" cy="905040"/>
            </a:xfrm>
            <a:custGeom>
              <a:avLst/>
              <a:gdLst>
                <a:gd name="textAreaLeft" fmla="*/ 0 w 932040"/>
                <a:gd name="textAreaRight" fmla="*/ 932400 w 932040"/>
                <a:gd name="textAreaTop" fmla="*/ 360 h 905040"/>
                <a:gd name="textAreaBottom" fmla="*/ 905760 h 90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2257560" y="985680"/>
              <a:ext cx="7343640" cy="15526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080" y="964800"/>
            <a:ext cx="2419560" cy="600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Conclus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12560" y="2138040"/>
            <a:ext cx="8988120" cy="4205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7000"/>
          </a:bodyPr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Intelligent Automation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Based on the combined knowledge and experience of the user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Flexible 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Many processes/devices/requirements can be accommodated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Easily Maintained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Change or add a script to enhance functionality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marL="322920" indent="-32292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Expandable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42680" indent="-262080"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Add script processes and transaction files to expand system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6480" y="1198440"/>
            <a:ext cx="5326200" cy="58881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My APL Background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Product Histo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The Problem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Solution and Benefits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APL Architecture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Application Design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Implementation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ool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Script command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Examples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ata collec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Valida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Translation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853920" indent="-30132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  <a:ea typeface="Times New Roman"/>
              </a:rPr>
              <a:t>Device update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marL="371520" indent="-37152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  <a:ea typeface="Times New Roman"/>
              </a:rPr>
              <a:t>Future Developmen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9480" y="954000"/>
            <a:ext cx="1530360" cy="612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Topic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600" y="969480"/>
            <a:ext cx="4461120" cy="57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Future Development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0680" y="1492200"/>
            <a:ext cx="9220320" cy="5670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entralize rules, relationships and transla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Reduce implementation time and maintenance effor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Save scripts in editable form and as an APL function: </a:t>
            </a:r>
            <a:r>
              <a:rPr b="0" lang="en-US" sz="2200" spc="-1" strike="noStrike">
                <a:solidFill>
                  <a:srgbClr val="005d9c"/>
                </a:solidFill>
                <a:latin typeface="Frutiger 57Cn"/>
              </a:rPr>
              <a:t>Improve system performance</a:t>
            </a:r>
            <a:endParaRPr b="0" lang="en-US" sz="22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Retain previous versions of scripts for easy recover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More controls for a multi-developer environment, e.g. open in read only mode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se SQAPL for direct database acces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Pop-up windows on logged-in client PCs for error or performance informa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ommands to read data from and write data to Excel file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Extend syntax of "if" command: "and", "or" combinations, sub-string execution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if Field = 17 then </a:t>
            </a:r>
            <a:r>
              <a:rPr b="1" lang="en-US" sz="1900" spc="-1" strike="noStrike">
                <a:solidFill>
                  <a:srgbClr val="000000"/>
                </a:solidFill>
                <a:latin typeface="Frutiger 57Cn"/>
              </a:rPr>
              <a:t>{create String as String,” some other data”}</a:t>
            </a: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 else goto Get_Nex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565560" indent="-205560">
              <a:lnSpc>
                <a:spcPct val="90000"/>
              </a:lnSpc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If Feature="EAS" </a:t>
            </a:r>
            <a:r>
              <a:rPr b="1" lang="en-US" sz="1900" spc="-1" strike="noStrike">
                <a:solidFill>
                  <a:srgbClr val="000000"/>
                </a:solidFill>
                <a:latin typeface="Frutiger 57Cn"/>
              </a:rPr>
              <a:t>and Exchange=624</a:t>
            </a: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 then goto Extended_service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Web server functionalit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FTP command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ser Profile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Move to 11.1 for Congo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205560" indent="-205560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Include more .NET functionality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8960" y="990360"/>
            <a:ext cx="5391000" cy="54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me TC / VTC Customers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09680" y="6654960"/>
            <a:ext cx="2219400" cy="53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169920" y="3576600"/>
            <a:ext cx="1560600" cy="84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169920" y="2498760"/>
            <a:ext cx="2041560" cy="87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3" name=""/>
          <p:cNvGraphicFramePr/>
          <p:nvPr/>
        </p:nvGraphicFramePr>
        <p:xfrm>
          <a:off x="27000" y="1541520"/>
          <a:ext cx="2359080" cy="83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0" y="1541520"/>
                    <a:ext cx="23590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5" name="" descr=""/>
          <p:cNvPicPr/>
          <p:nvPr/>
        </p:nvPicPr>
        <p:blipFill>
          <a:blip r:embed="rId6"/>
          <a:stretch/>
        </p:blipFill>
        <p:spPr>
          <a:xfrm>
            <a:off x="182520" y="5518080"/>
            <a:ext cx="1160640" cy="792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6" name="" descr=""/>
          <p:cNvPicPr/>
          <p:nvPr/>
        </p:nvPicPr>
        <p:blipFill>
          <a:blip r:embed="rId7"/>
          <a:srcRect l="21267" t="0" r="29367" b="35309"/>
          <a:stretch/>
        </p:blipFill>
        <p:spPr>
          <a:xfrm>
            <a:off x="1652760" y="5213520"/>
            <a:ext cx="1825560" cy="671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1933560" y="3600360"/>
            <a:ext cx="1469880" cy="793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8" name="" descr=""/>
          <p:cNvPicPr/>
          <p:nvPr/>
        </p:nvPicPr>
        <p:blipFill>
          <a:blip r:embed="rId9"/>
          <a:stretch/>
        </p:blipFill>
        <p:spPr>
          <a:xfrm>
            <a:off x="4030560" y="4734000"/>
            <a:ext cx="1692360" cy="72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9" name="" descr=""/>
          <p:cNvPicPr/>
          <p:nvPr/>
        </p:nvPicPr>
        <p:blipFill>
          <a:blip r:embed="rId10"/>
          <a:srcRect l="24411" t="34909" r="35185" b="32749"/>
          <a:stretch/>
        </p:blipFill>
        <p:spPr>
          <a:xfrm>
            <a:off x="2413080" y="1541520"/>
            <a:ext cx="1841400" cy="93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0" name="" descr="Champlain Telephone Company"/>
          <p:cNvPicPr/>
          <p:nvPr/>
        </p:nvPicPr>
        <p:blipFill>
          <a:blip r:embed="rId11"/>
          <a:stretch/>
        </p:blipFill>
        <p:spPr>
          <a:xfrm>
            <a:off x="2373480" y="2616120"/>
            <a:ext cx="1760400" cy="6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12"/>
          <a:stretch/>
        </p:blipFill>
        <p:spPr>
          <a:xfrm>
            <a:off x="1812960" y="5935680"/>
            <a:ext cx="2722680" cy="66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2" name="logo" descr=""/>
          <p:cNvPicPr/>
          <p:nvPr/>
        </p:nvPicPr>
        <p:blipFill>
          <a:blip r:embed="rId13"/>
          <a:stretch/>
        </p:blipFill>
        <p:spPr>
          <a:xfrm>
            <a:off x="5602320" y="2325600"/>
            <a:ext cx="2251080" cy="954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3" name="" descr=""/>
          <p:cNvPicPr/>
          <p:nvPr/>
        </p:nvPicPr>
        <p:blipFill>
          <a:blip r:embed="rId14"/>
          <a:stretch/>
        </p:blipFill>
        <p:spPr>
          <a:xfrm>
            <a:off x="3606840" y="3724200"/>
            <a:ext cx="1469880" cy="547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4" name="" descr=""/>
          <p:cNvPicPr/>
          <p:nvPr/>
        </p:nvPicPr>
        <p:blipFill>
          <a:blip r:embed="rId15"/>
          <a:stretch/>
        </p:blipFill>
        <p:spPr>
          <a:xfrm>
            <a:off x="4395960" y="1541520"/>
            <a:ext cx="1530000" cy="64908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6"/>
          <a:stretch/>
        </p:blipFill>
        <p:spPr>
          <a:xfrm>
            <a:off x="7626240" y="1066680"/>
            <a:ext cx="1911600" cy="60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6" name="" descr=""/>
          <p:cNvPicPr/>
          <p:nvPr/>
        </p:nvPicPr>
        <p:blipFill>
          <a:blip r:embed="rId17"/>
          <a:stretch/>
        </p:blipFill>
        <p:spPr>
          <a:xfrm>
            <a:off x="5280120" y="3414600"/>
            <a:ext cx="1226880" cy="1247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7" name="" descr=""/>
          <p:cNvPicPr/>
          <p:nvPr/>
        </p:nvPicPr>
        <p:blipFill>
          <a:blip r:embed="rId18"/>
          <a:stretch/>
        </p:blipFill>
        <p:spPr>
          <a:xfrm>
            <a:off x="6045120" y="1285920"/>
            <a:ext cx="1490760" cy="636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19"/>
          <a:stretch/>
        </p:blipFill>
        <p:spPr>
          <a:xfrm>
            <a:off x="6710400" y="3532320"/>
            <a:ext cx="1420920" cy="931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20"/>
          <a:stretch/>
        </p:blipFill>
        <p:spPr>
          <a:xfrm>
            <a:off x="8335800" y="3540240"/>
            <a:ext cx="1200240" cy="914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21"/>
          <a:stretch/>
        </p:blipFill>
        <p:spPr>
          <a:xfrm>
            <a:off x="4335480" y="2568600"/>
            <a:ext cx="1090440" cy="711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22"/>
          <a:stretch/>
        </p:blipFill>
        <p:spPr>
          <a:xfrm>
            <a:off x="7962840" y="1962000"/>
            <a:ext cx="1600200" cy="1230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3"/>
          <a:stretch/>
        </p:blipFill>
        <p:spPr>
          <a:xfrm>
            <a:off x="5956200" y="4854600"/>
            <a:ext cx="2119320" cy="457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3" name="" descr=""/>
          <p:cNvPicPr/>
          <p:nvPr/>
        </p:nvPicPr>
        <p:blipFill>
          <a:blip r:embed="rId24"/>
          <a:stretch/>
        </p:blipFill>
        <p:spPr>
          <a:xfrm>
            <a:off x="5253120" y="6453360"/>
            <a:ext cx="1919160" cy="723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5"/>
          <a:stretch/>
        </p:blipFill>
        <p:spPr>
          <a:xfrm>
            <a:off x="5086440" y="5564160"/>
            <a:ext cx="1828800" cy="827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26"/>
          <a:srcRect l="0" t="0" r="5869" b="0"/>
          <a:stretch/>
        </p:blipFill>
        <p:spPr>
          <a:xfrm>
            <a:off x="8346960" y="4557600"/>
            <a:ext cx="1041480" cy="898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27"/>
          <a:stretch/>
        </p:blipFill>
        <p:spPr>
          <a:xfrm>
            <a:off x="7445520" y="5546880"/>
            <a:ext cx="1942920" cy="73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28"/>
          <a:stretch/>
        </p:blipFill>
        <p:spPr>
          <a:xfrm>
            <a:off x="182520" y="4549680"/>
            <a:ext cx="3530520" cy="550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29"/>
          <a:stretch/>
        </p:blipFill>
        <p:spPr>
          <a:xfrm>
            <a:off x="3181320" y="6654960"/>
            <a:ext cx="1895400" cy="581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713040" y="5564160"/>
            <a:ext cx="822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69960" y="0"/>
            <a:ext cx="3381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4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7600" spc="-1" strike="noStrike">
                <a:solidFill>
                  <a:srgbClr val="ffff00"/>
                </a:solidFill>
                <a:latin typeface="Frutiger 47LightCn"/>
              </a:rPr>
              <a:t>Thank You!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609480" y="2855880"/>
            <a:ext cx="3570480" cy="4073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5526000" y="3260880"/>
            <a:ext cx="3249720" cy="405432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5041800" y="30240"/>
            <a:ext cx="4159080" cy="3169800"/>
            <a:chOff x="5041800" y="30240"/>
            <a:chExt cx="4159080" cy="3169800"/>
          </a:xfrm>
        </p:grpSpPr>
        <p:pic>
          <p:nvPicPr>
            <p:cNvPr id="425" name="" descr=""/>
            <p:cNvPicPr/>
            <p:nvPr/>
          </p:nvPicPr>
          <p:blipFill>
            <a:blip r:embed="rId3"/>
            <a:stretch/>
          </p:blipFill>
          <p:spPr>
            <a:xfrm>
              <a:off x="5041800" y="30240"/>
              <a:ext cx="4159080" cy="31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041800" y="2793960"/>
              <a:ext cx="4154040" cy="32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t’s probably for me. I have call forwarding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4440" y="2499840"/>
            <a:ext cx="8632800" cy="3800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0000"/>
          </a:bodyPr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79: University of Rochester, Rochester, NY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lvl="1" marL="768240" indent="-271080">
              <a:spcBef>
                <a:spcPts val="72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utiger 57Cn"/>
              </a:rPr>
              <a:t>DEC APL/SF</a:t>
            </a:r>
            <a:endParaRPr b="0" lang="en-US" sz="2900" spc="-1" strike="noStrike">
              <a:solidFill>
                <a:srgbClr val="000000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80-1981: Xerox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lvl="1" marL="768240" indent="-271080">
              <a:spcBef>
                <a:spcPts val="72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Frutiger 57Cn"/>
              </a:rPr>
              <a:t>In-house Sharp APL support group</a:t>
            </a:r>
            <a:endParaRPr b="0" lang="en-US" sz="2900" spc="-1" strike="noStrike">
              <a:solidFill>
                <a:srgbClr val="000000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81-1991: IP Sharp’s Rochester office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  <a:p>
            <a:pPr marL="334080" indent="-334080">
              <a:spcBef>
                <a:spcPts val="85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5d9c"/>
                </a:solidFill>
                <a:latin typeface="Frutiger 57Cn"/>
              </a:rPr>
              <a:t>1991-1993: Consulting for SAPL in-house clients</a:t>
            </a:r>
            <a:endParaRPr b="0" lang="en-US" sz="3400" spc="-1" strike="noStrike">
              <a:solidFill>
                <a:srgbClr val="005d9c"/>
              </a:solidFill>
              <a:latin typeface="Frutiger 57C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39600" y="953640"/>
            <a:ext cx="2611440" cy="6066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Background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pic>
        <p:nvPicPr>
          <p:cNvPr id="107" name="Polivka2" descr=""/>
          <p:cNvPicPr/>
          <p:nvPr/>
        </p:nvPicPr>
        <p:blipFill>
          <a:blip r:embed="rId1"/>
          <a:stretch/>
        </p:blipFill>
        <p:spPr>
          <a:xfrm>
            <a:off x="6113520" y="973080"/>
            <a:ext cx="3459240" cy="3911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080" y="983880"/>
            <a:ext cx="3440160" cy="544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Product History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680" y="1642680"/>
            <a:ext cx="9391680" cy="2776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2000"/>
          </a:bodyPr>
          <a:p>
            <a:pPr marL="341640" indent="-34164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1992-2001: The Hutton Co. - The Connection (TC)</a:t>
            </a:r>
            <a:endParaRPr b="0" lang="en-US" sz="2600" spc="-1" strike="noStrike">
              <a:solidFill>
                <a:srgbClr val="005d9c"/>
              </a:solidFill>
              <a:latin typeface="Frutiger 57Cn"/>
            </a:endParaRPr>
          </a:p>
          <a:p>
            <a:pPr lvl="1" marL="785520" indent="-27720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Target market: small &amp; medium telephone companies (up to about 500,000 lines)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Developed using Dyalog V 6 in SCO Unix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Text interface using Quad SM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From 1993 through 2000, installed in 30-35 phone compani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Continues to be used in about 20 companies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1999: Hutton Co. sold and renamed to “Connexn Technologies”</a:t>
            </a:r>
            <a:endParaRPr b="0" lang="en-US" sz="21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10" name=""/>
          <p:cNvSpPr/>
          <p:nvPr/>
        </p:nvSpPr>
        <p:spPr>
          <a:xfrm>
            <a:off x="85680" y="4710240"/>
            <a:ext cx="7524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4000"/>
          </a:bodyPr>
          <a:p>
            <a:pPr marL="311760" indent="-311760">
              <a:lnSpc>
                <a:spcPct val="100000"/>
              </a:lnSpc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600" spc="-1" strike="noStrike">
                <a:solidFill>
                  <a:srgbClr val="005d9c"/>
                </a:solidFill>
                <a:latin typeface="Frutiger 57Cn"/>
              </a:rPr>
              <a:t>2002-Present: CommSoft – Visual TC (VTC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Dyalog V 10 in Windows and Linux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Client-server, with fully graphic user interfa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7 installations, 2 underway, and 2 others planned for next ye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5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utiger 57Cn"/>
              </a:rPr>
              <a:t>2005: CommSoft buys The Conne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080" y="966960"/>
            <a:ext cx="2706480" cy="582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Problem #1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" y="1508040"/>
            <a:ext cx="9317160" cy="2581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92000"/>
          </a:bodyPr>
          <a:p>
            <a:pPr marL="341640" indent="-341640">
              <a:lnSpc>
                <a:spcPct val="9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Order systems can’t talk to switches &amp; other system devices</a:t>
            </a:r>
            <a:endParaRPr b="0" lang="en-US" sz="3000" spc="-1" strike="noStrike">
              <a:solidFill>
                <a:srgbClr val="005d9c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Most interfaces designed for people, not machine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1" marL="785520" indent="-277200">
              <a:lnSpc>
                <a:spcPct val="9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Each device has its own specific data requirements</a:t>
            </a:r>
            <a:endParaRPr b="0" lang="en-US" sz="2500" spc="-1" strike="noStrike">
              <a:solidFill>
                <a:srgbClr val="000000"/>
              </a:solidFill>
              <a:latin typeface="Frutiger 57Cn"/>
            </a:endParaRPr>
          </a:p>
          <a:p>
            <a:pPr lvl="2" marL="1118520" indent="-221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47LightCn"/>
              </a:rPr>
              <a:t>Order system knows Call Forwarding No Answer as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 “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SE672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2" marL="1118520" indent="-221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47LightCn"/>
              </a:rPr>
              <a:t>Switch needs:</a:t>
            </a:r>
            <a:r>
              <a:rPr b="0" lang="en-US" sz="2100" spc="-1" strike="noStrike">
                <a:solidFill>
                  <a:srgbClr val="000000"/>
                </a:solidFill>
                <a:latin typeface="Frutiger 47LightC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utiger 47LightCn"/>
            </a:endParaRPr>
          </a:p>
          <a:p>
            <a:pPr lvl="2" marL="111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O $ 5856245167 CFDA N NSCR 1 28 FIXRING 5184317564 $ Y</a:t>
            </a:r>
            <a:endParaRPr b="0" lang="en-US" sz="1700" spc="-1" strike="noStrike">
              <a:solidFill>
                <a:srgbClr val="000000"/>
              </a:solidFill>
              <a:latin typeface="Frutiger 47LightCn"/>
            </a:endParaRPr>
          </a:p>
        </p:txBody>
      </p:sp>
      <p:sp>
        <p:nvSpPr>
          <p:cNvPr id="113" name=""/>
          <p:cNvSpPr/>
          <p:nvPr/>
        </p:nvSpPr>
        <p:spPr>
          <a:xfrm>
            <a:off x="46080" y="4156200"/>
            <a:ext cx="5973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Which leads to Problem #2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773520" y="4738680"/>
            <a:ext cx="5829120" cy="2585520"/>
            <a:chOff x="3773520" y="4738680"/>
            <a:chExt cx="5829120" cy="25855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773520" y="4738680"/>
              <a:ext cx="5829120" cy="258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"/>
            <p:cNvGrpSpPr/>
            <p:nvPr/>
          </p:nvGrpSpPr>
          <p:grpSpPr>
            <a:xfrm>
              <a:off x="8202240" y="6155640"/>
              <a:ext cx="1228320" cy="1111680"/>
              <a:chOff x="8202240" y="6155640"/>
              <a:chExt cx="1228320" cy="11116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36960" y="6155640"/>
                <a:ext cx="716760" cy="66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8202240" y="6774480"/>
                <a:ext cx="122832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Frutiger 57Cn"/>
                  </a:rPr>
                  <a:t>Internet Servic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016160" y="6235920"/>
              <a:ext cx="1086840" cy="764280"/>
              <a:chOff x="4016160" y="6235920"/>
              <a:chExt cx="1086840" cy="764280"/>
            </a:xfrm>
          </p:grpSpPr>
          <p:pic>
            <p:nvPicPr>
              <p:cNvPr id="1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016160" y="6235920"/>
                <a:ext cx="1086840" cy="76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4281120" y="6447240"/>
                <a:ext cx="77508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Switch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270640" y="5115960"/>
              <a:ext cx="1091880" cy="794520"/>
              <a:chOff x="8270640" y="5115960"/>
              <a:chExt cx="1091880" cy="794520"/>
            </a:xfrm>
          </p:grpSpPr>
          <p:pic>
            <p:nvPicPr>
              <p:cNvPr id="12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270640" y="5115960"/>
                <a:ext cx="1091880" cy="79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8598600" y="5228280"/>
                <a:ext cx="672840" cy="55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Voic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500" spc="-1" strike="noStrike">
                    <a:solidFill>
                      <a:srgbClr val="ffffff"/>
                    </a:solidFill>
                    <a:latin typeface="Frutiger 57Cn"/>
                  </a:rPr>
                  <a:t>Mail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868560" y="5031720"/>
              <a:ext cx="1345680" cy="1143360"/>
              <a:chOff x="3868560" y="5031720"/>
              <a:chExt cx="1345680" cy="11433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58720" y="5031720"/>
                <a:ext cx="76464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3868560" y="5682240"/>
                <a:ext cx="134568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240" bIns="4824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66960"/>
                    <a:tab algn="l" pos="1933560"/>
                    <a:tab algn="l" pos="2900520"/>
                    <a:tab algn="l" pos="3867120"/>
                    <a:tab algn="l" pos="4834080"/>
                    <a:tab algn="l" pos="5800680"/>
                    <a:tab algn="l" pos="6767640"/>
                    <a:tab algn="l" pos="7734240"/>
                    <a:tab algn="l" pos="8701200"/>
                    <a:tab algn="l" pos="9667800"/>
                    <a:tab algn="l" pos="1063476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Frutiger 57Cn"/>
                  </a:rPr>
                  <a:t>Cable TV Servic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28" name="" descr=""/>
            <p:cNvPicPr/>
            <p:nvPr/>
          </p:nvPicPr>
          <p:blipFill>
            <a:blip r:embed="rId6"/>
            <a:stretch/>
          </p:blipFill>
          <p:spPr>
            <a:xfrm>
              <a:off x="5611680" y="6175800"/>
              <a:ext cx="969480" cy="88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876720" y="5068800"/>
              <a:ext cx="9316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8"/>
            <a:stretch/>
          </p:blipFill>
          <p:spPr>
            <a:xfrm>
              <a:off x="5611680" y="5068800"/>
              <a:ext cx="969480" cy="88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6876720" y="6175800"/>
              <a:ext cx="931680" cy="88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 flipH="1">
              <a:off x="4923720" y="5511240"/>
              <a:ext cx="68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103000" y="6620040"/>
              <a:ext cx="50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08760" y="6618600"/>
              <a:ext cx="62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08760" y="5511240"/>
              <a:ext cx="4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6080" y="4660920"/>
            <a:ext cx="81360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84000"/>
          </a:bodyPr>
          <a:p>
            <a:pPr marL="311760" indent="-311760">
              <a:lnSpc>
                <a:spcPct val="10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005d9c"/>
                </a:solidFill>
                <a:latin typeface="Frutiger 57Cn"/>
              </a:rPr>
              <a:t>Completing an order requires manual interven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120" indent="-253080">
              <a:lnSpc>
                <a:spcPct val="100000"/>
              </a:lnSpc>
              <a:spcBef>
                <a:spcPts val="624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utiger 57Cn"/>
              </a:rPr>
              <a:t>Print the order, type the commands into each dev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Dedicated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Time consu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Order may not be complete for several d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1320" indent="-202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rutiger 57Cn"/>
              </a:rPr>
              <a:t>Error pr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200" y="1018800"/>
            <a:ext cx="2128680" cy="490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Solutio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160" y="1452600"/>
            <a:ext cx="9171000" cy="2890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9000"/>
          </a:bodyPr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Application platform, or development environment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Provides a set of tools with which to create custom applications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Generic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ommands, data structures, application design are independent of any indust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marL="330480" indent="-33048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Flexible</a:t>
            </a:r>
            <a:endParaRPr b="0" lang="en-US" sz="2500" spc="-1" strike="noStrike">
              <a:solidFill>
                <a:srgbClr val="005d9c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More than a dozen unique applications within the telephone industry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  <a:p>
            <a:pPr lvl="1" marL="759960" indent="-26784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Connections to more than 60 different network devices: Order systems, switches, PBXs, Video &amp; Fiber management systems, Radius servers, and …</a:t>
            </a:r>
            <a:endParaRPr b="0" lang="en-US" sz="2000" spc="-1" strike="noStrike">
              <a:solidFill>
                <a:srgbClr val="000000"/>
              </a:solidFill>
              <a:latin typeface="Frutiger 57Cn"/>
            </a:endParaRPr>
          </a:p>
        </p:txBody>
      </p:sp>
      <p:sp>
        <p:nvSpPr>
          <p:cNvPr id="139" name=""/>
          <p:cNvSpPr/>
          <p:nvPr/>
        </p:nvSpPr>
        <p:spPr>
          <a:xfrm>
            <a:off x="61920" y="4543560"/>
            <a:ext cx="2071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Benefi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438360" y="2895480"/>
            <a:ext cx="6162840" cy="4419720"/>
            <a:chOff x="3438360" y="2895480"/>
            <a:chExt cx="6162840" cy="441972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438360" y="2895480"/>
              <a:ext cx="6162840" cy="441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3738600" y="3157560"/>
              <a:ext cx="5562360" cy="3894120"/>
              <a:chOff x="3738600" y="3157560"/>
              <a:chExt cx="5562360" cy="38941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8072280" y="5181840"/>
                <a:ext cx="1228680" cy="1076760"/>
                <a:chOff x="8072280" y="5181840"/>
                <a:chExt cx="1228680" cy="1076760"/>
              </a:xfrm>
            </p:grpSpPr>
            <p:pic>
              <p:nvPicPr>
                <p:cNvPr id="14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07000" y="5181840"/>
                  <a:ext cx="717120" cy="62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>
                  <a:off x="8072280" y="5765760"/>
                  <a:ext cx="1228680" cy="4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Frutiger 57Cn"/>
                    </a:rPr>
                    <a:t>Internet Servic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886200" y="5257800"/>
                <a:ext cx="1087200" cy="723960"/>
                <a:chOff x="3886200" y="5257800"/>
                <a:chExt cx="1087200" cy="72396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886200" y="5257800"/>
                  <a:ext cx="1087200" cy="72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4151880" y="5457960"/>
                  <a:ext cx="775080" cy="32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Switch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8140680" y="4197240"/>
                <a:ext cx="1091880" cy="752760"/>
                <a:chOff x="8140680" y="4197240"/>
                <a:chExt cx="1091880" cy="75276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140680" y="4197240"/>
                  <a:ext cx="1091880" cy="752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8468640" y="4302000"/>
                  <a:ext cx="672840" cy="55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Voic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500" spc="-1" strike="noStrike">
                      <a:solidFill>
                        <a:srgbClr val="ffffff"/>
                      </a:solidFill>
                      <a:latin typeface="Frutiger 57Cn"/>
                    </a:rPr>
                    <a:t>Mai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738600" y="4118040"/>
                <a:ext cx="1346040" cy="1108800"/>
                <a:chOff x="3738600" y="4118040"/>
                <a:chExt cx="1346040" cy="1108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029120" y="4118040"/>
                  <a:ext cx="765000" cy="67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3738600" y="4734000"/>
                  <a:ext cx="1346040" cy="4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840" rIns="96840" tIns="48240" bIns="482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66960"/>
                      <a:tab algn="l" pos="1933560"/>
                      <a:tab algn="l" pos="2900520"/>
                      <a:tab algn="l" pos="3867120"/>
                      <a:tab algn="l" pos="4834080"/>
                      <a:tab algn="l" pos="5800680"/>
                      <a:tab algn="l" pos="6767640"/>
                      <a:tab algn="l" pos="7734240"/>
                      <a:tab algn="l" pos="8701200"/>
                      <a:tab algn="l" pos="9667800"/>
                      <a:tab algn="l" pos="10634760"/>
                    </a:tabLst>
                  </a:pPr>
                  <a:r>
                    <a:rPr b="0" lang="en-US" sz="1300" spc="-1" strike="noStrike">
                      <a:solidFill>
                        <a:srgbClr val="000000"/>
                      </a:solidFill>
                      <a:latin typeface="Frutiger 57Cn"/>
                    </a:rPr>
                    <a:t>Cable TV Service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481720" y="5200560"/>
                <a:ext cx="9698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760" y="4152960"/>
                <a:ext cx="9320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481720" y="4152960"/>
                <a:ext cx="969840" cy="83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46760" y="5200560"/>
                <a:ext cx="932040" cy="83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flipH="1">
                <a:off x="4794120" y="4572000"/>
                <a:ext cx="687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973400" y="5621400"/>
                <a:ext cx="507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78800" y="5619960"/>
                <a:ext cx="628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78800" y="4572000"/>
                <a:ext cx="461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4763880" y="3157560"/>
                <a:ext cx="3837240" cy="3894120"/>
                <a:chOff x="4763880" y="3157560"/>
                <a:chExt cx="3837240" cy="3894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5348160" y="3687840"/>
                  <a:ext cx="2702160" cy="2709720"/>
                </a:xfrm>
                <a:prstGeom prst="line">
                  <a:avLst/>
                </a:prstGeom>
                <a:ln w="177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763880" y="3157560"/>
                  <a:ext cx="3837240" cy="3894120"/>
                </a:xfrm>
                <a:prstGeom prst="ellipse">
                  <a:avLst/>
                </a:prstGeom>
                <a:noFill/>
                <a:ln w="1778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6" name=""/>
          <p:cNvSpPr/>
          <p:nvPr/>
        </p:nvSpPr>
        <p:spPr>
          <a:xfrm>
            <a:off x="47520" y="5114880"/>
            <a:ext cx="945216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 fontScale="93000"/>
          </a:bodyPr>
          <a:p>
            <a:pPr marL="345240" indent="-3452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500" spc="-1" strike="noStrike">
                <a:solidFill>
                  <a:srgbClr val="005d9c"/>
                </a:solidFill>
                <a:latin typeface="Frutiger 57Cn"/>
              </a:rPr>
              <a:t>Automation of manual steps, which leads t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8008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Negligible error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760" indent="-2242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Any transaction not following the rules is routed for review &amp; resubmission</a:t>
            </a:r>
            <a:r>
              <a:rPr b="0" lang="en-US" sz="1900" spc="-1" strike="noStrike">
                <a:solidFill>
                  <a:srgbClr val="000000"/>
                </a:solidFill>
                <a:latin typeface="Frutiger 47LightC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280080">
              <a:lnSpc>
                <a:spcPct val="90000"/>
              </a:lnSpc>
              <a:spcBef>
                <a:spcPts val="499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Near real-time upd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760" indent="-22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7Cn"/>
              </a:rPr>
              <a:t>Often &lt; 1 minute, typically &lt; 5 min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2160" y="0"/>
          <a:ext cx="9391680" cy="729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0"/>
                    <a:ext cx="9391680" cy="729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VTC_client_1" descr=""/>
          <p:cNvPicPr/>
          <p:nvPr/>
        </p:nvPicPr>
        <p:blipFill>
          <a:blip r:embed="rId3"/>
          <a:stretch/>
        </p:blipFill>
        <p:spPr>
          <a:xfrm>
            <a:off x="4476600" y="987480"/>
            <a:ext cx="5045400" cy="606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171" name=""/>
          <p:cNvGrpSpPr/>
          <p:nvPr/>
        </p:nvGrpSpPr>
        <p:grpSpPr>
          <a:xfrm>
            <a:off x="146160" y="2570040"/>
            <a:ext cx="6188040" cy="1067040"/>
            <a:chOff x="146160" y="2570040"/>
            <a:chExt cx="6188040" cy="1067040"/>
          </a:xfrm>
        </p:grpSpPr>
        <p:sp>
          <p:nvSpPr>
            <p:cNvPr id="172" name=""/>
            <p:cNvSpPr/>
            <p:nvPr/>
          </p:nvSpPr>
          <p:spPr>
            <a:xfrm>
              <a:off x="1628640" y="3062160"/>
              <a:ext cx="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6160" y="2570040"/>
              <a:ext cx="6188040" cy="525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0" bIns="5472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dows: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'VTC_task_2.exe task_controller pnum=2' 'Hidden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ux: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'export pnum=2; mapl –c VTC_task_2.dws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09520" y="676260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 47LightC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287360" y="2000160"/>
            <a:ext cx="5875560" cy="5229360"/>
            <a:chOff x="1287360" y="2000160"/>
            <a:chExt cx="5875560" cy="5229360"/>
          </a:xfrm>
        </p:grpSpPr>
        <p:sp>
          <p:nvSpPr>
            <p:cNvPr id="176" name=""/>
            <p:cNvSpPr/>
            <p:nvPr/>
          </p:nvSpPr>
          <p:spPr>
            <a:xfrm>
              <a:off x="1287360" y="2000160"/>
              <a:ext cx="5875560" cy="5229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3960" y="4456080"/>
              <a:ext cx="1989360" cy="85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rutiger 47LightCn"/>
                </a:rPr>
                <a:t>An application usually involves multiple processes and multiple fil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040" y="981000"/>
            <a:ext cx="4152600" cy="557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Application Design</a:t>
            </a:r>
            <a:endParaRPr b="0" lang="en-US" sz="38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66440" y="6726240"/>
            <a:ext cx="524988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58120" y="2498760"/>
            <a:ext cx="6382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380052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9440" y="510048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62960" y="574992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564760" y="4368960"/>
            <a:ext cx="74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witch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8600" y="2230560"/>
            <a:ext cx="982800" cy="78552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8600" y="2230560"/>
            <a:ext cx="982800" cy="78552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8600" y="2360520"/>
            <a:ext cx="982800" cy="13032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0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0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0520" y="2516040"/>
            <a:ext cx="8604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36800" y="2189160"/>
            <a:ext cx="1090440" cy="868320"/>
          </a:xfrm>
          <a:prstGeom prst="rect">
            <a:avLst/>
          </a:prstGeom>
          <a:solidFill>
            <a:srgbClr val="ffcc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67040" y="2308320"/>
            <a:ext cx="10396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Or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Coll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3160" y="2189160"/>
            <a:ext cx="1092240" cy="86832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73600" y="238284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8600" y="3495600"/>
            <a:ext cx="982800" cy="7794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4"/>
                </a:lnTo>
                <a:lnTo>
                  <a:pt x="5" y="400"/>
                </a:lnTo>
                <a:lnTo>
                  <a:pt x="18" y="414"/>
                </a:lnTo>
                <a:lnTo>
                  <a:pt x="44" y="425"/>
                </a:lnTo>
                <a:lnTo>
                  <a:pt x="76" y="436"/>
                </a:lnTo>
                <a:lnTo>
                  <a:pt x="118" y="447"/>
                </a:lnTo>
                <a:lnTo>
                  <a:pt x="162" y="455"/>
                </a:lnTo>
                <a:lnTo>
                  <a:pt x="215" y="458"/>
                </a:lnTo>
                <a:lnTo>
                  <a:pt x="267" y="461"/>
                </a:lnTo>
                <a:lnTo>
                  <a:pt x="322" y="461"/>
                </a:lnTo>
                <a:lnTo>
                  <a:pt x="374" y="458"/>
                </a:lnTo>
                <a:lnTo>
                  <a:pt x="427" y="455"/>
                </a:lnTo>
                <a:lnTo>
                  <a:pt x="471" y="447"/>
                </a:lnTo>
                <a:lnTo>
                  <a:pt x="513" y="436"/>
                </a:lnTo>
                <a:lnTo>
                  <a:pt x="545" y="425"/>
                </a:lnTo>
                <a:lnTo>
                  <a:pt x="568" y="414"/>
                </a:lnTo>
                <a:lnTo>
                  <a:pt x="584" y="400"/>
                </a:lnTo>
                <a:lnTo>
                  <a:pt x="589" y="384"/>
                </a:lnTo>
                <a:lnTo>
                  <a:pt x="589" y="77"/>
                </a:lnTo>
                <a:lnTo>
                  <a:pt x="584" y="63"/>
                </a:lnTo>
                <a:lnTo>
                  <a:pt x="568" y="49"/>
                </a:lnTo>
                <a:lnTo>
                  <a:pt x="545" y="35"/>
                </a:lnTo>
                <a:lnTo>
                  <a:pt x="513" y="24"/>
                </a:lnTo>
                <a:lnTo>
                  <a:pt x="471" y="14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4"/>
                </a:lnTo>
                <a:lnTo>
                  <a:pt x="76" y="24"/>
                </a:lnTo>
                <a:lnTo>
                  <a:pt x="44" y="35"/>
                </a:lnTo>
                <a:lnTo>
                  <a:pt x="18" y="49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8600" y="3495600"/>
            <a:ext cx="982800" cy="7794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4"/>
                </a:lnTo>
                <a:lnTo>
                  <a:pt x="5" y="400"/>
                </a:lnTo>
                <a:lnTo>
                  <a:pt x="18" y="414"/>
                </a:lnTo>
                <a:lnTo>
                  <a:pt x="44" y="425"/>
                </a:lnTo>
                <a:lnTo>
                  <a:pt x="76" y="436"/>
                </a:lnTo>
                <a:lnTo>
                  <a:pt x="118" y="447"/>
                </a:lnTo>
                <a:lnTo>
                  <a:pt x="162" y="455"/>
                </a:lnTo>
                <a:lnTo>
                  <a:pt x="215" y="458"/>
                </a:lnTo>
                <a:lnTo>
                  <a:pt x="267" y="461"/>
                </a:lnTo>
                <a:lnTo>
                  <a:pt x="322" y="461"/>
                </a:lnTo>
                <a:lnTo>
                  <a:pt x="374" y="458"/>
                </a:lnTo>
                <a:lnTo>
                  <a:pt x="427" y="455"/>
                </a:lnTo>
                <a:lnTo>
                  <a:pt x="471" y="447"/>
                </a:lnTo>
                <a:lnTo>
                  <a:pt x="513" y="436"/>
                </a:lnTo>
                <a:lnTo>
                  <a:pt x="545" y="425"/>
                </a:lnTo>
                <a:lnTo>
                  <a:pt x="568" y="414"/>
                </a:lnTo>
                <a:lnTo>
                  <a:pt x="584" y="400"/>
                </a:lnTo>
                <a:lnTo>
                  <a:pt x="589" y="384"/>
                </a:lnTo>
                <a:lnTo>
                  <a:pt x="589" y="77"/>
                </a:lnTo>
                <a:lnTo>
                  <a:pt x="584" y="63"/>
                </a:lnTo>
                <a:lnTo>
                  <a:pt x="568" y="49"/>
                </a:lnTo>
                <a:lnTo>
                  <a:pt x="545" y="35"/>
                </a:lnTo>
                <a:lnTo>
                  <a:pt x="513" y="24"/>
                </a:lnTo>
                <a:lnTo>
                  <a:pt x="471" y="14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4"/>
                </a:lnTo>
                <a:lnTo>
                  <a:pt x="76" y="24"/>
                </a:lnTo>
                <a:lnTo>
                  <a:pt x="44" y="35"/>
                </a:lnTo>
                <a:lnTo>
                  <a:pt x="18" y="49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8600" y="3625920"/>
            <a:ext cx="982800" cy="128520"/>
          </a:xfrm>
          <a:custGeom>
            <a:avLst/>
            <a:gdLst/>
            <a:ahLst/>
            <a:rect l="l" t="t" r="r" b="b"/>
            <a:pathLst>
              <a:path w="589" h="76">
                <a:moveTo>
                  <a:pt x="0" y="0"/>
                </a:moveTo>
                <a:lnTo>
                  <a:pt x="5" y="13"/>
                </a:lnTo>
                <a:lnTo>
                  <a:pt x="18" y="27"/>
                </a:lnTo>
                <a:lnTo>
                  <a:pt x="44" y="41"/>
                </a:lnTo>
                <a:lnTo>
                  <a:pt x="76" y="52"/>
                </a:lnTo>
                <a:lnTo>
                  <a:pt x="118" y="60"/>
                </a:lnTo>
                <a:lnTo>
                  <a:pt x="162" y="68"/>
                </a:lnTo>
                <a:lnTo>
                  <a:pt x="215" y="74"/>
                </a:lnTo>
                <a:lnTo>
                  <a:pt x="267" y="76"/>
                </a:lnTo>
                <a:lnTo>
                  <a:pt x="322" y="76"/>
                </a:lnTo>
                <a:lnTo>
                  <a:pt x="374" y="74"/>
                </a:lnTo>
                <a:lnTo>
                  <a:pt x="427" y="68"/>
                </a:lnTo>
                <a:lnTo>
                  <a:pt x="471" y="60"/>
                </a:lnTo>
                <a:lnTo>
                  <a:pt x="513" y="52"/>
                </a:lnTo>
                <a:lnTo>
                  <a:pt x="545" y="41"/>
                </a:lnTo>
                <a:lnTo>
                  <a:pt x="568" y="27"/>
                </a:lnTo>
                <a:lnTo>
                  <a:pt x="584" y="13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6200" y="37591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3160" y="3448080"/>
            <a:ext cx="1092240" cy="87300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8600" y="4757760"/>
            <a:ext cx="982800" cy="7812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5"/>
                </a:lnTo>
                <a:lnTo>
                  <a:pt x="5" y="398"/>
                </a:lnTo>
                <a:lnTo>
                  <a:pt x="18" y="412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3"/>
                </a:lnTo>
                <a:lnTo>
                  <a:pt x="215" y="459"/>
                </a:lnTo>
                <a:lnTo>
                  <a:pt x="267" y="461"/>
                </a:lnTo>
                <a:lnTo>
                  <a:pt x="322" y="461"/>
                </a:lnTo>
                <a:lnTo>
                  <a:pt x="374" y="459"/>
                </a:lnTo>
                <a:lnTo>
                  <a:pt x="427" y="453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2"/>
                </a:lnTo>
                <a:lnTo>
                  <a:pt x="584" y="398"/>
                </a:lnTo>
                <a:lnTo>
                  <a:pt x="589" y="385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4"/>
                </a:lnTo>
                <a:lnTo>
                  <a:pt x="427" y="9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9"/>
                </a:lnTo>
                <a:lnTo>
                  <a:pt x="118" y="14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8600" y="4757760"/>
            <a:ext cx="982800" cy="781200"/>
          </a:xfrm>
          <a:custGeom>
            <a:avLst/>
            <a:gdLst/>
            <a:ahLst/>
            <a:rect l="l" t="t" r="r" b="b"/>
            <a:pathLst>
              <a:path w="589" h="461">
                <a:moveTo>
                  <a:pt x="0" y="77"/>
                </a:moveTo>
                <a:lnTo>
                  <a:pt x="0" y="385"/>
                </a:lnTo>
                <a:lnTo>
                  <a:pt x="5" y="398"/>
                </a:lnTo>
                <a:lnTo>
                  <a:pt x="18" y="412"/>
                </a:lnTo>
                <a:lnTo>
                  <a:pt x="44" y="426"/>
                </a:lnTo>
                <a:lnTo>
                  <a:pt x="76" y="437"/>
                </a:lnTo>
                <a:lnTo>
                  <a:pt x="118" y="448"/>
                </a:lnTo>
                <a:lnTo>
                  <a:pt x="162" y="453"/>
                </a:lnTo>
                <a:lnTo>
                  <a:pt x="215" y="459"/>
                </a:lnTo>
                <a:lnTo>
                  <a:pt x="267" y="461"/>
                </a:lnTo>
                <a:lnTo>
                  <a:pt x="322" y="461"/>
                </a:lnTo>
                <a:lnTo>
                  <a:pt x="374" y="459"/>
                </a:lnTo>
                <a:lnTo>
                  <a:pt x="427" y="453"/>
                </a:lnTo>
                <a:lnTo>
                  <a:pt x="471" y="448"/>
                </a:lnTo>
                <a:lnTo>
                  <a:pt x="513" y="437"/>
                </a:lnTo>
                <a:lnTo>
                  <a:pt x="545" y="426"/>
                </a:lnTo>
                <a:lnTo>
                  <a:pt x="568" y="412"/>
                </a:lnTo>
                <a:lnTo>
                  <a:pt x="584" y="398"/>
                </a:lnTo>
                <a:lnTo>
                  <a:pt x="589" y="385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4"/>
                </a:lnTo>
                <a:lnTo>
                  <a:pt x="427" y="9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9"/>
                </a:lnTo>
                <a:lnTo>
                  <a:pt x="118" y="14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8600" y="4888080"/>
            <a:ext cx="982800" cy="13176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1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1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06200" y="50245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3160" y="4713120"/>
            <a:ext cx="1092240" cy="873360"/>
          </a:xfrm>
          <a:prstGeom prst="rect">
            <a:avLst/>
          </a:prstGeom>
          <a:solidFill>
            <a:srgbClr val="b2daf2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38600" y="6324480"/>
            <a:ext cx="982800" cy="78588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8"/>
                </a:lnTo>
                <a:lnTo>
                  <a:pt x="76" y="439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9"/>
                </a:lnTo>
                <a:lnTo>
                  <a:pt x="545" y="428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  <a:close/>
              </a:path>
            </a:pathLst>
          </a:custGeom>
          <a:solidFill>
            <a:srgbClr val="319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8600" y="6324480"/>
            <a:ext cx="982800" cy="785880"/>
          </a:xfrm>
          <a:custGeom>
            <a:avLst/>
            <a:gdLst/>
            <a:ahLst/>
            <a:rect l="l" t="t" r="r" b="b"/>
            <a:pathLst>
              <a:path w="589" h="464">
                <a:moveTo>
                  <a:pt x="0" y="77"/>
                </a:moveTo>
                <a:lnTo>
                  <a:pt x="0" y="387"/>
                </a:lnTo>
                <a:lnTo>
                  <a:pt x="5" y="401"/>
                </a:lnTo>
                <a:lnTo>
                  <a:pt x="18" y="415"/>
                </a:lnTo>
                <a:lnTo>
                  <a:pt x="44" y="428"/>
                </a:lnTo>
                <a:lnTo>
                  <a:pt x="76" y="439"/>
                </a:lnTo>
                <a:lnTo>
                  <a:pt x="118" y="448"/>
                </a:lnTo>
                <a:lnTo>
                  <a:pt x="162" y="456"/>
                </a:lnTo>
                <a:lnTo>
                  <a:pt x="215" y="461"/>
                </a:lnTo>
                <a:lnTo>
                  <a:pt x="267" y="464"/>
                </a:lnTo>
                <a:lnTo>
                  <a:pt x="322" y="464"/>
                </a:lnTo>
                <a:lnTo>
                  <a:pt x="374" y="461"/>
                </a:lnTo>
                <a:lnTo>
                  <a:pt x="427" y="456"/>
                </a:lnTo>
                <a:lnTo>
                  <a:pt x="471" y="448"/>
                </a:lnTo>
                <a:lnTo>
                  <a:pt x="513" y="439"/>
                </a:lnTo>
                <a:lnTo>
                  <a:pt x="545" y="428"/>
                </a:lnTo>
                <a:lnTo>
                  <a:pt x="568" y="415"/>
                </a:lnTo>
                <a:lnTo>
                  <a:pt x="584" y="401"/>
                </a:lnTo>
                <a:lnTo>
                  <a:pt x="589" y="387"/>
                </a:lnTo>
                <a:lnTo>
                  <a:pt x="589" y="77"/>
                </a:lnTo>
                <a:lnTo>
                  <a:pt x="584" y="63"/>
                </a:lnTo>
                <a:lnTo>
                  <a:pt x="568" y="50"/>
                </a:lnTo>
                <a:lnTo>
                  <a:pt x="545" y="36"/>
                </a:lnTo>
                <a:lnTo>
                  <a:pt x="513" y="25"/>
                </a:lnTo>
                <a:lnTo>
                  <a:pt x="471" y="17"/>
                </a:lnTo>
                <a:lnTo>
                  <a:pt x="427" y="8"/>
                </a:lnTo>
                <a:lnTo>
                  <a:pt x="374" y="3"/>
                </a:lnTo>
                <a:lnTo>
                  <a:pt x="322" y="0"/>
                </a:lnTo>
                <a:lnTo>
                  <a:pt x="267" y="0"/>
                </a:lnTo>
                <a:lnTo>
                  <a:pt x="215" y="3"/>
                </a:lnTo>
                <a:lnTo>
                  <a:pt x="162" y="8"/>
                </a:lnTo>
                <a:lnTo>
                  <a:pt x="118" y="17"/>
                </a:lnTo>
                <a:lnTo>
                  <a:pt x="76" y="25"/>
                </a:lnTo>
                <a:lnTo>
                  <a:pt x="44" y="36"/>
                </a:lnTo>
                <a:lnTo>
                  <a:pt x="18" y="50"/>
                </a:lnTo>
                <a:lnTo>
                  <a:pt x="5" y="63"/>
                </a:lnTo>
                <a:lnTo>
                  <a:pt x="0" y="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8600" y="6454800"/>
            <a:ext cx="982800" cy="130320"/>
          </a:xfrm>
          <a:custGeom>
            <a:avLst/>
            <a:gdLst/>
            <a:ahLst/>
            <a:rect l="l" t="t" r="r" b="b"/>
            <a:pathLst>
              <a:path w="589" h="77">
                <a:moveTo>
                  <a:pt x="0" y="0"/>
                </a:moveTo>
                <a:lnTo>
                  <a:pt x="5" y="14"/>
                </a:lnTo>
                <a:lnTo>
                  <a:pt x="18" y="28"/>
                </a:lnTo>
                <a:lnTo>
                  <a:pt x="44" y="41"/>
                </a:lnTo>
                <a:lnTo>
                  <a:pt x="76" y="52"/>
                </a:lnTo>
                <a:lnTo>
                  <a:pt x="118" y="63"/>
                </a:lnTo>
                <a:lnTo>
                  <a:pt x="162" y="69"/>
                </a:lnTo>
                <a:lnTo>
                  <a:pt x="215" y="74"/>
                </a:lnTo>
                <a:lnTo>
                  <a:pt x="267" y="77"/>
                </a:lnTo>
                <a:lnTo>
                  <a:pt x="322" y="77"/>
                </a:lnTo>
                <a:lnTo>
                  <a:pt x="374" y="74"/>
                </a:lnTo>
                <a:lnTo>
                  <a:pt x="427" y="69"/>
                </a:lnTo>
                <a:lnTo>
                  <a:pt x="471" y="63"/>
                </a:lnTo>
                <a:lnTo>
                  <a:pt x="513" y="52"/>
                </a:lnTo>
                <a:lnTo>
                  <a:pt x="545" y="41"/>
                </a:lnTo>
                <a:lnTo>
                  <a:pt x="568" y="28"/>
                </a:lnTo>
                <a:lnTo>
                  <a:pt x="584" y="14"/>
                </a:lnTo>
                <a:lnTo>
                  <a:pt x="58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06200" y="6595920"/>
            <a:ext cx="1050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Trans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Fil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36800" y="6280200"/>
            <a:ext cx="1090440" cy="868320"/>
          </a:xfrm>
          <a:prstGeom prst="rect">
            <a:avLst/>
          </a:prstGeom>
          <a:solidFill>
            <a:srgbClr val="ffcc66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36360" y="6519960"/>
            <a:ext cx="1265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Status 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120680" y="2550960"/>
            <a:ext cx="816120" cy="144720"/>
            <a:chOff x="1120680" y="2550960"/>
            <a:chExt cx="816120" cy="144720"/>
          </a:xfrm>
        </p:grpSpPr>
        <p:sp>
          <p:nvSpPr>
            <p:cNvPr id="210" name=""/>
            <p:cNvSpPr/>
            <p:nvPr/>
          </p:nvSpPr>
          <p:spPr>
            <a:xfrm>
              <a:off x="1120680" y="2622600"/>
              <a:ext cx="69876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180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027240" y="2550960"/>
            <a:ext cx="711360" cy="144720"/>
            <a:chOff x="3027240" y="2550960"/>
            <a:chExt cx="711360" cy="144720"/>
          </a:xfrm>
        </p:grpSpPr>
        <p:sp>
          <p:nvSpPr>
            <p:cNvPr id="213" name=""/>
            <p:cNvSpPr/>
            <p:nvPr/>
          </p:nvSpPr>
          <p:spPr>
            <a:xfrm>
              <a:off x="3027240" y="2622600"/>
              <a:ext cx="59400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0360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634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411360" y="2620800"/>
            <a:ext cx="209880" cy="1263960"/>
          </a:xfrm>
          <a:custGeom>
            <a:avLst/>
            <a:gdLst/>
            <a:ahLst/>
            <a:rect l="l" t="t" r="r" b="b"/>
            <a:pathLst>
              <a:path w="125" h="746">
                <a:moveTo>
                  <a:pt x="125" y="746"/>
                </a:moveTo>
                <a:lnTo>
                  <a:pt x="0" y="746"/>
                </a:lnTo>
                <a:lnTo>
                  <a:pt x="0" y="0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0360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11360" y="3884760"/>
            <a:ext cx="209880" cy="1265040"/>
          </a:xfrm>
          <a:custGeom>
            <a:avLst/>
            <a:gdLst/>
            <a:ahLst/>
            <a:rect l="l" t="t" r="r" b="b"/>
            <a:pathLst>
              <a:path w="125" h="747">
                <a:moveTo>
                  <a:pt x="125" y="747"/>
                </a:moveTo>
                <a:lnTo>
                  <a:pt x="0" y="747"/>
                </a:lnTo>
                <a:lnTo>
                  <a:pt x="0" y="0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0360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721400" y="2550960"/>
            <a:ext cx="761760" cy="144720"/>
            <a:chOff x="4721400" y="2550960"/>
            <a:chExt cx="761760" cy="144720"/>
          </a:xfrm>
        </p:grpSpPr>
        <p:sp>
          <p:nvSpPr>
            <p:cNvPr id="220" name=""/>
            <p:cNvSpPr/>
            <p:nvPr/>
          </p:nvSpPr>
          <p:spPr>
            <a:xfrm>
              <a:off x="4721400" y="2622600"/>
              <a:ext cx="645840" cy="0"/>
            </a:xfrm>
            <a:prstGeom prst="line">
              <a:avLst/>
            </a:prstGeom>
            <a:ln w="208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48160" y="2550960"/>
              <a:ext cx="135000" cy="14472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0" y="0"/>
                  </a:moveTo>
                  <a:lnTo>
                    <a:pt x="81" y="41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721400" y="3828960"/>
            <a:ext cx="645840" cy="55800"/>
          </a:xfrm>
          <a:custGeom>
            <a:avLst/>
            <a:gdLst/>
            <a:ahLst/>
            <a:rect l="l" t="t" r="r" b="b"/>
            <a:pathLst>
              <a:path w="388" h="33">
                <a:moveTo>
                  <a:pt x="0" y="33"/>
                </a:moveTo>
                <a:lnTo>
                  <a:pt x="175" y="33"/>
                </a:lnTo>
                <a:lnTo>
                  <a:pt x="181" y="17"/>
                </a:lnTo>
                <a:lnTo>
                  <a:pt x="191" y="3"/>
                </a:lnTo>
                <a:lnTo>
                  <a:pt x="210" y="0"/>
                </a:lnTo>
                <a:lnTo>
                  <a:pt x="225" y="3"/>
                </a:lnTo>
                <a:lnTo>
                  <a:pt x="236" y="17"/>
                </a:lnTo>
                <a:lnTo>
                  <a:pt x="241" y="33"/>
                </a:lnTo>
                <a:lnTo>
                  <a:pt x="388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4816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21400" y="5094360"/>
            <a:ext cx="645840" cy="55440"/>
          </a:xfrm>
          <a:custGeom>
            <a:avLst/>
            <a:gdLst/>
            <a:ahLst/>
            <a:rect l="l" t="t" r="r" b="b"/>
            <a:pathLst>
              <a:path w="388" h="33">
                <a:moveTo>
                  <a:pt x="0" y="33"/>
                </a:moveTo>
                <a:lnTo>
                  <a:pt x="175" y="33"/>
                </a:lnTo>
                <a:lnTo>
                  <a:pt x="181" y="16"/>
                </a:lnTo>
                <a:lnTo>
                  <a:pt x="191" y="3"/>
                </a:lnTo>
                <a:lnTo>
                  <a:pt x="210" y="0"/>
                </a:lnTo>
                <a:lnTo>
                  <a:pt x="225" y="3"/>
                </a:lnTo>
                <a:lnTo>
                  <a:pt x="236" y="16"/>
                </a:lnTo>
                <a:lnTo>
                  <a:pt x="241" y="33"/>
                </a:lnTo>
                <a:lnTo>
                  <a:pt x="388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720" bIns="9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4816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2760" y="2189160"/>
            <a:ext cx="689040" cy="431640"/>
          </a:xfrm>
          <a:custGeom>
            <a:avLst/>
            <a:gdLst/>
            <a:ahLst/>
            <a:rect l="l" t="t" r="r" b="b"/>
            <a:pathLst>
              <a:path w="414" h="255">
                <a:moveTo>
                  <a:pt x="0" y="255"/>
                </a:moveTo>
                <a:lnTo>
                  <a:pt x="76" y="255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75400" y="2550960"/>
            <a:ext cx="135000" cy="1447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65960" y="211464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4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92760" y="3495600"/>
            <a:ext cx="689040" cy="389160"/>
          </a:xfrm>
          <a:custGeom>
            <a:avLst/>
            <a:gdLst/>
            <a:ahLst/>
            <a:rect l="l" t="t" r="r" b="b"/>
            <a:pathLst>
              <a:path w="414" h="230">
                <a:moveTo>
                  <a:pt x="0" y="230"/>
                </a:moveTo>
                <a:lnTo>
                  <a:pt x="76" y="230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575400" y="381492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65960" y="342108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4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2760" y="4800600"/>
            <a:ext cx="689040" cy="349200"/>
          </a:xfrm>
          <a:custGeom>
            <a:avLst/>
            <a:gdLst/>
            <a:ahLst/>
            <a:rect l="l" t="t" r="r" b="b"/>
            <a:pathLst>
              <a:path w="414" h="206">
                <a:moveTo>
                  <a:pt x="0" y="206"/>
                </a:moveTo>
                <a:lnTo>
                  <a:pt x="76" y="206"/>
                </a:lnTo>
                <a:lnTo>
                  <a:pt x="76" y="0"/>
                </a:lnTo>
                <a:lnTo>
                  <a:pt x="414" y="0"/>
                </a:lnTo>
              </a:path>
            </a:pathLst>
          </a:custGeom>
          <a:noFill/>
          <a:ln w="20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75400" y="50799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65960" y="473076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92400" y="5410080"/>
            <a:ext cx="1838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12200" y="533880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2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75400" y="5338800"/>
            <a:ext cx="13500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2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692400" y="4103640"/>
            <a:ext cx="1838520" cy="1800"/>
          </a:xfrm>
          <a:prstGeom prst="line">
            <a:avLst/>
          </a:prstGeom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12200" y="403380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75400" y="4033800"/>
            <a:ext cx="1350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1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31080" y="55864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31080" y="58881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31080" y="6191280"/>
            <a:ext cx="1440" cy="1839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31080" y="64929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1400" y="6647040"/>
            <a:ext cx="134640" cy="1425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4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1080" y="43210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776560" y="4514760"/>
            <a:ext cx="17316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492520" y="4514760"/>
            <a:ext cx="17460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208120" y="4514760"/>
            <a:ext cx="17460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70600" y="48099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70600" y="5111640"/>
            <a:ext cx="1440" cy="1875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70600" y="541332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70600" y="5716440"/>
            <a:ext cx="1440" cy="18432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70600" y="601812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70600" y="6321600"/>
            <a:ext cx="1440" cy="1839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0760" y="6575400"/>
            <a:ext cx="134640" cy="146160"/>
          </a:xfrm>
          <a:custGeom>
            <a:avLst/>
            <a:gdLst/>
            <a:ahLst/>
            <a:rect l="l" t="t" r="r" b="b"/>
            <a:pathLst>
              <a:path w="81" h="86">
                <a:moveTo>
                  <a:pt x="81" y="0"/>
                </a:moveTo>
                <a:lnTo>
                  <a:pt x="42" y="86"/>
                </a:lnTo>
                <a:lnTo>
                  <a:pt x="0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05748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776560" y="3276720"/>
            <a:ext cx="17316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92520" y="3276720"/>
            <a:ext cx="17460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08120" y="3276720"/>
            <a:ext cx="174600" cy="144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70600" y="3276720"/>
            <a:ext cx="29880" cy="152280"/>
          </a:xfrm>
          <a:custGeom>
            <a:avLst/>
            <a:gdLst/>
            <a:ahLst/>
            <a:rect l="l" t="t" r="r" b="b"/>
            <a:pathLst>
              <a:path w="7" h="33">
                <a:moveTo>
                  <a:pt x="7" y="0"/>
                </a:moveTo>
                <a:lnTo>
                  <a:pt x="0" y="0"/>
                </a:lnTo>
                <a:lnTo>
                  <a:pt x="0" y="33"/>
                </a:lnTo>
              </a:path>
            </a:pathLst>
          </a:custGeom>
          <a:noFill/>
          <a:ln w="208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0600" y="354636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70600" y="384660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70600" y="4149720"/>
            <a:ext cx="1440" cy="1872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578480"/>
            <a:ext cx="134640" cy="14436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0"/>
                </a:moveTo>
                <a:lnTo>
                  <a:pt x="42" y="85"/>
                </a:lnTo>
                <a:lnTo>
                  <a:pt x="0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16080" y="6645240"/>
            <a:ext cx="136800" cy="142920"/>
          </a:xfrm>
          <a:custGeom>
            <a:avLst/>
            <a:gdLst/>
            <a:ahLst/>
            <a:rect l="l" t="t" r="r" b="b"/>
            <a:pathLst>
              <a:path w="81" h="85">
                <a:moveTo>
                  <a:pt x="81" y="85"/>
                </a:moveTo>
                <a:lnTo>
                  <a:pt x="0" y="44"/>
                </a:lnTo>
                <a:lnTo>
                  <a:pt x="81" y="0"/>
                </a:lnTo>
                <a:lnTo>
                  <a:pt x="81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0280" y="2092320"/>
            <a:ext cx="1027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Order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73600" y="367200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73600" y="4890960"/>
            <a:ext cx="6969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Upda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Frutiger 47LightCn"/>
              </a:rPr>
              <a:t>Process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6800" y="3068640"/>
            <a:ext cx="0" cy="3662280"/>
          </a:xfrm>
          <a:prstGeom prst="line">
            <a:avLst/>
          </a:prstGeom>
          <a:ln w="2232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7531200" y="1930320"/>
          <a:ext cx="479160" cy="5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31200" y="1930320"/>
                    <a:ext cx="47916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7531200" y="4530600"/>
          <a:ext cx="47916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31200" y="4530600"/>
                    <a:ext cx="479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7531200" y="3230640"/>
          <a:ext cx="479160" cy="5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31200" y="3230640"/>
                    <a:ext cx="47916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690040" y="3800520"/>
          <a:ext cx="479520" cy="56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90040" y="3800520"/>
                    <a:ext cx="479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8690040" y="5181480"/>
          <a:ext cx="479520" cy="56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90040" y="5181480"/>
                    <a:ext cx="47952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-65160" y="2325600"/>
          <a:ext cx="170496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65160" y="2325600"/>
                    <a:ext cx="17049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 rot="16200000">
            <a:off x="699840" y="2904840"/>
            <a:ext cx="138240" cy="14148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0"/>
                </a:moveTo>
                <a:lnTo>
                  <a:pt x="81" y="41"/>
                </a:lnTo>
                <a:lnTo>
                  <a:pt x="0" y="8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67360" y="4443480"/>
            <a:ext cx="1440" cy="18576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063760" y="4514760"/>
            <a:ext cx="96840" cy="1800"/>
          </a:xfrm>
          <a:prstGeom prst="line">
            <a:avLst/>
          </a:prstGeom>
          <a:ln w="2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9120" y="987480"/>
            <a:ext cx="3454560" cy="431640"/>
          </a:xfrm>
          <a:prstGeom prst="wedgeRectCallout">
            <a:avLst>
              <a:gd name="adj1" fmla="val -92509"/>
              <a:gd name="adj2" fmla="val 265074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Transaction data = All fields defined by scripts plus various system information. Saved in a 2 column array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0280" y="1581120"/>
            <a:ext cx="293868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47LightCn"/>
              </a:rPr>
              <a:t>Charge codes: CCB01, ALC, CCB36,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90920" y="1474920"/>
            <a:ext cx="4972320" cy="5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rutiger 47LightCn"/>
              </a:rPr>
              <a:t>ado $ 6245167 cwt $ y ; </a:t>
            </a:r>
            <a:r>
              <a:rPr b="1" lang="en-US" sz="1400" spc="-1" strike="noStrike">
                <a:solidFill>
                  <a:srgbClr val="000000"/>
                </a:solidFill>
                <a:latin typeface="Frutiger 47LightCn"/>
                <a:ea typeface="Times New Roman"/>
              </a:rPr>
              <a:t>ado $ 6245167 suppress public y y ; ado $ 6245167 cfda n nscr 1 28 2337762  $ y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303720" y="1735200"/>
            <a:ext cx="1073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98680" y="3233880"/>
            <a:ext cx="1662120" cy="1049040"/>
          </a:xfrm>
          <a:prstGeom prst="wedgeRectCallout">
            <a:avLst>
              <a:gd name="adj1" fmla="val -11986"/>
              <a:gd name="adj2" fmla="val -77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Physical data collection; business rule validation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translate charge codes to command strings. Save fields into proper file(s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77080" y="2744640"/>
            <a:ext cx="2484360" cy="439920"/>
          </a:xfrm>
          <a:prstGeom prst="wedgeRectCallout">
            <a:avLst>
              <a:gd name="adj1" fmla="val -72745"/>
              <a:gd name="adj2" fmla="val -178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Read file; log on; send each command; examine response; continue if OK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80960" y="5446800"/>
            <a:ext cx="1625760" cy="649080"/>
          </a:xfrm>
          <a:prstGeom prst="wedgeRectCallout">
            <a:avLst>
              <a:gd name="adj1" fmla="val -1953"/>
              <a:gd name="adj2" fmla="val 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160" rIns="29160" tIns="972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Frutiger 47LightCn"/>
              </a:rPr>
              <a:t>Update the order system for each transaction: either OK or fail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00" y="925560"/>
            <a:ext cx="5446800" cy="874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800" spc="-1" strike="noStrike">
                <a:solidFill>
                  <a:srgbClr val="005d9c"/>
                </a:solidFill>
                <a:latin typeface="Frutiger 67BoldCn"/>
              </a:rPr>
              <a:t>Implementation Tools - 1</a:t>
            </a:r>
            <a:br>
              <a:rPr sz="3800"/>
            </a:br>
            <a:r>
              <a:rPr b="0" lang="en-US" sz="1900" spc="-1" strike="noStrike">
                <a:solidFill>
                  <a:srgbClr val="005d9c"/>
                </a:solidFill>
                <a:latin typeface="Frutiger 67BoldCn"/>
              </a:rPr>
              <a:t>Command Scripts</a:t>
            </a:r>
            <a:endParaRPr b="0" lang="en-US" sz="1900" spc="-1" strike="noStrike">
              <a:solidFill>
                <a:srgbClr val="005d9c"/>
              </a:solidFill>
              <a:latin typeface="Frutiger 67BoldC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000" y="2062080"/>
            <a:ext cx="4286520" cy="42782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 fontScale="82000"/>
          </a:bodyPr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Up to 25 alpha-numeric characters for: 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Script names, Field names, Line labels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Commands and keywords ignore case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marL="140400" indent="-14040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5d9c"/>
                </a:solidFill>
                <a:latin typeface="Frutiger 57Cn"/>
              </a:rPr>
              <a:t>User data: Fields, quoted text, numbers, special characters (@CR), system fields (@time, @date, @script_name, …)</a:t>
            </a:r>
            <a:endParaRPr b="0" lang="en-US" sz="2000" spc="-1" strike="noStrike">
              <a:solidFill>
                <a:srgbClr val="005d9c"/>
              </a:solidFill>
              <a:latin typeface="Frutiger 57Cn"/>
            </a:endParaRPr>
          </a:p>
          <a:p>
            <a:pPr marL="140400" indent="-140400">
              <a:spcBef>
                <a:spcPts val="524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100" spc="-1" strike="noStrike">
                <a:solidFill>
                  <a:srgbClr val="005d9c"/>
                </a:solidFill>
                <a:latin typeface="Frutiger 57Cn"/>
              </a:rPr>
              <a:t>Edit Tools</a:t>
            </a:r>
            <a:endParaRPr b="0" lang="en-US" sz="2100" spc="-1" strike="noStrike">
              <a:solidFill>
                <a:srgbClr val="005d9c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Colored line numbers for changes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Find &amp; replace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Compare with other script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  <a:p>
            <a:pPr lvl="1" marL="374760" indent="-140400">
              <a:spcBef>
                <a:spcPts val="476"/>
              </a:spcBef>
              <a:buClr>
                <a:srgbClr val="005d9c"/>
              </a:buClr>
              <a:buFont typeface="Frutiger 57Cn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Frutiger 57Cn"/>
              </a:rPr>
              <a:t>Restore previous line on right mouse click</a:t>
            </a:r>
            <a:endParaRPr b="0" lang="en-US" sz="1900" spc="-1" strike="noStrike">
              <a:solidFill>
                <a:srgbClr val="000000"/>
              </a:solidFill>
              <a:latin typeface="Frutiger 57Cn"/>
            </a:endParaRPr>
          </a:p>
        </p:txBody>
      </p:sp>
      <p:pic>
        <p:nvPicPr>
          <p:cNvPr id="295" name="VTC_script_example" descr=""/>
          <p:cNvPicPr/>
          <p:nvPr/>
        </p:nvPicPr>
        <p:blipFill>
          <a:blip r:embed="rId1"/>
          <a:stretch/>
        </p:blipFill>
        <p:spPr>
          <a:xfrm>
            <a:off x="4140360" y="1017720"/>
            <a:ext cx="5465520" cy="62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"/>
          <p:cNvGraphicFramePr/>
          <p:nvPr/>
        </p:nvGraphicFramePr>
        <p:xfrm>
          <a:off x="1368360" y="985680"/>
          <a:ext cx="8247240" cy="282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68360" y="985680"/>
                    <a:ext cx="824724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137120" y="5477040"/>
          <a:ext cx="5211720" cy="86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37120" y="5477040"/>
                    <a:ext cx="52117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25T22:15:32Z</dcterms:created>
  <dc:creator/>
  <dc:description/>
  <dc:language>en-US</dc:language>
  <cp:lastModifiedBy>CommSoft</cp:lastModifiedBy>
  <cp:lastPrinted>2001-04-03T14:38:39Z</cp:lastPrinted>
  <dcterms:modified xsi:type="dcterms:W3CDTF">2007-10-02T14:48:36Z</dcterms:modified>
  <cp:revision>1123</cp:revision>
  <dc:subject/>
  <dc:title>CommVergence</dc:title>
</cp:coreProperties>
</file>