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77.xml.rels" ContentType="application/vnd.openxmlformats-package.relationships+xml"/>
  <Override PartName="/ppt/notesSlides/notesSlide3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48.xml" ContentType="application/vnd.openxmlformats-officedocument.presentationml.notesSlide+xml"/>
  <Override PartName="/ppt/_rels/presentation.xml.rels" ContentType="application/vnd.openxmlformats-package.relationships+xml"/>
  <Override PartName="/ppt/media/image59.wmf" ContentType="image/x-wmf"/>
  <Override PartName="/ppt/media/image56.png" ContentType="image/png"/>
  <Override PartName="/ppt/media/image55.png" ContentType="image/png"/>
  <Override PartName="/ppt/media/image54.png" ContentType="image/png"/>
  <Override PartName="/ppt/media/image11.wmf" ContentType="image/x-wmf"/>
  <Override PartName="/ppt/media/image52.png" ContentType="image/png"/>
  <Override PartName="/ppt/media/image51.png" ContentType="image/png"/>
  <Override PartName="/ppt/media/image48.png" ContentType="image/png"/>
  <Override PartName="/ppt/media/image46.png" ContentType="image/png"/>
  <Override PartName="/ppt/media/image45.png" ContentType="image/png"/>
  <Override PartName="/ppt/media/image44.wmf" ContentType="image/x-wmf"/>
  <Override PartName="/ppt/media/image43.wmf" ContentType="image/x-wmf"/>
  <Override PartName="/ppt/media/image86.png" ContentType="image/png"/>
  <Override PartName="/ppt/media/image42.png" ContentType="image/png"/>
  <Override PartName="/ppt/media/image39.png" ContentType="image/png"/>
  <Override PartName="/ppt/media/image61.wmf" ContentType="image/x-wmf"/>
  <Override PartName="/ppt/media/image38.png" ContentType="image/png"/>
  <Override PartName="/ppt/media/image37.png" ContentType="image/png"/>
  <Override PartName="/ppt/media/image36.png" ContentType="image/png"/>
  <Override PartName="/ppt/media/image34.png" ContentType="image/png"/>
  <Override PartName="/ppt/media/image33.png" ContentType="image/png"/>
  <Override PartName="/ppt/media/image32.png" ContentType="image/png"/>
  <Override PartName="/ppt/media/image30.png" ContentType="image/png"/>
  <Override PartName="/ppt/media/image41.png" ContentType="image/png"/>
  <Override PartName="/ppt/media/image9.wmf" ContentType="image/x-wmf"/>
  <Override PartName="/ppt/media/image40.png" ContentType="image/png"/>
  <Override PartName="/ppt/media/image8.wmf" ContentType="image/x-wmf"/>
  <Override PartName="/ppt/media/image85.wmf" ContentType="image/x-wmf"/>
  <Override PartName="/ppt/media/image13.png" ContentType="image/png"/>
  <Override PartName="/ppt/media/image1.png" ContentType="image/png"/>
  <Override PartName="/ppt/media/image7.wmf" ContentType="image/x-wmf"/>
  <Override PartName="/ppt/media/image19.wmf" ContentType="image/x-wmf"/>
  <Override PartName="/ppt/media/image49.png" ContentType="image/png"/>
  <Override PartName="/ppt/media/image12.png" ContentType="image/png"/>
  <Override PartName="/ppt/media/image50.png" ContentType="image/png"/>
  <Override PartName="/ppt/media/image23.png" ContentType="image/png"/>
  <Override PartName="/ppt/media/image60.png" ContentType="image/png"/>
  <Override PartName="/ppt/media/image62.png" ContentType="image/png"/>
  <Override PartName="/ppt/media/image63.png" ContentType="image/png"/>
  <Override PartName="/ppt/media/image92.png" ContentType="image/png"/>
  <Override PartName="/ppt/media/image27.png" ContentType="image/png"/>
  <Override PartName="/ppt/media/image64.png" ContentType="image/png"/>
  <Override PartName="/ppt/media/image68.wmf" ContentType="image/x-wmf"/>
  <Override PartName="/ppt/media/image70.png" ContentType="image/png"/>
  <Override PartName="/ppt/media/image65.png" ContentType="image/png"/>
  <Override PartName="/ppt/media/image66.png" ContentType="image/png"/>
  <Override PartName="/ppt/media/image89.png" ContentType="image/png"/>
  <Override PartName="/ppt/media/image28.png" ContentType="image/png"/>
  <Override PartName="/ppt/media/image93.png" ContentType="image/png"/>
  <Override PartName="/ppt/media/image76.wmf" ContentType="image/x-wmf"/>
  <Override PartName="/ppt/media/image25.png" ContentType="image/png"/>
  <Override PartName="/ppt/media/image90.png" ContentType="image/png"/>
  <Override PartName="/ppt/media/image88.png" ContentType="image/png"/>
  <Override PartName="/ppt/media/image67.png" ContentType="image/png"/>
  <Override PartName="/ppt/media/image87.wmf" ContentType="image/x-wmf"/>
  <Override PartName="/ppt/media/image10.png" ContentType="image/png"/>
  <Override PartName="/ppt/media/image47.png" ContentType="image/png"/>
  <Override PartName="/ppt/media/image84.png" ContentType="image/png"/>
  <Override PartName="/ppt/media/image79.wmf" ContentType="image/x-wmf"/>
  <Override PartName="/ppt/media/image77.wmf" ContentType="image/x-wmf"/>
  <Override PartName="/ppt/media/image75.png" ContentType="image/png"/>
  <Override PartName="/ppt/media/image6.wmf" ContentType="image/x-wmf"/>
  <Override PartName="/ppt/media/image74.png" ContentType="image/png"/>
  <Override PartName="/ppt/media/image5.wmf" ContentType="image/x-wmf"/>
  <Override PartName="/ppt/media/image73.png" ContentType="image/png"/>
  <Override PartName="/ppt/media/image4.wmf" ContentType="image/x-wmf"/>
  <Override PartName="/ppt/media/image72.wmf" ContentType="image/x-wmf"/>
  <Override PartName="/ppt/media/image69.png" ContentType="image/png"/>
  <Override PartName="/ppt/media/image71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20.png" ContentType="image/png"/>
  <Override PartName="/ppt/media/image18.png" ContentType="image/png"/>
  <Override PartName="/ppt/media/image83.png" ContentType="image/png"/>
  <Override PartName="/ppt/media/image82.png" ContentType="image/png"/>
  <Override PartName="/ppt/media/image17.png" ContentType="image/png"/>
  <Override PartName="/ppt/media/image81.png" ContentType="image/png"/>
  <Override PartName="/ppt/media/image16.png" ContentType="image/png"/>
  <Override PartName="/ppt/media/image80.png" ContentType="image/png"/>
  <Override PartName="/ppt/media/image15.png" ContentType="image/png"/>
  <Override PartName="/ppt/media/image29.png" ContentType="image/png"/>
  <Override PartName="/ppt/media/image94.png" ContentType="image/png"/>
  <Override PartName="/ppt/media/image57.png" ContentType="image/png"/>
  <Override PartName="/ppt/media/image14.wmf" ContentType="image/x-wmf"/>
  <Override PartName="/ppt/media/image53.png" ContentType="image/png"/>
  <Override PartName="/ppt/media/image2.jpeg" ContentType="image/jpeg"/>
  <Override PartName="/ppt/media/image31.png" ContentType="image/png"/>
  <Override PartName="/ppt/media/image58.png" ContentType="image/png"/>
  <Override PartName="/ppt/media/image3.wmf" ContentType="image/x-wmf"/>
  <Override PartName="/ppt/media/image35.wmf" ContentType="image/x-wmf"/>
  <Override PartName="/ppt/media/image78.png" ContentType="image/png"/>
  <Override PartName="/ppt/media/image91.png" ContentType="image/png"/>
  <Override PartName="/ppt/media/image2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A42F1-0FE0-4E18-92BC-FF69127BC0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ice the {circle} to edit the cl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l functions accept ‘?’ to show how they work. Versions will be discussed so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name of the class does NOT need to match the name of the 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ttern a la DOS can be supplied although the behaviour will be different than from Un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nly folders in this fol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nly files in this fol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difiers are preceded by a dash a la Un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name needs not match the registry 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epad is found thanks to the OS PATH, no need to include it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full path to the program really should be giv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ighest may NOT be most recent. It also works with 2 different fi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PL’ or emp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class in the ws whose versions on file have been deleted won’t be aware of that and subsequent save will keep using version numb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last message is to remind the user that any class depending on this file may no longer hold valid refer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cript does not have to contain the same name for the class/name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yClass is really TB under the co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place has not been implemented y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place has not been implemented y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place has not been implemented y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place has not been implemented y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place has not been implemented y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place has not been implemented y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place has not been implemented y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place has not been implemented y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place has not been implemented y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 or Y or 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B081-32EA-4186-B8F1-150267308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6568-CA16-46E9-9149-3B604D85D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C750-A3B6-4AAA-BED7-7F29B8817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0744-6BE3-4A21-AFB5-BCA99A01A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D5D1-1C0E-4F2B-B1A4-1F069F1FC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85C8-CDB9-4ECD-BBA0-5481FF987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1121-D21A-4C40-96A2-FBDB97612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F581-C828-4711-AC41-29EFCAA2E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68360" y="691920"/>
            <a:ext cx="822960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DC27-AA6F-46FC-AFA3-F21F81B21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E340-87C8-4F9C-ADEB-F06459B99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B6BF-603B-43E1-8F79-F958DE09E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6A09-7812-4513-B9EC-6BE93D347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724000" y="6381360"/>
            <a:ext cx="2248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284720" y="6337080"/>
            <a:ext cx="691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BFED0-0E0E-4A75-9315-58E962F298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 txBox="1"/>
          <p:nvPr/>
        </p:nvSpPr>
        <p:spPr>
          <a:xfrm>
            <a:off x="1258920" y="1700280"/>
            <a:ext cx="6710400" cy="421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ccffff">
                    <a:alpha val="41000"/>
                  </a:srgbClr>
                </a:solidFill>
                <a:latin typeface="Arial Black"/>
              </a:rPr>
              <a:t>SALT</a:t>
            </a:r>
            <a:endParaRPr b="0" lang="en-US" sz="1800" spc="1" strike="noStrike">
              <a:ln w="0">
                <a:noFill/>
              </a:ln>
              <a:solidFill>
                <a:srgbClr val="ccffff">
                  <a:alpha val="41000"/>
                </a:srgbClr>
              </a:solidFill>
              <a:latin typeface="Arial Black"/>
              <a:ea typeface="Arial Black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2382840" cy="44928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279360" y="692280"/>
            <a:ext cx="8604360" cy="11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image" Target="../media/image50.png"/><Relationship Id="rId5" Type="http://schemas.openxmlformats.org/officeDocument/2006/relationships/image" Target="../media/image46.png"/><Relationship Id="rId6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image" Target="../media/image44.wmf"/><Relationship Id="rId4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9.wmf"/><Relationship Id="rId3" Type="http://schemas.openxmlformats.org/officeDocument/2006/relationships/image" Target="../media/image59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wmf"/><Relationship Id="rId3" Type="http://schemas.openxmlformats.org/officeDocument/2006/relationships/image" Target="../media/image62.png"/><Relationship Id="rId4" Type="http://schemas.openxmlformats.org/officeDocument/2006/relationships/image" Target="../media/image63.png"/><Relationship Id="rId5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6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61.wmf"/><Relationship Id="rId3" Type="http://schemas.openxmlformats.org/officeDocument/2006/relationships/image" Target="../media/image65.png"/><Relationship Id="rId4" Type="http://schemas.openxmlformats.org/officeDocument/2006/relationships/image" Target="../media/image66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image" Target="../media/image68.wmf"/><Relationship Id="rId3" Type="http://schemas.openxmlformats.org/officeDocument/2006/relationships/image" Target="../media/image69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image" Target="../media/image68.wmf"/><Relationship Id="rId3" Type="http://schemas.openxmlformats.org/officeDocument/2006/relationships/image" Target="../media/image69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image" Target="../media/image68.wmf"/><Relationship Id="rId3" Type="http://schemas.openxmlformats.org/officeDocument/2006/relationships/image" Target="../media/image69.png"/><Relationship Id="rId4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72.wmf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72.wmf"/><Relationship Id="rId2" Type="http://schemas.openxmlformats.org/officeDocument/2006/relationships/image" Target="../media/image73.png"/><Relationship Id="rId3" Type="http://schemas.openxmlformats.org/officeDocument/2006/relationships/image" Target="../media/image74.png"/><Relationship Id="rId4" Type="http://schemas.openxmlformats.org/officeDocument/2006/relationships/image" Target="../media/image75.png"/><Relationship Id="rId5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76.wmf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77.wmf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78.png"/><Relationship Id="rId2" Type="http://schemas.openxmlformats.org/officeDocument/2006/relationships/image" Target="../media/image77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79.wmf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80.png"/><Relationship Id="rId2" Type="http://schemas.openxmlformats.org/officeDocument/2006/relationships/image" Target="../media/image81.png"/><Relationship Id="rId3" Type="http://schemas.openxmlformats.org/officeDocument/2006/relationships/image" Target="../media/image82.png"/><Relationship Id="rId4" Type="http://schemas.openxmlformats.org/officeDocument/2006/relationships/image" Target="../media/image83.png"/><Relationship Id="rId5" Type="http://schemas.openxmlformats.org/officeDocument/2006/relationships/image" Target="../media/image79.wmf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4.png"/><Relationship Id="rId2" Type="http://schemas.openxmlformats.org/officeDocument/2006/relationships/image" Target="../media/image85.wmf"/><Relationship Id="rId3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86.png"/><Relationship Id="rId2" Type="http://schemas.openxmlformats.org/officeDocument/2006/relationships/image" Target="../media/image85.wmf"/><Relationship Id="rId3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85.wmf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85.wmf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85.wmf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85.wmf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87.wmf"/><Relationship Id="rId2" Type="http://schemas.openxmlformats.org/officeDocument/2006/relationships/image" Target="../media/image88.png"/><Relationship Id="rId3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87.wmf"/><Relationship Id="rId2" Type="http://schemas.openxmlformats.org/officeDocument/2006/relationships/image" Target="../media/image89.png"/><Relationship Id="rId3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87.wmf"/><Relationship Id="rId2" Type="http://schemas.openxmlformats.org/officeDocument/2006/relationships/image" Target="../media/image90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87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87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87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87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87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87.wmf"/><Relationship Id="rId2" Type="http://schemas.openxmlformats.org/officeDocument/2006/relationships/image" Target="../media/image9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87.wmf"/><Relationship Id="rId2" Type="http://schemas.openxmlformats.org/officeDocument/2006/relationships/image" Target="../media/image9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87.wmf"/><Relationship Id="rId2" Type="http://schemas.openxmlformats.org/officeDocument/2006/relationships/image" Target="../media/image9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87.wmf"/><Relationship Id="rId2" Type="http://schemas.openxmlformats.org/officeDocument/2006/relationships/image" Target="../media/image9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Book Antiqua"/>
              </a:rPr>
              <a:t>SALT in Dyalog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1.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9DB6-F412-4693-BA24-DEBABCF43E61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tarting SAL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8436240" cy="27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pon starting Dyalog SALT will identify itsel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038240" y="2276640"/>
            <a:ext cx="7134120" cy="36097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042920" y="3357720"/>
            <a:ext cx="6769080" cy="57600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7380360" y="189000"/>
            <a:ext cx="1535040" cy="1190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6E3F-6A2D-45FE-9A1C-3EBCD6CAC11C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toring using SAL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8436240" cy="27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 can now store any cla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611280" y="2276640"/>
            <a:ext cx="7134120" cy="36097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2771640" y="3573360"/>
            <a:ext cx="3238560" cy="17622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7451640" y="333360"/>
            <a:ext cx="1333440" cy="1731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D30A-DE52-4469-A986-D7791EB49771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he Save fun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43624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Sav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akes a </a:t>
            </a:r>
            <a:r>
              <a:rPr b="0" i="1" lang="en-GB" sz="3200" spc="-1" strike="noStrike">
                <a:solidFill>
                  <a:srgbClr val="33cc33"/>
                </a:solidFill>
                <a:latin typeface="Arial"/>
              </a:rPr>
              <a:t>ref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nd a </a:t>
            </a:r>
            <a:r>
              <a:rPr b="0" lang="en-GB" sz="3200" spc="-1" strike="noStrike">
                <a:solidFill>
                  <a:srgbClr val="6666ff"/>
                </a:solidFill>
                <a:latin typeface="Arial"/>
              </a:rPr>
              <a:t>string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s arguments. This is the only function to do so. To find its syntax give it a single ‘?’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6910560" y="44280"/>
            <a:ext cx="2125440" cy="1731960"/>
            <a:chOff x="6910560" y="44280"/>
            <a:chExt cx="2125440" cy="1731960"/>
          </a:xfrm>
        </p:grpSpPr>
        <p:pic>
          <p:nvPicPr>
            <p:cNvPr id="91" name="" descr=""/>
            <p:cNvPicPr/>
            <p:nvPr/>
          </p:nvPicPr>
          <p:blipFill>
            <a:blip r:embed="rId1"/>
            <a:stretch/>
          </p:blipFill>
          <p:spPr>
            <a:xfrm>
              <a:off x="7702560" y="44280"/>
              <a:ext cx="1333440" cy="173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6910560" y="582480"/>
              <a:ext cx="1008000" cy="576360"/>
            </a:xfrm>
            <a:prstGeom prst="rightArrow">
              <a:avLst>
                <a:gd name="adj1" fmla="val 50000"/>
                <a:gd name="adj2" fmla="val 4372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971640" y="3284640"/>
            <a:ext cx="7134120" cy="27241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733400" y="4121280"/>
            <a:ext cx="1254240" cy="161640"/>
          </a:xfrm>
          <a:prstGeom prst="rect">
            <a:avLst/>
          </a:prstGeom>
          <a:solidFill>
            <a:srgbClr val="009999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336680" y="4130640"/>
            <a:ext cx="358920" cy="142920"/>
          </a:xfrm>
          <a:prstGeom prst="rect">
            <a:avLst/>
          </a:prstGeom>
          <a:solidFill>
            <a:srgbClr val="33cc33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484360" y="3879720"/>
            <a:ext cx="358920" cy="289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294F-ABC2-4CDA-A255-F4D1D278B08B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he Save fun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8436240" cy="27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sk SALT to store i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971640" y="2205000"/>
            <a:ext cx="7134120" cy="36100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042920" y="4105440"/>
            <a:ext cx="4033800" cy="21564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916360" y="3943440"/>
            <a:ext cx="934920" cy="142920"/>
          </a:xfrm>
          <a:prstGeom prst="rect">
            <a:avLst/>
          </a:prstGeom>
          <a:solidFill>
            <a:srgbClr val="009999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519280" y="3943440"/>
            <a:ext cx="358920" cy="142920"/>
          </a:xfrm>
          <a:prstGeom prst="rect">
            <a:avLst/>
          </a:prstGeom>
          <a:solidFill>
            <a:srgbClr val="33cc33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6910560" y="44280"/>
            <a:ext cx="2125440" cy="1731960"/>
            <a:chOff x="6910560" y="44280"/>
            <a:chExt cx="2125440" cy="1731960"/>
          </a:xfrm>
        </p:grpSpPr>
        <p:pic>
          <p:nvPicPr>
            <p:cNvPr id="104" name="" descr=""/>
            <p:cNvPicPr/>
            <p:nvPr/>
          </p:nvPicPr>
          <p:blipFill>
            <a:blip r:embed="rId2"/>
            <a:stretch/>
          </p:blipFill>
          <p:spPr>
            <a:xfrm>
              <a:off x="7702560" y="44280"/>
              <a:ext cx="1333440" cy="173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6910560" y="582480"/>
              <a:ext cx="1008000" cy="576360"/>
            </a:xfrm>
            <a:prstGeom prst="rightArrow">
              <a:avLst>
                <a:gd name="adj1" fmla="val 50000"/>
                <a:gd name="adj2" fmla="val 4372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03AB-D2FC-42BF-8216-3E26E123CAF5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toring using SAL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43624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y default SALT will store source u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  <a:ea typeface="ＭＳ 明朝"/>
              </a:rPr>
              <a:t>[Dyalog]\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ich is the value found initially in the registry k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HKEY_CURRENT_USER\Software\Dyalog\Dyalog APL/W 11.0\SALT\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SourceFo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LT will replace</a:t>
            </a:r>
            <a:r>
              <a:rPr b="0" lang="en-GB" sz="2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  <a:ea typeface="ＭＳ 明朝"/>
              </a:rPr>
              <a:t>[Dyalog]</a:t>
            </a:r>
            <a:r>
              <a:rPr b="0" lang="en-US" sz="2800" spc="-1" strike="noStrike">
                <a:solidFill>
                  <a:srgbClr val="33cc33"/>
                </a:solidFill>
                <a:latin typeface="Verdana"/>
                <a:ea typeface="ＭＳ 明朝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明朝"/>
              </a:rPr>
              <a:t>by whatever location Dyalog is installe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明朝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6910560" y="44280"/>
            <a:ext cx="2125440" cy="1731960"/>
            <a:chOff x="6910560" y="44280"/>
            <a:chExt cx="2125440" cy="1731960"/>
          </a:xfrm>
        </p:grpSpPr>
        <p:pic>
          <p:nvPicPr>
            <p:cNvPr id="109" name="" descr=""/>
            <p:cNvPicPr/>
            <p:nvPr/>
          </p:nvPicPr>
          <p:blipFill>
            <a:blip r:embed="rId1"/>
            <a:stretch/>
          </p:blipFill>
          <p:spPr>
            <a:xfrm>
              <a:off x="7702560" y="44280"/>
              <a:ext cx="1333440" cy="173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6910560" y="582480"/>
              <a:ext cx="1008000" cy="576360"/>
            </a:xfrm>
            <a:prstGeom prst="rightArrow">
              <a:avLst>
                <a:gd name="adj1" fmla="val 50000"/>
                <a:gd name="adj2" fmla="val 4372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FAA7-DE2A-4944-AF68-102E23F7D7C9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toring using SAL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79280" y="1628280"/>
            <a:ext cx="896472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ere Dyalog was installed u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:\Program Files\Dyalog\V11 and the registry key was 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[Dyalog]\Classe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so the sources will all be stored u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:\Program Files\Dyalog\V11\Cla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ince we asked to store </a:t>
            </a:r>
            <a:r>
              <a:rPr b="0" lang="en-GB" sz="3200" spc="-1" strike="noStrike">
                <a:solidFill>
                  <a:srgbClr val="33cc33"/>
                </a:solidFill>
                <a:latin typeface="Arial"/>
              </a:rPr>
              <a:t>tes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under </a:t>
            </a:r>
            <a:r>
              <a:rPr b="0" lang="en-GB" sz="3200" spc="-1" strike="noStrike">
                <a:solidFill>
                  <a:srgbClr val="6666ff"/>
                </a:solidFill>
                <a:latin typeface="Arial"/>
              </a:rPr>
              <a:t>mine\tes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he final path, after adding the extension,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:\Program Files\Dyalog\V11\Classes\mine\test.Dyal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2760" y="2276640"/>
            <a:ext cx="5400720" cy="43164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12760" y="3860640"/>
            <a:ext cx="6985080" cy="43200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143080" y="2814480"/>
            <a:ext cx="3167280" cy="43200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50920" y="5464080"/>
            <a:ext cx="8785080" cy="43200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6948360" y="44280"/>
            <a:ext cx="2125440" cy="1731960"/>
            <a:chOff x="6948360" y="44280"/>
            <a:chExt cx="2125440" cy="17319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7740360" y="44280"/>
              <a:ext cx="1333440" cy="173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6948360" y="582480"/>
              <a:ext cx="1008000" cy="576360"/>
            </a:xfrm>
            <a:prstGeom prst="rightArrow">
              <a:avLst>
                <a:gd name="adj1" fmla="val 50000"/>
                <a:gd name="adj2" fmla="val 4372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71DB-EA3B-4DB5-B41D-DF7AF1D134E4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toring using SAL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43624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f a different location is desired the registry k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HKEY_CURRENT_USER\Software\Dyalog\Dyalog APL/W 11.0\SALT\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SourceFo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ust be modified</a:t>
            </a:r>
            <a:r>
              <a:rPr b="0" lang="en-US" sz="2800" spc="-1" strike="noStrike">
                <a:solidFill>
                  <a:srgbClr val="33cc33"/>
                </a:solidFill>
                <a:latin typeface="Verdana"/>
                <a:ea typeface="ＭＳ 明朝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明朝"/>
              </a:rPr>
              <a:t>to specify the locati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明朝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ＭＳ 明朝"/>
              </a:rPr>
              <a:t>For example you could decide that all scripts go under </a:t>
            </a:r>
            <a:r>
              <a:rPr b="0" lang="en-GB" sz="3200" spc="-1" strike="noStrike">
                <a:solidFill>
                  <a:srgbClr val="6666ff"/>
                </a:solidFill>
                <a:latin typeface="Arial"/>
                <a:ea typeface="ＭＳ 明朝"/>
              </a:rPr>
              <a:t>\CMS\DYW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ＭＳ 明朝"/>
              </a:rPr>
              <a:t>instead of the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6910560" y="44280"/>
            <a:ext cx="2125440" cy="1731960"/>
            <a:chOff x="6910560" y="44280"/>
            <a:chExt cx="2125440" cy="173196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7702560" y="44280"/>
              <a:ext cx="1333440" cy="173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6910560" y="582480"/>
              <a:ext cx="1008000" cy="576360"/>
            </a:xfrm>
            <a:prstGeom prst="rightArrow">
              <a:avLst>
                <a:gd name="adj1" fmla="val 50000"/>
                <a:gd name="adj2" fmla="val 4372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94FE-9C7F-4C94-86DD-4F7B6C74E7F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Viewing the file in Notep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539640" y="1484280"/>
            <a:ext cx="7345440" cy="47466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3492360" y="4005360"/>
            <a:ext cx="3384720" cy="17650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2053080" y="3357720"/>
            <a:ext cx="649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uble click the file opens with Notep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7688160" y="115920"/>
            <a:ext cx="1455840" cy="1332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F607-4860-42DF-A22C-E215D3F40A6E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isting folder cont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00000" y="2997360"/>
            <a:ext cx="7258320" cy="30384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753480" y="1628640"/>
            <a:ext cx="7425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Lis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akes a pathname as argument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splays its cont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596360" y="260280"/>
            <a:ext cx="1223640" cy="7923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CACA-F18F-4BE5-82CD-1A607338FE4B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isting folder cont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54200" y="1628640"/>
            <a:ext cx="790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ample, list the contents of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Samples\GUI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763640" y="2565360"/>
            <a:ext cx="5629320" cy="28386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7596360" y="260280"/>
            <a:ext cx="1223640" cy="7923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1113-05DD-418D-928B-8442CFE15C1E}" type="slidenum">
              <a:t>1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451640" y="1989000"/>
            <a:ext cx="1208160" cy="23749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30088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9900"/>
                </a:solidFill>
                <a:latin typeface="Arial"/>
              </a:rPr>
              <a:t>SALT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is a </a:t>
            </a:r>
            <a:r>
              <a:rPr b="0" lang="en-GB" sz="4000" spc="-1" strike="noStrike">
                <a:solidFill>
                  <a:srgbClr val="ff9900"/>
                </a:solidFill>
                <a:latin typeface="Arial"/>
              </a:rPr>
              <a:t>S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mple </a:t>
            </a:r>
            <a:r>
              <a:rPr b="0" lang="en-GB" sz="4000" spc="-1" strike="noStrike">
                <a:solidFill>
                  <a:srgbClr val="ff9900"/>
                </a:solidFill>
                <a:latin typeface="Arial"/>
              </a:rPr>
              <a:t>A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P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000" spc="-1" strike="noStrike">
                <a:solidFill>
                  <a:srgbClr val="ff9900"/>
                </a:solidFill>
                <a:latin typeface="Arial"/>
              </a:rPr>
              <a:t>L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brary </a:t>
            </a:r>
            <a:r>
              <a:rPr b="0" lang="en-GB" sz="4000" spc="-1" strike="noStrike">
                <a:solidFill>
                  <a:srgbClr val="ff9900"/>
                </a:solidFill>
                <a:latin typeface="Arial"/>
              </a:rPr>
              <a:t>T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oolk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a source code management system for Classes and script-based Namespaces in Dyalog AP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7D9D-7DB1-43BD-B32B-B5A27219D94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isting folder cont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54200" y="1413000"/>
            <a:ext cx="634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ample, list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Sample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3200" spc="-1" strike="noStrike">
                <a:solidFill>
                  <a:srgbClr val="ff9900"/>
                </a:solidFill>
                <a:latin typeface="Arial"/>
              </a:rPr>
              <a:t>recursively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835280" y="1989000"/>
            <a:ext cx="5897520" cy="43783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7596360" y="260280"/>
            <a:ext cx="1223640" cy="7923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794040" y="2608200"/>
            <a:ext cx="825480" cy="21600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E141-6E82-4356-A9D4-4916CCC90E83}" type="slidenum">
              <a:t>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xplo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Explor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llows to look at a script with an external editor or to browse using the OS’ explor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116000" y="3284640"/>
            <a:ext cx="6858000" cy="27432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7524720" y="189000"/>
            <a:ext cx="1490760" cy="1490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CDA3-3C4F-426A-8E08-DA78038C35D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xploring fold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16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ploring a folder merely opens up the disk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Explore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ample, exploring folder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Sample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324000" y="3860640"/>
            <a:ext cx="6858000" cy="18288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3348000" y="3645000"/>
            <a:ext cx="5448240" cy="26953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7524720" y="189000"/>
            <a:ext cx="1490760" cy="1490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8ACD-B0EE-46DF-BDF1-FC1D4883C6B7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xploring fold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244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ample, exploring folder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Samples\GUI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539640" y="2421000"/>
            <a:ext cx="4962600" cy="18288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3564000" y="3213000"/>
            <a:ext cx="5057640" cy="292428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7524720" y="189000"/>
            <a:ext cx="1490760" cy="1490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959C-6CE5-45BB-9C0D-2BE3B51A8B42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xploring fi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ploring a file opens up the file with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Notepa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ample, exploring file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Samples\GUI\Othello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468360" y="3068640"/>
            <a:ext cx="4962600" cy="18288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4067280" y="2997360"/>
            <a:ext cx="4228920" cy="332424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7524720" y="189000"/>
            <a:ext cx="1490760" cy="1490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D411-F473-47CB-8FC0-AE14A65EADFE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xploring fi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Notepa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is the program used by defaul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change this change the SALT registry key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EditorCM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use another program for just this time use the modifier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i="1" lang="en-GB" sz="3200" spc="-1" strike="noStrike">
                <a:solidFill>
                  <a:srgbClr val="ff9900"/>
                </a:solidFill>
                <a:latin typeface="Arial"/>
              </a:rPr>
              <a:t>us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with the name of the program to use e.g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cc33"/>
                </a:solidFill>
                <a:latin typeface="Arial"/>
              </a:rPr>
              <a:t>[]SE.SALT.Explore’Othello –use=...\</a:t>
            </a:r>
            <a:r>
              <a:rPr b="0" i="1" lang="en-GB" sz="3200" spc="-1" strike="noStrike">
                <a:solidFill>
                  <a:srgbClr val="33cc33"/>
                </a:solidFill>
                <a:latin typeface="Arial"/>
              </a:rPr>
              <a:t>WordPad</a:t>
            </a:r>
            <a:r>
              <a:rPr b="0" lang="en-GB" sz="3200" spc="-1" strike="noStrike">
                <a:solidFill>
                  <a:srgbClr val="33cc33"/>
                </a:solidFill>
                <a:latin typeface="Arial"/>
              </a:rPr>
              <a:t>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7524720" y="189000"/>
            <a:ext cx="1490760" cy="1490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C85A-B2B8-451A-941D-462EEFBF6405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oading from f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bjects can be brought back from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rough the use of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Loa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6659640" y="44280"/>
            <a:ext cx="2125440" cy="1731960"/>
            <a:chOff x="6659640" y="44280"/>
            <a:chExt cx="2125440" cy="1731960"/>
          </a:xfrm>
        </p:grpSpPr>
        <p:pic>
          <p:nvPicPr>
            <p:cNvPr id="168" name="" descr=""/>
            <p:cNvPicPr/>
            <p:nvPr/>
          </p:nvPicPr>
          <p:blipFill>
            <a:blip r:embed="rId1"/>
            <a:stretch/>
          </p:blipFill>
          <p:spPr>
            <a:xfrm>
              <a:off x="7451640" y="44280"/>
              <a:ext cx="1333440" cy="173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"/>
            <p:cNvSpPr/>
            <p:nvPr/>
          </p:nvSpPr>
          <p:spPr>
            <a:xfrm rot="10800000">
              <a:off x="6659640" y="581760"/>
              <a:ext cx="1008000" cy="576360"/>
            </a:xfrm>
            <a:prstGeom prst="rightArrow">
              <a:avLst>
                <a:gd name="adj1" fmla="val 50000"/>
                <a:gd name="adj2" fmla="val 4372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684360" y="2924280"/>
            <a:ext cx="3743280" cy="194292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4284720" y="3357720"/>
            <a:ext cx="3352680" cy="219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1616-97DD-41E1-8937-097E081970B7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oading from f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y default objects are brought in the current namespace. To select a different namespace use the –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targe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modifi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659640" y="44280"/>
            <a:ext cx="2125440" cy="1731960"/>
            <a:chOff x="6659640" y="44280"/>
            <a:chExt cx="2125440" cy="1731960"/>
          </a:xfrm>
        </p:grpSpPr>
        <p:pic>
          <p:nvPicPr>
            <p:cNvPr id="175" name="" descr=""/>
            <p:cNvPicPr/>
            <p:nvPr/>
          </p:nvPicPr>
          <p:blipFill>
            <a:blip r:embed="rId1"/>
            <a:stretch/>
          </p:blipFill>
          <p:spPr>
            <a:xfrm>
              <a:off x="7451640" y="44280"/>
              <a:ext cx="1333440" cy="173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 rot="10800000">
              <a:off x="6659640" y="581760"/>
              <a:ext cx="1008000" cy="576360"/>
            </a:xfrm>
            <a:prstGeom prst="rightArrow">
              <a:avLst>
                <a:gd name="adj1" fmla="val 50000"/>
                <a:gd name="adj2" fmla="val 4372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684360" y="3429000"/>
            <a:ext cx="3752640" cy="263844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3059280" y="4724280"/>
            <a:ext cx="934920" cy="21600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4788000" y="3716280"/>
            <a:ext cx="3066840" cy="158112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1457280" y="5138640"/>
            <a:ext cx="719280" cy="289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788000" y="3751200"/>
            <a:ext cx="934920" cy="289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F7D2-247A-45D0-BEC2-386EDEB89582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ettin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me functions assume global settings, e.g.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Explor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ssumes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Notepa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o view fi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setting comes from the registry and is brought into the session at start-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can be modified for the session or even for the time a function is u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settings can be modified for the session and even saved back into the regist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308720" y="115920"/>
            <a:ext cx="168444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6495-2003-4319-AD6C-8DACED3D4602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ettin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particular setting has a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nd a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valu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, just like in the regist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valu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can only be a string. It may be emp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308720" y="115920"/>
            <a:ext cx="1684440" cy="144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2398680" y="3068640"/>
            <a:ext cx="4334040" cy="3629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BBE1-B0B9-489B-8314-C2039C03F09A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411280" y="260280"/>
            <a:ext cx="4262400" cy="590544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Bas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5560" y="1844280"/>
            <a:ext cx="85071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LT consists in a series of functions stored in []SE to manipulate the source ([]SRC) of objec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rce code for each object (class or namespace) is stored in a single Unicode text file with a file extension of “.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yalo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st functions take a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string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o do their 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string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describes the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argument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nd possibly some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-modifier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for the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9F96-03C6-44ED-ACFB-C4E96B38450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ettin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function takes ‘’, 1 name or 1 name  followed by a value. With ‘’ it returns all the settings and their valu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2556000" y="3357720"/>
            <a:ext cx="4276440" cy="251460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7308720" y="115920"/>
            <a:ext cx="168444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F1A3-B2DC-4112-97EB-539FAD33A66B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ettin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ith 1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it returns the value associated with that particular name. Here the path to the editor to u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2124000" y="3789360"/>
            <a:ext cx="4896000" cy="240984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7308720" y="115920"/>
            <a:ext cx="168444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32CF-DB13-4B09-9134-8C3A9870A1B5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ettin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ith a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valu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it associates the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valu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with the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 Here we change the editor to use for the session to “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WordPad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2268360" y="3789360"/>
            <a:ext cx="5040360" cy="234648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7308720" y="115920"/>
            <a:ext cx="168444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E361-71F5-4AC8-9B9D-D9C0F0680C8D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ettin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763640" y="2852640"/>
            <a:ext cx="5903640" cy="1081080"/>
            <a:chOff x="1763640" y="2852640"/>
            <a:chExt cx="5903640" cy="1081080"/>
          </a:xfrm>
        </p:grpSpPr>
        <p:sp>
          <p:nvSpPr>
            <p:cNvPr id="203" name=""/>
            <p:cNvSpPr/>
            <p:nvPr/>
          </p:nvSpPr>
          <p:spPr>
            <a:xfrm>
              <a:off x="5896080" y="2852640"/>
              <a:ext cx="1771200" cy="1081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gist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763640" y="2852640"/>
              <a:ext cx="1711440" cy="1081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W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475080" y="3364200"/>
              <a:ext cx="24210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252000" y="1628640"/>
            <a:ext cx="7508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settings can be permanently stored in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gistry using the </a:t>
            </a:r>
            <a:r>
              <a:rPr b="0" lang="en-GB" sz="2800" spc="-1" strike="noStrike">
                <a:solidFill>
                  <a:srgbClr val="ff9900"/>
                </a:solidFill>
                <a:latin typeface="Arial"/>
              </a:rPr>
              <a:t>–</a:t>
            </a:r>
            <a:r>
              <a:rPr b="0" i="1" lang="en-GB" sz="2800" spc="-1" strike="noStrike">
                <a:solidFill>
                  <a:srgbClr val="ff9900"/>
                </a:solidFill>
                <a:latin typeface="Arial"/>
              </a:rPr>
              <a:t>permanen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modifi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2556000" y="4076640"/>
            <a:ext cx="4305240" cy="227664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7308720" y="115920"/>
            <a:ext cx="1684440" cy="144144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4356000" y="4743360"/>
            <a:ext cx="936720" cy="21600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694D-4D65-43FB-9390-B7D672D08366}" type="slidenum">
              <a:t>3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ettin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50920" y="1628640"/>
            <a:ext cx="7468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settings can be restored from the regist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ing the </a:t>
            </a:r>
            <a:r>
              <a:rPr b="0" lang="en-GB" sz="2800" spc="-1" strike="noStrike">
                <a:solidFill>
                  <a:srgbClr val="ff9900"/>
                </a:solidFill>
                <a:latin typeface="Arial"/>
              </a:rPr>
              <a:t>–</a:t>
            </a:r>
            <a:r>
              <a:rPr b="0" i="1" lang="en-GB" sz="2800" spc="-1" strike="noStrike">
                <a:solidFill>
                  <a:srgbClr val="ff9900"/>
                </a:solidFill>
                <a:latin typeface="Arial"/>
              </a:rPr>
              <a:t>rese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modifi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92360" y="2781360"/>
            <a:ext cx="5833440" cy="1079280"/>
            <a:chOff x="1692360" y="2781360"/>
            <a:chExt cx="5833440" cy="1079280"/>
          </a:xfrm>
        </p:grpSpPr>
        <p:sp>
          <p:nvSpPr>
            <p:cNvPr id="213" name=""/>
            <p:cNvSpPr/>
            <p:nvPr/>
          </p:nvSpPr>
          <p:spPr>
            <a:xfrm>
              <a:off x="5775840" y="2781360"/>
              <a:ext cx="1749960" cy="1079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gist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692360" y="2781360"/>
              <a:ext cx="1691280" cy="1079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W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>
              <a:off x="3383280" y="3292200"/>
              <a:ext cx="23922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2556000" y="4005360"/>
            <a:ext cx="4305240" cy="2276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7308720" y="115920"/>
            <a:ext cx="1684440" cy="14414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4356000" y="4672080"/>
            <a:ext cx="647640" cy="21600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88FB-888F-4E7D-8A84-DDAFA59B060B}" type="slidenum">
              <a:t>3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ettin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36400" y="1722600"/>
            <a:ext cx="8241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ttings can also be overridden temporarily for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uration of a statement, for example to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us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mporarily another editor while explor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468360" y="3284640"/>
            <a:ext cx="8259840" cy="218124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4284720" y="4159080"/>
            <a:ext cx="4103640" cy="43200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7308720" y="115920"/>
            <a:ext cx="1684440" cy="1441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2B7A-B949-4789-A22E-96C6A0059C2B}" type="slidenum">
              <a:t>3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7494480" y="1847880"/>
            <a:ext cx="1614600" cy="388620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LT has a number of features that make it more interesting than a simple store and retrieve utility. It 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ore several versions of a scri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mpare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move ver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un scripts without fixing them in the 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rt automatic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DD78-5607-4081-9111-51AE830F2D49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7308720" y="-27000"/>
            <a:ext cx="1835280" cy="165564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4788000" y="2997360"/>
            <a:ext cx="2933640" cy="249552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4716360" y="4437000"/>
            <a:ext cx="3219480" cy="126684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toring several versions of a scrip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LT can save back a script on file right after it has been modifi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900000" y="2637000"/>
            <a:ext cx="2914920" cy="19904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371520" y="4648320"/>
            <a:ext cx="4211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fter modification you are promp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confirm saving over the pres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cript fi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436360" y="2637000"/>
            <a:ext cx="155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odify &lt;test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22D2-509B-48E2-9B2A-D3A5B15E85AA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7308720" y="-27000"/>
            <a:ext cx="1835280" cy="165564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toring several versions of a scrip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also happens if you modify a fn of a class on the sta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0" y="4797360"/>
            <a:ext cx="5292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fter modification you are prompted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firm saving over the present script fi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ce saved both the script and the clas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e modified and you can resume execu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611280" y="2637000"/>
            <a:ext cx="2895480" cy="210492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4284720" y="2781360"/>
            <a:ext cx="2905200" cy="145728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4"/>
          <a:stretch/>
        </p:blipFill>
        <p:spPr>
          <a:xfrm>
            <a:off x="4284720" y="2852640"/>
            <a:ext cx="3257640" cy="16668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5"/>
          <a:stretch/>
        </p:blipFill>
        <p:spPr>
          <a:xfrm>
            <a:off x="5292720" y="4797360"/>
            <a:ext cx="3219480" cy="126684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1190520" y="4941720"/>
            <a:ext cx="162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rror happ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861800" y="4221000"/>
            <a:ext cx="177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ack shows 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006160" y="4508640"/>
            <a:ext cx="18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dit the 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E5B1-A24D-4BD2-B016-3D823F0AA341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7308720" y="-27000"/>
            <a:ext cx="1835280" cy="165564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Keeping several versions of a scrip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7775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You can store and KEEP several ver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f a scrip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y using the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–</a:t>
            </a:r>
            <a:r>
              <a:rPr b="0" i="1" lang="en-GB" sz="3200" spc="-1" strike="noStrike">
                <a:solidFill>
                  <a:srgbClr val="ff9900"/>
                </a:solidFill>
                <a:latin typeface="Arial"/>
              </a:rPr>
              <a:t>versio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modifier you tel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LT to start using version number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2124000" y="4076640"/>
            <a:ext cx="5181840" cy="194328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5219640" y="4897440"/>
            <a:ext cx="1152720" cy="22536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211640" y="4734000"/>
            <a:ext cx="865080" cy="22536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EE41-112F-4C91-A544-17D961C83587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omman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LT functions are monadic. Th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ve classes in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st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plore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ad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d m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 rot="232800">
            <a:off x="5795640" y="2133360"/>
            <a:ext cx="2376360" cy="4262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C513-7316-48F3-A3AD-7B3965D806B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7308720" y="-27000"/>
            <a:ext cx="1835280" cy="165564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Keeping several versions of a scrip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very time you modify a script SA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ores the definition in a new fi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4643280" y="3357720"/>
            <a:ext cx="3257640" cy="282888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3"/>
          <a:stretch/>
        </p:blipFill>
        <p:spPr>
          <a:xfrm>
            <a:off x="1042920" y="3573360"/>
            <a:ext cx="3171960" cy="261000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2413080" y="285264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V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086520" y="285264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435640" y="4292640"/>
            <a:ext cx="1440000" cy="50472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580000" y="5046840"/>
            <a:ext cx="287280" cy="22536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D184-5F71-4EC3-8CE5-7668E7AB9899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611280" y="4076640"/>
            <a:ext cx="4333680" cy="21909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611280" y="1916280"/>
            <a:ext cx="4333680" cy="17524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3"/>
          <a:stretch/>
        </p:blipFill>
        <p:spPr>
          <a:xfrm>
            <a:off x="7308720" y="-27000"/>
            <a:ext cx="1835280" cy="1655640"/>
          </a:xfrm>
          <a:prstGeom prst="rect">
            <a:avLst/>
          </a:prstGeom>
          <a:ln w="0">
            <a:noFill/>
          </a:ln>
        </p:spPr>
      </p:pic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Keeping several versions of a scrip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7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ist can show the various vers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78800" y="3635280"/>
            <a:ext cx="730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ut you need to supply the </a:t>
            </a:r>
            <a:r>
              <a:rPr b="0" lang="en-GB" sz="2800" spc="-1" strike="noStrike">
                <a:solidFill>
                  <a:srgbClr val="ff9900"/>
                </a:solidFill>
                <a:latin typeface="Arial"/>
              </a:rPr>
              <a:t>–</a:t>
            </a:r>
            <a:r>
              <a:rPr b="0" i="1" lang="en-GB" sz="2800" spc="-1" strike="noStrike">
                <a:solidFill>
                  <a:srgbClr val="ff9900"/>
                </a:solidFill>
                <a:latin typeface="Arial"/>
              </a:rPr>
              <a:t>versio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modifi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059280" y="4759200"/>
            <a:ext cx="718920" cy="22572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938160" y="2887560"/>
            <a:ext cx="3384720" cy="225360"/>
          </a:xfrm>
          <a:prstGeom prst="rect">
            <a:avLst/>
          </a:prstGeom>
          <a:solidFill>
            <a:srgbClr val="33cc33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971640" y="5056200"/>
            <a:ext cx="3384360" cy="225360"/>
          </a:xfrm>
          <a:prstGeom prst="rect">
            <a:avLst/>
          </a:prstGeom>
          <a:solidFill>
            <a:srgbClr val="33cc33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517000" y="5445000"/>
            <a:ext cx="286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f started without ver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umbering the original h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 version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763640" y="5618160"/>
            <a:ext cx="367200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28640" y="5516640"/>
            <a:ext cx="287640" cy="217440"/>
          </a:xfrm>
          <a:prstGeom prst="ellipse">
            <a:avLst/>
          </a:prstGeom>
          <a:solidFill>
            <a:srgbClr val="bbe0e3">
              <a:alpha val="5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513040" y="4292640"/>
            <a:ext cx="271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latest version 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lways visible and on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H="1" flipV="1">
            <a:off x="4211280" y="3141360"/>
            <a:ext cx="1368360" cy="143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4356000" y="4653000"/>
            <a:ext cx="122400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12E8-D124-49D9-B77C-E8033D114E22}" type="slidenum">
              <a:t>4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omparing vers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82803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9900"/>
                </a:solidFill>
                <a:latin typeface="Arial"/>
              </a:rPr>
              <a:t>Compar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s used for tha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ou must give it the name of the script(s) and the versions to compa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no version is specified the 2 highest versions are us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a single number is specified it is compared with the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highes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ver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:  []SE.SALT.Compare ‘fileA –</a:t>
            </a:r>
            <a:r>
              <a:rPr b="0" lang="en-GB" sz="2800" spc="-1" strike="noStrike">
                <a:solidFill>
                  <a:srgbClr val="ff9900"/>
                </a:solidFill>
                <a:latin typeface="Arial"/>
              </a:rPr>
              <a:t>versio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=5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ill compare version 5 of &lt;fileA&gt; with its highest version (probably also most rec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7340040" y="216000"/>
            <a:ext cx="1660320" cy="1169640"/>
            <a:chOff x="7340040" y="216000"/>
            <a:chExt cx="1660320" cy="1169640"/>
          </a:xfrm>
        </p:grpSpPr>
        <p:sp>
          <p:nvSpPr>
            <p:cNvPr id="279" name=""/>
            <p:cNvSpPr/>
            <p:nvPr/>
          </p:nvSpPr>
          <p:spPr>
            <a:xfrm rot="19807800">
              <a:off x="7524720" y="333000"/>
              <a:ext cx="720720" cy="93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rot="1701000">
              <a:off x="8100720" y="333000"/>
              <a:ext cx="720720" cy="93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887600" y="533160"/>
              <a:ext cx="60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=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F3D0-AD11-432B-BDF2-8D5D9E4D9AC7}" type="slidenum">
              <a:t>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omparing vers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rmally, </a:t>
            </a:r>
            <a:r>
              <a:rPr b="0" lang="en-GB" sz="2800" spc="-1" strike="noStrike">
                <a:solidFill>
                  <a:srgbClr val="ff9900"/>
                </a:solidFill>
                <a:latin typeface="Arial"/>
              </a:rPr>
              <a:t>Compar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will use its own compa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de to perform the comparis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a different program is wanted it should either be specified on the statement line with the </a:t>
            </a:r>
            <a:r>
              <a:rPr b="0" lang="en-GB" sz="2800" spc="-1" strike="noStrike">
                <a:solidFill>
                  <a:srgbClr val="ff9900"/>
                </a:solidFill>
                <a:latin typeface="Arial"/>
              </a:rPr>
              <a:t>–</a:t>
            </a:r>
            <a:r>
              <a:rPr b="0" i="1" lang="en-GB" sz="2800" spc="-1" strike="noStrike">
                <a:solidFill>
                  <a:srgbClr val="ff9900"/>
                </a:solidFill>
                <a:latin typeface="Arial"/>
              </a:rPr>
              <a:t>us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modifier or be set permanently in the regist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GB" sz="2800" spc="-1" strike="noStrike">
                <a:solidFill>
                  <a:srgbClr val="ff9900"/>
                </a:solidFill>
                <a:latin typeface="Arial"/>
              </a:rPr>
              <a:t>SAL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registry key to use is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CompareCM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t should specify the path of the program to use or ‘APL’ if SALT is to do it itsel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7340040" y="216000"/>
            <a:ext cx="1660320" cy="1169640"/>
            <a:chOff x="7340040" y="216000"/>
            <a:chExt cx="1660320" cy="1169640"/>
          </a:xfrm>
        </p:grpSpPr>
        <p:sp>
          <p:nvSpPr>
            <p:cNvPr id="285" name=""/>
            <p:cNvSpPr/>
            <p:nvPr/>
          </p:nvSpPr>
          <p:spPr>
            <a:xfrm rot="19807800">
              <a:off x="7524720" y="333000"/>
              <a:ext cx="720720" cy="93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rot="1701000">
              <a:off x="8100720" y="333000"/>
              <a:ext cx="720720" cy="93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887600" y="533160"/>
              <a:ext cx="60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=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337F-BE1E-4878-98C7-8B8CBFF094F9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omparing versions external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example, to use </a:t>
            </a:r>
            <a:r>
              <a:rPr b="0" i="1" lang="en-GB" sz="2400" spc="-1" strike="noStrike">
                <a:solidFill>
                  <a:srgbClr val="ff0000"/>
                </a:solidFill>
                <a:latin typeface="Arial"/>
              </a:rPr>
              <a:t>Compare It!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a third party piece of software available from the net, you can set the </a:t>
            </a:r>
            <a:r>
              <a:rPr b="0" lang="en-GB" sz="2400" spc="-1" strike="noStrike">
                <a:solidFill>
                  <a:srgbClr val="ff9900"/>
                </a:solidFill>
                <a:latin typeface="Arial"/>
              </a:rPr>
              <a:t>SAL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registry key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CompareCM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[ProgramFiles]\Compare It!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r the </a:t>
            </a:r>
            <a:r>
              <a:rPr b="0" i="1" lang="en-GB" sz="2400" spc="-1" strike="noStrike">
                <a:solidFill>
                  <a:srgbClr val="ff0000"/>
                </a:solidFill>
                <a:latin typeface="Arial"/>
              </a:rPr>
              <a:t>full pathnam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o its loc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nsert </a:t>
            </a:r>
            <a:r>
              <a:rPr b="0" lang="en-GB" sz="2400" spc="-1" strike="noStrike">
                <a:solidFill>
                  <a:srgbClr val="33cc33"/>
                </a:solidFill>
                <a:latin typeface="Arial"/>
              </a:rPr>
              <a:t>-use=pathnameToProgram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o call said program in the statement, e.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7340040" y="216000"/>
            <a:ext cx="1660320" cy="1169640"/>
            <a:chOff x="7340040" y="216000"/>
            <a:chExt cx="1660320" cy="1169640"/>
          </a:xfrm>
        </p:grpSpPr>
        <p:sp>
          <p:nvSpPr>
            <p:cNvPr id="291" name=""/>
            <p:cNvSpPr/>
            <p:nvPr/>
          </p:nvSpPr>
          <p:spPr>
            <a:xfrm rot="19807800">
              <a:off x="7524720" y="333000"/>
              <a:ext cx="720720" cy="93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rot="1701000">
              <a:off x="8100720" y="333000"/>
              <a:ext cx="720720" cy="93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887600" y="533160"/>
              <a:ext cx="60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=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1663560" y="4660920"/>
            <a:ext cx="6077160" cy="150480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4211640" y="5373720"/>
            <a:ext cx="3240000" cy="14436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5823-6444-49AB-B601-1D566CD7A7D1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1042920" y="1484280"/>
            <a:ext cx="7056360" cy="4019760"/>
          </a:xfrm>
          <a:prstGeom prst="rect">
            <a:avLst/>
          </a:prstGeom>
          <a:ln w="0">
            <a:noFill/>
          </a:ln>
        </p:spPr>
      </p:pic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omparing versions external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7340040" y="216000"/>
            <a:ext cx="1660320" cy="1169640"/>
            <a:chOff x="7340040" y="216000"/>
            <a:chExt cx="1660320" cy="1169640"/>
          </a:xfrm>
        </p:grpSpPr>
        <p:sp>
          <p:nvSpPr>
            <p:cNvPr id="299" name=""/>
            <p:cNvSpPr/>
            <p:nvPr/>
          </p:nvSpPr>
          <p:spPr>
            <a:xfrm rot="19807800">
              <a:off x="7524720" y="333000"/>
              <a:ext cx="720720" cy="93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 rot="1701000">
              <a:off x="8100720" y="333000"/>
              <a:ext cx="720720" cy="93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887600" y="533160"/>
              <a:ext cx="60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=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1984320" y="5589720"/>
            <a:ext cx="554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ternal program pops up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91CD-6AF1-4718-ACE1-6A4BD2654A35}" type="slidenum">
              <a:t>4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3" name=""/>
          <p:cNvGrpSpPr/>
          <p:nvPr/>
        </p:nvGrpSpPr>
        <p:grpSpPr>
          <a:xfrm>
            <a:off x="7340040" y="216000"/>
            <a:ext cx="1660320" cy="1169640"/>
            <a:chOff x="7340040" y="216000"/>
            <a:chExt cx="1660320" cy="1169640"/>
          </a:xfrm>
        </p:grpSpPr>
        <p:sp>
          <p:nvSpPr>
            <p:cNvPr id="304" name=""/>
            <p:cNvSpPr/>
            <p:nvPr/>
          </p:nvSpPr>
          <p:spPr>
            <a:xfrm rot="19807800">
              <a:off x="7524720" y="333000"/>
              <a:ext cx="720720" cy="93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 rot="1701000">
              <a:off x="8100720" y="333000"/>
              <a:ext cx="720720" cy="93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887600" y="533160"/>
              <a:ext cx="60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=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Showing differences between ver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7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‘APL’ is the method chosen to compar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output will appear in the session like th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203640" y="2565360"/>
            <a:ext cx="5276880" cy="3314880"/>
            <a:chOff x="3203640" y="2565360"/>
            <a:chExt cx="5276880" cy="3314880"/>
          </a:xfrm>
        </p:grpSpPr>
        <p:pic>
          <p:nvPicPr>
            <p:cNvPr id="310" name="" descr=""/>
            <p:cNvPicPr/>
            <p:nvPr/>
          </p:nvPicPr>
          <p:blipFill>
            <a:blip r:embed="rId1"/>
            <a:stretch/>
          </p:blipFill>
          <p:spPr>
            <a:xfrm>
              <a:off x="3203640" y="2565360"/>
              <a:ext cx="5276880" cy="33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"/>
            <p:cNvSpPr/>
            <p:nvPr/>
          </p:nvSpPr>
          <p:spPr>
            <a:xfrm>
              <a:off x="3203640" y="4005360"/>
              <a:ext cx="2881440" cy="360360"/>
            </a:xfrm>
            <a:prstGeom prst="rect">
              <a:avLst/>
            </a:prstGeom>
            <a:solidFill>
              <a:srgbClr val="33cc33">
                <a:alpha val="34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203640" y="4616640"/>
              <a:ext cx="2881440" cy="360360"/>
            </a:xfrm>
            <a:prstGeom prst="rect">
              <a:avLst/>
            </a:prstGeom>
            <a:solidFill>
              <a:srgbClr val="33cc33">
                <a:alpha val="34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375600" y="400536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ines insert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356880" y="4603680"/>
              <a:ext cx="157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ines modifi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>
              <a:off x="5940360" y="4797360"/>
              <a:ext cx="43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 flipH="1">
              <a:off x="5940360" y="4202280"/>
              <a:ext cx="43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17" name="" descr=""/>
          <p:cNvPicPr/>
          <p:nvPr/>
        </p:nvPicPr>
        <p:blipFill>
          <a:blip r:embed="rId2"/>
          <a:stretch/>
        </p:blipFill>
        <p:spPr>
          <a:xfrm>
            <a:off x="4510080" y="3367080"/>
            <a:ext cx="123840" cy="12384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3"/>
          <a:stretch/>
        </p:blipFill>
        <p:spPr>
          <a:xfrm>
            <a:off x="4726080" y="3583080"/>
            <a:ext cx="123840" cy="12384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470880" y="3860640"/>
            <a:ext cx="2210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used to den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serted l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←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used to den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leted l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700360" y="407664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700360" y="4076640"/>
            <a:ext cx="43164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700360" y="407664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700360" y="486900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B862-CF40-402D-87F6-4E200E78BF45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1547640" y="3429000"/>
            <a:ext cx="5943600" cy="203832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leaning up (removing version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7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fter a while many versions may clutter a folder and some versions may get ridden o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ALT allows to selectively erase fi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moveVersion is the function to use, like th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2"/>
          <a:stretch/>
        </p:blipFill>
        <p:spPr>
          <a:xfrm>
            <a:off x="7812000" y="52560"/>
            <a:ext cx="1314360" cy="157608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3"/>
          <a:stretch/>
        </p:blipFill>
        <p:spPr>
          <a:xfrm>
            <a:off x="3492360" y="4149720"/>
            <a:ext cx="2076480" cy="126684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4"/>
          <a:stretch/>
        </p:blipFill>
        <p:spPr>
          <a:xfrm>
            <a:off x="1547640" y="3429000"/>
            <a:ext cx="5943600" cy="2038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D84A-9DD6-4DBE-B69D-24CD61BC40CA}" type="slidenum">
              <a:t>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leaning up (removing version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7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remove less than a version (e.g.7) you can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cc33"/>
                </a:solidFill>
                <a:latin typeface="Arial"/>
              </a:rPr>
              <a:t>-versio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=&lt;7 (or &gt;, et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remove them all instead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cc33"/>
                </a:solidFill>
                <a:latin typeface="Arial"/>
              </a:rPr>
              <a:t>-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te that </a:t>
            </a:r>
            <a:r>
              <a:rPr b="0" lang="en-GB" sz="2800" spc="-1" strike="noStrike">
                <a:solidFill>
                  <a:srgbClr val="33cc33"/>
                </a:solidFill>
                <a:latin typeface="Arial"/>
              </a:rPr>
              <a:t>-all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leaves 1 version (the highest version) around which it renames to remove the version number. Th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9900"/>
                </a:solidFill>
                <a:latin typeface="Arial"/>
              </a:rPr>
              <a:t>mine\test.4.dyalog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beco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9900"/>
                </a:solidFill>
                <a:latin typeface="Arial"/>
              </a:rPr>
              <a:t>mine\test.dyal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7812000" y="52560"/>
            <a:ext cx="1314360" cy="157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1A37-2EB1-4FE2-9D2E-CF3F6BC5CD3C}" type="slidenum">
              <a:t>4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3" name=""/>
          <p:cNvGrpSpPr/>
          <p:nvPr/>
        </p:nvGrpSpPr>
        <p:grpSpPr>
          <a:xfrm>
            <a:off x="1042920" y="2492280"/>
            <a:ext cx="6991560" cy="2295720"/>
            <a:chOff x="1042920" y="2492280"/>
            <a:chExt cx="6991560" cy="2295720"/>
          </a:xfrm>
        </p:grpSpPr>
        <p:pic>
          <p:nvPicPr>
            <p:cNvPr id="334" name="" descr=""/>
            <p:cNvPicPr/>
            <p:nvPr/>
          </p:nvPicPr>
          <p:blipFill>
            <a:blip r:embed="rId1"/>
            <a:stretch/>
          </p:blipFill>
          <p:spPr>
            <a:xfrm>
              <a:off x="1042920" y="2492280"/>
              <a:ext cx="6991560" cy="229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"/>
            <p:cNvSpPr/>
            <p:nvPr/>
          </p:nvSpPr>
          <p:spPr>
            <a:xfrm>
              <a:off x="4427640" y="3141720"/>
              <a:ext cx="965160" cy="241200"/>
            </a:xfrm>
            <a:prstGeom prst="rect">
              <a:avLst/>
            </a:prstGeom>
            <a:solidFill>
              <a:srgbClr val="ff9900">
                <a:alpha val="34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leaning up (removing version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7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collapsing effect of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-all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can be achieved with higher versions by using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-collaps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7812000" y="52560"/>
            <a:ext cx="1314360" cy="157608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3"/>
          <a:stretch/>
        </p:blipFill>
        <p:spPr>
          <a:xfrm>
            <a:off x="3492360" y="3429000"/>
            <a:ext cx="2171880" cy="126684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735120" y="5006880"/>
            <a:ext cx="77245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975600" y="5013360"/>
            <a:ext cx="719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last file of the group deleted has been given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xt version number and renamed according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4"/>
          <a:stretch/>
        </p:blipFill>
        <p:spPr>
          <a:xfrm>
            <a:off x="1042920" y="2492280"/>
            <a:ext cx="6991560" cy="2295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00D0-05E8-41AC-A6FF-00EBBE5D5967}" type="slidenum">
              <a:t>4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804000" y="44280"/>
            <a:ext cx="2254320" cy="230364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LT stores source in Unico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(UCS-2) files whose extension is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.Dya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.Dyalog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les are configured to be opened automatically with Notepad under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 Windows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pon V11 instal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ecause of compatibility with Unix, the naming of the files is case sensit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9BAA-0790-42E0-B86F-BDD6A175EDBE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4208400" y="3789360"/>
            <a:ext cx="4305240" cy="2457360"/>
          </a:xfrm>
          <a:prstGeom prst="rect">
            <a:avLst/>
          </a:prstGeom>
          <a:ln w="0">
            <a:noFill/>
          </a:ln>
        </p:spPr>
      </p:pic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Running scrip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en scripts are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Loa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d into the ws they become objects ready to be u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 example, if script </a:t>
            </a:r>
            <a:r>
              <a:rPr b="0" lang="en-GB" sz="3200" spc="-1" strike="noStrike">
                <a:solidFill>
                  <a:srgbClr val="6666ff"/>
                </a:solidFill>
                <a:latin typeface="Arial"/>
              </a:rPr>
              <a:t>mine\testB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contains class </a:t>
            </a:r>
            <a:r>
              <a:rPr b="0" lang="en-GB" sz="3200" spc="-1" strike="noStrike">
                <a:solidFill>
                  <a:srgbClr val="33cc33"/>
                </a:solidFill>
                <a:latin typeface="Arial"/>
              </a:rPr>
              <a:t>TB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hen this class can be used immediately as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2"/>
          <a:stretch/>
        </p:blipFill>
        <p:spPr>
          <a:xfrm>
            <a:off x="7740720" y="155520"/>
            <a:ext cx="1258920" cy="112572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3"/>
          <a:stretch/>
        </p:blipFill>
        <p:spPr>
          <a:xfrm>
            <a:off x="468360" y="4221000"/>
            <a:ext cx="3085920" cy="198144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/>
          <p:nvPr/>
        </p:nvSpPr>
        <p:spPr>
          <a:xfrm>
            <a:off x="639720" y="4240080"/>
            <a:ext cx="865080" cy="289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734080" y="4413240"/>
            <a:ext cx="1008000" cy="289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971640" y="4653000"/>
            <a:ext cx="360360" cy="288720"/>
          </a:xfrm>
          <a:prstGeom prst="ellipse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157720" y="4878360"/>
            <a:ext cx="360360" cy="289080"/>
          </a:xfrm>
          <a:prstGeom prst="ellipse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213F-E69B-4738-99E5-19FAA35EA2F0}" type="slidenum">
              <a:t>5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4284720" y="3573360"/>
            <a:ext cx="4305240" cy="2686320"/>
          </a:xfrm>
          <a:prstGeom prst="rect">
            <a:avLst/>
          </a:prstGeom>
          <a:ln w="0">
            <a:noFill/>
          </a:ln>
        </p:spPr>
      </p:pic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Running scrip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metimes a different name i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Loa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can be instructed to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 class instead of fixing it in the ws by using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-nonam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modifi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2"/>
          <a:stretch/>
        </p:blipFill>
        <p:spPr>
          <a:xfrm>
            <a:off x="7740720" y="155520"/>
            <a:ext cx="1258920" cy="112572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3"/>
          <a:stretch/>
        </p:blipFill>
        <p:spPr>
          <a:xfrm>
            <a:off x="468360" y="4221000"/>
            <a:ext cx="3085920" cy="198144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639720" y="4240080"/>
            <a:ext cx="865080" cy="289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16720" y="4508640"/>
            <a:ext cx="865080" cy="287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971640" y="4653000"/>
            <a:ext cx="360360" cy="288720"/>
          </a:xfrm>
          <a:prstGeom prst="ellipse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481640" y="5435640"/>
            <a:ext cx="360360" cy="288720"/>
          </a:xfrm>
          <a:prstGeom prst="ellipse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7413480" y="4562640"/>
            <a:ext cx="574920" cy="21564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71F8-D3E3-4F4C-ABC5-AB4190F08794}" type="slidenum">
              <a:t>5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" descr=""/>
          <p:cNvPicPr/>
          <p:nvPr/>
        </p:nvPicPr>
        <p:blipFill>
          <a:blip r:embed="rId1"/>
          <a:stretch/>
        </p:blipFill>
        <p:spPr>
          <a:xfrm>
            <a:off x="4140360" y="3645000"/>
            <a:ext cx="4171680" cy="2543040"/>
          </a:xfrm>
          <a:prstGeom prst="rect">
            <a:avLst/>
          </a:prstGeom>
          <a:ln w="0">
            <a:noFill/>
          </a:ln>
        </p:spPr>
      </p:pic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Running scrip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7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metimes it is unnecessary to bring in the class and only an instance i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New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uses internally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Loa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’s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-nonam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modifier to achieve th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2"/>
          <a:stretch/>
        </p:blipFill>
        <p:spPr>
          <a:xfrm>
            <a:off x="7740720" y="155520"/>
            <a:ext cx="1258920" cy="1125720"/>
          </a:xfrm>
          <a:prstGeom prst="rect">
            <a:avLst/>
          </a:prstGeom>
          <a:ln w="0">
            <a:noFill/>
          </a:ln>
        </p:spPr>
      </p:pic>
      <p:pic>
        <p:nvPicPr>
          <p:cNvPr id="366" name="" descr=""/>
          <p:cNvPicPr/>
          <p:nvPr/>
        </p:nvPicPr>
        <p:blipFill>
          <a:blip r:embed="rId3"/>
          <a:stretch/>
        </p:blipFill>
        <p:spPr>
          <a:xfrm>
            <a:off x="468360" y="4221000"/>
            <a:ext cx="3085920" cy="198144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639720" y="4240080"/>
            <a:ext cx="865080" cy="289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753160" y="4759200"/>
            <a:ext cx="1008000" cy="289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971640" y="4643280"/>
            <a:ext cx="360360" cy="289080"/>
          </a:xfrm>
          <a:prstGeom prst="ellipse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327560" y="5383080"/>
            <a:ext cx="360360" cy="289080"/>
          </a:xfrm>
          <a:prstGeom prst="ellipse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26C7-0B02-49B2-B067-E53F15FD861B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utomatic sta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LT also supports the loading and starting of applications from an “application file” with an extension of “.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yap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 rot="19346400">
            <a:off x="7164360" y="0"/>
            <a:ext cx="1843200" cy="21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AFC7-36CC-4915-B26B-2EDF39B0460F}" type="slidenum">
              <a:t>5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utomatic sta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put in the </a:t>
            </a:r>
            <a:r>
              <a:rPr b="0" i="1" lang="en-US" sz="3200" spc="-1" strike="noStrike">
                <a:solidFill>
                  <a:srgbClr val="ff9900"/>
                </a:solidFill>
                <a:latin typeface="Arial"/>
              </a:rPr>
              <a:t>dyap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ile the instructions to perform the task: all the 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loa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 and 1 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ru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tatement. e.g.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tretch/>
        </p:blipFill>
        <p:spPr>
          <a:xfrm rot="19346400">
            <a:off x="7164360" y="0"/>
            <a:ext cx="1843200" cy="2173320"/>
          </a:xfrm>
          <a:prstGeom prst="rect">
            <a:avLst/>
          </a:prstGeom>
          <a:ln w="0">
            <a:noFill/>
          </a:ln>
        </p:spPr>
      </p:pic>
      <p:pic>
        <p:nvPicPr>
          <p:cNvPr id="377" name="" descr=""/>
          <p:cNvPicPr/>
          <p:nvPr/>
        </p:nvPicPr>
        <p:blipFill>
          <a:blip r:embed="rId2"/>
          <a:stretch/>
        </p:blipFill>
        <p:spPr>
          <a:xfrm>
            <a:off x="6012000" y="3068640"/>
            <a:ext cx="2504880" cy="1057320"/>
          </a:xfrm>
          <a:prstGeom prst="rect">
            <a:avLst/>
          </a:prstGeom>
          <a:ln w="0">
            <a:noFill/>
          </a:ln>
        </p:spPr>
      </p:pic>
      <p:pic>
        <p:nvPicPr>
          <p:cNvPr id="378" name="" descr=""/>
          <p:cNvPicPr/>
          <p:nvPr/>
        </p:nvPicPr>
        <p:blipFill>
          <a:blip r:embed="rId3"/>
          <a:stretch/>
        </p:blipFill>
        <p:spPr>
          <a:xfrm>
            <a:off x="6012000" y="4365720"/>
            <a:ext cx="2504880" cy="2171520"/>
          </a:xfrm>
          <a:prstGeom prst="rect">
            <a:avLst/>
          </a:prstGeom>
          <a:ln w="0">
            <a:noFill/>
          </a:ln>
        </p:spPr>
      </p:pic>
      <p:pic>
        <p:nvPicPr>
          <p:cNvPr id="379" name="" descr=""/>
          <p:cNvPicPr/>
          <p:nvPr/>
        </p:nvPicPr>
        <p:blipFill>
          <a:blip r:embed="rId4"/>
          <a:stretch/>
        </p:blipFill>
        <p:spPr>
          <a:xfrm>
            <a:off x="971640" y="3933720"/>
            <a:ext cx="4371840" cy="2181240"/>
          </a:xfrm>
          <a:prstGeom prst="rect">
            <a:avLst/>
          </a:prstGeom>
          <a:ln w="0">
            <a:noFill/>
          </a:ln>
        </p:spPr>
      </p:pic>
      <p:sp>
        <p:nvSpPr>
          <p:cNvPr id="380" name=""/>
          <p:cNvSpPr/>
          <p:nvPr/>
        </p:nvSpPr>
        <p:spPr>
          <a:xfrm>
            <a:off x="3708360" y="2421000"/>
            <a:ext cx="2590920" cy="793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6877080" y="3716280"/>
            <a:ext cx="71280" cy="792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 flipH="1">
            <a:off x="6659640" y="3933720"/>
            <a:ext cx="71280" cy="1511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0DF8-6567-4B8C-A6CB-35B8AA884118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Other good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LT allows to have multiple working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n perform the required loads automatic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as external ut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orks with Sp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6647040" y="0"/>
            <a:ext cx="2496960" cy="192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3C73-7729-49AC-83A6-65B98F00AA10}" type="slidenum">
              <a:t>5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Multiple workdi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You can have several working directories to split work into logical are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 ex: you could put all utilities in a separate tre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tell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SAL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o use different directories you list them in the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SAL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registry key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SourceFolde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separated by </a:t>
            </a:r>
            <a:r>
              <a:rPr b="1" lang="en-GB" sz="3200" spc="-1" strike="noStrike">
                <a:solidFill>
                  <a:srgbClr val="ff9900"/>
                </a:solidFill>
                <a:latin typeface="Arial"/>
              </a:rPr>
              <a:t>;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[Dyalog]\Classes</a:t>
            </a:r>
            <a:r>
              <a:rPr b="1" lang="en-GB" sz="3200" spc="-1" strike="noStrike">
                <a:solidFill>
                  <a:srgbClr val="ff9900"/>
                </a:solidFill>
                <a:latin typeface="Arial"/>
              </a:rPr>
              <a:t>;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\CMS\Dy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390840" y="5392800"/>
            <a:ext cx="576360" cy="504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>
            <a:off x="7667640" y="139680"/>
            <a:ext cx="1268280" cy="1344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EA53-5BE1-4C6B-9ED9-FA06583ED885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" descr=""/>
          <p:cNvPicPr/>
          <p:nvPr/>
        </p:nvPicPr>
        <p:blipFill>
          <a:blip r:embed="rId1"/>
          <a:stretch/>
        </p:blipFill>
        <p:spPr>
          <a:xfrm>
            <a:off x="1332000" y="4332240"/>
            <a:ext cx="6985080" cy="1957320"/>
          </a:xfrm>
          <a:prstGeom prst="rect">
            <a:avLst/>
          </a:prstGeom>
          <a:ln w="0">
            <a:noFill/>
          </a:ln>
        </p:spPr>
      </p:pic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Multiple workdi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en using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Loa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SAL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searches directories in the order specified until it finds the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You can also specify the directories via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Settings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(and make it permanent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486480" y="5116680"/>
            <a:ext cx="965160" cy="24120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5508720" y="5089680"/>
            <a:ext cx="323640" cy="322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2"/>
          <a:stretch/>
        </p:blipFill>
        <p:spPr>
          <a:xfrm>
            <a:off x="7667640" y="139680"/>
            <a:ext cx="1268280" cy="1344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AD58-3C7A-4B91-BEAB-AD6C1A751770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Required Loa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LT allows required loads to be done automatically. For example, if script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needs script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B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o be present,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can specify in the code that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B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be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Loa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d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efor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is loa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>
            <a:off x="7894800" y="189000"/>
            <a:ext cx="1066680" cy="1106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260C-DC32-49D2-8261-4523B67DB6AB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Required Loa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" descr=""/>
          <p:cNvPicPr/>
          <p:nvPr/>
        </p:nvPicPr>
        <p:blipFill>
          <a:blip r:embed="rId1"/>
          <a:stretch/>
        </p:blipFill>
        <p:spPr>
          <a:xfrm>
            <a:off x="3276720" y="4653000"/>
            <a:ext cx="2514600" cy="1752480"/>
          </a:xfrm>
          <a:prstGeom prst="rect">
            <a:avLst/>
          </a:prstGeom>
          <a:ln w="0">
            <a:noFill/>
          </a:ln>
        </p:spPr>
      </p:pic>
      <p:pic>
        <p:nvPicPr>
          <p:cNvPr id="402" name="" descr=""/>
          <p:cNvPicPr/>
          <p:nvPr/>
        </p:nvPicPr>
        <p:blipFill>
          <a:blip r:embed="rId2"/>
          <a:stretch/>
        </p:blipFill>
        <p:spPr>
          <a:xfrm>
            <a:off x="6084720" y="4410000"/>
            <a:ext cx="2762280" cy="197172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3"/>
          <a:stretch/>
        </p:blipFill>
        <p:spPr>
          <a:xfrm>
            <a:off x="4788000" y="1773360"/>
            <a:ext cx="3705120" cy="204768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/>
          <p:nvPr/>
        </p:nvSpPr>
        <p:spPr>
          <a:xfrm>
            <a:off x="6227640" y="3429000"/>
            <a:ext cx="216000" cy="1079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" descr=""/>
          <p:cNvPicPr/>
          <p:nvPr/>
        </p:nvPicPr>
        <p:blipFill>
          <a:blip r:embed="rId4"/>
          <a:stretch/>
        </p:blipFill>
        <p:spPr>
          <a:xfrm>
            <a:off x="250920" y="1989000"/>
            <a:ext cx="4381560" cy="247680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/>
          <p:nvPr/>
        </p:nvSpPr>
        <p:spPr>
          <a:xfrm flipH="1">
            <a:off x="4067280" y="3213000"/>
            <a:ext cx="2017440" cy="1584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908000" y="3213000"/>
            <a:ext cx="4751640" cy="1728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flipH="1" flipV="1">
            <a:off x="4355640" y="5229000"/>
            <a:ext cx="2016360" cy="431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5"/>
          <a:stretch/>
        </p:blipFill>
        <p:spPr>
          <a:xfrm>
            <a:off x="7894800" y="189000"/>
            <a:ext cx="1066680" cy="1106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FC14-19D4-429D-A57E-68223AE2916C}" type="slidenum">
              <a:t>5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re are NO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special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requirements (not even .Ne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11 is the minimum version SALT will run u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LT is packaged and comes in already available with V1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260960" y="4653000"/>
            <a:ext cx="1823760" cy="1633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5DAE-7D57-48D2-A3C2-35385E55C26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Util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se are not part of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SAL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but were created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with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SAL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 They are located under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Util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1763640" y="2690640"/>
            <a:ext cx="6048360" cy="347508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/>
          <p:nvPr/>
        </p:nvSpPr>
        <p:spPr>
          <a:xfrm>
            <a:off x="2700360" y="5257800"/>
            <a:ext cx="965160" cy="24120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4140360" y="3645000"/>
            <a:ext cx="792000" cy="24120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2"/>
          <a:stretch/>
        </p:blipFill>
        <p:spPr>
          <a:xfrm>
            <a:off x="7983360" y="260280"/>
            <a:ext cx="909720" cy="91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FE43-203A-4F23-9DFC-9EAA5E761E0A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Utilities: CallingTre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250560" y="1413000"/>
            <a:ext cx="878508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utility allows to view the calling tree of a fn in a namespace or to cross-reference all the functions and their references. To use 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z←⎕new CallingTree ‘class -options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z.Calls ‘ctor -view’ ⍝ show calls from &lt;ctor&gt; 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z.View ⍝ to view 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z.Xref  ⍝ produ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cross-re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" descr=""/>
          <p:cNvPicPr/>
          <p:nvPr/>
        </p:nvPicPr>
        <p:blipFill>
          <a:blip r:embed="rId1"/>
          <a:stretch/>
        </p:blipFill>
        <p:spPr>
          <a:xfrm>
            <a:off x="3995640" y="4076640"/>
            <a:ext cx="2084400" cy="2305080"/>
          </a:xfrm>
          <a:prstGeom prst="rect">
            <a:avLst/>
          </a:prstGeom>
          <a:ln w="0">
            <a:noFill/>
          </a:ln>
        </p:spPr>
      </p:pic>
      <p:pic>
        <p:nvPicPr>
          <p:cNvPr id="419" name="" descr=""/>
          <p:cNvPicPr/>
          <p:nvPr/>
        </p:nvPicPr>
        <p:blipFill>
          <a:blip r:embed="rId2"/>
          <a:stretch/>
        </p:blipFill>
        <p:spPr>
          <a:xfrm>
            <a:off x="7983360" y="260280"/>
            <a:ext cx="909720" cy="91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1855-0D75-46DF-879D-21B235F9AD2B}" type="slidenum">
              <a:t>6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Utilities: fileUti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58560" y="1557360"/>
            <a:ext cx="87850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t the moment this file contains a namespace with fns to traverse a directory tree using .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n &lt;showExpr&gt; allows to show regular expressions in text (&amp; Unicode) files, e.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cc33"/>
                </a:solidFill>
                <a:latin typeface="Arial"/>
              </a:rPr>
              <a:t>‘</a:t>
            </a:r>
            <a:r>
              <a:rPr b="0" lang="en-GB" sz="3200" spc="-1" strike="noStrike">
                <a:solidFill>
                  <a:srgbClr val="33cc33"/>
                </a:solidFill>
                <a:latin typeface="Arial"/>
              </a:rPr>
              <a:t>\temp -type=php -rec’ </a:t>
            </a:r>
            <a:r>
              <a:rPr b="0" lang="en-GB" sz="3200" spc="-1" strike="noStrike">
                <a:solidFill>
                  <a:srgbClr val="009999"/>
                </a:solidFill>
                <a:latin typeface="Arial"/>
              </a:rPr>
              <a:t>showExpr</a:t>
            </a:r>
            <a:r>
              <a:rPr b="0" lang="en-GB" sz="3200" spc="-1" strike="noStrike">
                <a:solidFill>
                  <a:srgbClr val="33cc33"/>
                </a:solidFill>
                <a:latin typeface="Arial"/>
              </a:rPr>
              <a:t> ‘\bA.*= *123\b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ill show names starting with ‘</a:t>
            </a:r>
            <a:r>
              <a:rPr b="0" lang="en-GB" sz="3200" spc="-1" strike="noStrike">
                <a:solidFill>
                  <a:srgbClr val="33cc33"/>
                </a:solidFill>
                <a:latin typeface="Arial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’ being assigned the number </a:t>
            </a:r>
            <a:r>
              <a:rPr b="0" lang="en-GB" sz="3200" spc="-1" strike="noStrike">
                <a:solidFill>
                  <a:srgbClr val="33cc33"/>
                </a:solidFill>
                <a:latin typeface="Arial"/>
              </a:rPr>
              <a:t>123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0" lang="en-GB" sz="3200" spc="-1" strike="noStrike">
                <a:solidFill>
                  <a:srgbClr val="33cc33"/>
                </a:solidFill>
                <a:latin typeface="Arial"/>
              </a:rPr>
              <a:t>PHP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files under </a:t>
            </a:r>
            <a:r>
              <a:rPr b="0" lang="en-GB" sz="3200" spc="-1" strike="noStrike">
                <a:solidFill>
                  <a:srgbClr val="33cc33"/>
                </a:solidFill>
                <a:latin typeface="Arial"/>
              </a:rPr>
              <a:t>\temp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3200" spc="-1" strike="noStrike">
                <a:solidFill>
                  <a:srgbClr val="33cc33"/>
                </a:solidFill>
                <a:latin typeface="Arial"/>
              </a:rPr>
              <a:t>rec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rsive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" descr=""/>
          <p:cNvPicPr/>
          <p:nvPr/>
        </p:nvPicPr>
        <p:blipFill>
          <a:blip r:embed="rId1"/>
          <a:stretch/>
        </p:blipFill>
        <p:spPr>
          <a:xfrm>
            <a:off x="7983360" y="260280"/>
            <a:ext cx="909720" cy="91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F131-D113-4305-A0F6-353F7A6CF5A3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Utilities: Rege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regexMatch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class allows to create a Regex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.Ne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instance given a pattern and possibly op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options are m=multiline (default), s=singleline, i=case insensi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pattern accepts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⍺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s APL name and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⍵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s a number, e.g.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⍺ ⍺←⍵ ⍵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means 2 names assigned 2 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" descr=""/>
          <p:cNvPicPr/>
          <p:nvPr/>
        </p:nvPicPr>
        <p:blipFill>
          <a:blip r:embed="rId1"/>
          <a:stretch/>
        </p:blipFill>
        <p:spPr>
          <a:xfrm>
            <a:off x="7983360" y="260280"/>
            <a:ext cx="909720" cy="91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2A28-EA60-4C94-B39C-3E597E5A00CF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Utilities: compa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namespace contains functions to perform comparis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unction &lt;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compecv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 produces a report of the differences between 2 lists of strings, e.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([]NR ‘Fa’) compecv ([]NR ‘Fb’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ill compare 2 functions and show where lines have been deleted, inserted and chan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" descr=""/>
          <p:cNvPicPr/>
          <p:nvPr/>
        </p:nvPicPr>
        <p:blipFill>
          <a:blip r:embed="rId1"/>
          <a:stretch/>
        </p:blipFill>
        <p:spPr>
          <a:xfrm>
            <a:off x="7983360" y="260280"/>
            <a:ext cx="909720" cy="91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866F-EC0E-4CF3-84CC-4E649583F7DB}" type="slidenum">
              <a:t>6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Utilities: conve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713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namespace found in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Dyalog\tool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contains functions to perform conversion of namespaces to []SRC form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unction &lt;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Conver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 takes the name of a namespace and changes it into sourced mode, e.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ConvertCode.Convert ‘mynamespace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ill convert it. You can then edit it and store it using SA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1"/>
          <a:stretch/>
        </p:blipFill>
        <p:spPr>
          <a:xfrm>
            <a:off x="7983360" y="260280"/>
            <a:ext cx="909720" cy="91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E754-741D-4EAD-8F2B-4EC1DFF4C2E8}" type="slidenum">
              <a:t>6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 txBox="1"/>
          <p:nvPr/>
        </p:nvSpPr>
        <p:spPr>
          <a:xfrm>
            <a:off x="2124000" y="2133720"/>
            <a:ext cx="4988160" cy="272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f9933"/>
                    </a:gs>
                    <a:gs pos="100000">
                      <a:srgbClr val="ff0000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SPICE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50000">
                    <a:srgbClr val="ff9933"/>
                  </a:gs>
                  <a:gs pos="100000">
                    <a:srgbClr val="ff0000"/>
                  </a:gs>
                </a:gsLst>
                <a:lin ang="108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1ED7-D523-4FE4-A2DE-A4235EFFB2FA}" type="slidenum">
              <a:t>6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pice Util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pice is a cover for SAL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creates an input area at the bottom of the screen to issue commands using SAL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pice can be initialized directly from SAL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" descr=""/>
          <p:cNvPicPr/>
          <p:nvPr/>
        </p:nvPicPr>
        <p:blipFill>
          <a:blip r:embed="rId1"/>
          <a:stretch/>
        </p:blipFill>
        <p:spPr>
          <a:xfrm>
            <a:off x="7596360" y="260280"/>
            <a:ext cx="1271520" cy="893880"/>
          </a:xfrm>
          <a:prstGeom prst="rect">
            <a:avLst/>
          </a:prstGeom>
          <a:ln w="0">
            <a:noFill/>
          </a:ln>
        </p:spPr>
      </p:pic>
      <p:pic>
        <p:nvPicPr>
          <p:cNvPr id="436" name="" descr=""/>
          <p:cNvPicPr/>
          <p:nvPr/>
        </p:nvPicPr>
        <p:blipFill>
          <a:blip r:embed="rId2"/>
          <a:stretch/>
        </p:blipFill>
        <p:spPr>
          <a:xfrm>
            <a:off x="2484360" y="4076640"/>
            <a:ext cx="4286160" cy="2038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4595-B823-4897-8D99-BD5F33C2F725}" type="slidenum">
              <a:t>6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pice Util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pice can also be started automatically by setting SALT registry key AddSPICE to ‘1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" descr=""/>
          <p:cNvPicPr/>
          <p:nvPr/>
        </p:nvPicPr>
        <p:blipFill>
          <a:blip r:embed="rId1"/>
          <a:stretch/>
        </p:blipFill>
        <p:spPr>
          <a:xfrm>
            <a:off x="7596360" y="260280"/>
            <a:ext cx="1271520" cy="893880"/>
          </a:xfrm>
          <a:prstGeom prst="rect">
            <a:avLst/>
          </a:prstGeom>
          <a:ln w="0">
            <a:noFill/>
          </a:ln>
        </p:spPr>
      </p:pic>
      <p:pic>
        <p:nvPicPr>
          <p:cNvPr id="440" name="" descr=""/>
          <p:cNvPicPr/>
          <p:nvPr/>
        </p:nvPicPr>
        <p:blipFill>
          <a:blip r:embed="rId2"/>
          <a:stretch/>
        </p:blipFill>
        <p:spPr>
          <a:xfrm>
            <a:off x="1546200" y="2908440"/>
            <a:ext cx="6121440" cy="3041640"/>
          </a:xfrm>
          <a:prstGeom prst="rect">
            <a:avLst/>
          </a:prstGeom>
          <a:ln w="0">
            <a:noFill/>
          </a:ln>
        </p:spPr>
      </p:pic>
      <p:sp>
        <p:nvSpPr>
          <p:cNvPr id="441" name=""/>
          <p:cNvSpPr/>
          <p:nvPr/>
        </p:nvSpPr>
        <p:spPr>
          <a:xfrm>
            <a:off x="5689440" y="4178160"/>
            <a:ext cx="274680" cy="309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F53D-9675-44C7-B7B1-485436133399}" type="slidenum">
              <a:t>6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pice Util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get a list of all available commands you enter ‘?’ in the input are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4" name="" descr=""/>
          <p:cNvPicPr/>
          <p:nvPr/>
        </p:nvPicPr>
        <p:blipFill>
          <a:blip r:embed="rId1"/>
          <a:stretch/>
        </p:blipFill>
        <p:spPr>
          <a:xfrm>
            <a:off x="7596360" y="260280"/>
            <a:ext cx="1271520" cy="893880"/>
          </a:xfrm>
          <a:prstGeom prst="rect">
            <a:avLst/>
          </a:prstGeom>
          <a:ln w="0">
            <a:noFill/>
          </a:ln>
        </p:spPr>
      </p:pic>
      <p:pic>
        <p:nvPicPr>
          <p:cNvPr id="445" name="" descr=""/>
          <p:cNvPicPr/>
          <p:nvPr/>
        </p:nvPicPr>
        <p:blipFill>
          <a:blip r:embed="rId2"/>
          <a:stretch/>
        </p:blipFill>
        <p:spPr>
          <a:xfrm>
            <a:off x="2124000" y="2374920"/>
            <a:ext cx="5256360" cy="3987720"/>
          </a:xfrm>
          <a:prstGeom prst="rect">
            <a:avLst/>
          </a:prstGeom>
          <a:ln w="0">
            <a:noFill/>
          </a:ln>
        </p:spPr>
      </p:pic>
      <p:sp>
        <p:nvSpPr>
          <p:cNvPr id="446" name=""/>
          <p:cNvSpPr/>
          <p:nvPr/>
        </p:nvSpPr>
        <p:spPr>
          <a:xfrm>
            <a:off x="2152800" y="5689440"/>
            <a:ext cx="274320" cy="309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6302-DB01-473B-A239-D78519B32846}" type="slidenum">
              <a:t>6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nabling SAL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353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y default SALT is NOT enabled when V11 is install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make it effective you must manually modify this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gistry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key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HKEY_CURRENT_USER\Software\Dyalog\Dyalog APL/W 11.0\SA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059280" y="4653000"/>
            <a:ext cx="3024000" cy="2014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4BCB-3E3B-437A-AFD7-5BDBA3F46095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pice Utilities: loc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cate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regex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o locate strings in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SAL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, e.g.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locate </a:t>
            </a:r>
            <a:r>
              <a:rPr b="0" lang="en-GB" sz="3200" spc="-1" strike="noStrike">
                <a:solidFill>
                  <a:srgbClr val="ff9900"/>
                </a:solidFill>
                <a:latin typeface="Courier New"/>
              </a:rPr>
              <a:t>abc&gt;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loc </a:t>
            </a:r>
            <a:r>
              <a:rPr b="0" lang="en-GB" sz="3200" spc="-1" strike="noStrike">
                <a:solidFill>
                  <a:srgbClr val="ff9900"/>
                </a:solidFill>
                <a:latin typeface="Courier New"/>
              </a:rPr>
              <a:t>‘\[‘,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o find where ‘[‘ is catenated to the left (remember to add the ‘</a:t>
            </a:r>
            <a:r>
              <a:rPr b="1" lang="en-GB" sz="3200" spc="-1" strike="noStrike">
                <a:solidFill>
                  <a:srgbClr val="ff9900"/>
                </a:solidFill>
                <a:latin typeface="Arial"/>
              </a:rPr>
              <a:t>\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’ to prevent ‘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[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‘ from being interpreted as a regex symbo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1"/>
          <a:stretch/>
        </p:blipFill>
        <p:spPr>
          <a:xfrm>
            <a:off x="7596360" y="260280"/>
            <a:ext cx="1271520" cy="893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F0B9-40CD-411E-AA5A-36C3716CF04E}" type="slidenum">
              <a:t>7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pice Utilities: pro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Courier New"/>
              </a:rPr>
              <a:t>props f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returns the properties of object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f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d their 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also shows its ChildList and its Event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" name="" descr=""/>
          <p:cNvPicPr/>
          <p:nvPr/>
        </p:nvPicPr>
        <p:blipFill>
          <a:blip r:embed="rId1"/>
          <a:stretch/>
        </p:blipFill>
        <p:spPr>
          <a:xfrm>
            <a:off x="7596360" y="260280"/>
            <a:ext cx="1271520" cy="893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842A-0645-451F-85DC-C73DA5F602B9}" type="slidenum">
              <a:t>7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pice Utilities: SALT comman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 the SALT commands but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New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n be issued here, e.g.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compare file1 file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compare file1 -ver=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list m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load myfi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removeversions filex -v=&lt;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5" name="" descr=""/>
          <p:cNvPicPr/>
          <p:nvPr/>
        </p:nvPicPr>
        <p:blipFill>
          <a:blip r:embed="rId1"/>
          <a:stretch/>
        </p:blipFill>
        <p:spPr>
          <a:xfrm>
            <a:off x="7596360" y="260280"/>
            <a:ext cx="1271520" cy="893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EF9D-A12E-4F19-B961-3C3CA22B2209}" type="slidenum">
              <a:t>7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pice Utilities: fndif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command compare 2 functions in the workspace. This is the Dfn &lt;fndiff&gt; implemented as a SPICE comma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fndiff fnA fn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7596360" y="260280"/>
            <a:ext cx="1271520" cy="893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6828-9A98-4C71-A30E-75E3198684B8}" type="slidenum">
              <a:t>7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pice Utilities: cal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command shows the calls made by a fn in a script, e.g.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calls file f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output can be simple (fns only) or detailed showing if elements are local, global, glocal, labels, used, etc. It takes into account ⍎, []TRAP str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output can be viewed in a tree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1" name="" descr=""/>
          <p:cNvPicPr/>
          <p:nvPr/>
        </p:nvPicPr>
        <p:blipFill>
          <a:blip r:embed="rId1"/>
          <a:stretch/>
        </p:blipFill>
        <p:spPr>
          <a:xfrm>
            <a:off x="7596360" y="260280"/>
            <a:ext cx="1271520" cy="893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E9E8-A3C9-4456-AC0B-D25C222E5239}" type="slidenum">
              <a:t>7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pice Utilities: calls 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08000" y="1600200"/>
            <a:ext cx="388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ow the details of calls made by fn Run in file spice\Prop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 is lo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!  is unused lo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 is glob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 is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" descr=""/>
          <p:cNvPicPr/>
          <p:nvPr/>
        </p:nvPicPr>
        <p:blipFill>
          <a:blip r:embed="rId1"/>
          <a:stretch/>
        </p:blipFill>
        <p:spPr>
          <a:xfrm>
            <a:off x="7596360" y="260280"/>
            <a:ext cx="1271520" cy="893880"/>
          </a:xfrm>
          <a:prstGeom prst="rect">
            <a:avLst/>
          </a:prstGeom>
          <a:ln w="0">
            <a:noFill/>
          </a:ln>
        </p:spPr>
      </p:pic>
      <p:pic>
        <p:nvPicPr>
          <p:cNvPr id="465" name="" descr=""/>
          <p:cNvPicPr/>
          <p:nvPr/>
        </p:nvPicPr>
        <p:blipFill>
          <a:blip r:embed="rId2"/>
          <a:stretch/>
        </p:blipFill>
        <p:spPr>
          <a:xfrm>
            <a:off x="3924360" y="1557360"/>
            <a:ext cx="4876920" cy="3409920"/>
          </a:xfrm>
          <a:prstGeom prst="rect">
            <a:avLst/>
          </a:prstGeom>
          <a:ln w="0">
            <a:noFill/>
          </a:ln>
        </p:spPr>
      </p:pic>
      <p:sp>
        <p:nvSpPr>
          <p:cNvPr id="466" name=""/>
          <p:cNvSpPr/>
          <p:nvPr/>
        </p:nvSpPr>
        <p:spPr>
          <a:xfrm>
            <a:off x="4105440" y="2862360"/>
            <a:ext cx="792000" cy="16992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4859280" y="3319560"/>
            <a:ext cx="792360" cy="16992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500720" y="3068640"/>
            <a:ext cx="431640" cy="2160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518F-734E-4BE9-8F95-3FF76C24BBCE}" type="slidenum">
              <a:t>7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pice Utilities: calls 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394920" y="1773000"/>
            <a:ext cx="828036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me example viewed in a tree objects by adding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-tre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o the comm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1" name="" descr=""/>
          <p:cNvPicPr/>
          <p:nvPr/>
        </p:nvPicPr>
        <p:blipFill>
          <a:blip r:embed="rId1"/>
          <a:stretch/>
        </p:blipFill>
        <p:spPr>
          <a:xfrm>
            <a:off x="7596360" y="260280"/>
            <a:ext cx="1271520" cy="893880"/>
          </a:xfrm>
          <a:prstGeom prst="rect">
            <a:avLst/>
          </a:prstGeom>
          <a:ln w="0">
            <a:noFill/>
          </a:ln>
        </p:spPr>
      </p:pic>
      <p:pic>
        <p:nvPicPr>
          <p:cNvPr id="472" name="" descr=""/>
          <p:cNvPicPr/>
          <p:nvPr/>
        </p:nvPicPr>
        <p:blipFill>
          <a:blip r:embed="rId2"/>
          <a:stretch/>
        </p:blipFill>
        <p:spPr>
          <a:xfrm>
            <a:off x="468360" y="3429000"/>
            <a:ext cx="7991280" cy="1884240"/>
          </a:xfrm>
          <a:prstGeom prst="rect">
            <a:avLst/>
          </a:prstGeom>
          <a:ln w="0">
            <a:noFill/>
          </a:ln>
        </p:spPr>
      </p:pic>
      <p:sp>
        <p:nvSpPr>
          <p:cNvPr id="473" name=""/>
          <p:cNvSpPr/>
          <p:nvPr/>
        </p:nvSpPr>
        <p:spPr>
          <a:xfrm>
            <a:off x="4592520" y="4149720"/>
            <a:ext cx="897120" cy="21600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84080" y="4537080"/>
            <a:ext cx="897120" cy="21600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 flipH="1">
            <a:off x="1692000" y="4292640"/>
            <a:ext cx="2879640" cy="28872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D81A-9DA4-4B1A-A1B2-41240FB0CBE7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pice Utilities: summ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95280" y="1773000"/>
            <a:ext cx="540072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command allows to see the scope (Public, Shared, Ctor, Dtor), size and syntax of functions is a fi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7596360" y="260280"/>
            <a:ext cx="1271520" cy="893880"/>
          </a:xfrm>
          <a:prstGeom prst="rect">
            <a:avLst/>
          </a:prstGeom>
          <a:ln w="0">
            <a:noFill/>
          </a:ln>
        </p:spPr>
      </p:pic>
      <p:pic>
        <p:nvPicPr>
          <p:cNvPr id="479" name="" descr=""/>
          <p:cNvPicPr/>
          <p:nvPr/>
        </p:nvPicPr>
        <p:blipFill>
          <a:blip r:embed="rId2"/>
          <a:stretch/>
        </p:blipFill>
        <p:spPr>
          <a:xfrm>
            <a:off x="5940360" y="1700280"/>
            <a:ext cx="2819520" cy="459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87A0-AE70-4672-8647-FB069195F841}" type="slidenum">
              <a:t>7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pice Utilities: xre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command shows a cross-reference of all the objects made by all the fns in a script, e.g.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xref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symbols 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same as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ca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" descr=""/>
          <p:cNvPicPr/>
          <p:nvPr/>
        </p:nvPicPr>
        <p:blipFill>
          <a:blip r:embed="rId1"/>
          <a:stretch/>
        </p:blipFill>
        <p:spPr>
          <a:xfrm>
            <a:off x="7596360" y="260280"/>
            <a:ext cx="1271520" cy="893880"/>
          </a:xfrm>
          <a:prstGeom prst="rect">
            <a:avLst/>
          </a:prstGeom>
          <a:ln w="0">
            <a:noFill/>
          </a:ln>
        </p:spPr>
      </p:pic>
      <p:pic>
        <p:nvPicPr>
          <p:cNvPr id="483" name="" descr=""/>
          <p:cNvPicPr/>
          <p:nvPr/>
        </p:nvPicPr>
        <p:blipFill>
          <a:blip r:embed="rId2"/>
          <a:stretch/>
        </p:blipFill>
        <p:spPr>
          <a:xfrm>
            <a:off x="3635280" y="2622600"/>
            <a:ext cx="4795920" cy="3979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6763-D6B8-4B7A-B4BB-FE67338B28E4}" type="slidenum">
              <a:t>7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Fi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LT &amp; SPICE are too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y can be used as a start point to maintain code and small applic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lasses provide new ways to make code sharing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LT provides a way to do th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8244000" y="476280"/>
            <a:ext cx="287280" cy="503280"/>
          </a:xfrm>
          <a:custGeom>
            <a:avLst/>
            <a:gdLst>
              <a:gd name="textAreaLeft" fmla="*/ 63000 w 287280"/>
              <a:gd name="textAreaRight" fmla="*/ 224280 w 287280"/>
              <a:gd name="textAreaTop" fmla="*/ 110520 h 503280"/>
              <a:gd name="textAreaBottom" fmla="*/ 39276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84E8-1FA4-43A7-A91A-991741932634}" type="slidenum">
              <a:t>7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000" y="691920"/>
            <a:ext cx="7559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ome SALT registry key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registry k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HKEY_CURRENT_USER\Software\Dyalog\Dyalog APL/W 11.0\SA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tains some keys which must be specified a valu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77080" y="476280"/>
            <a:ext cx="1828800" cy="1630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4" name=""/>
          <p:cNvGraphicFramePr/>
          <p:nvPr/>
        </p:nvGraphicFramePr>
        <p:xfrm>
          <a:off x="539640" y="3357720"/>
          <a:ext cx="8146800" cy="2768040"/>
        </p:xfrm>
        <a:graphic>
          <a:graphicData uri="http://schemas.openxmlformats.org/drawingml/2006/table">
            <a:tbl>
              <a:tblPr/>
              <a:tblGrid>
                <a:gridCol w="1752480"/>
                <a:gridCol w="2321280"/>
                <a:gridCol w="4073040"/>
              </a:tblGrid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ＭＳ 明朝"/>
                        </a:rPr>
                        <a:t>Val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ＭＳ 明朝"/>
                        </a:rPr>
                        <a:t>Default Set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ＭＳ 明朝"/>
                        </a:rPr>
                        <a:t>What is it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ＭＳ 明朝"/>
                        </a:rPr>
                        <a:t>AddSAL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ＭＳ 明朝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ＭＳ 明朝"/>
                        </a:rPr>
                        <a:t>Controls whether SALT is initialized when the session file is loaded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ＭＳ 明朝"/>
                        </a:rPr>
                        <a:t>CompareCm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ＭＳ 明朝"/>
                        </a:rPr>
                        <a:t>APL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ＭＳ 明朝"/>
                        </a:rPr>
                        <a:t>Specifies how to call a file comparison utility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ＭＳ 明朝"/>
                        </a:rPr>
                        <a:t>SourceFold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ＭＳ 明朝"/>
                        </a:rPr>
                        <a:t>[Dyalog]\Class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ＭＳ 明朝"/>
                        </a:rPr>
                        <a:t>Specifies folders for source files separated by ";". Default folder is located below the main Dyalog folde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ＭＳ 明朝"/>
                        </a:rPr>
                        <a:t>EditorCM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ＭＳ 明朝"/>
                        </a:rPr>
                        <a:t>notepad.ex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ＭＳ 明朝"/>
                        </a:rPr>
                        <a:t>Specifies which program to run to edit script files outside AP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3F7B-F253-4474-8DAE-CF19B5F28F65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hort Fi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re information can be found in the SALT docu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yalog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V="1">
            <a:off x="7956720" y="548280"/>
            <a:ext cx="863280" cy="431640"/>
          </a:xfrm>
          <a:custGeom>
            <a:avLst/>
            <a:gdLst>
              <a:gd name="textAreaLeft" fmla="*/ 189720 w 863280"/>
              <a:gd name="textAreaRight" fmla="*/ 673560 w 863280"/>
              <a:gd name="textAreaTop" fmla="*/ 94680 h 431640"/>
              <a:gd name="textAreaBottom" fmla="*/ 33696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B358-3216-442B-958C-076CF866CE59}" type="slidenum">
              <a:t>8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nabling SAL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507520" cy="31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registry k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HKEY_CURRENT_USER\Software\Dyalog\Dyalog APL/W 11.0\SALT\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AddSA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UST have the value ‘1’ for SALT to be enabl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nce this key is set all subsequent sessions will have SALT enabled until this key is changed back to ‘0’ (not ‘1’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6877080" y="476280"/>
            <a:ext cx="1828800" cy="163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F3EA-988A-4E3D-9E98-10FB72B614D3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5T13:21:21Z</dcterms:created>
  <dc:creator>DanB</dc:creator>
  <dc:description/>
  <dc:language>en-US</dc:language>
  <cp:lastModifiedBy>DanB</cp:lastModifiedBy>
  <dcterms:modified xsi:type="dcterms:W3CDTF">2007-05-14T21:15:20Z</dcterms:modified>
  <cp:revision>40</cp:revision>
  <dc:subject/>
  <dc:title>SALT in Dyalog</dc:title>
</cp:coreProperties>
</file>