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6.xml.rels" ContentType="application/vnd.openxmlformats-package.relationships+xml"/>
  <Override PartName="/ppt/notesSlides/notesSlide6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1.png" ContentType="image/png"/>
  <Override PartName="/ppt/media/image52.png" ContentType="image/png"/>
  <Override PartName="/ppt/media/image50.jpeg" ContentType="image/jpeg"/>
  <Override PartName="/ppt/media/image47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6.wmf" ContentType="image/x-wmf"/>
  <Override PartName="/ppt/media/image18.wmf" ContentType="image/x-wmf"/>
  <Override PartName="/ppt/media/image83.wmf" ContentType="image/x-wmf"/>
  <Override PartName="/ppt/media/image48.png" ContentType="image/png"/>
  <Override PartName="/ppt/media/image63.png" ContentType="image/png"/>
  <Override PartName="/ppt/media/image64.png" ContentType="image/png"/>
  <Override PartName="/ppt/media/image93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62.png" ContentType="image/png"/>
  <Override PartName="/ppt/media/image97.png" ContentType="image/png"/>
  <Override PartName="/ppt/media/image60.png" ContentType="image/png"/>
  <Override PartName="/ppt/media/image73.png" ContentType="image/png"/>
  <Override PartName="/ppt/media/image61.png" ContentType="image/png"/>
  <Override PartName="/ppt/media/image96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5.wmf" ContentType="image/x-wmf"/>
  <Override PartName="/ppt/media/image92.png" ContentType="image/png"/>
  <Override PartName="/ppt/media/image27.png" ContentType="image/png"/>
  <Override PartName="/ppt/media/image91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59.png" ContentType="image/png"/>
  <Override PartName="/ppt/media/image20.png" ContentType="image/png"/>
  <Override PartName="/ppt/media/image21.png" ContentType="image/png"/>
  <Override PartName="/ppt/media/image3.wmf" ContentType="image/x-wmf"/>
  <Override PartName="/ppt/media/image58.png" ContentType="image/png"/>
  <Override PartName="/ppt/media/image17.png" ContentType="image/png"/>
  <Override PartName="/ppt/media/image82.png" ContentType="image/png"/>
  <Override PartName="/ppt/media/image16.png" ContentType="image/png"/>
  <Override PartName="/ppt/media/image81.png" ContentType="image/png"/>
  <Override PartName="/ppt/media/image80.png" ContentType="image/png"/>
  <Override PartName="/ppt/media/image15.png" ContentType="image/png"/>
  <Override PartName="/ppt/media/image29.png" ContentType="image/png"/>
  <Override PartName="/ppt/media/image94.png" ContentType="image/png"/>
  <Override PartName="/ppt/media/image2.wmf" ContentType="image/x-wmf"/>
  <Override PartName="/ppt/media/image57.png" ContentType="image/png"/>
  <Override PartName="/ppt/media/image14.wmf" ContentType="image/x-wmf"/>
  <Override PartName="/ppt/media/image24.png" ContentType="image/png"/>
  <Override PartName="/ppt/media/image11.png" ContentType="image/png"/>
  <Override PartName="/ppt/media/image90.png" ContentType="image/png"/>
  <Override PartName="/ppt/media/image25.png" ContentType="image/png"/>
  <Override PartName="/ppt/media/image53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1F43-F463-4AD7-AA6A-B4779EB3C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difiers are preceded by a dash a la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the files we had are now in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TortoiseSV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’ or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’ or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times itself written in A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ice we don't resave the workspa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real life there would a lot more fi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real life there would a lot more fi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created an "empty" directory – notice how / is used instead of \ , svn understands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the files we had are now in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need to use specific utilities we can include them separated by a semi-colon. The –permanent switch is to make it …permanent!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)SAVE the workspace it will remember we won't have to do it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do them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body interfering with anybody else (unless they work on the same scrip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subversio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requires subversion to be inst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the files we had are now in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TortoiseSV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TortoiseSV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TortoiseSV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41D6-2FB8-4CD1-BF84-7847DC891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9442-56A4-4BA0-93BB-25472670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B327-A764-4D99-AE3D-BCDDD5155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1178-41E7-4FFB-92B0-E2D6FA9E8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F20B-6FAD-46A7-B3FB-145F72A4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5343-B81C-4613-881A-E7FB158A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4359-EB31-48E6-ACC9-43D7051E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02B3-63DE-43C7-A4B6-F7CEC398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4E82-FB8E-4B84-BE2A-F4D87270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B49E-8B37-4F92-8B3E-0C4B252A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0212-61B3-44D8-AB0D-61F9F26C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8324-F9A8-4CA7-B5D7-38F0F026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3D08-2607-4D70-9F2F-F894AEC3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199B-8C8E-4404-A605-DA596C67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6F30-7F9B-4C9D-9900-B6986CBE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796C-5650-425E-88E4-2D44EA109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83AC-BEF2-421F-BD06-84A7381D1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5E41-5E2F-4EB6-A653-26F0BE17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6287-C0A9-4D3F-BEBB-05F3DE19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602D-5125-444A-A717-61CF6F34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5DA7-10FA-43B1-B1A4-997A5FC9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C57E-1C1A-4721-B2AF-FB865EB5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7597-883F-4EFC-8D6D-4516F3D4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A05F-F4FA-4B6C-AC82-94910C7D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5DE2-7B20-4A23-B028-DE42E87401E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C43E-1122-4C10-96AF-CA4545A65AD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lvl="2" marL="914400" algn="ctr">
              <a:spcBef>
                <a:spcPts val="601"/>
              </a:spcBef>
              <a:buClr>
                <a:srgbClr val="ff8000"/>
              </a:buClr>
              <a:buFont typeface="Genev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lvl="3" marL="1371600" algn="ctr">
              <a:spcBef>
                <a:spcPts val="499"/>
              </a:spcBef>
              <a:buClr>
                <a:srgbClr val="ff8000"/>
              </a:buClr>
              <a:buFont typeface="Genev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4" marL="1828800" algn="ctr">
              <a:spcBef>
                <a:spcPts val="499"/>
              </a:spcBef>
              <a:buClr>
                <a:srgbClr val="ff8000"/>
              </a:buClr>
              <a:buFont typeface="Genev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image" Target="../media/image90.png"/><Relationship Id="rId5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9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3.png"/><Relationship Id="rId3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3.png"/><Relationship Id="rId3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3.png"/><Relationship Id="rId3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3.png"/><Relationship Id="rId3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84.png"/><Relationship Id="rId3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and 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ow to handle projects using version controlled SA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Geneva"/>
              </a:rPr>
              <a:t>V1.04</a:t>
            </a:r>
            <a:endParaRPr b="0" lang="en-US" sz="1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115920"/>
            <a:ext cx="4262400" cy="59054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Fac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5560" y="1557360"/>
            <a:ext cx="8507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onsists in a series of functions stored in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 to manipulate the source (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RC) of object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 source code for each object (class or namespace) is stored in a single Unicode text file with a file extension of “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.</a:t>
            </a:r>
            <a:r>
              <a:rPr b="1" i="1" lang="en-US" sz="3200" spc="-1" strike="noStrike">
                <a:solidFill>
                  <a:srgbClr val="333333"/>
                </a:solidFill>
                <a:latin typeface="Geneva"/>
              </a:rPr>
              <a:t>dyalog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”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ll functions take 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st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do their wor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st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describes completely th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argumen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or the func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1671480" y="2658960"/>
            <a:ext cx="5801040" cy="401004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bc01"/>
                </a:solidFill>
                <a:latin typeface="Geneva"/>
              </a:rPr>
              <a:t>Spice SVN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9280" y="1533240"/>
            <a:ext cx="7993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ome of those utilities relate to Version Control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y are grouped under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1690560" y="5761080"/>
            <a:ext cx="649440" cy="504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bc01"/>
                </a:solidFill>
                <a:latin typeface="Geneva"/>
              </a:rPr>
              <a:t>Spice SVN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0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yntax is similar to the command line version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Only the names have been changed (slightly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1566720" y="2575080"/>
            <a:ext cx="6010560" cy="359064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3"/>
          <a:stretch/>
        </p:blipFill>
        <p:spPr>
          <a:xfrm>
            <a:off x="1566720" y="2575080"/>
            <a:ext cx="6010560" cy="359064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4"/>
          <a:stretch/>
        </p:blipFill>
        <p:spPr>
          <a:xfrm>
            <a:off x="1566720" y="2575080"/>
            <a:ext cx="6010560" cy="359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uming we have the following project involving Dyalog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2114640" y="2728800"/>
            <a:ext cx="4681440" cy="32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303516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suppose we have a repository he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3276720" y="1628640"/>
            <a:ext cx="5454360" cy="347364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3708360" y="2997360"/>
            <a:ext cx="1871640" cy="504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456840" y="1341360"/>
            <a:ext cx="6923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n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im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ur current system into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2557440" y="2060640"/>
            <a:ext cx="5399280" cy="399744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2"/>
          <a:stretch/>
        </p:blipFill>
        <p:spPr>
          <a:xfrm>
            <a:off x="2556000" y="2060640"/>
            <a:ext cx="3456000" cy="3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system is now in the repository and can be checked out by anyone able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1" name=""/>
          <p:cNvSpPr/>
          <p:nvPr/>
        </p:nvSpPr>
        <p:spPr>
          <a:xfrm>
            <a:off x="4213080" y="3500280"/>
            <a:ext cx="1079640" cy="12002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H="1" rot="19881000">
            <a:off x="2770560" y="4714920"/>
            <a:ext cx="1424160" cy="442800"/>
          </a:xfrm>
          <a:custGeom>
            <a:avLst/>
            <a:gdLst>
              <a:gd name="textAreaLeft" fmla="*/ 222480 w 1424160"/>
              <a:gd name="textAreaRight" fmla="*/ 1246320 w 1424160"/>
              <a:gd name="textAreaTop" fmla="*/ 110520 h 442800"/>
              <a:gd name="textAreaBottom" fmla="*/ 332280 h 442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692360" y="3573360"/>
            <a:ext cx="934920" cy="79236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rot="2494800">
            <a:off x="5246280" y="4797000"/>
            <a:ext cx="1413000" cy="441360"/>
          </a:xfrm>
          <a:custGeom>
            <a:avLst/>
            <a:gdLst>
              <a:gd name="textAreaLeft" fmla="*/ 220680 w 1413000"/>
              <a:gd name="textAreaRight" fmla="*/ 1236600 w 1413000"/>
              <a:gd name="textAreaTop" fmla="*/ 110160 h 441360"/>
              <a:gd name="textAreaBottom" fmla="*/ 331200 h 441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835280" y="5229360"/>
            <a:ext cx="934920" cy="792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093080" y="3068640"/>
            <a:ext cx="934920" cy="792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516720" y="5445000"/>
            <a:ext cx="934920" cy="79236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rot="20552400">
            <a:off x="5535360" y="3573360"/>
            <a:ext cx="1412640" cy="441360"/>
          </a:xfrm>
          <a:custGeom>
            <a:avLst/>
            <a:gdLst>
              <a:gd name="textAreaLeft" fmla="*/ 220680 w 1412640"/>
              <a:gd name="textAreaRight" fmla="*/ 1236240 w 1412640"/>
              <a:gd name="textAreaTop" fmla="*/ 110160 h 441360"/>
              <a:gd name="textAreaBottom" fmla="*/ 331200 h 441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H="1" rot="163800">
            <a:off x="2699280" y="3716280"/>
            <a:ext cx="1423800" cy="442440"/>
          </a:xfrm>
          <a:custGeom>
            <a:avLst/>
            <a:gdLst>
              <a:gd name="textAreaLeft" fmla="*/ 222480 w 1423800"/>
              <a:gd name="textAreaRight" fmla="*/ 1245960 w 1423800"/>
              <a:gd name="textAreaTop" fmla="*/ 110520 h 442440"/>
              <a:gd name="textAreaBottom" fmla="*/ 331920 h 442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3979800" y="1515960"/>
            <a:ext cx="4824360" cy="363384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316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xt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heckou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copy to work wi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will put our working copy in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2"/>
          <a:stretch/>
        </p:blipFill>
        <p:spPr>
          <a:xfrm>
            <a:off x="3995640" y="1515960"/>
            <a:ext cx="324036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746280" y="1424160"/>
            <a:ext cx="296208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ice already sets up our working directory for u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6" name=""/>
          <p:cNvSpPr/>
          <p:nvPr/>
        </p:nvSpPr>
        <p:spPr>
          <a:xfrm>
            <a:off x="663480" y="4313160"/>
            <a:ext cx="32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rmed by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c4a46"/>
                </a:solidFill>
                <a:latin typeface="Arial"/>
              </a:rPr>
              <a:t>setting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922560" y="1577880"/>
            <a:ext cx="4753080" cy="357984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3755880" y="3716280"/>
            <a:ext cx="1368720" cy="504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2"/>
          <a:stretch/>
        </p:blipFill>
        <p:spPr>
          <a:xfrm>
            <a:off x="3924360" y="1573200"/>
            <a:ext cx="3168720" cy="29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2195640" y="2206800"/>
            <a:ext cx="4968720" cy="374328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bring in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3" name=""/>
          <p:cNvSpPr/>
          <p:nvPr/>
        </p:nvSpPr>
        <p:spPr>
          <a:xfrm>
            <a:off x="3546360" y="4316400"/>
            <a:ext cx="122580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2195640" y="2205000"/>
            <a:ext cx="3384360" cy="31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1979640" y="2349360"/>
            <a:ext cx="4968720" cy="374364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1692360" y="2471760"/>
            <a:ext cx="5472000" cy="35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mmand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functions are monadic. The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lasses in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i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Explor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oa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mo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 rot="232800">
            <a:off x="6587640" y="1483920"/>
            <a:ext cx="2376720" cy="42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1979640" y="2349360"/>
            <a:ext cx="4968720" cy="374364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1692360" y="2482920"/>
            <a:ext cx="5545080" cy="3610080"/>
            <a:chOff x="1692360" y="2482920"/>
            <a:chExt cx="5545080" cy="3610080"/>
          </a:xfrm>
        </p:grpSpPr>
        <p:pic>
          <p:nvPicPr>
            <p:cNvPr id="663" name="" descr=""/>
            <p:cNvPicPr/>
            <p:nvPr/>
          </p:nvPicPr>
          <p:blipFill>
            <a:blip r:embed="rId2"/>
            <a:stretch/>
          </p:blipFill>
          <p:spPr>
            <a:xfrm>
              <a:off x="1692360" y="2482920"/>
              <a:ext cx="5545080" cy="36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3295800" y="3365640"/>
              <a:ext cx="43164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976920" y="4340160"/>
              <a:ext cx="431640" cy="59076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2"/>
          <a:stretch/>
        </p:blipFill>
        <p:spPr>
          <a:xfrm>
            <a:off x="1692360" y="2489040"/>
            <a:ext cx="5472000" cy="350712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3"/>
          <a:stretch/>
        </p:blipFill>
        <p:spPr>
          <a:xfrm>
            <a:off x="2700360" y="2781360"/>
            <a:ext cx="352728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316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we are happy with all the changes we can tell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commit the changes we've mad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3492360" y="1557360"/>
            <a:ext cx="4967280" cy="356724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2"/>
          <a:stretch/>
        </p:blipFill>
        <p:spPr>
          <a:xfrm>
            <a:off x="3502080" y="1557360"/>
            <a:ext cx="3384360" cy="31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l life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 international APL code repositor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Proje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…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424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use of svn under Spice is just another possibilit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hoice to use the shell commands, TortoiseSVN or Spice is a personal matt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at is important is to ensure proper synchronisation between team members and subversion provides just tha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ait, how do I use this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should have been supplied with a memory stick containing all the necessary code: subversion, TortoiseSVN, the new SALT/SPICE files and workspac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should be found under folder "SALT &amp; Subversion"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will also find there a presentation on how to convert a V10 app into V11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085160" y="44280"/>
            <a:ext cx="1973160" cy="2016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stores source in Unicod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(UCS-2) files whose extension is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.Dyalo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.Dyalog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les are configured to be opened automatically with Notepad under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 Windows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pon V11 install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ecause of compatibility with Unix, the naming of the files is case sensitiv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to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quir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260960" y="4653000"/>
            <a:ext cx="1823760" cy="1633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5080" y="14842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NO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special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requirements (not even .Net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11 is the minimum version SALT will run und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needs to be enabled to use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packaged and comes in already available with V11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basic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tucked away in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, this means you can )LOAD and run any workspace anyti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save a namespace use Save: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myns   \path\myfile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bring in a namespace use Load: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oa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\path\myfile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788000" y="2997360"/>
            <a:ext cx="2933640" cy="2495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716360" y="443700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toring a scrip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an save back a script on file right after it has been modifi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900000" y="2637000"/>
            <a:ext cx="2914920" cy="1990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71520" y="4648320"/>
            <a:ext cx="42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confirm saving over the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ript f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36360" y="26370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ify &lt;tes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71600" y="54936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toring a script with a stack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5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can happen if you modify a function of a class on the stac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797360"/>
            <a:ext cx="529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irm saving over the present script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ce saved both the script and the cl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modified and you can resume exec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2895480" cy="2104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284720" y="2781360"/>
            <a:ext cx="2905200" cy="1457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4284720" y="2852640"/>
            <a:ext cx="3257640" cy="1666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5292720" y="479736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190520" y="49417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rror happ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61800" y="422100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ck show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6160" y="450864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dit th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530280"/>
            <a:ext cx="87138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toring multiple version of a script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77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store and KEEP several versions of a scrip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y using the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–</a:t>
            </a:r>
            <a:r>
              <a:rPr b="1" i="1" lang="en-GB" sz="3200" spc="-1" strike="noStrike">
                <a:solidFill>
                  <a:srgbClr val="333333"/>
                </a:solidFill>
                <a:latin typeface="Geneva"/>
              </a:rPr>
              <a:t>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odifier you tell SALT to start using version numberin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763640" y="3933720"/>
            <a:ext cx="5760720" cy="2303280"/>
            <a:chOff x="1763640" y="3933720"/>
            <a:chExt cx="5760720" cy="2303280"/>
          </a:xfrm>
        </p:grpSpPr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1763640" y="3933720"/>
              <a:ext cx="5760720" cy="23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205240" y="4906440"/>
              <a:ext cx="1281240" cy="267120"/>
            </a:xfrm>
            <a:prstGeom prst="rect">
              <a:avLst/>
            </a:prstGeom>
            <a:solidFill>
              <a:srgbClr val="ff9900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84560" y="4712760"/>
              <a:ext cx="961560" cy="267120"/>
            </a:xfrm>
            <a:prstGeom prst="rect">
              <a:avLst/>
            </a:prstGeom>
            <a:solidFill>
              <a:srgbClr val="ff9900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6040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toring multiple version of a script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ry time you modify a script SA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ores the definition in a new fi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859280" y="3357720"/>
            <a:ext cx="3257640" cy="2828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042920" y="3395520"/>
            <a:ext cx="3387960" cy="2787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629080" y="29908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02520" y="29908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51640" y="4292640"/>
            <a:ext cx="1439640" cy="5047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96000" y="5046840"/>
            <a:ext cx="28728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7482960" y="-1440"/>
            <a:ext cx="1660320" cy="1169640"/>
            <a:chOff x="7482960" y="-1440"/>
            <a:chExt cx="1660320" cy="1169640"/>
          </a:xfrm>
        </p:grpSpPr>
        <p:sp>
          <p:nvSpPr>
            <p:cNvPr id="167" name=""/>
            <p:cNvSpPr/>
            <p:nvPr/>
          </p:nvSpPr>
          <p:spPr>
            <a:xfrm rot="19807800">
              <a:off x="7667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701000">
              <a:off x="8243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30520" y="31572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920" y="81864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howing differences between version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280" y="2216160"/>
            <a:ext cx="7777080" cy="42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an show the difference between 2 versions of a script, either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tively, using APL, 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a 3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party Unicode comparison progra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726080" y="3583080"/>
            <a:ext cx="123840" cy="12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7622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plications have to be maintained whether they are written in APL or no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have to keep track of changes to know who's done what and whe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must be able to undo change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Generally cope with (large) system related proble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7482960" y="-1440"/>
            <a:ext cx="1660320" cy="1169640"/>
            <a:chOff x="7482960" y="-1440"/>
            <a:chExt cx="1660320" cy="1169640"/>
          </a:xfrm>
        </p:grpSpPr>
        <p:sp>
          <p:nvSpPr>
            <p:cNvPr id="175" name=""/>
            <p:cNvSpPr/>
            <p:nvPr/>
          </p:nvSpPr>
          <p:spPr>
            <a:xfrm rot="19807800">
              <a:off x="7667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701000">
              <a:off x="8243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30520" y="31572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81864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howing differences between version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22400" y="2000160"/>
            <a:ext cx="7510320" cy="42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‘APL’ is the method chosen to compare,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output will appear in the session like thi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726080" y="3583080"/>
            <a:ext cx="123840" cy="12384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470880" y="2922480"/>
            <a:ext cx="8009640" cy="3314880"/>
            <a:chOff x="470880" y="2922480"/>
            <a:chExt cx="8009640" cy="3314880"/>
          </a:xfrm>
        </p:grpSpPr>
        <p:grpSp>
          <p:nvGrpSpPr>
            <p:cNvPr id="183" name=""/>
            <p:cNvGrpSpPr/>
            <p:nvPr/>
          </p:nvGrpSpPr>
          <p:grpSpPr>
            <a:xfrm>
              <a:off x="3203640" y="2922480"/>
              <a:ext cx="5276880" cy="3314880"/>
              <a:chOff x="3203640" y="2922480"/>
              <a:chExt cx="5276880" cy="3314880"/>
            </a:xfrm>
          </p:grpSpPr>
          <p:pic>
            <p:nvPicPr>
              <p:cNvPr id="18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03640" y="2922480"/>
                <a:ext cx="5276880" cy="331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"/>
              <p:cNvSpPr/>
              <p:nvPr/>
            </p:nvSpPr>
            <p:spPr>
              <a:xfrm>
                <a:off x="3203640" y="4362480"/>
                <a:ext cx="2881440" cy="360360"/>
              </a:xfrm>
              <a:prstGeom prst="rect">
                <a:avLst/>
              </a:prstGeom>
              <a:solidFill>
                <a:srgbClr val="33cc33">
                  <a:alpha val="3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203640" y="4973760"/>
                <a:ext cx="2881440" cy="360360"/>
              </a:xfrm>
              <a:prstGeom prst="rect">
                <a:avLst/>
              </a:prstGeom>
              <a:solidFill>
                <a:srgbClr val="33cc33">
                  <a:alpha val="3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375600" y="4362480"/>
                <a:ext cx="152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ines insert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356880" y="4960800"/>
                <a:ext cx="15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ines modifi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5940360" y="515448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5940360" y="455940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470880" y="4217760"/>
              <a:ext cx="2210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→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used to den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serted 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←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used to den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eleted 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00360" y="44337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00360" y="443376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00360" y="4433760"/>
              <a:ext cx="5032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00360" y="522612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featur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0324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has many more featur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UNIX read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omes with tools of its ow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extended easily by adding your own utili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limit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small applications it may be sufficient to keep all code on file managed by SA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larger apps this is clearly inadequat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What is Version Control (VC)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94920" y="1916280"/>
            <a:ext cx="8272440" cy="40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C is a good way to ensure team members of a project don't step over each others' to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n a large project it is imperative to use V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herwise, time (and money) will be lost trying to recover from coordination problem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usually start by importing an existing system (a set of files) into a version control 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476360" y="3429000"/>
            <a:ext cx="5759640" cy="1368360"/>
            <a:chOff x="1476360" y="3429000"/>
            <a:chExt cx="5759640" cy="1368360"/>
          </a:xfrm>
        </p:grpSpPr>
        <p:sp>
          <p:nvSpPr>
            <p:cNvPr id="205" name="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76360" y="3429000"/>
              <a:ext cx="1800360" cy="12952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35280" y="3789360"/>
              <a:ext cx="1513080" cy="576360"/>
            </a:xfrm>
            <a:custGeom>
              <a:avLst/>
              <a:gdLst>
                <a:gd name="textAreaLeft" fmla="*/ 236160 w 1513080"/>
                <a:gd name="textAreaRight" fmla="*/ 1324080 w 1513080"/>
                <a:gd name="textAreaTop" fmla="*/ 144000 h 576360"/>
                <a:gd name="textAreaBottom" fmla="*/ 4323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m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original files can then be forgotte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0" name=""/>
          <p:cNvSpPr/>
          <p:nvPr/>
        </p:nvSpPr>
        <p:spPr>
          <a:xfrm>
            <a:off x="5724360" y="3429000"/>
            <a:ext cx="1511640" cy="13683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76360" y="3429000"/>
            <a:ext cx="1800360" cy="129528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403280" y="2997360"/>
            <a:ext cx="1944720" cy="1944360"/>
            <a:chOff x="1403280" y="2997360"/>
            <a:chExt cx="1944720" cy="1944360"/>
          </a:xfrm>
        </p:grpSpPr>
        <p:sp>
          <p:nvSpPr>
            <p:cNvPr id="213" name=""/>
            <p:cNvSpPr/>
            <p:nvPr/>
          </p:nvSpPr>
          <p:spPr>
            <a:xfrm>
              <a:off x="1403280" y="2997360"/>
              <a:ext cx="1944720" cy="1944360"/>
            </a:xfrm>
            <a:prstGeom prst="ellipse">
              <a:avLst/>
            </a:prstGeom>
            <a:noFill/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676160" y="3305520"/>
              <a:ext cx="1388880" cy="138852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1737000" y="3256920"/>
              <a:ext cx="1333800" cy="144324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then checkout a subset to work with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692360" y="3068640"/>
            <a:ext cx="5759280" cy="2735280"/>
            <a:chOff x="1692360" y="3068640"/>
            <a:chExt cx="5759280" cy="2735280"/>
          </a:xfrm>
        </p:grpSpPr>
        <p:sp>
          <p:nvSpPr>
            <p:cNvPr id="219" name=""/>
            <p:cNvSpPr/>
            <p:nvPr/>
          </p:nvSpPr>
          <p:spPr>
            <a:xfrm>
              <a:off x="5940360" y="3068640"/>
              <a:ext cx="151128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43280" y="4940280"/>
              <a:ext cx="1224000" cy="863640"/>
            </a:xfrm>
            <a:prstGeom prst="flowChartMultidocument">
              <a:avLst/>
            </a:prstGeom>
            <a:solidFill>
              <a:srgbClr val="fc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ub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rot="19881000">
              <a:off x="4066560" y="4220640"/>
              <a:ext cx="1800000" cy="576360"/>
            </a:xfrm>
            <a:custGeom>
              <a:avLst/>
              <a:gdLst>
                <a:gd name="textAreaLeft" fmla="*/ 281160 w 1800000"/>
                <a:gd name="textAreaRight" fmla="*/ 1575000 w 1800000"/>
                <a:gd name="textAreaTop" fmla="*/ 144000 h 576360"/>
                <a:gd name="textAreaBottom" fmla="*/ 4323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eck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92360" y="3068640"/>
              <a:ext cx="1800000" cy="1295280"/>
            </a:xfrm>
            <a:prstGeom prst="flowChartMultidocumen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731960" y="2781360"/>
            <a:ext cx="1728720" cy="1728720"/>
            <a:chOff x="1731960" y="2781360"/>
            <a:chExt cx="1728720" cy="1728720"/>
          </a:xfrm>
        </p:grpSpPr>
        <p:sp>
          <p:nvSpPr>
            <p:cNvPr id="224" name=""/>
            <p:cNvSpPr/>
            <p:nvPr/>
          </p:nvSpPr>
          <p:spPr>
            <a:xfrm>
              <a:off x="1731960" y="2781360"/>
              <a:ext cx="1728720" cy="1728720"/>
            </a:xfrm>
            <a:prstGeom prst="ellipse">
              <a:avLst/>
            </a:prstGeom>
            <a:noFill/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74600" y="3055320"/>
              <a:ext cx="1234440" cy="123444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2028960" y="3012120"/>
              <a:ext cx="1185840" cy="128340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then work on the subset for a whi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9" name=""/>
          <p:cNvSpPr/>
          <p:nvPr/>
        </p:nvSpPr>
        <p:spPr>
          <a:xfrm>
            <a:off x="5940360" y="3068640"/>
            <a:ext cx="1511280" cy="1368360"/>
          </a:xfrm>
          <a:prstGeom prst="flowChartMagneticDisk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43280" y="4940280"/>
            <a:ext cx="1224000" cy="86364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56000" y="4508640"/>
            <a:ext cx="1698480" cy="1672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you are using SALT you maintain the files from AP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4" name=""/>
          <p:cNvSpPr/>
          <p:nvPr/>
        </p:nvSpPr>
        <p:spPr>
          <a:xfrm>
            <a:off x="2843280" y="5084640"/>
            <a:ext cx="1224000" cy="86364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75280" y="2708280"/>
            <a:ext cx="2376360" cy="1368360"/>
          </a:xfrm>
          <a:prstGeom prst="flowChartPredefinedProcess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yalog 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8835800">
            <a:off x="4032000" y="4365000"/>
            <a:ext cx="1079640" cy="432000"/>
          </a:xfrm>
          <a:prstGeom prst="leftRightArrow">
            <a:avLst>
              <a:gd name="adj1" fmla="val 50000"/>
              <a:gd name="adj2" fmla="val 497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ry once in a while you update the 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9" name=""/>
          <p:cNvSpPr/>
          <p:nvPr/>
        </p:nvSpPr>
        <p:spPr>
          <a:xfrm>
            <a:off x="5940360" y="3068640"/>
            <a:ext cx="1511280" cy="13683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43280" y="4940280"/>
            <a:ext cx="1224000" cy="86364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rot="9466200">
            <a:off x="4104720" y="4365360"/>
            <a:ext cx="1800000" cy="576000"/>
          </a:xfrm>
          <a:custGeom>
            <a:avLst/>
            <a:gdLst>
              <a:gd name="textAreaLeft" fmla="*/ 281160 w 1800000"/>
              <a:gd name="textAreaRight" fmla="*/ 1575000 w 180000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ps have been maintained using a combination of workspace and external databas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5280" y="3787920"/>
            <a:ext cx="5471640" cy="1585440"/>
            <a:chOff x="1835280" y="3787920"/>
            <a:chExt cx="5471640" cy="1585440"/>
          </a:xfrm>
        </p:grpSpPr>
        <p:sp>
          <p:nvSpPr>
            <p:cNvPr id="98" name=""/>
            <p:cNvSpPr/>
            <p:nvPr/>
          </p:nvSpPr>
          <p:spPr>
            <a:xfrm>
              <a:off x="1835280" y="3900600"/>
              <a:ext cx="1293840" cy="14727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18120" y="3787920"/>
              <a:ext cx="2188800" cy="1585440"/>
            </a:xfrm>
            <a:prstGeom prst="flowChartPredefined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orksp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29120" y="4694400"/>
              <a:ext cx="198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the repository is in a stable state you may produce a new releas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476360" y="3429000"/>
            <a:ext cx="5759640" cy="1440000"/>
            <a:chOff x="1476360" y="3429000"/>
            <a:chExt cx="5759640" cy="1440000"/>
          </a:xfrm>
        </p:grpSpPr>
        <p:sp>
          <p:nvSpPr>
            <p:cNvPr id="245" name="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76360" y="3573360"/>
              <a:ext cx="1800360" cy="1295640"/>
            </a:xfrm>
            <a:prstGeom prst="flowChartMultidocumen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99b7ba"/>
                </a:gs>
                <a:gs pos="100000">
                  <a:srgbClr val="bbe0e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ew rele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0800000">
              <a:off x="3634920" y="3860280"/>
              <a:ext cx="1513080" cy="576360"/>
            </a:xfrm>
            <a:custGeom>
              <a:avLst/>
              <a:gdLst>
                <a:gd name="textAreaLeft" fmla="*/ 236160 w 1513080"/>
                <a:gd name="textAreaRight" fmla="*/ 1324080 w 1513080"/>
                <a:gd name="textAreaTop" fmla="*/ 144000 h 576360"/>
                <a:gd name="textAreaBottom" fmla="*/ 4323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C system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several VC systems out ther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mention a few: PerForce, ClearCase, Visual SourceSafe, CVS and SubVers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all have qualities and problem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C system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the following slides we'll us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s an examp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a popular open source program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well documented, has a large user base and it's fre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1042920" y="2205000"/>
            <a:ext cx="6553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ubversio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3" name=""/>
          <p:cNvSpPr/>
          <p:nvPr/>
        </p:nvSpPr>
        <p:spPr>
          <a:xfrm>
            <a:off x="1167840" y="136044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a version control system for Unix and Window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independent of any file system or file types to manag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98984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omes in command line (shell) mod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3333"/>
                </a:solidFill>
                <a:uFillTx/>
                <a:latin typeface="Geneva"/>
              </a:rPr>
              <a:t>Mos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ommands involve program </a:t>
            </a:r>
            <a:r>
              <a:rPr b="0" i="1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or ex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impor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heckou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heckin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expor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re are many more commands in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 subversion.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handle updates, conflicts, allow to see differences between vers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omplete list is extensive but well documen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is also a GUI front-end for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front-end is completely separate but closely integrated to the GUI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's name is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TortoiseSVN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MUST be installed for it to ru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ifferent people prefer different thing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indows users may choose the GUI front-end for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nix users may prefer the shell environm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users might prefer to stay in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ither way the results will be the same: better coordination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uming we have the following workspace named </a:t>
            </a:r>
            <a:r>
              <a:rPr b="1" lang="en-GB" sz="3200" spc="-1" strike="noStrike">
                <a:solidFill>
                  <a:srgbClr val="e93b37"/>
                </a:solidFill>
                <a:latin typeface="Geneva"/>
              </a:rPr>
              <a:t>ROBO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written in Dyalo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has 2 top level namespaces in which there are 5 (nested) namespac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space Master: 2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space Troopers: 3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makes porting code or even sharing snippets of it difficu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187280" y="2565360"/>
            <a:ext cx="6913800" cy="3240000"/>
            <a:chOff x="1187280" y="2565360"/>
            <a:chExt cx="6913800" cy="3240000"/>
          </a:xfrm>
        </p:grpSpPr>
        <p:sp>
          <p:nvSpPr>
            <p:cNvPr id="268" name=""/>
            <p:cNvSpPr/>
            <p:nvPr/>
          </p:nvSpPr>
          <p:spPr>
            <a:xfrm>
              <a:off x="1187280" y="2565360"/>
              <a:ext cx="6913800" cy="3240000"/>
            </a:xfrm>
            <a:prstGeom prst="flowChartPredefined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orkspa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966480" y="2877120"/>
              <a:ext cx="2575800" cy="1183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6480" y="4309560"/>
              <a:ext cx="2575800" cy="1183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69520" y="3562200"/>
              <a:ext cx="1017360" cy="435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90640" y="3562200"/>
              <a:ext cx="947160" cy="435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48560" y="4995000"/>
              <a:ext cx="745560" cy="373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o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10320" y="4995000"/>
              <a:ext cx="745200" cy="373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bo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879440" y="4995000"/>
              <a:ext cx="745200" cy="373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Du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82240" y="430956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roop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858920" y="284004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613800" y="1523880"/>
            <a:ext cx="772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7 namespaces, 5 of which are n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text files for the namespaces has several benefi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visualize the cod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maintai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sha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 need to have the interpret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will create the following folder named </a:t>
            </a:r>
            <a:r>
              <a:rPr b="1" lang="en-GB" sz="3200" spc="-1" strike="noStrike">
                <a:solidFill>
                  <a:srgbClr val="ff6600"/>
                </a:solidFill>
                <a:latin typeface="Geneva"/>
              </a:rPr>
              <a:t>\</a:t>
            </a:r>
            <a:r>
              <a:rPr b="1" lang="en-GB" sz="3200" spc="-1" strike="noStrike">
                <a:solidFill>
                  <a:srgbClr val="e93b37"/>
                </a:solidFill>
                <a:latin typeface="Geneva"/>
              </a:rPr>
              <a:t>ROBO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nvolving Dyalog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has 2 folders and 5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lder Master: 2 scrip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lder Troopers: 3 scrip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create \ROBOTS we will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SALT's conversion tools to transform the non-scripted namespaces into scripted for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SALT's &lt;Save&gt; function to store the scripted namespaces to the \ROBOTS subfold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34520" y="1484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create \ROBOTS\Troopers\Pound.dyalog we wil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nvertCode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Conve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Troopers.Pou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APL385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Troopers.Pound  \ROBOTS\Troopers\Pou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re is the final result in Explorer view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114640" y="2349360"/>
            <a:ext cx="4681440" cy="32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here is what 'Pound' looks lik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779480" y="2284560"/>
            <a:ext cx="5545080" cy="36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first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re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repository, here in \My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908000" y="2637000"/>
            <a:ext cx="5256360" cy="37098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692360" y="2959200"/>
            <a:ext cx="374328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then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im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ur system (ROBOTS) into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684360" y="2432160"/>
            <a:ext cx="7632720" cy="3012840"/>
            <a:chOff x="684360" y="2432160"/>
            <a:chExt cx="7632720" cy="3012840"/>
          </a:xfrm>
        </p:grpSpPr>
        <p:pic>
          <p:nvPicPr>
            <p:cNvPr id="300" name="" descr=""/>
            <p:cNvPicPr/>
            <p:nvPr/>
          </p:nvPicPr>
          <p:blipFill>
            <a:blip r:embed="rId1"/>
            <a:stretch/>
          </p:blipFill>
          <p:spPr>
            <a:xfrm>
              <a:off x="684360" y="2432160"/>
              <a:ext cx="7632720" cy="30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826920" y="2884320"/>
              <a:ext cx="4967280" cy="432000"/>
            </a:xfrm>
            <a:prstGeom prst="ellipse">
              <a:avLst/>
            </a:prstGeom>
            <a:noFill/>
            <a:ln w="5724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476360" y="3429000"/>
            <a:ext cx="5759640" cy="1368360"/>
            <a:chOff x="1476360" y="3429000"/>
            <a:chExt cx="5759640" cy="1368360"/>
          </a:xfrm>
        </p:grpSpPr>
        <p:sp>
          <p:nvSpPr>
            <p:cNvPr id="303" name="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476360" y="3429000"/>
              <a:ext cx="1800360" cy="12952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b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635280" y="3789360"/>
              <a:ext cx="1513080" cy="576360"/>
            </a:xfrm>
            <a:custGeom>
              <a:avLst/>
              <a:gdLst>
                <a:gd name="textAreaLeft" fmla="*/ 236160 w 1513080"/>
                <a:gd name="textAreaRight" fmla="*/ 1324080 w 1513080"/>
                <a:gd name="textAreaTop" fmla="*/ 144000 h 576360"/>
                <a:gd name="textAreaBottom" fmla="*/ 4323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m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system is now in the repository and can be checked out by anyone able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can be on the same machine or on the same networ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also be across the internet with proper credential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Unico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ith the wider acceptance of Unicode it has become easier to share cod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code can now be cut &amp; pasted and viewed in Notepad or other Unicode compliant edit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It can be shar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original source is no longer requir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get rid of it (or back it up) </a:t>
            </a:r>
            <a:r>
              <a:rPr b="0" lang="en-GB" sz="32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465800" cy="31399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 rot="5400000">
            <a:off x="3598560" y="3536640"/>
            <a:ext cx="1729080" cy="237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e0904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e0904"/>
              </a:solidFill>
              <a:latin typeface="Arial Black"/>
              <a:ea typeface="Arial Black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362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xt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heckou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copy to work wi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68580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826920" y="2692440"/>
            <a:ext cx="6840720" cy="3017880"/>
            <a:chOff x="826920" y="2692440"/>
            <a:chExt cx="6840720" cy="3017880"/>
          </a:xfrm>
        </p:grpSpPr>
        <p:pic>
          <p:nvPicPr>
            <p:cNvPr id="315" name="" descr=""/>
            <p:cNvPicPr/>
            <p:nvPr/>
          </p:nvPicPr>
          <p:blipFill>
            <a:blip r:embed="rId1"/>
            <a:stretch/>
          </p:blipFill>
          <p:spPr>
            <a:xfrm>
              <a:off x="1187280" y="2692440"/>
              <a:ext cx="6480360" cy="30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826920" y="3189240"/>
              <a:ext cx="6553440" cy="432000"/>
            </a:xfrm>
            <a:prstGeom prst="ellipse">
              <a:avLst/>
            </a:prstGeom>
            <a:noFill/>
            <a:ln w="5724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1692360" y="3068640"/>
            <a:ext cx="5759280" cy="2735280"/>
            <a:chOff x="1692360" y="3068640"/>
            <a:chExt cx="5759280" cy="2735280"/>
          </a:xfrm>
        </p:grpSpPr>
        <p:sp>
          <p:nvSpPr>
            <p:cNvPr id="318" name=""/>
            <p:cNvSpPr/>
            <p:nvPr/>
          </p:nvSpPr>
          <p:spPr>
            <a:xfrm>
              <a:off x="5940360" y="3068640"/>
              <a:ext cx="151128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43280" y="4940280"/>
              <a:ext cx="1224000" cy="863640"/>
            </a:xfrm>
            <a:prstGeom prst="flowChartMultidocument">
              <a:avLst/>
            </a:prstGeom>
            <a:solidFill>
              <a:srgbClr val="fc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lscri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 rot="19881000">
              <a:off x="4066560" y="4220640"/>
              <a:ext cx="1800000" cy="576360"/>
            </a:xfrm>
            <a:custGeom>
              <a:avLst/>
              <a:gdLst>
                <a:gd name="textAreaLeft" fmla="*/ 281160 w 1800000"/>
                <a:gd name="textAreaRight" fmla="*/ 1575000 w 1800000"/>
                <a:gd name="textAreaTop" fmla="*/ 144000 h 576360"/>
                <a:gd name="textAreaBottom" fmla="*/ 4323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eck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692360" y="3068640"/>
              <a:ext cx="1800000" cy="1295280"/>
            </a:xfrm>
            <a:prstGeom prst="flowChartMultidocumen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</a:t>
              </a:r>
              <a:r>
                <a:rPr b="0" lang="en-GB" sz="6000" spc="-1" strike="noStrike">
                  <a:solidFill>
                    <a:srgbClr val="de0904"/>
                  </a:solidFill>
                  <a:latin typeface="Arial"/>
                </a:rPr>
                <a:t>X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46040" y="2008080"/>
            <a:ext cx="858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We will put our working copy in </a:t>
            </a: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start working in APL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have to make sure SALT is enable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187280" y="2852640"/>
            <a:ext cx="6840720" cy="31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also state where the working folder i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re we specify to use our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older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87280" y="2852640"/>
            <a:ext cx="6840720" cy="31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fterwards, when we start Dyalog, SALT should be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187280" y="2928960"/>
            <a:ext cx="6985080" cy="2805120"/>
            <a:chOff x="1187280" y="2928960"/>
            <a:chExt cx="6985080" cy="2805120"/>
          </a:xfrm>
        </p:grpSpPr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1187280" y="2928960"/>
              <a:ext cx="6985080" cy="28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1476360" y="4437000"/>
              <a:ext cx="649440" cy="43200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working directory should be se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1382760" y="2082960"/>
            <a:ext cx="6357960" cy="40100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1330200" y="4157640"/>
            <a:ext cx="12970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382760" y="2133720"/>
            <a:ext cx="6284880" cy="396396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bring in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1" name=""/>
          <p:cNvSpPr/>
          <p:nvPr/>
        </p:nvSpPr>
        <p:spPr>
          <a:xfrm>
            <a:off x="4067280" y="4581360"/>
            <a:ext cx="86364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1403280" y="2124000"/>
            <a:ext cx="6264360" cy="39690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1763640" y="2424240"/>
            <a:ext cx="5545080" cy="36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 (3 changes)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763640" y="2421000"/>
            <a:ext cx="5545080" cy="3610080"/>
            <a:chOff x="1763640" y="2421000"/>
            <a:chExt cx="5545080" cy="3610080"/>
          </a:xfrm>
        </p:grpSpPr>
        <p:pic>
          <p:nvPicPr>
            <p:cNvPr id="352" name="" descr=""/>
            <p:cNvPicPr/>
            <p:nvPr/>
          </p:nvPicPr>
          <p:blipFill>
            <a:blip r:embed="rId2"/>
            <a:stretch/>
          </p:blipFill>
          <p:spPr>
            <a:xfrm>
              <a:off x="1763640" y="2421000"/>
              <a:ext cx="5545080" cy="36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3367080" y="3303720"/>
              <a:ext cx="43164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048200" y="4278240"/>
              <a:ext cx="431640" cy="59076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fter editing we are prompted to repl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4"/>
          <a:stretch/>
        </p:blipFill>
        <p:spPr>
          <a:xfrm>
            <a:off x="2700360" y="2781360"/>
            <a:ext cx="352728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version introduced the OO concept of class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lasses (and similar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namespac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 can be edited in script for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ir definitions, including functions in them, can be edi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1403280" y="2133720"/>
            <a:ext cx="62643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at all is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6048720" cy="31831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932280" y="4192560"/>
            <a:ext cx="1000080" cy="216000"/>
          </a:xfrm>
          <a:prstGeom prst="rect">
            <a:avLst/>
          </a:prstGeom>
          <a:gradFill rotWithShape="0">
            <a:gsLst>
              <a:gs pos="0">
                <a:srgbClr val="3333cc">
                  <a:alpha val="54117"/>
                </a:srgbClr>
              </a:gs>
              <a:gs pos="100000">
                <a:srgbClr val="3333cc">
                  <a:alpha val="5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908000" y="2133720"/>
            <a:ext cx="5328000" cy="3738600"/>
            <a:chOff x="1908000" y="2133720"/>
            <a:chExt cx="5328000" cy="3738600"/>
          </a:xfrm>
        </p:grpSpPr>
        <p:pic>
          <p:nvPicPr>
            <p:cNvPr id="376" name="" descr=""/>
            <p:cNvPicPr/>
            <p:nvPr/>
          </p:nvPicPr>
          <p:blipFill>
            <a:blip r:embed="rId2"/>
            <a:stretch/>
          </p:blipFill>
          <p:spPr>
            <a:xfrm>
              <a:off x="1908000" y="2133720"/>
              <a:ext cx="5328000" cy="373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3798720" y="4202280"/>
              <a:ext cx="503280" cy="57636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059280" y="3142080"/>
              <a:ext cx="50292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Restoring the original workspace 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go back to the original workspace to work from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LOAD  ROBO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CS  Troop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[]SE.SALT.Load 'Troopers/Pound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w in updated script for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User Intera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now look like thi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3" name=""/>
          <p:cNvSpPr/>
          <p:nvPr/>
        </p:nvSpPr>
        <p:spPr>
          <a:xfrm>
            <a:off x="611280" y="2492280"/>
            <a:ext cx="4824360" cy="31687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627280" y="3933720"/>
            <a:ext cx="2057400" cy="14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92680" y="4005360"/>
            <a:ext cx="67932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892680" y="4941720"/>
            <a:ext cx="671400" cy="370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o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92680" y="4456080"/>
            <a:ext cx="671400" cy="371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743920" y="44370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627280" y="2709720"/>
            <a:ext cx="2067120" cy="94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782880" y="2819520"/>
            <a:ext cx="720720" cy="349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770280" y="3259080"/>
            <a:ext cx="730440" cy="349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776680" y="29638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372360" y="198900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451640" y="2637000"/>
            <a:ext cx="1008000" cy="86328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372360" y="364500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451640" y="443700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72360" y="515772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8" name=""/>
          <p:cNvCxnSpPr>
            <a:stCxn id="390" idx="3"/>
            <a:endCxn id="393" idx="1"/>
          </p:cNvCxnSpPr>
          <p:nvPr/>
        </p:nvCxnSpPr>
        <p:spPr>
          <a:xfrm flipV="1">
            <a:off x="4503240" y="2420640"/>
            <a:ext cx="186948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"/>
          <p:cNvCxnSpPr>
            <a:stCxn id="391" idx="3"/>
            <a:endCxn id="394" idx="1"/>
          </p:cNvCxnSpPr>
          <p:nvPr/>
        </p:nvCxnSpPr>
        <p:spPr>
          <a:xfrm flipV="1">
            <a:off x="4500360" y="3068280"/>
            <a:ext cx="295164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0" name=""/>
          <p:cNvCxnSpPr>
            <a:stCxn id="386" idx="3"/>
            <a:endCxn id="397" idx="1"/>
          </p:cNvCxnSpPr>
          <p:nvPr/>
        </p:nvCxnSpPr>
        <p:spPr>
          <a:xfrm>
            <a:off x="4563720" y="5127480"/>
            <a:ext cx="1809000" cy="46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1" name=""/>
          <p:cNvCxnSpPr>
            <a:stCxn id="387" idx="3"/>
            <a:endCxn id="396" idx="1"/>
          </p:cNvCxnSpPr>
          <p:nvPr/>
        </p:nvCxnSpPr>
        <p:spPr>
          <a:xfrm>
            <a:off x="4563720" y="4641480"/>
            <a:ext cx="2888280" cy="22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2" name=""/>
          <p:cNvCxnSpPr>
            <a:stCxn id="385" idx="3"/>
            <a:endCxn id="395" idx="1"/>
          </p:cNvCxnSpPr>
          <p:nvPr/>
        </p:nvCxnSpPr>
        <p:spPr>
          <a:xfrm flipV="1">
            <a:off x="4571640" y="4076280"/>
            <a:ext cx="1801080" cy="11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3" name=""/>
          <p:cNvSpPr/>
          <p:nvPr/>
        </p:nvSpPr>
        <p:spPr>
          <a:xfrm>
            <a:off x="6546240" y="128736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\apl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084720" y="1268280"/>
            <a:ext cx="2590920" cy="48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708360" y="2708280"/>
            <a:ext cx="1727280" cy="3457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y users Intera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912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now look like thi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8" name=""/>
          <p:cNvSpPr/>
          <p:nvPr/>
        </p:nvSpPr>
        <p:spPr>
          <a:xfrm>
            <a:off x="903960" y="2781360"/>
            <a:ext cx="200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2c7cc"/>
                </a:solidFill>
                <a:latin typeface="Arial"/>
              </a:rPr>
              <a:t>Us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2c7cc"/>
                </a:solidFill>
                <a:latin typeface="Arial"/>
              </a:rPr>
              <a:t>working on P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160320" y="2781360"/>
            <a:ext cx="20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bc01"/>
                </a:solidFill>
                <a:latin typeface="Arial"/>
              </a:rPr>
              <a:t>Us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bc01"/>
                </a:solidFill>
                <a:latin typeface="Arial"/>
              </a:rPr>
              <a:t>working on Robo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5280" y="3583080"/>
            <a:ext cx="3098880" cy="226224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690560" y="4611600"/>
            <a:ext cx="1320840" cy="102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502000" y="4662360"/>
            <a:ext cx="436320" cy="257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02000" y="5330880"/>
            <a:ext cx="431640" cy="264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o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02000" y="4984920"/>
            <a:ext cx="431640" cy="264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05800" y="49068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690560" y="3736800"/>
            <a:ext cx="1327320" cy="677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432160" y="3816360"/>
            <a:ext cx="463320" cy="249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424240" y="4129200"/>
            <a:ext cx="468360" cy="250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549440" y="39196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24360" y="3068640"/>
            <a:ext cx="646200" cy="61740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616280" y="3530520"/>
            <a:ext cx="648000" cy="61776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24360" y="4251240"/>
            <a:ext cx="646200" cy="615960"/>
          </a:xfrm>
          <a:prstGeom prst="flowChartDocument">
            <a:avLst/>
          </a:prstGeom>
          <a:solidFill>
            <a:srgbClr val="82c7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616280" y="4816440"/>
            <a:ext cx="648000" cy="61740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924360" y="5330880"/>
            <a:ext cx="646200" cy="617400"/>
          </a:xfrm>
          <a:prstGeom prst="flowChartDocument">
            <a:avLst/>
          </a:prstGeom>
          <a:solidFill>
            <a:srgbClr val="ffcb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5" name=""/>
          <p:cNvCxnSpPr>
            <a:stCxn id="417" idx="3"/>
            <a:endCxn id="420" idx="1"/>
          </p:cNvCxnSpPr>
          <p:nvPr/>
        </p:nvCxnSpPr>
        <p:spPr>
          <a:xfrm flipV="1">
            <a:off x="2895480" y="3377520"/>
            <a:ext cx="1029600" cy="564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426" name=""/>
          <p:cNvCxnSpPr>
            <a:stCxn id="418" idx="3"/>
            <a:endCxn id="421" idx="1"/>
          </p:cNvCxnSpPr>
          <p:nvPr/>
        </p:nvCxnSpPr>
        <p:spPr>
          <a:xfrm flipV="1">
            <a:off x="2892600" y="3839400"/>
            <a:ext cx="1724400" cy="415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427" name=""/>
          <p:cNvCxnSpPr>
            <a:stCxn id="413" idx="3"/>
            <a:endCxn id="424" idx="1"/>
          </p:cNvCxnSpPr>
          <p:nvPr/>
        </p:nvCxnSpPr>
        <p:spPr>
          <a:xfrm>
            <a:off x="2933640" y="5464080"/>
            <a:ext cx="991440" cy="177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428" name=""/>
          <p:cNvCxnSpPr>
            <a:stCxn id="414" idx="3"/>
            <a:endCxn id="423" idx="1"/>
          </p:cNvCxnSpPr>
          <p:nvPr/>
        </p:nvCxnSpPr>
        <p:spPr>
          <a:xfrm>
            <a:off x="2933640" y="5118120"/>
            <a:ext cx="1683360" cy="8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429" name=""/>
          <p:cNvCxnSpPr>
            <a:stCxn id="412" idx="3"/>
            <a:endCxn id="422" idx="1"/>
          </p:cNvCxnSpPr>
          <p:nvPr/>
        </p:nvCxnSpPr>
        <p:spPr>
          <a:xfrm flipV="1">
            <a:off x="2937960" y="4559040"/>
            <a:ext cx="9867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30" name=""/>
          <p:cNvSpPr/>
          <p:nvPr/>
        </p:nvSpPr>
        <p:spPr>
          <a:xfrm>
            <a:off x="5651640" y="3573360"/>
            <a:ext cx="3098520" cy="2262240"/>
          </a:xfrm>
          <a:prstGeom prst="flowChartPredefinedProcess">
            <a:avLst/>
          </a:prstGeom>
          <a:solidFill>
            <a:srgbClr val="ffcb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948360" y="4581360"/>
            <a:ext cx="1320840" cy="102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097760" y="4653000"/>
            <a:ext cx="436680" cy="2570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097760" y="5321160"/>
            <a:ext cx="431640" cy="265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o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097760" y="4975200"/>
            <a:ext cx="431640" cy="264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579440" y="48625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46920" y="3727440"/>
            <a:ext cx="1326960" cy="677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027920" y="3807000"/>
            <a:ext cx="463320" cy="249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020000" y="4119480"/>
            <a:ext cx="468360" cy="25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453440" y="3860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0" name=""/>
          <p:cNvCxnSpPr>
            <a:stCxn id="424" idx="3"/>
            <a:endCxn id="433" idx="1"/>
          </p:cNvCxnSpPr>
          <p:nvPr/>
        </p:nvCxnSpPr>
        <p:spPr>
          <a:xfrm flipV="1">
            <a:off x="4570560" y="5454360"/>
            <a:ext cx="252792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1" name=""/>
          <p:cNvCxnSpPr>
            <a:stCxn id="423" idx="3"/>
            <a:endCxn id="434" idx="1"/>
          </p:cNvCxnSpPr>
          <p:nvPr/>
        </p:nvCxnSpPr>
        <p:spPr>
          <a:xfrm flipV="1">
            <a:off x="5263920" y="5107680"/>
            <a:ext cx="1834200" cy="18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442" name=""/>
          <p:cNvCxnSpPr>
            <a:stCxn id="422" idx="3"/>
            <a:endCxn id="432" idx="1"/>
          </p:cNvCxnSpPr>
          <p:nvPr/>
        </p:nvCxnSpPr>
        <p:spPr>
          <a:xfrm>
            <a:off x="4570560" y="4559040"/>
            <a:ext cx="2527920" cy="222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443" name=""/>
          <p:cNvCxnSpPr>
            <a:stCxn id="421" idx="3"/>
            <a:endCxn id="438" idx="1"/>
          </p:cNvCxnSpPr>
          <p:nvPr/>
        </p:nvCxnSpPr>
        <p:spPr>
          <a:xfrm>
            <a:off x="5263920" y="3839760"/>
            <a:ext cx="1756440" cy="405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444" name=""/>
          <p:cNvCxnSpPr>
            <a:stCxn id="420" idx="3"/>
            <a:endCxn id="437" idx="1"/>
          </p:cNvCxnSpPr>
          <p:nvPr/>
        </p:nvCxnSpPr>
        <p:spPr>
          <a:xfrm>
            <a:off x="4570560" y="3377880"/>
            <a:ext cx="2458080" cy="5547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we are happy with all the changes we can tell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commit the changes we've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900000" y="3068640"/>
            <a:ext cx="7201080" cy="2487600"/>
            <a:chOff x="900000" y="3068640"/>
            <a:chExt cx="7201080" cy="2487600"/>
          </a:xfrm>
        </p:grpSpPr>
        <p:pic>
          <p:nvPicPr>
            <p:cNvPr id="448" name="" descr=""/>
            <p:cNvPicPr/>
            <p:nvPr/>
          </p:nvPicPr>
          <p:blipFill>
            <a:blip r:embed="rId1"/>
            <a:stretch/>
          </p:blipFill>
          <p:spPr>
            <a:xfrm>
              <a:off x="900000" y="3068640"/>
              <a:ext cx="720108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1403280" y="3673440"/>
              <a:ext cx="2664000" cy="43200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295800" y="4273560"/>
              <a:ext cx="50292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2843280" y="3068640"/>
            <a:ext cx="4608360" cy="2735280"/>
            <a:chOff x="2843280" y="3068640"/>
            <a:chExt cx="4608360" cy="2735280"/>
          </a:xfrm>
        </p:grpSpPr>
        <p:sp>
          <p:nvSpPr>
            <p:cNvPr id="452" name=""/>
            <p:cNvSpPr/>
            <p:nvPr/>
          </p:nvSpPr>
          <p:spPr>
            <a:xfrm>
              <a:off x="5940360" y="3068640"/>
              <a:ext cx="1511280" cy="1368360"/>
            </a:xfrm>
            <a:prstGeom prst="flowChartMagneticDisk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843280" y="4940280"/>
              <a:ext cx="1224000" cy="863640"/>
            </a:xfrm>
            <a:prstGeom prst="flowChartMultidocument">
              <a:avLst/>
            </a:prstGeom>
            <a:solidFill>
              <a:srgbClr val="fc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lscri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 rot="9466200">
              <a:off x="4104720" y="4365360"/>
              <a:ext cx="1800000" cy="576000"/>
            </a:xfrm>
            <a:custGeom>
              <a:avLst/>
              <a:gdLst>
                <a:gd name="textAreaLeft" fmla="*/ 281160 w 1800000"/>
                <a:gd name="textAreaRight" fmla="*/ 1575000 w 1800000"/>
                <a:gd name="textAreaTop" fmla="*/ 144000 h 576000"/>
                <a:gd name="textAreaBottom" fmla="*/ 43200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eck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1763640" y="2492280"/>
            <a:ext cx="5329440" cy="339084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keep making changes in APL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8" name=""/>
          <p:cNvSpPr/>
          <p:nvPr/>
        </p:nvSpPr>
        <p:spPr>
          <a:xfrm>
            <a:off x="3238560" y="3284640"/>
            <a:ext cx="43164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203640" y="3687840"/>
            <a:ext cx="360360" cy="36036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898560" y="2820960"/>
            <a:ext cx="7273800" cy="26640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.. and committing until happ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4024440"/>
            <a:ext cx="50328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efinition of objects like classes can be retrieved and manipulated like the definition of func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, like the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 of a function, it can be stored outside the workspace, e.g. in a text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395280" y="1474560"/>
            <a:ext cx="8137440" cy="13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inally, to produce a finished version we </a:t>
            </a:r>
            <a:r>
              <a:rPr b="0" lang="en-GB" sz="2800" spc="-1" strike="noStrike">
                <a:solidFill>
                  <a:srgbClr val="fc4a46"/>
                </a:solidFill>
                <a:latin typeface="Geneva"/>
              </a:rPr>
              <a:t>expor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o a folder we'll use to hold the entire projec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1116000" y="2637000"/>
            <a:ext cx="6905520" cy="3216240"/>
            <a:chOff x="1116000" y="2637000"/>
            <a:chExt cx="6905520" cy="3216240"/>
          </a:xfrm>
        </p:grpSpPr>
        <p:pic>
          <p:nvPicPr>
            <p:cNvPr id="467" name="" descr=""/>
            <p:cNvPicPr/>
            <p:nvPr/>
          </p:nvPicPr>
          <p:blipFill>
            <a:blip r:embed="rId1"/>
            <a:stretch/>
          </p:blipFill>
          <p:spPr>
            <a:xfrm>
              <a:off x="1116000" y="2637000"/>
              <a:ext cx="6905520" cy="32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1187280" y="3179880"/>
              <a:ext cx="6337440" cy="431640"/>
            </a:xfrm>
            <a:prstGeom prst="ellipse">
              <a:avLst/>
            </a:prstGeom>
            <a:noFill/>
            <a:ln w="5724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1476360" y="3429000"/>
            <a:ext cx="5759640" cy="1440000"/>
            <a:chOff x="1476360" y="3429000"/>
            <a:chExt cx="5759640" cy="1440000"/>
          </a:xfrm>
        </p:grpSpPr>
        <p:sp>
          <p:nvSpPr>
            <p:cNvPr id="470" name="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476360" y="3573360"/>
              <a:ext cx="1800360" cy="1295640"/>
            </a:xfrm>
            <a:prstGeom prst="flowChartMultidocumen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99b7ba"/>
                </a:gs>
                <a:gs pos="100000">
                  <a:srgbClr val="bbe0e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botG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10800000">
              <a:off x="3634920" y="3860280"/>
              <a:ext cx="1513080" cy="576360"/>
            </a:xfrm>
            <a:custGeom>
              <a:avLst/>
              <a:gdLst>
                <a:gd name="textAreaLeft" fmla="*/ 236160 w 1513080"/>
                <a:gd name="textAreaRight" fmla="*/ 1324080 w 1513080"/>
                <a:gd name="textAreaTop" fmla="*/ 144000 h 576360"/>
                <a:gd name="textAreaBottom" fmla="*/ 4323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395280" y="1474560"/>
            <a:ext cx="8137440" cy="13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e new \RobotGame folder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1836720" y="2708280"/>
            <a:ext cx="5183280" cy="33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26920" y="3860280"/>
            <a:ext cx="7629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eneva"/>
              </a:rPr>
              <a:t>An integrated disk Explorer</a:t>
            </a:r>
            <a:endParaRPr b="0" lang="en-US" sz="4400" spc="-1" strike="noStrike">
              <a:solidFill>
                <a:srgbClr val="333333"/>
              </a:solidFill>
              <a:latin typeface="Geneva"/>
            </a:endParaRPr>
          </a:p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eneva"/>
              </a:rPr>
              <a:t>GUI front-end for subversion</a:t>
            </a:r>
            <a:endParaRPr b="0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3132000" y="1989000"/>
            <a:ext cx="2908440" cy="127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10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the same ROBOTS 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4681440" cy="32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3898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first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re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 empty repository, here in \My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ight click on the folder wan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rtoiseSV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repository here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3124080" cy="24670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4284720" y="1341360"/>
            <a:ext cx="4862520" cy="48960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5076720" y="2421000"/>
            <a:ext cx="3529080" cy="22035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4"/>
          <a:stretch/>
        </p:blipFill>
        <p:spPr>
          <a:xfrm>
            <a:off x="4643280" y="2637000"/>
            <a:ext cx="3600720" cy="137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4067280" y="2060640"/>
            <a:ext cx="4176720" cy="257976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4067280" y="1700280"/>
            <a:ext cx="4562280" cy="429588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3"/>
          <a:stretch/>
        </p:blipFill>
        <p:spPr>
          <a:xfrm>
            <a:off x="4427640" y="2637000"/>
            <a:ext cx="4362480" cy="326700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4"/>
          <a:stretch/>
        </p:blipFill>
        <p:spPr>
          <a:xfrm>
            <a:off x="3708360" y="2781360"/>
            <a:ext cx="5276880" cy="28764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33228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n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im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ur current system into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system is now in the repository and can be checked out by anyone able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can be on the same machine or on the same networ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also be across the internet with proper credential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6840" y="11970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xt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heckou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copy to work wi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will put our working copy in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3924360" y="1268280"/>
            <a:ext cx="3171600" cy="244800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3892680" y="1249200"/>
            <a:ext cx="3219480" cy="524700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3"/>
          <a:stretch/>
        </p:blipFill>
        <p:spPr>
          <a:xfrm>
            <a:off x="4211640" y="1628640"/>
            <a:ext cx="4343400" cy="30481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4"/>
          <a:stretch/>
        </p:blipFill>
        <p:spPr>
          <a:xfrm>
            <a:off x="4572000" y="2205000"/>
            <a:ext cx="2808360" cy="152244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5"/>
          <a:stretch/>
        </p:blipFill>
        <p:spPr>
          <a:xfrm>
            <a:off x="3635280" y="2708280"/>
            <a:ext cx="5276880" cy="28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art Dyalog, SALT should be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755640" y="2349360"/>
            <a:ext cx="7632720" cy="3065760"/>
            <a:chOff x="755640" y="2349360"/>
            <a:chExt cx="7632720" cy="3065760"/>
          </a:xfrm>
        </p:grpSpPr>
        <p:pic>
          <p:nvPicPr>
            <p:cNvPr id="506" name="" descr=""/>
            <p:cNvPicPr/>
            <p:nvPr/>
          </p:nvPicPr>
          <p:blipFill>
            <a:blip r:embed="rId1"/>
            <a:stretch/>
          </p:blipFill>
          <p:spPr>
            <a:xfrm>
              <a:off x="755640" y="2349360"/>
              <a:ext cx="7632720" cy="30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1096920" y="4024440"/>
              <a:ext cx="64944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working directory should be se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1382760" y="2082960"/>
            <a:ext cx="6357960" cy="401004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1330200" y="4157640"/>
            <a:ext cx="12970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23640" y="3222360"/>
            <a:ext cx="48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OK, so, what is SALT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1382760" y="2133720"/>
            <a:ext cx="6284880" cy="396396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bring in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5" name=""/>
          <p:cNvSpPr/>
          <p:nvPr/>
        </p:nvSpPr>
        <p:spPr>
          <a:xfrm>
            <a:off x="4067280" y="4581360"/>
            <a:ext cx="86364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403280" y="2124000"/>
            <a:ext cx="6264360" cy="396900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1692360" y="2471760"/>
            <a:ext cx="5472000" cy="35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1692360" y="2482920"/>
            <a:ext cx="5545080" cy="3610080"/>
            <a:chOff x="1692360" y="2482920"/>
            <a:chExt cx="5545080" cy="3610080"/>
          </a:xfrm>
        </p:grpSpPr>
        <p:pic>
          <p:nvPicPr>
            <p:cNvPr id="526" name="" descr=""/>
            <p:cNvPicPr/>
            <p:nvPr/>
          </p:nvPicPr>
          <p:blipFill>
            <a:blip r:embed="rId2"/>
            <a:stretch/>
          </p:blipFill>
          <p:spPr>
            <a:xfrm>
              <a:off x="1692360" y="2482920"/>
              <a:ext cx="5545080" cy="36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3295800" y="3365640"/>
              <a:ext cx="43164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976920" y="4340160"/>
              <a:ext cx="431640" cy="59076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4"/>
          <a:stretch/>
        </p:blipFill>
        <p:spPr>
          <a:xfrm>
            <a:off x="2700360" y="2781360"/>
            <a:ext cx="352728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619280" y="2411280"/>
            <a:ext cx="6121440" cy="339408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6121440" cy="339228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at all is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3"/>
          <a:stretch/>
        </p:blipFill>
        <p:spPr>
          <a:xfrm>
            <a:off x="1619280" y="2421000"/>
            <a:ext cx="6121440" cy="3392280"/>
          </a:xfrm>
          <a:prstGeom prst="rect">
            <a:avLst/>
          </a:prstGeom>
          <a:ln w="0">
            <a:noFill/>
          </a:ln>
        </p:spPr>
      </p:pic>
      <p:grpSp>
        <p:nvGrpSpPr>
          <p:cNvPr id="549" name=""/>
          <p:cNvGrpSpPr/>
          <p:nvPr/>
        </p:nvGrpSpPr>
        <p:grpSpPr>
          <a:xfrm>
            <a:off x="1908000" y="2211480"/>
            <a:ext cx="5328000" cy="3738600"/>
            <a:chOff x="1908000" y="2211480"/>
            <a:chExt cx="5328000" cy="3738600"/>
          </a:xfrm>
        </p:grpSpPr>
        <p:pic>
          <p:nvPicPr>
            <p:cNvPr id="550" name="" descr=""/>
            <p:cNvPicPr/>
            <p:nvPr/>
          </p:nvPicPr>
          <p:blipFill>
            <a:blip r:embed="rId4"/>
            <a:stretch/>
          </p:blipFill>
          <p:spPr>
            <a:xfrm>
              <a:off x="1908000" y="2211480"/>
              <a:ext cx="5328000" cy="373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3798720" y="4280040"/>
              <a:ext cx="503280" cy="57636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059280" y="3219840"/>
              <a:ext cx="50292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24000" y="16192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 files modified are marked using a special ic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3492360" y="1557360"/>
            <a:ext cx="4392720" cy="26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324000" y="16192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We can also ask to see the difference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3059280" y="1628640"/>
            <a:ext cx="4324320" cy="238140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3056040" y="1619280"/>
            <a:ext cx="435276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451640" y="620640"/>
            <a:ext cx="1208160" cy="2374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hat is SALT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3008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SALT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 is a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S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imple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A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PL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L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ibrary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T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oolkit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t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s a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source cod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management system for Classes and script-based Namespaces in Dyalog APL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4247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Here we are using a 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 party progra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144360" y="2266920"/>
            <a:ext cx="8872560" cy="36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24000" y="16192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When happy we commit the chan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3203640" y="1700280"/>
            <a:ext cx="4324320" cy="238104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3233880" y="1679400"/>
            <a:ext cx="4362480" cy="445788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3203640" y="1508040"/>
            <a:ext cx="4362480" cy="465768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4"/>
          <a:stretch/>
        </p:blipFill>
        <p:spPr>
          <a:xfrm>
            <a:off x="3200400" y="1508040"/>
            <a:ext cx="4362480" cy="465768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5"/>
          <a:stretch/>
        </p:blipFill>
        <p:spPr>
          <a:xfrm>
            <a:off x="3059280" y="2492280"/>
            <a:ext cx="5276520" cy="287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keep making changes in APL and committing until happ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547640" y="2658960"/>
            <a:ext cx="5904000" cy="32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4284720" y="1374840"/>
            <a:ext cx="4552920" cy="302904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394920" y="1474920"/>
            <a:ext cx="352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nally, to produce a finished version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ex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a folder we'll use to hold the entire projec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4284720" y="1363680"/>
            <a:ext cx="4724280" cy="530532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3"/>
          <a:stretch/>
        </p:blipFill>
        <p:spPr>
          <a:xfrm>
            <a:off x="4405320" y="1905120"/>
            <a:ext cx="4343400" cy="304776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4"/>
          <a:stretch/>
        </p:blipFill>
        <p:spPr>
          <a:xfrm>
            <a:off x="4859280" y="2349360"/>
            <a:ext cx="3168720" cy="171936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5"/>
          <a:stretch/>
        </p:blipFill>
        <p:spPr>
          <a:xfrm>
            <a:off x="3759120" y="2276640"/>
            <a:ext cx="5276880" cy="28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394920" y="1546200"/>
            <a:ext cx="84978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e new \Army folder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1620720" y="2492280"/>
            <a:ext cx="5688000" cy="290664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1619280" y="2492280"/>
            <a:ext cx="5689440" cy="2906640"/>
          </a:xfrm>
          <a:prstGeom prst="rect">
            <a:avLst/>
          </a:prstGeom>
          <a:ln w="0">
            <a:noFill/>
          </a:ln>
        </p:spPr>
      </p:pic>
      <p:grpSp>
        <p:nvGrpSpPr>
          <p:cNvPr id="584" name=""/>
          <p:cNvGrpSpPr/>
          <p:nvPr/>
        </p:nvGrpSpPr>
        <p:grpSpPr>
          <a:xfrm>
            <a:off x="1908000" y="2211480"/>
            <a:ext cx="5328000" cy="3738600"/>
            <a:chOff x="1908000" y="2211480"/>
            <a:chExt cx="5328000" cy="3738600"/>
          </a:xfrm>
        </p:grpSpPr>
        <p:pic>
          <p:nvPicPr>
            <p:cNvPr id="585" name="" descr=""/>
            <p:cNvPicPr/>
            <p:nvPr/>
          </p:nvPicPr>
          <p:blipFill>
            <a:blip r:embed="rId3"/>
            <a:stretch/>
          </p:blipFill>
          <p:spPr>
            <a:xfrm>
              <a:off x="1908000" y="2211480"/>
              <a:ext cx="5328000" cy="373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3798720" y="4280040"/>
              <a:ext cx="503280" cy="57636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059280" y="3219840"/>
              <a:ext cx="50292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Control Version environment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atever environment suits best your needs there is another alternativ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APL alternative: drive svn from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presumes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installed of course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3492360" y="2924280"/>
            <a:ext cx="2089440" cy="146844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 txBox="1"/>
          <p:nvPr/>
        </p:nvSpPr>
        <p:spPr>
          <a:xfrm>
            <a:off x="2124000" y="2133720"/>
            <a:ext cx="4988160" cy="27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9933"/>
                    </a:gs>
                    <a:gs pos="100000">
                      <a:srgbClr val="ff0000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PIC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ff9933"/>
                  </a:gs>
                  <a:gs pos="100000">
                    <a:srgbClr val="ff0000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3" dur="2000" fill="hold"/>
                                        <p:tgtEl>
                                          <p:spTgt spid="59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428400"/>
            <a:ext cx="172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41080" y="141300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reates an input area at the bottom of the screen to issue commands using SA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ice can be initialized directly from AP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2608200" y="765000"/>
            <a:ext cx="54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This is a cover for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535040" y="3232080"/>
            <a:ext cx="606132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ice can also be started automatically by setting SALT registry key AddSPICE to ‘1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1906560" y="3051000"/>
            <a:ext cx="6121440" cy="304200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5992920" y="4278240"/>
            <a:ext cx="395280" cy="403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3529080" y="1484280"/>
            <a:ext cx="5435640" cy="466092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Geneva"/>
              </a:rPr>
              <a:t>Spice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68000" y="1782360"/>
            <a:ext cx="309564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get a list of all available commands you enter ‘?’ in the input area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3511440" y="5425920"/>
            <a:ext cx="376200" cy="432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16:46:11Z</dcterms:created>
  <dc:creator>DanB</dc:creator>
  <dc:description/>
  <dc:language>en-US</dc:language>
  <cp:lastModifiedBy>DanB</cp:lastModifiedBy>
  <dcterms:modified xsi:type="dcterms:W3CDTF">2007-09-27T22:04:33Z</dcterms:modified>
  <cp:revision>60</cp:revision>
  <dc:subject/>
  <dc:title>SALT and subversion</dc:title>
</cp:coreProperties>
</file>