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82E-CE9C-4FBA-91F1-3E667F72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40A-2012-4CD1-95C6-5C43C87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482-9F09-468D-AE31-07504B29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EE0-753E-4EC9-9DED-762B5334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614-7704-4DF6-8738-F7FB87BB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A1C-5DE1-4CA8-AD43-4020AD0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965E-D956-4CE3-B395-B4273FC0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FEC-089F-48BE-86CA-816D09A3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B017-DB0D-4C36-AD5B-8064C7C0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5C8-1020-4ED3-A889-4F71CF9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0E26-097F-4FFC-A413-88737EDB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A94-0327-44FD-8922-F72EAC4E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012-5691-40C2-8D2C-4BE26300688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4456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onverting workspaces  and using SALT &amp; </a:t>
            </a:r>
            <a:r>
              <a:rPr b="1" i="1" lang="en-US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 to maintain them.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BF3-8544-454D-9F0A-ECD15A68900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workspace is divided into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namespace contains all the units' logic, here its name is 'R' (for Robots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ch unit's logic is also contained in a namespace whose name is the name of the unit (like CARLA or AI2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F03-C903-4AC5-86BA-A42E2345E5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's structur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84360" y="1773360"/>
            <a:ext cx="5940360" cy="33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008000" y="530064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, namespa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where all the Units' logic re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F0A-787F-410C-BF57-33A133D6EC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Updating the workspace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nvolves modifying individual units' code in their respective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d resaving the entire workspace when finished with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2640" indent="-33264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vents other users from updating the workspace at the same 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374-12C5-4330-8BFA-62E9BC3BC5C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796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2728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92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880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267336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92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68624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345168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332172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548244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420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836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FCF-73AE-46D9-8D93-6B7F976771B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Unacceptable updating timeline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353700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55600" y="32702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080" y="19270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640" y="459252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9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41720" y="2673360"/>
            <a:ext cx="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357336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9720" y="26733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6480" y="44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200680" y="2881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008520" y="37083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3836160" y="2872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039280" y="370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88280" y="2287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40840" y="4303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9640" y="3537000"/>
            <a:ext cx="1187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8880" y="503568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overwritten by Tester B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if the namespace changed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C4A-3D84-49C0-A1F7-46568ED12E8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other problem with this model is that changes are irreversib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n tracking changes is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ing differences in code is hard to documen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89D-0C67-4E79-A4ED-685547D658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allows namespaces to exist in script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stead of hav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80000" y="2733840"/>
            <a:ext cx="5148000" cy="32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FCF-C849-4A3A-B96C-B3FC99CCA8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.0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736640"/>
            <a:ext cx="28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have everything in script form, including the definition of variab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43280" y="1622520"/>
            <a:ext cx="5067360" cy="45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58A-1402-4F0E-B993-6EBA13EFB9D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cripts fi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Keeping namespaces in scripted form allows to save them in (Unicode) text files outside the workspac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511280" y="3933720"/>
            <a:ext cx="5832360" cy="1656000"/>
            <a:chOff x="1511280" y="3933720"/>
            <a:chExt cx="5832360" cy="1656000"/>
          </a:xfrm>
        </p:grpSpPr>
        <p:sp>
          <p:nvSpPr>
            <p:cNvPr id="130" name=""/>
            <p:cNvSpPr/>
            <p:nvPr/>
          </p:nvSpPr>
          <p:spPr>
            <a:xfrm>
              <a:off x="1511280" y="4329000"/>
              <a:ext cx="2700360" cy="115272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ork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19640" y="443700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19640" y="478008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19640" y="5121360"/>
              <a:ext cx="323640" cy="252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03640" y="393372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96000" y="451008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88000" y="5086440"/>
              <a:ext cx="755640" cy="503280"/>
            </a:xfrm>
            <a:prstGeom prst="flowChartDocumen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743280" y="4149360"/>
              <a:ext cx="12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743280" y="4723920"/>
              <a:ext cx="205272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3280" y="5230800"/>
              <a:ext cx="2844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D70-60B5-4E02-A2DD-77C7F0D3C9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pdating can now be done in parallel for different namespaces </a:t>
            </a:r>
            <a:endParaRPr b="1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1" name=""/>
          <p:cNvSpPr/>
          <p:nvPr/>
        </p:nvSpPr>
        <p:spPr>
          <a:xfrm>
            <a:off x="685080" y="221616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2640" y="43290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313056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94080" y="226692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62440" y="2266920"/>
            <a:ext cx="13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2453040" y="2475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4088520" y="24663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40640" y="18813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46960" y="556416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A's changes are NOT overwritten by Tes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3948120"/>
            <a:ext cx="612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5640" y="328464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884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97560" y="3984480"/>
            <a:ext cx="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68840" y="48117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61240" y="4119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5291640" y="411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93200" y="4714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52520" y="24066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96440" y="415908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pac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1FA-ECDD-441A-B41D-57A46147444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Introduc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312640"/>
            <a:ext cx="748656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is an example of converting an existing application to SALT and using a version control system afterwards to maintain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146-38A5-4E6C-8A2E-3DD27326170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rac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ier to track changes now that files are in human readable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mparing files can be done easily in APL or by any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progra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8B1-71FC-4093-A231-F40BC0535C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irst step is to convert the workspace to the new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61C-C02D-4EBC-A1A6-7D98B348C7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58920" y="2475000"/>
            <a:ext cx="6481800" cy="35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0E1-89D8-4661-A487-C6B0F140445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971280" y="1736280"/>
            <a:ext cx="74120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79640" y="2784600"/>
            <a:ext cx="6984720" cy="2805120"/>
            <a:chOff x="1079640" y="2784600"/>
            <a:chExt cx="6984720" cy="280512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1079640" y="2784600"/>
              <a:ext cx="698472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366560" y="4289760"/>
              <a:ext cx="649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0FB-3046-41DE-B1E0-843BDD3E21D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640" y="1521000"/>
            <a:ext cx="737712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the worksp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D3D-B531-4E75-81B8-28D60E1BE093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34920" y="1521000"/>
            <a:ext cx="741384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ake sure the workdir includes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684360" y="2313000"/>
            <a:ext cx="7416720" cy="3827520"/>
            <a:chOff x="684360" y="2313000"/>
            <a:chExt cx="7416720" cy="382752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71640" y="2313000"/>
              <a:ext cx="7129440" cy="38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4360" y="4597560"/>
              <a:ext cx="3600360" cy="576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980-528A-4E5A-A9C5-CA800BC4C241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07640" y="1521000"/>
            <a:ext cx="73407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ring in the conversion tool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73080" y="2301840"/>
            <a:ext cx="7128000" cy="38275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71640" y="2303640"/>
            <a:ext cx="7129440" cy="38271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519280" y="4924440"/>
            <a:ext cx="2557440" cy="431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EC2-BFC5-4C45-AF40-46AA3EA610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76000" y="1725120"/>
            <a:ext cx="777564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Code is a namespace containing code to perform conversion of regular (non sourced) namespac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function to use in it is &lt;Convert&gt;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BFB-BA35-4F44-8B7A-FEAD9518BFF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368360" y="2349360"/>
            <a:ext cx="6410520" cy="3600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76000" y="159228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, to convert namespace 'UTIL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27280" y="4238640"/>
            <a:ext cx="3168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68360" y="2349360"/>
            <a:ext cx="6407280" cy="3598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943280" y="2205000"/>
            <a:ext cx="531468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03C-899F-4844-BF69-5BD39E6317C5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onvert several namespaces first )CS where the namespaces a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511280" y="2708280"/>
            <a:ext cx="6172200" cy="344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8F2-1693-4AC8-B714-6276B9666676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opics of Discus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We'll see the conversion process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use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,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third party product, to control its versioning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990-B555-4C8A-8DF4-881822207D3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76000" y="1483920"/>
            <a:ext cx="8388360" cy="37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use an expression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74920" y="2133720"/>
            <a:ext cx="6192720" cy="3768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71640" y="2914560"/>
            <a:ext cx="320508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C0D-9593-4F2A-BA49-9DA556C80D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76000" y="1557360"/>
            <a:ext cx="8388360" cy="37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plorer now shows us the namespaces with the new icon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51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verting the worksp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303640" y="2708280"/>
            <a:ext cx="4267080" cy="38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B8F-9C92-4B5B-8081-C755B739D880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oing i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09700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next step is to store those namespaces in Unicode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gain, SALT comes in hand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2449-C545-4DE1-B25F-01BECF31976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9080" y="2701800"/>
            <a:ext cx="647856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ecide where to put them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-609480">
              <a:spcBef>
                <a:spcPts val="799"/>
              </a:spcBef>
              <a:buClr>
                <a:srgbClr val="ff80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the SALT Sav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EBA-FF75-4CE0-980D-346BA202E1E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55640" y="1808280"/>
            <a:ext cx="716616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Save function takes a string argument of: 'namespace location'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511280" y="3068640"/>
            <a:ext cx="5834160" cy="24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C82-15DB-40EE-93EF-8201B6DA2F1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aving the scripts as text file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19280" y="1700280"/>
            <a:ext cx="75247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ll the namespaces at once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58920" y="2529000"/>
            <a:ext cx="6589800" cy="3481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00360" y="3409920"/>
            <a:ext cx="4464000" cy="43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90B4-2B37-4D14-ADCA-56B9D9F5918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'remembers' where each script was sav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nging one of them now means SALT will change the file as soon as the script is modified through the edito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02F-41A9-4C6E-AA1C-2C1B831F6C8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1000" y="158904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Here's what one of the units' logic looks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033-36DE-4050-83FC-60D43096AECF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68360" y="2241720"/>
            <a:ext cx="4753080" cy="3809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5080" y="158904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And here we make a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268360" y="2241720"/>
            <a:ext cx="4751640" cy="3809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916360" y="3205080"/>
            <a:ext cx="2232000" cy="32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A129-2FFF-4208-8140-6C1480E9A96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9" name=""/>
          <p:cNvSpPr/>
          <p:nvPr/>
        </p:nvSpPr>
        <p:spPr>
          <a:xfrm>
            <a:off x="71280" y="167328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SALT detected the change and offers to change the scrip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340000" y="2705040"/>
            <a:ext cx="4356000" cy="23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7A0D-4521-4EA9-8DB4-6C8BD68E62A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tuat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BAAD is a military weapons manufacturing compan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ne of its best sellers is the SD2, a device used to search and destroy specific targe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15B-9F39-48F1-B712-AC2E407E8F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king chang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"/>
          <p:cNvSpPr/>
          <p:nvPr/>
        </p:nvSpPr>
        <p:spPr>
          <a:xfrm>
            <a:off x="503280" y="1944720"/>
            <a:ext cx="8300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You should )SAVE the workspace here.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SALT will remember where the edited namespaces are stored and detect if changes have been made outside APL (e.g. with Notep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549-62A7-48C3-9B7A-0095D9C968B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the 2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n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 of the work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mes with its own versioning of files and comparison functions but it is primitive compared to state of the art version control systems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70B-463C-4885-B959-691AE04DC97E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a company like BAAD it is preferable to use existing software lik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 first need somewhere to put the scripts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C73-ED88-4310-8092-C773ADA2A510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picked folde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weapon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68360" y="2168640"/>
            <a:ext cx="4695840" cy="4267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987640" y="2816280"/>
            <a:ext cx="3600360" cy="2249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2879640" y="2781360"/>
            <a:ext cx="385308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32A-E6F4-47DA-8597-E268E72474E4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e now import the scripts into the repository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(we put our code in 'Troops')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87640" y="1557360"/>
            <a:ext cx="4600800" cy="4610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35280" y="1557360"/>
            <a:ext cx="5040360" cy="377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3600360" y="144936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B5A-FCE4-4F89-A418-575F424DC4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7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e of the testers now checks out a copy: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51280" y="1665360"/>
            <a:ext cx="3198960" cy="450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3527280" y="1700280"/>
            <a:ext cx="5148360" cy="3612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3816360" y="2384280"/>
            <a:ext cx="3780000" cy="2049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564000" y="1484280"/>
            <a:ext cx="5276880" cy="4753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371-3FF6-47DA-9A04-2EF75501A91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other tester can do the same thing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7" name=""/>
          <p:cNvSpPr/>
          <p:nvPr/>
        </p:nvSpPr>
        <p:spPr>
          <a:xfrm>
            <a:off x="4213080" y="3173400"/>
            <a:ext cx="1244880" cy="152712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rot="20261400">
            <a:off x="2446920" y="4581000"/>
            <a:ext cx="1758960" cy="630360"/>
          </a:xfrm>
          <a:custGeom>
            <a:avLst/>
            <a:gdLst>
              <a:gd name="textAreaLeft" fmla="*/ 275040 w 1758960"/>
              <a:gd name="textAreaRight" fmla="*/ 1539720 w 1758960"/>
              <a:gd name="textAreaTop" fmla="*/ 157680 h 630360"/>
              <a:gd name="textAreaBottom" fmla="*/ 473040 h 63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95200">
            <a:off x="5364000" y="4701960"/>
            <a:ext cx="1773360" cy="682560"/>
          </a:xfrm>
          <a:custGeom>
            <a:avLst/>
            <a:gdLst>
              <a:gd name="textAreaLeft" fmla="*/ 276840 w 1773360"/>
              <a:gd name="textAreaRight" fmla="*/ 1551960 w 1773360"/>
              <a:gd name="textAreaTop" fmla="*/ 170640 h 682560"/>
              <a:gd name="textAreaBottom" fmla="*/ 511920 h 682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20552400">
            <a:off x="5564160" y="3358800"/>
            <a:ext cx="1671840" cy="617400"/>
          </a:xfrm>
          <a:custGeom>
            <a:avLst/>
            <a:gdLst>
              <a:gd name="textAreaLeft" fmla="*/ 261000 w 1671840"/>
              <a:gd name="textAreaRight" fmla="*/ 1463040 w 1671840"/>
              <a:gd name="textAreaTop" fmla="*/ 154440 h 617400"/>
              <a:gd name="textAreaBottom" fmla="*/ 463320 h 617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rot="163800">
            <a:off x="2484360" y="3600000"/>
            <a:ext cx="1638360" cy="560520"/>
          </a:xfrm>
          <a:custGeom>
            <a:avLst/>
            <a:gdLst>
              <a:gd name="textAreaLeft" fmla="*/ 255960 w 1638360"/>
              <a:gd name="textAreaRight" fmla="*/ 1433520 w 1638360"/>
              <a:gd name="textAreaTop" fmla="*/ 140040 h 560520"/>
              <a:gd name="textAreaBottom" fmla="*/ 420480 h 560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B83-2E1F-45D3-9E38-F056C437042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959280" y="1665360"/>
            <a:ext cx="4714920" cy="43718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6920" y="1980720"/>
            <a:ext cx="313236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He can check what's in his folder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410-FBCB-4C5D-AE7A-4AE79D8B501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2023920"/>
            <a:ext cx="30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Then grab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Geneva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 column (the </a:t>
            </a:r>
            <a:r>
              <a:rPr b="0" lang="en-GB" sz="2800" spc="-1" strike="noStrike">
                <a:solidFill>
                  <a:srgbClr val="000000"/>
                </a:solidFill>
                <a:latin typeface="Geneva"/>
              </a:rPr>
              <a:t>names</a:t>
            </a:r>
            <a:r>
              <a:rPr b="0" lang="en-GB" sz="2400" spc="-1" strike="noStrike">
                <a:solidFill>
                  <a:srgbClr val="000000"/>
                </a:solidFill>
                <a:latin typeface="Genev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600360" y="1700280"/>
            <a:ext cx="5004000" cy="26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F9C-0F55-481D-8B57-26FAC9FB2850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ake sure his own folder is in the </a:t>
            </a:r>
            <a:r>
              <a:rPr b="0" i="1" lang="en-GB" sz="2800" spc="-1" strike="noStrike">
                <a:solidFill>
                  <a:srgbClr val="333333"/>
                </a:solidFill>
                <a:latin typeface="Geneva"/>
              </a:rPr>
              <a:t>workdir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lis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679920" y="1693800"/>
            <a:ext cx="493236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546-C553-4CBE-ABCF-FF44D4B7EA1D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s unit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s self contained: its behaviour is set once and does not require external inpu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(possibly 1000s) models, each with a different code name. The logic (code) of each is uniqu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671-3892-4C5B-8139-40B48108A1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72000" y="1700280"/>
            <a:ext cx="4932360" cy="2639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And bring in his files in the 'R' namespace 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08000" y="4165560"/>
            <a:ext cx="554364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807-0DDC-48D0-A6A8-17A942D414C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5198 L 4.44444E-006 0.00023 E">
                                      <p:cBhvr>
                                        <p:cTn id="113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 can now repeat this procedure each time he )LOADs the workspace or )SAVE his own copy (e.g. 'tester1robots') which will be )loaded instea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999-FBCD-4144-8A63-635165965C83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"/>
          <p:cNvSpPr/>
          <p:nvPr/>
        </p:nvSpPr>
        <p:spPr>
          <a:xfrm>
            <a:off x="3851280" y="3681360"/>
            <a:ext cx="1260360" cy="1332000"/>
          </a:xfrm>
          <a:prstGeom prst="flowChartMagneticDisk">
            <a:avLst/>
          </a:prstGeom>
          <a:solidFill>
            <a:srgbClr val="bbe0e3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CD3-08CB-4519-919E-F984BDA5A5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33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When changes are ready to be checked in you do (here DANIMAL has been changed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788000" y="1736640"/>
            <a:ext cx="3971880" cy="2400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795920" y="172728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535640" y="155736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4535640" y="1563840"/>
            <a:ext cx="4362120" cy="46576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3672000" y="252900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CE8-9D06-4737-8AF8-74940028D068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, and any other tester that has done the same thing, can now test the system and update it independent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"/>
          <p:cNvSpPr/>
          <p:nvPr/>
        </p:nvSpPr>
        <p:spPr>
          <a:xfrm>
            <a:off x="3959280" y="3681360"/>
            <a:ext cx="1260360" cy="13320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32000" y="335772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68360" y="5013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5440" y="2852640"/>
            <a:ext cx="107928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r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56360" y="5229360"/>
            <a:ext cx="1079640" cy="1008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559800">
            <a:off x="2555640" y="3715920"/>
            <a:ext cx="1187280" cy="468360"/>
          </a:xfrm>
          <a:custGeom>
            <a:avLst/>
            <a:gdLst>
              <a:gd name="textAreaLeft" fmla="*/ 185400 w 1187280"/>
              <a:gd name="textAreaRight" fmla="*/ 1038960 w 11872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0589000">
            <a:off x="2592000" y="4868640"/>
            <a:ext cx="1187640" cy="468000"/>
          </a:xfrm>
          <a:custGeom>
            <a:avLst/>
            <a:gdLst>
              <a:gd name="textAreaLeft" fmla="*/ 185400 w 1187640"/>
              <a:gd name="textAreaRight" fmla="*/ 1039320 w 1187640"/>
              <a:gd name="textAreaTop" fmla="*/ 117000 h 468000"/>
              <a:gd name="textAreaBottom" fmla="*/ 351000 h 468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0640600">
            <a:off x="5472000" y="3573360"/>
            <a:ext cx="1261080" cy="468360"/>
          </a:xfrm>
          <a:custGeom>
            <a:avLst/>
            <a:gdLst>
              <a:gd name="textAreaLeft" fmla="*/ 196920 w 1261080"/>
              <a:gd name="textAreaRight" fmla="*/ 1103760 w 126108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rot="978000">
            <a:off x="5434920" y="4939920"/>
            <a:ext cx="1260360" cy="468360"/>
          </a:xfrm>
          <a:custGeom>
            <a:avLst/>
            <a:gdLst>
              <a:gd name="textAreaLeft" fmla="*/ 196920 w 1260360"/>
              <a:gd name="textAreaRight" fmla="*/ 1103040 w 1260360"/>
              <a:gd name="textAreaTop" fmla="*/ 117000 h 468360"/>
              <a:gd name="textAreaBottom" fmla="*/ 351360 h 468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D50-6CC2-4A00-8BE7-0D7856E6B17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VC should be able to handle conflicts, report on differences and generate complete new systems from the current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A1B0-455C-425B-ACCE-438B25BAEFD9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ocal or smaller systems you may choose to use SALT's limited versioning and comparing abilities but a solid Version Control system is a must for large syst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1C6-ADAB-472E-AC6E-3FCD4C9375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y version control will probably do but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ell supported and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AD7-A816-4876-ADE7-ACC37294646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BAAD's SD2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Unit is made of 2 main componen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driving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weapons compon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"/>
          <p:cNvSpPr/>
          <p:nvPr/>
        </p:nvSpPr>
        <p:spPr>
          <a:xfrm>
            <a:off x="3562200" y="4869000"/>
            <a:ext cx="1801800" cy="6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140360" y="4113360"/>
            <a:ext cx="1522440" cy="792000"/>
            <a:chOff x="4140360" y="4113360"/>
            <a:chExt cx="1522440" cy="792000"/>
          </a:xfrm>
        </p:grpSpPr>
        <p:sp>
          <p:nvSpPr>
            <p:cNvPr id="56" name=""/>
            <p:cNvSpPr/>
            <p:nvPr/>
          </p:nvSpPr>
          <p:spPr>
            <a:xfrm>
              <a:off x="4140360" y="4113360"/>
              <a:ext cx="1041480" cy="792000"/>
            </a:xfrm>
            <a:prstGeom prst="can">
              <a:avLst>
                <a:gd name="adj" fmla="val 33481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4489200">
              <a:off x="5263560" y="4102560"/>
              <a:ext cx="169920" cy="604440"/>
            </a:xfrm>
            <a:prstGeom prst="can">
              <a:avLst>
                <a:gd name="adj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850-C0CC-4BC5-977D-3D4BCA4015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esting the produ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Obviously, testing these devices in real life presents a probl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its infinite wisdom the company has decided to use a simulator written in Dyalo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single workspace holds all the syst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7E1-AA28-467C-A9F8-5437122C8A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1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62200" y="1654200"/>
            <a:ext cx="5257800" cy="453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406160" y="47466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ing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8000" y="3573360"/>
            <a:ext cx="395640" cy="12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843280" y="2707920"/>
            <a:ext cx="115236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951280" y="2815920"/>
            <a:ext cx="12254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192640"/>
            <a:ext cx="9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25800" y="33274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it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948360" y="2600280"/>
            <a:ext cx="611280" cy="10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948360" y="3105000"/>
            <a:ext cx="61128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948360" y="3573000"/>
            <a:ext cx="611280" cy="1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948360" y="3860640"/>
            <a:ext cx="61128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948360" y="3968640"/>
            <a:ext cx="611280" cy="9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840" y="18446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ttle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3F5-2E54-47F8-8A4B-A4A9567C94C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The simulator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43280" y="1676520"/>
            <a:ext cx="552420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828-E012-4E0C-8273-48C0A8C478B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16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B</cp:lastModifiedBy>
  <dcterms:modified xsi:type="dcterms:W3CDTF">2007-09-27T16:04:58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