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DE26-023E-4AC2-AD78-C68D0B3E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3B8-BBE1-4DA8-9E25-64F177DB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47F-874D-4F09-AE6F-CD30FA66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889-0C01-4D0A-8840-0C12E890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B39-0EC5-4FB0-B532-DD3910AD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DCCC-77F9-4CB8-8967-5B153837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D57-CDE1-423D-B003-4703BF1B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126-44C2-463A-B80D-683F235E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85E-D93D-4B74-B96A-3CA7457D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6A4-9883-4150-A6F3-429ED42D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A44-5BE4-400B-900B-EFE866EC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B78-6A84-4E0E-8E75-199178B8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FDE9-872E-4A3B-A1CD-06A4C81F7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ing Microsoft DirectX .NET interface with Dyalog APL 11.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lex Bala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eality sc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als of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anorama head, tripod or monopod   and digital camera make a series of pictures capturing 360 degree from left to right and 180 degree from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titching software (PTGui), stitch series of pictures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6 pictures representing each side of the environment to apropriate side of the 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 cube or “point of vie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267080" y="685800"/>
            <a:ext cx="1791000" cy="2666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286000" y="373392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4267080" y="3733920"/>
            <a:ext cx="179100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6172200" y="1143000"/>
            <a:ext cx="2666880" cy="179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6172200" y="4114800"/>
            <a:ext cx="26668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55028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1901880" cy="1900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590920" y="24382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590920" y="44956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648320" y="2438280"/>
            <a:ext cx="1901880" cy="190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705720" y="2438280"/>
            <a:ext cx="1901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eality Princeton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Thanks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ten Kromberg for last minute acceptance of th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Brown for helping me with VR tour ti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mily for supporting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LL of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irect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is a set of low-level APIs for creating games and other high-performance multimedia applications. It includes support for high-performance 2D and 3D graphics, sound, and inp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DirectX for Managed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9 Active namespaces and 4 which are considered obso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Security.Per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PrivateImplementation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Direct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Direct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icrosoft.DirectX.Direct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.DirectX.AudioVideo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Dr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Play.Lo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Play.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.DirectX.Direct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found during explor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 class object delegated to external environment from APL application is not “callable” (external environment can not call methods of that objec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es are not “correctly” described inside DirectX .NET interface so Dyalog APL is “confused” and rejects trying to run methods (Device creation method is an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id not find a way to generate System.Type class from APL. C# uses “typeof” system function and alternative solution in APL is not obvio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of the class can not be callback function for objects created insid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for all thos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C# Class library, which will serve as alternative way of communication between APL and DirectX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Tutorials were repeated in A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o Video Player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Panorama player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1 – Device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2 – Building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3 – Rotating ve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4 – 3D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5 – Using Te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dio Video player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.DirectX.AudioVideoPlay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directly with Dyalog APL and does not requir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ly plays a lot of fil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L does not allow Class Methods to be Event hand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ot be placed on APL Form object and requiring .NET Form to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reality p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s of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3D cube inside Direct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6 pictures representing each side of the environment to apropriate side of the c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e cube or “point of vie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8:27:34Z</dcterms:created>
  <dc:creator>Administrator</dc:creator>
  <dc:description/>
  <dc:language>en-US</dc:language>
  <cp:lastModifiedBy>Administrator</cp:lastModifiedBy>
  <dcterms:modified xsi:type="dcterms:W3CDTF">2007-11-21T18:43:00Z</dcterms:modified>
  <cp:revision>15</cp:revision>
  <dc:subject/>
  <dc:title>Exploring Microsoft DirectX .NET interface with Dyalog APL 11.0 </dc:title>
</cp:coreProperties>
</file>