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72D8-E6E6-46EE-A17B-543E3D65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CBAA-0593-42BB-8152-2A074D1C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ltralight devt is where APL has always ex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928-487F-46BF-8303-8208CDB8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ame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it has an image; it also has a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29EA-C2A0-466C-AC16-EA6D6A18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eft, the plain text marked up in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ight, the styl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F97-CFD7-45BC-85B4-CB440535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7342-C80D-4CFC-9E2C-49E06EFC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interesting limit to the power of CSS sty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TML document styled by a CSS style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948E-908D-4BAF-9C53-B599A7D5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HTML document, different style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5B0A-4E74-40A3-ABD3-1B60B9B1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don’t aspire to design of this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9B63-0858-4DE0-88FB-6A30BD1F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 the elaborate user interface supplied in the Joomla! content-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3E6-88E5-4BF3-9AD4-5531B13AB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web pages like this is part of heavyweight development, with layers of software that write the 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an ultralight approach we first need simple methods for writing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FAB8-08CA-4D2E-9555-64F91B0D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ree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453-9FA7-48A0-AD3D-72E912DC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50C-D199-4D81-ADAE-53E119B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D4B-3AA8-460D-96D2-89094D9C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0A5-B189-4C0F-9EBC-7FCB354E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F952-59BB-4DEC-BC9E-982A27AE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177C-EB04-4126-A306-750B99BD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CE49-6E86-4D6B-A915-14C02931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C3A-7A25-4698-8280-4705AA14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82BF-7903-4906-A919-614C731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4CA5-FC2F-4D53-88D9-2233959E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8EA-D415-4C31-95A8-437A1FC7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FCE-AED0-4222-9FB2-D87CD0A1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2196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6A29-1D28-4A90-B920-4FBCEBA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E480-4FD8-4DA6-96F6-A5C70D2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0B2E-8723-4C98-8065-8F1BD2A2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2196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4CD9-34C6-446A-A755-0B15241F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8736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98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8736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98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C574-0333-4A51-8555-F6F99121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10D-1407-4EDD-B9FF-EC4CD091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576-EA38-4317-B193-3C71F94F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852-4385-43AA-8542-19DC173F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D7D-CC23-4A9E-88FF-77ABDF9B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D07-B7A8-4DB9-941C-2FAC1B3B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0FE-F17D-42B3-8194-EB10E46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ED8-C8C9-4B51-AFC5-1DB12C9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AD75-EAE2-475E-9D02-37B2DDF6F7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dyalog_noapl"/>
          <p:cNvPicPr/>
          <p:nvPr/>
        </p:nvPicPr>
        <p:blipFill>
          <a:blip r:embed="rId2"/>
          <a:stretch/>
        </p:blipFill>
        <p:spPr>
          <a:xfrm>
            <a:off x="152280" y="152280"/>
            <a:ext cx="238284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dyalog_noapl"/>
          <p:cNvPicPr/>
          <p:nvPr/>
        </p:nvPicPr>
        <p:blipFill>
          <a:blip r:embed="rId2"/>
          <a:stretch/>
        </p:blipFill>
        <p:spPr>
          <a:xfrm>
            <a:off x="152280" y="15228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02A0-527E-452B-9A36-0093956C11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1B4-E6FB-4CB5-AE5C-7AE80FDE0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808080"/>
                </a:solidFill>
                <a:latin typeface="Arial"/>
              </a:rPr>
              <a:t>Stephen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with big thank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orten Kromberg and Stefano Lanzavecc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Dyalog User Conferenc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Elsinore, Den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Web Creol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5C2-6D2E-482A-993A-093DE98E72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Six mud patch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2209320"/>
            <a:ext cx="7162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ce and dice’ – beware 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xel per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brow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ncoding in UTF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40F-5B0B-4003-95F0-7809CBE3FF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riting lucid web pag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4760" y="2742840"/>
            <a:ext cx="6629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e in UTF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inimal, valid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the present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AEA6-4B83-4C26-B031-17E11EEC07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Some UTF-8 editor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indow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pad2 from Flo's Fre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ltraEdit from I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Wrangler or BBEdit from Bare Bon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HANDLING WEBSPAC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140D-819A-4730-AAF2-1F3F05F2A5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174F-AE40-46BB-B847-64F3A78E6D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101: do noth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your existing output to the web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common file types (eg .doc, .pdf, .x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will serve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will displa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FTP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FTP client such as WS_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Windows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g and dro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D633-E49D-442E-B811-54824120E3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8137-7688-4FAF-A279-4139CF0FD1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102: write plain tex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5438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pp can write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s can displa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hixie.ch/advocacy/x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D348-C9CB-49DF-82F5-86E32F33EA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enough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all you need, stop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s\ex101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4419720" y="1827360"/>
            <a:ext cx="4343400" cy="400356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STRUCTURE CONTENT WITH HTML</a:t>
            </a: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5B36-FA20-4077-90DB-82E3916D17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7F9-522E-4A75-9EE0-CBA40BDD32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103: HTM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3714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TML to ad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(paras, head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s\ex10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648320" cy="428472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olisation and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ling webspace: FTP, IIS,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 content with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 with C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site from a D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site from a Dyalog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B46A-361E-4559-95A7-0E237C7306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Validation is fre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1" name="Content Placeholder 6" descr="w3.gif"/>
          <p:cNvPicPr/>
          <p:nvPr/>
        </p:nvPicPr>
        <p:blipFill>
          <a:blip r:embed="rId1"/>
          <a:stretch/>
        </p:blipFill>
        <p:spPr>
          <a:xfrm>
            <a:off x="500040" y="2000160"/>
            <a:ext cx="4525920" cy="414504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C62-E83B-4D3A-B476-5C10E8B77D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5357880" y="2286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validator.w3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STYLE WITH CS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2265-7A73-4287-B22C-1DA2E15D17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57C6-48AD-41DF-80B1-391B563727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Separate content and styl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38680" cy="4143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797280" cy="4143240"/>
          </a:xfrm>
          <a:prstGeom prst="rect">
            <a:avLst/>
          </a:prstGeom>
          <a:ln w="0">
            <a:noFill/>
          </a:ln>
        </p:spPr>
      </p:pic>
      <p:sp>
        <p:nvSpPr>
          <p:cNvPr id="20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01D-60B7-4CDC-BFD8-776B3048EA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cading Style Sheet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on Cascading Style Sheet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Style/CS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Zen Garde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csszengarden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Apar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alistapart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books, e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Zen of CS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B417-12AB-4DBC-AE64-F6D65E4E54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ower of CS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36068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983-7BCC-4D77-AB21-95ADD6AA17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Same document, new styl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786280" cy="459900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1EE8-5054-4C92-BE48-7A357B0FD9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d another style…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38680" cy="448308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AB5-9BA0-4279-AF31-69E3CA9C2C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KISS: keep it sharp &amp; simpl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4000" cy="44784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7C2-B047-4C65-ADDB-7E5B1E7F21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And keep the markup simpl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5715000" cy="4649760"/>
          </a:xfrm>
          <a:prstGeom prst="rect">
            <a:avLst/>
          </a:prstGeom>
          <a:ln w="0">
            <a:noFill/>
          </a:ln>
        </p:spPr>
      </p:pic>
      <p:sp>
        <p:nvSpPr>
          <p:cNvPr id="23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6215040" y="19288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s\a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Where to rule on styl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CS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yleshe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rules used across multipl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rules used only on o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rules used on only on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7AC8-72D5-4177-9432-7860795DE2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CREOLISATION AND THE WEB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4A2F-299A-4DEE-8E1C-944DCAB40D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2D24-1FCA-4019-8086-44BB2C5D5A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Now we’ve simplified the problem spac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’re ready f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ol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STATIC SITE FROM A DW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553C-074F-4D55-844F-EF29D976CB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94B-4BA3-44A5-ACDE-701BFC9017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20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848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a static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ontent organised in a .D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h, and Japanese too, why n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ok\pook.d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834-7ED8-41E9-AE3D-350D5CE881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Simple tag function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tag.gif"/>
          <p:cNvPicPr/>
          <p:nvPr/>
        </p:nvPicPr>
        <p:blipFill>
          <a:blip r:embed="rId1"/>
          <a:stretch/>
        </p:blipFill>
        <p:spPr>
          <a:xfrm>
            <a:off x="1285920" y="1928880"/>
            <a:ext cx="64832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8623-B103-4E27-B2F4-5D55BF47A4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Array tag (1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lines←'The quick brown fox' 'jumps over the lazy dog.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'p'tag⊃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p&gt;The quick brown fox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↑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'p'tag¨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p&gt;The quick brown fox&lt;/p&gt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p&gt;jumps over the lazy dog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↑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'body'tag'p'tag¨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body&gt;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p&gt;The quick brown fox&lt;/p&gt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p&gt;jumps over the lazy dog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905-F8CC-46C0-81F7-470ACA0EA8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Array tag (2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↑⊃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tag/'html' 'body' 'p'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html&gt;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body&gt;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p&gt;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The quick brown fox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jumps over the lazy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/p&gt;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/body&gt;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Array tag (3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+tbl←↑('cat' 'mammal')('gecko' 'reptile')('dog' 'mammal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cat    mamm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gecko  rept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dog    mam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'td'∘tag¨t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&lt;td&gt;cat&lt;/td&gt;    &lt;td&gt;mammal&lt;/td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&lt;td&gt;gecko&lt;/td&gt;  &lt;td&gt;reptile&lt;/td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&lt;td&gt;dog&lt;/td&gt;    &lt;td&gt;mammal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      ↑</a:t>
            </a: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bdy←'tr'∘tag¨,/'td'∘tag¨t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&lt;tr&gt;&lt;td&gt;cat&lt;/td&gt;&lt;td&gt;mammal&lt;/td&gt;&lt;/tr&gt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&lt;tr&gt;&lt;td&gt;gecko&lt;/td&gt;&lt;td&gt;reptile&lt;/td&gt;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PL385 Unicode"/>
              </a:rPr>
              <a:t>&lt;tr&gt;&lt;td&gt;dog&lt;/td&gt;&lt;td&gt;mammal&lt;/td&gt;&lt;/tr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C2D-14FD-479F-BF2A-0A9F13F64C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Array tag (4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  ↑⊃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tag/'table' 'tbody' b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able&gt;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body&gt;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r&gt;&lt;td&gt;cat&lt;/td&gt;&lt;td&gt;mammal&lt;/td&gt;&lt;/tr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r&gt;&lt;td&gt;gecko&lt;/td&gt;&lt;td&gt;reptile&lt;/td&gt;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r&gt;&lt;td&gt;dog&lt;/td&gt;&lt;td&gt;mammal&lt;/td&gt;&lt;/tr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/tbody&gt;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/table&gt;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  ↑⊃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tag/'table' 'tbody',⊂'tr'∘tag¨,/'td'∘tag¨t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able&gt;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body&gt;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r&gt;&lt;td&gt;cat&lt;/td&gt;&lt;td&gt;mammal&lt;/td&gt;&lt;/tr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r&gt;&lt;td&gt;gecko&lt;/td&gt;&lt;td&gt;reptile&lt;/td&gt;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tr&gt;&lt;td&gt;dog&lt;/td&gt;&lt;td&gt;mammal&lt;/td&gt;&lt;/tr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/tbody&gt;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PL385 Unicode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6A6-37E4-4101-A7F4-074421E0C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39DD-10A7-40E4-91D5-1A290ABA2B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 page fn to write pag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page.gif"/>
          <p:cNvPicPr/>
          <p:nvPr/>
        </p:nvPicPr>
        <p:blipFill>
          <a:blip r:embed="rId1"/>
          <a:stretch/>
        </p:blipFill>
        <p:spPr>
          <a:xfrm>
            <a:off x="785880" y="1805040"/>
            <a:ext cx="78264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0200-44C5-45BF-A69F-503FA0592A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MakeAt to write the sit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486400" cy="4430520"/>
          </a:xfrm>
          <a:prstGeom prst="rect">
            <a:avLst/>
          </a:prstGeom>
          <a:ln w="0">
            <a:noFill/>
          </a:ln>
        </p:spPr>
      </p:pic>
      <p:sp>
        <p:nvSpPr>
          <p:cNvPr id="29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F1C3-3116-4E35-AA00-18E6957E6C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Browsers are a key interfac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5105520" cy="382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BC9D-39F8-4721-A958-BD69791006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d the site’s written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39040" cy="4481280"/>
          </a:xfrm>
          <a:prstGeom prst="rect">
            <a:avLst/>
          </a:prstGeom>
          <a:ln w="0">
            <a:noFill/>
          </a:ln>
        </p:spPr>
      </p:pic>
      <p:sp>
        <p:nvSpPr>
          <p:cNvPr id="296" name="Oval 4"/>
          <p:cNvSpPr/>
          <p:nvPr/>
        </p:nvSpPr>
        <p:spPr>
          <a:xfrm>
            <a:off x="6629400" y="2590920"/>
            <a:ext cx="9144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7531920" y="23223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FC4-7D4B-4A77-98C4-8508B942D4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 two languag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34000" cy="4478040"/>
          </a:xfrm>
          <a:prstGeom prst="rect">
            <a:avLst/>
          </a:prstGeom>
          <a:ln w="0">
            <a:noFill/>
          </a:ln>
        </p:spPr>
      </p:pic>
      <p:sp>
        <p:nvSpPr>
          <p:cNvPr id="30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BD2-C77D-4577-8E1B-D6765E374E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ontent organised in .DW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00800" cy="4613040"/>
          </a:xfrm>
          <a:prstGeom prst="rect">
            <a:avLst/>
          </a:prstGeom>
          <a:ln w="0">
            <a:noFill/>
          </a:ln>
        </p:spPr>
      </p:pic>
      <p:sp>
        <p:nvSpPr>
          <p:cNvPr id="30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A9A-FD44-4FF8-B27D-A9847EAE4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 Unico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00800" cy="4611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YNAMIC SITE FROM A DYALOG SCRIP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975-1E32-447B-8E03-D21003083E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035-F963-4B0D-BD26-7751F63F0B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30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ildServer to generate pages 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CEDB-9B39-4C22-A503-F9068554B3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Research projec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ped content of dyalog.com to a folder of text files marked up in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SiteMap object to relate files to sections, pages and pag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’s content map now describable in 11 lines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erved from a single .apl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Content mapping (1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31" name="Content Placeholder 6" descr="hhs.gif"/>
          <p:cNvPicPr/>
          <p:nvPr/>
        </p:nvPicPr>
        <p:blipFill>
          <a:blip r:embed="rId1"/>
          <a:stretch/>
        </p:blipFill>
        <p:spPr>
          <a:xfrm>
            <a:off x="1768320" y="1981080"/>
            <a:ext cx="5302440" cy="4145040"/>
          </a:xfrm>
          <a:prstGeom prst="rect">
            <a:avLst/>
          </a:prstGeom>
          <a:ln w="0">
            <a:noFill/>
          </a:ln>
        </p:spPr>
      </p:pic>
      <p:sp>
        <p:nvSpPr>
          <p:cNvPr id="33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047E-75F8-469B-94BB-F310FD2454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0B3-8420-4B9A-BD33-5CE7AA0B56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ontent mapping (2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15000" cy="454356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Creole content mapping (1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41" name="Content Placeholder 6" descr="dyalog.gif"/>
          <p:cNvPicPr/>
          <p:nvPr/>
        </p:nvPicPr>
        <p:blipFill>
          <a:blip r:embed="rId1"/>
          <a:stretch/>
        </p:blipFill>
        <p:spPr>
          <a:xfrm>
            <a:off x="2417760" y="1981080"/>
            <a:ext cx="4003560" cy="4145040"/>
          </a:xfrm>
          <a:prstGeom prst="rect">
            <a:avLst/>
          </a:prstGeom>
          <a:ln w="0">
            <a:noFill/>
          </a:ln>
        </p:spPr>
      </p:pic>
      <p:sp>
        <p:nvSpPr>
          <p:cNvPr id="34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67D4-0C7B-48B1-9635-E54AF6BDA4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8EC2-8881-44AE-B1A2-8EFDA17824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But most web pages are 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code-heav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117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9BD-24A8-4D13-916E-7B8AF8D9FD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content mapping (2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10480" cy="4286520"/>
          </a:xfrm>
          <a:prstGeom prst="rect">
            <a:avLst/>
          </a:prstGeom>
          <a:ln w="0">
            <a:noFill/>
          </a:ln>
        </p:spPr>
      </p:pic>
      <p:sp>
        <p:nvSpPr>
          <p:cNvPr id="34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Creole content mapping (3)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yalog\default.ap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t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ML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ildserver\WServer32.dw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ls_tools.SiteMap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33F-4CFE-4045-9451-644F9302F8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FDD6-419D-40D8-81CF-60417EAAC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C75-F818-4AD8-A729-F5269330AF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e web develop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problem space using CSS and light, structural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g to your valid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yalog to write static pages from the workspace (Unicod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WildServer for creating pages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11F-E281-40C2-AB10-675DA6D2A8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.DW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alog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DEB-79F3-4617-B104-2FE99C85A5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reolised technolog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ftware stays soft, mod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e must be readab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minima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5BA5-A189-4F64-BFD4-E86EC46B6D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Creole methods buy u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s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relationships with 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generation of such pages from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ly adding a web to a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F1DD-46AE-413F-A181-4819A84D53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Creolisation costs u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81080" y="2895480"/>
            <a:ext cx="655344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fu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3581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7293-BCDB-4DF9-AB8C-38D3F52FC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implifying the problem space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staying out of the m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Cre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2286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Stephen</cp:lastModifiedBy>
  <dcterms:modified xsi:type="dcterms:W3CDTF">2008-10-05T16:11:08Z</dcterms:modified>
  <cp:revision>76</cp:revision>
  <dc:subject/>
  <dc:title>Slide 1</dc:title>
</cp:coreProperties>
</file>