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BA14-9170-4002-9E99-790122A6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024-384A-48BE-93A4-3C680E254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ED18-CE94-4D94-86E4-EC265A4C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F6E-B3DD-429C-9797-1B0EDD0D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944-6073-482D-A6B8-11F00EE2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D3D8-81D8-4DA3-A024-7342DDAB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892F-6CD1-465A-A009-0AF634AA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219-8D6D-43A3-86AB-DADAF22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493-6F4B-4A59-BD14-EE395B92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48B-A570-4C83-A39C-3B8FA608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A6E-53BA-4742-9F9A-E75CF4B8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BBB-3E23-49C4-8470-EAF8951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3B5-D440-40AB-B42E-AC70C32E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0E3-1E16-4E61-BAE0-DBA2108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D2C-2905-4D35-B67E-A9FCA6F5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956-5E71-407C-8F15-8756A43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835-5765-475B-986B-8AB432B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F81-D06A-4B1F-8098-099E9BD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A73-35EC-45B3-B19F-A2BC429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85AC-645C-4D51-9D44-F5594E1E23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CAC-C88E-4805-9022-D6FE634D09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4200" y="64296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 + Un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using APL and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597a0"/>
                </a:solidFill>
                <a:latin typeface="Arial"/>
              </a:rPr>
              <a:t>Gianluigi Q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Dyalog User Conferenc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A9A1-206F-4F93-BE5A-895C10B778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4920" y="642960"/>
            <a:ext cx="4214880" cy="58579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7120" y="642960"/>
            <a:ext cx="43578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Co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SharpZip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ttore 1 12"/>
          <p:cNvSpPr/>
          <p:nvPr/>
        </p:nvSpPr>
        <p:spPr>
          <a:xfrm>
            <a:off x="928800" y="228600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ttore 1 14"/>
          <p:cNvSpPr/>
          <p:nvPr/>
        </p:nvSpPr>
        <p:spPr>
          <a:xfrm flipV="1">
            <a:off x="1000080" y="2214360"/>
            <a:ext cx="30718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ccia in giù 17"/>
          <p:cNvSpPr/>
          <p:nvPr/>
        </p:nvSpPr>
        <p:spPr>
          <a:xfrm>
            <a:off x="2357280" y="300024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ttore 1 21"/>
          <p:cNvSpPr/>
          <p:nvPr/>
        </p:nvSpPr>
        <p:spPr>
          <a:xfrm>
            <a:off x="5072040" y="221472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22"/>
          <p:cNvSpPr/>
          <p:nvPr/>
        </p:nvSpPr>
        <p:spPr>
          <a:xfrm flipV="1">
            <a:off x="5143680" y="2143080"/>
            <a:ext cx="307152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Primary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3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chive fil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tec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riginal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ssor compliant with popula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B61-27BF-4AB2-8013-F619B65592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75" name="Titolo 10"/>
          <p:cNvSpPr/>
          <p:nvPr/>
        </p:nvSpPr>
        <p:spPr>
          <a:xfrm>
            <a:off x="571680" y="364320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contenuto 24"/>
          <p:cNvSpPr/>
          <p:nvPr/>
        </p:nvSpPr>
        <p:spPr>
          <a:xfrm>
            <a:off x="642960" y="45007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TP, E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ave disk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Neglec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ther format of archiv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UI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curse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litting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le filter for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rgery inside a zip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5AA2-2666-481C-A6E8-8AFFFF2740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4B3-59FB-4EC4-86FD-12B2B6FF6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SharpZipLib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Net.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roce 16"/>
          <p:cNvSpPr/>
          <p:nvPr/>
        </p:nvSpPr>
        <p:spPr>
          <a:xfrm>
            <a:off x="4214880" y="235728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roce 18"/>
          <p:cNvSpPr/>
          <p:nvPr/>
        </p:nvSpPr>
        <p:spPr>
          <a:xfrm>
            <a:off x="4357800" y="371484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ADA0-20F6-477C-8BD0-C5CDD8AF37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Is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out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filename(s) to be compresse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Un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in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output directoryname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Gianluigi Quario</cp:lastModifiedBy>
  <dcterms:modified xsi:type="dcterms:W3CDTF">2008-10-03T12:27:40Z</dcterms:modified>
  <cp:revision>45</cp:revision>
  <dc:subject/>
  <dc:title>Slide 1</dc:title>
</cp:coreProperties>
</file>