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5040" y="518760"/>
            <a:ext cx="511776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6377040"/>
            <a:ext cx="4891320" cy="26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8E76-C6B3-4375-BCEC-29CD87C4FD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B0B8-126C-418D-BFE2-418F633984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65EB-1951-4144-ABD3-9C0710BDA5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741A-471D-4CBC-A562-B85C922AA7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219A-3BAC-4B28-B0F0-4026A9CBA7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3919-8D21-48E2-8090-4C38EB71E3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45BB-E3A2-403F-BDF0-E007C62D17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2EA3-880F-4A07-BCF0-526AD81848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1B41-49AF-40DB-A3E7-EBA09694D7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DC0C-B025-4D9C-BEBD-F7C44EABBE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54EC-329C-43A7-A741-3589B4D122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E4C7-0297-4CE8-BC03-741F7F16F6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E2A7-3D11-41A1-86ED-D205F8691F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3A43-FD2A-4516-BF33-28AFE234E5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D50A-640C-43D2-A0D1-8E08776CE0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FC70-DB87-46C6-B663-7D7058F82C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88480" y="6377040"/>
            <a:ext cx="489132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37B1-428A-4895-B8B1-4FF41853B0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46CC-FBAB-4C24-B4C1-74D1238E0A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DA4E-F14E-41C0-9737-3CBE53848A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B9E5-EC0E-4AE3-A621-C64B9D4557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52B4-4DF8-4387-A027-48C72FA4F3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74D3-4556-4512-A77D-DBE89FF04D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8BB7-251A-4B05-91A7-5116A568C6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5AC0-6EFA-476F-A34B-B4A28E00F3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3497-7649-4777-9806-E023673B4A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  <p:sp>
        <p:nvSpPr>
          <p:cNvPr id="525" name="Notes Placeholder 5"/>
          <p:cNvSpPr/>
          <p:nvPr/>
        </p:nvSpPr>
        <p:spPr>
          <a:xfrm>
            <a:off x="888840" y="2590920"/>
            <a:ext cx="48913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7EF3-46E8-44DE-9FB4-532699C95D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9E2D-5C3C-4EA2-825E-3348D290EA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9BE9-8103-4CDC-8279-FC03C570C0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80EB-D8F5-4C17-8887-A22A8A7B19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FACF-5162-4D0B-8286-398049FAA5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644A-03EF-445F-8B02-224A2506A5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00F-7177-4364-9E7D-0313D04D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A3F-12DA-481C-8CFA-C6888753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D087-3BF9-4424-B5DA-59A93B07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493-D029-4F3B-9984-69121983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52D-A5F5-4C6B-BF74-C2D84F25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325-3D9D-4ACD-AC85-EE1E3080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0C7-AE43-423C-B9DE-52655757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B46-6A7B-45FD-B6E7-ED7C557E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139-86C9-4045-A137-32EBFFAC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57E-AC72-436E-BB37-8A840300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CDF-AD5E-409A-B689-2EF38877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664-B4A9-4D09-A0F7-0060E64F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669C-CB32-44CE-8F32-3509EA0E266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0012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ed Component Files</a:t>
            </a:r>
            <a:br>
              <a:rPr sz="4400"/>
            </a:b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41428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John Scholes and 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3 October, 2008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0" y="2428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62626"/>
                </a:solidFill>
                <a:latin typeface="Geneva"/>
              </a:rPr>
              <a:t>Or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62626"/>
                </a:solidFill>
                <a:latin typeface="Geneva"/>
              </a:rPr>
              <a:t>How to never see FILE DAMAGED agai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free space can be upd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put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Most of the component is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(The free space node was left inta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ll remaining updates are journa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activ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6EA8-6333-4709-89DB-8BA7336C50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ng - journale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ight Arrow 34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6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7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8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9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nly free space updated so f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Entire update recorded i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2A3C-134B-44B1-8E80-AE3D1316D24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ng - journale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ight Arrow 34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9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EBE4-DAC6-4C58-A0BD-29F1902D923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ng - journale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rem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update i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ight Arrow 34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6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7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4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5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5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8" dur="25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9" dur="25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3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4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Normal case - there is no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Nothing needs to b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4BA4-DB44-4DD6-878D-8FD786E6F1C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ccessing the file – example 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2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6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Process killed before journal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updates were all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file has been safely rolled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17D2-CC50-4F67-BADE-6F7E3D7E689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ccessing the file – example 2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Process killed after journal complete but before update fi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(re-)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rem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update has been completed and damage repa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A884-86FB-4341-90C4-00986E9AC29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ccessing the file – example 3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ight Arrow 29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25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9" dur="25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25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7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8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25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1" dur="25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2" dur="25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25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6" dur="25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7" dur="25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43EA-BEFD-449B-9957-42473BD0D99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ed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re supported now in 12.0.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Have very little impact on performance and file siz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May be enabled on a per-file basi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PL385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APL385 Unicode"/>
              </a:rPr>
              <a:t>⎕</a:t>
            </a:r>
            <a:r>
              <a:rPr b="1" lang="da-DK" sz="3200" spc="-1" strike="noStrike">
                <a:solidFill>
                  <a:srgbClr val="262626"/>
                </a:solidFill>
                <a:latin typeface="APL385 Unicode"/>
              </a:rPr>
              <a:t>FPROPS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 converts a file to/from journal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B5EF-6FBF-456F-8989-2246FF52B9A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ed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82868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an only be accessed by 12.0.3 or later (but journaling can be switched off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re not enabled by defau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Protect from file damage if APL is kill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Do not currently always protect from file damage if the OS is kill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lowchart: Magnetic Disk 21"/>
          <p:cNvSpPr/>
          <p:nvPr/>
        </p:nvSpPr>
        <p:spPr>
          <a:xfrm>
            <a:off x="7143840" y="1571760"/>
            <a:ext cx="1342800" cy="16430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571680" y="3357720"/>
            <a:ext cx="78152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Disk writes are held in memory and flushed efficiently (out of sequ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Data still flushed if APL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But if the O/S is killed, out of sequence data may be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34B4-5D96-44DC-9A42-A47CA3CAB21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isk cach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Flowchart: Data 24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lowchart: Data 25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lowchart: Data 27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Data 32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lowchart: Data 33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lowchart: Data 34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lowchart: Data 35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lowchart: Data 36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lowchart: Data 37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lowchart: Data 38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lowchart: Data 39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lowchart: Data 40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lowchart: Data 41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lowchart: Data 42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lowchart: Data 43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lowchart: Data 44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lowchart: Data 46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714240" y="1857240"/>
            <a:ext cx="1357560" cy="100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Cloud 19"/>
          <p:cNvSpPr/>
          <p:nvPr/>
        </p:nvSpPr>
        <p:spPr>
          <a:xfrm>
            <a:off x="3643200" y="1643040"/>
            <a:ext cx="2143080" cy="1571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O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53"/>
          <p:cNvSpPr/>
          <p:nvPr/>
        </p:nvSpPr>
        <p:spPr>
          <a:xfrm>
            <a:off x="7358040" y="15717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08" dur="1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11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14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4879 0.00416 E">
                                      <p:cBhvr>
                                        <p:cTn id="723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8021 0.07749 E">
                                      <p:cBhvr>
                                        <p:cTn id="726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31181 0.00416 E">
                                      <p:cBhvr>
                                        <p:cTn id="729" dur="1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43" dur="1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46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49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4879 0.00416 E">
                                      <p:cBhvr>
                                        <p:cTn id="758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000"/>
                            </p:stCondLst>
                            <p:childTnLst>
                              <p:par>
                                <p:cTn id="76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8021 0.07749 E">
                                      <p:cBhvr>
                                        <p:cTn id="765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76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31181 0.00416 E">
                                      <p:cBhvr>
                                        <p:cTn id="768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90" dur="1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93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96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000"/>
                            </p:stCondLst>
                            <p:childTnLst>
                              <p:par>
                                <p:cTn id="7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4879 0.00416 E">
                                      <p:cBhvr>
                                        <p:cTn id="805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4000"/>
                            </p:stCondLst>
                            <p:childTnLst>
                              <p:par>
                                <p:cTn id="8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8021 0.07749 E">
                                      <p:cBhvr>
                                        <p:cTn id="808" dur="1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0"/>
                            </p:stCondLst>
                            <p:childTnLst>
                              <p:par>
                                <p:cTn id="81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1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to free space (inc jour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2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Mark journal a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/S dies; update 1 in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Executing this broken journal would corrupt th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re are 4 such points in 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0948-B208-4CE8-83ED-17EA559B19B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Why this matter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9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8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7183-71F4-493B-9838-37D26FAC335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Component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" name="Picture 2" descr="C:\Documents and Settings\Richard\Local Settings\Temporary Internet Files\Content.IE5\B93I2H6R\MCj03512350000[1].wmf"/>
          <p:cNvPicPr/>
          <p:nvPr/>
        </p:nvPicPr>
        <p:blipFill>
          <a:blip r:embed="rId1"/>
          <a:stretch/>
        </p:blipFill>
        <p:spPr>
          <a:xfrm>
            <a:off x="857160" y="1928880"/>
            <a:ext cx="7202520" cy="371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se must be done atomical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1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Write to free space (inc jour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2.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Mark journal a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3.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Execute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4.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Remove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7E5C-4866-4677-BC22-4C4432F5B7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Critical update seque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500"/>
                            </p:stCondLst>
                            <p:childTnLst>
                              <p:par>
                                <p:cTn id="9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5" dur="250" autoRev="1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6" dur="250" autoRev="1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7" dur="250" autoRev="1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3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84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5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7" dur="25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88" dur="25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9" dur="25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2" dur="25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93" dur="25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4" dur="25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2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7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2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lowchart: Magnetic Disk 21"/>
          <p:cNvSpPr/>
          <p:nvPr/>
        </p:nvSpPr>
        <p:spPr>
          <a:xfrm>
            <a:off x="7143840" y="1571760"/>
            <a:ext cx="1342800" cy="16430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571680" y="3357720"/>
            <a:ext cx="78152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fsync causes APL to wait for the data to be committed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ould issue 4 fsyncs per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781E-C559-4D54-9FAB-10C022199A1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sync solu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Flowchart: Data 24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lowchart: Data 25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lowchart: Data 27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lowchart: Data 32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lowchart: Data 33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lowchart: Data 34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lowchart: Data 44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lowchart: Data 46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714240" y="1857240"/>
            <a:ext cx="1357560" cy="100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Cloud 19"/>
          <p:cNvSpPr/>
          <p:nvPr/>
        </p:nvSpPr>
        <p:spPr>
          <a:xfrm>
            <a:off x="3643200" y="1643040"/>
            <a:ext cx="2143080" cy="1571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O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53"/>
          <p:cNvSpPr/>
          <p:nvPr/>
        </p:nvSpPr>
        <p:spPr>
          <a:xfrm>
            <a:off x="7358040" y="15717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&quot;No&quot; Symbol 29"/>
          <p:cNvSpPr/>
          <p:nvPr/>
        </p:nvSpPr>
        <p:spPr>
          <a:xfrm>
            <a:off x="785880" y="1785960"/>
            <a:ext cx="1214280" cy="1143000"/>
          </a:xfrm>
          <a:prstGeom prst="pie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45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4879 0.00416 E">
                                      <p:cBhvr>
                                        <p:cTn id="1054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6" nodeType="afterEffect" fill="hold" presetClass="exit" presetID="53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63" dur="1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31181 0.00416 E">
                                      <p:cBhvr>
                                        <p:cTn id="1072" dur="1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81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8021 0.07749 E">
                                      <p:cBhvr>
                                        <p:cTn id="1090" dur="1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D16C-8EAB-4271-A25C-93878F20E75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fsync solu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Slows the application considerab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514440" indent="-514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So we should reduce the number of fsyncs if possi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514440" indent="-514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Good news is that we ca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1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to free space (inc jour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2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Mark journal a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/S dies; update 1 in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Executing this broken journal would corrupt th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Solution: add checksums to det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476C-4158-415A-8868-A58B3640DB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First fsync elimin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2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Mark journal a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3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Start executing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/S dies; journal no longer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No journal for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Solution: use the checksumming and redundancy to rebuil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B941-7748-4E23-B27A-B04EBF6E56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Second fsync elimin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2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2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3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4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0" dur="250" autoRev="1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31" dur="250" autoRev="1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2" dur="250" autoRev="1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2923-3FD9-4FCE-BCE9-FCD6E3F7875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Second fsync elimin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Note: omitting this fsync does not prevent dam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But we are able to fix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3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Execute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4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Remove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/S dies; earlier update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No journal for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Rebuil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9436-76E8-483F-8B0C-CF90970219B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Third fsync elimin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500"/>
                            </p:stCondLst>
                            <p:childTnLst>
                              <p:par>
                                <p:cTn id="1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0" dur="25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1" dur="25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82" dur="25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8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9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0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25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93" dur="25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4" dur="25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25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98" dur="25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9" dur="25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7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2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7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7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4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Remove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/S dies; update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If the journal is still present we may re-execute it on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therwise it will fail its checksum 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FAAB-F89C-4BC9-8ABC-88517CFDB23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Fourth fsync elimin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2"/>
          <p:cNvSpPr/>
          <p:nvPr/>
        </p:nvSpPr>
        <p:spPr>
          <a:xfrm>
            <a:off x="6286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4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9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4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9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0AFD-9ECC-4D7F-AD69-B3D9768B8B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tional journaling op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wo fsyncs eliminated by checksumm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ne further fsync eliminated if recovery tool us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Last fsync eliminated if recovery tool used 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... potential loss of more 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16E4-B91A-41D0-8C68-AACB182994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tional journaling op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re planned for a future rele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ill have a greater impact on performance and file siz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ill offer a variety of options so that security and performance may be balanc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ill be configured on a per-file basi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4286160" y="1785960"/>
            <a:ext cx="20005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2786-065C-4F67-9B5F-551D6740DD5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Purely linear file lay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142884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42960" y="2643120"/>
            <a:ext cx="78152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72bfc5"/>
                </a:solidFill>
                <a:latin typeface="Geneva"/>
              </a:rPr>
              <a:t>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92d050"/>
                </a:solidFill>
                <a:latin typeface="Geneva"/>
              </a:rPr>
              <a:t>Component data (APL arra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c00000"/>
                </a:solidFill>
                <a:latin typeface="Times New Roman"/>
              </a:rPr>
              <a:t>Global file information (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14316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07180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ed Component Files</a:t>
            </a:r>
            <a:br>
              <a:rPr sz="4400"/>
            </a:b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0" y="37857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John Scholes and 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3 October, 2008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314316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4286160" y="1785960"/>
            <a:ext cx="20005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57C0-0CA8-4D83-9E7E-D8405C15484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Updating a linear fi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142884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42960" y="2643120"/>
            <a:ext cx="78152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6"/>
          <p:cNvSpPr/>
          <p:nvPr/>
        </p:nvSpPr>
        <p:spPr>
          <a:xfrm>
            <a:off x="3143160" y="1785960"/>
            <a:ext cx="5716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795240" y="2795760"/>
            <a:ext cx="7815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Replacing a component with a smaller one wastes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Replacing a component with a larger one is not possibl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... unless you move potentially large amounts of data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4286160" y="1785960"/>
            <a:ext cx="20005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3143160" y="1785960"/>
            <a:ext cx="19288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9"/>
          <p:cNvSpPr/>
          <p:nvPr/>
        </p:nvSpPr>
        <p:spPr>
          <a:xfrm>
            <a:off x="5072040" y="1785960"/>
            <a:ext cx="200016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7.98057E-007 L 0.0007 0.05158 E">
                                      <p:cBhvr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1E1B-C340-47C4-9591-F9CC4212BB6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ctual file lay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4296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72bfc5"/>
                </a:solidFill>
                <a:latin typeface="Geneva"/>
              </a:rPr>
              <a:t>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c00000"/>
                </a:solidFill>
                <a:latin typeface="Geneva"/>
              </a:rPr>
              <a:t>Global file information (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2060"/>
                </a:solidFill>
                <a:latin typeface="Geneva"/>
              </a:rPr>
              <a:t>Component index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92d050"/>
                </a:solidFill>
                <a:latin typeface="Geneva"/>
              </a:rPr>
              <a:t>Component data (APL arra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7030a0"/>
                </a:solidFill>
                <a:latin typeface="Geneva"/>
              </a:rPr>
              <a:t>Free space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entagon 18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1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171468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3429000" y="1785960"/>
            <a:ext cx="22147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5643720" y="1785960"/>
            <a:ext cx="200016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7643880" y="1785960"/>
            <a:ext cx="28584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43CD-DDB1-41B8-B120-C4438A2642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Updating a compone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714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42960" y="2643120"/>
            <a:ext cx="78152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the new data to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(Note that the free space node is overwrit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component index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free space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3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4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5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6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6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A826-F3B7-49AB-AD28-E7EF592E0D0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ng a compone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42960" y="2643120"/>
            <a:ext cx="78152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the new data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(Note that a free space node is overwrit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component index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free space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0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1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5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6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5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6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entagon 25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36F2-7044-4334-B07C-F3CA568CFDA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ng – and causing dam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4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enev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42960" y="2643120"/>
            <a:ext cx="78152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the new data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(Note that a free space node is overwrit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** APL process is killed *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free space node is still referenced but has been corrup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35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6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7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6960-D003-456A-A324-9F63CF479D5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The solution - journal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free space in a file can be safely upda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majority of an update occurs in this free 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s to existing data are first written to a journ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update is then comple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5:51:48Z</dcterms:created>
  <dc:creator/>
  <dc:description/>
  <dc:language>en-US</dc:language>
  <cp:lastModifiedBy/>
  <dcterms:modified xsi:type="dcterms:W3CDTF">2008-10-11T07:28:11Z</dcterms:modified>
  <cp:revision>1</cp:revision>
  <dc:subject/>
  <dc:title/>
</cp:coreProperties>
</file>