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8.jpeg" ContentType="image/jpe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media/image2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  <p:sldId id="290" r:id="rId51"/>
    <p:sldId id="291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slide" Target="slides/slide35.xml"/><Relationship Id="rId52" Type="http://schemas.openxmlformats.org/officeDocument/2006/relationships/slide" Target="slides/slide36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dt" idx="4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move the slid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 type="ftr" idx="4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 type="sldNum" idx="4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A99D2-A16E-47E2-974A-1F285FDBD8D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EFCD2-A795-4312-8CDF-3AC293DA799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1A5C2-B84A-45CC-9DB8-9D066D9F366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0003B-6FCE-41AB-948D-13AF0D55F7A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E5B8E-04DA-45CF-9911-0C47A56D130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3AA30-44E4-4916-BC66-D8BED6C7AA2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A8AC3-BE3A-4908-8FF6-E6269F4CD86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579F4-0B66-47B3-B8BB-2BAD5C8BAA6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7C8FD-0A65-406E-A6DA-3D76FEC5E63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5A810-730F-4F62-8B13-EC846E4B5A7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98FA5-68AF-4B16-A851-D03A334A382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6D4FB-C309-4950-8A5F-7ACE044BB4F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952B9-55FC-4E4F-9D7A-7461EAE4A30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6B677-E16A-4789-94E1-6A1D97C69CD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21D8F-D2BF-4BC1-846B-C68DDD5A1DE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767EC-CC80-46E9-8598-55C4190E617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A163B-7D71-4949-9F36-123317C7424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966D3-D2A7-49A2-981C-B331BF667C5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25C72-44C5-419B-85E8-7C2F9334B27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C8DEF-04C8-42FD-B271-FF762179A58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CD469-9C1A-429B-863A-6BBEF6E9431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AF7C7-588E-4E55-9F79-0BA0423020F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22216-72F0-476D-9B3C-EB80C8B3C15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08DF2-925F-40A3-B149-B88F39B718C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CA7C6-51D8-44E7-AC4C-CAC4B464C97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4C6D8-BAF2-43AC-9DD0-DB2B80507CE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09D5A-FD2A-43D3-B2DA-622CF51CABC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6DCE1-A8C7-45BD-87F1-CB3585DC009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7E713-FD78-4BA9-B726-3E147AFFF4A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657BF-F873-4A67-9656-F23234A63D5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69683-3339-4243-852D-C7DFAEF9ADF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5EAF8-37EC-4333-9063-DE1A523CAF2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F76D7-DCC1-4BED-A277-4349796F682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7BD1F-717D-4860-A5B6-53F5CD4E3C5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92F7D-3B98-4C69-9349-806385A52AA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438BF-CF62-47A3-80A3-CEA61ED76A1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B9D47-35E8-4E99-AB9D-EF4F8C763FE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A5CB-5312-46AC-B74D-0135DE0A7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A495-7B6F-4E67-B173-BD9AECBAA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B7F9001-DB21-448B-A21E-109BE6BF5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C8D5952-B9A9-444C-93A9-0A067C925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F06F6B7-6B02-4346-84E8-D4782876E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FF2B830-9D5E-4266-A9E0-DB968A794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6653446-5133-4E79-83D7-844691364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F08AC22-6A7F-4D95-A239-B2A5BA973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855E5C8-ADBF-46B4-B476-0B0EE7E5F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829D47B-9EA6-46C4-A793-24212C478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8EC5161-8821-433C-AC7D-F5CB71B86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D57893-48B6-49F8-AA39-E2ABA9B34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9DE6-2260-4053-A423-C40A7BD6B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23ABAE-98D1-486A-B71B-22354522A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D173B3-9F9F-46B5-B3EA-7CD7E68D0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93C605-708F-47C1-955E-706786EE1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744B92-0AA2-434E-B931-77E08A719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709418-2494-4DAC-AB18-2A23B55DF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03FDCA-5DC1-4056-8D36-118B2F82B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BA7B70-3BE4-46F9-9CF7-B5DCA0396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12DD02-3888-4E97-901E-4E463BA20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F35055-D659-42B4-96DE-0F9D28772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BCE3FF-6490-4835-A1CC-B7C8235AC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1BFA-327B-4B84-88A5-EA938B507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4F2F57-4E71-451D-B93A-2158A78A9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D51D8B-4EC2-429B-ABFD-E1FEEF3B8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64C282-3335-419C-A951-F7CF98930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815148-B51C-4683-9BB7-A93B5BCAB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C62F19-8CFE-4D9E-8D13-41027CC7E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EFF2F2-7D26-41A8-954A-EED9FBE95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A20236-D7E9-429A-AB66-CCC97B18D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FB3219-59AB-4056-BDF7-3CC94424E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32E5B4-8478-4F50-9722-BD9C1FF85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D2D0C1-7BDB-41C0-9FEC-9816202F1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6B4C8-D22B-4F2A-8318-7665793A4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38CC0B-3FAF-4E2D-A2C5-2EB42787C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ED1BFD-9F77-4C11-AEDD-F7A4E891D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C4B663-2728-472A-888B-78F307637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6A1176-AD27-4F66-B695-517C1B090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C456CB-6197-4C37-8E69-E0DB241BF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E5A9A4-049E-447B-B3FF-B995B86A3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0D6A52-D937-4E15-8EFD-BA664D977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82BA10-2728-4C41-B227-41D419463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22C2A7-4E05-4964-82F0-0D91708A4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91B87D-DF3C-44FA-AC7B-1CDFC9BED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0C876-29A9-452D-BCBF-DD94C7174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4FD912-113B-4831-92DC-5FF06590C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8AE502-1550-48A6-A443-0889DCA12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96B9D8-B062-49A5-AEB4-1F4A7583A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AFB105-DEC9-4963-91D5-D4A2760B9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433177-1F67-4CD2-ACB0-A2252A2B5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FF06C0-E902-4FBD-8C7E-3D0FA81B0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987A40-587A-4A90-8ABE-E67E426E9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19BFBE-D292-4DC2-A85A-9DB27466E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1E711F-F5E6-416B-8DD1-1F0BF2368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086C6D-4C22-432D-BF10-096EDC2AC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A8B76-C1DC-433E-8292-A204BF686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5E53BB-6C24-4807-967B-8DA7279E9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B6BF43-5C81-45B8-8856-89939108D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A536A0-2F38-45F6-9F5A-7FA3A2E09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05F7E0-9AC3-41AD-9475-E84AE6F74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DD9395-558B-441E-A20C-876D8C308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3C4F19-0B31-42C8-BF9D-E0298A1F4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84EA54-C270-437D-B876-3F43A9219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48B2E6-65C3-48DC-A8A7-70D949CD2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575648-FF4E-4B26-A828-51B20B76B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7CE621-B00E-4D94-B5CD-66ECA842B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B5D26-2395-479F-9A4A-8BD1B9B6B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D6FCE8-8C8E-47CC-B297-904ED83EE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F43C70-82E4-49C2-AE49-4323DB004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E8B464-5D7E-4562-866B-E58300FB3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A82A6A-C368-4A60-8CD3-1FCDEF5F4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CD1C36-3F5D-452A-986B-EA1BD3F34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E5C130-F277-4977-B381-64BA427BD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F5E047-8219-458D-9C0A-8D8240451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6C56D7-8D93-4D3E-BC61-D4C125682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EA0649-D882-43B5-80A3-B9C2553AF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980E0-A1C1-451E-B5FF-2E7AB962F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9FD7C-FE33-4B0C-BBFB-B89A6BBC2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C06B9-D9D3-446A-9033-A78BF1273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56AB-E961-4095-8906-D2FD17F6F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43AA2-DE93-4984-BF40-50014061A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395C5-0965-4C0F-A17A-06C1AF30E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D9098-4DD6-4EB6-AEBC-2123E6E17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6EC5C-81D0-451A-A2D9-7961B26C4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EACC5-11EE-474A-901E-80B941655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78B84-A81F-445D-A7B8-DBCE6531E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F894F-2AB2-456C-9B31-FBFB59A59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AF882-195B-4330-8518-0394813BA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88AC5-ACE9-4047-B20C-789A2D820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ACEAF-90D7-4E78-88F6-1D3726B6C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1EDD-686B-4210-AFC8-8F2ED16A3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54395-B168-4C4D-BB1A-419228BC2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030B6-3DBB-40F3-B63F-589CF89B8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4767C-DF93-4426-BD36-4C4BC7F87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63531-F170-4D30-89ED-31A9C970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E1757-888F-47E7-A2E9-2CD1114C6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B105D-A2FF-4B58-8A2A-40CCD5BAC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0449C-72F3-4ACF-B6E3-963C1C7DA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40739-F7CE-48B2-A3D8-1D17CB9AC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DCAE8-44FA-4B23-B1EF-F2840B60F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F87CC-4381-44AE-B920-C1D9408BF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B7A6-F11F-4A25-9895-0D0B88C45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A1714-33C1-47DF-842C-67BAA465D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DD8C5-75C4-4531-8D9C-EE151F693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B861E-A679-4E28-AD2A-130D4ABB9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A35E1-FA12-4141-A836-93D706836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D2E3A-11D9-4397-AF05-C1EE8A1B0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4B507-724F-48DC-96EC-F666E77F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FDCBAF-CE71-4F03-91CE-8C7617BEB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2F5BF-FA93-4A4F-9F83-4409B5E51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ABF4C-3F1D-4EF1-95EE-3A4CEC937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83EEDE-CAB8-4175-8FB4-8FCCB4D12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4CB0-EE14-41AC-8692-AF8472AA9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06B318-F6B5-46E0-81E2-6EF69D013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362F19-2B1D-4A43-ACCF-33EE30A35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C83F0-1FB7-4C74-A8C7-9790F701B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EE00C7-4C43-498B-BB3A-42BFE7A13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7B6015-B1C3-4451-BFDE-26F53DE48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7FB873-C98B-4E66-B5B1-268D1477A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E76AED-B97E-4115-825C-8BB40AE6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F2FCC6-89D5-43C5-9F46-8293386FB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28ECFA-E134-4B86-91E7-F307919C0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AF614A-4A88-4D1C-8AC6-F8121EB55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8387-EA7C-4E42-A436-23BF85E34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86C9E2-C56E-48E9-9396-B7166DBD7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1E3E7F-E09D-4D8E-B89B-7765273D8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187BF1-0134-4C85-B0EE-ED0206B27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C5B245-A0D1-46B4-AEEF-D0CCE1505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5BF616-FDF8-4CEA-8795-50507DAB5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F777E0-5B06-47A4-AA62-6E2AFEDBF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5D04F3-5F35-4667-8FA8-3A00E57DB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FAC274-613B-40A3-9981-B9D4858E3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48A74F-7EC3-4AD5-8EB1-A74D05D4E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6C1C09-6FE0-4445-9E8E-DB7857D21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C67A-EA7B-452E-9F81-711A549B1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578F85-018A-41BD-A35C-B7A57681D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8AF512-810E-4F11-8009-330721055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976A91-B7CB-4049-A9B9-6EA79F207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0A2163-F86A-4D70-8797-C31D5CBC3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4BE717-EFC9-40C6-AC15-20BFE000F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E29A89-3DCF-4CB7-9C29-9C55AB8B6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1AF1E4-CD49-4C03-821D-D093555AD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5C4EC9-66C4-4BDC-A8FA-9B15DE173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887CC6-73F4-4BF6-A3B2-BDD886EED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041A8B-DBD8-4582-AF0E-31AC00971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B2BA-A0B8-4B2C-B07F-3F2D219DF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DCA60A-EB29-4FFD-B91F-9115A31B5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29AC87-569E-4137-98A8-E953AD036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271062-E1D5-4BFC-8A5A-9B2838FFB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B89185-24E2-4456-A7D7-09FFBD5C9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D39404-CB95-452B-99B6-D323698BB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C42025-6C65-4C7A-A8DA-956C359B5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58A77A-28E3-45E5-A296-B57A57E06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8A483B-0BF6-4429-B81E-8DAFDA14A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36CEB8-3109-4F24-82C6-C18BFDC72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147B11-F6CB-4121-9C59-62A08D1EB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7DA4-07B0-4179-A717-A724A8B1A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A56161-6FD4-4D6B-A5B9-B790A4561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CB9A74-CE68-45BE-88DF-4DFAC23F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C09431-1737-47F4-9F0A-6E8113449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18E95C-BC30-4D80-A54B-E62EDEB60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C25B67-7A57-4CB7-B759-2868E4ED4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7ED1A9-FFEF-491C-9627-423DD5725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4A0B99-2BD3-4955-880E-B2E6F6FF8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B00AB47-183B-484C-9264-27A25F6DB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95AED08-5BFC-47ED-AA89-D858DEE29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3BA4B1B-1383-433F-98FC-A7F10849E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ECB4C-926F-4923-8161-0CADC9693B0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44397-ED86-4D22-B4CD-654A75DC820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F561D-4172-4B01-8CDF-3A8EE2CFFCC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BC16A-B4C8-4BEA-8DC5-117832BCDE2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7"/>
          </p:nvPr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38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39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6751E-4A21-47A1-A94D-C2C338070BD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dt" idx="40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ftr" idx="41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sldNum" idx="42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075D9-4B45-45F7-BFE4-C49EFCF5A9F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CF0B3-24E1-4326-BA37-699EF1B2EF5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F0827-1E32-438C-84F5-19C3A7ADEAD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D0CE3-C28B-4A8C-90B5-BDA0F50E81D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1B385-D5C2-4731-A8E5-DDF814BCB31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855F0-6713-447C-874F-82E4FB6D7F6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9751A-AFCA-407A-8A6A-3F6D97EBD2E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D5075-CEFC-4755-A342-C08593CDC74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2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1EF77-A83B-47AB-911F-908610C19A2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ftr" idx="27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Dyalog’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purbeck.gov.uk/images/icon_key.gif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45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purbeck.gov.uk/images/icon_key.gif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3" descr="wyrm2008.jpg"/>
          <p:cNvPicPr/>
          <p:nvPr/>
        </p:nvPicPr>
        <p:blipFill>
          <a:blip r:embed="rId1"/>
          <a:stretch/>
        </p:blipFill>
        <p:spPr>
          <a:xfrm>
            <a:off x="1643040" y="714240"/>
            <a:ext cx="5318280" cy="4929480"/>
          </a:xfrm>
          <a:prstGeom prst="rect">
            <a:avLst/>
          </a:prstGeom>
          <a:ln w="0">
            <a:noFill/>
          </a:ln>
        </p:spPr>
      </p:pic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0" y="5429160"/>
            <a:ext cx="91440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Dyalog’08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TLS / SSL – How it works?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You send your Public Certificate         to everyone you want to talk to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You keep your Private Key         Secret!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Information encoded with </a:t>
            </a:r>
            <a:r>
              <a:rPr b="1" lang="da-DK" sz="2800" spc="-1" strike="noStrike">
                <a:solidFill>
                  <a:srgbClr val="333333"/>
                </a:solidFill>
                <a:latin typeface="Geneva"/>
              </a:rPr>
              <a:t>one</a:t>
            </a: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 of the above can be decoded using the </a:t>
            </a:r>
            <a:r>
              <a:rPr b="1" lang="da-DK" sz="2800" spc="-1" strike="noStrike">
                <a:solidFill>
                  <a:srgbClr val="333333"/>
                </a:solidFill>
                <a:latin typeface="Geneva"/>
              </a:rPr>
              <a:t>other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Allows encrypted communication which cannot be tampered with or falsified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(If you trust the ”Certificate Authorities”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42937-0C9F-47E7-A5F7-7C8EC580772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8" name="Picture 39" descr=""/>
          <p:cNvPicPr/>
          <p:nvPr/>
        </p:nvPicPr>
        <p:blipFill>
          <a:blip r:embed="rId1"/>
          <a:stretch/>
        </p:blipFill>
        <p:spPr>
          <a:xfrm>
            <a:off x="6286680" y="1928880"/>
            <a:ext cx="571320" cy="56016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  <p:pic>
        <p:nvPicPr>
          <p:cNvPr id="649" name="Picture 41" descr="http://tbn0.google.com/images?q=tbn:fGpTeh5UHEQsAM:http://www.purbeck.gov.uk/images/icon_key.gi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429160" y="2857680"/>
            <a:ext cx="571680" cy="57132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  <p:sp>
        <p:nvSpPr>
          <p:cNvPr id="650" name="Date Placeholder 3"/>
          <p:cNvSpPr/>
          <p:nvPr/>
        </p:nvSpPr>
        <p:spPr>
          <a:xfrm>
            <a:off x="685800" y="6324480"/>
            <a:ext cx="2671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Conga, SSL &amp; Web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Dyalog’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333333"/>
                </a:solidFill>
                <a:latin typeface="Geneva"/>
              </a:rPr>
              <a:t>Certificate Authorities</a:t>
            </a:r>
            <a:endParaRPr b="1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A User Certificate is ”signed” using the private key of a Certificate Authority (CA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Each CA issues a ”Root Certificate” which can be used to validate</a:t>
            </a:r>
            <a:br>
              <a:rPr sz="2800"/>
            </a:b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a User Certificat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Companies can also</a:t>
            </a:r>
            <a:br>
              <a:rPr sz="2800"/>
            </a:b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issue own certs for</a:t>
            </a:r>
            <a:br>
              <a:rPr sz="2800"/>
            </a:b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internal us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5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AF117-DE68-44BA-AFD3-229CB7712C9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5" name="Picture 36" descr="http://newsletters.hagerman.com/newsletters/Images/Ebul%2042/JDB3.jpg"/>
          <p:cNvPicPr/>
          <p:nvPr/>
        </p:nvPicPr>
        <p:blipFill>
          <a:blip r:embed="rId1"/>
          <a:stretch/>
        </p:blipFill>
        <p:spPr>
          <a:xfrm>
            <a:off x="5286240" y="3714840"/>
            <a:ext cx="3210120" cy="2371680"/>
          </a:xfrm>
          <a:prstGeom prst="rect">
            <a:avLst/>
          </a:prstGeom>
          <a:ln w="0">
            <a:noFill/>
          </a:ln>
        </p:spPr>
      </p:pic>
      <p:sp>
        <p:nvSpPr>
          <p:cNvPr id="656" name="Date Placeholder 3"/>
          <p:cNvSpPr/>
          <p:nvPr/>
        </p:nvSpPr>
        <p:spPr>
          <a:xfrm>
            <a:off x="685800" y="6324480"/>
            <a:ext cx="2671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Conga, SSL &amp; Web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Dyalog’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Using TLS from APL ...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42960" y="2071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Any sufficiently advanced technology is indistinguishable from magic.</a:t>
            </a:r>
            <a:br>
              <a:rPr sz="3200"/>
            </a:br>
            <a:br>
              <a:rPr sz="3200"/>
            </a:b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... Arthur C Clarke (1961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In other words: It’s easy </a:t>
            </a:r>
            <a:br>
              <a:rPr sz="3200"/>
            </a:b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                     ... Let’s take a look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C069D-5DFE-4128-9EE3-DD1D05B34C0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Date Placeholder 3"/>
          <p:cNvSpPr/>
          <p:nvPr/>
        </p:nvSpPr>
        <p:spPr>
          <a:xfrm>
            <a:off x="685800" y="6324480"/>
            <a:ext cx="2671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Conga, SSL &amp; Web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Dyalog’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Secure Demo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5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5FB2F-FA23-493F-ABF3-E0A8FAF475D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8" name="Picture 3" descr="wyrm2008.jpg"/>
          <p:cNvPicPr/>
          <p:nvPr/>
        </p:nvPicPr>
        <p:blipFill>
          <a:blip r:embed="rId1"/>
          <a:stretch/>
        </p:blipFill>
        <p:spPr>
          <a:xfrm>
            <a:off x="2301840" y="1928880"/>
            <a:ext cx="412740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DB38A-A6C0-4B1A-9F17-5FD3D938D3A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000" spc="-1" strike="noStrike">
                <a:solidFill>
                  <a:srgbClr val="333333"/>
                </a:solidFill>
                <a:latin typeface="Geneva"/>
              </a:rPr>
              <a:t>TLS Summary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71320" y="1928880"/>
            <a:ext cx="80326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2" name="Rectangle 3"/>
          <p:cNvSpPr/>
          <p:nvPr/>
        </p:nvSpPr>
        <p:spPr>
          <a:xfrm>
            <a:off x="723960" y="2081160"/>
            <a:ext cx="80326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With Conga, Dyalog applications can easily use secure services over the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Web Services or Web Servers written in APL can also be secu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Date Placeholder 3"/>
          <p:cNvSpPr/>
          <p:nvPr/>
        </p:nvSpPr>
        <p:spPr>
          <a:xfrm>
            <a:off x="685800" y="6324480"/>
            <a:ext cx="2671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Conga, SSL &amp; Web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Dyalog’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Service Oriented AP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42960" y="1785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Many APL applications are well suited to being converted into ”services”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This makes them very easy to integrate into almost any modern application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Can make IT managers and users of other languages more comfortable about APL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We believe that SOA opens up many new avenues for APL-based service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(using other peoples services is also nice </a:t>
            </a:r>
            <a:r>
              <a:rPr b="0" lang="da-DK" sz="2800" spc="-1" strike="noStrike">
                <a:solidFill>
                  <a:srgbClr val="333333"/>
                </a:solidFill>
                <a:latin typeface="Wingdings"/>
                <a:ea typeface="Wingdings"/>
              </a:rPr>
              <a:t></a:t>
            </a: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A94B1-6DDC-42A2-A874-4469B2A47C1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Date Placeholder 3"/>
          <p:cNvSpPr/>
          <p:nvPr/>
        </p:nvSpPr>
        <p:spPr>
          <a:xfrm>
            <a:off x="685800" y="6324480"/>
            <a:ext cx="2671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Conga, SSL &amp; Web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Dyalog’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Web Servic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The most widely used mechanism for implementing ”SOA”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Supported by Microsoft, Unixes, Mainframes – just about any web development tool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333333"/>
                </a:solidFill>
                <a:latin typeface="Geneva"/>
              </a:rPr>
              <a:t>Wikipedia:</a:t>
            </a: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 ”Communication over a network using XML messages that follow the SOAP standard”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08B63-7D26-4818-A8CA-9B10A22CF76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Date Placeholder 3"/>
          <p:cNvSpPr/>
          <p:nvPr/>
        </p:nvSpPr>
        <p:spPr>
          <a:xfrm>
            <a:off x="685800" y="6324480"/>
            <a:ext cx="2671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Conga, SSL &amp; Web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Dyalog’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WS Protocols: SOAP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SOAP: ”Simple” Object Access Protocol (not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45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333333"/>
                </a:solidFill>
                <a:latin typeface="Geneva"/>
              </a:rPr>
              <a:t>&lt;?xml version="1.0"?&gt;</a:t>
            </a:r>
            <a:br>
              <a:rPr sz="1800"/>
            </a:br>
            <a:r>
              <a:rPr b="0" lang="da-DK" sz="1800" spc="-1" strike="noStrike">
                <a:solidFill>
                  <a:srgbClr val="333333"/>
                </a:solidFill>
                <a:latin typeface="Geneva"/>
              </a:rPr>
              <a:t>&lt;SOAP-ENV:Envelope SOAP-ENV:</a:t>
            </a:r>
            <a:br>
              <a:rPr sz="1800"/>
            </a:br>
            <a:r>
              <a:rPr b="0" lang="da-DK" sz="1800" spc="-1" strike="noStrike">
                <a:solidFill>
                  <a:srgbClr val="333333"/>
                </a:solidFill>
                <a:latin typeface="Geneva"/>
              </a:rPr>
              <a:t>encodingStyle="http://schemas.xmlsoap.org/soap/encoding/" </a:t>
            </a:r>
            <a:br>
              <a:rPr sz="1800"/>
            </a:br>
            <a:r>
              <a:rPr b="0" lang="da-DK" sz="1800" spc="-1" strike="noStrike">
                <a:solidFill>
                  <a:srgbClr val="333333"/>
                </a:solidFill>
                <a:latin typeface="Geneva"/>
              </a:rPr>
              <a:t>xmlns:SOAP-ENC="http://schemas.xmlsoap.org/soap/encoding/" xmlns:SOAP-ENV="http://schemas.xmlsoap.org/soap/envelope/" xmlns:xsd="http://www.w3.org/2001/XMLSchema" xmlns:xsi="http://www.w3.org/2001/XMLSchema-instance"&gt;</a:t>
            </a:r>
            <a:br>
              <a:rPr sz="1800"/>
            </a:br>
            <a:r>
              <a:rPr b="0" lang="da-DK" sz="1800" spc="-1" strike="noStrike">
                <a:solidFill>
                  <a:srgbClr val="333333"/>
                </a:solidFill>
                <a:latin typeface="Geneva"/>
              </a:rPr>
              <a:t>   &lt;SOAP-ENV:Body&gt;</a:t>
            </a:r>
            <a:br>
              <a:rPr sz="1800"/>
            </a:br>
            <a:r>
              <a:rPr b="0" lang="da-DK" sz="1800" spc="-1" strike="noStrike">
                <a:solidFill>
                  <a:srgbClr val="333333"/>
                </a:solidFill>
                <a:latin typeface="Geneva"/>
              </a:rPr>
              <a:t>       &lt;GetStats xmlns="http://localhost/MyWebService/"&gt;</a:t>
            </a:r>
            <a:br>
              <a:rPr sz="1800"/>
            </a:br>
            <a:r>
              <a:rPr b="0" lang="da-DK" sz="1800" spc="-1" strike="noStrike">
                <a:solidFill>
                  <a:srgbClr val="333333"/>
                </a:solidFill>
                <a:latin typeface="Geneva"/>
              </a:rPr>
              <a:t>            &lt;Input&gt;1 2 3 4 4&lt;/Input&gt;</a:t>
            </a:r>
            <a:br>
              <a:rPr sz="1800"/>
            </a:br>
            <a:r>
              <a:rPr b="0" lang="da-DK" sz="1800" spc="-1" strike="noStrike">
                <a:solidFill>
                  <a:srgbClr val="333333"/>
                </a:solidFill>
                <a:latin typeface="Geneva"/>
              </a:rPr>
              <a:t>        &lt;/GetStats&gt;</a:t>
            </a:r>
            <a:br>
              <a:rPr sz="1800"/>
            </a:br>
            <a:r>
              <a:rPr b="0" lang="da-DK" sz="1800" spc="-1" strike="noStrike">
                <a:solidFill>
                  <a:srgbClr val="333333"/>
                </a:solidFill>
                <a:latin typeface="Geneva"/>
              </a:rPr>
              <a:t>   &lt;/SOAP-ENV:Body&gt;</a:t>
            </a:r>
            <a:br>
              <a:rPr sz="1800"/>
            </a:br>
            <a:r>
              <a:rPr b="0" lang="da-DK" sz="1800" spc="-1" strike="noStrike">
                <a:solidFill>
                  <a:srgbClr val="333333"/>
                </a:solidFill>
                <a:latin typeface="Geneva"/>
              </a:rPr>
              <a:t>&lt;/SOAP-ENV:Envelope&gt;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CD8A8-66B7-4464-BF97-4CB7A632940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Date Placeholder 3"/>
          <p:cNvSpPr/>
          <p:nvPr/>
        </p:nvSpPr>
        <p:spPr>
          <a:xfrm>
            <a:off x="685800" y="6324480"/>
            <a:ext cx="2671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Conga, SSL &amp; Web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Dyalog’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WS Protocols: WSD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Web Service Description Languag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92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SO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BAA AGM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622EB-24EF-4F63-88DE-38543893416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5" name="Picture 4" descr=""/>
          <p:cNvPicPr/>
          <p:nvPr/>
        </p:nvPicPr>
        <p:blipFill>
          <a:blip r:embed="rId1"/>
          <a:stretch/>
        </p:blipFill>
        <p:spPr>
          <a:xfrm>
            <a:off x="285840" y="-142920"/>
            <a:ext cx="8629560" cy="729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D5979-5513-4731-8BE3-934F9F351F2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000" spc="-1" strike="noStrike">
                <a:solidFill>
                  <a:srgbClr val="333333"/>
                </a:solidFill>
                <a:latin typeface="Geneva"/>
              </a:rPr>
              <a:t>Introducing SAWS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Stand-Alone WebService Framework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Our goal is to make it VERY easy for APL users to use AND provide ”SOA” components 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Anyone who is able to write an APL function should be able to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13160" indent="-274320"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Call existing Web Service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13160" indent="-274320"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Publish APL functions as Web Service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SAWS manages the SOAP and WSDL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99" name="Date Placeholder 3"/>
          <p:cNvSpPr/>
          <p:nvPr/>
        </p:nvSpPr>
        <p:spPr>
          <a:xfrm>
            <a:off x="685800" y="6324480"/>
            <a:ext cx="2671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Conga, SSL &amp; Web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Dyalog’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0040" y="1928880"/>
            <a:ext cx="7773840" cy="96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Conga, SSL and WebServic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1785600" y="3571560"/>
            <a:ext cx="52578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Morten Kromberg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Dyalog’08 - Elsinor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600" name="Picture 3" descr="wyrm2008.jpg"/>
          <p:cNvPicPr/>
          <p:nvPr/>
        </p:nvPicPr>
        <p:blipFill>
          <a:blip r:embed="rId1"/>
          <a:stretch/>
        </p:blipFill>
        <p:spPr>
          <a:xfrm>
            <a:off x="142920" y="5429160"/>
            <a:ext cx="142884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870CD-CA38-425C-8D87-66B1E94DFD9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000" spc="-1" strike="noStrike">
                <a:solidFill>
                  <a:srgbClr val="333333"/>
                </a:solidFill>
                <a:latin typeface="Geneva"/>
              </a:rPr>
              <a:t>Calling WebSevices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More and more Public Web Services are available on the internet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The number is growing rapidly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You can Google for them..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04" name="Date Placeholder 3"/>
          <p:cNvSpPr/>
          <p:nvPr/>
        </p:nvSpPr>
        <p:spPr>
          <a:xfrm>
            <a:off x="685800" y="6324480"/>
            <a:ext cx="2671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Conga, SSL &amp; Web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Dyalog’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BAA AGM 2008, Lond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C8B80-CE05-4035-9DDB-1FF79E47BD2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000" spc="-1" strike="noStrike">
                <a:solidFill>
                  <a:srgbClr val="333333"/>
                </a:solidFill>
                <a:latin typeface="Geneva"/>
              </a:rPr>
              <a:t>Google your way...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28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710" name="Picture 2" descr=""/>
          <p:cNvPicPr/>
          <p:nvPr/>
        </p:nvPicPr>
        <p:blipFill>
          <a:blip r:embed="rId1"/>
          <a:stretch/>
        </p:blipFill>
        <p:spPr>
          <a:xfrm>
            <a:off x="2286000" y="1579680"/>
            <a:ext cx="6243480" cy="5278320"/>
          </a:xfrm>
          <a:prstGeom prst="rect">
            <a:avLst/>
          </a:prstGeom>
          <a:ln w="0">
            <a:noFill/>
          </a:ln>
        </p:spPr>
      </p:pic>
      <p:sp>
        <p:nvSpPr>
          <p:cNvPr id="711" name="Date Placeholder 3"/>
          <p:cNvSpPr/>
          <p:nvPr/>
        </p:nvSpPr>
        <p:spPr>
          <a:xfrm>
            <a:off x="685800" y="6324480"/>
            <a:ext cx="2671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Conga, SSL &amp; Web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Weather Web Servi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14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Enterprise 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Dyalog’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0F39F-E8F1-4C2C-9D30-7398463855F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7" name="Picture 2" descr=""/>
          <p:cNvPicPr/>
          <p:nvPr/>
        </p:nvPicPr>
        <p:blipFill>
          <a:blip r:embed="rId1"/>
          <a:stretch/>
        </p:blipFill>
        <p:spPr>
          <a:xfrm>
            <a:off x="214200" y="0"/>
            <a:ext cx="8929800" cy="69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Calling Weather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2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F9532-FA51-43E1-9D73-51DB7EB7632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1" name="Picture 2" descr=""/>
          <p:cNvPicPr/>
          <p:nvPr/>
        </p:nvPicPr>
        <p:blipFill>
          <a:blip r:embed="rId1"/>
          <a:stretch/>
        </p:blipFill>
        <p:spPr>
          <a:xfrm>
            <a:off x="4680" y="785880"/>
            <a:ext cx="9134640" cy="5286240"/>
          </a:xfrm>
          <a:prstGeom prst="rect">
            <a:avLst/>
          </a:prstGeom>
          <a:ln w="0">
            <a:noFill/>
          </a:ln>
        </p:spPr>
      </p:pic>
      <p:sp>
        <p:nvSpPr>
          <p:cNvPr id="722" name="Date Placeholder 3"/>
          <p:cNvSpPr/>
          <p:nvPr/>
        </p:nvSpPr>
        <p:spPr>
          <a:xfrm>
            <a:off x="685800" y="6324480"/>
            <a:ext cx="2671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Conga, SSL &amp; Web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Dyalog’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Providing Web Servic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Any APL Application can be turned into a WebService using SAW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You should provide information that SAWS can use to build the WSD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SAWS handles the res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2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68D51-7623-4A78-98F2-018A14FBF33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Date Placeholder 3"/>
          <p:cNvSpPr/>
          <p:nvPr/>
        </p:nvSpPr>
        <p:spPr>
          <a:xfrm>
            <a:off x="685800" y="6324480"/>
            <a:ext cx="2671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Conga, SSL &amp; Web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Dyalog’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MyWebServi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3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D84BB-20E4-44D1-9211-BE7429BA45C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2" name="Picture 2" descr=""/>
          <p:cNvPicPr/>
          <p:nvPr/>
        </p:nvPicPr>
        <p:blipFill>
          <a:blip r:embed="rId1"/>
          <a:stretch/>
        </p:blipFill>
        <p:spPr>
          <a:xfrm>
            <a:off x="642960" y="928800"/>
            <a:ext cx="7954920" cy="5214960"/>
          </a:xfrm>
          <a:prstGeom prst="rect">
            <a:avLst/>
          </a:prstGeom>
          <a:ln w="0">
            <a:noFill/>
          </a:ln>
        </p:spPr>
      </p:pic>
      <p:sp>
        <p:nvSpPr>
          <p:cNvPr id="733" name="Date Placeholder 3"/>
          <p:cNvSpPr/>
          <p:nvPr/>
        </p:nvSpPr>
        <p:spPr>
          <a:xfrm>
            <a:off x="685800" y="6324480"/>
            <a:ext cx="2671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Conga, SSL &amp; Web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Dyalog’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StatCalc f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3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050C5-516D-4441-963F-091F1264BCB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8" name="Picture 3" descr=""/>
          <p:cNvPicPr/>
          <p:nvPr/>
        </p:nvPicPr>
        <p:blipFill>
          <a:blip r:embed="rId1"/>
          <a:stretch/>
        </p:blipFill>
        <p:spPr>
          <a:xfrm>
            <a:off x="0" y="4143240"/>
            <a:ext cx="9144000" cy="1905120"/>
          </a:xfrm>
          <a:prstGeom prst="rect">
            <a:avLst/>
          </a:prstGeom>
          <a:ln w="0">
            <a:noFill/>
          </a:ln>
        </p:spPr>
      </p:pic>
      <p:pic>
        <p:nvPicPr>
          <p:cNvPr id="739" name="Picture 2" descr=""/>
          <p:cNvPicPr/>
          <p:nvPr/>
        </p:nvPicPr>
        <p:blipFill>
          <a:blip r:embed="rId2"/>
          <a:stretch/>
        </p:blipFill>
        <p:spPr>
          <a:xfrm>
            <a:off x="-39600" y="714240"/>
            <a:ext cx="9183600" cy="3684600"/>
          </a:xfrm>
          <a:prstGeom prst="rect">
            <a:avLst/>
          </a:prstGeom>
          <a:ln w="0">
            <a:noFill/>
          </a:ln>
        </p:spPr>
      </p:pic>
      <p:sp>
        <p:nvSpPr>
          <p:cNvPr id="740" name="Date Placeholder 3"/>
          <p:cNvSpPr/>
          <p:nvPr/>
        </p:nvSpPr>
        <p:spPr>
          <a:xfrm>
            <a:off x="685800" y="6324480"/>
            <a:ext cx="2671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Conga, SSL &amp; Web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Dyalog’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GetStats f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44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SO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BAA AGM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18F4F-C233-4BA3-B4A3-5738643CA0B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7" name="Picture 2" descr=""/>
          <p:cNvPicPr/>
          <p:nvPr/>
        </p:nvPicPr>
        <p:blipFill>
          <a:blip r:embed="rId1"/>
          <a:stretch/>
        </p:blipFill>
        <p:spPr>
          <a:xfrm>
            <a:off x="0" y="4214880"/>
            <a:ext cx="9144000" cy="235584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4" descr=""/>
          <p:cNvPicPr/>
          <p:nvPr/>
        </p:nvPicPr>
        <p:blipFill>
          <a:blip r:embed="rId2"/>
          <a:stretch/>
        </p:blipFill>
        <p:spPr>
          <a:xfrm>
            <a:off x="0" y="714240"/>
            <a:ext cx="9144000" cy="35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BuildAPI f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5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90697-0B16-4A3D-B305-8A568D5F70D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2" name="Picture 2" descr=""/>
          <p:cNvPicPr/>
          <p:nvPr/>
        </p:nvPicPr>
        <p:blipFill>
          <a:blip r:embed="rId1"/>
          <a:stretch/>
        </p:blipFill>
        <p:spPr>
          <a:xfrm>
            <a:off x="0" y="785880"/>
            <a:ext cx="9144000" cy="5146560"/>
          </a:xfrm>
          <a:prstGeom prst="rect">
            <a:avLst/>
          </a:prstGeom>
          <a:ln w="0">
            <a:noFill/>
          </a:ln>
        </p:spPr>
      </p:pic>
      <p:sp>
        <p:nvSpPr>
          <p:cNvPr id="753" name="Date Placeholder 3"/>
          <p:cNvSpPr/>
          <p:nvPr/>
        </p:nvSpPr>
        <p:spPr>
          <a:xfrm>
            <a:off x="685800" y="6324480"/>
            <a:ext cx="2671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Conga, SSL &amp; Web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Dyalog’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Calling GetSta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5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BAA AGM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B41EA-51CA-4177-9A6F-8BC5812BA36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9" name="Picture 3" descr=""/>
          <p:cNvPicPr/>
          <p:nvPr/>
        </p:nvPicPr>
        <p:blipFill>
          <a:blip r:embed="rId1"/>
          <a:stretch/>
        </p:blipFill>
        <p:spPr>
          <a:xfrm>
            <a:off x="1000080" y="571680"/>
            <a:ext cx="7251840" cy="3786120"/>
          </a:xfrm>
          <a:prstGeom prst="rect">
            <a:avLst/>
          </a:prstGeom>
          <a:ln w="0">
            <a:noFill/>
          </a:ln>
        </p:spPr>
      </p:pic>
      <p:pic>
        <p:nvPicPr>
          <p:cNvPr id="760" name="Picture 4" descr=""/>
          <p:cNvPicPr/>
          <p:nvPr/>
        </p:nvPicPr>
        <p:blipFill>
          <a:blip r:embed="rId2"/>
          <a:stretch/>
        </p:blipFill>
        <p:spPr>
          <a:xfrm>
            <a:off x="1214280" y="4357800"/>
            <a:ext cx="6934320" cy="2943000"/>
          </a:xfrm>
          <a:prstGeom prst="rect">
            <a:avLst/>
          </a:prstGeom>
          <a:ln w="0">
            <a:noFill/>
          </a:ln>
        </p:spPr>
      </p:pic>
      <p:sp>
        <p:nvSpPr>
          <p:cNvPr id="761" name="Date Placeholder 3"/>
          <p:cNvSpPr/>
          <p:nvPr/>
        </p:nvSpPr>
        <p:spPr>
          <a:xfrm>
            <a:off x="685800" y="6324480"/>
            <a:ext cx="2671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Conga, SSL &amp; Web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Date Placeholder 3"/>
          <p:cNvSpPr/>
          <p:nvPr/>
        </p:nvSpPr>
        <p:spPr>
          <a:xfrm>
            <a:off x="685800" y="6324480"/>
            <a:ext cx="2671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Conga, SSL &amp; Web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Dyalog’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9CCB6-2A6B-458D-9BEA-4FD7DC3C43F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000" spc="-1" strike="noStrike">
                <a:solidFill>
                  <a:srgbClr val="333333"/>
                </a:solidFill>
                <a:latin typeface="Geneva"/>
              </a:rPr>
              <a:t>Agenda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Demo / Introduction to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Conga – for remote communication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Secure Communication using SSL/TL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The ”Stand Alone Web Service” (SAWS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606" name="Picture 3" descr="wyrm2008.jpg"/>
          <p:cNvPicPr/>
          <p:nvPr/>
        </p:nvPicPr>
        <p:blipFill>
          <a:blip r:embed="rId1"/>
          <a:stretch/>
        </p:blipFill>
        <p:spPr>
          <a:xfrm>
            <a:off x="6500880" y="5429160"/>
            <a:ext cx="142884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GetStats from C#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6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FB36D-BB7C-459E-B38D-ACA862526B7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5" name="Picture 5" descr=""/>
          <p:cNvPicPr/>
          <p:nvPr/>
        </p:nvPicPr>
        <p:blipFill>
          <a:blip r:embed="rId1"/>
          <a:stretch/>
        </p:blipFill>
        <p:spPr>
          <a:xfrm>
            <a:off x="714240" y="571680"/>
            <a:ext cx="6858000" cy="5676840"/>
          </a:xfrm>
          <a:prstGeom prst="rect">
            <a:avLst/>
          </a:prstGeom>
          <a:ln w="0">
            <a:noFill/>
          </a:ln>
        </p:spPr>
      </p:pic>
      <p:sp>
        <p:nvSpPr>
          <p:cNvPr id="766" name="Date Placeholder 3"/>
          <p:cNvSpPr/>
          <p:nvPr/>
        </p:nvSpPr>
        <p:spPr>
          <a:xfrm>
            <a:off x="685800" y="6324480"/>
            <a:ext cx="2671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Conga, SSL &amp; Web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Dyalog’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GetStats from C#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7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6BFF9-B68D-4EEA-BFFF-DB22A886CCA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1" name="Picture 3" descr=""/>
          <p:cNvPicPr/>
          <p:nvPr/>
        </p:nvPicPr>
        <p:blipFill>
          <a:blip r:embed="rId1"/>
          <a:stretch/>
        </p:blipFill>
        <p:spPr>
          <a:xfrm>
            <a:off x="0" y="928800"/>
            <a:ext cx="11096640" cy="5072040"/>
          </a:xfrm>
          <a:prstGeom prst="rect">
            <a:avLst/>
          </a:prstGeom>
          <a:ln w="0">
            <a:noFill/>
          </a:ln>
        </p:spPr>
      </p:pic>
      <p:sp>
        <p:nvSpPr>
          <p:cNvPr id="772" name="Date Placeholder 3"/>
          <p:cNvSpPr/>
          <p:nvPr/>
        </p:nvSpPr>
        <p:spPr>
          <a:xfrm>
            <a:off x="685800" y="6324480"/>
            <a:ext cx="2671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Conga, SSL &amp; Web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Dyalog’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SAWS TRA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76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SO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BAA AGM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8FA03-BF81-4F99-A9AE-E2ED2C63721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9" name="Picture 2" descr=""/>
          <p:cNvPicPr/>
          <p:nvPr/>
        </p:nvPicPr>
        <p:blipFill>
          <a:blip r:embed="rId1"/>
          <a:stretch/>
        </p:blipFill>
        <p:spPr>
          <a:xfrm>
            <a:off x="428760" y="682560"/>
            <a:ext cx="8286480" cy="617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SAWS Summary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Provides complete support for ”consuming” and ”providing” Web Servic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... without requiring installation of infrastructure components like Microsoft IIS, Apache, IBM WebSpher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SAWS also exposes a web page as documenta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8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BD208-E26A-478A-B1F2-C294593D70F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Date Placeholder 3"/>
          <p:cNvSpPr/>
          <p:nvPr/>
        </p:nvSpPr>
        <p:spPr>
          <a:xfrm>
            <a:off x="685800" y="6324480"/>
            <a:ext cx="2671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Conga, SSL &amp; Web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Dyalog’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SAWS Web Pag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8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3CF54-58FD-44C3-89CD-D80309CE5A6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8" name="Picture 2" descr=""/>
          <p:cNvPicPr/>
          <p:nvPr/>
        </p:nvPicPr>
        <p:blipFill>
          <a:blip r:embed="rId1"/>
          <a:stretch/>
        </p:blipFill>
        <p:spPr>
          <a:xfrm>
            <a:off x="571680" y="785880"/>
            <a:ext cx="7669080" cy="5143320"/>
          </a:xfrm>
          <a:prstGeom prst="rect">
            <a:avLst/>
          </a:prstGeom>
          <a:ln w="0">
            <a:noFill/>
          </a:ln>
        </p:spPr>
      </p:pic>
      <p:sp>
        <p:nvSpPr>
          <p:cNvPr id="789" name="Date Placeholder 3"/>
          <p:cNvSpPr/>
          <p:nvPr/>
        </p:nvSpPr>
        <p:spPr>
          <a:xfrm>
            <a:off x="685800" y="6324480"/>
            <a:ext cx="2671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Conga, SSL &amp; Web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Dyalog’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Dyalog’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CD460-D445-4D4D-95DF-D4BD2BD716B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000" spc="-1" strike="noStrike">
                <a:solidFill>
                  <a:srgbClr val="333333"/>
                </a:solidFill>
                <a:latin typeface="Geneva"/>
              </a:rPr>
              <a:t>Summary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71320" y="1928880"/>
            <a:ext cx="80326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95" name="Rectangle 3"/>
          <p:cNvSpPr/>
          <p:nvPr/>
        </p:nvSpPr>
        <p:spPr>
          <a:xfrm>
            <a:off x="723960" y="2081160"/>
            <a:ext cx="80326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”</a:t>
            </a: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Service Oriented Architectures” can help APL integrate with most IT infrastru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”</a:t>
            </a: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Stand-alone” web servers and services are very easier to test AND deplo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Now they are easily secured, they may be all you need for many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(In some situations, there will be still be good reasons to integrate with IIS / Apache et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Date Placeholder 3"/>
          <p:cNvSpPr/>
          <p:nvPr/>
        </p:nvSpPr>
        <p:spPr>
          <a:xfrm>
            <a:off x="685800" y="6324480"/>
            <a:ext cx="2671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Conga, SSL &amp; Web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Conclus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Conga and the SAWS framework provide new, easy-to-use tools for ”web-enabling” Dyalog Applicaton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Conga is already included with v12.0.3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SAWS is available now and will be bundled with v12.1 in 2009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99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00C86-89AF-4959-9A5F-B8D3831D36B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Dyalog’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B98DA-D9C1-4180-953E-8283E8D6376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000" spc="-1" strike="noStrike">
                <a:solidFill>
                  <a:srgbClr val="333333"/>
                </a:solidFill>
                <a:latin typeface="Geneva"/>
              </a:rPr>
              <a:t>Conga - Introduction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Replaces TCPSocket Objects as the PREFERRED tool for communication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TCPSocket Objects are very general and close to the TCP Protocol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Most APL applications only use a small subset of the features of TCP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APL’ers have trouble opening &amp; closing connections and handling errors ”correctly”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8000"/>
              </a:buClr>
              <a:buFont typeface="APL385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da-DK" sz="2400" spc="-1" strike="noStrike">
                <a:solidFill>
                  <a:srgbClr val="333333"/>
                </a:solidFill>
                <a:latin typeface="APL385 Unicode"/>
              </a:rPr>
              <a:t>DQ</a:t>
            </a: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 makes TCPSockets interfere with GUI and multi-tier applications are very hard to code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11" name="Date Placeholder 3"/>
          <p:cNvSpPr/>
          <p:nvPr/>
        </p:nvSpPr>
        <p:spPr>
          <a:xfrm>
            <a:off x="685800" y="6324480"/>
            <a:ext cx="2671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Conga, SSL &amp; Web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Demo: Intro to Conga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1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C5AFC-FF81-459B-8214-56A702F12F3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Date Placeholder 3"/>
          <p:cNvSpPr/>
          <p:nvPr/>
        </p:nvSpPr>
        <p:spPr>
          <a:xfrm>
            <a:off x="685800" y="6324480"/>
            <a:ext cx="2671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Conga, SSL &amp; Web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Picture 3" descr="wyrm2008.jpg"/>
          <p:cNvPicPr/>
          <p:nvPr/>
        </p:nvPicPr>
        <p:blipFill>
          <a:blip r:embed="rId1"/>
          <a:stretch/>
        </p:blipFill>
        <p:spPr>
          <a:xfrm>
            <a:off x="1857240" y="3286080"/>
            <a:ext cx="1428840" cy="132408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3" descr="wyrm2008.jpg"/>
          <p:cNvPicPr/>
          <p:nvPr/>
        </p:nvPicPr>
        <p:blipFill>
          <a:blip r:embed="rId2"/>
          <a:stretch/>
        </p:blipFill>
        <p:spPr>
          <a:xfrm>
            <a:off x="3500280" y="2000160"/>
            <a:ext cx="1428840" cy="132408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3" descr="wyrm2008.jpg"/>
          <p:cNvPicPr/>
          <p:nvPr/>
        </p:nvPicPr>
        <p:blipFill>
          <a:blip r:embed="rId3"/>
          <a:stretch/>
        </p:blipFill>
        <p:spPr>
          <a:xfrm>
            <a:off x="5214960" y="3357720"/>
            <a:ext cx="1428840" cy="132372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3" descr="wyrm2008.jpg"/>
          <p:cNvPicPr/>
          <p:nvPr/>
        </p:nvPicPr>
        <p:blipFill>
          <a:blip r:embed="rId4"/>
          <a:stretch/>
        </p:blipFill>
        <p:spPr>
          <a:xfrm>
            <a:off x="3429000" y="4572000"/>
            <a:ext cx="142884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52175-A96E-446F-86B9-0DDCAB8DC72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11336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4" descr=""/>
          <p:cNvPicPr/>
          <p:nvPr/>
        </p:nvPicPr>
        <p:blipFill>
          <a:blip r:embed="rId2"/>
          <a:stretch/>
        </p:blipFill>
        <p:spPr>
          <a:xfrm>
            <a:off x="3973680" y="709560"/>
            <a:ext cx="5170320" cy="6148440"/>
          </a:xfrm>
          <a:prstGeom prst="rect">
            <a:avLst/>
          </a:prstGeom>
          <a:ln w="0">
            <a:noFill/>
          </a:ln>
        </p:spPr>
      </p:pic>
      <p:sp>
        <p:nvSpPr>
          <p:cNvPr id="627" name="Date Placeholder 3"/>
          <p:cNvSpPr/>
          <p:nvPr/>
        </p:nvSpPr>
        <p:spPr>
          <a:xfrm>
            <a:off x="685800" y="6324480"/>
            <a:ext cx="2671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Conga, SSL &amp; Web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F29AB-B1DE-417A-AF00-7968CF71E7E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000" spc="-1" strike="noStrike">
                <a:solidFill>
                  <a:srgbClr val="333333"/>
                </a:solidFill>
                <a:latin typeface="Geneva"/>
              </a:rPr>
              <a:t>Conga - Summary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Easier to use than TCPSocket objects: More reliable application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Supports multi-tier, multi-threaded applications very well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Supports ”Secure” Communication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Many coding samples: Web Client, Web Server, RPC Server, FTP Client, Time Of Day Server – including Secure Sample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1" name="Date Placeholder 3"/>
          <p:cNvSpPr/>
          <p:nvPr/>
        </p:nvSpPr>
        <p:spPr>
          <a:xfrm>
            <a:off x="685800" y="6324480"/>
            <a:ext cx="2671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Conga, SSL &amp; Web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Dyalog’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Secure Communicat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From version 12.0.3 (August 2008), Conga supports secure communication via TCP/IP using SSL/TLS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Messages can only be read by the intended recipient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The identity of your ”Peer” can be verified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Messages cannot be modified en rout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B4733-C51F-4F8A-A4E0-8C264763FFD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Date Placeholder 3"/>
          <p:cNvSpPr/>
          <p:nvPr/>
        </p:nvSpPr>
        <p:spPr>
          <a:xfrm>
            <a:off x="685800" y="6324480"/>
            <a:ext cx="2671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Conga, SSL &amp; Web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Dyalog’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C743F-670B-475F-83C2-7A48F7EA872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000" spc="-1" strike="noStrike">
                <a:solidFill>
                  <a:srgbClr val="333333"/>
                </a:solidFill>
                <a:latin typeface="Geneva"/>
              </a:rPr>
              <a:t>SSL / TLS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”</a:t>
            </a: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Transport Layer Security” (TLS) replaces old term ”Secure Socket Layer” (SSL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Each user (or ”endpoint”) needs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A public certificat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A private key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And a collection to ”root certificates” from ”certificate authorities”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641" name="Picture 39" descr=""/>
          <p:cNvPicPr/>
          <p:nvPr/>
        </p:nvPicPr>
        <p:blipFill>
          <a:blip r:embed="rId1"/>
          <a:stretch/>
        </p:blipFill>
        <p:spPr>
          <a:xfrm>
            <a:off x="4500720" y="3857760"/>
            <a:ext cx="571320" cy="56016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  <p:pic>
        <p:nvPicPr>
          <p:cNvPr id="642" name="Picture 41" descr="http://tbn0.google.com/images?q=tbn:fGpTeh5UHEQsAM:http://www.purbeck.gov.uk/images/icon_key.gi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714840" y="4429080"/>
            <a:ext cx="571320" cy="57168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  <p:sp>
        <p:nvSpPr>
          <p:cNvPr id="643" name="Date Placeholder 3"/>
          <p:cNvSpPr/>
          <p:nvPr/>
        </p:nvSpPr>
        <p:spPr>
          <a:xfrm>
            <a:off x="685800" y="6324480"/>
            <a:ext cx="2671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Conga, SSL &amp; Web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Dyalog’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6T22:41:42Z</dcterms:created>
  <dc:creator>Gitte Christensen</dc:creator>
  <dc:description/>
  <dc:language>en-US</dc:language>
  <cp:lastModifiedBy>Morten Kromberg</cp:lastModifiedBy>
  <dcterms:modified xsi:type="dcterms:W3CDTF">2008-10-13T20:31:03Z</dcterms:modified>
  <cp:revision>279</cp:revision>
  <dc:subject/>
  <dc:title>Rolling the Process</dc:title>
</cp:coreProperties>
</file>