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59.png" ContentType="image/png"/>
  <Override PartName="/ppt/media/image4.wmf" ContentType="image/x-wmf"/>
  <Override PartName="/ppt/media/image81.wmf" ContentType="image/x-wmf"/>
  <Override PartName="/ppt/media/image56.png" ContentType="image/png"/>
  <Override PartName="/ppt/media/image13.wmf" ContentType="image/x-wmf"/>
  <Override PartName="/ppt/media/image55.png" ContentType="image/png"/>
  <Override PartName="/ppt/media/image53.png" ContentType="image/png"/>
  <Override PartName="/ppt/media/image10.wmf" ContentType="image/x-wmf"/>
  <Override PartName="/ppt/media/image51.png" ContentType="image/png"/>
  <Override PartName="/ppt/media/image50.png" ContentType="image/png"/>
  <Override PartName="/ppt/media/image48.wmf" ContentType="image/x-wmf"/>
  <Override PartName="/ppt/media/image46.wmf" ContentType="image/x-wmf"/>
  <Override PartName="/ppt/media/image89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7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2.png" ContentType="image/png"/>
  <Override PartName="/ppt/media/image30.png" ContentType="image/png"/>
  <Override PartName="/ppt/media/image28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40.png" ContentType="image/png"/>
  <Override PartName="/ppt/media/image38.wmf" ContentType="image/x-wmf"/>
  <Override PartName="/ppt/media/image8.wmf" ContentType="image/x-wmf"/>
  <Override PartName="/ppt/media/image7.wmf" ContentType="image/x-wmf"/>
  <Override PartName="/ppt/media/image84.wmf" ContentType="image/x-wmf"/>
  <Override PartName="/ppt/media/image49.png" ContentType="image/png"/>
  <Override PartName="/ppt/media/image100.png" ContentType="image/png"/>
  <Override PartName="/ppt/media/image12.png" ContentType="image/png"/>
  <Override PartName="/ppt/media/image47.jpeg" ContentType="image/jpeg"/>
  <Override PartName="/ppt/media/image68.png" ContentType="image/png"/>
  <Override PartName="/ppt/media/image90.wmf" ContentType="image/x-wmf"/>
  <Override PartName="/ppt/media/image6.wmf" ContentType="image/x-wmf"/>
  <Override PartName="/ppt/media/image66.wmf" ContentType="image/x-wmf"/>
  <Override PartName="/ppt/media/image67.png" ContentType="image/png"/>
  <Override PartName="/ppt/media/image70.png" ContentType="image/png"/>
  <Override PartName="/ppt/media/image69.png" ContentType="image/png"/>
  <Override PartName="/ppt/media/image71.png" ContentType="image/png"/>
  <Override PartName="/ppt/media/image72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wmf" ContentType="image/x-wmf"/>
  <Override PartName="/ppt/media/image99.png" ContentType="image/png"/>
  <Override PartName="/ppt/media/image62.png" ContentType="image/png"/>
  <Override PartName="/ppt/media/image87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19.png" ContentType="image/png"/>
  <Override PartName="/ppt/media/image97.png" ContentType="image/png"/>
  <Override PartName="/ppt/media/image60.png" ContentType="image/png"/>
  <Override PartName="/ppt/media/image85.png" ContentType="image/png"/>
  <Override PartName="/ppt/media/image96.png" ContentType="image/png"/>
  <Override PartName="/ppt/media/image17.png" ContentType="image/png"/>
  <Override PartName="/ppt/media/image95.png" ContentType="image/png"/>
  <Override PartName="/ppt/media/image16.png" ContentType="image/png"/>
  <Override PartName="/ppt/media/image93.wmf" ContentType="image/x-wmf"/>
  <Override PartName="/ppt/media/image92.png" ContentType="image/png"/>
  <Override PartName="/ppt/media/image73.wmf" ContentType="image/x-wmf"/>
  <Override PartName="/ppt/media/image88.png" ContentType="image/png"/>
  <Override PartName="/ppt/media/image64.wmf" ContentType="image/x-wmf"/>
  <Override PartName="/ppt/media/image24.png" ContentType="image/png"/>
  <Override PartName="/ppt/media/image79.png" ContentType="image/png"/>
  <Override PartName="/ppt/media/image80.png" ContentType="image/png"/>
  <Override PartName="/ppt/media/image78.png" ContentType="image/png"/>
  <Override PartName="/ppt/media/image29.png" ContentType="image/png"/>
  <Override PartName="/ppt/media/image94.png" ContentType="image/png"/>
  <Override PartName="/ppt/media/image26.png" ContentType="image/png"/>
  <Override PartName="/ppt/media/image91.png" ContentType="image/png"/>
  <Override PartName="/ppt/media/image23.png" ContentType="image/png"/>
  <Override PartName="/ppt/media/image22.wmf" ContentType="image/x-wmf"/>
  <Override PartName="/ppt/media/image65.png" ContentType="image/png"/>
  <Override PartName="/ppt/media/image21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83.png" ContentType="image/png"/>
  <Override PartName="/ppt/media/image54.png" ContentType="image/png"/>
  <Override PartName="/ppt/media/image3.wmf" ContentType="image/x-wmf"/>
  <Override PartName="/ppt/media/image58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2.jpeg" ContentType="image/jpeg"/>
  <Override PartName="/ppt/media/image31.png" ContentType="image/png"/>
  <Override PartName="/ppt/media/image52.png" ContentType="image/png"/>
  <Override PartName="/ppt/media/image5.wmf" ContentType="image/x-wmf"/>
  <Override PartName="/ppt/media/image82.wmf" ContentType="image/x-wmf"/>
  <Override PartName="/ppt/media/image27.jpeg" ContentType="image/jpeg"/>
  <Override PartName="/ppt/media/image25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E41A-31C8-4CF1-9CAB-07FEE413F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7A44-490F-410C-A873-2C43F3A2A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 or Y or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8A7E-19C4-4837-9C40-A1A6EB82A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 or Y or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11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EDBF-9E15-4781-9F0E-F2CC4481F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2DB0-0966-4527-AA08-E57ADF4BE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ice the {circle} to edit the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0748-D4A9-43CD-901C-29D112576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functions accept ‘?’ to show how they work. Versions will be discussed s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D53A-A957-4539-9A19-22F0CC14E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pace is used to delimit arguments; if the arg is to include spaces surround it with "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F04A-A4C8-4B46-841C-4CAF11AD3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pace is used to delimit arguments; if the arg is to include spaces surround it with "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1D39-F1CB-47C9-82FA-95D0D60AD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me of the class does NOT need to match the name of the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F208-8983-4F9A-BCF5-E689FA030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2067-A69E-47DC-9FE6-2699E3317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ttern a la DOS can be supplied although the behaviour will be different than from U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9F1A-FA18-423F-948D-86D3FAF7A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ly folders in this 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6F48-D858-4A19-8BD4-3CC1AD85B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ly files in this 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9A68-668D-42BC-8919-73BE331D6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53CD-4833-42A5-B5CE-E422C56AF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0E7F-3CFE-45DE-A94F-644C4A907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difiers are preceded by a dash a la U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5988-F7ED-4EFC-859B-8627F49D8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me needs not match the registry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6361-F132-45BC-A4DD-34467F483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pad is found thanks to the OS PATH, no need to include i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95D2-1B27-4FF9-A6BE-EEE49986F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ull path to the program really should b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9E4D-1EAB-4E0D-9A51-C7BF66332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3502-8841-4FA5-91D5-D855C0F51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est may NOT be most recent. It also works with 2 different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0785-5E1A-45F0-B58A-9573194A7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’ or emp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4E3C-8FAE-4DA9-9B3D-71AA5CE12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’ or emp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E592-3308-4730-BC36-71F695ECE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lass in the ws whose versions on file have been deleted won’t be aware of that and subsequent save will keep using version numb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339E-C788-4F42-8264-17A6C4382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ast message is to remind the user that any class depending on this file may no longer hold valid 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3FB4-4FDD-429C-9E31-8B153BF8C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cript does not have to contain the same name for the class/name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7E5F-67E0-4484-A4CB-24F5FA46E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yClass is really TB under the co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9D49-4F37-4D53-9A55-69E62CF77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CF6E-1009-4D03-AA82-4F2DABE7C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 or Y or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FA69-CBC9-4570-AF1D-76676378E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5BB5-769C-4D03-A038-6AEC8D47C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B33E-3C5F-48F0-A5C6-0BC00AED5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3095-D003-4301-8BC0-581A475D6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D670-DB26-4124-AB85-C36D83CCE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CC1C-8886-4FBD-9DBA-1866595C8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65E7-58A4-4C3B-8C1D-3B0B63BB3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5178-E159-4614-8603-21B10D039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7DF6-CA55-4EAC-BEB9-B04025023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A47A-C9DB-416B-8015-32F29618A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00FE-4B6A-4B1D-9D1A-3765A90F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98A3-7231-4BE9-94AD-2D1B02DF3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14EE-B949-49A6-AAD5-484DE9A62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BE50-7A5C-44C6-828B-AC58F242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E64C-F191-4F1F-8DC8-02B9584F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16B6-23AD-4586-A187-DFBA7E33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EEBA-E33D-4898-8A95-D3A04F9D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98F0-79BD-4960-AE27-0D5956F6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A8C9-E784-466F-A06D-8CDA7228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6D56-BA9E-498D-A621-AB5CCCF2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79CF-1267-4B92-8073-60FDF392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24000" y="6381360"/>
            <a:ext cx="2248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84720" y="6337080"/>
            <a:ext cx="69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51B7-62F0-4B5D-B45C-C321ECFCD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WordArt 8"/>
          <p:cNvSpPr txBox="1"/>
          <p:nvPr/>
        </p:nvSpPr>
        <p:spPr>
          <a:xfrm>
            <a:off x="1258920" y="1700280"/>
            <a:ext cx="6710400" cy="42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ffff">
                    <a:alpha val="41000"/>
                  </a:srgbClr>
                </a:solidFill>
                <a:latin typeface="Arial Black"/>
              </a:rPr>
              <a:t>SALT</a:t>
            </a:r>
            <a:endParaRPr b="0" lang="en-US" sz="1800" spc="1" strike="noStrike">
              <a:ln w="0">
                <a:noFill/>
              </a:ln>
              <a:solidFill>
                <a:srgbClr val="ccffff">
                  <a:alpha val="41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6" name="Picture 9" descr="dyalog_noapl"/>
          <p:cNvPicPr/>
          <p:nvPr/>
        </p:nvPicPr>
        <p:blipFill>
          <a:blip r:embed="rId2"/>
          <a:stretch/>
        </p:blipFill>
        <p:spPr>
          <a:xfrm>
            <a:off x="250920" y="189000"/>
            <a:ext cx="2382840" cy="4492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0" descr="pdfgreyline"/>
          <p:cNvPicPr/>
          <p:nvPr/>
        </p:nvPicPr>
        <p:blipFill>
          <a:blip r:embed="rId3"/>
          <a:stretch/>
        </p:blipFill>
        <p:spPr>
          <a:xfrm>
            <a:off x="279360" y="692280"/>
            <a:ext cx="8604360" cy="1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wmf"/><Relationship Id="rId3" Type="http://schemas.openxmlformats.org/officeDocument/2006/relationships/image" Target="../media/image6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wmf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66.wmf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wmf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3.wmf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3.wmf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2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2.wmf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image" Target="../media/image87.png"/><Relationship Id="rId4" Type="http://schemas.openxmlformats.org/officeDocument/2006/relationships/image" Target="../media/image88.png"/><Relationship Id="rId5" Type="http://schemas.openxmlformats.org/officeDocument/2006/relationships/image" Target="../media/image84.wmf"/><Relationship Id="rId6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wmf"/><Relationship Id="rId3" Type="http://schemas.openxmlformats.org/officeDocument/2006/relationships/image" Target="../media/image91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90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94.png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9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96.png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9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9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9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10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470C-71A5-45DD-8B79-622C0587D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Book Antiqua"/>
              </a:rPr>
              <a:t>SALT in Dyalo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4500360"/>
            <a:ext cx="6400800" cy="44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1.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7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2C13-CEE5-42CB-B279-F844D728B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registry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KEY_CURRENT_USER\Software\Dyalog\Dyalog APL/W 12.0\SALT\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AddS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ST have the value ‘1’ for SALT to be enab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ce this key is set all subsequent sessions will have SALT enabled until this key is changed back to ‘0’ (not ‘1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MCj03078450000[1]"/>
          <p:cNvPicPr/>
          <p:nvPr/>
        </p:nvPicPr>
        <p:blipFill>
          <a:blip r:embed="rId1"/>
          <a:stretch/>
        </p:blipFill>
        <p:spPr>
          <a:xfrm>
            <a:off x="6877080" y="476280"/>
            <a:ext cx="1828800" cy="16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7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DE52-1234-4E21-848A-E8F8747C6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6337440" cy="43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lso use the included SALT workspace to enable or disable SAL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load S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S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bleS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MCj03078450000[1]"/>
          <p:cNvPicPr/>
          <p:nvPr/>
        </p:nvPicPr>
        <p:blipFill>
          <a:blip r:embed="rId1"/>
          <a:stretch/>
        </p:blipFill>
        <p:spPr>
          <a:xfrm>
            <a:off x="6877080" y="476280"/>
            <a:ext cx="1828800" cy="1630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2"/>
          <a:stretch/>
        </p:blipFill>
        <p:spPr>
          <a:xfrm>
            <a:off x="3348000" y="2617920"/>
            <a:ext cx="4897440" cy="4016160"/>
          </a:xfrm>
          <a:prstGeom prst="rect">
            <a:avLst/>
          </a:prstGeom>
          <a:ln w="0">
            <a:noFill/>
          </a:ln>
        </p:spPr>
      </p:pic>
      <p:sp>
        <p:nvSpPr>
          <p:cNvPr id="108" name="Oval 7"/>
          <p:cNvSpPr/>
          <p:nvPr/>
        </p:nvSpPr>
        <p:spPr>
          <a:xfrm>
            <a:off x="3400560" y="3857760"/>
            <a:ext cx="1104840" cy="57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42B0-9F4C-4FBA-AB70-AA856EC2B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art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3624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on starting Dyalog SALT will identify itsel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1038240" y="2276640"/>
            <a:ext cx="7134120" cy="36097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1042920" y="3357720"/>
            <a:ext cx="6769080" cy="57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MCj03113240000[1]"/>
          <p:cNvPicPr/>
          <p:nvPr/>
        </p:nvPicPr>
        <p:blipFill>
          <a:blip r:embed="rId2"/>
          <a:stretch/>
        </p:blipFill>
        <p:spPr>
          <a:xfrm>
            <a:off x="7380360" y="189000"/>
            <a:ext cx="153504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C512-93D2-454C-BEE6-BB1BDC591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362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can now store any sourced obje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7134120" cy="3609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MCj02909400000[1]"/>
          <p:cNvPicPr/>
          <p:nvPr/>
        </p:nvPicPr>
        <p:blipFill>
          <a:blip r:embed="rId2"/>
          <a:stretch/>
        </p:blipFill>
        <p:spPr>
          <a:xfrm>
            <a:off x="7451640" y="333360"/>
            <a:ext cx="1333440" cy="17319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2"/>
          <p:cNvSpPr/>
          <p:nvPr/>
        </p:nvSpPr>
        <p:spPr>
          <a:xfrm>
            <a:off x="665280" y="3429000"/>
            <a:ext cx="6551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1" descr=""/>
          <p:cNvPicPr/>
          <p:nvPr/>
        </p:nvPicPr>
        <p:blipFill>
          <a:blip r:embed="rId3"/>
          <a:stretch/>
        </p:blipFill>
        <p:spPr>
          <a:xfrm>
            <a:off x="2843280" y="3429000"/>
            <a:ext cx="289548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F37C-6FC2-4A0A-AE6F-9B67D22CB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2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7201080" cy="32925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Sav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84362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akes a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</a:rPr>
              <a:t>str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argument. To find its syntax give it a single ‘?’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9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130" name="Picture 4" descr="MCj02909400000[1]"/>
            <p:cNvPicPr/>
            <p:nvPr/>
          </p:nvPicPr>
          <p:blipFill>
            <a:blip r:embed="rId2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AutoShape 5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Rectangle 7"/>
          <p:cNvSpPr/>
          <p:nvPr/>
        </p:nvSpPr>
        <p:spPr>
          <a:xfrm>
            <a:off x="2157480" y="3898800"/>
            <a:ext cx="792000" cy="196920"/>
          </a:xfrm>
          <a:prstGeom prst="rect">
            <a:avLst/>
          </a:prstGeom>
          <a:solidFill>
            <a:srgbClr val="009999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1628640" y="3897360"/>
            <a:ext cx="457200" cy="20808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0"/>
          <p:cNvSpPr/>
          <p:nvPr/>
        </p:nvSpPr>
        <p:spPr>
          <a:xfrm>
            <a:off x="2814480" y="3673440"/>
            <a:ext cx="35892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5938-DE21-4561-B56A-893FBBC36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4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7200720" cy="32925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Sav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3624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k SALT to store it in a specific pa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1004760" y="3476520"/>
            <a:ext cx="16225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203640" y="3284640"/>
            <a:ext cx="934920" cy="215640"/>
          </a:xfrm>
          <a:prstGeom prst="rect">
            <a:avLst/>
          </a:prstGeom>
          <a:solidFill>
            <a:srgbClr val="009999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2771640" y="3284640"/>
            <a:ext cx="358920" cy="21564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1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144" name="Picture 12" descr="MCj02909400000[1]"/>
            <p:cNvPicPr/>
            <p:nvPr/>
          </p:nvPicPr>
          <p:blipFill>
            <a:blip r:embed="rId2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AutoShape 13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C313-F5B9-4824-A663-09B947EB5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4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7200720" cy="32925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Sav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36240" cy="8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k SALT to store it in a relative pa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2771640" y="3284640"/>
            <a:ext cx="358920" cy="21564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1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153" name="Picture 12" descr="MCj02909400000[1]"/>
            <p:cNvPicPr/>
            <p:nvPr/>
          </p:nvPicPr>
          <p:blipFill>
            <a:blip r:embed="rId2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AutoShape 13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12"/>
          <p:cNvSpPr/>
          <p:nvPr/>
        </p:nvSpPr>
        <p:spPr>
          <a:xfrm>
            <a:off x="3143160" y="3286080"/>
            <a:ext cx="11430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ine\tes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3214800" y="3286080"/>
            <a:ext cx="934920" cy="216000"/>
          </a:xfrm>
          <a:prstGeom prst="rect">
            <a:avLst/>
          </a:prstGeom>
          <a:solidFill>
            <a:srgbClr val="009999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1052640" y="3500280"/>
            <a:ext cx="1500120" cy="2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977760" y="3500280"/>
            <a:ext cx="37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:\Program Files\Dyalog\V12\SALT\mine\test.Dya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1000080" y="3500280"/>
            <a:ext cx="3643200" cy="2858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1187-DB97-43FE-BA29-D5E1C751D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4362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default SALT will store the source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ＭＳ 明朝"/>
              </a:rPr>
              <a:t>[Dyalog]\SALT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明朝"/>
              </a:rPr>
              <a:t>where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ＭＳ 明朝"/>
              </a:rPr>
              <a:t> [Dyalog]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明朝"/>
              </a:rPr>
              <a:t>is the installation lo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will replace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ＭＳ 明朝"/>
              </a:rPr>
              <a:t>[Dyalog]</a:t>
            </a:r>
            <a:r>
              <a:rPr b="0" lang="en-US" sz="3200" spc="-1" strike="noStrike">
                <a:solidFill>
                  <a:srgbClr val="33cc33"/>
                </a:solidFill>
                <a:latin typeface="Verdana"/>
                <a:ea typeface="ＭＳ 明朝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by whatever location Dyalog is installe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明朝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7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165" name="Picture 8" descr="MCj02909400000[1]"/>
            <p:cNvPicPr/>
            <p:nvPr/>
          </p:nvPicPr>
          <p:blipFill>
            <a:blip r:embed="rId1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AutoShape 9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9DD7-490F-4666-8183-F41F29A8C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re Dyalog was installed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:\Program Files\Dyalog\V12 and the installation location was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[Dyalog]\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o the sources will all be stored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:\Program Files\Dyalog\V12\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nce we asked to store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t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under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</a:rPr>
              <a:t>mine\t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final path, after adding the extension,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:\Program Files\Dyalog\V12\SALT\mine\test.Dya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212760" y="2276640"/>
            <a:ext cx="5400720" cy="431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212760" y="3860640"/>
            <a:ext cx="6591240" cy="432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2917800" y="2800440"/>
            <a:ext cx="2733840" cy="431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250920" y="5464080"/>
            <a:ext cx="8424720" cy="432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1"/>
          <p:cNvGrpSpPr/>
          <p:nvPr/>
        </p:nvGrpSpPr>
        <p:grpSpPr>
          <a:xfrm>
            <a:off x="6948360" y="44280"/>
            <a:ext cx="2125440" cy="1731960"/>
            <a:chOff x="6948360" y="44280"/>
            <a:chExt cx="2125440" cy="1731960"/>
          </a:xfrm>
        </p:grpSpPr>
        <p:pic>
          <p:nvPicPr>
            <p:cNvPr id="176" name="Picture 12" descr="MCj02909400000[1]"/>
            <p:cNvPicPr/>
            <p:nvPr/>
          </p:nvPicPr>
          <p:blipFill>
            <a:blip r:embed="rId1"/>
            <a:stretch/>
          </p:blipFill>
          <p:spPr>
            <a:xfrm>
              <a:off x="77403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AutoShape 13"/>
            <p:cNvSpPr/>
            <p:nvPr/>
          </p:nvSpPr>
          <p:spPr>
            <a:xfrm>
              <a:off x="69483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9ED3-0F5A-4F01-9C84-6A39FE395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4362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 different location is desired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orkdi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etting must be modified</a:t>
            </a:r>
            <a:r>
              <a:rPr b="0" lang="en-US" sz="2800" spc="-1" strike="noStrike">
                <a:solidFill>
                  <a:srgbClr val="33cc33"/>
                </a:solidFill>
                <a:latin typeface="Verdana"/>
                <a:ea typeface="ＭＳ 明朝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to specify the loc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明朝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For example you could decide that all scripts go under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  <a:ea typeface="ＭＳ 明朝"/>
              </a:rPr>
              <a:t>\CMS\DYW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instead of the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5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183" name="Picture 6" descr="MCj02909400000[1]"/>
            <p:cNvPicPr/>
            <p:nvPr/>
          </p:nvPicPr>
          <p:blipFill>
            <a:blip r:embed="rId1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AutoShape 7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Picture 8" descr=""/>
          <p:cNvPicPr/>
          <p:nvPr/>
        </p:nvPicPr>
        <p:blipFill>
          <a:blip r:embed="rId2"/>
          <a:stretch/>
        </p:blipFill>
        <p:spPr>
          <a:xfrm>
            <a:off x="2411280" y="4292640"/>
            <a:ext cx="433404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DE4B-FF27-4597-A68F-7AAD8F303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fd00252_"/>
          <p:cNvPicPr/>
          <p:nvPr/>
        </p:nvPicPr>
        <p:blipFill>
          <a:blip r:embed="rId1"/>
          <a:stretch/>
        </p:blipFill>
        <p:spPr>
          <a:xfrm>
            <a:off x="7451640" y="1989000"/>
            <a:ext cx="1208160" cy="23749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3008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mple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L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rary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olk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source code management system for Classes and script-based Namespaces in Dyalog AP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DFBD-5FA0-419C-BCFF-D62F9EA95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iewing the file in Notep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7345440" cy="4746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"/>
          <p:cNvPicPr/>
          <p:nvPr/>
        </p:nvPicPr>
        <p:blipFill>
          <a:blip r:embed="rId2"/>
          <a:stretch/>
        </p:blipFill>
        <p:spPr>
          <a:xfrm>
            <a:off x="3492360" y="4005360"/>
            <a:ext cx="3384720" cy="176508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6"/>
          <p:cNvSpPr/>
          <p:nvPr/>
        </p:nvSpPr>
        <p:spPr>
          <a:xfrm>
            <a:off x="2053080" y="3357720"/>
            <a:ext cx="649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uble click the file opens with Note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MCj03080910000[1]"/>
          <p:cNvPicPr/>
          <p:nvPr/>
        </p:nvPicPr>
        <p:blipFill>
          <a:blip r:embed="rId3"/>
          <a:stretch/>
        </p:blipFill>
        <p:spPr>
          <a:xfrm>
            <a:off x="7688160" y="115920"/>
            <a:ext cx="145584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02C9-E5FC-4067-B033-0A8F75016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sting folder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7258320" cy="30384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753480" y="1628640"/>
            <a:ext cx="742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i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akes a pathname as argument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its cont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6"/>
          <p:cNvSpPr/>
          <p:nvPr/>
        </p:nvSpPr>
        <p:spPr>
          <a:xfrm>
            <a:off x="7596360" y="260280"/>
            <a:ext cx="1223640" cy="7923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1804-902F-44F6-9731-44B2AB28D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sting folder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753120" y="1628640"/>
            <a:ext cx="72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list the contents of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udy\GU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7596360" y="260280"/>
            <a:ext cx="1223640" cy="7923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"/>
          <p:cNvPicPr/>
          <p:nvPr/>
        </p:nvPicPr>
        <p:blipFill>
          <a:blip r:embed="rId1"/>
          <a:stretch/>
        </p:blipFill>
        <p:spPr>
          <a:xfrm>
            <a:off x="1835280" y="2414520"/>
            <a:ext cx="561636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A551-25C2-4461-8553-0D1D0FD31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9" descr=""/>
          <p:cNvPicPr/>
          <p:nvPr/>
        </p:nvPicPr>
        <p:blipFill>
          <a:blip r:embed="rId1"/>
          <a:stretch/>
        </p:blipFill>
        <p:spPr>
          <a:xfrm>
            <a:off x="2224080" y="2060640"/>
            <a:ext cx="5045040" cy="42894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sting folder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754200" y="1413000"/>
            <a:ext cx="634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list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recursivel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7596360" y="260280"/>
            <a:ext cx="1223640" cy="7923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3794040" y="2679840"/>
            <a:ext cx="825480" cy="215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F09F-1716-4929-A80A-E0BE75E5F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Explo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llows to look at a script with an external editor or to browse using the OS’ explor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1116000" y="3284640"/>
            <a:ext cx="6858000" cy="27432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telescop"/>
          <p:cNvPicPr/>
          <p:nvPr/>
        </p:nvPicPr>
        <p:blipFill>
          <a:blip r:embed="rId2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03F7-4ABB-41D8-B32B-29281F544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ol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ring a folder merely opens up the disk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xplor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exploring folder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6858000" cy="1828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2"/>
          <a:stretch/>
        </p:blipFill>
        <p:spPr>
          <a:xfrm>
            <a:off x="3348000" y="3645000"/>
            <a:ext cx="5448240" cy="26953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telescop"/>
          <p:cNvPicPr/>
          <p:nvPr/>
        </p:nvPicPr>
        <p:blipFill>
          <a:blip r:embed="rId3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AA0B-2962-4AF8-8719-959E7DBA5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ol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exploring folder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\GU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4962600" cy="18288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"/>
          <p:cNvPicPr/>
          <p:nvPr/>
        </p:nvPicPr>
        <p:blipFill>
          <a:blip r:embed="rId2"/>
          <a:stretch/>
        </p:blipFill>
        <p:spPr>
          <a:xfrm>
            <a:off x="3564000" y="3213000"/>
            <a:ext cx="5057640" cy="2924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telescop"/>
          <p:cNvPicPr/>
          <p:nvPr/>
        </p:nvPicPr>
        <p:blipFill>
          <a:blip r:embed="rId3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502C-5C82-44B6-9171-62AB7984E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ring a file opens up the file with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exploring fil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\GUI\Othell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1"/>
          <a:stretch/>
        </p:blipFill>
        <p:spPr>
          <a:xfrm>
            <a:off x="468360" y="3068640"/>
            <a:ext cx="4962600" cy="18288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"/>
          <p:cNvPicPr/>
          <p:nvPr/>
        </p:nvPicPr>
        <p:blipFill>
          <a:blip r:embed="rId2"/>
          <a:stretch/>
        </p:blipFill>
        <p:spPr>
          <a:xfrm>
            <a:off x="4067280" y="2997360"/>
            <a:ext cx="4228920" cy="3324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telescop"/>
          <p:cNvPicPr/>
          <p:nvPr/>
        </p:nvPicPr>
        <p:blipFill>
          <a:blip r:embed="rId3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1AFF-EE00-44CC-A3BE-996EF4CCE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the program us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change this use the SALT setting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edito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[]SE.SALT.Setting ’editor  ...\</a:t>
            </a:r>
            <a:r>
              <a:rPr b="0" i="1" lang="en-GB" sz="3200" spc="-1" strike="noStrike">
                <a:solidFill>
                  <a:srgbClr val="33cc33"/>
                </a:solidFill>
                <a:latin typeface="Arial"/>
              </a:rPr>
              <a:t>WordPad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use another program for just this time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modifier 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–u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ith the name of the program to use e.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[]SE.SALT.Explore’Othello –use=...\</a:t>
            </a:r>
            <a:r>
              <a:rPr b="0" i="1" lang="en-GB" sz="3200" spc="-1" strike="noStrike">
                <a:solidFill>
                  <a:srgbClr val="33cc33"/>
                </a:solidFill>
                <a:latin typeface="Arial"/>
              </a:rPr>
              <a:t>WordPad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7" descr="telescop"/>
          <p:cNvPicPr/>
          <p:nvPr/>
        </p:nvPicPr>
        <p:blipFill>
          <a:blip r:embed="rId1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705E-4B1A-4D63-8D2D-99745A529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s can be brought back from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rough the use of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8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249" name="Picture 4" descr="MCj02909400000[1]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AutoShape 5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1" name="Picture 6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3743280" cy="1942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"/>
          <p:cNvPicPr/>
          <p:nvPr/>
        </p:nvPicPr>
        <p:blipFill>
          <a:blip r:embed="rId3"/>
          <a:stretch/>
        </p:blipFill>
        <p:spPr>
          <a:xfrm>
            <a:off x="4284720" y="3357720"/>
            <a:ext cx="3352680" cy="21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479F-92B8-4156-880B-45E849426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j0088414"/>
          <p:cNvPicPr/>
          <p:nvPr/>
        </p:nvPicPr>
        <p:blipFill>
          <a:blip r:embed="rId1"/>
          <a:stretch/>
        </p:blipFill>
        <p:spPr>
          <a:xfrm>
            <a:off x="2411280" y="260280"/>
            <a:ext cx="4262400" cy="59054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as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5560" y="1844280"/>
            <a:ext cx="850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consists in a series of functions stored in []SE to manipulate the source ([]SRC) of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rce code for each object (function or namespace) is stored in a single Unicode text file with a file extension of “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yalo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functions take a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tr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do their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tr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escribes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rgumen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possibly som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-modifier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th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047F-4ABA-4245-B80D-5D49E3BF2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default objects are brought in the current namespace. To select a different namespace use the –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arg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9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258" name="Picture 10" descr="MCj02909400000[1]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AutoShape 11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Picture 13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3752640" cy="263844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2"/>
          <p:cNvSpPr/>
          <p:nvPr/>
        </p:nvSpPr>
        <p:spPr>
          <a:xfrm>
            <a:off x="3059280" y="4724280"/>
            <a:ext cx="9349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4" descr=""/>
          <p:cNvPicPr/>
          <p:nvPr/>
        </p:nvPicPr>
        <p:blipFill>
          <a:blip r:embed="rId3"/>
          <a:stretch/>
        </p:blipFill>
        <p:spPr>
          <a:xfrm>
            <a:off x="4788000" y="3716280"/>
            <a:ext cx="3066840" cy="1581120"/>
          </a:xfrm>
          <a:prstGeom prst="rect">
            <a:avLst/>
          </a:prstGeom>
          <a:ln w="0">
            <a:noFill/>
          </a:ln>
        </p:spPr>
      </p:pic>
      <p:sp>
        <p:nvSpPr>
          <p:cNvPr id="263" name="Oval 15"/>
          <p:cNvSpPr/>
          <p:nvPr/>
        </p:nvSpPr>
        <p:spPr>
          <a:xfrm>
            <a:off x="1457280" y="5138640"/>
            <a:ext cx="7192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6"/>
          <p:cNvSpPr/>
          <p:nvPr/>
        </p:nvSpPr>
        <p:spPr>
          <a:xfrm>
            <a:off x="4788000" y="3751200"/>
            <a:ext cx="93492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DBDE-1CCE-4F64-BDFB-ADFB57701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default all the functions and variables in a namespace are kept in their namesp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9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270" name="Picture 10" descr="MCj02909400000[1]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AutoShape 11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Rectangle 14"/>
          <p:cNvSpPr/>
          <p:nvPr/>
        </p:nvSpPr>
        <p:spPr>
          <a:xfrm>
            <a:off x="642960" y="2857680"/>
            <a:ext cx="3286080" cy="2571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8"/>
          <p:cNvGrpSpPr/>
          <p:nvPr/>
        </p:nvGrpSpPr>
        <p:grpSpPr>
          <a:xfrm>
            <a:off x="5929200" y="2928960"/>
            <a:ext cx="2214720" cy="1000080"/>
            <a:chOff x="5929200" y="2928960"/>
            <a:chExt cx="2214720" cy="1000080"/>
          </a:xfrm>
        </p:grpSpPr>
        <p:sp>
          <p:nvSpPr>
            <p:cNvPr id="274" name="Rounded Rectangle 15"/>
            <p:cNvSpPr/>
            <p:nvPr/>
          </p:nvSpPr>
          <p:spPr>
            <a:xfrm>
              <a:off x="5929200" y="2928960"/>
              <a:ext cx="2214720" cy="1000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6"/>
            <p:cNvSpPr/>
            <p:nvPr/>
          </p:nvSpPr>
          <p:spPr>
            <a:xfrm>
              <a:off x="6214680" y="3214440"/>
              <a:ext cx="571320" cy="4284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n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7"/>
            <p:cNvSpPr/>
            <p:nvPr/>
          </p:nvSpPr>
          <p:spPr>
            <a:xfrm>
              <a:off x="7286760" y="3214440"/>
              <a:ext cx="571320" cy="4284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n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Box 19"/>
          <p:cNvSpPr/>
          <p:nvPr/>
        </p:nvSpPr>
        <p:spPr>
          <a:xfrm>
            <a:off x="1708560" y="557208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rget=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ight Arrow 20"/>
          <p:cNvSpPr/>
          <p:nvPr/>
        </p:nvSpPr>
        <p:spPr>
          <a:xfrm flipH="1">
            <a:off x="3499560" y="3286080"/>
            <a:ext cx="2357640" cy="42876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21"/>
          <p:cNvGrpSpPr/>
          <p:nvPr/>
        </p:nvGrpSpPr>
        <p:grpSpPr>
          <a:xfrm>
            <a:off x="1143000" y="3000240"/>
            <a:ext cx="2214720" cy="1000440"/>
            <a:chOff x="1143000" y="3000240"/>
            <a:chExt cx="2214720" cy="1000440"/>
          </a:xfrm>
        </p:grpSpPr>
        <p:sp>
          <p:nvSpPr>
            <p:cNvPr id="280" name="Rounded Rectangle 22"/>
            <p:cNvSpPr/>
            <p:nvPr/>
          </p:nvSpPr>
          <p:spPr>
            <a:xfrm>
              <a:off x="1143000" y="3000240"/>
              <a:ext cx="2214720" cy="1000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3"/>
            <p:cNvSpPr/>
            <p:nvPr/>
          </p:nvSpPr>
          <p:spPr>
            <a:xfrm>
              <a:off x="1428480" y="3286080"/>
              <a:ext cx="571320" cy="42876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n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4"/>
            <p:cNvSpPr/>
            <p:nvPr/>
          </p:nvSpPr>
          <p:spPr>
            <a:xfrm>
              <a:off x="2500560" y="3286080"/>
              <a:ext cx="571320" cy="42876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n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199F-EB98-4236-8D6D-3FF98ED9F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7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bring them separately you can use the –disperse modif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9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288" name="Picture 10" descr="MCj02909400000[1]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AutoShape 11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0"/>
          <p:cNvSpPr/>
          <p:nvPr/>
        </p:nvSpPr>
        <p:spPr>
          <a:xfrm>
            <a:off x="642960" y="2857680"/>
            <a:ext cx="3286080" cy="2571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12"/>
          <p:cNvGrpSpPr/>
          <p:nvPr/>
        </p:nvGrpSpPr>
        <p:grpSpPr>
          <a:xfrm>
            <a:off x="5929200" y="2928960"/>
            <a:ext cx="2214720" cy="1000080"/>
            <a:chOff x="5929200" y="2928960"/>
            <a:chExt cx="2214720" cy="1000080"/>
          </a:xfrm>
        </p:grpSpPr>
        <p:sp>
          <p:nvSpPr>
            <p:cNvPr id="292" name="Rounded Rectangle 14"/>
            <p:cNvSpPr/>
            <p:nvPr/>
          </p:nvSpPr>
          <p:spPr>
            <a:xfrm>
              <a:off x="5929200" y="2928960"/>
              <a:ext cx="2214720" cy="1000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5"/>
            <p:cNvSpPr/>
            <p:nvPr/>
          </p:nvSpPr>
          <p:spPr>
            <a:xfrm>
              <a:off x="6214680" y="3214440"/>
              <a:ext cx="571320" cy="4284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n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6"/>
            <p:cNvSpPr/>
            <p:nvPr/>
          </p:nvSpPr>
          <p:spPr>
            <a:xfrm>
              <a:off x="7286760" y="3214440"/>
              <a:ext cx="571320" cy="4284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n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TextBox 17"/>
          <p:cNvSpPr/>
          <p:nvPr/>
        </p:nvSpPr>
        <p:spPr>
          <a:xfrm>
            <a:off x="1708560" y="557208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rget=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ight Arrow 18"/>
          <p:cNvSpPr/>
          <p:nvPr/>
        </p:nvSpPr>
        <p:spPr>
          <a:xfrm flipH="1">
            <a:off x="3499560" y="3286080"/>
            <a:ext cx="2357640" cy="42876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1"/>
          <p:cNvSpPr/>
          <p:nvPr/>
        </p:nvSpPr>
        <p:spPr>
          <a:xfrm>
            <a:off x="1428840" y="3286080"/>
            <a:ext cx="57132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2"/>
          <p:cNvSpPr/>
          <p:nvPr/>
        </p:nvSpPr>
        <p:spPr>
          <a:xfrm>
            <a:off x="2500200" y="3286080"/>
            <a:ext cx="57168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23"/>
          <p:cNvSpPr/>
          <p:nvPr/>
        </p:nvSpPr>
        <p:spPr>
          <a:xfrm>
            <a:off x="4308120" y="4357800"/>
            <a:ext cx="36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 elements can be s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1900-1542-448A-B325-7CC247FF2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7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bring several files at once using a patte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305" name="Picture 10" descr="MCj02909400000[1]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AutoShape 11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Rectangle 10"/>
          <p:cNvSpPr/>
          <p:nvPr/>
        </p:nvSpPr>
        <p:spPr>
          <a:xfrm>
            <a:off x="642960" y="2857680"/>
            <a:ext cx="3286080" cy="2571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6215040" y="2928960"/>
            <a:ext cx="57168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6"/>
          <p:cNvSpPr/>
          <p:nvPr/>
        </p:nvSpPr>
        <p:spPr>
          <a:xfrm>
            <a:off x="6215040" y="3571920"/>
            <a:ext cx="57168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7"/>
          <p:cNvSpPr/>
          <p:nvPr/>
        </p:nvSpPr>
        <p:spPr>
          <a:xfrm>
            <a:off x="1708560" y="557208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rget=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ight Arrow 18"/>
          <p:cNvSpPr/>
          <p:nvPr/>
        </p:nvSpPr>
        <p:spPr>
          <a:xfrm flipH="1">
            <a:off x="3499560" y="3286080"/>
            <a:ext cx="2357640" cy="42876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1"/>
          <p:cNvSpPr/>
          <p:nvPr/>
        </p:nvSpPr>
        <p:spPr>
          <a:xfrm>
            <a:off x="1428840" y="3286080"/>
            <a:ext cx="57132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2"/>
          <p:cNvSpPr/>
          <p:nvPr/>
        </p:nvSpPr>
        <p:spPr>
          <a:xfrm>
            <a:off x="2500200" y="3286080"/>
            <a:ext cx="57168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23"/>
          <p:cNvSpPr/>
          <p:nvPr/>
        </p:nvSpPr>
        <p:spPr>
          <a:xfrm>
            <a:off x="4268160" y="4357800"/>
            <a:ext cx="388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[]SE.SALT.Load ‘fn*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44A1-F301-4283-93E8-D543CB7AC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functions assume global settings, e.g.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xplo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sume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view f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tings come from the registry and are brought into the session at start-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can be modified for the session or even for the time a function is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ifications can be saved back for the next APL s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4" descr="MCj03076550000[1]"/>
          <p:cNvPicPr/>
          <p:nvPr/>
        </p:nvPicPr>
        <p:blipFill>
          <a:blip r:embed="rId1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0BE3-EEC6-4351-A63B-26FCEBE77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articular setting has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just like in the regis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a string. It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emp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4" descr="MCj03076550000[1]"/>
          <p:cNvPicPr/>
          <p:nvPr/>
        </p:nvPicPr>
        <p:blipFill>
          <a:blip r:embed="rId1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"/>
          <p:cNvPicPr/>
          <p:nvPr/>
        </p:nvPicPr>
        <p:blipFill>
          <a:blip r:embed="rId2"/>
          <a:stretch/>
        </p:blipFill>
        <p:spPr>
          <a:xfrm>
            <a:off x="4125960" y="2492280"/>
            <a:ext cx="491004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F299-97A5-4F12-BA23-1D8834D13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function takes '', 1 name or 1 name  followed by a value. With '' it returns all the settings and their 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5" descr="MCj03076550000[1]"/>
          <p:cNvPicPr/>
          <p:nvPr/>
        </p:nvPicPr>
        <p:blipFill>
          <a:blip r:embed="rId1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"/>
          <p:cNvPicPr/>
          <p:nvPr/>
        </p:nvPicPr>
        <p:blipFill>
          <a:blip r:embed="rId2"/>
          <a:stretch/>
        </p:blipFill>
        <p:spPr>
          <a:xfrm>
            <a:off x="2124000" y="3213000"/>
            <a:ext cx="5256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F4C0-D947-4BC8-90A3-E493B94C0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1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t returns the value associated with that particular name. Here the path to the editor to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5" descr=""/>
          <p:cNvPicPr/>
          <p:nvPr/>
        </p:nvPicPr>
        <p:blipFill>
          <a:blip r:embed="rId1"/>
          <a:stretch/>
        </p:blipFill>
        <p:spPr>
          <a:xfrm>
            <a:off x="2124000" y="3789360"/>
            <a:ext cx="4896000" cy="24098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MCj03076550000[1]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B1F1-D15F-469C-BBDF-4F8B792EF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t associates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ith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Here we change the editor to use for the session to “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ordPad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2268360" y="3789360"/>
            <a:ext cx="5040360" cy="23464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MCj03076550000[1]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0040-05D4-4B7B-84C3-01BBB647E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6"/>
          <p:cNvGrpSpPr/>
          <p:nvPr/>
        </p:nvGrpSpPr>
        <p:grpSpPr>
          <a:xfrm>
            <a:off x="1763640" y="2852640"/>
            <a:ext cx="5903640" cy="1081080"/>
            <a:chOff x="1763640" y="2852640"/>
            <a:chExt cx="5903640" cy="1081080"/>
          </a:xfrm>
        </p:grpSpPr>
        <p:sp>
          <p:nvSpPr>
            <p:cNvPr id="348" name="Rectangle 3"/>
            <p:cNvSpPr/>
            <p:nvPr/>
          </p:nvSpPr>
          <p:spPr>
            <a:xfrm>
              <a:off x="5896080" y="2852640"/>
              <a:ext cx="1771200" cy="10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4"/>
            <p:cNvSpPr/>
            <p:nvPr/>
          </p:nvSpPr>
          <p:spPr>
            <a:xfrm>
              <a:off x="1763640" y="2852640"/>
              <a:ext cx="1711440" cy="10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5"/>
            <p:cNvSpPr/>
            <p:nvPr/>
          </p:nvSpPr>
          <p:spPr>
            <a:xfrm>
              <a:off x="3475080" y="3364200"/>
              <a:ext cx="2421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7"/>
          <p:cNvSpPr/>
          <p:nvPr/>
        </p:nvSpPr>
        <p:spPr>
          <a:xfrm>
            <a:off x="252000" y="1628640"/>
            <a:ext cx="750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ettings can be permanently stored i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istry using the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perman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8" descr=""/>
          <p:cNvPicPr/>
          <p:nvPr/>
        </p:nvPicPr>
        <p:blipFill>
          <a:blip r:embed="rId1"/>
          <a:stretch/>
        </p:blipFill>
        <p:spPr>
          <a:xfrm>
            <a:off x="2556000" y="4076640"/>
            <a:ext cx="4305240" cy="22766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" descr="MCj03076550000[1]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10"/>
          <p:cNvSpPr/>
          <p:nvPr/>
        </p:nvSpPr>
        <p:spPr>
          <a:xfrm>
            <a:off x="4356000" y="4743360"/>
            <a:ext cx="9367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69F2-D698-4554-A362-85F7861AA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ALT functions are monadic. T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ve objects in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r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ad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mo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j0208400"/>
          <p:cNvPicPr/>
          <p:nvPr/>
        </p:nvPicPr>
        <p:blipFill>
          <a:blip r:embed="rId1"/>
          <a:stretch/>
        </p:blipFill>
        <p:spPr>
          <a:xfrm rot="232800">
            <a:off x="5795640" y="2133360"/>
            <a:ext cx="237636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529C-80C4-4C1F-AE90-0CA848541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250920" y="1628640"/>
            <a:ext cx="746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ettings can be restored from the regist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the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rese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10"/>
          <p:cNvGrpSpPr/>
          <p:nvPr/>
        </p:nvGrpSpPr>
        <p:grpSpPr>
          <a:xfrm>
            <a:off x="1692360" y="2781360"/>
            <a:ext cx="5833440" cy="1079280"/>
            <a:chOff x="1692360" y="2781360"/>
            <a:chExt cx="5833440" cy="1079280"/>
          </a:xfrm>
        </p:grpSpPr>
        <p:sp>
          <p:nvSpPr>
            <p:cNvPr id="360" name="Rectangle 11"/>
            <p:cNvSpPr/>
            <p:nvPr/>
          </p:nvSpPr>
          <p:spPr>
            <a:xfrm>
              <a:off x="5775840" y="2781360"/>
              <a:ext cx="1749960" cy="107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2"/>
            <p:cNvSpPr/>
            <p:nvPr/>
          </p:nvSpPr>
          <p:spPr>
            <a:xfrm>
              <a:off x="1692360" y="2781360"/>
              <a:ext cx="1691280" cy="107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13"/>
            <p:cNvSpPr/>
            <p:nvPr/>
          </p:nvSpPr>
          <p:spPr>
            <a:xfrm flipH="1">
              <a:off x="3383280" y="3292200"/>
              <a:ext cx="2392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3" name="Picture 18" descr=""/>
          <p:cNvPicPr/>
          <p:nvPr/>
        </p:nvPicPr>
        <p:blipFill>
          <a:blip r:embed="rId1"/>
          <a:stretch/>
        </p:blipFill>
        <p:spPr>
          <a:xfrm>
            <a:off x="2556000" y="4005360"/>
            <a:ext cx="4305240" cy="22762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9" descr="MCj03076550000[1]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20"/>
          <p:cNvSpPr/>
          <p:nvPr/>
        </p:nvSpPr>
        <p:spPr>
          <a:xfrm>
            <a:off x="4356000" y="4672080"/>
            <a:ext cx="64764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D4BF-8E18-4252-BB55-8DA40E42C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1"/>
          <p:cNvSpPr/>
          <p:nvPr/>
        </p:nvSpPr>
        <p:spPr>
          <a:xfrm>
            <a:off x="536400" y="1722600"/>
            <a:ext cx="8241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tings can also be overridden temporarily for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uration of a statement, for example to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orarily another editor while explor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2" descr=""/>
          <p:cNvPicPr/>
          <p:nvPr/>
        </p:nvPicPr>
        <p:blipFill>
          <a:blip r:embed="rId1"/>
          <a:stretch/>
        </p:blipFill>
        <p:spPr>
          <a:xfrm>
            <a:off x="468360" y="3284640"/>
            <a:ext cx="8259840" cy="218124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13"/>
          <p:cNvSpPr/>
          <p:nvPr/>
        </p:nvSpPr>
        <p:spPr>
          <a:xfrm>
            <a:off x="4284720" y="4159080"/>
            <a:ext cx="4103640" cy="432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14" descr="MCj03076550000[1]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D756-4940-4238-95E8-2C891C52A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" descr="MCj03524450000[1]"/>
          <p:cNvPicPr/>
          <p:nvPr/>
        </p:nvPicPr>
        <p:blipFill>
          <a:blip r:embed="rId1"/>
          <a:stretch/>
        </p:blipFill>
        <p:spPr>
          <a:xfrm>
            <a:off x="7494480" y="1785960"/>
            <a:ext cx="1614600" cy="38862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683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has a number of features that make it more interesting than a simple store and retrieve utility. It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entire workspaces at 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ore several versions of a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ver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scripts without fixing them in the 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rt automat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napping worksp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ead of using Save to store each function/namespace in the workspace you can use &lt;Snap&gt; to do the 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[]SE.SALT.Snap ‘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\my\loc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store everything to 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\my\loc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one script per function/name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lide Number Placeholder 4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C395-942A-4D5F-BBF4-DC20B6B2C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C:\Users\Danb\Downloads\images.jpg"/>
          <p:cNvPicPr/>
          <p:nvPr/>
        </p:nvPicPr>
        <p:blipFill>
          <a:blip r:embed="rId1"/>
          <a:stretch/>
        </p:blipFill>
        <p:spPr>
          <a:xfrm>
            <a:off x="7753320" y="214200"/>
            <a:ext cx="103356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napping worksp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Snap&gt; can be used on a subs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[]SE.SALT.Snap ‘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\my\script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–class=9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objects starting with the letter ‘U’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[]SE.SALT.Snap ‘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\my\util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–stem=U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(remaining) 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[]SE.SALT.Snap ‘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\my\fn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–class=3 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4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0620-1217-4A45-B2F8-729E1768B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C:\Users\Danb\Downloads\images.jpg"/>
          <p:cNvPicPr/>
          <p:nvPr/>
        </p:nvPicPr>
        <p:blipFill>
          <a:blip r:embed="rId1"/>
          <a:stretch/>
        </p:blipFill>
        <p:spPr>
          <a:xfrm>
            <a:off x="7753320" y="214200"/>
            <a:ext cx="103356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napping worksp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4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47B5-3A4D-47FE-8C52-C36DE88C3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" descr="C:\Users\Danb\Downloads\images.jpg"/>
          <p:cNvPicPr/>
          <p:nvPr/>
        </p:nvPicPr>
        <p:blipFill>
          <a:blip r:embed="rId1"/>
          <a:stretch/>
        </p:blipFill>
        <p:spPr>
          <a:xfrm>
            <a:off x="7753320" y="214200"/>
            <a:ext cx="1033560" cy="171612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Snap&gt; remembers what has been saved and won’t save again what hasn’t been mod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also remembers where objects have been saved so “Snapping” again will put changed or new objects where they be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5EEA-F80B-4EEA-83BD-041C33FF5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10" descr="MCj02875200000[1]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9" descr=""/>
          <p:cNvPicPr/>
          <p:nvPr/>
        </p:nvPicPr>
        <p:blipFill>
          <a:blip r:embed="rId2"/>
          <a:stretch/>
        </p:blipFill>
        <p:spPr>
          <a:xfrm>
            <a:off x="4788000" y="2997360"/>
            <a:ext cx="2933640" cy="24955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"/>
          <p:cNvPicPr/>
          <p:nvPr/>
        </p:nvPicPr>
        <p:blipFill>
          <a:blip r:embed="rId3"/>
          <a:stretch/>
        </p:blipFill>
        <p:spPr>
          <a:xfrm>
            <a:off x="4716360" y="4437000"/>
            <a:ext cx="3219480" cy="126684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can save back a script on file right after it has been mod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7" descr=""/>
          <p:cNvPicPr/>
          <p:nvPr/>
        </p:nvPicPr>
        <p:blipFill>
          <a:blip r:embed="rId4"/>
          <a:stretch/>
        </p:blipFill>
        <p:spPr>
          <a:xfrm>
            <a:off x="900000" y="2637000"/>
            <a:ext cx="2914920" cy="199044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8"/>
          <p:cNvSpPr/>
          <p:nvPr/>
        </p:nvSpPr>
        <p:spPr>
          <a:xfrm>
            <a:off x="371520" y="4648320"/>
            <a:ext cx="421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confirm saving over the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ript fi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5436360" y="263700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ify &lt;tes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E294-0B57-43F1-A0E4-91EE7A3AC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4" descr="MCj02875200000[1]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also happens if you modify a fn of a class on the st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"/>
          <p:cNvSpPr/>
          <p:nvPr/>
        </p:nvSpPr>
        <p:spPr>
          <a:xfrm>
            <a:off x="0" y="4797360"/>
            <a:ext cx="529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irm saving over the present script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ce saved both the script and the cla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modified and you can resume exec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10" descr=""/>
          <p:cNvPicPr/>
          <p:nvPr/>
        </p:nvPicPr>
        <p:blipFill>
          <a:blip r:embed="rId2"/>
          <a:stretch/>
        </p:blipFill>
        <p:spPr>
          <a:xfrm>
            <a:off x="611280" y="2637000"/>
            <a:ext cx="2895480" cy="21049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1" descr=""/>
          <p:cNvPicPr/>
          <p:nvPr/>
        </p:nvPicPr>
        <p:blipFill>
          <a:blip r:embed="rId3"/>
          <a:stretch/>
        </p:blipFill>
        <p:spPr>
          <a:xfrm>
            <a:off x="4284720" y="2781360"/>
            <a:ext cx="2905200" cy="14572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2" descr=""/>
          <p:cNvPicPr/>
          <p:nvPr/>
        </p:nvPicPr>
        <p:blipFill>
          <a:blip r:embed="rId4"/>
          <a:stretch/>
        </p:blipFill>
        <p:spPr>
          <a:xfrm>
            <a:off x="4284720" y="2852640"/>
            <a:ext cx="3257640" cy="16668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"/>
          <p:cNvPicPr/>
          <p:nvPr/>
        </p:nvPicPr>
        <p:blipFill>
          <a:blip r:embed="rId5"/>
          <a:stretch/>
        </p:blipFill>
        <p:spPr>
          <a:xfrm>
            <a:off x="5292720" y="4797360"/>
            <a:ext cx="3219480" cy="126684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15"/>
          <p:cNvSpPr/>
          <p:nvPr/>
        </p:nvSpPr>
        <p:spPr>
          <a:xfrm>
            <a:off x="1190520" y="494172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rror happ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6"/>
          <p:cNvSpPr/>
          <p:nvPr/>
        </p:nvSpPr>
        <p:spPr>
          <a:xfrm>
            <a:off x="4861800" y="422100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ck show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7"/>
          <p:cNvSpPr/>
          <p:nvPr/>
        </p:nvSpPr>
        <p:spPr>
          <a:xfrm>
            <a:off x="5006160" y="450864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dit th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4146-44E1-4517-84CF-47A34D41F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6" descr=""/>
          <p:cNvPicPr/>
          <p:nvPr/>
        </p:nvPicPr>
        <p:blipFill>
          <a:blip r:embed="rId1"/>
          <a:stretch/>
        </p:blipFill>
        <p:spPr>
          <a:xfrm>
            <a:off x="1906560" y="4076640"/>
            <a:ext cx="5545080" cy="21812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5" descr="MCj02875200000[1]"/>
          <p:cNvPicPr/>
          <p:nvPr/>
        </p:nvPicPr>
        <p:blipFill>
          <a:blip r:embed="rId2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ep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77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store and KEEP several ver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 a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using th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vers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 you t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to start using version number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3"/>
          <p:cNvSpPr/>
          <p:nvPr/>
        </p:nvSpPr>
        <p:spPr>
          <a:xfrm>
            <a:off x="5257800" y="5122800"/>
            <a:ext cx="1152360" cy="225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4"/>
          <p:cNvSpPr/>
          <p:nvPr/>
        </p:nvSpPr>
        <p:spPr>
          <a:xfrm>
            <a:off x="3967200" y="4960800"/>
            <a:ext cx="685800" cy="2257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2EBC-374E-4AD1-90C6-B3582D105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12" descr="MCj02875200000[1]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ep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 time you modify a script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res the definition in a new f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6" descr=""/>
          <p:cNvPicPr/>
          <p:nvPr/>
        </p:nvPicPr>
        <p:blipFill>
          <a:blip r:embed="rId2"/>
          <a:stretch/>
        </p:blipFill>
        <p:spPr>
          <a:xfrm>
            <a:off x="4643280" y="3357720"/>
            <a:ext cx="3257640" cy="28288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7" descr=""/>
          <p:cNvPicPr/>
          <p:nvPr/>
        </p:nvPicPr>
        <p:blipFill>
          <a:blip r:embed="rId3"/>
          <a:stretch/>
        </p:blipFill>
        <p:spPr>
          <a:xfrm>
            <a:off x="949320" y="3382920"/>
            <a:ext cx="3403440" cy="280044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8"/>
          <p:cNvSpPr/>
          <p:nvPr/>
        </p:nvSpPr>
        <p:spPr>
          <a:xfrm>
            <a:off x="2413080" y="2852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9"/>
          <p:cNvSpPr/>
          <p:nvPr/>
        </p:nvSpPr>
        <p:spPr>
          <a:xfrm>
            <a:off x="6086520" y="2852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0"/>
          <p:cNvSpPr/>
          <p:nvPr/>
        </p:nvSpPr>
        <p:spPr>
          <a:xfrm>
            <a:off x="5435640" y="4292640"/>
            <a:ext cx="1440000" cy="5047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1"/>
          <p:cNvSpPr/>
          <p:nvPr/>
        </p:nvSpPr>
        <p:spPr>
          <a:xfrm>
            <a:off x="5580000" y="5046840"/>
            <a:ext cx="287280" cy="225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FC6F-7C22-4BA7-9C15-EAF69C37A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MCj03970500000[1]"/>
          <p:cNvPicPr/>
          <p:nvPr/>
        </p:nvPicPr>
        <p:blipFill>
          <a:blip r:embed="rId1"/>
          <a:stretch/>
        </p:blipFill>
        <p:spPr>
          <a:xfrm>
            <a:off x="6804000" y="44280"/>
            <a:ext cx="2254320" cy="23036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stores source in Uni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UTF-8) files whose extension i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.Dy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.Dyalo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es are configured to be opened automatically with Notepad under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Window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on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 Unix, the naming of the files is case sensi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ED76-4FF9-45E2-8A39-D788005ED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27" descr=""/>
          <p:cNvPicPr/>
          <p:nvPr/>
        </p:nvPicPr>
        <p:blipFill>
          <a:blip r:embed="rId1"/>
          <a:stretch/>
        </p:blipFill>
        <p:spPr>
          <a:xfrm>
            <a:off x="611280" y="4086360"/>
            <a:ext cx="4333680" cy="21906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26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4333680" cy="17524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4" descr="MCj02875200000[1]"/>
          <p:cNvPicPr/>
          <p:nvPr/>
        </p:nvPicPr>
        <p:blipFill>
          <a:blip r:embed="rId3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ep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 can show the various vers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4"/>
          <p:cNvSpPr/>
          <p:nvPr/>
        </p:nvSpPr>
        <p:spPr>
          <a:xfrm>
            <a:off x="478800" y="3635280"/>
            <a:ext cx="73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you need to supply the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ver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5"/>
          <p:cNvSpPr/>
          <p:nvPr/>
        </p:nvSpPr>
        <p:spPr>
          <a:xfrm>
            <a:off x="3059280" y="4759200"/>
            <a:ext cx="718920" cy="2257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6"/>
          <p:cNvSpPr/>
          <p:nvPr/>
        </p:nvSpPr>
        <p:spPr>
          <a:xfrm>
            <a:off x="938160" y="2887560"/>
            <a:ext cx="3384720" cy="22536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7"/>
          <p:cNvSpPr/>
          <p:nvPr/>
        </p:nvSpPr>
        <p:spPr>
          <a:xfrm>
            <a:off x="971640" y="5056200"/>
            <a:ext cx="3384360" cy="22536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8"/>
          <p:cNvSpPr/>
          <p:nvPr/>
        </p:nvSpPr>
        <p:spPr>
          <a:xfrm>
            <a:off x="5516640" y="5445000"/>
            <a:ext cx="293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started without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umber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the original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version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9"/>
          <p:cNvSpPr/>
          <p:nvPr/>
        </p:nvSpPr>
        <p:spPr>
          <a:xfrm flipH="1" flipV="1">
            <a:off x="1763640" y="5618160"/>
            <a:ext cx="367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20"/>
          <p:cNvSpPr/>
          <p:nvPr/>
        </p:nvSpPr>
        <p:spPr>
          <a:xfrm>
            <a:off x="1628640" y="5516640"/>
            <a:ext cx="287640" cy="217440"/>
          </a:xfrm>
          <a:prstGeom prst="ellipse">
            <a:avLst/>
          </a:prstGeom>
          <a:solidFill>
            <a:srgbClr val="bbe0e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1"/>
          <p:cNvSpPr/>
          <p:nvPr/>
        </p:nvSpPr>
        <p:spPr>
          <a:xfrm>
            <a:off x="5512320" y="4292640"/>
            <a:ext cx="32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latest (using date)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always visible and on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22"/>
          <p:cNvSpPr/>
          <p:nvPr/>
        </p:nvSpPr>
        <p:spPr>
          <a:xfrm flipH="1" flipV="1">
            <a:off x="4211280" y="3141360"/>
            <a:ext cx="136836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23"/>
          <p:cNvSpPr/>
          <p:nvPr/>
        </p:nvSpPr>
        <p:spPr>
          <a:xfrm flipH="1">
            <a:off x="4356000" y="4653000"/>
            <a:ext cx="1224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10D3-562D-4BEA-B895-9C9E0D334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80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Compa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used for th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must give it the name of the script(s) and the versions to comp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no version is specified the 2 highest versions are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single number is specified it is compared with 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ighes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ver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:  []SE.SALT.Compare ‘fileA –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ver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5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ll compare version 5 of &lt;fileA&gt; with its highest version (probably also most rec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24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457" name="Rectangle 25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26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27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BCA2-A55A-40D7-815F-D0D01E982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42472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lly,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ompa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ill use its own comparing code to perform the compari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 different program is wanted it should either be specified on the statement line with th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u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 or in the sett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ett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use then is 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omp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should specify the path of the program to use or ‘APL’ if SALT is to do it it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10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465" name="Rectangle 11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2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13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0898-51BF-41EF-8011-FA5AFA86D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12" descr=""/>
          <p:cNvPicPr/>
          <p:nvPr/>
        </p:nvPicPr>
        <p:blipFill>
          <a:blip r:embed="rId1"/>
          <a:stretch/>
        </p:blipFill>
        <p:spPr>
          <a:xfrm>
            <a:off x="1692360" y="3733920"/>
            <a:ext cx="5790960" cy="200016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 extern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, to use 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Compare It!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a third party program available from the net, you can use the </a:t>
            </a:r>
            <a:r>
              <a:rPr b="0" lang="en-GB" sz="24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ommand </a:t>
            </a:r>
            <a:r>
              <a:rPr b="0" lang="en-GB" sz="2400" spc="-1" strike="noStrike">
                <a:solidFill>
                  <a:srgbClr val="ff9900"/>
                </a:solidFill>
                <a:latin typeface="Arial"/>
              </a:rPr>
              <a:t>Setting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set it to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[ProgramFiles]\Compare It!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 the 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full pathna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its lo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4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474" name="Rectangle 5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6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7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Rectangle 9"/>
          <p:cNvSpPr/>
          <p:nvPr/>
        </p:nvSpPr>
        <p:spPr>
          <a:xfrm>
            <a:off x="3635280" y="4552920"/>
            <a:ext cx="3313080" cy="23508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3620-80C7-41B7-B3CF-1F493C550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10" descr=""/>
          <p:cNvPicPr/>
          <p:nvPr/>
        </p:nvPicPr>
        <p:blipFill>
          <a:blip r:embed="rId1"/>
          <a:stretch/>
        </p:blipFill>
        <p:spPr>
          <a:xfrm>
            <a:off x="1362240" y="2514600"/>
            <a:ext cx="6419520" cy="182880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 extern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also insert </a:t>
            </a:r>
            <a:r>
              <a:rPr b="0" lang="en-GB" sz="2400" spc="-1" strike="noStrike">
                <a:solidFill>
                  <a:srgbClr val="33cc33"/>
                </a:solidFill>
                <a:latin typeface="Arial"/>
              </a:rPr>
              <a:t>-use=pathnameToProgra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call said program in the statement, e.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4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484" name="Rectangle 5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6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7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Rectangle 9"/>
          <p:cNvSpPr/>
          <p:nvPr/>
        </p:nvSpPr>
        <p:spPr>
          <a:xfrm>
            <a:off x="4249800" y="3338640"/>
            <a:ext cx="2881080" cy="215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FACA-88C5-4847-BF19-D1B7EC13C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10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056360" cy="4019760"/>
          </a:xfrm>
          <a:prstGeom prst="rect">
            <a:avLst/>
          </a:prstGeom>
          <a:ln w="0">
            <a:noFill/>
          </a:ln>
        </p:spPr>
      </p:pic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 extern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4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493" name="Rectangle 5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6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7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Text Box 12"/>
          <p:cNvSpPr/>
          <p:nvPr/>
        </p:nvSpPr>
        <p:spPr>
          <a:xfrm>
            <a:off x="1984320" y="5589720"/>
            <a:ext cx="55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rnal program pops up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BA2A-E5AF-4890-AD43-E01BA5F30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Group 21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500" name="Rectangle 22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23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24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howing differences between ver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‘APL’ is the method chosen to compa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output will appear in the sessio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12"/>
          <p:cNvGrpSpPr/>
          <p:nvPr/>
        </p:nvGrpSpPr>
        <p:grpSpPr>
          <a:xfrm>
            <a:off x="3203640" y="2565360"/>
            <a:ext cx="5276880" cy="3314880"/>
            <a:chOff x="3203640" y="2565360"/>
            <a:chExt cx="5276880" cy="3314880"/>
          </a:xfrm>
        </p:grpSpPr>
        <p:pic>
          <p:nvPicPr>
            <p:cNvPr id="506" name="Picture 5" descr=""/>
            <p:cNvPicPr/>
            <p:nvPr/>
          </p:nvPicPr>
          <p:blipFill>
            <a:blip r:embed="rId1"/>
            <a:stretch/>
          </p:blipFill>
          <p:spPr>
            <a:xfrm>
              <a:off x="3203640" y="2565360"/>
              <a:ext cx="5276880" cy="33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Rectangle 6"/>
            <p:cNvSpPr/>
            <p:nvPr/>
          </p:nvSpPr>
          <p:spPr>
            <a:xfrm>
              <a:off x="3203640" y="4005360"/>
              <a:ext cx="2881440" cy="360360"/>
            </a:xfrm>
            <a:prstGeom prst="rect">
              <a:avLst/>
            </a:prstGeom>
            <a:solidFill>
              <a:srgbClr val="33cc33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7"/>
            <p:cNvSpPr/>
            <p:nvPr/>
          </p:nvSpPr>
          <p:spPr>
            <a:xfrm>
              <a:off x="3203640" y="4616640"/>
              <a:ext cx="2881440" cy="360360"/>
            </a:xfrm>
            <a:prstGeom prst="rect">
              <a:avLst/>
            </a:prstGeom>
            <a:solidFill>
              <a:srgbClr val="33cc33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8"/>
            <p:cNvSpPr/>
            <p:nvPr/>
          </p:nvSpPr>
          <p:spPr>
            <a:xfrm>
              <a:off x="6375600" y="4005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ines inser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9"/>
            <p:cNvSpPr/>
            <p:nvPr/>
          </p:nvSpPr>
          <p:spPr>
            <a:xfrm>
              <a:off x="6356880" y="4603680"/>
              <a:ext cx="15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ines modifi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10"/>
            <p:cNvSpPr/>
            <p:nvPr/>
          </p:nvSpPr>
          <p:spPr>
            <a:xfrm flipH="1">
              <a:off x="5940360" y="4797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11"/>
            <p:cNvSpPr/>
            <p:nvPr/>
          </p:nvSpPr>
          <p:spPr>
            <a:xfrm flipH="1">
              <a:off x="5940360" y="42022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3" name="Picture 14" descr=""/>
          <p:cNvPicPr/>
          <p:nvPr/>
        </p:nvPicPr>
        <p:blipFill>
          <a:blip r:embed="rId2"/>
          <a:stretch/>
        </p:blipFill>
        <p:spPr>
          <a:xfrm>
            <a:off x="4510080" y="33670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5" descr=""/>
          <p:cNvPicPr/>
          <p:nvPr/>
        </p:nvPicPr>
        <p:blipFill>
          <a:blip r:embed="rId3"/>
          <a:stretch/>
        </p:blipFill>
        <p:spPr>
          <a:xfrm>
            <a:off x="4726080" y="3583080"/>
            <a:ext cx="123840" cy="123840"/>
          </a:xfrm>
          <a:prstGeom prst="rect">
            <a:avLst/>
          </a:prstGeom>
          <a:ln w="0">
            <a:noFill/>
          </a:ln>
        </p:spPr>
      </p:pic>
      <p:sp>
        <p:nvSpPr>
          <p:cNvPr id="515" name="Text Box 16"/>
          <p:cNvSpPr/>
          <p:nvPr/>
        </p:nvSpPr>
        <p:spPr>
          <a:xfrm>
            <a:off x="470880" y="3860640"/>
            <a:ext cx="221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used to de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erted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used to de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ed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17"/>
          <p:cNvSpPr/>
          <p:nvPr/>
        </p:nvSpPr>
        <p:spPr>
          <a:xfrm>
            <a:off x="2700360" y="4076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18"/>
          <p:cNvSpPr/>
          <p:nvPr/>
        </p:nvSpPr>
        <p:spPr>
          <a:xfrm>
            <a:off x="2700360" y="4076640"/>
            <a:ext cx="431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9"/>
          <p:cNvSpPr/>
          <p:nvPr/>
        </p:nvSpPr>
        <p:spPr>
          <a:xfrm>
            <a:off x="2700360" y="407664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20"/>
          <p:cNvSpPr/>
          <p:nvPr/>
        </p:nvSpPr>
        <p:spPr>
          <a:xfrm>
            <a:off x="2700360" y="4869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0B4B-7094-4AF4-A758-F015D9E56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2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523" name="Rectangle 3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4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5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howing differences between ver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class to be compared is already in the workspace you can us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w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s value to th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version swit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[]SE.SALT.Compare 'script\file    –version=ws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16" descr=""/>
          <p:cNvPicPr/>
          <p:nvPr/>
        </p:nvPicPr>
        <p:blipFill>
          <a:blip r:embed="rId1"/>
          <a:stretch/>
        </p:blipFill>
        <p:spPr>
          <a:xfrm>
            <a:off x="4510080" y="33670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7" descr=""/>
          <p:cNvPicPr/>
          <p:nvPr/>
        </p:nvPicPr>
        <p:blipFill>
          <a:blip r:embed="rId2"/>
          <a:stretch/>
        </p:blipFill>
        <p:spPr>
          <a:xfrm>
            <a:off x="4726080" y="3583080"/>
            <a:ext cx="12384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2CA6-62D6-4637-A778-0A4BB5457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27" descr=""/>
          <p:cNvPicPr/>
          <p:nvPr/>
        </p:nvPicPr>
        <p:blipFill>
          <a:blip r:embed="rId1"/>
          <a:stretch/>
        </p:blipFill>
        <p:spPr>
          <a:xfrm>
            <a:off x="1547640" y="3429000"/>
            <a:ext cx="5943600" cy="203832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eaning up (removing versi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fter a while many versions may clutter a folder and some versions may get ridden o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LT allows to selectively erase f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Version is the function to use,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25" descr="MCj02904610000[1]"/>
          <p:cNvPicPr/>
          <p:nvPr/>
        </p:nvPicPr>
        <p:blipFill>
          <a:blip r:embed="rId2"/>
          <a:stretch/>
        </p:blipFill>
        <p:spPr>
          <a:xfrm>
            <a:off x="7812000" y="52560"/>
            <a:ext cx="1314360" cy="157608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26" descr=""/>
          <p:cNvPicPr/>
          <p:nvPr/>
        </p:nvPicPr>
        <p:blipFill>
          <a:blip r:embed="rId3"/>
          <a:stretch/>
        </p:blipFill>
        <p:spPr>
          <a:xfrm>
            <a:off x="3492360" y="4149720"/>
            <a:ext cx="2076480" cy="126684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8" descr=""/>
          <p:cNvPicPr/>
          <p:nvPr/>
        </p:nvPicPr>
        <p:blipFill>
          <a:blip r:embed="rId4"/>
          <a:stretch/>
        </p:blipFill>
        <p:spPr>
          <a:xfrm>
            <a:off x="1547640" y="3429000"/>
            <a:ext cx="59436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DB6A-46A2-46B7-AC2F-0482B471D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eaning up (removing versi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remove less than a version (e.g.7) you ca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-ver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&lt;7 (or &gt;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remove them all instead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-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-al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leaves 1 version (the highest version) around which it renames to remove the version number. Th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mine\test.4.dyalo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e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mine\test.dya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5" descr="MCj02904610000[1]"/>
          <p:cNvPicPr/>
          <p:nvPr/>
        </p:nvPicPr>
        <p:blipFill>
          <a:blip r:embed="rId1"/>
          <a:stretch/>
        </p:blipFill>
        <p:spPr>
          <a:xfrm>
            <a:off x="7812000" y="52560"/>
            <a:ext cx="1314360" cy="15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FD7F-3648-429E-BED2-DEDACBEA1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are NO special requirements (not even .N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11 is the minimum version SALT will run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is packaged and comes in already available with V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MCj03914580000[1]"/>
          <p:cNvPicPr/>
          <p:nvPr/>
        </p:nvPicPr>
        <p:blipFill>
          <a:blip r:embed="rId1"/>
          <a:stretch/>
        </p:blipFill>
        <p:spPr>
          <a:xfrm>
            <a:off x="4260960" y="4653000"/>
            <a:ext cx="182376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8A2A-DB86-4C87-B211-C7DE24014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Group 14"/>
          <p:cNvGrpSpPr/>
          <p:nvPr/>
        </p:nvGrpSpPr>
        <p:grpSpPr>
          <a:xfrm>
            <a:off x="1042920" y="2492280"/>
            <a:ext cx="6991560" cy="2295720"/>
            <a:chOff x="1042920" y="2492280"/>
            <a:chExt cx="6991560" cy="2295720"/>
          </a:xfrm>
        </p:grpSpPr>
        <p:pic>
          <p:nvPicPr>
            <p:cNvPr id="546" name="Picture 7" descr=""/>
            <p:cNvPicPr/>
            <p:nvPr/>
          </p:nvPicPr>
          <p:blipFill>
            <a:blip r:embed="rId1"/>
            <a:stretch/>
          </p:blipFill>
          <p:spPr>
            <a:xfrm>
              <a:off x="1042920" y="2492280"/>
              <a:ext cx="6991560" cy="22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Rectangle 11"/>
            <p:cNvSpPr/>
            <p:nvPr/>
          </p:nvSpPr>
          <p:spPr>
            <a:xfrm>
              <a:off x="4427640" y="3141720"/>
              <a:ext cx="965160" cy="241200"/>
            </a:xfrm>
            <a:prstGeom prst="rect">
              <a:avLst/>
            </a:prstGeom>
            <a:solidFill>
              <a:srgbClr val="ff9900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eaning up (removing versi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ollapsing effect of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a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be achieved with higher versions by using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collap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4" descr="MCj02904610000[1]"/>
          <p:cNvPicPr/>
          <p:nvPr/>
        </p:nvPicPr>
        <p:blipFill>
          <a:blip r:embed="rId2"/>
          <a:stretch/>
        </p:blipFill>
        <p:spPr>
          <a:xfrm>
            <a:off x="7812000" y="52560"/>
            <a:ext cx="1314360" cy="157608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5" descr=""/>
          <p:cNvPicPr/>
          <p:nvPr/>
        </p:nvPicPr>
        <p:blipFill>
          <a:blip r:embed="rId3"/>
          <a:stretch/>
        </p:blipFill>
        <p:spPr>
          <a:xfrm>
            <a:off x="3492360" y="3429000"/>
            <a:ext cx="2171880" cy="126684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9"/>
          <p:cNvSpPr/>
          <p:nvPr/>
        </p:nvSpPr>
        <p:spPr>
          <a:xfrm>
            <a:off x="735120" y="5006880"/>
            <a:ext cx="7724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0"/>
          <p:cNvSpPr/>
          <p:nvPr/>
        </p:nvSpPr>
        <p:spPr>
          <a:xfrm>
            <a:off x="975600" y="5013360"/>
            <a:ext cx="719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last file of the group deleted has been give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xt version number and renamed according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8" descr=""/>
          <p:cNvPicPr/>
          <p:nvPr/>
        </p:nvPicPr>
        <p:blipFill>
          <a:blip r:embed="rId4"/>
          <a:stretch/>
        </p:blipFill>
        <p:spPr>
          <a:xfrm>
            <a:off x="1042920" y="2492280"/>
            <a:ext cx="69915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663B-0A8F-499D-BB47-B493302E4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11" descr=""/>
          <p:cNvPicPr/>
          <p:nvPr/>
        </p:nvPicPr>
        <p:blipFill>
          <a:blip r:embed="rId1"/>
          <a:stretch/>
        </p:blipFill>
        <p:spPr>
          <a:xfrm>
            <a:off x="4208400" y="3789360"/>
            <a:ext cx="4305240" cy="245736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unning scri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scripts ar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 into the ws they become objects ready to be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ample, if script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</a:rPr>
              <a:t>mine\test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ntains class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T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n this class can be used immediately as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4" descr="MCj02801100000[1]"/>
          <p:cNvPicPr/>
          <p:nvPr/>
        </p:nvPicPr>
        <p:blipFill>
          <a:blip r:embed="rId2"/>
          <a:stretch/>
        </p:blipFill>
        <p:spPr>
          <a:xfrm>
            <a:off x="7740720" y="155520"/>
            <a:ext cx="1258920" cy="112572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5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085920" cy="1981440"/>
          </a:xfrm>
          <a:prstGeom prst="rect">
            <a:avLst/>
          </a:prstGeom>
          <a:ln w="0">
            <a:noFill/>
          </a:ln>
        </p:spPr>
      </p:pic>
      <p:sp>
        <p:nvSpPr>
          <p:cNvPr id="562" name="Oval 7"/>
          <p:cNvSpPr/>
          <p:nvPr/>
        </p:nvSpPr>
        <p:spPr>
          <a:xfrm>
            <a:off x="639720" y="4240080"/>
            <a:ext cx="8650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8"/>
          <p:cNvSpPr/>
          <p:nvPr/>
        </p:nvSpPr>
        <p:spPr>
          <a:xfrm>
            <a:off x="5734080" y="4413240"/>
            <a:ext cx="100800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9"/>
          <p:cNvSpPr/>
          <p:nvPr/>
        </p:nvSpPr>
        <p:spPr>
          <a:xfrm>
            <a:off x="971640" y="4653000"/>
            <a:ext cx="360360" cy="28872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10"/>
          <p:cNvSpPr/>
          <p:nvPr/>
        </p:nvSpPr>
        <p:spPr>
          <a:xfrm>
            <a:off x="5157720" y="4878360"/>
            <a:ext cx="360360" cy="28908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D255-F344-4AD2-9C75-1AD1F607D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11" descr=""/>
          <p:cNvPicPr/>
          <p:nvPr/>
        </p:nvPicPr>
        <p:blipFill>
          <a:blip r:embed="rId1"/>
          <a:stretch/>
        </p:blipFill>
        <p:spPr>
          <a:xfrm>
            <a:off x="4284720" y="3573360"/>
            <a:ext cx="4305240" cy="268632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unning scri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imes a different name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be instructed to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 class instead of fixing it in the ws by using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no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4" descr="MCj02801100000[1]"/>
          <p:cNvPicPr/>
          <p:nvPr/>
        </p:nvPicPr>
        <p:blipFill>
          <a:blip r:embed="rId2"/>
          <a:stretch/>
        </p:blipFill>
        <p:spPr>
          <a:xfrm>
            <a:off x="7740720" y="155520"/>
            <a:ext cx="1258920" cy="112572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5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085920" cy="1981440"/>
          </a:xfrm>
          <a:prstGeom prst="rect">
            <a:avLst/>
          </a:prstGeom>
          <a:ln w="0">
            <a:noFill/>
          </a:ln>
        </p:spPr>
      </p:pic>
      <p:sp>
        <p:nvSpPr>
          <p:cNvPr id="573" name="Oval 7"/>
          <p:cNvSpPr/>
          <p:nvPr/>
        </p:nvSpPr>
        <p:spPr>
          <a:xfrm>
            <a:off x="639720" y="4240080"/>
            <a:ext cx="8650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Oval 8"/>
          <p:cNvSpPr/>
          <p:nvPr/>
        </p:nvSpPr>
        <p:spPr>
          <a:xfrm>
            <a:off x="6516720" y="4508640"/>
            <a:ext cx="86508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9"/>
          <p:cNvSpPr/>
          <p:nvPr/>
        </p:nvSpPr>
        <p:spPr>
          <a:xfrm>
            <a:off x="971640" y="4653000"/>
            <a:ext cx="360360" cy="28872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10"/>
          <p:cNvSpPr/>
          <p:nvPr/>
        </p:nvSpPr>
        <p:spPr>
          <a:xfrm>
            <a:off x="4481640" y="5435640"/>
            <a:ext cx="360360" cy="28872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2"/>
          <p:cNvSpPr/>
          <p:nvPr/>
        </p:nvSpPr>
        <p:spPr>
          <a:xfrm>
            <a:off x="7413480" y="4562640"/>
            <a:ext cx="574920" cy="215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31D2-DF23-4DAC-9F22-3EB63249B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12" descr=""/>
          <p:cNvPicPr/>
          <p:nvPr/>
        </p:nvPicPr>
        <p:blipFill>
          <a:blip r:embed="rId1"/>
          <a:stretch/>
        </p:blipFill>
        <p:spPr>
          <a:xfrm>
            <a:off x="4140360" y="3645000"/>
            <a:ext cx="4171680" cy="254304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unning scri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imes it is unnecessary to bring in the class and only an instance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New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uses internally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’s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no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 to achieve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4" descr="MCj02801100000[1]"/>
          <p:cNvPicPr/>
          <p:nvPr/>
        </p:nvPicPr>
        <p:blipFill>
          <a:blip r:embed="rId2"/>
          <a:stretch/>
        </p:blipFill>
        <p:spPr>
          <a:xfrm>
            <a:off x="7740720" y="155520"/>
            <a:ext cx="1258920" cy="11257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5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085920" cy="1981440"/>
          </a:xfrm>
          <a:prstGeom prst="rect">
            <a:avLst/>
          </a:prstGeom>
          <a:ln w="0">
            <a:noFill/>
          </a:ln>
        </p:spPr>
      </p:pic>
      <p:sp>
        <p:nvSpPr>
          <p:cNvPr id="585" name="Oval 7"/>
          <p:cNvSpPr/>
          <p:nvPr/>
        </p:nvSpPr>
        <p:spPr>
          <a:xfrm>
            <a:off x="639720" y="4240080"/>
            <a:ext cx="8650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8"/>
          <p:cNvSpPr/>
          <p:nvPr/>
        </p:nvSpPr>
        <p:spPr>
          <a:xfrm>
            <a:off x="5753160" y="4759200"/>
            <a:ext cx="100800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9"/>
          <p:cNvSpPr/>
          <p:nvPr/>
        </p:nvSpPr>
        <p:spPr>
          <a:xfrm>
            <a:off x="971640" y="4643280"/>
            <a:ext cx="360360" cy="28908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13"/>
          <p:cNvSpPr/>
          <p:nvPr/>
        </p:nvSpPr>
        <p:spPr>
          <a:xfrm>
            <a:off x="4327560" y="5383080"/>
            <a:ext cx="360360" cy="28908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9FAC-A80D-462A-BA67-82A352739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utomatic st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T also supports the loading and starting of applications from an “application file” with an extension of “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yap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6" descr="MCj00951330000[1]"/>
          <p:cNvPicPr/>
          <p:nvPr/>
        </p:nvPicPr>
        <p:blipFill>
          <a:blip r:embed="rId1"/>
          <a:stretch/>
        </p:blipFill>
        <p:spPr>
          <a:xfrm rot="19346400">
            <a:off x="7164360" y="0"/>
            <a:ext cx="184320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BC0B-A8A7-4128-BFE2-0866E81BD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utomatic st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put in the </a:t>
            </a: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dyap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ile the instructions to perform the task: all the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and 1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ment.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4" descr="MCj00951330000[1]"/>
          <p:cNvPicPr/>
          <p:nvPr/>
        </p:nvPicPr>
        <p:blipFill>
          <a:blip r:embed="rId1"/>
          <a:stretch/>
        </p:blipFill>
        <p:spPr>
          <a:xfrm rot="19346400">
            <a:off x="7164360" y="0"/>
            <a:ext cx="1843200" cy="21733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5" descr=""/>
          <p:cNvPicPr/>
          <p:nvPr/>
        </p:nvPicPr>
        <p:blipFill>
          <a:blip r:embed="rId2"/>
          <a:stretch/>
        </p:blipFill>
        <p:spPr>
          <a:xfrm>
            <a:off x="6012000" y="3068640"/>
            <a:ext cx="2504880" cy="10573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6" descr=""/>
          <p:cNvPicPr/>
          <p:nvPr/>
        </p:nvPicPr>
        <p:blipFill>
          <a:blip r:embed="rId3"/>
          <a:stretch/>
        </p:blipFill>
        <p:spPr>
          <a:xfrm>
            <a:off x="6012000" y="4365720"/>
            <a:ext cx="2504880" cy="21715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7" descr=""/>
          <p:cNvPicPr/>
          <p:nvPr/>
        </p:nvPicPr>
        <p:blipFill>
          <a:blip r:embed="rId4"/>
          <a:stretch/>
        </p:blipFill>
        <p:spPr>
          <a:xfrm>
            <a:off x="971640" y="3933720"/>
            <a:ext cx="4371840" cy="2181240"/>
          </a:xfrm>
          <a:prstGeom prst="rect">
            <a:avLst/>
          </a:prstGeom>
          <a:ln w="0">
            <a:noFill/>
          </a:ln>
        </p:spPr>
      </p:pic>
      <p:sp>
        <p:nvSpPr>
          <p:cNvPr id="602" name="Line 8"/>
          <p:cNvSpPr/>
          <p:nvPr/>
        </p:nvSpPr>
        <p:spPr>
          <a:xfrm>
            <a:off x="3708360" y="2421000"/>
            <a:ext cx="2590920" cy="79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9"/>
          <p:cNvSpPr/>
          <p:nvPr/>
        </p:nvSpPr>
        <p:spPr>
          <a:xfrm flipH="1">
            <a:off x="6877080" y="3716280"/>
            <a:ext cx="71280" cy="792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0"/>
          <p:cNvSpPr/>
          <p:nvPr/>
        </p:nvSpPr>
        <p:spPr>
          <a:xfrm flipH="1">
            <a:off x="6659640" y="3933720"/>
            <a:ext cx="71280" cy="151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B749-BD29-48DC-9DDC-FA6546E53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ther good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allows to have multiple working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perform the required loads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s external ut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s with 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4" descr="MCj02324220000[1]"/>
          <p:cNvPicPr/>
          <p:nvPr/>
        </p:nvPicPr>
        <p:blipFill>
          <a:blip r:embed="rId1"/>
          <a:stretch/>
        </p:blipFill>
        <p:spPr>
          <a:xfrm>
            <a:off x="6647040" y="0"/>
            <a:ext cx="249696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8F2C-3FB2-4FF6-B91C-ADFD1FBD9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ultiple workdi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have several working directories to split work into logical a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: you could put all utilities in a separate tre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tell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use different directories you list them in th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registry key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ourceFold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eparated by 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;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[Dyalog]\Classes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;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\CMS\Dy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4"/>
          <p:cNvSpPr/>
          <p:nvPr/>
        </p:nvSpPr>
        <p:spPr>
          <a:xfrm>
            <a:off x="3390840" y="5392800"/>
            <a:ext cx="57636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5" descr="MCj02460450000[1]"/>
          <p:cNvPicPr/>
          <p:nvPr/>
        </p:nvPicPr>
        <p:blipFill>
          <a:blip r:embed="rId1"/>
          <a:stretch/>
        </p:blipFill>
        <p:spPr>
          <a:xfrm>
            <a:off x="7667640" y="139680"/>
            <a:ext cx="126828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261F-CBAE-4901-BD97-C35C6EED8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11" descr=""/>
          <p:cNvPicPr/>
          <p:nvPr/>
        </p:nvPicPr>
        <p:blipFill>
          <a:blip r:embed="rId1"/>
          <a:stretch/>
        </p:blipFill>
        <p:spPr>
          <a:xfrm>
            <a:off x="1332000" y="4332240"/>
            <a:ext cx="6985080" cy="1957320"/>
          </a:xfrm>
          <a:prstGeom prst="rect">
            <a:avLst/>
          </a:prstGeom>
          <a:ln w="0">
            <a:noFill/>
          </a:ln>
        </p:spPr>
      </p:pic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ultiple workdi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using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earches directories in the order specified until it finds th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also specify the directories via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etting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and make it permanent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6"/>
          <p:cNvSpPr/>
          <p:nvPr/>
        </p:nvSpPr>
        <p:spPr>
          <a:xfrm>
            <a:off x="6486480" y="5116680"/>
            <a:ext cx="965160" cy="2412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7"/>
          <p:cNvSpPr/>
          <p:nvPr/>
        </p:nvSpPr>
        <p:spPr>
          <a:xfrm>
            <a:off x="5508720" y="5089680"/>
            <a:ext cx="323640" cy="322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9" descr="MCj02460450000[1]"/>
          <p:cNvPicPr/>
          <p:nvPr/>
        </p:nvPicPr>
        <p:blipFill>
          <a:blip r:embed="rId2"/>
          <a:stretch/>
        </p:blipFill>
        <p:spPr>
          <a:xfrm>
            <a:off x="7667640" y="139680"/>
            <a:ext cx="126828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6EBF-53A8-4DD0-95B4-B2031B96E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quired Lo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allows required loads to be done automatically. For example, if scrip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needs scrip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be present,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specify in the code tha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loa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5" descr="MCDD00072_0000[1]"/>
          <p:cNvPicPr/>
          <p:nvPr/>
        </p:nvPicPr>
        <p:blipFill>
          <a:blip r:embed="rId1"/>
          <a:stretch/>
        </p:blipFill>
        <p:spPr>
          <a:xfrm>
            <a:off x="7894800" y="189000"/>
            <a:ext cx="1066680" cy="110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89E6-2937-4EBA-AD3D-71A4B0239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 in V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default SALT is enabled when V12 is insta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disable SALT you can use the configuration me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MCj03223810000[1]"/>
          <p:cNvPicPr/>
          <p:nvPr/>
        </p:nvPicPr>
        <p:blipFill>
          <a:blip r:embed="rId1"/>
          <a:stretch/>
        </p:blipFill>
        <p:spPr>
          <a:xfrm>
            <a:off x="3059280" y="3933720"/>
            <a:ext cx="3024000" cy="20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D259-8C90-44F0-867C-DAF911C4F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quired Lo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4" descr=""/>
          <p:cNvPicPr/>
          <p:nvPr/>
        </p:nvPicPr>
        <p:blipFill>
          <a:blip r:embed="rId1"/>
          <a:stretch/>
        </p:blipFill>
        <p:spPr>
          <a:xfrm>
            <a:off x="3276720" y="4653000"/>
            <a:ext cx="2514600" cy="17524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5" descr=""/>
          <p:cNvPicPr/>
          <p:nvPr/>
        </p:nvPicPr>
        <p:blipFill>
          <a:blip r:embed="rId2"/>
          <a:stretch/>
        </p:blipFill>
        <p:spPr>
          <a:xfrm>
            <a:off x="6084720" y="4410000"/>
            <a:ext cx="2762280" cy="197172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6" descr=""/>
          <p:cNvPicPr/>
          <p:nvPr/>
        </p:nvPicPr>
        <p:blipFill>
          <a:blip r:embed="rId3"/>
          <a:stretch/>
        </p:blipFill>
        <p:spPr>
          <a:xfrm>
            <a:off x="4788000" y="1773360"/>
            <a:ext cx="3705120" cy="2047680"/>
          </a:xfrm>
          <a:prstGeom prst="rect">
            <a:avLst/>
          </a:prstGeom>
          <a:ln w="0">
            <a:noFill/>
          </a:ln>
        </p:spPr>
      </p:pic>
      <p:sp>
        <p:nvSpPr>
          <p:cNvPr id="636" name="Line 7"/>
          <p:cNvSpPr/>
          <p:nvPr/>
        </p:nvSpPr>
        <p:spPr>
          <a:xfrm>
            <a:off x="6227640" y="3429000"/>
            <a:ext cx="21600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8" descr=""/>
          <p:cNvPicPr/>
          <p:nvPr/>
        </p:nvPicPr>
        <p:blipFill>
          <a:blip r:embed="rId4"/>
          <a:stretch/>
        </p:blipFill>
        <p:spPr>
          <a:xfrm>
            <a:off x="250920" y="1989000"/>
            <a:ext cx="4381560" cy="2476800"/>
          </a:xfrm>
          <a:prstGeom prst="rect">
            <a:avLst/>
          </a:prstGeom>
          <a:ln w="0">
            <a:noFill/>
          </a:ln>
        </p:spPr>
      </p:pic>
      <p:sp>
        <p:nvSpPr>
          <p:cNvPr id="638" name="Line 9"/>
          <p:cNvSpPr/>
          <p:nvPr/>
        </p:nvSpPr>
        <p:spPr>
          <a:xfrm flipH="1">
            <a:off x="4067280" y="3213000"/>
            <a:ext cx="2017440" cy="15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10"/>
          <p:cNvSpPr/>
          <p:nvPr/>
        </p:nvSpPr>
        <p:spPr>
          <a:xfrm>
            <a:off x="1908000" y="3213000"/>
            <a:ext cx="4751640" cy="172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11"/>
          <p:cNvSpPr/>
          <p:nvPr/>
        </p:nvSpPr>
        <p:spPr>
          <a:xfrm flipH="1" flipV="1">
            <a:off x="4355640" y="5229000"/>
            <a:ext cx="201636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12" descr="MCDD00072_0000[1]"/>
          <p:cNvPicPr/>
          <p:nvPr/>
        </p:nvPicPr>
        <p:blipFill>
          <a:blip r:embed="rId5"/>
          <a:stretch/>
        </p:blipFill>
        <p:spPr>
          <a:xfrm>
            <a:off x="7894800" y="189000"/>
            <a:ext cx="1066680" cy="110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12" descr=""/>
          <p:cNvPicPr/>
          <p:nvPr/>
        </p:nvPicPr>
        <p:blipFill>
          <a:blip r:embed="rId1"/>
          <a:stretch/>
        </p:blipFill>
        <p:spPr>
          <a:xfrm>
            <a:off x="1571760" y="2857680"/>
            <a:ext cx="6143400" cy="3433680"/>
          </a:xfrm>
          <a:prstGeom prst="rect">
            <a:avLst/>
          </a:prstGeom>
          <a:ln w="0">
            <a:noFill/>
          </a:ln>
        </p:spPr>
      </p:pic>
      <p:sp>
        <p:nvSpPr>
          <p:cNvPr id="64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7DA1-024A-41C5-B746-53F332828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re not part of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ut were created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They are located under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Tool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5"/>
          <p:cNvSpPr/>
          <p:nvPr/>
        </p:nvSpPr>
        <p:spPr>
          <a:xfrm>
            <a:off x="1828800" y="5548320"/>
            <a:ext cx="965160" cy="2412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6"/>
          <p:cNvSpPr/>
          <p:nvPr/>
        </p:nvSpPr>
        <p:spPr>
          <a:xfrm>
            <a:off x="3516480" y="3249720"/>
            <a:ext cx="792000" cy="2412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7" descr="MCj03659280000[1]"/>
          <p:cNvPicPr/>
          <p:nvPr/>
        </p:nvPicPr>
        <p:blipFill>
          <a:blip r:embed="rId2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3" descr=""/>
          <p:cNvPicPr/>
          <p:nvPr/>
        </p:nvPicPr>
        <p:blipFill>
          <a:blip r:embed="rId3"/>
          <a:stretch/>
        </p:blipFill>
        <p:spPr>
          <a:xfrm>
            <a:off x="1571760" y="2857680"/>
            <a:ext cx="61434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9E7E-09FD-4E49-8061-2BC792B44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CallingT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50560" y="1644120"/>
            <a:ext cx="878508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utility allows to view the calling tree of a fn in a namespace or to cross-reference all the functions and their references. To use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←⎕new CallingTree ‘file\class -option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.Calls ‘ctor -view’ ⍝ show calls from &lt;ctor&gt;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.View ⍝ to view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.Xref  ⍝ produce a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oss-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7" descr=""/>
          <p:cNvPicPr/>
          <p:nvPr/>
        </p:nvPicPr>
        <p:blipFill>
          <a:blip r:embed="rId1"/>
          <a:stretch/>
        </p:blipFill>
        <p:spPr>
          <a:xfrm>
            <a:off x="4059360" y="4410000"/>
            <a:ext cx="2084400" cy="23050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8" descr="MCj03659280000[1]"/>
          <p:cNvPicPr/>
          <p:nvPr/>
        </p:nvPicPr>
        <p:blipFill>
          <a:blip r:embed="rId2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E410-1ABC-4B5F-9367-57DB7B9FE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fileUt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58560" y="1557360"/>
            <a:ext cx="8785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file contains a namespace with fns to e.g. traverse a directory tree using 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n &lt;showExpr&gt; allows to show regular expressions in text (&amp; Unicode) files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\temp -type=php -rec’ </a:t>
            </a: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showExpr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 ‘\bA.*= *123\b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show names starting with ‘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’ being assigned the number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123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PH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iles under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\tem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re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siv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5" descr="MCj03659280000[1]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6CC2-E01F-4522-B409-378210FDA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Reg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gexMat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lass allows to create a Regex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.N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stance given a pattern and possibly o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ptions are m=multiline (default), s=singleline, i=case insen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attern accepts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⍺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APL name and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⍵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a number, e.g.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⍺  ⍺←⍵  ⍵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eans 2 names assigned 2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4" descr="MCj03659280000[1]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797C-ACAF-4673-95FD-D6CD24EEB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comp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namespace contains functions to perform compari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 &lt;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ompecv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 produces a report of the differences between 2 lists of strings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([]NR ‘Fa’)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ompecv 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([]NR ‘Fb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compare 2 functions and show where lines have been deleted, inserted and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4" descr="MCj03659280000[1]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076E-CF83-402B-8723-020E5223B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NSto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namespace found in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Lib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ains functions to perform conversion of namespaces to []SRC form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 &lt;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onver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 takes the name of a namespace and changes it into sourced mode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NStoScript.Convert   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myname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convert it. You can then edit it and store it using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4" descr="MCj03659280000[1]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A77C-FD6E-4384-9219-961E331F4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WordArt 4"/>
          <p:cNvSpPr txBox="1"/>
          <p:nvPr/>
        </p:nvSpPr>
        <p:spPr>
          <a:xfrm>
            <a:off x="2124000" y="2133720"/>
            <a:ext cx="4988160" cy="27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9933"/>
                    </a:gs>
                    <a:gs pos="100000">
                      <a:srgbClr val="ff00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PIC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ff9933"/>
                  </a:gs>
                  <a:gs pos="100000">
                    <a:srgbClr val="ff0000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1EC8-12A4-48E4-85CB-41EBA9D13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is a cover for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reates an input area at the bottom of the screen to issue commands using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can be initialized directly from SAL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5" descr=""/>
          <p:cNvPicPr/>
          <p:nvPr/>
        </p:nvPicPr>
        <p:blipFill>
          <a:blip r:embed="rId2"/>
          <a:stretch/>
        </p:blipFill>
        <p:spPr>
          <a:xfrm>
            <a:off x="2484360" y="4076640"/>
            <a:ext cx="42861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EEEC-F8EA-43D6-A9F2-A03EF7D5D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can also be started automatically by setting SALT registry key AddSPICE to ‘1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6" descr=""/>
          <p:cNvPicPr/>
          <p:nvPr/>
        </p:nvPicPr>
        <p:blipFill>
          <a:blip r:embed="rId2"/>
          <a:stretch/>
        </p:blipFill>
        <p:spPr>
          <a:xfrm>
            <a:off x="1546200" y="2908440"/>
            <a:ext cx="6121440" cy="3041640"/>
          </a:xfrm>
          <a:prstGeom prst="rect">
            <a:avLst/>
          </a:prstGeom>
          <a:ln w="0">
            <a:noFill/>
          </a:ln>
        </p:spPr>
      </p:pic>
      <p:sp>
        <p:nvSpPr>
          <p:cNvPr id="692" name="Oval 7"/>
          <p:cNvSpPr/>
          <p:nvPr/>
        </p:nvSpPr>
        <p:spPr>
          <a:xfrm>
            <a:off x="5689440" y="4178160"/>
            <a:ext cx="274680" cy="309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F222-41F1-418D-904C-648806632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 in V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onfiguration men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2006640" y="2185920"/>
            <a:ext cx="5641920" cy="4145040"/>
          </a:xfrm>
          <a:prstGeom prst="rect">
            <a:avLst/>
          </a:prstGeom>
          <a:ln w="0">
            <a:noFill/>
          </a:ln>
        </p:spPr>
      </p:pic>
      <p:sp>
        <p:nvSpPr>
          <p:cNvPr id="90" name="Oval 6"/>
          <p:cNvSpPr/>
          <p:nvPr/>
        </p:nvSpPr>
        <p:spPr>
          <a:xfrm>
            <a:off x="1967040" y="2786040"/>
            <a:ext cx="1104840" cy="571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B954-0988-4D37-9247-DE2C545D1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PICE in V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onfiguration men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5" descr=""/>
          <p:cNvPicPr/>
          <p:nvPr/>
        </p:nvPicPr>
        <p:blipFill>
          <a:blip r:embed="rId1"/>
          <a:stretch/>
        </p:blipFill>
        <p:spPr>
          <a:xfrm>
            <a:off x="2006640" y="2185920"/>
            <a:ext cx="5641920" cy="4145040"/>
          </a:xfrm>
          <a:prstGeom prst="rect">
            <a:avLst/>
          </a:prstGeom>
          <a:ln w="0">
            <a:noFill/>
          </a:ln>
        </p:spPr>
      </p:pic>
      <p:sp>
        <p:nvSpPr>
          <p:cNvPr id="698" name="Oval 6"/>
          <p:cNvSpPr/>
          <p:nvPr/>
        </p:nvSpPr>
        <p:spPr>
          <a:xfrm>
            <a:off x="1967040" y="3071880"/>
            <a:ext cx="1104840" cy="57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lide Number Placeholder 7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A478-13F8-4196-A951-25CF6DF54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6337440" cy="43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lso use the included SALT workspace to enable or disable SAL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load S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SP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bleSP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Picture 4" descr="MCj03078450000[1]"/>
          <p:cNvPicPr/>
          <p:nvPr/>
        </p:nvPicPr>
        <p:blipFill>
          <a:blip r:embed="rId1"/>
          <a:stretch/>
        </p:blipFill>
        <p:spPr>
          <a:xfrm>
            <a:off x="6877080" y="476280"/>
            <a:ext cx="1828800" cy="163044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5" descr=""/>
          <p:cNvPicPr/>
          <p:nvPr/>
        </p:nvPicPr>
        <p:blipFill>
          <a:blip r:embed="rId2"/>
          <a:stretch/>
        </p:blipFill>
        <p:spPr>
          <a:xfrm>
            <a:off x="3348000" y="2617920"/>
            <a:ext cx="4897440" cy="4016160"/>
          </a:xfrm>
          <a:prstGeom prst="rect">
            <a:avLst/>
          </a:prstGeom>
          <a:ln w="0">
            <a:noFill/>
          </a:ln>
        </p:spPr>
      </p:pic>
      <p:sp>
        <p:nvSpPr>
          <p:cNvPr id="705" name="Oval 7"/>
          <p:cNvSpPr/>
          <p:nvPr/>
        </p:nvSpPr>
        <p:spPr>
          <a:xfrm>
            <a:off x="3448080" y="4857840"/>
            <a:ext cx="1104840" cy="57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E54A-7470-41B6-AF96-A4D4600F1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get a list of all available commands you enter ‘?’ in the input ar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7" descr=""/>
          <p:cNvPicPr/>
          <p:nvPr/>
        </p:nvPicPr>
        <p:blipFill>
          <a:blip r:embed="rId2"/>
          <a:stretch/>
        </p:blipFill>
        <p:spPr>
          <a:xfrm>
            <a:off x="2124000" y="2374920"/>
            <a:ext cx="5256360" cy="3987720"/>
          </a:xfrm>
          <a:prstGeom prst="rect">
            <a:avLst/>
          </a:prstGeom>
          <a:ln w="0">
            <a:noFill/>
          </a:ln>
        </p:spPr>
      </p:pic>
      <p:sp>
        <p:nvSpPr>
          <p:cNvPr id="712" name="Oval 8"/>
          <p:cNvSpPr/>
          <p:nvPr/>
        </p:nvSpPr>
        <p:spPr>
          <a:xfrm>
            <a:off x="2152800" y="5689440"/>
            <a:ext cx="274320" cy="309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5D01-2931-459B-A6B6-26B58C11A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loc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cat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gex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locate strings in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locate </a:t>
            </a: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abc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loc </a:t>
            </a: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‘\[‘,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find where the character ‘[‘ is catenated to the left (we must add ‘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\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’ to prevent ‘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[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‘ from being interpreted as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gex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ymb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Picture 5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01F5-948B-41DD-B977-7E8C3831A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pr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props 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returns the properties of objec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f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their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also shows its ChildList and its Event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79D8-39E1-4B5A-89E2-ADD8DE1B3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SALT comm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he SALT commands bu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New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be issued here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compare file1 file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compare file1 -ver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list 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load myf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emoveversions filex -v=&lt;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203C-D733-4296-8333-1094BF801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fndif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compare 2 functions in the workspace. This is the Dfn &lt;fndiff&gt; implemented as a SPICE comma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fndiff fnA fn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FF6D-8F53-46D7-8F3A-73B34136E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ca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shows the calls made by a fn in a script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calls file f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utput can be simple (fns only) or detailed showing if elements are local, global, glocal, labels, used, etc. It takes into account ⍎, []TRAP str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utput can be viewed in a tree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290A-A272-42A3-95E3-CB0A3F1BF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calls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08000" y="1600200"/>
            <a:ext cx="388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the details of calls made by fn Run in file spice\Pro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is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!  is unused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 is glo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 is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5" descr=""/>
          <p:cNvPicPr/>
          <p:nvPr/>
        </p:nvPicPr>
        <p:blipFill>
          <a:blip r:embed="rId2"/>
          <a:stretch/>
        </p:blipFill>
        <p:spPr>
          <a:xfrm>
            <a:off x="3924360" y="1557360"/>
            <a:ext cx="4876920" cy="3409920"/>
          </a:xfrm>
          <a:prstGeom prst="rect">
            <a:avLst/>
          </a:prstGeom>
          <a:ln w="0">
            <a:noFill/>
          </a:ln>
        </p:spPr>
      </p:pic>
      <p:sp>
        <p:nvSpPr>
          <p:cNvPr id="744" name="Rectangle 6"/>
          <p:cNvSpPr/>
          <p:nvPr/>
        </p:nvSpPr>
        <p:spPr>
          <a:xfrm>
            <a:off x="4105440" y="2862360"/>
            <a:ext cx="792000" cy="1699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7"/>
          <p:cNvSpPr/>
          <p:nvPr/>
        </p:nvSpPr>
        <p:spPr>
          <a:xfrm>
            <a:off x="4859280" y="3319560"/>
            <a:ext cx="792360" cy="1699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8"/>
          <p:cNvSpPr/>
          <p:nvPr/>
        </p:nvSpPr>
        <p:spPr>
          <a:xfrm>
            <a:off x="4500720" y="3068640"/>
            <a:ext cx="431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0066-C7E7-40E0-A2ED-C81EAA981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calls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28036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me example viewed in a tree objects by adding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tre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the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9" descr=""/>
          <p:cNvPicPr/>
          <p:nvPr/>
        </p:nvPicPr>
        <p:blipFill>
          <a:blip r:embed="rId2"/>
          <a:stretch/>
        </p:blipFill>
        <p:spPr>
          <a:xfrm>
            <a:off x="468360" y="3429000"/>
            <a:ext cx="7991280" cy="1884240"/>
          </a:xfrm>
          <a:prstGeom prst="rect">
            <a:avLst/>
          </a:prstGeom>
          <a:ln w="0">
            <a:noFill/>
          </a:ln>
        </p:spPr>
      </p:pic>
      <p:sp>
        <p:nvSpPr>
          <p:cNvPr id="753" name="Rectangle 10"/>
          <p:cNvSpPr/>
          <p:nvPr/>
        </p:nvSpPr>
        <p:spPr>
          <a:xfrm>
            <a:off x="4592520" y="4149720"/>
            <a:ext cx="8971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11"/>
          <p:cNvSpPr/>
          <p:nvPr/>
        </p:nvSpPr>
        <p:spPr>
          <a:xfrm>
            <a:off x="784080" y="4537080"/>
            <a:ext cx="8971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2"/>
          <p:cNvSpPr/>
          <p:nvPr/>
        </p:nvSpPr>
        <p:spPr>
          <a:xfrm flipH="1">
            <a:off x="1692000" y="4292640"/>
            <a:ext cx="2879640" cy="288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6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29E6-F6BB-449D-B07A-0A933E437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7559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me SALT registry ke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gistry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KEY_CURRENT_USER\Software\Dyalog\Dyalog APL/W 12.0\S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ins some keys which must be specified a val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MCj03078450000[1]"/>
          <p:cNvPicPr/>
          <p:nvPr/>
        </p:nvPicPr>
        <p:blipFill>
          <a:blip r:embed="rId1"/>
          <a:stretch/>
        </p:blipFill>
        <p:spPr>
          <a:xfrm>
            <a:off x="6877080" y="476280"/>
            <a:ext cx="1828800" cy="163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539640" y="3357720"/>
          <a:ext cx="8147160" cy="2768400"/>
        </p:xfrm>
        <a:graphic>
          <a:graphicData uri="http://schemas.openxmlformats.org/drawingml/2006/table">
            <a:tbl>
              <a:tblPr/>
              <a:tblGrid>
                <a:gridCol w="1752840"/>
                <a:gridCol w="2320920"/>
                <a:gridCol w="4073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Default Set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What is i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Add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Controls whether SALT is initialized when the session file is load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CompareC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AP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pecifies how to call a file comparison utilit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ourceFol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[Dyalog]\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pecifies folders for source files separated by ";". Default folder is located below the main Dyalog fold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EditorC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notepad.e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pecifies which program to run to edit script files outside AP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9602-854E-48B2-9335-107267B45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5400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allows to see the scope (Public, Shared, Ctor, Dtor), size and syntax of functions is a f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9" descr=""/>
          <p:cNvPicPr/>
          <p:nvPr/>
        </p:nvPicPr>
        <p:blipFill>
          <a:blip r:embed="rId2"/>
          <a:stretch/>
        </p:blipFill>
        <p:spPr>
          <a:xfrm>
            <a:off x="5940360" y="1700280"/>
            <a:ext cx="281952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2A35-AB9F-42A7-AD1B-3A99779A1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xr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shows a cross-reference of all the objects made by all the fns in a script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ref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ymbol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ame as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5" descr=""/>
          <p:cNvPicPr/>
          <p:nvPr/>
        </p:nvPicPr>
        <p:blipFill>
          <a:blip r:embed="rId2"/>
          <a:stretch/>
        </p:blipFill>
        <p:spPr>
          <a:xfrm>
            <a:off x="3635280" y="2622600"/>
            <a:ext cx="479592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1709-A72F-46F0-86E0-ED1BC7956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&amp; SPICE are to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can be used as a start point to maintain code and small appl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sses provide new ways to make code sharing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provides a way to do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AutoShape 4"/>
          <p:cNvSpPr/>
          <p:nvPr/>
        </p:nvSpPr>
        <p:spPr>
          <a:xfrm flipV="1">
            <a:off x="8244000" y="476280"/>
            <a:ext cx="287280" cy="5032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1273-5598-4BBB-AD0D-95F07803C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hort 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information can be found in the SALT doc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alog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4"/>
          <p:cNvSpPr/>
          <p:nvPr/>
        </p:nvSpPr>
        <p:spPr>
          <a:xfrm flipV="1">
            <a:off x="7956720" y="548280"/>
            <a:ext cx="863280" cy="4316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3:21:21Z</dcterms:created>
  <dc:creator>DanB</dc:creator>
  <dc:description/>
  <dc:language>en-US</dc:language>
  <cp:lastModifiedBy>Danb</cp:lastModifiedBy>
  <dcterms:modified xsi:type="dcterms:W3CDTF">2008-09-13T14:27:47Z</dcterms:modified>
  <cp:revision>89</cp:revision>
  <dc:subject/>
  <dc:title>SALT in Dyalog</dc:title>
</cp:coreProperties>
</file>