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6C8A-1F44-44F6-9206-1D71E8E0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1C5-596B-42A4-8EC8-35CA9F4A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781-DAAF-47A5-B4B0-60F4D2F6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3DA2-E9BE-4C4A-9DC1-2F4D1286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FEEF-F52E-401A-8AAC-7E4F00D3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F91-8973-455B-BB09-D800F1CC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E82-C077-4917-8676-0F812D02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14F-75E5-4E27-BCB5-EC2E007E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880-7D65-4CCF-98C7-F6AA40C4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182-0F13-46DC-90A0-59CF1DC2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0C7F-00A2-48E9-B4B7-A8FA5F7C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1A59-4CCA-48F5-8131-3BBB9C4D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9208-92F4-4F90-BFE0-D2096377A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7AE6-BF40-42CC-9B47-01A2E675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ACE3-5F30-4F2F-90F9-1A383D53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8FD2-8F0A-4D31-A7BB-9F62B3A9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DB37-5046-4263-8A89-1C42AB73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000-BDB4-43C3-901F-4DEC40A5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AE5-8CB9-4D1A-9BA4-BCDA3296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056-2D79-4C8D-ACBE-A6243734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9F1-9E00-463B-8EF8-CB778FB8C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F17-1B15-4B2A-A8ED-A807DE62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7C0-624C-4B82-9976-AF0CA826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B12-D313-4B50-9DFC-E78ECF1C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F7E5-2568-4E32-BE6A-304F339C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5D27-A11D-4054-B58E-15AB4EB4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1763-3DA6-4757-B7DB-B1BFA4F1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52E-2983-4651-B366-2828872B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C1A-800F-4BD7-957B-15AFF331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E28-508F-453A-BFA2-22D9420E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A15F-5A28-4B00-8965-3E409096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133-4004-4D0C-BC4A-B84CA7A2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C278-CAE4-4D99-AA14-9A4C448B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01B-9DDD-40A2-84B3-B546A0DE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976-A65D-4471-B1B5-D48DEFDE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7739-4681-4F90-B8B5-570E5F85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42DD-5339-4F6C-AD03-163F7848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80C-7611-4275-A5F3-4000E765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94C-D500-4026-95CB-A7D4B958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CB4-80B4-4734-BC4E-C7BB9BA87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121-D049-4E52-BDB3-5EDCA390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5D4-F4AF-4E02-9F45-26DD5866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9EC-18B3-48BA-9928-5A62DCBD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16F-3B1B-40BA-A6CE-F9F502584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696-DD12-4391-B20F-10F94C4C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99EF-96BD-4939-8F7F-BFE28533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B2D-F3D8-41F2-BE0B-D3AC3078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2FF-51D1-4F0C-B19E-479E310A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5C5A-DCC7-47C3-9206-AD9CD384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779-B665-4230-A1B0-BCF9EB6E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7D9-3C64-4449-BE53-2AE4A814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200-9362-4A90-9BF9-E7D467BD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1FA-34F3-4FF0-8048-B5BB2967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CF5-E634-4F70-AC74-163EBBAD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C259-9DA8-4668-80F2-2D68FA7E4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D954-3CF7-402B-9DA0-E7FDADB1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A2E3-A17A-4560-A43F-9CC2BB85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875-84C3-4FBC-8B4C-DC1F4ADF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21F-3830-48D6-A3FD-944A3FA3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400-D444-490E-94C1-8849205E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5D1-CE57-4F97-9E94-2541374F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B088-620F-48D0-95C5-A3A9BF67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836-DA8C-4316-8183-3D386275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B7E-3E64-4E74-B380-F0D05296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485-94FC-4EB6-8267-CECCA1D9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851-DAC1-451B-A709-43446A7D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B03-9ACC-4E59-89B1-5C00DB34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02C-5494-4021-AE73-F47B4034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4F77-D8CA-478E-86A4-A2E78AEA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058A-5559-4FFA-B9CD-0860BA40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044-D4AC-4383-AB53-FE4A3A6AD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49F-F5B7-4A2A-97F7-289A5EA5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9C3-E883-41D8-97CA-600D8A9E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7B8-6DE3-4975-8008-59095BB9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629-17FE-44D0-BFC1-CAA79BCB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7ED-9592-4E06-B7A7-ECC5E30E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FCD6-5267-4EA1-B947-96E20D31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3B46-927E-4083-BAE1-CD3E016E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7F10-AB39-407D-8D60-8AFA978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BFA-37B5-483C-B200-88DCDD8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71E-1334-4412-8D7B-3E000A97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75BD-AFC4-472C-8E35-1FAB705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5FA7-55B1-4472-B2F7-67494B3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227-9BE9-4A60-83FE-4C80F6E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EF11-A41F-4988-B9A9-8E9E7D7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E075-F54D-4F6A-818D-D3F0B34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E1DD-9EDC-4266-8AB4-572D2D06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E36-7B9F-41DD-BA9D-4C3AA61C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A4C-E6DB-48AC-A01E-E516DA1D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254-FB8F-4C54-BB90-0BB5F1C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B4E-6548-4E32-A353-5065D6D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7C8-7F27-4C41-B52F-557F880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588-7CCF-47EE-9BD2-66CE38F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8B0-86B7-4B73-9AF9-7164A52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DAB-E518-4084-80CB-FDE2CA7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B52-A32A-4E0A-B7F8-0A4FB866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B50-26A1-4658-A9AA-BA769B3E18BC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D00-6F28-4771-96B8-E13499F2487A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15890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   ⍝ even if assigned a new nam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what does this look lik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   ⍝ it “remembers” its refere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⍬≡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 is still just a ref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s display has a lengt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v11←’var’ ⍝ If we change th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⎕fx ‘f1’ ‘...’ ⍝ contents of s1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t1.s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2 3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abc will “see”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’abc’  ‘t1’  ‘t1.s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869000"/>
            <a:ext cx="3745080" cy="865080"/>
            <a:chOff x="539640" y="4869000"/>
            <a:chExt cx="3745080" cy="865080"/>
          </a:xfrm>
        </p:grpSpPr>
        <p:sp>
          <p:nvSpPr>
            <p:cNvPr id="294" name="Rectangle 4"/>
            <p:cNvSpPr/>
            <p:nvPr/>
          </p:nvSpPr>
          <p:spPr>
            <a:xfrm>
              <a:off x="3276720" y="486900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37372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37372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692360" y="486900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37372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7280" y="486900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 2  3   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"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08-10-03T01:49:20Z</dcterms:modified>
  <cp:revision>43</cp:revision>
  <dc:subject/>
  <dc:title>Slide 1</dc:title>
</cp:coreProperties>
</file>