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56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050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013C-9F99-4B58-AE34-760665548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344664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77C6-B203-4B52-97C8-9DA01E848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468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1152-F51C-4E4D-AEFD-7804287CD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660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660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1409-5049-49EA-ACF8-AB4330BCC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83B0-7B1E-41D9-888E-EEC6AFE6E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7E5B-7F1D-4755-B6DA-6B4BB30E7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8920-3F8A-499B-9314-8A63917E7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D57C-BA9C-43FA-BC53-AB77C3CC9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9600" y="412560"/>
            <a:ext cx="67770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C90F-A43A-4385-AC49-342F6DF9D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B678-B283-41F9-B5F0-46E07E8E9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468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022E-AEC2-4D44-8511-B5CCE2FC9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CEFC-F906-4FA1-9BFF-9CC7A195B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1" marL="190440" indent="-1890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SzPct val="92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2" marL="387360" indent="-19512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3" marL="598320" indent="-20772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4" marL="806400" indent="-20808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5" marL="806400" indent="-208080">
              <a:lnSpc>
                <a:spcPct val="126000"/>
              </a:lnSpc>
              <a:spcBef>
                <a:spcPts val="1137"/>
              </a:spcBef>
              <a:buClr>
                <a:srgbClr val="00000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6" marL="806400" indent="-208080">
              <a:lnSpc>
                <a:spcPct val="126000"/>
              </a:lnSpc>
              <a:spcBef>
                <a:spcPts val="1137"/>
              </a:spcBef>
              <a:buClr>
                <a:srgbClr val="00000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Line 6"/>
          <p:cNvSpPr/>
          <p:nvPr/>
        </p:nvSpPr>
        <p:spPr>
          <a:xfrm>
            <a:off x="949320" y="1111320"/>
            <a:ext cx="1440" cy="541476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Line 7"/>
          <p:cNvSpPr/>
          <p:nvPr/>
        </p:nvSpPr>
        <p:spPr>
          <a:xfrm>
            <a:off x="8913960" y="352440"/>
            <a:ext cx="1440" cy="5415120"/>
          </a:xfrm>
          <a:prstGeom prst="line">
            <a:avLst/>
          </a:prstGeom>
          <a:ln w="4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Line 8"/>
          <p:cNvSpPr/>
          <p:nvPr/>
        </p:nvSpPr>
        <p:spPr>
          <a:xfrm>
            <a:off x="5773680" y="1174680"/>
            <a:ext cx="3719520" cy="180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96572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indent="0" algn="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a-DK" sz="900" spc="-1" strike="noStrike">
                <a:solidFill>
                  <a:srgbClr val="264e84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DA1484-B1E4-437B-898E-34214BECBA0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464600" y="547560"/>
            <a:ext cx="1358640" cy="4874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1650960" y="1274760"/>
            <a:ext cx="66024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t-practice.dk/" TargetMode="External"/><Relationship Id="rId2" Type="http://schemas.openxmlformats.org/officeDocument/2006/relationships/hyperlink" Target="http://www.six.dk/" TargetMode="External"/><Relationship Id="rId3" Type="http://schemas.openxmlformats.org/officeDocument/2006/relationships/hyperlink" Target="http://www.techila.f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6394320" y="476280"/>
            <a:ext cx="2541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a-DK" sz="1200" spc="-1" strike="noStrike">
                <a:solidFill>
                  <a:srgbClr val="264e84"/>
                </a:solidFill>
                <a:latin typeface="Trebuchet MS"/>
              </a:rPr>
              <a:t>October 2008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Line 2"/>
          <p:cNvSpPr/>
          <p:nvPr/>
        </p:nvSpPr>
        <p:spPr>
          <a:xfrm>
            <a:off x="939960" y="2652840"/>
            <a:ext cx="1440" cy="388116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52560" y="2652840"/>
            <a:ext cx="5514840" cy="555480"/>
          </a:xfrm>
          <a:prstGeom prst="rect">
            <a:avLst/>
          </a:prstGeom>
          <a:solidFill>
            <a:srgbClr val="000000"/>
          </a:solidFill>
          <a:ln w="2844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9880" rIns="1889640" tIns="0" bIns="0" anchor="ctr">
            <a:noAutofit/>
          </a:bodyPr>
          <a:p>
            <a:pPr marL="6480">
              <a:lnSpc>
                <a:spcPct val="114000"/>
              </a:lnSpc>
              <a:tabLst>
                <a:tab algn="l" pos="0"/>
                <a:tab algn="l" pos="6480"/>
                <a:tab algn="l" pos="920880"/>
                <a:tab algn="l" pos="1835280"/>
                <a:tab algn="l" pos="2749680"/>
                <a:tab algn="l" pos="3664080"/>
                <a:tab algn="l" pos="4578480"/>
                <a:tab algn="l" pos="5492880"/>
                <a:tab algn="l" pos="6407280"/>
                <a:tab algn="l" pos="7321680"/>
                <a:tab algn="l" pos="8236080"/>
                <a:tab algn="l" pos="9150480"/>
                <a:tab algn="l" pos="10064880"/>
                <a:tab algn="l" pos="10333080"/>
                <a:tab algn="l" pos="10782360"/>
              </a:tabLst>
            </a:pPr>
            <a:r>
              <a:rPr b="1" lang="da-DK" sz="1500" spc="-1" strike="noStrike">
                <a:solidFill>
                  <a:srgbClr val="ffffff"/>
                </a:solidFill>
                <a:latin typeface="Trebuchet MS"/>
              </a:rPr>
              <a:t>FinE and Grid-Computing</a:t>
            </a:r>
            <a:r>
              <a:rPr b="1" lang="da-DK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875120" y="3871800"/>
            <a:ext cx="4184640" cy="555840"/>
          </a:xfrm>
          <a:prstGeom prst="rect">
            <a:avLst/>
          </a:prstGeom>
          <a:solidFill>
            <a:srgbClr val="000000"/>
          </a:solidFill>
          <a:ln w="2844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9880" rIns="1889640" tIns="0" bIns="0" anchor="ctr">
            <a:noAutofit/>
          </a:bodyPr>
          <a:p>
            <a:pPr marL="6480">
              <a:lnSpc>
                <a:spcPct val="114000"/>
              </a:lnSpc>
              <a:tabLst>
                <a:tab algn="l" pos="0"/>
                <a:tab algn="l" pos="6480"/>
                <a:tab algn="l" pos="920880"/>
                <a:tab algn="l" pos="1835280"/>
                <a:tab algn="l" pos="2749680"/>
                <a:tab algn="l" pos="3664080"/>
                <a:tab algn="l" pos="4578480"/>
                <a:tab algn="l" pos="5492880"/>
                <a:tab algn="l" pos="6407280"/>
                <a:tab algn="l" pos="7321680"/>
                <a:tab algn="l" pos="8236080"/>
                <a:tab algn="l" pos="9150480"/>
                <a:tab algn="l" pos="10064880"/>
                <a:tab algn="l" pos="10333080"/>
                <a:tab algn="l" pos="10782360"/>
              </a:tabLst>
            </a:pPr>
            <a:r>
              <a:rPr b="1" lang="da-DK" sz="1500" spc="-1" strike="noStrike">
                <a:solidFill>
                  <a:srgbClr val="ffffff"/>
                </a:solidFill>
                <a:latin typeface="Trebuchet MS"/>
              </a:rPr>
              <a:t>Presentation by Claus Madsen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2D3E4C-A59C-4191-862C-4A7DCEC01DDC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Jurisdictional specific models (27 countries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-bil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Zero-coupon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mortizing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ond Forwards and Fut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Bond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ing and Accrued Interest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 Imp. Yield Spread, Modified Duration and WA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and Japanese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st-Of-Carry analysi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arbell Strateg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27911F-5227-4DEF-AAA6-EFB1E5724706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nd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, Quadrati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apsFlo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ng model parameters using Caps/Floors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on of default probabilities using a variety of methods, for exampl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ing market prices of credit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ing the Transition Matrix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ransition Matrix too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ng the Transition Matrix for any time-perio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2BFC6-A3B5-4DA8-922C-2A8429BAD73A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Credit Bond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using either the Credit Curve or using the default probabilit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.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ing, keyfigures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DS, 1st to default, nth to defaul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DO’s – incl. STCDO and mor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87452C-7D5F-44D7-9954-7CCCCBE9F003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211400" y="1371600"/>
            <a:ext cx="7699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orre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Linear Correlation, Rank Correlation, Correlation assuming a GBM process and EWMA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on of the Correlation Matrix given a Target Correlation Matrix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T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Know the Market rules f0r CTD-Futures, for example: CBOT, EURONEXT, EUREX et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heapest-To-Deliver calculations and determination of Conversion-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CTD-Futures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Risk-Measures and 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Databas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Linking to internal database with Danish/Swedish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le data quer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and manage generic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and manage yieldcurves/swap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ng pool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54C704-DDCF-4BFA-AD23-F0B6333FEF0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211400" y="1268280"/>
            <a:ext cx="76993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FinE_Date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round 30 Functions to handle anything in connection with day-calculation and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19 Calendar Conven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uilt-in Holiday Calendars + The ability to Customize Holiday Calendars</a:t>
            </a: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Deb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dvanced payment structures – including for example Step-Up Coupon structures and variable amortization sched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ing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Equity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Europe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lack 76, Black-Scholes, Garman-Kohlhagen, Displaced Diffusion, CEV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Americ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rone-Adesi, Ju-Zhong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ful and flexible CRR implementatio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sensitivity numbers, like for example: Delta and Gam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441004-FA01-4BF9-B380-EAE04F4188F7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lexMBB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le and fast MC pricing engine with user contro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your own prepayment mod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pecify you own extended Flex MBB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ighly flexible pricing engine for Flex MBB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ser defined CPR/SQ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ser defined CK9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mp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886C17-43B0-4999-A25A-074DD49CBC61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loatingRate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Floating-Rate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ully flexible methods for specifying how to calculate the coupon, this includes for example: Super Coup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9A0CB-7532-45BB-9E7E-F4AFA4C078B3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143000" y="1295280"/>
            <a:ext cx="76993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orwar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RA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X Forward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quity and Commodity future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terest-Rate Future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X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Europe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Garman-Kohlhagen, Displaced Diffusion, CEV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Americ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rone-Adesi, Ju-Zhong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ful and flexible CRR implementatio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sensitivity numbers, like for example: Delta and Gam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6CBC0F-A154-47D9-B200-AE4F1DEC8A3E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143000" y="1295280"/>
            <a:ext cx="76993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HP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PR: “The return over a pre-defined period, given assumptions about the primo values of the assets, the removed cash flows, the refinancing of the removed cash flows and the ultimo values”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lexible and powerful generic HPR module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MBB prepayment model forecast in the calcu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prepayment schedul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Work with multiple Yield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ntrol OAS/NPV evolu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FinE_Inf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y CPI-Curve from IR-Changes and spill-over effec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orecast missing CPI-Data using standard ISDA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timating CPI-Curves using Inflation Swaps-or Index Bond Data – taken into account seasona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witching between Inflation-Rate curves and CPI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nstructing CPI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97BE0E-69AA-4B99-994A-D7F57D362AE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11400" y="1295280"/>
            <a:ext cx="76993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Index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ype of Index Bonds include OATs, UK Index-Linked Gilts (IGs), Swedish Index Bonds, TIIS and Danish Index Bonds or similar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Index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CPI-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dsholder til diasnummer 3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714D5B-DB30-47E0-880B-DF882D8BCDE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Dyalog APL in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CD8285-E98E-4C98-A2B1-A27FD250AA0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211400" y="1295280"/>
            <a:ext cx="76993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Inflation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Inflation Swaps using tailor-made functions – including YoY Inflation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-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of Spreads and Fixed Inflation Rat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MonteCarl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mulate models belonging to the MCEV cla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echniques for matching the initial yield-curv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veral ways to generate the random numbers - for example Box-Muelle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ultiple variance reduction techniques available, like for example Brownia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ridge and Measure Transform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8CB4BA-6F44-4C76-9955-BF9F87187C2B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MBB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reat MBBs as straight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Highly flexible pricing engine for MBB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CK93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CPR/SQ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CK9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ny Yield-Curve model from One-Factor Lattice can be use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MBB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fine your own prepayment mod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.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of refinancing profi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092175-64FC-4F5A-8F57-E33E76556E3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OneFactorLatti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odels: Hull-White, Black-Karisinski, BDT, Quadratic, CIR deterministic Shif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uropean, American or Bermuda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strument coverage: Bond-Options, Swaptions and Cap-Flo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ing and Risk-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ing model parameters using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Portfoli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s on portfolio lev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Grid Calculation Interfa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PC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ncipal component analysi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ng principal 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multaneously work with 5 different PCA mode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994914-42FC-44EF-A7FF-D512E6032FBA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Text Box 1027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Rectangle 1028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sis Swaps, Amortizing Swaps and Rollercoaster Swaps, Compounding Swaps, Libor-In-Arrears  and CMS/CM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 Swaps, Average Rate Swaps and General mismatch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terest Rate Swaps and Cross Currency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quity and Commodity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ar Swap Analysis and calculation of Libor-Spreads and Swap-Rat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Swa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ing model parameters using Swaptions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2EB3C-C042-4FCE-A84F-C85503A8837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Termstruct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e the Bond/MBB/Credit Yield-Curv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e the Swap Yield-Curve – includ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posits, FRA’s, Futures,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hift the Yield-Curve using Key-Rate Shifts, Bucket Shifts or Twis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Tools for Yield-Curve interpo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uild the Yield-Curve using your favorite Yield-Curve model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ull-White, Ho-Lee, CIR, CIR Extended, Quadratic, CIR Deterministic Shift, Vasicek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onstruct Forward Yield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N-period Historic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6 Univariate Garch Mode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Volatility assuming a GBM proce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W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Garch Volatility forecast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dsholder til diasnummer 3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368D40-A8E8-425C-AB98-C37BAE30CB3D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Dyalog APL in 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B0AB5E-B557-42A9-BA3D-58CB5D2E329D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Dyalog APL is used as an in-process OLE-Server – 99.9% af all APL is embedded in a Com-Object!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Other Software used in Fin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.NET package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hilkatDotNet2.dll – used for FTP, ZIP, XML and Crypt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AsPose.Cells.dll (.NET 2.0) – used for communicating with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LaPack – for some math (eigenvalue calculation etc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atLab Com-Object – is in the process of being replaced with Extreme.Numerics.dll (.NET 2.0) – for optimization et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C++ are used for connecting FinE-Core to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VBA for building the interface in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Generic Database Interface uses SQAPL 5.0, most widely use is with SQL-Server 200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st importantly – for the presentation here – we use Techila Grid for performing Grid-Computation! (Java + C++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16F107-58E6-43EC-9826-C35A5AFF3A60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Grid Computing…. Why is that of interest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ome type of Instruments are fairly complex, and to price them (even more importantly to obtain risk-measures) is therefore a relative slow proce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 Risk-Management – at least if we do not wish to rely on a Gaussian Distribution Assumption – we need to perform a lot of calculations in order to derive the return distribution for the portfoli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This is even more pronounced when perform “What-If” calculations!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 ALM (Asset-Liability-Management) we in general also need to perform many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Remark: All-in-All we need to do a huge amount of calculations, and even on a moderate complex portfolio that is time-cosuming!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D442F9-0042-4634-9120-9FBB34FB6DE5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mplementing Grid Computing in 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FL_Init initializes the Grid (incl. loading in methods from the Grid-dll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PortCalcula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f Grid is not available (or PortSetInGrid = “NO”), then all calculations are performed locall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f Grid is available (and PortSetInGrid = “YES”), then calculations are done in the Gri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The Main function is: RUN_PORTFOLIO_IN_GRI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F450C6-674F-4C91-8322-B40ADB7BB2DC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9600" y="693720"/>
            <a:ext cx="6778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ho is FinE Analytics 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inE Analytics was founded by Claus Madsen in 2001 on the idea of developing a framework system consisting of a central container of financial components, which can be used by all of the companys financial applications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s the interest for FinE increased, the need for more manpower increased. In 2002 Søren Andersen joined FinE Analytics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 2006 FinE made a partnership with IT-Practice A/S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www.it-practice.dk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urthermore, we have a partnership with Six Finansinformation A/S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www.six.dk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. (Danish and Swedish financial data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 2008 FinE made a partnership with Techila Technologies Ltd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ww.techila.fi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0F3C5A-F47D-4A5B-906C-681E16F45400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9600" y="693720"/>
            <a:ext cx="6778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hat do we have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inancial framework system, which covers all kinds of analysis, keyfigure calculations, pricing and risk management of a wide range of financial instruments and 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ramework system which offers efficient, centralised and robust financial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inansial system which is independent of the customers choice of database (for marketdata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ramework system that can be used directly from MS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e call the framework system: </a:t>
            </a:r>
            <a:r>
              <a:rPr b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687BFA-15CE-445D-833C-EDEF5EF0CF25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Dyalog APL in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About 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44241-6394-4412-B3C5-950347D80825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he core of FinE is a set of advanced financial components which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re built on 18 years of experience from similar development projects,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methods and calculations for a wide range of financial products – probably the largest range compared to any similar syste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Offers 1200+ financial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Very flexible and easy to integrate with other IT system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COM (.NET) interface with all the integration possibilities that these offer (VB, VBA, C++, C#, etc.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eb Services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Database indepencend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Use FinE with or without market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tegrates with all common databases (Oracle, Sybase, MS SQL Server)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Generic database interfa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AB7CE6-1813-4BC5-8501-AB90145E0F51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Q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Automated tests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ocus on new and relevant financial scien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p-to-date with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arket conven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ocus on operational optimization of financial problems =&gt; some of the fastest calculations in the market on e.g. motgage backed-bonds, RenteMax,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atabase independence and integration possibilities gives higher fiexibility towards the customers existing system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We keep a close contact with our customers and a very anxious to hear about specific methods and wishes for new componen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Extremely fast Time-To-Marke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1338120" y="1255680"/>
            <a:ext cx="3351240" cy="5052960"/>
          </a:xfrm>
          <a:prstGeom prst="rect">
            <a:avLst/>
          </a:prstGeom>
          <a:noFill/>
          <a:ln w="936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ligX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nd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apsFloor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Derivativ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orrelation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T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atabas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atefunc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ebt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Equity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lexMBB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loatingRate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5281560" y="1255680"/>
            <a:ext cx="3392640" cy="5068800"/>
          </a:xfrm>
          <a:prstGeom prst="rect">
            <a:avLst/>
          </a:prstGeom>
          <a:noFill/>
          <a:ln w="936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orwar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X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HP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flation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dex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flationDerivativ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MonteCarlo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MBB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OneFactorLattic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Portfolio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PCA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wap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wa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ystem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Termstructur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Volatility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2A5A-05EA-4E6E-BD8C-7A6595E1CC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F51A14-BB0B-409B-9C6A-4F91691A14CC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ligX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lexible and fast MC pricing engine with user contro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BoligX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 with optional convexity adjustmen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inE Analytics</dc:creator>
  <dc:description/>
  <dc:language>en-US</dc:language>
  <cp:lastModifiedBy>Claus Madsen</cp:lastModifiedBy>
  <dcterms:modified xsi:type="dcterms:W3CDTF">2008-10-10T13:10:49Z</dcterms:modified>
  <cp:revision>78</cp:revision>
  <dc:subject/>
  <dc:title>PowerPoint Presentation</dc:title>
</cp:coreProperties>
</file>