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  <p:sldId id="281" r:id="rId42"/>
    <p:sldId id="282" r:id="rId43"/>
    <p:sldId id="283" r:id="rId44"/>
    <p:sldId id="284" r:id="rId45"/>
    <p:sldId id="285" r:id="rId46"/>
    <p:sldId id="286" r:id="rId47"/>
    <p:sldId id="287" r:id="rId48"/>
    <p:sldId id="288" r:id="rId49"/>
    <p:sldId id="289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slide" Target="slides/slide26.xml"/><Relationship Id="rId43" Type="http://schemas.openxmlformats.org/officeDocument/2006/relationships/slide" Target="slides/slide27.xml"/><Relationship Id="rId44" Type="http://schemas.openxmlformats.org/officeDocument/2006/relationships/slide" Target="slides/slide28.xml"/><Relationship Id="rId45" Type="http://schemas.openxmlformats.org/officeDocument/2006/relationships/slide" Target="slides/slide29.xml"/><Relationship Id="rId46" Type="http://schemas.openxmlformats.org/officeDocument/2006/relationships/slide" Target="slides/slide30.xml"/><Relationship Id="rId47" Type="http://schemas.openxmlformats.org/officeDocument/2006/relationships/slide" Target="slides/slide31.xml"/><Relationship Id="rId48" Type="http://schemas.openxmlformats.org/officeDocument/2006/relationships/slide" Target="slides/slide32.xml"/><Relationship Id="rId49" Type="http://schemas.openxmlformats.org/officeDocument/2006/relationships/slide" Target="slides/slide33.xml"/><Relationship Id="rId50" Type="http://schemas.openxmlformats.org/officeDocument/2006/relationships/slide" Target="slides/slide34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dt" idx="4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move the slid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 type="ftr" idx="4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6"/>
          <p:cNvSpPr>
            <a:spLocks noGrp="1"/>
          </p:cNvSpPr>
          <p:nvPr>
            <p:ph type="sldNum" idx="4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F920F-D733-4785-A5D5-A599602A141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08985-EE0F-4196-9043-B41253CB6C1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4B3C0-4D94-494D-9629-A081B6BD8CB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60132-F848-4BBC-9F2A-9601385F3C1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C930D-CBF6-4D0C-84FE-DA915860C4E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8CFA4-0E55-45D1-B253-8FE2DBDD1F9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CF0AA-3CEA-4A8A-B732-A7EFB7FD295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78247-F674-4068-8F84-9A85A58E5ED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0D9DB-240D-4D4D-9AE2-F5C847E6E07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39DE1-0C73-4373-A6C9-AE707E84196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C5039-19E9-4F18-AAFD-FB84B48356D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84FD7-4081-4F26-94FB-65FD8E530AA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0F578-5A76-4D2C-87F5-F795D8B1349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4F368-28C1-450E-B912-5D3E7D17F2E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DCB9A-57CC-4C9C-85DC-4AD5624344A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6E4EE-B1FF-4069-9AF6-B59AC65A589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11E54-282E-4699-A5C3-004BDA25B9E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E29BA-C672-42B2-AE88-7F17691F968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EBE18-8D91-427D-98BE-90904E35120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77E03-93E3-4BC1-999D-634F21C461E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ACD18-D271-4D5D-8E55-FB2B185EC9C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2907E-8F9C-4E8F-A63F-6CCB66CB737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EBCE1-B54D-4721-AED6-63FF7364E59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9686E-E2BE-4835-8B3E-B401E4AFA18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240BD-BFBA-4B9A-A457-475B10A2F87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253B4-EC85-4CAD-B746-BA20A6FA35F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22588-2D42-40C9-BF09-9FA9A668345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E1581-ED41-4B2F-9F6A-733EF9FCC97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ACA03-2EA6-4F89-98FC-66F8321D237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2D240-090F-4B88-B20C-0BCDD1DB918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5F09E-786F-4F81-8DCF-7A2C0F32957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4B1D9-A13E-4D3D-A864-1471D7C7AB2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78951-1658-47FF-84DE-3B71825C873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2BE91-2DDD-4967-89B5-2A0E10F5CF0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D04FE-2FFE-4D18-8837-AE8F874977E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C758-8EA1-46E3-AE89-25DD73392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9B6A-F2A5-4AA6-B21D-7AE244250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CAF2654-708D-463C-ABDA-144229013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F7E1B8D-C9CF-487F-B28F-EEFF41970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4C39B42-4173-43D9-AF71-1202C2A7D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2ABB926-C76F-4BE5-A230-FE7C9D4DC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1760522-CD17-4992-AC3D-8572B556A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034C1DD-2808-4538-8BC1-DF4B370CC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028D21F-F5E9-4FA5-803E-87C8B9AD6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8CFBCDA-0947-4CBD-9CD2-205F96260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EA03EC8-41FB-49D4-A029-2EE330E97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41B406-BAC2-4F47-A6CC-D148A7E2E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5F57-6760-4B43-AF10-D326C0FE5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755733-D284-45CB-9936-A35C6394F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4EE593-8CBE-484C-A46B-82567BBEB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7F8D91-FF39-4137-9A37-C83F7C9DC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F2DA75-E8DF-408A-B43B-28995E7E8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8D672C-4247-4898-AC4A-633F45F9E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D0E91E-D433-4A6A-9338-A4DCDE9FA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2FFF3A-D0C6-45CB-9294-71D593CA9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8CCB65-603B-4DC1-8E22-3D4D81606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174B46-14ED-4743-81B9-EB4450FBA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7E20F7-31A8-4FD8-8A88-546E7B833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7CE4-F42E-4AFF-9AFF-16504BE03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4874F5-C91A-4C22-8D0D-6D9881D59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37B671-C585-4EC7-A41F-E2ABFA948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FCE027-7C47-4FB8-AB28-EA6E4CD25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8F2739-A00D-4FD3-BB33-DEA03395C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9248F9-DCA8-4EFF-856D-4C691147C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A17095-351D-4BD7-92A4-B9E6171F1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6A3F0C-23A7-4017-B896-993DF55A1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B8CD49-3DDA-455D-AE60-C4324D402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B509E4-CA0F-40B8-95D5-D27D6EAFF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FED958-AE83-481A-A72A-9D0B2224D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08213-9547-47C5-865E-0CC2C886F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8BECA2-D89E-4CDB-BE31-6D3B03DCE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B42D3E-84F1-4D83-85C0-729D0FBBA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45C169-4B30-4E08-AC95-4C32BFF76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31BC26-F299-4ADA-9B37-C664662C3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6CFBE1-343A-44A5-812F-50EBC8388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A81F32-D3DE-4DB6-8DE5-E30F0D04B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0E94A3-6362-4107-8C6F-19E431316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1D8FDD-A9FD-47CB-B11B-DFF0694D9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92B883-4E62-44F1-9D7B-67870D191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799900-A32F-4E1C-8E20-57E4A722F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A8BF4-D0C9-4B17-AF91-8B4E988AD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1DF6F7-52AD-498D-9C00-D6C36B3D8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96839E-2AE8-4911-A9A6-60ACE8AC9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A4B553-441B-47F5-AD00-8248E5B5A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DA6113-DDAF-4BD7-B8BD-78AA30ADC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57EC96-FB5D-4E94-9248-D9FF1A8B4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E6E990-48FC-4F10-A150-AE4BABC5B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AB7368-E75E-4A0F-B64C-D1AFFC069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554912-E1A1-41CA-861F-0DE6E3FD4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D3D232-8AF8-47B1-BCE7-1F62060BD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1E2C5E-1676-45AC-AAC8-64FBAA778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36088-131A-49BD-8CEB-8ED653179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EAF2EC-A865-4786-A379-0D891C3CC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07CEF3-C4C7-4635-8BDA-D51743B1E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8F58E5-14F1-4206-87D4-B006D0279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9184F3-83EE-45F0-9F62-2B587CF87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B2CC1A-D61D-4F3D-8150-EBDABBF38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D88261-7143-409A-B1E9-89DDE709F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BD6DEF-FCC6-4BFF-923F-6F6C6E2C5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995C27-EAE1-4EC6-861A-ABFD0C930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EE8E5D-E4E6-41B4-96B9-9A905FAE0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1481C8-901E-463C-A88D-7ACB51258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8F149-3D66-4BC5-8DC9-8A3EFBD31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09239F-8A75-48F7-B9A4-76884E22A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F5ED69-E2F9-4725-B63A-E6F756C09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EF719B-F0BB-4D83-BD1A-DFBE96135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4D6958-179A-4DFB-AD1D-CCDAD7865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F7259B-9696-4E4C-A8A1-B2B59A070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C280DD-1881-4283-AEA1-4AB6CA247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6F26DC-9D6C-4563-B823-08BBC55B3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8F4EC7-82D2-4B47-8CF5-E2299DD7A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1052CE-408A-4C29-A40A-CE7BAC9CA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52F6A-C1D6-47EB-B472-5F8FE0B58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933E3-CFF0-4F2D-9267-3BC72D92B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48EBE-7419-4FB6-BF3D-C711D6C65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3734-0B5E-49E3-A2F9-09272647E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705DD-CC02-438C-AA7F-4693E8E9E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9B02F-3D23-4CCA-A70D-99BE454D0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C51B1-2ACA-4C1D-AB73-FD8FD618A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60608-EDE0-43C8-AEFE-2C347E019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31098-22C3-4E67-9AF7-9AA53C97A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12F831-3632-436A-BF25-7E824345F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DB33CD-8FF0-4C3A-BF9C-995530099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3C6FA1-B010-48BD-B071-2C73C9E0A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E75014-75DA-4A63-A417-8DBB485F2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86BBD1-CC93-43CD-B9AB-F699EA1F8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1742-9328-40F9-8980-EAD1E95A1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F6C7C1-A128-4BCE-8C13-29F30FA3E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388BE2-F358-4E22-81C2-B78972410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0D8362-5506-4B7D-862C-D8F4179D5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3AB4D1-4F0E-4754-A065-5B419B7D6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3D7352-6F27-46CB-AE10-F28678324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18D1F9-B6A3-488C-9221-7252932A6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15BFB4-C03A-461C-8E9B-033030106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483040-3D24-48E9-B792-E4615707E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B1FF54-46BA-4031-BDE1-D853285AC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51EA8A-0542-47E5-92EF-7D5C452B7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F5E3-D487-4BF9-B305-C62DCE031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4138A1-A0AF-4024-8C4B-E46462972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89F64B-FF6C-46CE-A1F8-44209EF57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A8EC22-B75B-449B-A379-A82DD4C9C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F3EEEA-0093-4D9B-BF0C-C6474DBC7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32731E-D110-43F8-BB25-97C5FB657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12B41F-4329-4D85-99F1-98FF6D830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9BD687-E3B8-4F6F-B048-A53775D20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2A49C9-1085-4046-9EDD-2357506F1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7B71F6-6411-42DB-A907-A397DF3FC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51B554-4A07-4318-8E4B-4532F0853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28B4-3426-4D05-B3B9-259A93DF1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7C6B54-2765-4F0E-9383-00C5D6BDC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1B0D9B-5A6B-40CB-93C4-AD2146049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188C48-FE5D-4A06-8810-351F718EB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A0E7AD-31CD-4C37-8FA6-B4628E453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D6E375-2B98-4B6C-9432-526030BCD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983E3C-E939-4C51-804C-147864142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0435FE-5CD0-4401-A147-8CFB9190F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020168-E039-4648-8A9A-90E238F3A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266AD8-4F3B-48FB-A3E0-AAE9524CC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7B47D1-1B8D-4617-BE6A-3970EB2FC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3B43-D38A-4C46-BD5D-530E73ED5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21161B-231D-47EC-BEB6-CC740C40B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E41CAD-CF47-497F-A4F4-1D7D9405D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DC6D1E-2F6E-4FA4-9458-0AA8E8154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1B1363-8AB8-4390-A330-0B1631325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2873A8-A1DF-4C37-BFA5-B582D328B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28A930-AC57-4752-AF33-0BFED3490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DFD9D5-58CF-4C06-B22C-9EF22F93F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167F2F-01A8-49CC-82D7-F1D42C298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12BFDC-7B0A-486B-850C-63DAC6E6D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741AF4-ED06-465C-95BB-4B89E0441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759D-5818-4BD5-AD12-5C0D68A5C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651AC5-00BE-48B2-8322-C0BF3BD8D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BC65B6-2098-464A-A81A-E0F7C5EFF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21872C-18AA-4253-8192-F3D832BD9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8D4C88-B258-44D6-AF03-F945A8492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81F040-1B05-48C9-96D1-47F0D0D13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9BCDD5-242A-4702-82E1-6CE3389A5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636AEB-FE2D-4215-946A-6A479C994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E7385C-BBA3-4EC1-BB6F-939F540E9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740380-395B-4059-BC3D-653C52C56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039F70-2A4B-4813-A82F-4A96C9EB1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D425-92C2-424D-AE26-074C78888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D9B5CF-D9BA-41EC-9D12-BDC38162F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5A45E4-D77F-485D-86E4-CBC471383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DEAD4D-5139-43E0-A393-CAF3B4B06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9205A1-40BF-41EE-A6AF-65DEEFD1B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A29240-DD5D-431B-8B85-7531BC658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EF9331-8692-45C0-86C6-1E99BABA3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C596BB-CE87-4DC7-9319-277AE35BC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3992D3-8C95-4D54-A59D-BC2D9A8A8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6351BB-A2D5-4083-A431-B70C136E3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69B7E2-6E4B-41A0-BEDE-A27743431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34D0-7C93-4E67-82EA-B4E874801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91C160-EF0F-45FB-9270-62B058651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3F4FFB-D311-4C54-90BE-835439EDA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592FEC-2300-493E-9308-8E8F4F033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26EEC6-0E1A-4640-8A8F-C26E980B2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3222F1-366D-43DB-BCDE-D31256803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0991C1-76BC-4014-8431-B76B449E7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18C339-799C-435E-928C-33202F0A0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541396A-6EAD-44E1-8BE3-5C938DE69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8AFEDCF-AB64-4B24-9FA7-FDAFF7114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F2B49D4-08AD-47F8-9E9A-F03B46A0A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a9aff"/>
                </a:solidFill>
                <a:latin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Migrating to Uni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8 - Elsin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1DE23-249C-4929-B079-F7A6DE6BF84F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8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a9aff"/>
                </a:solidFill>
                <a:latin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Migrating to Uni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9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8 - Elsin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30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8B9A9-7BA8-4107-A60C-4E562FBF3C14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3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a9aff"/>
                </a:solidFill>
                <a:latin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Migrating to Uni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3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8 - Elsin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3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CCC5B-418D-4CC2-86BA-5B400474DF17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3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a9aff"/>
                </a:solidFill>
                <a:latin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Migrating to Uni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3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8 - Elsin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3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67D30-A2D8-4B8A-9F1C-7E6B2635D1D3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dt" idx="37"/>
          </p:nvPr>
        </p:nvSpPr>
        <p:spPr>
          <a:xfrm>
            <a:off x="685800" y="6324480"/>
            <a:ext cx="2100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a9aff"/>
                </a:solidFill>
                <a:latin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Migrating to Uni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ftr" idx="38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8 - Elsin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sldNum" idx="39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243AA-B3A4-4F7B-9AAF-4757C1D5B86A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 type="dt" idx="40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a9aff"/>
                </a:solidFill>
                <a:latin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Migrating to Uni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 type="ftr" idx="41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8 - Elsin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 type="sldNum" idx="42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62724-3113-4F74-A835-D96F04B0117B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a9aff"/>
                </a:solidFill>
                <a:latin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Migrating to Uni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8 - Elsin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4F985-FA49-423E-9F32-5A4B7054659D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a9aff"/>
                </a:solidFill>
                <a:latin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Migrating to Uni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8 - Elsin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06DD4-5493-4937-A9AA-27E62E64FC8E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a9aff"/>
                </a:solidFill>
                <a:latin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Migrating to Uni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8 - Elsin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0F004-B6C3-4D7A-8E80-572D41198A2F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a9aff"/>
                </a:solidFill>
                <a:latin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Migrating to Uni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8 - Elsin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93132-1442-4253-9B45-122CEFA6E141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a9aff"/>
                </a:solidFill>
                <a:latin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Migrating to Uni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8 - Elsin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FD46C-9632-4790-836B-E601241F449C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9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a9aff"/>
                </a:solidFill>
                <a:latin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Migrating to Uni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20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8 - Elsin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21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9A977-A310-4653-B7BE-9DA3BAF19FEF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a9aff"/>
                </a:solidFill>
                <a:latin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Migrating to Uni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3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8 - Elsin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4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0BE9F-71E8-41F5-AD96-7B79F8B5C101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a9aff"/>
                </a:solidFill>
                <a:latin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Migrating to Uni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sldNum" idx="2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01402-00F8-4A94-93B2-6CFCF5CCB44D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ftr" idx="27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Dyalog’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45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" name="Picture 3" descr="wyrm2008.jpg"/>
          <p:cNvPicPr/>
          <p:nvPr/>
        </p:nvPicPr>
        <p:blipFill>
          <a:blip r:embed="rId1"/>
          <a:stretch/>
        </p:blipFill>
        <p:spPr>
          <a:xfrm>
            <a:off x="1643040" y="714240"/>
            <a:ext cx="5318280" cy="4929480"/>
          </a:xfrm>
          <a:prstGeom prst="rect">
            <a:avLst/>
          </a:prstGeom>
          <a:ln w="0">
            <a:noFill/>
          </a:ln>
        </p:spPr>
      </p:pic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0" y="5429160"/>
            <a:ext cx="914400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Dyalog’08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”</a:t>
            </a: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Application” Trend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42600" y="1857240"/>
            <a:ext cx="8172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Microsoft.Net is a strong unifying force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lvl="1" marL="705600" indent="-271440">
              <a:spcBef>
                <a:spcPts val="60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Open Source .Net (”Mono”) is now embedded with many Linux distributions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705600" indent="-271440">
              <a:spcBef>
                <a:spcPts val="60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The differences between platforms are shrinking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705600" indent="-271440">
              <a:spcBef>
                <a:spcPts val="60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Portability is as important as ever – and should be getting easier to achieve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25800" indent="-32580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”</a:t>
            </a: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Service Buses”, and open standards like WebServices, are supported on all platform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lvl="1" marL="705600" indent="-271440">
              <a:spcBef>
                <a:spcPts val="60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Allows easy and secure integration of tools </a:t>
            </a:r>
            <a:r>
              <a:rPr b="1" i="1" lang="da-DK" sz="2400" spc="-1" strike="noStrike">
                <a:solidFill>
                  <a:srgbClr val="333333"/>
                </a:solidFill>
                <a:latin typeface="Geneva"/>
              </a:rPr>
              <a:t>inside and outside</a:t>
            </a: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 of the .Net Framework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39" name="Date Placeholder 3"/>
          <p:cNvSpPr/>
          <p:nvPr/>
        </p:nvSpPr>
        <p:spPr>
          <a:xfrm>
            <a:off x="685800" y="6324480"/>
            <a:ext cx="21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Technical Road 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8 - Elsin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41AD1-CD66-43CC-8BA4-2B25BC95DF5D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Platform Philosophy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642600" y="1785960"/>
            <a:ext cx="8358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Many of the most successful APL coders are very ”problem oriented”. They have no wish to recode to adapt to the ”IT flavour of the month”.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15360" indent="-31536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Rapid development... But also ULTRA long-term maintainability &amp; portability is very important to us and to many of our customers. </a:t>
            </a:r>
            <a:r>
              <a:rPr b="0" i="1" lang="da-DK" sz="2400" spc="-1" strike="noStrike">
                <a:solidFill>
                  <a:srgbClr val="333333"/>
                </a:solidFill>
                <a:latin typeface="Geneva"/>
              </a:rPr>
              <a:t>NO ”big bang” migrations.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15360" indent="-31536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APL code &amp; data are binary compatible across platforms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15360" indent="-31536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Despite these constraints, good design has allowed better integration with modern platforms than competitors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15360" indent="-31536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Current trends (.Net/Mono) provide more, and better ways for us to achieve all of these goals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44" name="Date Placeholder 3"/>
          <p:cNvSpPr/>
          <p:nvPr/>
        </p:nvSpPr>
        <p:spPr>
          <a:xfrm>
            <a:off x="685800" y="6324480"/>
            <a:ext cx="21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Technical Road 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8 - Elsin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BE2C5-0905-4B1E-8BB6-B5DE30187DCF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Current Research Projects 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642600" y="1857240"/>
            <a:ext cx="8172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Exploiting multi-core architecture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60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Within the interpreter: For example, use several cores to execute a primitive function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60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Under control of the user (fork the application at suitable points, decided by the APL developer)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Support for writing Web Services in APL 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60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Prototype is available, will be bundled with v12.1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60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Tool to run a Dyalog app as a ”Windows Service” too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49" name="Date Placeholder 3"/>
          <p:cNvSpPr/>
          <p:nvPr/>
        </p:nvSpPr>
        <p:spPr>
          <a:xfrm>
            <a:off x="685800" y="6324480"/>
            <a:ext cx="21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Technical Road 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8 - Elsin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D70C3-CBDB-493D-AB93-1704E592535F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2" name="Picture 3" descr="wyrm2008.jpg"/>
          <p:cNvPicPr/>
          <p:nvPr/>
        </p:nvPicPr>
        <p:blipFill>
          <a:blip r:embed="rId1"/>
          <a:stretch/>
        </p:blipFill>
        <p:spPr>
          <a:xfrm>
            <a:off x="6643800" y="5429160"/>
            <a:ext cx="1428480" cy="13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Likely Research Projects 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642600" y="1714680"/>
            <a:ext cx="8172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4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33333"/>
                </a:solidFill>
                <a:latin typeface="Geneva"/>
              </a:rPr>
              <a:t>Implement new Development Environment based on .Net/Mono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1" marL="668520" indent="-257040">
              <a:spcBef>
                <a:spcPts val="45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333333"/>
                </a:solidFill>
                <a:latin typeface="Geneva"/>
              </a:rPr>
              <a:t>Would be easily portable to any platform where .Net or Mono is available (almost everywhere)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lvl="1" marL="668520" indent="-257040">
              <a:spcBef>
                <a:spcPts val="45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333333"/>
                </a:solidFill>
                <a:latin typeface="Geneva"/>
              </a:rPr>
              <a:t>Can be connected to APL on a different machine / platform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marL="308520" indent="-308520">
              <a:spcBef>
                <a:spcPts val="55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200" spc="-1" strike="noStrike">
                <a:solidFill>
                  <a:srgbClr val="333333"/>
                </a:solidFill>
                <a:latin typeface="Geneva"/>
              </a:rPr>
              <a:t>Extend .Net bridge to allow APL developers to use Mono</a:t>
            </a:r>
            <a:endParaRPr b="0" lang="en-US" sz="2200" spc="-1" strike="noStrike">
              <a:solidFill>
                <a:srgbClr val="333333"/>
              </a:solidFill>
              <a:latin typeface="Geneva"/>
            </a:endParaRPr>
          </a:p>
          <a:p>
            <a:pPr lvl="1" marL="668520" indent="-257040">
              <a:spcBef>
                <a:spcPts val="45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333333"/>
                </a:solidFill>
                <a:latin typeface="Geneva"/>
              </a:rPr>
              <a:t>Related to, but independant of the IDE project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marL="308520" indent="-308520">
              <a:spcBef>
                <a:spcPts val="4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33333"/>
                </a:solidFill>
                <a:latin typeface="Geneva"/>
              </a:rPr>
              <a:t>Design and Implement Prototype of a </a:t>
            </a:r>
            <a:r>
              <a:rPr b="0" i="1" lang="da-DK" sz="2000" spc="-1" strike="noStrike">
                <a:solidFill>
                  <a:srgbClr val="333333"/>
                </a:solidFill>
                <a:latin typeface="Geneva"/>
              </a:rPr>
              <a:t>Managed</a:t>
            </a:r>
            <a:r>
              <a:rPr b="0" lang="da-DK" sz="2000" spc="-1" strike="noStrike">
                <a:solidFill>
                  <a:srgbClr val="333333"/>
                </a:solidFill>
                <a:latin typeface="Geneva"/>
              </a:rPr>
              <a:t> APL Interpreter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1" marL="668520" indent="-257040">
              <a:spcBef>
                <a:spcPts val="45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333333"/>
                </a:solidFill>
                <a:latin typeface="Geneva"/>
              </a:rPr>
              <a:t>Based on the Microsoft.Net runtime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lvl="1" marL="668520" indent="-257040">
              <a:spcBef>
                <a:spcPts val="45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333333"/>
                </a:solidFill>
                <a:latin typeface="Geneva"/>
              </a:rPr>
              <a:t>Would allow Dyalog components to run inside web browsers, etc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marL="308520" indent="-308520">
              <a:spcBef>
                <a:spcPts val="4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33333"/>
                </a:solidFill>
                <a:latin typeface="Geneva"/>
              </a:rPr>
              <a:t>Language / interpreter research into using multiple cores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1" marL="668520" indent="-257040">
              <a:spcBef>
                <a:spcPts val="45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333333"/>
                </a:solidFill>
                <a:latin typeface="Geneva"/>
              </a:rPr>
              <a:t>For example fuse trains of primitives into a single unit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marL="308520" indent="-308520">
              <a:spcBef>
                <a:spcPts val="55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200" spc="-1" strike="noStrike">
                <a:solidFill>
                  <a:srgbClr val="333333"/>
                </a:solidFill>
                <a:latin typeface="Geneva"/>
              </a:rPr>
              <a:t>File Acceleration Server (on the Back Burner)</a:t>
            </a:r>
            <a:endParaRPr b="0" lang="en-US" sz="2200" spc="-1" strike="noStrike">
              <a:solidFill>
                <a:srgbClr val="333333"/>
              </a:solidFill>
              <a:latin typeface="Geneva"/>
            </a:endParaRPr>
          </a:p>
          <a:p>
            <a:pPr lvl="1" marL="668520" indent="-257040">
              <a:spcBef>
                <a:spcPts val="45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333333"/>
                </a:solidFill>
                <a:latin typeface="Geneva"/>
              </a:rPr>
              <a:t>Secure, Fast Component File System as a Service via TCP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marL="308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08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55" name="Date Placeholder 3"/>
          <p:cNvSpPr/>
          <p:nvPr/>
        </p:nvSpPr>
        <p:spPr>
          <a:xfrm>
            <a:off x="685800" y="6324480"/>
            <a:ext cx="21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Technical Road 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8 - Elsin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ED9C4-2223-44F4-ADC7-3BE031ECC4FE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New IDE and Managed APL 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42600" y="1785960"/>
            <a:ext cx="8172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Managed interpreter would NOT be a replacement for the current Dyalog system: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676080" indent="-259920">
              <a:spcBef>
                <a:spcPts val="550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200" spc="-1" strike="noStrike">
                <a:solidFill>
                  <a:srgbClr val="333333"/>
                </a:solidFill>
                <a:latin typeface="Geneva"/>
              </a:rPr>
              <a:t>Unlikely to be 100% upwards compatible, even at the core language level – due to framework constraints</a:t>
            </a:r>
            <a:endParaRPr b="0" lang="en-US" sz="2200" spc="-1" strike="noStrike">
              <a:solidFill>
                <a:srgbClr val="333333"/>
              </a:solidFill>
              <a:latin typeface="Geneva"/>
            </a:endParaRPr>
          </a:p>
          <a:p>
            <a:pPr lvl="1" marL="676080" indent="-259920">
              <a:spcBef>
                <a:spcPts val="550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200" spc="-1" strike="noStrike">
                <a:solidFill>
                  <a:srgbClr val="333333"/>
                </a:solidFill>
                <a:latin typeface="Geneva"/>
              </a:rPr>
              <a:t>Initially aimed at writing </a:t>
            </a:r>
            <a:r>
              <a:rPr b="0" i="1" lang="da-DK" sz="2200" spc="-1" strike="noStrike">
                <a:solidFill>
                  <a:srgbClr val="333333"/>
                </a:solidFill>
                <a:latin typeface="Geneva"/>
              </a:rPr>
              <a:t>components</a:t>
            </a:r>
            <a:r>
              <a:rPr b="0" lang="da-DK" sz="2200" spc="-1" strike="noStrike">
                <a:solidFill>
                  <a:srgbClr val="333333"/>
                </a:solidFill>
                <a:latin typeface="Geneva"/>
              </a:rPr>
              <a:t> to be embedded in web servers or other ”frameworks”, where </a:t>
            </a:r>
            <a:r>
              <a:rPr b="0" i="1" lang="da-DK" sz="2200" spc="-1" strike="noStrike">
                <a:solidFill>
                  <a:srgbClr val="333333"/>
                </a:solidFill>
                <a:latin typeface="Geneva"/>
              </a:rPr>
              <a:t>managed code</a:t>
            </a:r>
            <a:r>
              <a:rPr b="0" lang="da-DK" sz="2200" spc="-1" strike="noStrike">
                <a:solidFill>
                  <a:srgbClr val="333333"/>
                </a:solidFill>
                <a:latin typeface="Geneva"/>
              </a:rPr>
              <a:t> is a requirement</a:t>
            </a:r>
            <a:endParaRPr b="0" lang="en-US" sz="2200" spc="-1" strike="noStrike">
              <a:solidFill>
                <a:srgbClr val="333333"/>
              </a:solidFill>
              <a:latin typeface="Geneva"/>
            </a:endParaRPr>
          </a:p>
          <a:p>
            <a:pPr marL="312120" indent="-31212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New IDE would work with both the current and the .Net interpreter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676080" indent="-259920">
              <a:spcBef>
                <a:spcPts val="4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33333"/>
                </a:solidFill>
                <a:latin typeface="Geneva"/>
              </a:rPr>
              <a:t>Interpreters would inter-operate as ”seamlessly” as possible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1" marL="676080" indent="-259920">
              <a:spcBef>
                <a:spcPts val="4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33333"/>
                </a:solidFill>
                <a:latin typeface="Geneva"/>
              </a:rPr>
              <a:t>It should be easy to write and maintain systems composed of components based on both systems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60" name="Date Placeholder 3"/>
          <p:cNvSpPr/>
          <p:nvPr/>
        </p:nvSpPr>
        <p:spPr>
          <a:xfrm>
            <a:off x="685800" y="6324480"/>
            <a:ext cx="21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Technical Road 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8 - Elsin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77E15-516E-4D5C-B317-FE13DF843D49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Two Prongs - Alway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642600" y="2071800"/>
            <a:ext cx="8172360" cy="38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We must make it easy to write components that can be embedded in enterprise development frameworks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600" spc="-1" strike="noStrike">
                <a:solidFill>
                  <a:srgbClr val="333333"/>
                </a:solidFill>
                <a:latin typeface="Geneva"/>
              </a:rPr>
              <a:t>BUT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We must also constantly strive to make it easier for the lone entrepreneur or ”domain expert” to build a complete application without learning how to operate heavy machinery</a:t>
            </a: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 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65" name="Date Placeholder 3"/>
          <p:cNvSpPr/>
          <p:nvPr/>
        </p:nvSpPr>
        <p:spPr>
          <a:xfrm>
            <a:off x="685800" y="6324480"/>
            <a:ext cx="21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Technical Road 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8 - Elsin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A8BFD-2F2E-4652-BAFE-1E2EE23E8A3B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Devt Tool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642600" y="1785960"/>
            <a:ext cx="8172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We will look at providing ”simpler” ways to use modern GUI and Web framework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60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Likely to be prototyped in APL, like the WebService framework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Should we invest in CausewayPro as a GUI design tool for ”simple” applications?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We will work on building (and collecting) general developer tools. For example, a tool for test-driven development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70" name="Date Placeholder 3"/>
          <p:cNvSpPr/>
          <p:nvPr/>
        </p:nvSpPr>
        <p:spPr>
          <a:xfrm>
            <a:off x="685800" y="6324480"/>
            <a:ext cx="21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Technical Road 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8 - Elsin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7A8DC-3140-4A05-8396-C3BC16B2DC5E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v12.1 IDE Enhancemen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642960" y="1785960"/>
            <a:ext cx="8501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33333"/>
                </a:solidFill>
                <a:latin typeface="Geneva"/>
              </a:rPr>
              <a:t>Better support for editing class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27920" indent="-280080">
              <a:spcBef>
                <a:spcPts val="700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Make it easier to work with individual functions in a clas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lvl="1" marL="727920" indent="-280080">
              <a:spcBef>
                <a:spcPts val="700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Some ideas prototyped - see John Daintree’s presentation right after lunch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da-DK" sz="3200" spc="-1" strike="noStrike">
                <a:solidFill>
                  <a:srgbClr val="333333"/>
                </a:solidFill>
                <a:latin typeface="Geneva"/>
              </a:rPr>
              <a:t>Better access to .Net metadata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27920" indent="-280080">
              <a:spcBef>
                <a:spcPts val="700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Evaluate and Autocomplete, and other idea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lvl="1" marL="727920" indent="-280080">
              <a:spcBef>
                <a:spcPts val="700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(Also look at performance of .Net marshalling)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75" name="Date Placeholder 3"/>
          <p:cNvSpPr/>
          <p:nvPr/>
        </p:nvSpPr>
        <p:spPr>
          <a:xfrm>
            <a:off x="685800" y="6324480"/>
            <a:ext cx="21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Technical Road 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8 - Elsin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F7D38-7B70-4A7A-9F29-B04929A6AA66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v12.1 Performanc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642600" y="1785960"/>
            <a:ext cx="8172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Boolean Scans and Reductions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698400" indent="-268560">
              <a:spcBef>
                <a:spcPts val="4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33333"/>
                </a:solidFill>
                <a:latin typeface="Geneva"/>
              </a:rPr>
              <a:t>See Roger Hui at 14:15 today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22200" indent="-32220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Indexing and Indexed Assignment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698400" indent="-268560">
              <a:spcBef>
                <a:spcPts val="4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33333"/>
                </a:solidFill>
                <a:latin typeface="Geneva"/>
              </a:rPr>
              <a:t>Rewritten, primarily to reduce space consumption, but speed also improved for some cases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1" marL="698400" indent="-268560">
              <a:spcBef>
                <a:spcPts val="4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33333"/>
                </a:solidFill>
                <a:latin typeface="Geneva"/>
              </a:rPr>
              <a:t>See Nic Delcros and John Scholes at 15:30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22200" indent="-32220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Set membership and lookups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698400" indent="-268560">
              <a:spcBef>
                <a:spcPts val="4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33333"/>
                </a:solidFill>
                <a:latin typeface="Geneva"/>
              </a:rPr>
              <a:t>Will revisit algorithms for </a:t>
            </a:r>
            <a:r>
              <a:rPr b="0" lang="da-DK" sz="2000" spc="-1" strike="noStrike">
                <a:solidFill>
                  <a:srgbClr val="333333"/>
                </a:solidFill>
                <a:latin typeface="APL385 Unicode"/>
              </a:rPr>
              <a:t>∊ ⍳ ∩ ∪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22200" indent="-32220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Have ideas for transpose and inner product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22200" indent="-32220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Experiments with using multiple cores to execute primitives on large arrays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6984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80" name="Date Placeholder 3"/>
          <p:cNvSpPr/>
          <p:nvPr/>
        </p:nvSpPr>
        <p:spPr>
          <a:xfrm>
            <a:off x="685800" y="6324480"/>
            <a:ext cx="21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Technical Road 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8 - Elsin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89BFD-6BA1-43F6-A096-308777ABF0F9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Boolean Speedups </a:t>
            </a:r>
            <a:r>
              <a:rPr b="1" lang="da-DK" sz="1800" spc="-1" strike="noStrike">
                <a:solidFill>
                  <a:srgbClr val="333333"/>
                </a:solidFill>
                <a:latin typeface="Geneva"/>
              </a:rPr>
              <a:t>(by Roger Hui)</a:t>
            </a:r>
            <a:endParaRPr b="1" lang="en-US" sz="1800" spc="-1" strike="noStrike">
              <a:solidFill>
                <a:srgbClr val="333333"/>
              </a:solidFill>
              <a:latin typeface="Geneva"/>
            </a:endParaRPr>
          </a:p>
        </p:txBody>
      </p:sp>
      <p:graphicFrame>
        <p:nvGraphicFramePr>
          <p:cNvPr id="684" name=""/>
          <p:cNvGraphicFramePr/>
          <p:nvPr/>
        </p:nvGraphicFramePr>
        <p:xfrm>
          <a:off x="500040" y="1928880"/>
          <a:ext cx="7786800" cy="2786040"/>
        </p:xfrm>
        <a:graphic>
          <a:graphicData uri="http://schemas.openxmlformats.org/drawingml/2006/table">
            <a:tbl>
              <a:tblPr/>
              <a:tblGrid>
                <a:gridCol w="341280"/>
                <a:gridCol w="744480"/>
                <a:gridCol w="744480"/>
                <a:gridCol w="744840"/>
                <a:gridCol w="744480"/>
                <a:gridCol w="744480"/>
                <a:gridCol w="744480"/>
                <a:gridCol w="744480"/>
                <a:gridCol w="744480"/>
                <a:gridCol w="744840"/>
                <a:gridCol w="744480"/>
              </a:tblGrid>
              <a:tr h="231840">
                <a:tc>
                  <a:txBody>
                    <a:bodyPr lIns="29160" rIns="29160" tIns="14760" bIns="14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10">
                  <a:txBody>
                    <a:bodyPr lIns="29160" rIns="29160" tIns="14760" bIns="14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Ratios in Execution 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3280">
                <a:tc>
                  <a:txBody>
                    <a:bodyPr lIns="29160" rIns="29160" tIns="14760" bIns="14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APL385 Unicode"/>
                        </a:rPr>
                        <a:t>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APL385 Unicode"/>
                        </a:rPr>
                        <a:t>f v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APL385 Unicode"/>
                        </a:rPr>
                        <a:t>f xw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APL385 Unicode"/>
                        </a:rPr>
                        <a:t>f x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APL385 Unicode"/>
                        </a:rPr>
                        <a:t>f c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APL385 Unicode"/>
                        </a:rPr>
                        <a:t>f c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APL385 Unicode"/>
                        </a:rPr>
                        <a:t>f od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APL385 Unicode"/>
                        </a:rPr>
                        <a:t>f[0]xw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APL385 Unicode"/>
                        </a:rPr>
                        <a:t>f[0]x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APL385 Unicode"/>
                        </a:rPr>
                        <a:t>f[0]c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APL385 Unicode"/>
                        </a:rPr>
                        <a:t>f[0]od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840">
                <a:tc>
                  <a:txBody>
                    <a:bodyPr lIns="29160" rIns="29160" tIns="14760" bIns="14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APL385 Unicode"/>
                        </a:rPr>
                        <a:t>≠</a:t>
                      </a: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APL385 Unicode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1676.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33.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30.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25.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45.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26.7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4.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4.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35.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19.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840">
                <a:tc>
                  <a:txBody>
                    <a:bodyPr lIns="29160" rIns="29160" tIns="14760" bIns="14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APL385 Unicode"/>
                        </a:rPr>
                        <a:t>=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1448.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23.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17.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24.7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46.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22.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4.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4.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42.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19.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480">
                <a:tc>
                  <a:txBody>
                    <a:bodyPr lIns="29160" rIns="29160" tIns="14760" bIns="14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APL385 Unicode"/>
                        </a:rPr>
                        <a:t>∧</a:t>
                      </a: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APL385 Unicode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x  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x  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x  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2.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28.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2.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4.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4.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34.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20.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640">
                <a:tc>
                  <a:txBody>
                    <a:bodyPr lIns="29160" rIns="29160" tIns="14760" bIns="14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APL385 Unicode"/>
                        </a:rPr>
                        <a:t>∨</a:t>
                      </a: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APL385 Unicode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x  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x  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x  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2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26.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2.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4.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4.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34.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21.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480">
                <a:tc>
                  <a:txBody>
                    <a:bodyPr lIns="29160" rIns="29160" tIns="14760" bIns="14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APL385 Unicode"/>
                        </a:rPr>
                        <a:t>+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x  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13.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13.7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5.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7.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13.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5.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6.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33.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6.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840">
                <a:tc>
                  <a:txBody>
                    <a:bodyPr lIns="29160" rIns="29160" tIns="14760" bIns="14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APL385 Unicode"/>
                        </a:rPr>
                        <a:t>≠</a:t>
                      </a: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APL385 Unicode"/>
                        </a:rPr>
                        <a:t>\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58.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64.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64.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50.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165.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55.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505.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473.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12.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32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840">
                <a:tc>
                  <a:txBody>
                    <a:bodyPr lIns="29160" rIns="29160" tIns="14760" bIns="14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APL385 Unicode"/>
                        </a:rPr>
                        <a:t>=\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33.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34.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35.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50.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169.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47.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482.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437.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12.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30.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280">
                <a:tc>
                  <a:txBody>
                    <a:bodyPr lIns="29160" rIns="29160" tIns="14760" bIns="14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APL385 Unicode"/>
                        </a:rPr>
                        <a:t>∧</a:t>
                      </a: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APL385 Unicode"/>
                        </a:rPr>
                        <a:t>\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203.7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52.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51.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46.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132.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48.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402.8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376.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9.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24.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840">
                <a:tc>
                  <a:txBody>
                    <a:bodyPr lIns="29160" rIns="29160" tIns="14760" bIns="14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APL385 Unicode"/>
                        </a:rPr>
                        <a:t>∨</a:t>
                      </a: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APL385 Unicode"/>
                        </a:rPr>
                        <a:t>\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209.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51.2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49.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45.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136.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37.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392.8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363.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9.7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24.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840">
                <a:tc>
                  <a:txBody>
                    <a:bodyPr lIns="29160" rIns="29160" tIns="14760" bIns="14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APL385 Unicode"/>
                        </a:rPr>
                        <a:t>&lt;\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190.8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48.3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42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44.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125.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40.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302.4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270.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9.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28.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5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Migrating to Uni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8 - Elsin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15D9F-C2E8-4EE3-B115-76363C49D3E1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Rectangle 8"/>
          <p:cNvSpPr/>
          <p:nvPr/>
        </p:nvSpPr>
        <p:spPr>
          <a:xfrm>
            <a:off x="428760" y="4929120"/>
            <a:ext cx="37861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000000"/>
                </a:solidFill>
                <a:latin typeface="APL385 Unicode"/>
              </a:rPr>
              <a:t>v</a:t>
            </a: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← randbool 6.4e6 + 1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 ⍝ </a:t>
            </a: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vect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000000"/>
                </a:solidFill>
                <a:latin typeface="APL385 Unicode"/>
              </a:rPr>
              <a:t>xw</a:t>
            </a: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← randbool 1000 100 6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 ⍝ </a:t>
            </a: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with word-multiple # of colum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000000"/>
                </a:solidFill>
                <a:latin typeface="APL385 Unicode"/>
              </a:rPr>
              <a:t>x8</a:t>
            </a: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← randbool 1000 114 56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 ⍝ </a:t>
            </a: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with multiple-of-8 # of colum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Rectangle 9"/>
          <p:cNvSpPr/>
          <p:nvPr/>
        </p:nvSpPr>
        <p:spPr>
          <a:xfrm>
            <a:off x="4500720" y="4929120"/>
            <a:ext cx="41432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000000"/>
                </a:solidFill>
                <a:latin typeface="APL385 Unicode"/>
              </a:rPr>
              <a:t>c5</a:t>
            </a: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← randbool 1.28e6 5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  ⍝ </a:t>
            </a: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array with 5 colum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000000"/>
                </a:solidFill>
                <a:latin typeface="APL385 Unicode"/>
              </a:rPr>
              <a:t>c8</a:t>
            </a: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← randbool 890 900 8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  ⍝ </a:t>
            </a: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array with 8 colum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000000"/>
                </a:solidFill>
                <a:latin typeface="APL385 Unicode"/>
              </a:rPr>
              <a:t>odd</a:t>
            </a: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← randbool 56638 113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  ⍝ </a:t>
            </a: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an odd number of columns (&gt; 8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0040" y="1928880"/>
            <a:ext cx="7773840" cy="96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Technical Road Map ’08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subTitle"/>
          </p:nvPr>
        </p:nvSpPr>
        <p:spPr>
          <a:xfrm>
            <a:off x="1785600" y="3571560"/>
            <a:ext cx="52578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Morten Kromberg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33333"/>
                </a:solidFill>
                <a:latin typeface="Geneva"/>
              </a:rPr>
              <a:t>Dyalog’08 - Elsinore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600" name="Picture 3" descr="wyrm2008.jpg"/>
          <p:cNvPicPr/>
          <p:nvPr/>
        </p:nvPicPr>
        <p:blipFill>
          <a:blip r:embed="rId1"/>
          <a:stretch/>
        </p:blipFill>
        <p:spPr>
          <a:xfrm>
            <a:off x="142920" y="5429160"/>
            <a:ext cx="1428840" cy="13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Prioritizing Performanc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642600" y="1785960"/>
            <a:ext cx="8172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We have ideas and some clear customer requests (like Indexing and Iota), but ..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We need your help to measure which primitives are important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Recently patched version 12.0 systems include a monitor which can be enabled using the startup parameter   </a:t>
            </a:r>
            <a:r>
              <a:rPr b="1" lang="da-DK" sz="2800" spc="-1" strike="noStrike">
                <a:solidFill>
                  <a:srgbClr val="333333"/>
                </a:solidFill>
                <a:latin typeface="Courier New"/>
                <a:ea typeface="Courier New"/>
              </a:rPr>
              <a:t>-Dm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The APL monitor registers CPU consumption broken down by primitive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92" name="Date Placeholder 3"/>
          <p:cNvSpPr/>
          <p:nvPr/>
        </p:nvSpPr>
        <p:spPr>
          <a:xfrm>
            <a:off x="685800" y="6324480"/>
            <a:ext cx="21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Technical Road 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8 - Elsin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170D5-ADA8-448D-83F4-22800C7A336E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APL Monitor Data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642600" y="1785960"/>
            <a:ext cx="8172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When started with </a:t>
            </a:r>
            <a:r>
              <a:rPr b="1" lang="da-DK" sz="2800" spc="-1" strike="noStrike">
                <a:solidFill>
                  <a:srgbClr val="333333"/>
                </a:solidFill>
                <a:latin typeface="Courier New"/>
                <a:ea typeface="Courier New"/>
              </a:rPr>
              <a:t>–Dm</a:t>
            </a:r>
            <a:r>
              <a:rPr b="0" lang="da-DK" sz="2400" spc="-1" strike="noStrike">
                <a:solidFill>
                  <a:srgbClr val="333333"/>
                </a:solidFill>
                <a:latin typeface="Geneva"/>
                <a:ea typeface="Courier New"/>
              </a:rPr>
              <a:t>, Dyalog will create a file called </a:t>
            </a:r>
            <a:r>
              <a:rPr b="1" lang="da-DK" sz="2800" spc="-1" strike="noStrike">
                <a:solidFill>
                  <a:srgbClr val="333333"/>
                </a:solidFill>
                <a:latin typeface="Courier New"/>
                <a:ea typeface="Courier New"/>
              </a:rPr>
              <a:t>aplmon.csv</a:t>
            </a:r>
            <a:r>
              <a:rPr b="0" lang="da-DK" sz="2400" spc="-1" strike="noStrike">
                <a:solidFill>
                  <a:srgbClr val="333333"/>
                </a:solidFill>
                <a:latin typeface="Geneva"/>
                <a:ea typeface="Courier New"/>
              </a:rPr>
              <a:t> at the end of the session: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298440" indent="-298440">
              <a:spcBef>
                <a:spcPts val="45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333333"/>
                </a:solidFill>
                <a:latin typeface="Geneva"/>
                <a:ea typeface="Courier New"/>
              </a:rPr>
              <a:t>With thanks to CONAC for permission to show this data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97" name="Date Placeholder 3"/>
          <p:cNvSpPr/>
          <p:nvPr/>
        </p:nvSpPr>
        <p:spPr>
          <a:xfrm>
            <a:off x="685800" y="6324480"/>
            <a:ext cx="21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Technical Road 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8 - Elsin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3639D-46BA-449C-ADE1-4701F971A29E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0" name="Picture 4" descr=""/>
          <p:cNvPicPr/>
          <p:nvPr/>
        </p:nvPicPr>
        <p:blipFill>
          <a:blip r:embed="rId1"/>
          <a:stretch/>
        </p:blipFill>
        <p:spPr>
          <a:xfrm>
            <a:off x="1428840" y="2714760"/>
            <a:ext cx="6610320" cy="29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APLMON Summary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42600" y="1785960"/>
            <a:ext cx="817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a-DK" sz="36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03" name="Date Placeholder 3"/>
          <p:cNvSpPr/>
          <p:nvPr/>
        </p:nvSpPr>
        <p:spPr>
          <a:xfrm>
            <a:off x="685800" y="6324480"/>
            <a:ext cx="21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Technical Road 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8 - Elsin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74B05-B1C9-41C3-90B5-A2E1E0346D60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6" name="Picture 2" descr=""/>
          <p:cNvPicPr/>
          <p:nvPr/>
        </p:nvPicPr>
        <p:blipFill>
          <a:blip r:embed="rId1"/>
          <a:stretch/>
        </p:blipFill>
        <p:spPr>
          <a:xfrm>
            <a:off x="0" y="1571760"/>
            <a:ext cx="794376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APLMON Drill Down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642600" y="1785960"/>
            <a:ext cx="817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a-DK" sz="36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09" name="Date Placeholder 3"/>
          <p:cNvSpPr/>
          <p:nvPr/>
        </p:nvSpPr>
        <p:spPr>
          <a:xfrm>
            <a:off x="685800" y="6324480"/>
            <a:ext cx="21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Technical Road 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8 - Elsin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CDA7E-4759-493E-8C37-915CE4F3E788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2" name="Picture 3" descr=""/>
          <p:cNvPicPr/>
          <p:nvPr/>
        </p:nvPicPr>
        <p:blipFill>
          <a:blip r:embed="rId1"/>
          <a:stretch/>
        </p:blipFill>
        <p:spPr>
          <a:xfrm>
            <a:off x="0" y="1878120"/>
            <a:ext cx="9144000" cy="49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APLMON Summary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642600" y="1785960"/>
            <a:ext cx="8172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While </a:t>
            </a:r>
            <a:r>
              <a:rPr b="0" lang="da-DK" sz="2400" spc="-1" strike="noStrike">
                <a:solidFill>
                  <a:srgbClr val="333333"/>
                </a:solidFill>
                <a:latin typeface="APL385 Unicode"/>
              </a:rPr>
              <a:t>⎕MONITOR</a:t>
            </a: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 finds hot-spots in your application, APLMON finds them in the interpreter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If you send data collected while running time-critical application code, this will help us prioritise our tuning.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727920" indent="-280080">
              <a:spcBef>
                <a:spcPts val="4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33333"/>
                </a:solidFill>
                <a:latin typeface="Geneva"/>
              </a:rPr>
              <a:t>If your requirements don’t end up at the top of our list, you can join the ”sponsor a primitive” programme </a:t>
            </a:r>
            <a:r>
              <a:rPr b="0" lang="da-DK" sz="2000" spc="-1" strike="noStrike">
                <a:solidFill>
                  <a:srgbClr val="333333"/>
                </a:solidFill>
                <a:latin typeface="Wingdings"/>
                <a:ea typeface="Wingdings"/>
              </a:rPr>
              <a:t>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APLMON is available via DSS now. The analysis workspace will be available as a free download.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727920" indent="-280080">
              <a:spcBef>
                <a:spcPts val="4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33333"/>
                </a:solidFill>
                <a:latin typeface="Geneva"/>
              </a:rPr>
              <a:t>NB: Nice bar graphs in the session require the latest (Oct 7th) APL385 Unicode font (in the ”Conference Edition” folder on the memory stick).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15" name="Date Placeholder 3"/>
          <p:cNvSpPr/>
          <p:nvPr/>
        </p:nvSpPr>
        <p:spPr>
          <a:xfrm>
            <a:off x="685800" y="6324480"/>
            <a:ext cx="21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Technical Road 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8 - Elsin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79840-158D-4D38-9BDF-3D590E5E3435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000" spc="-1" strike="noStrike">
                <a:solidFill>
                  <a:srgbClr val="333333"/>
                </a:solidFill>
                <a:latin typeface="Geneva"/>
              </a:rPr>
              <a:t>Let APL Decide When to Fork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Experiment: Use multiple cores when executing scalar dyadic functions (arrays &gt;32k elements)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12120" indent="-31212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Thanks to Norbert Jurkiewicz at Carlisle for testing on his quad core Windows server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20" name="Date Placeholder 3"/>
          <p:cNvSpPr/>
          <p:nvPr/>
        </p:nvSpPr>
        <p:spPr>
          <a:xfrm>
            <a:off x="685800" y="6324480"/>
            <a:ext cx="21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Migrating to Uni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8 - Elsin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DF335-F959-40F4-A3A2-E01305073424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3" name=""/>
          <p:cNvGraphicFramePr/>
          <p:nvPr/>
        </p:nvGraphicFramePr>
        <p:xfrm>
          <a:off x="2286000" y="2928960"/>
          <a:ext cx="4786200" cy="2225520"/>
        </p:xfrm>
        <a:graphic>
          <a:graphicData uri="http://schemas.openxmlformats.org/drawingml/2006/table">
            <a:tbl>
              <a:tblPr/>
              <a:tblGrid>
                <a:gridCol w="1595520"/>
                <a:gridCol w="1041480"/>
                <a:gridCol w="21492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800" spc="-1" strike="noStrike">
                          <a:solidFill>
                            <a:srgbClr val="ffffff"/>
                          </a:solidFill>
                          <a:latin typeface="Geneva"/>
                        </a:rPr>
                        <a:t>Fun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800" spc="-1" strike="noStrike">
                          <a:solidFill>
                            <a:srgbClr val="ffffff"/>
                          </a:solidFill>
                          <a:latin typeface="Geneva"/>
                        </a:rPr>
                        <a:t>2 co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800" spc="-1" strike="noStrike">
                          <a:solidFill>
                            <a:srgbClr val="ffffff"/>
                          </a:solidFill>
                          <a:latin typeface="Geneva"/>
                        </a:rPr>
                        <a:t>4 co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1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1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1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1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1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1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45-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70-7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GCD/L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45-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70-7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Letting APL Decide...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642600" y="1785960"/>
            <a:ext cx="8172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33333"/>
                </a:solidFill>
                <a:latin typeface="Geneva"/>
              </a:rPr>
              <a:t>Seems to work well on functions as expensive as floating-point </a:t>
            </a:r>
            <a:r>
              <a:rPr b="0" lang="da-DK" sz="2000" spc="-1" strike="noStrike">
                <a:solidFill>
                  <a:srgbClr val="333333"/>
                </a:solidFill>
                <a:latin typeface="APL385 Unicode"/>
              </a:rPr>
              <a:t>÷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1" marL="713160" indent="-274320">
              <a:spcBef>
                <a:spcPts val="45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333333"/>
                </a:solidFill>
                <a:latin typeface="Geneva"/>
              </a:rPr>
              <a:t>For ”cheaper” functions, we suspect that data cannot be delivered fast enough by the processors memory-management sub-system. Cores all run at 100% but don’t finish (much) faster than a single core would.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marL="329040" indent="-329040">
              <a:spcBef>
                <a:spcPts val="4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33333"/>
                </a:solidFill>
                <a:latin typeface="Geneva"/>
              </a:rPr>
              <a:t>Looks interesting for large applications of functions like </a:t>
            </a:r>
            <a:r>
              <a:rPr b="0" lang="da-DK" sz="2000" spc="-1" strike="noStrike">
                <a:solidFill>
                  <a:srgbClr val="333333"/>
                </a:solidFill>
                <a:latin typeface="APL385 Unicode"/>
              </a:rPr>
              <a:t>÷!*⍟</a:t>
            </a:r>
            <a:r>
              <a:rPr b="0" lang="da-DK" sz="2000" spc="-1" strike="noStrike">
                <a:solidFill>
                  <a:srgbClr val="333333"/>
                </a:solidFill>
                <a:latin typeface="Geneva"/>
              </a:rPr>
              <a:t> on floating-point numbers. Some derived fns and idioms. Hashing.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1" marL="713160" indent="-274320">
              <a:spcBef>
                <a:spcPts val="34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333333"/>
                </a:solidFill>
                <a:latin typeface="Geneva"/>
              </a:rPr>
              <a:t>And anything involving </a:t>
            </a:r>
            <a:r>
              <a:rPr b="0" lang="da-DK" sz="1800" spc="-1" strike="noStrike">
                <a:solidFill>
                  <a:srgbClr val="333333"/>
                </a:solidFill>
                <a:latin typeface="APL385 Unicode"/>
              </a:rPr>
              <a:t>⎕CT</a:t>
            </a:r>
            <a:r>
              <a:rPr b="0" lang="da-DK" sz="1800" spc="-1" strike="noStrike">
                <a:solidFill>
                  <a:srgbClr val="333333"/>
                </a:solidFill>
                <a:latin typeface="Geneva"/>
              </a:rPr>
              <a:t>: </a:t>
            </a:r>
            <a:r>
              <a:rPr b="0" lang="da-DK" sz="1400" spc="-1" strike="noStrike">
                <a:solidFill>
                  <a:srgbClr val="333333"/>
                </a:solidFill>
                <a:latin typeface="APL385 Unicode"/>
              </a:rPr>
              <a:t>≤ &lt; = &gt; ≥ ⌈ ⌊</a:t>
            </a: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29040" indent="-329040">
              <a:spcBef>
                <a:spcPts val="4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33333"/>
                </a:solidFill>
                <a:latin typeface="Geneva"/>
              </a:rPr>
              <a:t>We learned that measuring and understanding performance of multi-threaded applications is HARD.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29040" indent="-329040">
              <a:spcBef>
                <a:spcPts val="4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33333"/>
                </a:solidFill>
                <a:latin typeface="Geneva"/>
              </a:rPr>
              <a:t>Compiler-style data-flow analysis would help (turn a train of primitives into a unit), and is also HARD (but easier for dfns</a:t>
            </a:r>
            <a:r>
              <a:rPr b="0" lang="da-DK" sz="2000" spc="-1" strike="noStrike">
                <a:solidFill>
                  <a:srgbClr val="333333"/>
                </a:solidFill>
                <a:latin typeface="Wingdings"/>
                <a:ea typeface="Wingdings"/>
              </a:rPr>
              <a:t></a:t>
            </a:r>
            <a:r>
              <a:rPr b="0" lang="da-DK" sz="2000" spc="-1" strike="noStrike">
                <a:solidFill>
                  <a:srgbClr val="333333"/>
                </a:solidFill>
                <a:latin typeface="Geneva"/>
              </a:rPr>
              <a:t>).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26" name="Date Placeholder 3"/>
          <p:cNvSpPr/>
          <p:nvPr/>
        </p:nvSpPr>
        <p:spPr>
          <a:xfrm>
            <a:off x="685800" y="6324480"/>
            <a:ext cx="21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Technical Road 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8 - Elsin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BFCC5-D216-4CC9-9D0D-759B595DB2C6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Let the User Decide to Fork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642600" y="1785960"/>
            <a:ext cx="8172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Using multiple cores within primitives is transparent to the APL programmer, so very easy to use.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However, forking and collecting on each primitive only works well in some cases. Synchronization and data loading/storing cause bottlenecks.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The average size of an array passed to a primitive is </a:t>
            </a:r>
            <a:r>
              <a:rPr b="1" i="1" lang="da-DK" sz="2400" spc="-1" strike="noStrike">
                <a:solidFill>
                  <a:srgbClr val="333333"/>
                </a:solidFill>
                <a:latin typeface="Geneva"/>
              </a:rPr>
              <a:t>very</a:t>
            </a: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 small in most applications.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In many situations, better utilization of the processor is possible if the APL developer controls forking at a higher level.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31" name="Date Placeholder 3"/>
          <p:cNvSpPr/>
          <p:nvPr/>
        </p:nvSpPr>
        <p:spPr>
          <a:xfrm>
            <a:off x="685800" y="6324480"/>
            <a:ext cx="21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Technical Road 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8 - Elsin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F4E4B-B424-4D50-94EB-2356726E8BF9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A Notation for Forking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642600" y="1785960"/>
            <a:ext cx="8172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In addition to the implicit parallel nature of many primitives, Dyalog has two explicit forking mechanisms: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713160" indent="-274320">
              <a:spcBef>
                <a:spcPts val="4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33333"/>
                </a:solidFill>
                <a:latin typeface="Geneva"/>
              </a:rPr>
              <a:t>The </a:t>
            </a:r>
            <a:r>
              <a:rPr b="0" i="1" lang="da-DK" sz="2000" spc="-1" strike="noStrike">
                <a:solidFill>
                  <a:srgbClr val="333333"/>
                </a:solidFill>
                <a:latin typeface="Geneva"/>
              </a:rPr>
              <a:t>each</a:t>
            </a:r>
            <a:r>
              <a:rPr b="0" lang="da-DK" sz="2000" spc="-1" strike="noStrike">
                <a:solidFill>
                  <a:srgbClr val="333333"/>
                </a:solidFill>
                <a:latin typeface="Geneva"/>
              </a:rPr>
              <a:t> operator (</a:t>
            </a:r>
            <a:r>
              <a:rPr b="0" lang="da-DK" sz="2000" spc="-1" strike="noStrike">
                <a:solidFill>
                  <a:srgbClr val="333333"/>
                </a:solidFill>
                <a:latin typeface="APL385 Unicode"/>
              </a:rPr>
              <a:t>¨</a:t>
            </a:r>
            <a:r>
              <a:rPr b="0" lang="da-DK" sz="2000" spc="-1" strike="noStrike">
                <a:solidFill>
                  <a:srgbClr val="333333"/>
                </a:solidFill>
                <a:latin typeface="Geneva"/>
              </a:rPr>
              <a:t>):</a:t>
            </a:r>
            <a:br>
              <a:rPr sz="2000"/>
            </a:br>
            <a:r>
              <a:rPr b="1" lang="da-DK" sz="2000" spc="-1" strike="noStrike">
                <a:solidFill>
                  <a:srgbClr val="333333"/>
                </a:solidFill>
                <a:latin typeface="Geneva"/>
              </a:rPr>
              <a:t>   </a:t>
            </a:r>
            <a:r>
              <a:rPr b="1" lang="da-DK" sz="2000" spc="-1" strike="noStrike">
                <a:solidFill>
                  <a:srgbClr val="333333"/>
                </a:solidFill>
                <a:latin typeface="APL385 Unicode"/>
              </a:rPr>
              <a:t>     function¨data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1" marL="713160" indent="-274320">
              <a:spcBef>
                <a:spcPts val="4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33333"/>
                </a:solidFill>
                <a:latin typeface="Geneva"/>
              </a:rPr>
              <a:t>A ”dot” to the right of an array of namespaces:</a:t>
            </a:r>
            <a:br>
              <a:rPr sz="2000"/>
            </a:br>
            <a:r>
              <a:rPr b="1" lang="da-DK" sz="2000" spc="-1" strike="noStrike">
                <a:solidFill>
                  <a:srgbClr val="333333"/>
                </a:solidFill>
                <a:latin typeface="APL385 Unicode"/>
              </a:rPr>
              <a:t>      ns_array.function data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1" marL="713160" indent="-274320">
              <a:spcBef>
                <a:spcPts val="4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33333"/>
                </a:solidFill>
                <a:latin typeface="Geneva"/>
                <a:ea typeface="Courier New"/>
              </a:rPr>
              <a:t>In both cases, </a:t>
            </a:r>
            <a:r>
              <a:rPr b="0" lang="da-DK" sz="2000" spc="-1" strike="noStrike">
                <a:solidFill>
                  <a:srgbClr val="333333"/>
                </a:solidFill>
                <a:latin typeface="APL385 Unicode"/>
                <a:ea typeface="Courier New"/>
              </a:rPr>
              <a:t>function</a:t>
            </a:r>
            <a:r>
              <a:rPr b="0" lang="da-DK" sz="2000" spc="-1" strike="noStrike">
                <a:solidFill>
                  <a:srgbClr val="333333"/>
                </a:solidFill>
                <a:latin typeface="Geneva"/>
                <a:ea typeface="Courier New"/>
              </a:rPr>
              <a:t> is (logically) executed in parallel.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29040" indent="-32904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  <a:ea typeface="Courier New"/>
              </a:rPr>
              <a:t>Due to current limitations in workspace management, Dyalog APL cannot actually make the calls in parallel.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29040" indent="-32904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  <a:ea typeface="Courier New"/>
              </a:rPr>
              <a:t>However, imagine if we had a mechanism to generate namespaces outside the current workspace...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36" name="Date Placeholder 3"/>
          <p:cNvSpPr/>
          <p:nvPr/>
        </p:nvSpPr>
        <p:spPr>
          <a:xfrm>
            <a:off x="685800" y="6324480"/>
            <a:ext cx="21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Technical Road 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8 - Elsin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FF2D9-B85B-4695-81C2-4E69924AF16C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Demo of Model of Forking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642600" y="1785960"/>
            <a:ext cx="8172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333333"/>
                </a:solidFill>
                <a:latin typeface="APL385 Unicode"/>
              </a:rPr>
              <a:t>(remember to run with SHOW←1 and inspect the Demo function)</a:t>
            </a: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2811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2811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333333"/>
                </a:solidFill>
                <a:latin typeface="APL385 Unicode"/>
              </a:rPr>
              <a:t>    </a:t>
            </a:r>
            <a:r>
              <a:rPr b="0" lang="da-DK" sz="1400" spc="-1" strike="noStrike">
                <a:solidFill>
                  <a:srgbClr val="333333"/>
                </a:solidFill>
                <a:latin typeface="APL385 Unicode"/>
              </a:rPr>
              <a:t>nss←⎕NS¨ '' ''</a:t>
            </a: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2811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333333"/>
                </a:solidFill>
                <a:latin typeface="APL385 Unicode"/>
              </a:rPr>
              <a:t>    </a:t>
            </a:r>
            <a:r>
              <a:rPr b="0" lang="da-DK" sz="1400" spc="-1" strike="noStrike">
                <a:solidFill>
                  <a:srgbClr val="333333"/>
                </a:solidFill>
                <a:latin typeface="APL385 Unicode"/>
              </a:rPr>
              <a:t>nss.mat←⊂¯1000+?500 500⍴2000</a:t>
            </a: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2811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333333"/>
                </a:solidFill>
                <a:latin typeface="APL385 Unicode"/>
              </a:rPr>
              <a:t>    </a:t>
            </a:r>
            <a:r>
              <a:rPr b="0" lang="da-DK" sz="1400" spc="-1" strike="noStrike">
                <a:solidFill>
                  <a:srgbClr val="333333"/>
                </a:solidFill>
                <a:latin typeface="APL385 Unicode"/>
              </a:rPr>
              <a:t>nss.(0⍕3 3↑mat+.×⌹mat) ⍝ show top left of mat times its inverse</a:t>
            </a: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2811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333333"/>
                </a:solidFill>
                <a:latin typeface="APL385 Unicode"/>
              </a:rPr>
              <a:t>   </a:t>
            </a:r>
            <a:r>
              <a:rPr b="0" lang="da-DK" sz="1400" spc="-1" strike="noStrike">
                <a:solidFill>
                  <a:srgbClr val="333333"/>
                </a:solidFill>
                <a:latin typeface="APL385 Unicode"/>
              </a:rPr>
              <a:t>1  0  0    1  0  0 </a:t>
            </a: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2811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333333"/>
                </a:solidFill>
                <a:latin typeface="APL385 Unicode"/>
              </a:rPr>
              <a:t>   </a:t>
            </a:r>
            <a:r>
              <a:rPr b="0" lang="da-DK" sz="1400" spc="-1" strike="noStrike">
                <a:solidFill>
                  <a:srgbClr val="333333"/>
                </a:solidFill>
                <a:latin typeface="APL385 Unicode"/>
              </a:rPr>
              <a:t>0  1  0    0  1  0 </a:t>
            </a: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2811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333333"/>
                </a:solidFill>
                <a:latin typeface="APL385 Unicode"/>
              </a:rPr>
              <a:t>   </a:t>
            </a:r>
            <a:r>
              <a:rPr b="0" lang="da-DK" sz="1400" spc="-1" strike="noStrike">
                <a:solidFill>
                  <a:srgbClr val="333333"/>
                </a:solidFill>
                <a:latin typeface="APL385 Unicode"/>
              </a:rPr>
              <a:t>0  0  1    0  0  1 </a:t>
            </a: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2811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333333"/>
                </a:solidFill>
                <a:latin typeface="APL385 Unicode"/>
              </a:rPr>
              <a:t>    </a:t>
            </a:r>
            <a:r>
              <a:rPr b="0" lang="da-DK" sz="1400" spc="-1" strike="noStrike">
                <a:solidFill>
                  <a:srgbClr val="333333"/>
                </a:solidFill>
                <a:latin typeface="APL385 Unicode"/>
              </a:rPr>
              <a:t>(elapsed time: 18920 msec)</a:t>
            </a: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2811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2811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333333"/>
                </a:solidFill>
                <a:latin typeface="APL385 Unicode"/>
              </a:rPr>
              <a:t>    </a:t>
            </a:r>
            <a:r>
              <a:rPr b="0" lang="da-DK" sz="1400" spc="-1" strike="noStrike">
                <a:solidFill>
                  <a:srgbClr val="333333"/>
                </a:solidFill>
                <a:latin typeface="APL385 Unicode"/>
              </a:rPr>
              <a:t>remote←Y 2 ⍝ Y is the ”fork” function</a:t>
            </a: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2811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333333"/>
                </a:solidFill>
                <a:latin typeface="APL385 Unicode"/>
              </a:rPr>
              <a:t>    </a:t>
            </a:r>
            <a:r>
              <a:rPr b="0" lang="da-DK" sz="1400" spc="-1" strike="noStrike">
                <a:solidFill>
                  <a:srgbClr val="333333"/>
                </a:solidFill>
                <a:latin typeface="APL385 Unicode"/>
              </a:rPr>
              <a:t>remote.mat←⊂¯1000+?500 500⍴2000</a:t>
            </a: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2811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333333"/>
                </a:solidFill>
                <a:latin typeface="APL385 Unicode"/>
              </a:rPr>
              <a:t>    </a:t>
            </a:r>
            <a:r>
              <a:rPr b="0" lang="da-DK" sz="1400" spc="-1" strike="noStrike">
                <a:solidFill>
                  <a:srgbClr val="333333"/>
                </a:solidFill>
                <a:latin typeface="APL385 Unicode"/>
              </a:rPr>
              <a:t>remote.(0⍕3 3↑mat+.×⌹mat)</a:t>
            </a: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2811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333333"/>
                </a:solidFill>
                <a:latin typeface="APL385 Unicode"/>
              </a:rPr>
              <a:t>   </a:t>
            </a:r>
            <a:r>
              <a:rPr b="0" lang="da-DK" sz="1400" spc="-1" strike="noStrike">
                <a:solidFill>
                  <a:srgbClr val="333333"/>
                </a:solidFill>
                <a:latin typeface="APL385 Unicode"/>
              </a:rPr>
              <a:t>1  0  0    1  0  0 </a:t>
            </a: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2811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333333"/>
                </a:solidFill>
                <a:latin typeface="APL385 Unicode"/>
              </a:rPr>
              <a:t>   </a:t>
            </a:r>
            <a:r>
              <a:rPr b="0" lang="da-DK" sz="1400" spc="-1" strike="noStrike">
                <a:solidFill>
                  <a:srgbClr val="333333"/>
                </a:solidFill>
                <a:latin typeface="APL385 Unicode"/>
              </a:rPr>
              <a:t>0  1  0    0  1  0 </a:t>
            </a: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2811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333333"/>
                </a:solidFill>
                <a:latin typeface="APL385 Unicode"/>
              </a:rPr>
              <a:t>   </a:t>
            </a:r>
            <a:r>
              <a:rPr b="0" lang="da-DK" sz="1400" spc="-1" strike="noStrike">
                <a:solidFill>
                  <a:srgbClr val="333333"/>
                </a:solidFill>
                <a:latin typeface="APL385 Unicode"/>
              </a:rPr>
              <a:t>0  0  1    0  0  1 </a:t>
            </a: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2811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333333"/>
                </a:solidFill>
                <a:latin typeface="APL385 Unicode"/>
              </a:rPr>
              <a:t>    </a:t>
            </a:r>
            <a:r>
              <a:rPr b="0" lang="da-DK" sz="1400" spc="-1" strike="noStrike">
                <a:solidFill>
                  <a:srgbClr val="333333"/>
                </a:solidFill>
                <a:latin typeface="APL385 Unicode"/>
              </a:rPr>
              <a:t>(elapsed time: 11256 msec)</a:t>
            </a: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2811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2811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333333"/>
                </a:solidFill>
                <a:latin typeface="APL385 Unicode"/>
              </a:rPr>
              <a:t>    </a:t>
            </a: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41" name="Date Placeholder 3"/>
          <p:cNvSpPr/>
          <p:nvPr/>
        </p:nvSpPr>
        <p:spPr>
          <a:xfrm>
            <a:off x="685800" y="6324480"/>
            <a:ext cx="21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Technical Road 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8 - Elsin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2D36F-6B6F-4C30-B4F9-EE10DC97F343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Looking Back: v11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685800" y="1981080"/>
            <a:ext cx="7886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33333"/>
                </a:solidFill>
                <a:latin typeface="Geneva"/>
              </a:rPr>
              <a:t>Version 11.0 (Autumn 2006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Object Orientation – </a:t>
            </a:r>
            <a:r>
              <a:rPr b="0" i="1" lang="da-DK" sz="2800" spc="-1" strike="noStrike">
                <a:solidFill>
                  <a:srgbClr val="333333"/>
                </a:solidFill>
                <a:latin typeface="Geneva"/>
              </a:rPr>
              <a:t>Classe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60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New Tool of Thought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60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Significantly Improved Integration with .Net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60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Source code management using standard tools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64-bit Version - LARGE Workspace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Core Language Extension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60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A number of new primitives:  </a:t>
            </a:r>
            <a:r>
              <a:rPr b="0" lang="da-DK" sz="2400" spc="-1" strike="noStrike">
                <a:solidFill>
                  <a:srgbClr val="333333"/>
                </a:solidFill>
                <a:latin typeface="APL385 Unicode"/>
              </a:rPr>
              <a:t>⍣ ⌷ ∧ ∨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03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Technical Road 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8 - Elsin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90F0D-15FB-42BD-8C61-7E9BF7C54753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Forking Model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642600" y="1785960"/>
            <a:ext cx="8172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The right argument to Fork could be: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586800" indent="-225720">
              <a:spcBef>
                <a:spcPts val="4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a-DK" sz="2000" spc="-1" strike="noStrike">
                <a:solidFill>
                  <a:srgbClr val="333333"/>
                </a:solidFill>
                <a:latin typeface="Geneva"/>
              </a:rPr>
              <a:t>n</a:t>
            </a:r>
            <a:r>
              <a:rPr b="0" lang="da-DK" sz="2000" spc="-1" strike="noStrike">
                <a:solidFill>
                  <a:srgbClr val="333333"/>
                </a:solidFill>
                <a:latin typeface="Geneva"/>
              </a:rPr>
              <a:t>: create empty namespaces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1" marL="586800" indent="-225720">
              <a:spcBef>
                <a:spcPts val="4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a-DK" sz="2000" spc="-1" strike="noStrike">
                <a:solidFill>
                  <a:srgbClr val="333333"/>
                </a:solidFill>
                <a:latin typeface="Geneva"/>
              </a:rPr>
              <a:t>ref</a:t>
            </a:r>
            <a:r>
              <a:rPr b="0" lang="da-DK" sz="2000" spc="-1" strike="noStrike">
                <a:solidFill>
                  <a:srgbClr val="333333"/>
                </a:solidFill>
                <a:latin typeface="Geneva"/>
              </a:rPr>
              <a:t>: copy an existing namespace or object instance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1" marL="586800" indent="-225720">
              <a:spcBef>
                <a:spcPts val="4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a-DK" sz="2000" spc="-1" strike="noStrike">
                <a:solidFill>
                  <a:srgbClr val="333333"/>
                </a:solidFill>
                <a:latin typeface="Geneva"/>
              </a:rPr>
              <a:t>wsname:</a:t>
            </a:r>
            <a:r>
              <a:rPr b="0" lang="da-DK" sz="2000" spc="-1" strike="noStrike">
                <a:solidFill>
                  <a:srgbClr val="333333"/>
                </a:solidFill>
                <a:latin typeface="Geneva"/>
              </a:rPr>
              <a:t> create a remote namespace from a saved workspace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270720" indent="-27072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The model is a function built on the Conga RPCServer example code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270720" indent="-27072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The APL model offers (almost) all the performance benefits, but not the elegance of interpreter support – which would put parallel execution ”at your fingertips”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270720" indent="-27072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We would like to explore the design thoroughly with you before implementing support in the language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27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2707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2707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333333"/>
                </a:solidFill>
                <a:latin typeface="APL385 Unicode"/>
              </a:rPr>
              <a:t>    </a:t>
            </a: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46" name="Date Placeholder 3"/>
          <p:cNvSpPr/>
          <p:nvPr/>
        </p:nvSpPr>
        <p:spPr>
          <a:xfrm>
            <a:off x="685800" y="6324480"/>
            <a:ext cx="21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Technical Road 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8 - Elsin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33C3B-BF01-4697-8FD1-7B30A817FB56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000" spc="-1" strike="noStrike">
                <a:solidFill>
                  <a:srgbClr val="333333"/>
                </a:solidFill>
                <a:latin typeface="Geneva"/>
              </a:rPr>
              <a:t>Dyalog’08 Conference Edition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642600" y="1785960"/>
            <a:ext cx="8172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Most of Roger Hui’s work on boolean scans and reductions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22200" indent="-32220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New implementation of indexing (but not yet indexed assignment)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22200" indent="-32220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Parallel processing of ”large” scalar function calls, controlled by environment variables: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698400" indent="-268560">
              <a:spcBef>
                <a:spcPts val="400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333333"/>
                </a:solidFill>
                <a:latin typeface="Geneva"/>
              </a:rPr>
              <a:t>APL_MIN_PARALLEL  (array size at which extra cores are used, default 32767)</a:t>
            </a:r>
            <a:endParaRPr b="0" lang="en-US" sz="1600" spc="-1" strike="noStrike">
              <a:solidFill>
                <a:srgbClr val="333333"/>
              </a:solidFill>
              <a:latin typeface="Geneva"/>
            </a:endParaRPr>
          </a:p>
          <a:p>
            <a:pPr lvl="1" marL="698400" indent="-268560">
              <a:spcBef>
                <a:spcPts val="400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333333"/>
                </a:solidFill>
                <a:latin typeface="Geneva"/>
              </a:rPr>
              <a:t>APL_MAX_THREADS  (number of cores to use, default 2)</a:t>
            </a:r>
            <a:endParaRPr b="0" lang="en-US" sz="1600" spc="-1" strike="noStrike">
              <a:solidFill>
                <a:srgbClr val="333333"/>
              </a:solidFill>
              <a:latin typeface="Geneva"/>
            </a:endParaRPr>
          </a:p>
          <a:p>
            <a:pPr marL="322200" indent="-322200">
              <a:spcBef>
                <a:spcPts val="4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33333"/>
                </a:solidFill>
                <a:latin typeface="Geneva"/>
              </a:rPr>
              <a:t>The workspace DYALOG08 contains a function which shows off the features of the new interpreter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22200" indent="-322200">
              <a:spcBef>
                <a:spcPts val="4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333333"/>
                </a:solidFill>
                <a:latin typeface="Geneva"/>
              </a:rPr>
              <a:t>Warning:</a:t>
            </a:r>
            <a:r>
              <a:rPr b="0" lang="da-DK" sz="2000" spc="-1" strike="noStrike">
                <a:solidFill>
                  <a:srgbClr val="333333"/>
                </a:solidFill>
                <a:latin typeface="Geneva"/>
              </a:rPr>
              <a:t> Do NOT use this interpreter for anything other than experiments. Enabling APLMON in it crashes in my build.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51" name="Date Placeholder 3"/>
          <p:cNvSpPr/>
          <p:nvPr/>
        </p:nvSpPr>
        <p:spPr>
          <a:xfrm>
            <a:off x="685800" y="6324480"/>
            <a:ext cx="21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Technical Road 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8 - Elsin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A6619-1350-4ECA-AFFA-253E1E38FBF5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000" spc="-1" strike="noStrike">
                <a:solidFill>
                  <a:srgbClr val="333333"/>
                </a:solidFill>
                <a:latin typeface="Geneva"/>
              </a:rPr>
              <a:t>Dyalog’08 Conference Edition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642600" y="1785960"/>
            <a:ext cx="817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a-DK" sz="2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56" name="Date Placeholder 3"/>
          <p:cNvSpPr/>
          <p:nvPr/>
        </p:nvSpPr>
        <p:spPr>
          <a:xfrm>
            <a:off x="685800" y="6324480"/>
            <a:ext cx="21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Technical Road 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8 - Elsin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91235-C520-468F-A4A6-47BDC39FDC67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9" name="Picture 3" descr=""/>
          <p:cNvPicPr/>
          <p:nvPr/>
        </p:nvPicPr>
        <p:blipFill>
          <a:blip r:embed="rId1"/>
          <a:stretch/>
        </p:blipFill>
        <p:spPr>
          <a:xfrm>
            <a:off x="0" y="1500120"/>
            <a:ext cx="7915320" cy="4934160"/>
          </a:xfrm>
          <a:prstGeom prst="rect">
            <a:avLst/>
          </a:prstGeom>
          <a:ln w="0">
            <a:noFill/>
          </a:ln>
        </p:spPr>
      </p:pic>
      <p:pic>
        <p:nvPicPr>
          <p:cNvPr id="760" name="Picture 2" descr=""/>
          <p:cNvPicPr/>
          <p:nvPr/>
        </p:nvPicPr>
        <p:blipFill>
          <a:blip r:embed="rId2"/>
          <a:stretch/>
        </p:blipFill>
        <p:spPr>
          <a:xfrm>
            <a:off x="2214720" y="1500120"/>
            <a:ext cx="7877160" cy="48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000" spc="-1" strike="noStrike">
                <a:solidFill>
                  <a:srgbClr val="333333"/>
                </a:solidFill>
                <a:latin typeface="Geneva"/>
              </a:rPr>
              <a:t>Conclusion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642600" y="1785960"/>
            <a:ext cx="8172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The </a:t>
            </a:r>
            <a:r>
              <a:rPr b="0" i="1" lang="da-DK" sz="2800" spc="-1" strike="noStrike">
                <a:solidFill>
                  <a:srgbClr val="333333"/>
                </a:solidFill>
                <a:latin typeface="Geneva"/>
              </a:rPr>
              <a:t>Release Notes</a:t>
            </a: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 for version 12.1 will be much thinner than the notes for v11.0 and v12.0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2640" indent="-33264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It will be faster and stronger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2640" indent="-33264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It will look better, too (with GRAPL graphics and IDE enhancements)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2640" indent="-33264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And after that, things will get </a:t>
            </a:r>
            <a:r>
              <a:rPr b="0" i="1" lang="da-DK" sz="2800" spc="-1" strike="noStrike">
                <a:solidFill>
                  <a:srgbClr val="333333"/>
                </a:solidFill>
                <a:latin typeface="Geneva"/>
              </a:rPr>
              <a:t>really</a:t>
            </a: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 interesting..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63" name="Date Placeholder 3"/>
          <p:cNvSpPr/>
          <p:nvPr/>
        </p:nvSpPr>
        <p:spPr>
          <a:xfrm>
            <a:off x="685800" y="6324480"/>
            <a:ext cx="21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Technical Road 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8 - Elsin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E8839-E819-432B-AA53-592365B81200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000" spc="-1" strike="noStrike">
                <a:solidFill>
                  <a:srgbClr val="333333"/>
                </a:solidFill>
                <a:latin typeface="Geneva"/>
              </a:rPr>
              <a:t>Other Talks by Devt. Team...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642600" y="1785960"/>
            <a:ext cx="817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a-DK" sz="2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68" name="Date Placeholder 3"/>
          <p:cNvSpPr/>
          <p:nvPr/>
        </p:nvSpPr>
        <p:spPr>
          <a:xfrm>
            <a:off x="685800" y="6324480"/>
            <a:ext cx="21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Technical Road 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8 - Elsin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1AE70-2255-4AEB-9726-D1EAB96A7531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1" name=""/>
          <p:cNvGraphicFramePr/>
          <p:nvPr/>
        </p:nvGraphicFramePr>
        <p:xfrm>
          <a:off x="428760" y="1643040"/>
          <a:ext cx="8001000" cy="2225520"/>
        </p:xfrm>
        <a:graphic>
          <a:graphicData uri="http://schemas.openxmlformats.org/drawingml/2006/table">
            <a:tbl>
              <a:tblPr/>
              <a:tblGrid>
                <a:gridCol w="857160"/>
                <a:gridCol w="7143840"/>
              </a:tblGrid>
              <a:tr h="3715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800" spc="-1" strike="noStrike">
                          <a:solidFill>
                            <a:srgbClr val="ffffff"/>
                          </a:solidFill>
                          <a:latin typeface="Geneva"/>
                        </a:rPr>
                        <a:t>Today (Monday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13: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John Daintree: Version 12.1 IDE Featu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14: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Roger Hui: Performance Improvements in Dyalog – A Case Stud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15: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Nic Delcros and John Scholes: Interpreter Perform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16: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Richard Smith and John Scholes: Journaled Fi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16: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Jonathan Manktelow: APL+Windows Presentation Found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72" name=""/>
          <p:cNvGraphicFramePr/>
          <p:nvPr/>
        </p:nvGraphicFramePr>
        <p:xfrm>
          <a:off x="642960" y="3857760"/>
          <a:ext cx="8001000" cy="1112760"/>
        </p:xfrm>
        <a:graphic>
          <a:graphicData uri="http://schemas.openxmlformats.org/drawingml/2006/table">
            <a:tbl>
              <a:tblPr/>
              <a:tblGrid>
                <a:gridCol w="857160"/>
                <a:gridCol w="7143840"/>
              </a:tblGrid>
              <a:tr h="3715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800" spc="-1" strike="noStrike">
                          <a:solidFill>
                            <a:srgbClr val="ffffff"/>
                          </a:solidFill>
                          <a:latin typeface="Geneva"/>
                        </a:rPr>
                        <a:t>Tomorrow (Tuesday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16: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Morten Kromberg: Conga, SLL and WebService Tutor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16: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Adrian Smith: RainPro Tutor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73" name=""/>
          <p:cNvGraphicFramePr/>
          <p:nvPr/>
        </p:nvGraphicFramePr>
        <p:xfrm>
          <a:off x="857160" y="5000760"/>
          <a:ext cx="8001000" cy="1112760"/>
        </p:xfrm>
        <a:graphic>
          <a:graphicData uri="http://schemas.openxmlformats.org/drawingml/2006/table">
            <a:tbl>
              <a:tblPr/>
              <a:tblGrid>
                <a:gridCol w="857520"/>
                <a:gridCol w="7143480"/>
              </a:tblGrid>
              <a:tr h="3715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800" spc="-1" strike="noStrike">
                          <a:solidFill>
                            <a:srgbClr val="ffffff"/>
                          </a:solidFill>
                          <a:latin typeface="Geneva"/>
                        </a:rPr>
                        <a:t>Wednesday (Course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13: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Dan Baronet: Source Code Mgt using SALT and SubVer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13: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John Daintree: Using the Microsoft.Net framewo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Looking Back: v12.0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642600" y="1857240"/>
            <a:ext cx="7886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First Release (Win32) in February 2008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15360" indent="-31536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Main Features: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683280" indent="-262800">
              <a:spcBef>
                <a:spcPts val="4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Unicode Support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1" marL="683280" indent="-262800">
              <a:spcBef>
                <a:spcPts val="4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Journaling Component Files 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1" marL="683280" indent="-262800">
              <a:spcBef>
                <a:spcPts val="4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Simplified, Secure Communications Toolkit (“Conga”)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1" marL="683280" indent="-262800">
              <a:spcBef>
                <a:spcPts val="4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Built-In Charting and Document Creation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1" marL="683280" indent="-262800">
              <a:spcBef>
                <a:spcPts val="4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Language Bar and On-Screen Keyboard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15360" indent="-315360">
              <a:spcBef>
                <a:spcPts val="4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Release schedule: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1" marL="683280" indent="-262800">
              <a:spcBef>
                <a:spcPts val="45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Geneva"/>
              </a:rPr>
              <a:t>Windows (32&amp;64), Intel Linux, AIX/32 are available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lvl="1" marL="683280" indent="-262800">
              <a:spcBef>
                <a:spcPts val="45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Geneva"/>
              </a:rPr>
              <a:t>AIX/64 will soon be released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lvl="1" marL="683280" indent="-262800">
              <a:spcBef>
                <a:spcPts val="45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Geneva"/>
              </a:rPr>
              <a:t>Windows Mobile at year end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lvl="1" marL="683280" indent="-262800">
              <a:spcBef>
                <a:spcPts val="45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Geneva"/>
              </a:rPr>
              <a:t>Solaris versions, other Unixes “on demand”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08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Technical Road 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8 - Elsin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46973-AD22-4CEF-B479-037D82FE3714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1" name="Picture 3" descr="wyrm2008.jpg"/>
          <p:cNvPicPr/>
          <p:nvPr/>
        </p:nvPicPr>
        <p:blipFill>
          <a:blip r:embed="rId1"/>
          <a:stretch/>
        </p:blipFill>
        <p:spPr>
          <a:xfrm>
            <a:off x="6643800" y="5429160"/>
            <a:ext cx="1428480" cy="13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More About v12 (&amp;v11):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642600" y="1857240"/>
            <a:ext cx="7886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Geneva"/>
              </a:rPr>
              <a:t>Journaling Component Files</a:t>
            </a:r>
            <a:endParaRPr b="0" lang="en-US" sz="22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45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Geneva"/>
              </a:rPr>
              <a:t>16:00-16:30 Monday (Richard Smith &amp; John Scholes)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55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Geneva"/>
              </a:rPr>
              <a:t>Simplified, Secure Communications Toolkit (“Conga”)</a:t>
            </a:r>
            <a:endParaRPr b="0" lang="en-US" sz="22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45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Geneva"/>
              </a:rPr>
              <a:t>16:00-18:00 Tuesday (Morten Kromberg)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55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Geneva"/>
              </a:rPr>
              <a:t>Built-In Charting and Document Creation</a:t>
            </a:r>
            <a:endParaRPr b="0" lang="en-US" sz="22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45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Geneva"/>
              </a:rPr>
              <a:t>16:00-18:00 Tuesday (Adrian Smith)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55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Geneva"/>
              </a:rPr>
              <a:t>Source Code Management</a:t>
            </a:r>
            <a:endParaRPr b="0" lang="en-US" sz="22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45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Geneva"/>
              </a:rPr>
              <a:t>13:30-16:30 Wednesday (Dan Baronet)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55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Geneva"/>
              </a:rPr>
              <a:t>Unicode Support</a:t>
            </a:r>
            <a:endParaRPr b="0" lang="en-US" sz="22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45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Geneva"/>
              </a:rPr>
              <a:t>Workshop Sunday (Morten Kromberg)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45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Geneva"/>
              </a:rPr>
              <a:t>Short Demo </a:t>
            </a:r>
            <a:r>
              <a:rPr b="1" i="1" lang="en-GB" sz="1800" spc="-1" strike="noStrike">
                <a:solidFill>
                  <a:srgbClr val="333333"/>
                </a:solidFill>
                <a:latin typeface="Geneva"/>
              </a:rPr>
              <a:t>now!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14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Technical Road 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8 - Elsin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20B8C-A82F-473D-96C2-BB086EDA4977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Date Placeholder 3"/>
          <p:cNvSpPr/>
          <p:nvPr/>
        </p:nvSpPr>
        <p:spPr>
          <a:xfrm>
            <a:off x="685800" y="6324480"/>
            <a:ext cx="217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Technical Road 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Dyalog ’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64C4B-CC80-4507-A9B5-A3DD63B5B537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000" spc="-1" strike="noStrike">
                <a:solidFill>
                  <a:srgbClr val="333333"/>
                </a:solidFill>
                <a:latin typeface="Geneva"/>
              </a:rPr>
              <a:t>Enhancements 1998-2008 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graphicFrame>
        <p:nvGraphicFramePr>
          <p:cNvPr id="621" name=""/>
          <p:cNvGraphicFramePr/>
          <p:nvPr/>
        </p:nvGraphicFramePr>
        <p:xfrm>
          <a:off x="285840" y="1571760"/>
          <a:ext cx="8358120" cy="4545000"/>
        </p:xfrm>
        <a:graphic>
          <a:graphicData uri="http://schemas.openxmlformats.org/drawingml/2006/table">
            <a:tbl>
              <a:tblPr/>
              <a:tblGrid>
                <a:gridCol w="714240"/>
                <a:gridCol w="765360"/>
                <a:gridCol w="687852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400" spc="-1" strike="noStrike">
                          <a:solidFill>
                            <a:srgbClr val="ffffff"/>
                          </a:solidFill>
                          <a:latin typeface="Geneva"/>
                        </a:rPr>
                        <a:t>Ve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400" spc="-1" strike="noStrike">
                          <a:solidFill>
                            <a:srgbClr val="ffffff"/>
                          </a:solidFill>
                          <a:latin typeface="Geneva"/>
                        </a:rPr>
                        <a:t>An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400" spc="-1" strike="noStrike">
                          <a:solidFill>
                            <a:srgbClr val="ffffff"/>
                          </a:solidFill>
                          <a:latin typeface="Geneva"/>
                        </a:rPr>
                        <a:t>(c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400" spc="-1" strike="noStrike">
                          <a:solidFill>
                            <a:srgbClr val="ffffff"/>
                          </a:solidFill>
                          <a:latin typeface="Geneva"/>
                        </a:rPr>
                        <a:t>Major Featu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4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8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19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TCP/IP, OLE Automation, Dynamic Functions, :Tr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4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8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19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Multithreading, :Hold, :With, GIF &amp; PNG, ActiveXControl, Calendar, ToolControl, TabControl, Splitter, CoolBar, NWise Reduction, Scalar Primitives with Ax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4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9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2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Namespace and GUI object ”Refs”, Dot Syntax for GUI &amp; OLE objects, Windows 2000 GUI (ComboEX etc), Dock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4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.N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20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.NET Suppo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4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2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Idiom Recognition, Retained Hash tables, Auto-completion, Pocket AP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4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1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2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Tokens for thread synchronisation, 64-bit component files,  Value Tips, More Grid enhancements, Extended function header syntax, Thread Debugg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4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1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Object Orientation, 64-bit interpreter, Tighter .Net Integration, Squad, Power Operator, LCM/GCD, Simple APL Library Tookit (SAL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4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12.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Unicode, Journaling Component Files, Integrated Graphics and Reporting Tools, Conga, APL Language Bar, more SAL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3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4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12.0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Secure Sockets, Web Service Framework, </a:t>
                      </a: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APL385 Unicode"/>
                        </a:rPr>
                        <a:t>⎕FCOP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What’s Next?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172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Dyalog has developed at a breathtaking pace ...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Features for each release have often been researched, prototyped and released in a single cycle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This has made it hard to ensure quality and difficult to predict release dates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It is our goal to become a little more predictable – </a:t>
            </a:r>
            <a:r>
              <a:rPr b="0" i="1" lang="da-DK" sz="2400" spc="-1" strike="noStrike">
                <a:solidFill>
                  <a:srgbClr val="333333"/>
                </a:solidFill>
                <a:latin typeface="Geneva"/>
              </a:rPr>
              <a:t>without</a:t>
            </a: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 losing momentum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24" name="Date Placeholder 3"/>
          <p:cNvSpPr/>
          <p:nvPr/>
        </p:nvSpPr>
        <p:spPr>
          <a:xfrm>
            <a:off x="685800" y="6324480"/>
            <a:ext cx="21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Technical Road 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8 - Elsin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2B2E7-CE09-4CBC-A158-73AB5798F4E1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Version 12.1 (2009)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172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Version 12.1 will contain few ”visible” changes – at least  compared to recent releases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The theme is </a:t>
            </a:r>
            <a:r>
              <a:rPr b="0" i="1" lang="da-DK" sz="2400" spc="-1" strike="noStrike">
                <a:solidFill>
                  <a:srgbClr val="333333"/>
                </a:solidFill>
                <a:latin typeface="Geneva"/>
              </a:rPr>
              <a:t>Enterprise Applications</a:t>
            </a: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, but you don’t need to be an ”Enterprise” to benefit: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4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33333"/>
                </a:solidFill>
                <a:latin typeface="Geneva"/>
              </a:rPr>
              <a:t>Focus on performance, scalability, quality/reliability - and making applications easier to deploy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4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33333"/>
                </a:solidFill>
                <a:latin typeface="Geneva"/>
              </a:rPr>
              <a:t>Polishing off ”recent” features: 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2" marL="1143000" indent="-228600">
              <a:spcBef>
                <a:spcPts val="400"/>
              </a:spcBef>
              <a:buClr>
                <a:srgbClr val="ff8000"/>
              </a:buClr>
              <a:buFont typeface="Genev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333333"/>
                </a:solidFill>
                <a:latin typeface="Geneva"/>
              </a:rPr>
              <a:t>Better support for editing namespace and class scripts,</a:t>
            </a:r>
            <a:endParaRPr b="0" lang="en-US" sz="1600" spc="-1" strike="noStrike">
              <a:solidFill>
                <a:srgbClr val="333333"/>
              </a:solidFill>
              <a:latin typeface="Geneva"/>
            </a:endParaRPr>
          </a:p>
          <a:p>
            <a:pPr lvl="2" marL="1143000" indent="-228600">
              <a:spcBef>
                <a:spcPts val="400"/>
              </a:spcBef>
              <a:buClr>
                <a:srgbClr val="ff8000"/>
              </a:buClr>
              <a:buFont typeface="Genev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333333"/>
                </a:solidFill>
                <a:latin typeface="Geneva"/>
              </a:rPr>
              <a:t>More work on Unicode-based source code management</a:t>
            </a:r>
            <a:endParaRPr b="0" lang="en-US" sz="16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In parallel, we will start research projects which may not appear until </a:t>
            </a:r>
            <a:r>
              <a:rPr b="0" i="1" lang="da-DK" sz="2400" spc="-1" strike="noStrike">
                <a:solidFill>
                  <a:srgbClr val="333333"/>
                </a:solidFill>
                <a:latin typeface="Geneva"/>
              </a:rPr>
              <a:t>after</a:t>
            </a: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 12.1.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29" name="Date Placeholder 3"/>
          <p:cNvSpPr/>
          <p:nvPr/>
        </p:nvSpPr>
        <p:spPr>
          <a:xfrm>
            <a:off x="685800" y="6324480"/>
            <a:ext cx="21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Technical Road 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8 - Elsin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DDF6D-F63A-4432-BE73-1AB72382029A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”</a:t>
            </a: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Platform” Trend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172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Proprietary Unixes (AIX, Solaris, </a:t>
            </a:r>
            <a:r>
              <a:rPr b="0" lang="da-DK" sz="2000" spc="-1" strike="noStrike">
                <a:solidFill>
                  <a:srgbClr val="333333"/>
                </a:solidFill>
                <a:latin typeface="Geneva"/>
              </a:rPr>
              <a:t>remember hp?</a:t>
            </a: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) are ”fading” in favour of Linux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60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Windows remains the most important platform for our users at this point in time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64-bit is becoming common in Unix/Linux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60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Even Windows users are slo</a:t>
            </a:r>
            <a:r>
              <a:rPr b="0" lang="da-DK" sz="2000" spc="-1" strike="noStrike">
                <a:solidFill>
                  <a:srgbClr val="333333"/>
                </a:solidFill>
                <a:latin typeface="Geneva"/>
              </a:rPr>
              <a:t>o</a:t>
            </a:r>
            <a:r>
              <a:rPr b="0" lang="da-DK" sz="1800" spc="-1" strike="noStrike">
                <a:solidFill>
                  <a:srgbClr val="333333"/>
                </a:solidFill>
                <a:latin typeface="Geneva"/>
              </a:rPr>
              <a:t>o</a:t>
            </a:r>
            <a:r>
              <a:rPr b="0" lang="da-DK" sz="1600" spc="-1" strike="noStrike">
                <a:solidFill>
                  <a:srgbClr val="333333"/>
                </a:solidFill>
                <a:latin typeface="Geneva"/>
              </a:rPr>
              <a:t>o</a:t>
            </a: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wly moving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Multi (at least 2)-core machines are everywhere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60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we MUST make it easy to harness them from APL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34" name="Date Placeholder 3"/>
          <p:cNvSpPr/>
          <p:nvPr/>
        </p:nvSpPr>
        <p:spPr>
          <a:xfrm>
            <a:off x="685800" y="6324480"/>
            <a:ext cx="21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Technical Road 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8 - Elsin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BB497-42AC-4CE9-80CA-6FC640F2FE7A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06T22:41:42Z</dcterms:created>
  <dc:creator>Gitte Christensen</dc:creator>
  <dc:description/>
  <dc:language>en-US</dc:language>
  <cp:lastModifiedBy>Morten Kromberg</cp:lastModifiedBy>
  <dcterms:modified xsi:type="dcterms:W3CDTF">2008-10-13T11:33:05Z</dcterms:modified>
  <cp:revision>298</cp:revision>
  <dc:subject/>
  <dc:title>Rolling the Process</dc:title>
</cp:coreProperties>
</file>