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0850-A97F-4348-8D31-DA2F3327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needed anymore (SALT always includes it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9FF-0EC4-4CB1-BAD8-990C7FE18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AAE-AEEE-4698-82B2-04DF8E5F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6CE-9A7B-495A-9B0A-ABF779AA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cons ar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068-8B95-43A7-A37F-E69E0CA6D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* to load all scripts starting with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3DE4-7C33-4A68-87A1-3331E5D34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t th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7F3-59F9-4CB0-8C8D-D75A227A1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a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rt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AAA-918B-4343-A57B-D29C359A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457-D475-44E1-ACE1-F34BEF87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D23-E72B-46BE-952D-5616E347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17D-C82B-4C1E-9945-3FC157F6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241-5989-4543-A1B6-C59485DB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2C4-5C6F-47E8-A60B-C1C1A9BA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D39-FE10-44AC-97E3-C3A7A15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2D1-15AD-4B48-A622-B41D38F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5B6-F2AD-4A93-BF85-F6CA1886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965-178E-496F-B3C8-1B4F842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DAD-D3BB-406F-A10D-404B79B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715-CFB5-4A99-8390-578C27B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32A-D558-49B2-95EF-B187F4A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0C8-72C3-4D4A-A681-5E67CC09BF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C6C-1861-4FD7-AEB6-198A789212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82600"/>
            <a:ext cx="7772400" cy="23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5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C3D0-3228-4B28-9E33-B9D8EBA382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96" name="AutoShape 7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DCA-1FB8-4E29-964F-33EB41CA68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(what else?) Dyalog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7223-D589-4AF8-BF32-294447D84B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3395-2202-4BEF-A84D-7BE2BB3C41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1" name="robotex2.wmv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7F0C-2380-4E45-992A-FC949FCF3B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22E-1C9D-45D9-B640-D6A55665C1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08000" y="54468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77880" y="1603440"/>
            <a:ext cx="595152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275-94C6-442D-8FE4-A6730A28F7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EB4-CFFA-4890-A7C4-04599FC9F2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830320" y="5437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quent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2AAF-D417-4159-BF66-7356ECBD2A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272960" y="515448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if the modified namespace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9C30-2E6E-45FA-9E0F-83C4DDCF99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E1C3-7994-4E63-892A-E028F4C31E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SALT</a:t>
            </a: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 and using a version control system afterwards to maintain i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0D6-79D6-4993-A381-2A4689CBCA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639440"/>
            <a:ext cx="777240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72960" y="275112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eries of namespaces  each with functions and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78280" y="2330280"/>
            <a:ext cx="49705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013-CFEF-4E69-9DF9-52F76752B4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89CE-B1CF-4C10-B048-D5B7C16D8F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u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96" name="AutoShape 4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B96-DF2D-4757-8BAC-5F1A9D5B9E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907920" y="554688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7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6DA8-36BB-4CBB-A9C6-394801FADE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saving multiple copies we can see the difference between each modific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1625760" y="4268880"/>
            <a:ext cx="6049800" cy="1817640"/>
            <a:chOff x="1625760" y="4268880"/>
            <a:chExt cx="6049800" cy="1817640"/>
          </a:xfrm>
        </p:grpSpPr>
        <p:sp>
          <p:nvSpPr>
            <p:cNvPr id="234" name="AutoShape 4"/>
            <p:cNvSpPr/>
            <p:nvPr/>
          </p:nvSpPr>
          <p:spPr>
            <a:xfrm>
              <a:off x="1625760" y="4737240"/>
              <a:ext cx="2700360" cy="115236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533760" y="48448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3533760" y="51879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3533760" y="552924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5118120" y="434160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10480" y="491796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702480" y="54943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3857760" y="455724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3857760" y="5132520"/>
              <a:ext cx="2052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3857760" y="5639040"/>
              <a:ext cx="28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313600" y="4305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5532480" y="4268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6919920" y="5583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>
              <a:off x="604368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61531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62629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90D-8A6F-4DF5-87BE-FA636C5CF7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by SALT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7964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in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38948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in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77880" y="4341960"/>
            <a:ext cx="53676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A7D8-0949-4BD1-AFB3-D5B0CD0B43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27EA-42BB-4994-AB7C-94FE31E344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614600" y="2406600"/>
            <a:ext cx="6060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C4E-6DD7-44E7-BB84-32C997C48A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7160" y="1700280"/>
            <a:ext cx="885816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it isn’t 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1249200" y="2406600"/>
            <a:ext cx="64627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BD6E-65AC-45C5-B59D-FC9E187F3F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our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993600" y="2327400"/>
            <a:ext cx="7193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5B7-6BF5-4878-8CED-16A70CFF64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SALT is a tool to deal with code outside the workspace in text (Unicode) forma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EAA-E6DC-49BC-9F7E-CEE3B5409F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1212840" y="2151000"/>
            <a:ext cx="6637320" cy="3870360"/>
          </a:xfrm>
          <a:prstGeom prst="rect">
            <a:avLst/>
          </a:prstGeom>
          <a:ln w="0">
            <a:noFill/>
          </a:ln>
        </p:spPr>
      </p:pic>
      <p:sp>
        <p:nvSpPr>
          <p:cNvPr id="281" name="Oval 6"/>
          <p:cNvSpPr/>
          <p:nvPr/>
        </p:nvSpPr>
        <p:spPr>
          <a:xfrm>
            <a:off x="1030320" y="4633920"/>
            <a:ext cx="44766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3" descr=""/>
          <p:cNvPicPr/>
          <p:nvPr/>
        </p:nvPicPr>
        <p:blipFill>
          <a:blip r:embed="rId1"/>
          <a:stretch/>
        </p:blipFill>
        <p:spPr>
          <a:xfrm>
            <a:off x="1363680" y="2333520"/>
            <a:ext cx="6494400" cy="3505320"/>
          </a:xfrm>
          <a:prstGeom prst="rect">
            <a:avLst/>
          </a:prstGeom>
          <a:ln w="0">
            <a:noFill/>
          </a:ln>
        </p:spPr>
      </p:pic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8C00-F265-4212-9E42-BB60AE6B5C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2198520" y="4597560"/>
            <a:ext cx="25578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4" descr=""/>
          <p:cNvPicPr/>
          <p:nvPr/>
        </p:nvPicPr>
        <p:blipFill>
          <a:blip r:embed="rId2"/>
          <a:stretch/>
        </p:blipFill>
        <p:spPr>
          <a:xfrm>
            <a:off x="1359000" y="2333520"/>
            <a:ext cx="64990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631-0259-4DF3-AB35-46607FEEF8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4192-41B9-4917-9128-BC7F4B9D4A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2" descr=""/>
          <p:cNvPicPr/>
          <p:nvPr/>
        </p:nvPicPr>
        <p:blipFill>
          <a:blip r:embed="rId1"/>
          <a:stretch/>
        </p:blipFill>
        <p:spPr>
          <a:xfrm>
            <a:off x="1285920" y="2552760"/>
            <a:ext cx="6645240" cy="2884320"/>
          </a:xfrm>
          <a:prstGeom prst="rect">
            <a:avLst/>
          </a:prstGeom>
          <a:ln w="0">
            <a:noFill/>
          </a:ln>
        </p:spPr>
      </p:pic>
      <p:sp>
        <p:nvSpPr>
          <p:cNvPr id="298" name="Oval 6"/>
          <p:cNvSpPr/>
          <p:nvPr/>
        </p:nvSpPr>
        <p:spPr>
          <a:xfrm>
            <a:off x="1687680" y="3635280"/>
            <a:ext cx="3168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3" descr=""/>
          <p:cNvPicPr/>
          <p:nvPr/>
        </p:nvPicPr>
        <p:blipFill>
          <a:blip r:embed="rId2"/>
          <a:stretch/>
        </p:blipFill>
        <p:spPr>
          <a:xfrm>
            <a:off x="1285920" y="2552760"/>
            <a:ext cx="6635880" cy="2879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3"/>
          <a:stretch/>
        </p:blipFill>
        <p:spPr>
          <a:xfrm>
            <a:off x="2417760" y="2260440"/>
            <a:ext cx="56358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F7E-D908-42D5-B249-B5067365D2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1285920" y="2589120"/>
            <a:ext cx="66452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9" descr=""/>
          <p:cNvPicPr/>
          <p:nvPr/>
        </p:nvPicPr>
        <p:blipFill>
          <a:blip r:embed="rId1"/>
          <a:stretch/>
        </p:blipFill>
        <p:spPr>
          <a:xfrm>
            <a:off x="1285920" y="2297160"/>
            <a:ext cx="6535800" cy="3527280"/>
          </a:xfrm>
          <a:prstGeom prst="rect">
            <a:avLst/>
          </a:prstGeom>
          <a:ln w="0">
            <a:noFill/>
          </a:ln>
        </p:spPr>
      </p:pic>
      <p:sp>
        <p:nvSpPr>
          <p:cNvPr id="3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56C-AC59-49FF-97FD-56AA9E0CB3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1797120" y="304632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8B15-14D8-4B79-AE49-BB21FED35E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3A7-226A-4A28-B506-F0D29C0C4A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workspace has the same functionality as befo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)SAVEd in this new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43C-72BF-4FB2-B59E-605CC53AE2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iling awa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13336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tho is it relatively simple to read/write text to file, their management is a bit more comple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3E3-2DCB-4DB4-851F-D50CE9FE4B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 until V11 namespaces came in a single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ed functions, variables and other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1D02-7CE6-4A9F-A9D9-666F3745A7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359000" y="4049640"/>
            <a:ext cx="31622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4900680" y="3940200"/>
            <a:ext cx="3162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E52-D825-4D6D-A897-4E7213A83A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'</a:t>
            </a:r>
            <a:r>
              <a:rPr b="0" lang="en-GB" sz="3200" spc="-1" strike="noStrike">
                <a:solidFill>
                  <a:srgbClr val="00b0f0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3200" spc="-1" strike="noStrike">
                <a:solidFill>
                  <a:srgbClr val="00b050"/>
                </a:solidFill>
                <a:latin typeface="Geneva"/>
              </a:rPr>
              <a:t>locat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868A-3BD8-4344-99DF-9C1442F456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341" name="Oval 6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066680" y="2803680"/>
            <a:ext cx="7047000" cy="3375000"/>
          </a:xfrm>
          <a:prstGeom prst="rect">
            <a:avLst/>
          </a:prstGeom>
          <a:ln w="0">
            <a:noFill/>
          </a:ln>
        </p:spPr>
      </p:pic>
      <p:sp>
        <p:nvSpPr>
          <p:cNvPr id="3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CAC7-319F-4A09-A936-EB18983FF9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to save everything at once you can do inst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212840" y="4086360"/>
            <a:ext cx="36147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6183-2EE5-46FD-89E7-1DE5A95EE4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you should now have a folder with many scripts in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541520" y="2808360"/>
            <a:ext cx="6245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B9B-D949-4C8E-9217-0139212294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DA87-F958-4C03-B2F4-9E3C540B85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F895-C8A0-4AD5-9C17-7D9BB9DCC8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368" name="Oval 6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6FC-4744-4156-A3B8-99B0FF27D0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C149-8AB8-4179-9807-B4E5875F2D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ike this 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684A-32D4-451A-BDAA-0107A87B50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ing with V11 namespaces also came in a script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ntained functions, etc. are listed in text form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98E-8B90-4313-94D5-BE25321329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2840" y="3940200"/>
            <a:ext cx="3162240" cy="220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F4B-74D5-45A4-9CD7-0445DFD65C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C825-9AB8-4297-A3ED-72C03B89AA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A7F-0B60-4C53-96AA-686213CB38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905-706B-4A21-BFA1-1A1C724F47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6" name="Picture 4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A49-2195-40B6-8149-31FE57ED80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"/>
          <p:cNvSpPr/>
          <p:nvPr/>
        </p:nvSpPr>
        <p:spPr>
          <a:xfrm flipH="1" rot="20261400">
            <a:off x="2446920" y="4581000"/>
            <a:ext cx="1758960" cy="63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7"/>
          <p:cNvSpPr/>
          <p:nvPr/>
        </p:nvSpPr>
        <p:spPr>
          <a:xfrm rot="2095200">
            <a:off x="5364000" y="4701960"/>
            <a:ext cx="1773360" cy="682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1"/>
          <p:cNvSpPr/>
          <p:nvPr/>
        </p:nvSpPr>
        <p:spPr>
          <a:xfrm rot="20552400">
            <a:off x="5564160" y="3358800"/>
            <a:ext cx="1671840" cy="617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2"/>
          <p:cNvSpPr/>
          <p:nvPr/>
        </p:nvSpPr>
        <p:spPr>
          <a:xfrm flipH="1" rot="163800">
            <a:off x="2484360" y="3600000"/>
            <a:ext cx="1638360" cy="56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632-58F6-45EF-BA1E-0FB0F897C9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13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see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09ED-CEDB-4DFF-A23B-6FE2051E9D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10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use any portion (pattern) of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405080" y="2808360"/>
            <a:ext cx="6453000" cy="3066840"/>
          </a:xfrm>
          <a:prstGeom prst="rect">
            <a:avLst/>
          </a:prstGeom>
          <a:ln w="0">
            <a:noFill/>
          </a:ln>
        </p:spPr>
      </p:pic>
      <p:sp>
        <p:nvSpPr>
          <p:cNvPr id="433" name="Oval 8"/>
          <p:cNvSpPr/>
          <p:nvPr/>
        </p:nvSpPr>
        <p:spPr>
          <a:xfrm>
            <a:off x="4024440" y="4305240"/>
            <a:ext cx="766800" cy="4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D819-EBEA-40EA-AF63-62BD7F530B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D1E-9ADE-4D86-84E6-94926D6B7F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3" name="Picture 10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240-58E9-4C44-A4A6-175E74C523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8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9" name="Picture 9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cript and the functions in it can be edited via the editor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.t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F940-3364-4E66-8A82-4B72AF2A54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0B0D-2F3C-4848-AF69-D0BC8FD1FF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can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D295-7040-491D-808F-986A6A2996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8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9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0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21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odifying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2B1-5728-472C-BA61-717009259A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4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5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6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"/>
          <p:cNvPicPr/>
          <p:nvPr/>
        </p:nvPicPr>
        <p:blipFill>
          <a:blip r:embed="rId7"/>
          <a:stretch/>
        </p:blipFill>
        <p:spPr>
          <a:xfrm>
            <a:off x="3352680" y="256212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"/>
          <p:cNvPicPr/>
          <p:nvPr/>
        </p:nvPicPr>
        <p:blipFill>
          <a:blip r:embed="rId1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C14-4E4A-4EFA-BBE7-FE88F7BAD6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78" name="Oval 12"/>
          <p:cNvSpPr/>
          <p:nvPr/>
        </p:nvSpPr>
        <p:spPr>
          <a:xfrm>
            <a:off x="6872400" y="4597560"/>
            <a:ext cx="1022400" cy="912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3CC-ECD7-4D5D-A55A-7D7AF7169E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103400" y="1822320"/>
            <a:ext cx="70246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ECF-34F6-4334-B0BA-ACABC585DB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6171-2045-4C9F-874A-3335602748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"/>
          <p:cNvSpPr/>
          <p:nvPr/>
        </p:nvSpPr>
        <p:spPr>
          <a:xfrm rot="559800">
            <a:off x="2555640" y="3715920"/>
            <a:ext cx="11872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"/>
          <p:cNvSpPr/>
          <p:nvPr/>
        </p:nvSpPr>
        <p:spPr>
          <a:xfrm rot="20589000">
            <a:off x="2592000" y="4868640"/>
            <a:ext cx="1187640" cy="46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1"/>
          <p:cNvSpPr/>
          <p:nvPr/>
        </p:nvSpPr>
        <p:spPr>
          <a:xfrm flipH="1" rot="20640600">
            <a:off x="5472000" y="3573360"/>
            <a:ext cx="12610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3"/>
          <p:cNvSpPr/>
          <p:nvPr/>
        </p:nvSpPr>
        <p:spPr>
          <a:xfrm flipH="1" rot="978000">
            <a:off x="5434920" y="4939920"/>
            <a:ext cx="126036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09C-00E0-4DBF-9D33-5212442C4E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D6F-FA2E-4DB3-832B-07CE85F2F8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FB3-7868-4D5A-8240-144D67AFA0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996-1AAB-4A4C-AF5A-E14C957561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How do we do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66184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B501-B0F6-4E8F-9EEF-6B9937A7D1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C98-BF70-4B87-8518-0A8FADC7FB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8-09-12T08:18:42Z</dcterms:modified>
  <cp:revision>3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