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8179-5788-43F7-8615-EE90B7DE8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1327-2A5E-4894-BAB6-E7A171D48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of the class is un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B2E5-8645-4AD9-B000-AC1F3B0B0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551B-4B49-46BE-8C41-EBCB797C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generate general help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46F7-4A12-426E-B03A-3BB8C79AB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577E-5002-4EE8-8B3F-05FBD385E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8DC8-9632-4C82-88CF-E0908BBFA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1DD9-3D5C-47A6-AFD3-3A4322235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4D28-5064-4EA9-849B-DE24E6C1B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C97-5625-4D7A-84FE-49D2A889C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566A-3A8A-4A40-B1A5-05AE5D061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D719-F496-4E2A-AFED-2874D7F8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ny ways it is like Users Commands in APL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6A43-8458-4DB8-8FBF-18E88128B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7291-EF61-414C-90FF-B81E8583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012C-2B57-44F6-9ED6-C02F90D9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914-8F23-41AD-A1B8-6FFD0D1A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77D-F177-41B2-91E5-9E90301D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6FF-0BDA-446B-A5C8-A6417AAC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6E6-2753-4FDD-BB22-1323BD87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7B7-2660-484F-BDF6-0976D243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719-F3FC-4D29-814F-6486DDCF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454-7A5D-4EC6-94E0-FE1EDDF3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E14-049C-4292-BB9B-78E998DB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6B0-2F43-4AF5-8C2A-553ADD9D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9AA-BA67-4512-988B-ACFE0A40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E4F-B45B-4016-BD22-657F6EC5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CE1-D19D-4B50-8D47-0836EB3C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C8E7-BCE0-4C03-B816-4D34F04AA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>
                    <a:alpha val="41000"/>
                  </a:srgbClr>
                </a:solidFill>
                <a:latin typeface="Arial Black"/>
              </a:rPr>
              <a:t>SPICE</a:t>
            </a:r>
            <a:endParaRPr b="0" lang="en-US" sz="1800" spc="1" strike="noStrike">
              <a:ln w="0">
                <a:noFill/>
              </a:ln>
              <a:solidFill>
                <a:srgbClr val="ffff99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ook Antiqua"/>
              </a:rPr>
              <a:t>Spice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Book Antiqua"/>
              </a:rPr>
              <a:t>in Dya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87808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8015-4E7D-4FB0-BCA3-D860E2B17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cript file contains a class with a number of presumably related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 a script/class could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search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replac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7187-70D3-4D9D-8649-DD936DD8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ipt file MUST contain at least 3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ublic sha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contain othe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CE1B-1938-4F91-8316-BD1DD0358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List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List&gt; function is nil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list of as many namespaces as there are commands in the script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if there are 2 commands in the script file it returns 2 namesp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98FE-5EC7-4DE9-BBEC-2342C51C7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50012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List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amespace returned by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tains 4 variables; each one is a st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name of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group the command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hort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E404-03A6-40F6-9FF0-043A16DB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List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entence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nd string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tring describing the command syntax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2 –exclud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372A-DAB5-4E78-A118-0E39519F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List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⎕NS¨2⍴⊂'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Name←'Locate' 'Replac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Group←⊂'Files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Parse←'1' '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1].Desc←'Find a string in file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2].Desc←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E16B-A67F-4379-9DDB-BF1B69817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Help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Help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string naming the command to return detailed help for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string describing help for that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5D44-E520-4497-BA23-BAF9C197A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Help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Help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Arg: string; shows where the string is foun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Arg: 2 strings; replace the first one by the 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r⊃⍨'Locate' 'Replace'⍳⊂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65FE-0281-4B1A-89A2-EABD50AD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Run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Run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2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ng naming the command to deal with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a string or a namespace which is the argument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DFB9-3609-4459-8FD9-DD86A5AE3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Run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Run(Cmd ca);ct;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0 0⍴'' ⋄ ct←⎕SE.SALT.Load'Utils\fileUtils -nonam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←##.textUtils.splitOn⍨⎕SE.SALT.Settings'workdir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Select 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1⊃Fns ⋄ w ct.show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2⊃Fns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⋄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 ct.repl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End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648E-FC87-4118-92E0-307A825DE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uses an input area at the bottom of the screen to issue user defined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8"/>
          <p:cNvGrpSpPr/>
          <p:nvPr/>
        </p:nvGrpSpPr>
        <p:grpSpPr>
          <a:xfrm>
            <a:off x="2286000" y="4334040"/>
            <a:ext cx="4800600" cy="2038320"/>
            <a:chOff x="2286000" y="4334040"/>
            <a:chExt cx="4800600" cy="2038320"/>
          </a:xfrm>
        </p:grpSpPr>
        <p:pic>
          <p:nvPicPr>
            <p:cNvPr id="59" name="Picture 5" descr=""/>
            <p:cNvPicPr/>
            <p:nvPr/>
          </p:nvPicPr>
          <p:blipFill>
            <a:blip r:embed="rId2"/>
            <a:stretch/>
          </p:blipFill>
          <p:spPr>
            <a:xfrm>
              <a:off x="2514600" y="4334040"/>
              <a:ext cx="428616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Oval 6"/>
            <p:cNvSpPr/>
            <p:nvPr/>
          </p:nvSpPr>
          <p:spPr>
            <a:xfrm>
              <a:off x="2286000" y="5410080"/>
              <a:ext cx="480060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2819520" y="4991040"/>
              <a:ext cx="220968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8769-EBD0-4435-9BD8-84EDC9849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script Spice\aSample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 2 examples of Spice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specific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53A4-1C5C-4493-B956-5F481F318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45680" y="162576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ntax is described in the 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8"/>
          <p:cNvGrpSpPr/>
          <p:nvPr/>
        </p:nvGrpSpPr>
        <p:grpSpPr>
          <a:xfrm>
            <a:off x="1689120" y="2263680"/>
            <a:ext cx="6240240" cy="4093920"/>
            <a:chOff x="1689120" y="2263680"/>
            <a:chExt cx="6240240" cy="4093920"/>
          </a:xfrm>
        </p:grpSpPr>
        <p:pic>
          <p:nvPicPr>
            <p:cNvPr id="175" name="Picture 4" descr=""/>
            <p:cNvPicPr/>
            <p:nvPr/>
          </p:nvPicPr>
          <p:blipFill>
            <a:blip r:embed="rId1"/>
            <a:stretch/>
          </p:blipFill>
          <p:spPr>
            <a:xfrm>
              <a:off x="1689120" y="2263680"/>
              <a:ext cx="6240240" cy="40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Oval 7"/>
            <p:cNvSpPr/>
            <p:nvPr/>
          </p:nvSpPr>
          <p:spPr>
            <a:xfrm>
              <a:off x="3515760" y="4373640"/>
              <a:ext cx="3422160" cy="426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7A37-EF2F-40F5-8CE4-DC2DEDDA6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276960" cy="3543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46400" y="162576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wrong Spice will com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1116000" y="4508640"/>
            <a:ext cx="266544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3492360" y="3429000"/>
            <a:ext cx="324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198900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3654000" y="50720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 argu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12"/>
          <p:cNvCxnSpPr>
            <a:stCxn id="185" idx="1"/>
            <a:endCxn id="184" idx="6"/>
          </p:cNvCxnSpPr>
          <p:nvPr/>
        </p:nvCxnSpPr>
        <p:spPr>
          <a:xfrm flipH="1">
            <a:off x="3285720" y="5255280"/>
            <a:ext cx="357840" cy="10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E756-8F6A-493E-AF19-391E864F3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37436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7480" y="162576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right Spice will do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5"/>
          <p:cNvSpPr/>
          <p:nvPr/>
        </p:nvSpPr>
        <p:spPr>
          <a:xfrm>
            <a:off x="176364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348000" y="3429000"/>
            <a:ext cx="360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6199200" y="3889440"/>
            <a:ext cx="7207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6839-22A9-47D6-B780-827004323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ecial Spice com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Spice starts a special command is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command is 'Setup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found 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ice\Setup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odified to suit you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A82E-39F1-4188-B228-B93A681F2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ecial Spice com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9850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98DB-1630-4BF8-BC32-CC4BAC662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developmen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used to store frequently used (and even less frequently used) use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 flipV="1">
            <a:off x="8244000" y="476280"/>
            <a:ext cx="287280" cy="503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DE16-7EFC-4326-9C9B-36AE0D3D0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pic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 flipV="1">
            <a:off x="7956720" y="548280"/>
            <a:ext cx="863280" cy="431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E859-449D-4AC4-BE2A-C8F60A0F7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started automatically when starting APL by setting the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1546200" y="3206880"/>
            <a:ext cx="6121440" cy="3041640"/>
            <a:chOff x="1546200" y="3206880"/>
            <a:chExt cx="6121440" cy="3041640"/>
          </a:xfrm>
        </p:grpSpPr>
        <p:pic>
          <p:nvPicPr>
            <p:cNvPr id="67" name="Picture 6" descr=""/>
            <p:cNvPicPr/>
            <p:nvPr/>
          </p:nvPicPr>
          <p:blipFill>
            <a:blip r:embed="rId1"/>
            <a:stretch/>
          </p:blipFill>
          <p:spPr>
            <a:xfrm>
              <a:off x="1546200" y="3206880"/>
              <a:ext cx="612144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Oval 7"/>
            <p:cNvSpPr/>
            <p:nvPr/>
          </p:nvSpPr>
          <p:spPr>
            <a:xfrm>
              <a:off x="5689440" y="4476600"/>
              <a:ext cx="274680" cy="309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A893-19F4-41D7-A33A-7A35B18DC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using the &lt;enableSpice&gt; function in the SALT work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 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DFB4-5EAB-439B-848A-837AC59B7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80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4D78-816C-4D6C-8AF5-0F120D21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87" name="Oval 8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986600" y="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1717-7CDA-4420-AFF6-138E0B67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770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of a custom Spice command: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848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a regular expression string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ders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</a:t>
            </a:r>
            <a:r>
              <a:rPr b="1" lang="en-GB" sz="3200" spc="-1" strike="noStrike">
                <a:solidFill>
                  <a:srgbClr val="ff9900"/>
                </a:solidFill>
                <a:latin typeface="Courier New"/>
              </a:rPr>
              <a:t>abc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find in SALT files where syntactic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 greater tha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512640" y="3832200"/>
            <a:ext cx="7515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4247-D84E-4021-AC0B-4CD8B56CE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SALT commands in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ave myclass fil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ist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ad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emoveversions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j0208400"/>
          <p:cNvPicPr/>
          <p:nvPr/>
        </p:nvPicPr>
        <p:blipFill>
          <a:blip r:embed="rId1"/>
          <a:stretch/>
        </p:blipFill>
        <p:spPr>
          <a:xfrm rot="232800">
            <a:off x="7924680" y="75960"/>
            <a:ext cx="10605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C55D-21A4-4CBD-90F9-CCA22027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commands are kept in script files, like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files have a 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ice script files are kept in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[Dyalog]\SALT\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5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8-10-03T18:20:29Z</dcterms:modified>
  <cp:revision>82</cp:revision>
  <dc:subject/>
  <dc:title>SALT in Dyalog</dc:title>
</cp:coreProperties>
</file>