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8B1-E699-45F9-B98C-A88F74A448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F94-789D-430D-ADA4-EBA61351E4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D7A-FC3F-4B45-9398-2B1FFC6CAA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06F-5B1C-49C6-AA95-18E68BC19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834B-40C6-40ED-B5CC-FD650E578E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CB11-6D58-469C-A5E9-F4EB11CF31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E9B-DE0C-45F9-9D98-693FD6776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03D-610D-45C7-9E08-D5E254D41A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43BB-EE92-444B-BA0A-2C5FF4E115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4A2-4094-4458-87BD-DBF98352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E28-EF14-4E07-9306-EC8BB48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93F-4E27-45C5-8DED-F05F5AAD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3C3-56BF-413A-9E95-810E4DAF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236-016B-4E1A-A141-3DB8266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C20-7C68-4BEE-8BA1-339B5F7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111-FAFC-4E47-86FF-7D606DEE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507-D5C9-4C3A-ACC7-E7714C11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DFC-668E-4D03-BB82-98ECB44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E08-1D7C-4517-ABA5-8911BBE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C0D-AE83-4F0A-8F50-8B7BEBC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688-35C9-4F20-B218-943AC84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B4F0-4E32-4F3E-8601-80B881ADFA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</a:t>
            </a:r>
            <a:br>
              <a:rPr sz="4400"/>
            </a:b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1D23-04C2-48F9-AD16-A7989B856C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Geneva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060"/>
                </a:solidFill>
                <a:latin typeface="Geneva"/>
              </a:rPr>
              <a:t>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030a0"/>
                </a:solidFill>
                <a:latin typeface="Geneva"/>
              </a:rPr>
              <a:t>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eneva"/>
              </a:rPr>
              <a:t>Multiple file writes pe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564372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12.0 journaled 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0979-2F7C-4F49-B218-CF37B27AD9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564372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592920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4290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journal to end of file, which describes th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erform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lear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If interrupted, the journal remains present so the update can be red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afer journaled upd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3FF8-670E-485F-8398-1BE44FF9FA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29040" y="1785960"/>
            <a:ext cx="157176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4290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Journaling does not work when disk caches are not flu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Forcing data to be flushed to disk is slow but may be minim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sing checksumme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sing checksummed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6432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1714680" y="1785960"/>
            <a:ext cx="1928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No data loss on OS crash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ould require 4 disk cache flushes per update if no checksu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be achieved with 2 disk cache flushes per update using checksu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be achieved with 1 disk cache flush per update and repair to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26"/>
                </a:solidFill>
                <a:latin typeface="Geneva"/>
              </a:rPr>
              <a:t>Repair tool can be used with </a:t>
            </a:r>
            <a:r>
              <a:rPr b="1" i="1" lang="en-GB" sz="3200" spc="-1" strike="noStrike">
                <a:solidFill>
                  <a:srgbClr val="262626"/>
                </a:solidFill>
                <a:latin typeface="Geneva"/>
              </a:rPr>
              <a:t>any</a:t>
            </a:r>
            <a:r>
              <a:rPr b="1" lang="en-GB" sz="3200" spc="-1" strike="noStrike">
                <a:solidFill>
                  <a:srgbClr val="262626"/>
                </a:solidFill>
                <a:latin typeface="Geneva"/>
              </a:rPr>
              <a:t> checksummed component f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9C8A-33A8-4349-90B4-5A961A20AD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J1C0"/>
          <p:cNvSpPr/>
          <p:nvPr/>
        </p:nvSpPr>
        <p:spPr>
          <a:xfrm>
            <a:off x="328608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J0C0"/>
          <p:cNvSpPr/>
          <p:nvPr/>
        </p:nvSpPr>
        <p:spPr>
          <a:xfrm>
            <a:off x="328608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J3C1"/>
          <p:cNvSpPr/>
          <p:nvPr/>
        </p:nvSpPr>
        <p:spPr>
          <a:xfrm>
            <a:off x="5929200" y="457200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J2C1"/>
          <p:cNvSpPr/>
          <p:nvPr/>
        </p:nvSpPr>
        <p:spPr>
          <a:xfrm>
            <a:off x="5929200" y="392904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J1C1"/>
          <p:cNvSpPr/>
          <p:nvPr/>
        </p:nvSpPr>
        <p:spPr>
          <a:xfrm>
            <a:off x="5929200" y="328608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J0C1"/>
          <p:cNvSpPr/>
          <p:nvPr/>
        </p:nvSpPr>
        <p:spPr>
          <a:xfrm>
            <a:off x="5929200" y="264312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J3C0"/>
          <p:cNvSpPr/>
          <p:nvPr/>
        </p:nvSpPr>
        <p:spPr>
          <a:xfrm>
            <a:off x="3286080" y="4572000"/>
            <a:ext cx="264312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J2C0"/>
          <p:cNvSpPr/>
          <p:nvPr/>
        </p:nvSpPr>
        <p:spPr>
          <a:xfrm>
            <a:off x="3286080" y="3929040"/>
            <a:ext cx="264312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J3"/>
          <p:cNvSpPr/>
          <p:nvPr/>
        </p:nvSpPr>
        <p:spPr>
          <a:xfrm>
            <a:off x="642960" y="457200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J2"/>
          <p:cNvSpPr/>
          <p:nvPr/>
        </p:nvSpPr>
        <p:spPr>
          <a:xfrm>
            <a:off x="642960" y="392904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J1"/>
          <p:cNvSpPr/>
          <p:nvPr/>
        </p:nvSpPr>
        <p:spPr>
          <a:xfrm>
            <a:off x="64296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J0"/>
          <p:cNvSpPr/>
          <p:nvPr/>
        </p:nvSpPr>
        <p:spPr>
          <a:xfrm>
            <a:off x="64296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1"/>
          <p:cNvSpPr/>
          <p:nvPr/>
        </p:nvSpPr>
        <p:spPr>
          <a:xfrm>
            <a:off x="5929200" y="200016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0"/>
          <p:cNvSpPr/>
          <p:nvPr/>
        </p:nvSpPr>
        <p:spPr>
          <a:xfrm>
            <a:off x="3286080" y="200016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/checksum choi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6EA-08E0-49CE-9260-B93567EE8B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2.1"/>
          <p:cNvSpPr/>
          <p:nvPr/>
        </p:nvSpPr>
        <p:spPr>
          <a:xfrm>
            <a:off x="714240" y="5429160"/>
            <a:ext cx="792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vailability in 1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12.0"/>
          <p:cNvSpPr/>
          <p:nvPr/>
        </p:nvSpPr>
        <p:spPr>
          <a:xfrm>
            <a:off x="714240" y="5429160"/>
            <a:ext cx="792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mpatibility with 1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1.0"/>
          <p:cNvSpPr/>
          <p:nvPr/>
        </p:nvSpPr>
        <p:spPr>
          <a:xfrm>
            <a:off x="642960" y="542916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mpatibility with 11.0 and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J1C0 X"/>
          <p:cNvSpPr/>
          <p:nvPr/>
        </p:nvSpPr>
        <p:spPr>
          <a:xfrm>
            <a:off x="328608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J0C0 X"/>
          <p:cNvSpPr/>
          <p:nvPr/>
        </p:nvSpPr>
        <p:spPr>
          <a:xfrm>
            <a:off x="328608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J0C1 X"/>
          <p:cNvSpPr/>
          <p:nvPr/>
        </p:nvSpPr>
        <p:spPr>
          <a:xfrm>
            <a:off x="5929200" y="264312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J1C1 ?"/>
          <p:cNvSpPr/>
          <p:nvPr/>
        </p:nvSpPr>
        <p:spPr>
          <a:xfrm>
            <a:off x="5929200" y="328608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J2C1 ?"/>
          <p:cNvSpPr/>
          <p:nvPr/>
        </p:nvSpPr>
        <p:spPr>
          <a:xfrm>
            <a:off x="5929200" y="392904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J3C1 ?"/>
          <p:cNvSpPr/>
          <p:nvPr/>
        </p:nvSpPr>
        <p:spPr>
          <a:xfrm>
            <a:off x="5929200" y="457200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2960" y="2000160"/>
          <a:ext cx="7929720" cy="321480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4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da-DK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’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’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remove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Repair tool dem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D6E9-5C03-4436-9661-5D9E93ED54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</a:t>
            </a:r>
            <a:br>
              <a:rPr sz="4400"/>
            </a:b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9-09-08T13:23:42Z</dcterms:modified>
  <cp:revision>1</cp:revision>
  <dc:subject/>
  <dc:title/>
</cp:coreProperties>
</file>