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5965-6574-438B-9EDA-43131BBCE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needed anymore (SALT always includes itsel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8D90-8351-4155-95A5-0EDF292D5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&lt;Snap&gt; with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A6BB-F182-493B-8EFF-4072B60B3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&lt;Snap&gt; with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EC89-8BEA-4982-AB4A-F95A8C26F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cons are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9AAA-A262-4A13-83F4-305BB580B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* to load all scripts starting with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D9FF-B243-4A16-83AF-54730B08B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not the variab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4879-07FF-4D83-86BE-A5194DBF3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a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arty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DA6F-16D8-4A5E-9DAF-B2FF44E11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743-D1CC-449C-8B67-0E6DDEA2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172-D0F5-48DD-BED1-253CBC8F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963-E2A4-4F5A-85B1-D9CC85B8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FB4-DF81-4B60-AA44-77CC0BB7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89D-57C8-4C61-94C5-53BBC6F8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608-E762-4814-A557-F3CFB64B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7B8-E915-4113-8F43-BBA7E293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E4D-6BC8-4A27-940D-5A948F0E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756-E861-4F3D-9F6B-4DAE2D00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BCE-1E37-468F-9053-54651E99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11A-0BBF-4E26-AFF9-A7812148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A4FD-921B-4319-AD65-1B4A7718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7BFE-2A67-42A2-83E0-485FBF2DA3C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188E-12C3-4CB8-8846-F353FBA737C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082600"/>
            <a:ext cx="7772400" cy="23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Geneva"/>
              </a:rPr>
              <a:t>Converting workspaces  and using SALT &amp; </a:t>
            </a:r>
            <a:r>
              <a:rPr b="1" i="1" lang="en-US" sz="54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1" lang="en-US" sz="5400" spc="-1" strike="noStrike">
                <a:solidFill>
                  <a:srgbClr val="333333"/>
                </a:solidFill>
                <a:latin typeface="Geneva"/>
              </a:rPr>
              <a:t> to maintain them.</a:t>
            </a:r>
            <a:endParaRPr b="1" lang="en-US" sz="5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Geneva"/>
              </a:rPr>
              <a:t>V1.02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B018-52AC-4183-AB1B-A2B14BC5A28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BAAD's SD2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Unit is made of 2 main compon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driving compon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weapons compon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562200" y="4869000"/>
            <a:ext cx="1801800" cy="6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9"/>
          <p:cNvGrpSpPr/>
          <p:nvPr/>
        </p:nvGrpSpPr>
        <p:grpSpPr>
          <a:xfrm>
            <a:off x="4140360" y="4113360"/>
            <a:ext cx="1522440" cy="792000"/>
            <a:chOff x="4140360" y="4113360"/>
            <a:chExt cx="1522440" cy="792000"/>
          </a:xfrm>
        </p:grpSpPr>
        <p:sp>
          <p:nvSpPr>
            <p:cNvPr id="96" name="AutoShape 7"/>
            <p:cNvSpPr/>
            <p:nvPr/>
          </p:nvSpPr>
          <p:spPr>
            <a:xfrm>
              <a:off x="4140360" y="4113360"/>
              <a:ext cx="1041480" cy="792000"/>
            </a:xfrm>
            <a:prstGeom prst="can">
              <a:avLst>
                <a:gd name="adj" fmla="val 3348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8"/>
            <p:cNvSpPr/>
            <p:nvPr/>
          </p:nvSpPr>
          <p:spPr>
            <a:xfrm rot="4489200">
              <a:off x="5263560" y="4102560"/>
              <a:ext cx="169920" cy="6044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F821-BB36-4CDD-80C9-805F5471B57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esting the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viously, testing these devices in real life presents a probl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n its infinite wisdom the company has decided to use a simulator written in (what else?) Dyalog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single workspace holds all the syst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9D46-60A4-4FE5-9433-21E26F46EC5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1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1762200" y="1654200"/>
            <a:ext cx="5257800" cy="4538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406160" y="47466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ttling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1908000" y="3573360"/>
            <a:ext cx="395640" cy="12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9"/>
          <p:cNvSpPr/>
          <p:nvPr/>
        </p:nvSpPr>
        <p:spPr>
          <a:xfrm flipV="1">
            <a:off x="2843280" y="2707920"/>
            <a:ext cx="115236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0"/>
          <p:cNvSpPr/>
          <p:nvPr/>
        </p:nvSpPr>
        <p:spPr>
          <a:xfrm flipV="1">
            <a:off x="2951280" y="2815920"/>
            <a:ext cx="12254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3203640" y="5192640"/>
            <a:ext cx="97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7525800" y="33274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ts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 flipH="1" flipV="1">
            <a:off x="6948360" y="2600280"/>
            <a:ext cx="611280" cy="10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 flipH="1" flipV="1">
            <a:off x="6948360" y="3105000"/>
            <a:ext cx="611280" cy="6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 flipH="1" flipV="1">
            <a:off x="6948360" y="3573000"/>
            <a:ext cx="61128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 flipH="1">
            <a:off x="6948360" y="3860640"/>
            <a:ext cx="6112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7"/>
          <p:cNvSpPr/>
          <p:nvPr/>
        </p:nvSpPr>
        <p:spPr>
          <a:xfrm flipH="1">
            <a:off x="6948360" y="3968640"/>
            <a:ext cx="611280" cy="9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3210840" y="184464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ttle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5265-EE6C-47A7-B3E5-0F2A5C53387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1" name="robotex2.wmv" descr=""/>
          <p:cNvPicPr/>
          <p:nvPr/>
        </p:nvPicPr>
        <p:blipFill>
          <a:blip r:embed="rId1"/>
          <a:stretch/>
        </p:blipFill>
        <p:spPr>
          <a:xfrm>
            <a:off x="1943280" y="1676520"/>
            <a:ext cx="552420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16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C23C-903F-4A10-8394-E6B140865B8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's stru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workspace is divided into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e namespace contains all the units' logic, here its name is 'R' (for Robot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unit's logic is also contained in a namespace whose name is the name of the unit (like CARLA or AI2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25B9-70E9-4A23-B60D-811F9FDDA7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's stru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008000" y="544680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, namespac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where all the Units' logic res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577880" y="1603440"/>
            <a:ext cx="595152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10BA-CA01-4661-B31D-D585C65993B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ing the workspace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nvolves modifying individual units' code in their respective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d resaving the entire workspace when finished with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vents other users from updating the workspace at the same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C55A-3CFF-4ED6-9BE0-D72E0D28859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Acceptable updating timelin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1079640" y="353700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455600" y="3270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687960" y="1927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92640" y="4592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19564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352728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395928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568800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195640" y="2673360"/>
            <a:ext cx="13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3959280" y="44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 rot="16200000">
            <a:off x="1686240" y="2881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5"/>
          <p:cNvSpPr/>
          <p:nvPr/>
        </p:nvSpPr>
        <p:spPr>
          <a:xfrm rot="16200000">
            <a:off x="3451680" y="3708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6"/>
          <p:cNvSpPr/>
          <p:nvPr/>
        </p:nvSpPr>
        <p:spPr>
          <a:xfrm rot="5400000">
            <a:off x="3321720" y="2872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7"/>
          <p:cNvSpPr/>
          <p:nvPr/>
        </p:nvSpPr>
        <p:spPr>
          <a:xfrm rot="5400000">
            <a:off x="5482440" y="370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374200" y="2287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4283640" y="4303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20"/>
          <p:cNvSpPr/>
          <p:nvPr/>
        </p:nvSpPr>
        <p:spPr>
          <a:xfrm>
            <a:off x="2830320" y="543708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tial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9489-F7F5-47C8-A129-88C7A116C9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Unacceptable updating timelin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1079640" y="353700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7455600" y="3270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85080" y="1927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92640" y="4592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70972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04172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351648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524520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2709720" y="267336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3516480" y="44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 rot="16200000">
            <a:off x="2200680" y="2881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4"/>
          <p:cNvSpPr/>
          <p:nvPr/>
        </p:nvSpPr>
        <p:spPr>
          <a:xfrm rot="16200000">
            <a:off x="3008520" y="3708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 rot="5400000">
            <a:off x="3836160" y="2872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6"/>
          <p:cNvSpPr/>
          <p:nvPr/>
        </p:nvSpPr>
        <p:spPr>
          <a:xfrm rot="5400000">
            <a:off x="5039280" y="370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2888280" y="2287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840840" y="4303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4049640" y="3537000"/>
            <a:ext cx="118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272960" y="5154480"/>
            <a:ext cx="65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er A's changes are overwritten by Tester B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 if the modified namespace is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4BEA-2F1E-488A-8D9F-F323FA255A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79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other problem with this model is that changes are irreversib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n tracking changes is diffic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ding differences in code is hard to docume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1E82-C0E6-405A-8440-65372E13DC5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roduc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312640"/>
            <a:ext cx="748656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Geneva"/>
              </a:rPr>
              <a:t>This is an example of converting an existing application to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SALT</a:t>
            </a:r>
            <a:r>
              <a:rPr b="0" lang="en-US" sz="4000" spc="-1" strike="noStrike">
                <a:solidFill>
                  <a:srgbClr val="333333"/>
                </a:solidFill>
                <a:latin typeface="Geneva"/>
              </a:rPr>
              <a:t> and using a version control system afterwards to maintain it.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58ED-BA25-4B0F-B2A8-A35F24662DA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4000" y="1639440"/>
            <a:ext cx="7772400" cy="12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allows namespaces to exist in script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372960" y="2751120"/>
            <a:ext cx="328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ead of h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series of namespaces  each with functions and variab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878280" y="2330280"/>
            <a:ext cx="497052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D567-F6E9-41AE-BC58-5278C561D12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1736640"/>
            <a:ext cx="284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have everything in script form, including the definition of variab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3743280" y="1622520"/>
            <a:ext cx="506736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B258-228E-477A-899C-11332312BB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s fi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Keeping namespaces in scripted form allows us to save them in (Unicode) text files outside the work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1511280" y="3933720"/>
            <a:ext cx="5832360" cy="1656000"/>
            <a:chOff x="1511280" y="3933720"/>
            <a:chExt cx="5832360" cy="1656000"/>
          </a:xfrm>
        </p:grpSpPr>
        <p:sp>
          <p:nvSpPr>
            <p:cNvPr id="196" name="AutoShape 4"/>
            <p:cNvSpPr/>
            <p:nvPr/>
          </p:nvSpPr>
          <p:spPr>
            <a:xfrm>
              <a:off x="1511280" y="4329000"/>
              <a:ext cx="2700360" cy="115272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5"/>
            <p:cNvSpPr/>
            <p:nvPr/>
          </p:nvSpPr>
          <p:spPr>
            <a:xfrm>
              <a:off x="3419640" y="443700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6"/>
            <p:cNvSpPr/>
            <p:nvPr/>
          </p:nvSpPr>
          <p:spPr>
            <a:xfrm>
              <a:off x="3419640" y="478008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7"/>
            <p:cNvSpPr/>
            <p:nvPr/>
          </p:nvSpPr>
          <p:spPr>
            <a:xfrm>
              <a:off x="3419640" y="512136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AutoShape 8"/>
            <p:cNvSpPr/>
            <p:nvPr/>
          </p:nvSpPr>
          <p:spPr>
            <a:xfrm>
              <a:off x="5003640" y="393372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AutoShape 9"/>
            <p:cNvSpPr/>
            <p:nvPr/>
          </p:nvSpPr>
          <p:spPr>
            <a:xfrm>
              <a:off x="5796000" y="45100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AutoShape 10"/>
            <p:cNvSpPr/>
            <p:nvPr/>
          </p:nvSpPr>
          <p:spPr>
            <a:xfrm>
              <a:off x="6588000" y="508644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11"/>
            <p:cNvSpPr/>
            <p:nvPr/>
          </p:nvSpPr>
          <p:spPr>
            <a:xfrm flipV="1">
              <a:off x="3743280" y="4149360"/>
              <a:ext cx="12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12"/>
            <p:cNvSpPr/>
            <p:nvPr/>
          </p:nvSpPr>
          <p:spPr>
            <a:xfrm flipV="1">
              <a:off x="3743280" y="4723920"/>
              <a:ext cx="2052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13"/>
            <p:cNvSpPr/>
            <p:nvPr/>
          </p:nvSpPr>
          <p:spPr>
            <a:xfrm>
              <a:off x="3743280" y="5230800"/>
              <a:ext cx="28447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E2E3-781A-44CF-A5B1-7F54BA05423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pdating can now be done in parallel for different namespaces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85080" y="221616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92640" y="43290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1332000" y="313056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2962440" y="226692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4294080" y="226692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2962440" y="2266920"/>
            <a:ext cx="13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 rot="16200000">
            <a:off x="2453040" y="2475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 rot="5400000">
            <a:off x="4088520" y="24663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3140640" y="1881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907920" y="5546880"/>
            <a:ext cx="72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er A's changes are NOT overwritten by 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2"/>
          <p:cNvSpPr/>
          <p:nvPr/>
        </p:nvSpPr>
        <p:spPr>
          <a:xfrm>
            <a:off x="1332000" y="394812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6155640" y="32846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6"/>
          <p:cNvSpPr/>
          <p:nvPr/>
        </p:nvSpPr>
        <p:spPr>
          <a:xfrm>
            <a:off x="3768840" y="398448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7"/>
          <p:cNvSpPr/>
          <p:nvPr/>
        </p:nvSpPr>
        <p:spPr>
          <a:xfrm>
            <a:off x="5497560" y="398448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3768840" y="48117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1"/>
          <p:cNvSpPr/>
          <p:nvPr/>
        </p:nvSpPr>
        <p:spPr>
          <a:xfrm rot="16200000">
            <a:off x="3261240" y="4119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3"/>
          <p:cNvSpPr/>
          <p:nvPr/>
        </p:nvSpPr>
        <p:spPr>
          <a:xfrm rot="5400000">
            <a:off x="5291640" y="411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5"/>
          <p:cNvSpPr/>
          <p:nvPr/>
        </p:nvSpPr>
        <p:spPr>
          <a:xfrm>
            <a:off x="4093200" y="4714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5852520" y="240660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p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5896440" y="415908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pac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6B07-641D-49C6-AE28-FC677820F6C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easier to track changes now that files are in human readable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saving multiple copies we can see the difference between each modific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33" name="Group 22"/>
          <p:cNvGrpSpPr/>
          <p:nvPr/>
        </p:nvGrpSpPr>
        <p:grpSpPr>
          <a:xfrm>
            <a:off x="1625760" y="4268880"/>
            <a:ext cx="6049800" cy="1817640"/>
            <a:chOff x="1625760" y="4268880"/>
            <a:chExt cx="6049800" cy="1817640"/>
          </a:xfrm>
        </p:grpSpPr>
        <p:sp>
          <p:nvSpPr>
            <p:cNvPr id="234" name="AutoShape 4"/>
            <p:cNvSpPr/>
            <p:nvPr/>
          </p:nvSpPr>
          <p:spPr>
            <a:xfrm>
              <a:off x="1625760" y="4737240"/>
              <a:ext cx="2700360" cy="115236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3533760" y="484488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3533760" y="518796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3533760" y="552924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AutoShape 8"/>
            <p:cNvSpPr/>
            <p:nvPr/>
          </p:nvSpPr>
          <p:spPr>
            <a:xfrm>
              <a:off x="5118120" y="434160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utoShape 9"/>
            <p:cNvSpPr/>
            <p:nvPr/>
          </p:nvSpPr>
          <p:spPr>
            <a:xfrm>
              <a:off x="5910480" y="491796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AutoShape 10"/>
            <p:cNvSpPr/>
            <p:nvPr/>
          </p:nvSpPr>
          <p:spPr>
            <a:xfrm>
              <a:off x="6702480" y="549432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1"/>
            <p:cNvSpPr/>
            <p:nvPr/>
          </p:nvSpPr>
          <p:spPr>
            <a:xfrm flipV="1">
              <a:off x="3857760" y="4557240"/>
              <a:ext cx="12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 flipV="1">
              <a:off x="3857760" y="5132520"/>
              <a:ext cx="205236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3"/>
            <p:cNvSpPr/>
            <p:nvPr/>
          </p:nvSpPr>
          <p:spPr>
            <a:xfrm>
              <a:off x="3857760" y="5639040"/>
              <a:ext cx="284472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AutoShape 8"/>
            <p:cNvSpPr/>
            <p:nvPr/>
          </p:nvSpPr>
          <p:spPr>
            <a:xfrm>
              <a:off x="5313600" y="430524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8"/>
            <p:cNvSpPr/>
            <p:nvPr/>
          </p:nvSpPr>
          <p:spPr>
            <a:xfrm>
              <a:off x="5532480" y="42688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8"/>
            <p:cNvSpPr/>
            <p:nvPr/>
          </p:nvSpPr>
          <p:spPr>
            <a:xfrm>
              <a:off x="6919920" y="558324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AutoShape 8"/>
            <p:cNvSpPr/>
            <p:nvPr/>
          </p:nvSpPr>
          <p:spPr>
            <a:xfrm>
              <a:off x="6043680" y="49258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AutoShape 8"/>
            <p:cNvSpPr/>
            <p:nvPr/>
          </p:nvSpPr>
          <p:spPr>
            <a:xfrm>
              <a:off x="6153120" y="49258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6262920" y="49258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49D3-9F88-44F2-80A2-4216670609E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aring files can be done easily in APL by SALT or by any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progra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1979640" y="3940200"/>
            <a:ext cx="2154240" cy="13874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in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4389480" y="3940200"/>
            <a:ext cx="2154240" cy="13874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in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577880" y="4341960"/>
            <a:ext cx="5367600" cy="365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E326-186D-4490-AAD5-4F9D405689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oing i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step is to convert the workspace to the new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8202-1DCB-49BE-8020-3C966EF1A50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971280" y="1736280"/>
            <a:ext cx="7412040" cy="37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14" descr=""/>
          <p:cNvPicPr/>
          <p:nvPr/>
        </p:nvPicPr>
        <p:blipFill>
          <a:blip r:embed="rId1"/>
          <a:stretch/>
        </p:blipFill>
        <p:spPr>
          <a:xfrm>
            <a:off x="1614600" y="2406600"/>
            <a:ext cx="60609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ADCB-4873-4E7F-BAB8-B32BA247E43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27160" y="1700280"/>
            <a:ext cx="885816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it isn’t 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0" descr=""/>
          <p:cNvPicPr/>
          <p:nvPr/>
        </p:nvPicPr>
        <p:blipFill>
          <a:blip r:embed="rId1"/>
          <a:stretch/>
        </p:blipFill>
        <p:spPr>
          <a:xfrm>
            <a:off x="1249200" y="2406600"/>
            <a:ext cx="646272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653A-65E4-44B2-BD80-0B2CBE5C4B2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971640" y="1521000"/>
            <a:ext cx="737712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our work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1" descr=""/>
          <p:cNvPicPr/>
          <p:nvPr/>
        </p:nvPicPr>
        <p:blipFill>
          <a:blip r:embed="rId1"/>
          <a:stretch/>
        </p:blipFill>
        <p:spPr>
          <a:xfrm>
            <a:off x="993600" y="2327400"/>
            <a:ext cx="719316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141C-C3C7-47C6-8EC8-C9D7B601736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What is SAL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312640"/>
            <a:ext cx="748656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Geneva"/>
              </a:rPr>
              <a:t>SALT is a tool to deal with code outside the workspace in text (Unicode) format.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07C5-B5EE-4FDD-A272-0663C71AEDD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934920" y="1521000"/>
            <a:ext cx="741384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ake sure the workdir includes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8" descr=""/>
          <p:cNvPicPr/>
          <p:nvPr/>
        </p:nvPicPr>
        <p:blipFill>
          <a:blip r:embed="rId1"/>
          <a:stretch/>
        </p:blipFill>
        <p:spPr>
          <a:xfrm>
            <a:off x="1212840" y="2151000"/>
            <a:ext cx="6637320" cy="3870360"/>
          </a:xfrm>
          <a:prstGeom prst="rect">
            <a:avLst/>
          </a:prstGeom>
          <a:ln w="0">
            <a:noFill/>
          </a:ln>
        </p:spPr>
      </p:pic>
      <p:sp>
        <p:nvSpPr>
          <p:cNvPr id="281" name="Oval 6"/>
          <p:cNvSpPr/>
          <p:nvPr/>
        </p:nvSpPr>
        <p:spPr>
          <a:xfrm>
            <a:off x="1030320" y="4633920"/>
            <a:ext cx="44766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9" descr=""/>
          <p:cNvPicPr/>
          <p:nvPr/>
        </p:nvPicPr>
        <p:blipFill>
          <a:blip r:embed="rId1"/>
          <a:stretch/>
        </p:blipFill>
        <p:spPr>
          <a:xfrm>
            <a:off x="1504800" y="2260440"/>
            <a:ext cx="6426360" cy="3794400"/>
          </a:xfrm>
          <a:prstGeom prst="rect">
            <a:avLst/>
          </a:prstGeom>
          <a:ln w="0">
            <a:noFill/>
          </a:ln>
        </p:spPr>
      </p:pic>
      <p:sp>
        <p:nvSpPr>
          <p:cNvPr id="2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EC49-2B4F-4EAF-8087-AEAE0CA116F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007640" y="1521000"/>
            <a:ext cx="73407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ring in the conversion tool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3403440" y="4414680"/>
            <a:ext cx="1936800" cy="40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FF3C-AC85-46C7-9CB1-5563C614222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576000" y="1725120"/>
            <a:ext cx="7775640" cy="37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StoScript is a namespace containing code to perform conversion of regular (non sourced) namespac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unction to use in it is &lt;Convert&gt;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82F6-5A49-4B3A-A247-8ABD3DDD8F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76000" y="159228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, to convert namespace 'UTIL'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1833480" y="2333520"/>
            <a:ext cx="5805720" cy="34275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1833480" y="2333520"/>
            <a:ext cx="5805720" cy="3427560"/>
          </a:xfrm>
          <a:prstGeom prst="rect">
            <a:avLst/>
          </a:prstGeom>
          <a:ln w="0">
            <a:noFill/>
          </a:ln>
        </p:spPr>
      </p:pic>
      <p:sp>
        <p:nvSpPr>
          <p:cNvPr id="298" name="Oval 6"/>
          <p:cNvSpPr/>
          <p:nvPr/>
        </p:nvSpPr>
        <p:spPr>
          <a:xfrm>
            <a:off x="2016000" y="4487760"/>
            <a:ext cx="3168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3"/>
          <a:stretch/>
        </p:blipFill>
        <p:spPr>
          <a:xfrm>
            <a:off x="1833480" y="2333520"/>
            <a:ext cx="5805720" cy="34275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"/>
          <p:cNvPicPr/>
          <p:nvPr/>
        </p:nvPicPr>
        <p:blipFill>
          <a:blip r:embed="rId4"/>
          <a:stretch/>
        </p:blipFill>
        <p:spPr>
          <a:xfrm>
            <a:off x="1833480" y="2333520"/>
            <a:ext cx="5805720" cy="3427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"/>
          <p:cNvPicPr/>
          <p:nvPr/>
        </p:nvPicPr>
        <p:blipFill>
          <a:blip r:embed="rId5"/>
          <a:stretch/>
        </p:blipFill>
        <p:spPr>
          <a:xfrm>
            <a:off x="1833480" y="2333520"/>
            <a:ext cx="5811840" cy="3432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"/>
          <p:cNvPicPr/>
          <p:nvPr/>
        </p:nvPicPr>
        <p:blipFill>
          <a:blip r:embed="rId6"/>
          <a:stretch/>
        </p:blipFill>
        <p:spPr>
          <a:xfrm>
            <a:off x="2344680" y="1676520"/>
            <a:ext cx="5635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2EEA-1934-447A-8F5F-82B68858A02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576000" y="1483920"/>
            <a:ext cx="8388360" cy="19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onvert several namespaces first )CS where the namespaces a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1395360" y="2625840"/>
            <a:ext cx="62802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D0EB-BAB7-4007-A8EA-7917AF6DAB2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576000" y="1483920"/>
            <a:ext cx="8388360" cy="11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use an expression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8" descr=""/>
          <p:cNvPicPr/>
          <p:nvPr/>
        </p:nvPicPr>
        <p:blipFill>
          <a:blip r:embed="rId1"/>
          <a:stretch/>
        </p:blipFill>
        <p:spPr>
          <a:xfrm>
            <a:off x="1541520" y="2114640"/>
            <a:ext cx="5878440" cy="3941640"/>
          </a:xfrm>
          <a:prstGeom prst="rect">
            <a:avLst/>
          </a:prstGeom>
          <a:ln w="0">
            <a:noFill/>
          </a:ln>
        </p:spPr>
      </p:pic>
      <p:sp>
        <p:nvSpPr>
          <p:cNvPr id="313" name="Oval 6"/>
          <p:cNvSpPr/>
          <p:nvPr/>
        </p:nvSpPr>
        <p:spPr>
          <a:xfrm>
            <a:off x="1797120" y="2771640"/>
            <a:ext cx="320508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2490840" y="273528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3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319E-B31D-4605-8677-36B0E4F0BC8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76000" y="155736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plorer now shows us the namespaces with the new icon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2"/>
          <a:stretch/>
        </p:blipFill>
        <p:spPr>
          <a:xfrm>
            <a:off x="2490840" y="2735280"/>
            <a:ext cx="4952880" cy="38862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3"/>
          <a:stretch/>
        </p:blipFill>
        <p:spPr>
          <a:xfrm>
            <a:off x="2490840" y="273528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75F3-8AE6-4483-A13B-B1907E17DE4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576000" y="155736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workspace has the same functionality as befo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)SAVEd in this new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1B76-5885-4A8B-8C70-D16876F5ADD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iling awa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47640" y="2133360"/>
            <a:ext cx="77724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next step is to store those namespaces in Unicode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tho is it relatively simple to read/write text to file, their management, because of the encoding, is a bit more complex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gain, SALT comes in hand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6A08-4A7E-413C-82B3-F1977544CE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9080" y="2701800"/>
            <a:ext cx="647856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cide where to put them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the SALT Sav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712880"/>
            <a:ext cx="777240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 until V11 namespaces came in a single for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ontained functions, variables and other namespac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829E-5C12-481C-9DB1-8FFD7CD98BB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359000" y="4049640"/>
            <a:ext cx="3162240" cy="209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4900680" y="3940200"/>
            <a:ext cx="31622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B1AD-1A12-49E6-A583-69A1EAB468B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55640" y="1808280"/>
            <a:ext cx="716616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Save function takes a string argument of: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'</a:t>
            </a:r>
            <a:r>
              <a:rPr b="0" lang="en-GB" sz="3200" spc="-1" strike="noStrike">
                <a:solidFill>
                  <a:srgbClr val="00b0f0"/>
                </a:solidFill>
                <a:latin typeface="Geneva"/>
              </a:rPr>
              <a:t>namespa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3200" spc="-1" strike="noStrike">
                <a:solidFill>
                  <a:srgbClr val="00b050"/>
                </a:solidFill>
                <a:latin typeface="Geneva"/>
              </a:rPr>
              <a:t>locat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1511280" y="3068640"/>
            <a:ext cx="58341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5150-A058-4499-9F42-32DCE0F4398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9280" y="1700280"/>
            <a:ext cx="752472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ll the namespaces at once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1258920" y="2529000"/>
            <a:ext cx="6589800" cy="3481200"/>
          </a:xfrm>
          <a:prstGeom prst="rect">
            <a:avLst/>
          </a:prstGeom>
          <a:ln w="0">
            <a:noFill/>
          </a:ln>
        </p:spPr>
      </p:pic>
      <p:sp>
        <p:nvSpPr>
          <p:cNvPr id="343" name="Oval 6"/>
          <p:cNvSpPr/>
          <p:nvPr/>
        </p:nvSpPr>
        <p:spPr>
          <a:xfrm>
            <a:off x="1800360" y="3409920"/>
            <a:ext cx="4464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1066680" y="2803680"/>
            <a:ext cx="7047000" cy="3375000"/>
          </a:xfrm>
          <a:prstGeom prst="rect">
            <a:avLst/>
          </a:prstGeom>
          <a:ln w="0">
            <a:noFill/>
          </a:ln>
        </p:spPr>
      </p:pic>
      <p:sp>
        <p:nvSpPr>
          <p:cNvPr id="3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28EA-D929-44F8-822B-D290AD570B9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19280" y="1639440"/>
            <a:ext cx="7524720" cy="13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want to sav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veryth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t once you can do instea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9" name="Oval 6"/>
          <p:cNvSpPr/>
          <p:nvPr/>
        </p:nvSpPr>
        <p:spPr>
          <a:xfrm>
            <a:off x="1212840" y="4086360"/>
            <a:ext cx="361476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9AEA-CAF4-4DB9-A331-54CEC99424B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19280" y="1639440"/>
            <a:ext cx="7524720" cy="13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ither way you should now have a folder with many scripts in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541520" y="2808360"/>
            <a:ext cx="62452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7538-8977-460C-838D-3D91AB6AD3A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'remembers' where each script was sav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anging one of them now means SALT will change the file as soon as the script is modified through the edito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0D49-4D24-4E10-8FC2-E2E0A237C6E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1"/>
          <a:stretch/>
        </p:blipFill>
        <p:spPr>
          <a:xfrm>
            <a:off x="2268360" y="2241720"/>
            <a:ext cx="4753080" cy="38098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5"/>
          <p:cNvSpPr/>
          <p:nvPr/>
        </p:nvSpPr>
        <p:spPr>
          <a:xfrm>
            <a:off x="275400" y="1589040"/>
            <a:ext cx="73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Here's what one of the scripts' contents looks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3405-531D-4214-96C7-1D5ADC6FF0E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2268360" y="2241720"/>
            <a:ext cx="4753080" cy="38098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4"/>
          <p:cNvSpPr/>
          <p:nvPr/>
        </p:nvSpPr>
        <p:spPr>
          <a:xfrm>
            <a:off x="415080" y="158904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And here we make a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5" descr=""/>
          <p:cNvPicPr/>
          <p:nvPr/>
        </p:nvPicPr>
        <p:blipFill>
          <a:blip r:embed="rId2"/>
          <a:stretch/>
        </p:blipFill>
        <p:spPr>
          <a:xfrm>
            <a:off x="2268360" y="2241720"/>
            <a:ext cx="4751640" cy="3809880"/>
          </a:xfrm>
          <a:prstGeom prst="rect">
            <a:avLst/>
          </a:prstGeom>
          <a:ln w="0">
            <a:noFill/>
          </a:ln>
        </p:spPr>
      </p:pic>
      <p:sp>
        <p:nvSpPr>
          <p:cNvPr id="370" name="Oval 6"/>
          <p:cNvSpPr/>
          <p:nvPr/>
        </p:nvSpPr>
        <p:spPr>
          <a:xfrm>
            <a:off x="2916360" y="3205080"/>
            <a:ext cx="2232000" cy="3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1ACA-98D0-4D76-A44E-305C3FFF7D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71280" y="1673280"/>
            <a:ext cx="89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SALT detected the change and offers to change the script f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7" descr=""/>
          <p:cNvPicPr/>
          <p:nvPr/>
        </p:nvPicPr>
        <p:blipFill>
          <a:blip r:embed="rId1"/>
          <a:stretch/>
        </p:blipFill>
        <p:spPr>
          <a:xfrm>
            <a:off x="2340000" y="2705040"/>
            <a:ext cx="435600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D2A0-4DBD-4CBB-9564-7904A19C3D7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503280" y="1944720"/>
            <a:ext cx="830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You should )SAVE the workspace here.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Like this SALT will remember where the edited namespaces are stored and detect if changes have been made outside APL (e.g. with Notep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8071-7163-4FD6-98A2-F0ED7BC1F19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 of the work to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mes with its own versioning of files and comparison functions but it is primitive compared to state of the art version control systems lik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712880"/>
            <a:ext cx="777240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ing with V11 namespaces also came in a script for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ntained functions, etc. are listed in text forma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25D4-FD28-4932-922B-FB126C552A2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212840" y="3940200"/>
            <a:ext cx="3162240" cy="2200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4856040" y="3465360"/>
            <a:ext cx="325764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EC21-0488-45DC-95E4-B8A3089F1B3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company it is preferable to use existing software lik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e first need somewhere to put the scripts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7640-D384-463A-BCD1-5FD6B308DF7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picked folde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weapon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2268360" y="2168640"/>
            <a:ext cx="4695840" cy="4267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"/>
          <p:cNvPicPr/>
          <p:nvPr/>
        </p:nvPicPr>
        <p:blipFill>
          <a:blip r:embed="rId2"/>
          <a:stretch/>
        </p:blipFill>
        <p:spPr>
          <a:xfrm>
            <a:off x="2987640" y="2816280"/>
            <a:ext cx="3600360" cy="2249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"/>
          <p:cNvPicPr/>
          <p:nvPr/>
        </p:nvPicPr>
        <p:blipFill>
          <a:blip r:embed="rId3"/>
          <a:stretch/>
        </p:blipFill>
        <p:spPr>
          <a:xfrm>
            <a:off x="2879640" y="2781360"/>
            <a:ext cx="385308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A2B5-F0A1-4C8E-8916-B8463D05060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 now import the scripts into the repositor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(we put our code in 'Troops')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1"/>
          <a:stretch/>
        </p:blipFill>
        <p:spPr>
          <a:xfrm>
            <a:off x="3887640" y="1557360"/>
            <a:ext cx="4600800" cy="4610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5040360" cy="37749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0" descr=""/>
          <p:cNvPicPr/>
          <p:nvPr/>
        </p:nvPicPr>
        <p:blipFill>
          <a:blip r:embed="rId3"/>
          <a:stretch/>
        </p:blipFill>
        <p:spPr>
          <a:xfrm>
            <a:off x="3600360" y="1449360"/>
            <a:ext cx="5276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F351-7FEB-4ADB-BB00-F91F57CF72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7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e of the testers now checks out a copy: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3851280" y="1665360"/>
            <a:ext cx="3198960" cy="4500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"/>
          <p:cNvPicPr/>
          <p:nvPr/>
        </p:nvPicPr>
        <p:blipFill>
          <a:blip r:embed="rId2"/>
          <a:stretch/>
        </p:blipFill>
        <p:spPr>
          <a:xfrm>
            <a:off x="3527280" y="1700280"/>
            <a:ext cx="5148360" cy="3612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3"/>
          <a:stretch/>
        </p:blipFill>
        <p:spPr>
          <a:xfrm>
            <a:off x="3816360" y="2384280"/>
            <a:ext cx="3780000" cy="20494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"/>
          <p:cNvPicPr/>
          <p:nvPr/>
        </p:nvPicPr>
        <p:blipFill>
          <a:blip r:embed="rId4"/>
          <a:stretch/>
        </p:blipFill>
        <p:spPr>
          <a:xfrm>
            <a:off x="3564000" y="1484280"/>
            <a:ext cx="5276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8545-E469-4DBD-B223-82806AEF0BE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y other tester can do the same thing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4213080" y="3173400"/>
            <a:ext cx="1244880" cy="15271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5"/>
          <p:cNvSpPr/>
          <p:nvPr/>
        </p:nvSpPr>
        <p:spPr>
          <a:xfrm flipH="1" rot="20261400">
            <a:off x="2446920" y="4581000"/>
            <a:ext cx="1758960" cy="63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6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7"/>
          <p:cNvSpPr/>
          <p:nvPr/>
        </p:nvSpPr>
        <p:spPr>
          <a:xfrm rot="2095200">
            <a:off x="5364000" y="4701960"/>
            <a:ext cx="1773360" cy="6825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8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9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10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11"/>
          <p:cNvSpPr/>
          <p:nvPr/>
        </p:nvSpPr>
        <p:spPr>
          <a:xfrm rot="20552400">
            <a:off x="5564160" y="3358800"/>
            <a:ext cx="1671840" cy="617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12"/>
          <p:cNvSpPr/>
          <p:nvPr/>
        </p:nvSpPr>
        <p:spPr>
          <a:xfrm flipH="1" rot="163800">
            <a:off x="2484360" y="3600000"/>
            <a:ext cx="1638360" cy="560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8BD6-E150-4677-85ED-E852856405B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13" descr=""/>
          <p:cNvPicPr/>
          <p:nvPr/>
        </p:nvPicPr>
        <p:blipFill>
          <a:blip r:embed="rId1"/>
          <a:stretch/>
        </p:blipFill>
        <p:spPr>
          <a:xfrm>
            <a:off x="3959280" y="1665360"/>
            <a:ext cx="4714920" cy="43718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86920" y="1980720"/>
            <a:ext cx="313236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 can see what's in his fold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BA37-4B1A-4A51-8750-F9B2587A920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638680" cy="10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nd use any portion (pattern) of i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1"/>
          <a:stretch/>
        </p:blipFill>
        <p:spPr>
          <a:xfrm>
            <a:off x="1405080" y="2808360"/>
            <a:ext cx="6453000" cy="3066840"/>
          </a:xfrm>
          <a:prstGeom prst="rect">
            <a:avLst/>
          </a:prstGeom>
          <a:ln w="0">
            <a:noFill/>
          </a:ln>
        </p:spPr>
      </p:pic>
      <p:sp>
        <p:nvSpPr>
          <p:cNvPr id="435" name="Oval 8"/>
          <p:cNvSpPr/>
          <p:nvPr/>
        </p:nvSpPr>
        <p:spPr>
          <a:xfrm>
            <a:off x="4024440" y="4305240"/>
            <a:ext cx="766800" cy="4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ED3C-FD61-4EDC-8258-49EAD471EAF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395280" y="2023920"/>
            <a:ext cx="30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Then grab th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neva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column (the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names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6" descr=""/>
          <p:cNvPicPr/>
          <p:nvPr/>
        </p:nvPicPr>
        <p:blipFill>
          <a:blip r:embed="rId1"/>
          <a:stretch/>
        </p:blipFill>
        <p:spPr>
          <a:xfrm>
            <a:off x="3600360" y="1700280"/>
            <a:ext cx="5004000" cy="268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0322-76E4-4E92-960C-7E4AFC3AF63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ke sure his own folder is in th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workdi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lis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45" name="Picture 10" descr=""/>
          <p:cNvPicPr/>
          <p:nvPr/>
        </p:nvPicPr>
        <p:blipFill>
          <a:blip r:embed="rId1"/>
          <a:stretch/>
        </p:blipFill>
        <p:spPr>
          <a:xfrm>
            <a:off x="3679920" y="1693800"/>
            <a:ext cx="4932360" cy="26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2759-FD42-4512-9D95-6057758DF0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8" descr=""/>
          <p:cNvPicPr/>
          <p:nvPr/>
        </p:nvPicPr>
        <p:blipFill>
          <a:blip r:embed="rId1"/>
          <a:stretch/>
        </p:blipFill>
        <p:spPr>
          <a:xfrm>
            <a:off x="3672000" y="1700280"/>
            <a:ext cx="4932360" cy="263988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nd bring in his files in the 'R' namespac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51" name="Picture 9" descr=""/>
          <p:cNvPicPr/>
          <p:nvPr/>
        </p:nvPicPr>
        <p:blipFill>
          <a:blip r:embed="rId2"/>
          <a:stretch/>
        </p:blipFill>
        <p:spPr>
          <a:xfrm>
            <a:off x="1908000" y="4165560"/>
            <a:ext cx="5543640" cy="10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5198 L 4.44444E-006 0.00023 E">
                                      <p:cBhvr>
                                        <p:cTn id="127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4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712880"/>
            <a:ext cx="777240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script and the functions in it can be edited via the editor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n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ns2.tfn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61F9-6772-4E58-9325-9278172B6FD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4856040" y="3465360"/>
            <a:ext cx="325764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BCF0-092F-4F41-BA08-0D62DF34B99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 can now repeat this procedure each time he )LOADs the workspace or )SAVE his own copy (e.g. 'tester1robots') which can be )loaded instea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7E1B-72D9-4AB5-9C12-ADE0A72799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, and any other tester that has done the same thing, can now test the system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AutoShape 9"/>
          <p:cNvSpPr/>
          <p:nvPr/>
        </p:nvSpPr>
        <p:spPr>
          <a:xfrm>
            <a:off x="3851280" y="3681360"/>
            <a:ext cx="1260360" cy="1332000"/>
          </a:xfrm>
          <a:prstGeom prst="flowChartMagneticDisk">
            <a:avLst/>
          </a:prstGeom>
          <a:solidFill>
            <a:srgbClr val="bbe0e3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18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20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21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odifying the 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9B28-6880-42B2-AE50-DC1A9B62A2B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"/>
          <p:cNvPicPr/>
          <p:nvPr/>
        </p:nvPicPr>
        <p:blipFill>
          <a:blip r:embed="rId2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"/>
          <p:cNvPicPr/>
          <p:nvPr/>
        </p:nvPicPr>
        <p:blipFill>
          <a:blip r:embed="rId3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"/>
          <p:cNvPicPr/>
          <p:nvPr/>
        </p:nvPicPr>
        <p:blipFill>
          <a:blip r:embed="rId4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5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"/>
          <p:cNvPicPr/>
          <p:nvPr/>
        </p:nvPicPr>
        <p:blipFill>
          <a:blip r:embed="rId6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"/>
          <p:cNvPicPr/>
          <p:nvPr/>
        </p:nvPicPr>
        <p:blipFill>
          <a:blip r:embed="rId7"/>
          <a:stretch/>
        </p:blipFill>
        <p:spPr>
          <a:xfrm>
            <a:off x="3352680" y="2562120"/>
            <a:ext cx="24386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6" descr=""/>
          <p:cNvPicPr/>
          <p:nvPr/>
        </p:nvPicPr>
        <p:blipFill>
          <a:blip r:embed="rId1"/>
          <a:stretch/>
        </p:blipFill>
        <p:spPr>
          <a:xfrm>
            <a:off x="1724040" y="2004840"/>
            <a:ext cx="5905440" cy="390528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iew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5793-9A13-48E8-B3A0-F2DC74B32C9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5" descr=""/>
          <p:cNvPicPr/>
          <p:nvPr/>
        </p:nvPicPr>
        <p:blipFill>
          <a:blip r:embed="rId2"/>
          <a:stretch/>
        </p:blipFill>
        <p:spPr>
          <a:xfrm>
            <a:off x="1724040" y="2004840"/>
            <a:ext cx="5905440" cy="3905280"/>
          </a:xfrm>
          <a:prstGeom prst="rect">
            <a:avLst/>
          </a:prstGeom>
          <a:ln w="0">
            <a:noFill/>
          </a:ln>
        </p:spPr>
      </p:pic>
      <p:sp>
        <p:nvSpPr>
          <p:cNvPr id="480" name="Oval 12"/>
          <p:cNvSpPr/>
          <p:nvPr/>
        </p:nvSpPr>
        <p:spPr>
          <a:xfrm>
            <a:off x="6872400" y="4597560"/>
            <a:ext cx="1022400" cy="912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iew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F766-E0E5-4A05-8FB9-A183F323427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1"/>
          <a:stretch/>
        </p:blipFill>
        <p:spPr>
          <a:xfrm>
            <a:off x="1103400" y="1822320"/>
            <a:ext cx="70246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1817-1BE7-4076-8348-1586054EE2E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338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hen changes are ready to be checked in you do (here DANIMAL has been changed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9" name="Picture 5" descr=""/>
          <p:cNvPicPr/>
          <p:nvPr/>
        </p:nvPicPr>
        <p:blipFill>
          <a:blip r:embed="rId1"/>
          <a:stretch/>
        </p:blipFill>
        <p:spPr>
          <a:xfrm>
            <a:off x="4788000" y="1736640"/>
            <a:ext cx="3971880" cy="24004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4795920" y="1727280"/>
            <a:ext cx="3971880" cy="4048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8" descr=""/>
          <p:cNvPicPr/>
          <p:nvPr/>
        </p:nvPicPr>
        <p:blipFill>
          <a:blip r:embed="rId3"/>
          <a:stretch/>
        </p:blipFill>
        <p:spPr>
          <a:xfrm>
            <a:off x="4535640" y="1557360"/>
            <a:ext cx="4362120" cy="46576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9" descr=""/>
          <p:cNvPicPr/>
          <p:nvPr/>
        </p:nvPicPr>
        <p:blipFill>
          <a:blip r:embed="rId4"/>
          <a:stretch/>
        </p:blipFill>
        <p:spPr>
          <a:xfrm>
            <a:off x="4535640" y="1563840"/>
            <a:ext cx="4362120" cy="46576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1" descr=""/>
          <p:cNvPicPr/>
          <p:nvPr/>
        </p:nvPicPr>
        <p:blipFill>
          <a:blip r:embed="rId5"/>
          <a:stretch/>
        </p:blipFill>
        <p:spPr>
          <a:xfrm>
            <a:off x="3672000" y="2529000"/>
            <a:ext cx="52768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080C-BF53-4BB7-B2A3-B335C8FF92B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, and any other tester that has done the same thing, can now test the system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3959280" y="3681360"/>
            <a:ext cx="1260360" cy="1332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5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8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9"/>
          <p:cNvSpPr/>
          <p:nvPr/>
        </p:nvSpPr>
        <p:spPr>
          <a:xfrm rot="559800">
            <a:off x="2555640" y="3715920"/>
            <a:ext cx="1187280" cy="468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"/>
          <p:cNvSpPr/>
          <p:nvPr/>
        </p:nvSpPr>
        <p:spPr>
          <a:xfrm rot="20589000">
            <a:off x="2592000" y="4868640"/>
            <a:ext cx="1187640" cy="468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1"/>
          <p:cNvSpPr/>
          <p:nvPr/>
        </p:nvSpPr>
        <p:spPr>
          <a:xfrm flipH="1" rot="20640600">
            <a:off x="5472000" y="3573360"/>
            <a:ext cx="1261080" cy="468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3"/>
          <p:cNvSpPr/>
          <p:nvPr/>
        </p:nvSpPr>
        <p:spPr>
          <a:xfrm flipH="1" rot="978000">
            <a:off x="5434920" y="4939920"/>
            <a:ext cx="1260360" cy="468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4514-2992-4FD3-9098-1D3C142139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VC should be able to handle conflicts, report on differences and generate complete new systems from the current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BACD-A77A-4171-85C7-4DFB4AF73D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ocal or smaller systems you may choose to use SALT's limited versioning and comparing abilities but a solid Version Control system is a must for large syst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4E6A-6205-4858-A505-C53BFE8AA81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y version control will probably do but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well supported and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9382-0266-449A-8CC9-62F722FD5E5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01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How do we do i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661840"/>
            <a:ext cx="777240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We'll see the conversion process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use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,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third party product, to control its versioning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86CD-7BD8-4FBB-8637-F439E8EDD9D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tu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AAD is a military weapons manufacturing compan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ne of its best sellers is the SD2, a device used to search and destroy specific targ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98CA-127E-4CA2-879E-53CFF5BDF8E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BAAD's SD2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unit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s self contained: its behaviour is set once and does not require external inpu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(possibly 1000s) models, each with a different code name. The logic (code) of each is uniqu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b</cp:lastModifiedBy>
  <dcterms:modified xsi:type="dcterms:W3CDTF">2008-12-02T20:23:09Z</dcterms:modified>
  <cp:revision>3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