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0.png" ContentType="image/png"/>
  <Override PartName="/ppt/media/image9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1680-6AB3-4B3A-A55C-153E096A4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FF2A-2D19-425E-BA32-3BB519727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6941-847A-4A3B-9818-D73EBB9F2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85E6-8DE0-4200-A945-07D1F1DEF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1A88-635D-427F-8FEE-4F1AE1CB3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9B20-AE08-4A66-9DD5-A0617C89A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A367-7C82-4E10-BD87-06AC00FAF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DF39-3940-4EA6-828E-38725107D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2B79-5088-4C55-8FA4-33A1E76C9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EEAA-E497-4DE9-8BD8-E05CB4DB6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96B6-FB16-49BC-BEE4-0214B33AF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A808-0D7B-4761-8AAA-6E13ED25B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5757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1447920" y="1628640"/>
            <a:ext cx="6248160" cy="4392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ebdings" charset="2"/>
              <a:buChar char="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5CBF1-C0E9-43EC-924C-C26662D8CA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15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99"/>
            </a:gs>
            <a:gs pos="100000">
              <a:srgbClr val="5757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1280" y="19080"/>
            <a:ext cx="684360" cy="530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900000" y="0"/>
            <a:ext cx="67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MEALTRACKER </a:t>
            </a: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Dietary Software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 &amp; PocketA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5373720"/>
            <a:ext cx="424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66"/>
                </a:solidFill>
                <a:latin typeface="Arial"/>
              </a:rPr>
              <a:t>Dyalog ’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66"/>
                </a:solidFill>
                <a:latin typeface="Arial"/>
              </a:rPr>
              <a:t>Richard Procter, APL Borealis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66"/>
                </a:solidFill>
                <a:latin typeface="Arial"/>
              </a:rPr>
              <a:t>rjp@aplboreali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484360" y="1125360"/>
            <a:ext cx="4175280" cy="3240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99"/>
            </a:gs>
            <a:gs pos="100000">
              <a:srgbClr val="5757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1280" y="19080"/>
            <a:ext cx="684360" cy="5302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00000" y="0"/>
            <a:ext cx="67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MEALTRACKER </a:t>
            </a: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Dietary Software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 &amp; PocketA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11280" y="765000"/>
            <a:ext cx="3097080" cy="23259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68360" y="3713040"/>
            <a:ext cx="3741840" cy="2843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5148360" y="3429000"/>
            <a:ext cx="2361960" cy="30574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4284720" y="1052640"/>
            <a:ext cx="2303280" cy="20206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877080" y="907920"/>
            <a:ext cx="22669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port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feedback 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nutrition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780000" y="1844640"/>
            <a:ext cx="433080" cy="289080"/>
          </a:xfrm>
          <a:prstGeom prst="rightArrow">
            <a:avLst>
              <a:gd name="adj1" fmla="val 50000"/>
              <a:gd name="adj2" fmla="val 374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77080" y="2781360"/>
            <a:ext cx="287280" cy="360360"/>
          </a:xfrm>
          <a:prstGeom prst="downArrow">
            <a:avLst>
              <a:gd name="adj1" fmla="val 50000"/>
              <a:gd name="adj2" fmla="val 313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00720" y="4941720"/>
            <a:ext cx="502920" cy="287640"/>
          </a:xfrm>
          <a:prstGeom prst="leftArrow">
            <a:avLst>
              <a:gd name="adj1" fmla="val 50000"/>
              <a:gd name="adj2" fmla="val 437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99"/>
            </a:gs>
            <a:gs pos="100000">
              <a:srgbClr val="5757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1280" y="19080"/>
            <a:ext cx="684360" cy="530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900000" y="0"/>
            <a:ext cx="67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MEALTRACKER </a:t>
            </a: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Dietary Software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 &amp; PocketA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68360" y="692280"/>
            <a:ext cx="5352840" cy="59436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940360" y="907920"/>
            <a:ext cx="3203640" cy="30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small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Base product: APL(+Win) 1985-2009, now .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PocketAPL module: 2003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1000+ installations </a:t>
            </a: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(12 now using the PocketAPL module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customer-dri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99"/>
            </a:gs>
            <a:gs pos="100000">
              <a:srgbClr val="5757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1280" y="19080"/>
            <a:ext cx="684360" cy="5302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900000" y="0"/>
            <a:ext cx="67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MEALTRACKER </a:t>
            </a: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Dietary Software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 &amp; PocketA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619280" y="1268280"/>
            <a:ext cx="2324160" cy="3048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5364000" y="2276640"/>
            <a:ext cx="2372040" cy="30477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116000" y="4724280"/>
            <a:ext cx="3672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Why Hand-Hel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what did people ea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what do they want to ea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99"/>
            </a:gs>
            <a:gs pos="100000">
              <a:srgbClr val="5757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1280" y="19080"/>
            <a:ext cx="684360" cy="530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900000" y="0"/>
            <a:ext cx="67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MEALTRACKER </a:t>
            </a: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Dietary Software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 &amp; PocketA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284720" y="907920"/>
            <a:ext cx="45352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Device / Platform Iss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limitations (input, speed, memory, screensize, fonts, 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GUI – visuals &amp; events (vs. deskto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functionality (vs. deskto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menu (disappearan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application Cl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interru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68360" y="836640"/>
            <a:ext cx="3286080" cy="5133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99"/>
            </a:gs>
            <a:gs pos="100000">
              <a:srgbClr val="5757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1280" y="19080"/>
            <a:ext cx="684360" cy="5302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900000" y="0"/>
            <a:ext cx="67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MEALTRACKER </a:t>
            </a: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Dietary Software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 &amp; PocketA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68360" y="981000"/>
            <a:ext cx="2976480" cy="388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780000" y="1125360"/>
            <a:ext cx="489564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Mechanics &amp;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develop on desktop; test on PDA; deploy as run-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mimic PDA environment on desk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KISS – interface &amp;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Ray Cannon ut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GUI / screen-size – now multiple scre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keyboard pop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99"/>
            </a:gs>
            <a:gs pos="100000">
              <a:srgbClr val="5757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1280" y="19080"/>
            <a:ext cx="684360" cy="5302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900000" y="0"/>
            <a:ext cx="67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MEALTRACKER </a:t>
            </a: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Dietary Software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 &amp; PocketA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3097080" cy="23259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rcRect l="0" t="0" r="-182" b="0"/>
          <a:stretch/>
        </p:blipFill>
        <p:spPr>
          <a:xfrm>
            <a:off x="2700360" y="2133720"/>
            <a:ext cx="2376360" cy="28191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6156360" y="765000"/>
            <a:ext cx="2333520" cy="28386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rcRect l="0" t="0" r="0" b="1065"/>
          <a:stretch/>
        </p:blipFill>
        <p:spPr>
          <a:xfrm>
            <a:off x="6156360" y="3789360"/>
            <a:ext cx="2362320" cy="28083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 rot="1537800">
            <a:off x="1476000" y="3284640"/>
            <a:ext cx="503280" cy="504720"/>
          </a:xfrm>
          <a:prstGeom prst="rightArrow">
            <a:avLst>
              <a:gd name="adj1" fmla="val 39620"/>
              <a:gd name="adj2" fmla="val 2239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20577000">
            <a:off x="5287680" y="2892600"/>
            <a:ext cx="574560" cy="288720"/>
          </a:xfrm>
          <a:prstGeom prst="rightArrow">
            <a:avLst>
              <a:gd name="adj1" fmla="val 50000"/>
              <a:gd name="adj2" fmla="val 497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1189200">
            <a:off x="5358960" y="4245120"/>
            <a:ext cx="503280" cy="288720"/>
          </a:xfrm>
          <a:prstGeom prst="rightArrow">
            <a:avLst>
              <a:gd name="adj1" fmla="val 50000"/>
              <a:gd name="adj2" fmla="val 435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013360"/>
            <a:ext cx="2736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Two Ap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Consumption Mon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Selective Me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26920" y="3789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transfer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916200">
            <a:off x="4866840" y="5950080"/>
            <a:ext cx="1081080" cy="287280"/>
          </a:xfrm>
          <a:prstGeom prst="leftArrow">
            <a:avLst>
              <a:gd name="adj1" fmla="val 50000"/>
              <a:gd name="adj2" fmla="val 940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20522400">
            <a:off x="4858920" y="836280"/>
            <a:ext cx="1081080" cy="287280"/>
          </a:xfrm>
          <a:prstGeom prst="leftArrow">
            <a:avLst>
              <a:gd name="adj1" fmla="val 50000"/>
              <a:gd name="adj2" fmla="val 940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067280" y="5589720"/>
            <a:ext cx="187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completed transfer 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140360" y="1268280"/>
            <a:ext cx="172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completed transfer 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99"/>
            </a:gs>
            <a:gs pos="100000">
              <a:srgbClr val="5757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1280" y="19080"/>
            <a:ext cx="684360" cy="5302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900000" y="0"/>
            <a:ext cx="67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MEALTRACKER </a:t>
            </a: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Dietary Software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 &amp; PocketA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8360" y="836640"/>
            <a:ext cx="4172040" cy="55245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148360" y="981000"/>
            <a:ext cx="3600360" cy="30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Transfer File &gt; APL Arr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simple, delimite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very “table-drive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APL arrays for “table info” and “dat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temp storage of changes - room to room – APL and native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issues: size, missing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99"/>
            </a:gs>
            <a:gs pos="100000">
              <a:srgbClr val="5757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1280" y="19080"/>
            <a:ext cx="684360" cy="5302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900000" y="0"/>
            <a:ext cx="67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MEALTRACKER </a:t>
            </a: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Dietary Software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 &amp; PocketA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11280" y="765000"/>
            <a:ext cx="3097080" cy="23259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rcRect l="0" t="0" r="0" b="1065"/>
          <a:stretch/>
        </p:blipFill>
        <p:spPr>
          <a:xfrm>
            <a:off x="3780000" y="3500280"/>
            <a:ext cx="2361960" cy="2808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900000" y="3500280"/>
            <a:ext cx="2333880" cy="28386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356000" y="836640"/>
            <a:ext cx="4788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Key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major time-saving on data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ongoing incompatibility/platform iss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positive feedback / competitive 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659640" y="587700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Richard Pro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rjp@aplborealis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7T19:38:16Z</dcterms:created>
  <dc:creator>Theresa  Sauren</dc:creator>
  <dc:description/>
  <dc:language>en-US</dc:language>
  <cp:lastModifiedBy>R.Procter</cp:lastModifiedBy>
  <dcterms:modified xsi:type="dcterms:W3CDTF">2009-09-10T15:15:09Z</dcterms:modified>
  <cp:revision>78</cp:revision>
  <dc:subject/>
  <dc:title>Slide 1</dc:title>
</cp:coreProperties>
</file>