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84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90.wmf" ContentType="image/x-wmf"/>
  <Override PartName="/ppt/media/image6.wmf" ContentType="image/x-wmf"/>
  <Override PartName="/ppt/media/image66.wmf" ContentType="image/x-wmf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19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17.png" ContentType="image/png"/>
  <Override PartName="/ppt/media/image95.png" ContentType="image/png"/>
  <Override PartName="/ppt/media/image16.png" ContentType="image/png"/>
  <Override PartName="/ppt/media/image74.png" ContentType="image/png"/>
  <Override PartName="/ppt/media/image94.wmf" ContentType="image/x-wmf"/>
  <Override PartName="/ppt/media/image54.png" ContentType="image/png"/>
  <Override PartName="/ppt/media/image92.png" ContentType="image/png"/>
  <Override PartName="/ppt/media/image78.png" ContentType="image/png"/>
  <Override PartName="/ppt/media/image80.png" ContentType="image/png"/>
  <Override PartName="/ppt/media/image73.wmf" ContentType="image/x-wmf"/>
  <Override PartName="/ppt/media/image88.png" ContentType="image/png"/>
  <Override PartName="/ppt/media/image64.wmf" ContentType="image/x-wmf"/>
  <Override PartName="/ppt/media/image24.png" ContentType="image/png"/>
  <Override PartName="/ppt/media/image101.png" ContentType="image/png"/>
  <Override PartName="/ppt/media/image79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21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52.png" ContentType="image/png"/>
  <Override PartName="/ppt/media/image5.wmf" ContentType="image/x-wmf"/>
  <Override PartName="/ppt/media/image82.wmf" ContentType="image/x-wmf"/>
  <Override PartName="/ppt/media/image27.jpeg" ContentType="image/jpeg"/>
  <Override PartName="/ppt/media/image25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8868-7F9F-42AC-88F8-A380348E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C72C-6A96-4988-912D-4A850134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F01-6C2F-4818-B68B-88BA3FD0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64C-D6B3-4B9B-A076-E3E16808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BF8-CBAB-41A6-969F-850BE600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2C2-A2E5-46C5-8974-E1CFC810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A9F-32E2-44C1-BA9F-859484DF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138-6BA8-4B05-B4A5-52ADA634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FE8-86B4-4FA3-8C37-1D5AB324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3B7-4335-40B6-8D50-7A3ED0DF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928-456C-48B4-8AE2-8C5B4F50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F7FD-56FF-4698-8A92-33E3E85A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65B-3F82-4C7D-9343-89583614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C6F1-BDF3-4552-BC48-7AD1E99C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BD7-BB75-4FE6-8688-B5865D39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1DF-ADE4-49D1-BBA1-EAE54281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8EB5-BAD8-48D1-961D-B66259FE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950-00F4-4249-AA99-ECA80C47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13A-3F0A-4174-8BC4-5F9DA5E0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237C-3E10-462D-8298-1A02679E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0F3-5084-4BE6-9A98-1BB75C7B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3CCC-4047-466D-8AC1-BE040C68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1C74-8A98-4099-803C-2089AE90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C8A-D3E3-4D31-ADC5-3696BBAD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77A6-456D-45AF-BFFE-0B06405D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D8D-1586-4972-B578-15114148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C16-6F6D-49A2-A564-0043AF80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964-626F-4842-AB4B-89472E88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A406-E41C-4C82-8EDE-0AA8C0C92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2D2-A4C8-4B12-A931-4EF5D98E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084-A49F-426A-9617-E35F211B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1B1-68E0-48FF-AAB5-2FA31EF8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DB8-3C9B-4A48-B185-B4ABDC42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FE1-239A-4DA9-8C48-506F834A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61C-1BCF-4B9E-85C0-4F4BD55F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2CC-F677-457D-A5A3-6A82E29A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CCC-40E5-402B-87DE-8992F665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022-81D8-4A0F-84EF-EC33D3CB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D32-6068-4794-86A1-059949E4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8ED-FEA7-4DED-9E78-5E14192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441-629F-4D13-A536-00C731D9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5CF-D6D6-4B42-874F-1B4DB1D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7DD-9A71-4CF2-8CAF-4C8E1943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DAD-CF8C-44DA-8A34-B315423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C8A-07BA-4BB2-9807-3C2B9375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3DD-516F-47FA-B5B2-61C9A8D2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B7A-C1A2-47C8-9689-378C9E3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777-E3E3-49BE-B4CF-D942D8C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42A-D803-4A08-BCDD-5850670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A12-5E0E-40C0-8B7C-115A133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654-FBB0-48D2-A09E-4EA41184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wmf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wmf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B33-B439-4CA2-AE03-EBD96B63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500360"/>
            <a:ext cx="6400800" cy="4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AC0B-F623-45B3-9861-ED9FE21E0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AD6-81C2-4B28-8CBA-FA61CFFE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FBEB-9753-403F-8D96-16AA5A94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FE7E-5596-4072-9B7A-E67EBE4F5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57D-65ED-4410-AE8C-21609DFE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20108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0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2157480" y="3898800"/>
            <a:ext cx="792000" cy="196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28640" y="3897360"/>
            <a:ext cx="457200" cy="20808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2814480" y="367344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07B4-50F2-4BAE-8263-78E119BD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44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CD1-057C-4665-AA51-301E617E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53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DC2C-E308-45DD-99C7-ED3787DB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65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D8D-91C6-4D1B-A6CE-4DF70562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76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8E04-10A0-483F-931D-4E9B67F3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83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455-92D4-4CA5-807A-7B923317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BDE-0F5E-4679-8934-75ED2BD1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AA6-B94E-470A-BA22-A2E51472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7B43-57C0-4844-8913-6D637B2AD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133-7C6E-429D-A625-56BF55E62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DC6-0709-4915-95D9-E615F3B4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FDB-DFA4-4CA9-A81A-6D190349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370-8C5F-4933-B31C-D6BAC56D8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7F3-3886-4483-8760-98A5034D4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971D-6603-49A5-BCED-52AB0B07D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A3BB-898A-42D9-984C-7EE2866A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49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2AE-0C8F-4D79-BAE5-9F324C7F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52F-43F7-4FFD-BC70-CE315C215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5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263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0231-0D29-454A-BF76-F26D64B96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70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74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280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D43-AAA1-4877-BC54-E7DFB2DF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8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92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09D-10EF-4817-B821-FB33206EB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05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270E-18E2-4014-833E-6FB1EE8D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6853-FD21-484D-AF7E-05527198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4125960" y="2492280"/>
            <a:ext cx="49100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692-61BB-49FD-B41F-029547CC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525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BCA-DB64-480B-BD5F-FFA93663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A95-1766-4C9E-B7E8-B9CABA76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F6E-7C7E-416A-9E14-EE93F480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348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0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8CE1-99A6-447A-B2C0-4779767B7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789-3C18-4C9A-86B6-7063DF43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360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18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0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1969-A283-4BD3-B1B3-3C8C32A4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0557-317D-4E44-A4EF-611995B2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869-69B2-47C4-868B-9F8525FE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02D-426E-4C00-B3F3-2771E98FC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8064-1A2D-4DD9-8D64-0776798E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changed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2E5-A2C5-4E82-B89F-4D70FD03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3D0-C245-498B-9D54-EB3B5225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9B8-B18F-47B5-8D91-035DACEC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AD9-756B-440B-8A40-ADEC4603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CC37-113C-4FE1-8617-443F6A55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509-9C42-4BE2-9C26-8C9DFA3CB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7" descr=""/>
          <p:cNvPicPr/>
          <p:nvPr/>
        </p:nvPicPr>
        <p:blipFill>
          <a:blip r:embed="rId1"/>
          <a:stretch/>
        </p:blipFill>
        <p:spPr>
          <a:xfrm>
            <a:off x="611280" y="4086360"/>
            <a:ext cx="4333680" cy="21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6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MCj02875200000[1]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516640" y="544500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umber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5512320" y="429264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3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4F9-F583-4737-9295-B7A28353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57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ABC-AC3B-459B-A7EE-4CDCCDE6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mparing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65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BBA-D580-4B6E-984E-A61992DB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7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91FD-62F6-4013-81AF-770E7468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8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873-CFF2-4FC0-9E31-B2A0D523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9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8C2-7A8F-45C9-909B-8E45B084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00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506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4C8E-38DB-4F04-9A89-9878896C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23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class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04A-BB41-479A-8508-80E50FAB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4DF8-228F-432F-846D-78458D35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7A2-8A0A-4258-95F8-E14366A1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D63-12D1-4DB5-AB12-DB426D98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546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2E4-E473-4EBD-96F9-82B41DF0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3B8-BBF7-4E7E-A821-4E91FF7E8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6C9-275F-4A54-ABA2-BDEE1B4B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90E7-E687-4700-95A3-3163F4968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C819-BA3F-4BEC-A649-875AAFCD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6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09A-C8EB-4D35-A6F8-7EE2B810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BC0-822A-45AA-A805-42687FB3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4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862-E26F-4B2D-9A25-3B93C524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1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10D-9E26-4CB9-9E18-A6E5D0F3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06F4-40E3-4367-992F-4755CCD0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223810000[1]"/>
          <p:cNvPicPr/>
          <p:nvPr/>
        </p:nvPicPr>
        <p:blipFill>
          <a:blip r:embed="rId1"/>
          <a:stretch/>
        </p:blipFill>
        <p:spPr>
          <a:xfrm>
            <a:off x="305928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FBF-119B-4AE2-98B6-9ACF9344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6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6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6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81C-DAAA-480F-82A9-4247D81B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E871-261C-455F-9CA9-E153663D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6C19-F906-4B92-B0A7-0E9C2E19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2A9-A9BF-49EB-A7F9-4D56D76B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BCD-7EAB-4A79-831F-4D28DB3E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248-7498-43C3-BD32-9EFADE85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B8E-A5A1-432E-AE0C-51742F5F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C8D-1F12-48D6-9AB6-C80A241F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FA1-47C6-4E34-98D4-F9C6DDD5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0F1-0891-42E2-8F63-A1A194310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90" name="Oval 6"/>
          <p:cNvSpPr/>
          <p:nvPr/>
        </p:nvSpPr>
        <p:spPr>
          <a:xfrm>
            <a:off x="1967040" y="278604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FE4-B049-4260-9098-8786C736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696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04D-8149-4887-8106-CEE2336A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02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37C-BB55-408B-9808-B43D2A7AD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709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CA1-3E6A-435A-B6DE-25538E918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]?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716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0C7-7C6A-42DA-A485-5C26E569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the character ‘[‘ is catenated to the left (we must add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86DE-2960-4BD5-842B-79ACC13E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B80-A8BE-4412-826F-EE26A55D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056A-2F9F-498E-97F6-9FE2DC5C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F32-BB47-4BEE-B486-1A361A9D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499A-D071-4F23-9C13-D01C0AC6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704-0862-44F9-B3E7-A2B2FCB0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FFE0-766B-4920-BB15-B41957C4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88CB-249C-4A71-805E-0AFE3594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1CD-B73B-4D8C-BFEC-FB528EDB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F76-3A6D-4365-8385-3E1BA06C3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E74-FEC1-4B5B-A23E-77956FBE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19:45:46Z</dcterms:modified>
  <cp:revision>102</cp:revision>
  <dc:subject/>
  <dc:title>SALT in Dyalog</dc:title>
</cp:coreProperties>
</file>