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C176-9108-4CEB-97DE-105947A58D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49E8-E9AE-4589-A808-E86E738880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ADCE-9BCA-41F0-80AC-BC854A7FCE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8F12-29FD-4E8B-94A0-1313DEE2D1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DD07-B59B-42DD-A112-CA5CA7A95F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3400-12CA-44E1-AE5A-1C8BB3231C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079C-144E-4E11-ABF1-69B9E5E327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4CA7-6A9E-442B-AC4A-2559FA3268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DD1D-5EA8-4918-9825-A08110E9E5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E5DB-B64E-4930-BB09-1813D82F44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9753-E973-48E9-86E8-B04D6B3185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E5E1-A0AE-4B16-9FD6-60A6D6B4F2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E86B-DD44-4CF8-A197-0E6CEC4AC6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D944-2ED9-4DDE-82D2-505370407C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E78E-20FB-432F-9016-618FEC3A67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5374-734C-4E11-BD3D-2D60E9C2B5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50AC-8DF9-44BF-B1C5-9A247CC9A8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102E-CA98-4B5A-94A5-66E2F8519B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4648-71D7-430B-A22E-CBD87F6B65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1202-AC3C-4304-BE34-CE01200F8A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20A7-CF19-4CC0-8424-86012770DD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24F7-4338-4648-95CF-65F89DE54D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9A35-A062-46A4-AEA0-41C0A3731F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0228-09E7-49D1-AF55-229E5BDB1E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7581-C915-4DF3-95C9-54CCE1F771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1AD3-BD37-4A03-AE86-5E4C86CF99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BD69-426E-4030-B6FC-E5E30B3767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D16F-9B28-4E5E-A81A-8A50CC9F68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FBC0-71B2-4864-9C03-3A54401AD6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F858-7A26-438F-9D3F-88E19BE3D0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ACD4-F666-4DA1-8F6B-8249B19F65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C1B7-4267-4B07-AFA8-F385852EDC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7E25-3F1C-4FD8-AC00-EAA4011C05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A284-AD0B-47D1-A597-B5D628B4CF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DEB8-EC98-4B94-A638-12FD48CC6C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CF50-DD49-4921-B325-F951E5D49C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D3DE-D3DF-4834-870F-831775DAE9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6DEE-BAF2-4A6B-8137-E8FAFAB475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0A3D-1E55-410E-A34D-FD5D7B8DB8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315C-9356-4152-BB22-4FF9DAF02E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C69B-DB3C-4813-AAE1-9CE9AFCF35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4396-8315-42A1-A99F-13BE1E7744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FBE7-A513-4219-95E7-92005B352E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9A0F-BD04-4491-B58A-5BCA5B38D9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8223-9B4E-4BF6-9F2F-4942DD8202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59A-838C-4971-BBEA-7FF3DC03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789-9C3D-4BAB-945B-2E0E581A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699F54-2CF9-4622-8C4C-97A29451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15DFFC-5BDD-41A4-8B1F-0411C7A3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3186F5-ADEC-4813-9077-4B529EA6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181738-AB12-443A-A179-26643DF7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B5FCCB-87F0-4292-917E-B9191ECF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76E3BD-CB2B-45CA-AAC0-002974F7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81080C-0C4C-4C72-9B12-F578AE6B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0CA6B2-EB03-467E-8E2A-8C53F010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6EF934-ABC7-46F2-A5CB-15401D87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3DCC7-0A09-4F5B-8F95-2EAAC303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25E-A6E6-4A3A-BAE7-1C2E0BEC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28634-61F3-4614-97A9-B3AFB12A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82434-3D54-4352-BD55-EDCF146B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2AD5D-777F-4857-8E9E-7F258AFA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62A6A-4E9C-4BCE-9FDD-BC4509C4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682E4-2DFC-45E8-AECE-409ED58A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105A0-C2CC-4EC8-A3D7-841E9059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6C85B-8C94-4882-99B5-BBEC5531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794A8-FAE6-46C2-85CE-22B5D2FC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ABAEE-04AB-4C49-A92F-E7573226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1C332-9739-44F0-8B2F-0FCBF18E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F58-D930-4F81-AF13-4A038180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8287B-11B6-4C81-90DC-90035089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1BE5B-FBFC-435A-B159-F6DBF542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552EC-BB65-4B01-BD02-5971F50C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2CC15-A572-4F9F-9155-42AC5B19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D8C61-04C4-4446-A1CE-F8FF69F3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91F4B-ECC1-4B07-89DA-067F33D2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77B87-FE5A-4184-89A8-DE3750F6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5BF07-C7FF-4508-B7E9-D9857118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F7CB5-8384-4E2B-9018-AC81A3BA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F6B66-F19F-4ECC-961B-325ACEDD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E76F-1569-4BFA-9CF0-D0B0CC29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F461E-7212-4E31-88F7-77B865B8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9F421-3687-468A-BA7E-ECE9F524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98FCB-8E24-41DF-907F-08D23CF7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0E83D-551D-4F7B-8157-9A5917B4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30699-4E6D-426D-86EE-283890DA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A859D-33F9-45CE-A5DF-0C21D061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5C62D-ABF0-451E-A9CD-B7050D4E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E0770-DC77-4512-94AA-04EF26F9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E57FF-569F-4AB2-A389-844EB251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7CE31-CB24-4EE3-8EE0-E9659971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F42F-0ECA-455D-8F5A-279A9735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772F6-0F01-44A9-A3A8-DAEB8496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B9D22-3DCF-4C48-993B-09B53FC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CCA54-5718-48EB-BEB8-297D2A76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8B48A-67F8-44F6-8C81-206FEB32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47F13-BD29-4C79-91A2-E11B03C6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7E72B-20DD-4CBD-A03A-94248AB0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BFA3E-AD2B-4B50-BF8B-73210218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577BC-5C49-4BE3-B0FB-AA8E4B0E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2537A-E86F-4EA0-B4EA-DFFAC06F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E8C43-8202-4943-A74F-AF9FE2C6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2DFE-6CF8-4594-B863-956C193D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480AF-CF9F-458C-B91D-CC57E985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D095A-BA63-4C01-B980-6BE0C71F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00AB8-ED63-439A-8000-952EA4B1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C80B4-5FB7-4067-8E4D-AC95C6B6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42B8B-FF5E-47E8-B852-69D768BE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C25F9-A9D0-4A2E-8C3A-9F09EF5A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49469-9348-4487-8BFA-20EA12A2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31D8A-A48A-4423-AC3C-DB86F20E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7E7FF-A7CF-412C-BEF2-B955F0B1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6D49D-ECBB-43C8-BCD9-BCA437A6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1037-B8A9-4FD0-9AA7-A075E906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18B42-3201-4EE0-A4E7-60EEA754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6313E9-FA28-4630-A17C-1BBC0417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AAD2B-F58D-454B-9F32-7447FED1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F95B0-75A4-4009-8773-A83412A7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851EB7-D1E6-4CB0-A847-23CE256E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6FF34-3618-481B-A9AB-15A7EDF6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514E2-D4B5-4910-BB67-5548B5D4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36F4E-452B-4ADE-A162-B2527FB1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E2B48-1555-4867-81C4-7573F3B6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C024-A706-4BE2-A762-5229C21A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B6A0-C103-42C2-9B34-87FC120F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475A-8C9F-4E6B-A5E5-6EAE7AE3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BB4-68B3-4765-A7EA-9674B10E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0C22-DA83-49AE-A4BB-D660037D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E3F4-4752-498F-8218-00372D5A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327E-D13B-4EA6-A7EB-F38A4B3A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C332-077A-4078-9257-F9E49B39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2783-9F30-436B-9B6F-600E4E64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5FBF3-4E27-4EC2-9FC6-23BDEAA9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1F95-10C2-46E9-9574-8C8B077C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683C-6B58-41AF-8409-75FB9EFD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3D9B3-4C05-4C2E-9509-DE6E2113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50DB-1AEA-4128-B619-0592F7D2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F1D-CEAE-45A8-8502-89254CFE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8F91E-6F7C-4FED-8574-5801000E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9F588-6724-4F58-886E-25285B86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74CE3-FAB9-4C54-B973-76B632D2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72DC-F52D-42F0-A6FC-B6E1608C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9403-8667-4B2A-BF6B-F2356DE8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2B8B-B96A-4404-BCB4-0CDD1CDF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7C1E4-0920-4675-8F25-DBE74983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3CA0B-0D53-4FB9-A71E-C49E2488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76F2-FFD6-4B09-935B-FFEB36EA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A54C7-AD15-4A21-AA15-8E1538FF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E46-0DBC-4CCD-8C9E-91117D66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5FFB-A348-4E62-8CF7-1CE6A438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5D3C-CCA2-4012-A119-848E460C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0AB45-1041-4D52-9EFA-102E94B8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FFB0-7AA1-44A7-837F-F400003C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46D0A-06E9-41DA-ABE1-EC5FF605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F6FCE-0F6C-4284-AC8E-1EC2B660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A0D7A-ADD5-44C8-BD0D-C9C2D569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D14B4-EB2B-43E5-8B79-B8F0DB75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A8435-7E9E-47DD-8E05-FB5529DA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F4C21-7CE0-43F4-A451-2F665D82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908-EE9A-4C0D-BA48-75686D7F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E33A2-1FE3-4688-BB12-430F66B3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8B37F-4071-4C66-8103-1C975D01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3D50F-3520-4B0C-8FA4-DE87A02B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063EC-FDF2-4268-9DE1-E1245D68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F2A31-D81C-415E-9198-3157F1FB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67E9D-2E69-40C2-ABC1-DD50D967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5A6C-E858-41B8-ADDE-6DEFF3D2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ECBB3-BB9E-4C0A-A553-5744EF2B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5688E-76F6-4BB8-9F5D-29CF2EE6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F8F95-0569-450D-B4D5-79E30F39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FF8-1237-44E1-AEB8-6A3FAF18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09FD9-DAB6-4D5C-B95D-64DD42C0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353D8-8FD5-4CAF-AD32-7EBD52D3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F6EBF-69CA-413B-BB70-DC6D0EE6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28EC0-69CB-489D-93F2-287C53CB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57402-FDED-4341-945C-659654EB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721EB-9D63-46E1-9418-72447238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0B73E-4DEC-4889-9961-833158C9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46B75-1E0D-489A-95BA-13FD8BD9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CB4AE-0B2F-4536-ABF0-47099165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9BCC2-D607-4348-A3A8-C525C712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0B0-DFD1-485A-AD2D-64F96CDA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14E73-8F0C-486F-8CFB-E6755B7C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7B767-0629-4A7B-9266-38A10B64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ED410-8C4F-41A1-94BE-E53E83BC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9193A-6F8B-4DBC-9116-990632C0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EFD28-2145-48CA-98DD-7C02AEA5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19955-D951-453F-90D6-7FE6DF60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B2C5B-A313-423E-A593-58263CB1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5688A-3D14-43A5-B201-C9165188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8FB8F-8CBC-43D3-99DC-F020C526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9796D-FFB0-4A10-941A-9A835611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809-EC44-4C6F-BCBF-821CC4A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FE930-3217-4359-9ACA-070866B6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9AE3E-F77C-401C-AB64-02530773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648E5-DA3B-47C8-81DA-F4D1E0D0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AFBDF-835B-4F7A-AD3F-7010CF00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F3789-5B89-4A0B-BCF7-CCEFF5C5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33755-2F49-425D-99CA-BE3977EA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B45D6-8574-42A2-AF16-3C3E7AC4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7A783-6318-4159-9546-4917C831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19150-96DB-401B-BEB8-D3959FFB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D1BE2-6238-4B1C-B726-472053D3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2FB-DC69-4424-A5F4-5E5176A5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83A99-8A19-4AAC-9F2F-DB761C8C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1D1A0-A2AB-41C1-8C4D-0AEC6ABF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29134-2D44-42FE-AF48-C5C646D6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92D7D-B5B7-45CD-95CF-542E1ED5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913AE-2F25-4A94-9F26-E4D5E7B1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D7BC5-5AA5-4A91-A0B8-36CFDA0B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5F8B4-2F27-471B-B7D6-90205184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EC7164-0B39-4B93-BB64-0EBAEC80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CEDF01-4D02-4553-8B56-C8369091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5C6DFC-7F4F-4B8A-BFC3-D8B44226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723E-90CD-4A65-8051-B49D686AF8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1B09-C12D-4E7D-9CD4-CD06C5AA90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54A6-386A-4E3B-B9B9-C51F9AD347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5110-BC9C-4D04-B23F-BD357D88E7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25E1-0214-43B2-9B71-794AF11A41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E198-79E3-445F-919F-8C11F2488E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3151-4234-449D-9031-E4AC5ECE8E5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0B36-F1F7-41CC-B106-085D35B5FE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51C0-A0DC-4A6B-A224-16BAB190A8B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BFA6-7F4A-4A60-9D15-32F6D3748A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0C0E-BF38-4211-B75A-1FF56449FC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99CE-6139-4AEB-AE51-B5A59A68DC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1AD0-F1BA-4510-A62D-01CCB1978E6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49F8-E02F-4703-AA23-378116BF28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apps/oaserver60/ip/bin/sqsrv.dyalog" TargetMode="External"/><Relationship Id="rId2" Type="http://schemas.openxmlformats.org/officeDocument/2006/relationships/hyperlink" Target="file:///c:/apps/oaserver60/ip/bin/testdb_shares.dyalog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3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n ODBC* Driver</a:t>
            </a:r>
            <a:br>
              <a:rPr sz="4400"/>
            </a:b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or APL</a:t>
            </a:r>
            <a:br>
              <a:rPr sz="4400"/>
            </a:br>
            <a:br>
              <a:rPr sz="4400"/>
            </a:br>
            <a:r>
              <a:rPr b="1" lang="da-DK" sz="2000" spc="-1" strike="noStrike">
                <a:solidFill>
                  <a:srgbClr val="333333"/>
                </a:solidFill>
                <a:latin typeface="Geneva"/>
              </a:rPr>
              <a:t>* also ADO, ADO.NET and JDBC</a:t>
            </a:r>
            <a:endParaRPr b="1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785600" y="4143240"/>
            <a:ext cx="52578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ten Kromber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Dyalog Lt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en? How Much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333333"/>
                </a:solidFill>
                <a:latin typeface="Geneva"/>
              </a:rPr>
              <a:t>At ”Proof of Concept” Stag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9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333333"/>
                </a:solidFill>
                <a:latin typeface="Geneva"/>
              </a:rPr>
              <a:t>Significant OEM Costs if we proce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9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333333"/>
                </a:solidFill>
                <a:latin typeface="Geneva"/>
              </a:rPr>
              <a:t>Need one or two launch custom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9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333333"/>
                </a:solidFill>
                <a:latin typeface="Geneva"/>
              </a:rPr>
              <a:t>Could be available in 2010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et’s Look at The 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4A3F-DD3A-4F6D-8065-C5DE29D7D3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SQSRV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workspace contains the code for a server which listens on port 5000 and handles calls from the OA ”IP Server”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 number of namespace and class scripts are loade by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LX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, including th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RPCServer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namespa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RPCServer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is a standard Conga sample, in this case it serves up instances of th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SQSRV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class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An instance of the </a:t>
            </a:r>
            <a:r>
              <a:rPr b="0" lang="da-DK" sz="1800" spc="-1" strike="noStrike">
                <a:solidFill>
                  <a:srgbClr val="333333"/>
                </a:solidFill>
                <a:latin typeface="APL385 Unicode"/>
              </a:rPr>
              <a:t>SQSRV</a:t>
            </a: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 class is created for each connection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Calls from OA are passed to the corresponding SQSRV fn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Each instance maintains state for a connection (like the user ID, once a user logs in)</a:t>
            </a: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cripts Loaded by SQSRV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351A-6B33-4563-856E-293DB97C9A7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685800" y="1981080"/>
          <a:ext cx="7772400" cy="3337200"/>
        </p:xfrm>
        <a:graphic>
          <a:graphicData uri="http://schemas.openxmlformats.org/drawingml/2006/table">
            <a:tbl>
              <a:tblPr/>
              <a:tblGrid>
                <a:gridCol w="2457360"/>
                <a:gridCol w="5315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Class or Name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 u="sng">
                          <a:solidFill>
                            <a:srgbClr val="009999"/>
                          </a:solidFill>
                          <a:uFillTx/>
                          <a:latin typeface="Geneva"/>
                          <a:hlinkClick r:id="rId1"/>
                        </a:rPr>
                        <a:t>SQSRV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(Cla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”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Sample” containg 22 main interface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ParseTree (Cla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aps OA data to APL Class re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PassThrough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ools for handling ”PassThrough” sel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 u="sng">
                          <a:solidFill>
                            <a:srgbClr val="009999"/>
                          </a:solidFill>
                          <a:uFillTx/>
                          <a:latin typeface="Geneva"/>
                          <a:hlinkClick r:id="rId2"/>
                        </a:rPr>
                        <a:t>DataBase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he Active 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PCServer (Cla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Conga Remote Procedure Call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ODBC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ODBC-related 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Utils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General 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SALT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SALT Configuration Name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e 22 SQSRV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4AC9-EB15-4009-9392-BC8986339D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Content Placeholder 2"/>
          <p:cNvSpPr/>
          <p:nvPr/>
        </p:nvSpPr>
        <p:spPr>
          <a:xfrm>
            <a:off x="635796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NEX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Content Placeholder 2"/>
          <p:cNvSpPr/>
          <p:nvPr/>
        </p:nvSpPr>
        <p:spPr>
          <a:xfrm>
            <a:off x="342900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ASS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FIRS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NEX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Content Placeholder 2"/>
          <p:cNvSpPr/>
          <p:nvPr/>
        </p:nvSpPr>
        <p:spPr>
          <a:xfrm>
            <a:off x="71424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RANS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F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ssion &amp; Schema F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197A-91C0-431B-933E-BAA2ADD7540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Content Placeholder 2"/>
          <p:cNvSpPr/>
          <p:nvPr/>
        </p:nvSpPr>
        <p:spPr>
          <a:xfrm>
            <a:off x="6286680" y="1928880"/>
            <a:ext cx="242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NEX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Content Placeholder 2"/>
          <p:cNvSpPr/>
          <p:nvPr/>
        </p:nvSpPr>
        <p:spPr>
          <a:xfrm>
            <a:off x="342900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ASS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FIRS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NEX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Content Placeholder 2"/>
          <p:cNvSpPr/>
          <p:nvPr/>
        </p:nvSpPr>
        <p:spPr>
          <a:xfrm>
            <a:off x="71424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TRANS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TABLE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F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gi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8B4A-A733-4BF7-8E2E-B311C16E94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7"/>
          <p:cNvSpPr/>
          <p:nvPr/>
        </p:nvSpPr>
        <p:spPr>
          <a:xfrm>
            <a:off x="785880" y="1643040"/>
            <a:ext cx="750096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Geneva"/>
              </a:rPr>
              <a:t>Validates logins to a connection – can also receive a database catalog nam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Geneva"/>
              </a:rPr>
              <a:t>Initialize session based on properties specified for the Data Sou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LOGIN(DSN User Pwd Catalog IPProps IPCustPro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If User≡Pwd ⍝ // Might want a better check than this :-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0 'ok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UserID←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Log'Login accepted for user ',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1 'Invalid user/password combinatio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Log'Login failed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ransa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DF66-506A-4E57-8C96-2A5E3CD517D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7"/>
          <p:cNvSpPr/>
          <p:nvPr/>
        </p:nvSpPr>
        <p:spPr>
          <a:xfrm>
            <a:off x="785880" y="1643040"/>
            <a:ext cx="75009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Geneva"/>
              </a:rPr>
              <a:t>Starts, Commits or Rolls back a Transa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TRANSACT 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action: 0=Start, 1=Commit, 2=Rollback, 3=Prepare to Com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Log'Transaction: ',(1+1⊃action)⊃'Start' 'Commit' 'Rollback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'Prepare to Commit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0   ⍝ No problemo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Geneva"/>
              </a:rPr>
              <a:t>(The rest is left as an exercise for the rea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chemas and Catalog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646F-3251-444E-83B3-62281FE7041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Content Placeholder 8"/>
          <p:cNvSpPr/>
          <p:nvPr/>
        </p:nvSpPr>
        <p:spPr>
          <a:xfrm>
            <a:off x="3571920" y="1928880"/>
            <a:ext cx="492912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(return vars defined in DataBase script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  </a:t>
            </a: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catalogs←1 1⍴⊂'SCHEMA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  </a:t>
            </a: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schemas←2 1⍴'System' 'DYALOG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  </a:t>
            </a: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tabletypes←3 1⍴'SYSTEM TABLE' 'TABLE' 'VIEW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Content Placeholder 8"/>
          <p:cNvSpPr/>
          <p:nvPr/>
        </p:nvSpPr>
        <p:spPr>
          <a:xfrm>
            <a:off x="2857680" y="2000160"/>
            <a:ext cx="39574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9"/>
          <p:cNvSpPr/>
          <p:nvPr/>
        </p:nvSpPr>
        <p:spPr>
          <a:xfrm>
            <a:off x="857160" y="2071800"/>
            <a:ext cx="357192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List Catalogs, Schem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and Table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CATALOGS dum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DB.catalo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SCHEMAS dum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DB.sche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TABLETYPES dum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DB.table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FA4E-CF3B-4AFB-AB99-1F94EDE9E3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Box 7"/>
          <p:cNvSpPr/>
          <p:nvPr/>
        </p:nvSpPr>
        <p:spPr>
          <a:xfrm>
            <a:off x="428760" y="1643040"/>
            <a:ext cx="800100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List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TABLES 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g: Qualifier Owner Nam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0 (arg filter DB.tab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mat←arg filter mat;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Used by TABLES and COLUMNS to filter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If 0≠⍴i←(0≠⊃∘⍴¨arg)/⍳⍴arg←4↑arg,4⍴⊂'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mat←(mat[;i]∧.≡arg[i])⌿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n Database Scrip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tables←0 8⍴⍬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atalog schema   name         type    path user fnsupport rema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tables⍪←'SCHEMA' 'DYALOG' 'CUSTOMERS'  'TABLE' ''   ''   '0X0E'    'Customers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tables⍪←'SCHEMA' 'DYALOG' 'SHARES'     'TABLE' ''   ''   '0X0E'    'Shares Traded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tables⍪←'SCHEMA' 'DYALOG' 'PRICES'     'TABLE' ''   ''   '0X0E'    'Annual Share Prices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nsupport: 2=INSERT, 4=UPDATE, 8=DELETE, 0x0E=2+4+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lum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555F-7EEA-4D4E-B9F3-59C094F424B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Box 6"/>
          <p:cNvSpPr/>
          <p:nvPr/>
        </p:nvSpPr>
        <p:spPr>
          <a:xfrm>
            <a:off x="285840" y="1714680"/>
            <a:ext cx="86439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List Colum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COLUMNS 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g: Qualifier Owner Nam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0 (arg filter DB.colum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n Database Script (&amp; see Engine Programmers’ Guide page 2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olumns←0 17⍴⍬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atalog  Owner   TableName   ColumnName DataType TypeName  Length Prec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olumns⍪←'SCHEMA' 'DYALOG' 'CUSTOMERS' 'CUSTID’   4        'INTEGER'   4 10 '' 0 0 ... 1 '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olumns⍪←'SCHEMA' 'DYALOG' 'CUSTOMERS' 'CUSTNAME' 12       'VARCHAR'  32 32 '' 0 1 ... 0 '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USTOMERS←↑(1 'Jack')(2 'Jill'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  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... Radix Scale (Nullable Scope UserData Support) PseudoCol ColType Remar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Nullable: 0 = No nulls allowed, 1 = nulls allowed, 2 = unknow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olType:  1 = RowID, 2 = Row Version, Null=Normal Colum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gend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42960" y="185724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hy Would You Want One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verview of SQAPL Server Architectur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ructure of the APL Server Samp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etailed Discussion of 22 Server Funct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ogi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ata Dictionary Cal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ELECT statement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UPDATE, INSERT, DELE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ransa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3636-E0BD-4C18-A0A2-AB11746F12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tatistics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9933-6C44-4088-8FAA-145FF4EAD74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6"/>
          <p:cNvSpPr/>
          <p:nvPr/>
        </p:nvSpPr>
        <p:spPr>
          <a:xfrm>
            <a:off x="142920" y="1714680"/>
            <a:ext cx="900108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Return Database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STAT 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g: Qualifier Owner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0 (arg filter DB.sta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n Database Script (&amp; see Engine Programmers’ Guide page 2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tats←0 13⍴⍬ ⍝ Stat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ble Catalog  Owner   Name        NonUnique CatIx Name    Type Seq Colname  Co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tats⍪←'SCHEMA' 'DYALOG' 'SHARES'    0         ''    'CODE'     2 1   'CODE'   'A' 3 '' '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tats⍪←'SCHEMA' 'DYALOG' 'CUSTOMERS' 0         ''    'CUSTID'   2 1   'CUSTID' 'A' 2 '' '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                      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... Cardinality Pages Filter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ype: 0="Table Statistic", 1=Cluster, 2=Hashed, 3=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ollation: A for Ascending, D for Descending, or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ardinality: For Stat # of rows else # of unique values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trictly, Cardinality SHOULD be updated to reflect number of rows in the 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Geneva"/>
              </a:rPr>
              <a:t>NB: Filters on keys defined in stats are used as ”Optimal Filters’, see SELECT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oreign Keys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C0DD-19D1-4593-8FBA-831996A01B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6"/>
          <p:cNvSpPr/>
          <p:nvPr/>
        </p:nvSpPr>
        <p:spPr>
          <a:xfrm>
            <a:off x="285840" y="1714680"/>
            <a:ext cx="885816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Return Foreig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r←FKEY a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arg: Primary Qualifier Owner Name, Foreign Qualifier Owner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:If 0∨.≠⊃∘⍴¨arg ⋄ ∘ ⋄ :EndIf ⍝ /// Stop on fil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r←0 DB.fke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n Database Script (&amp; see Engine Programmers’ Guide page 2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keys←0 13⍴⍬ ⍝ Foreign and Private Ke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PK Cat  Schema   TblName     ColName  FK Cat   Schema   TblName     Col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keys⍪←'SCHEMA' 'DYALOG' 'SHARES'    'CODE'   ''       ''       ''          ''       1 '' '' '' ''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keys⍪←'SCHEMA' 'DYALOG' 'CUSTOMERS' 'CUSTID' ''       ''       ''          '’       1 '' '' '' ''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keys⍪←'SCHEMA' 'DYALOG' 'TRADES'    'CUSTID' 'SCHEMA' 'DYALOG' 'CUSTOMERS' 'CUSTID' 1 '' '' '' '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                                  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... Sequence UpdateRule DeleteRule FK Name PK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Geneva"/>
              </a:rPr>
              <a:t>First two rows above duplicate primary key information in Statistics 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Geneva"/>
              </a:rPr>
              <a:t>Last row defines a foreign key relationship between TRADES and CUSTOMER on CUST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Geneva"/>
              </a:rPr>
              <a:t>When joining tables without PASSTHROUGH, one query is made per unique foreign key value (else one per row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ion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7585-6339-4DD3-B836-937290F4458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Content Placeholder 2"/>
          <p:cNvSpPr/>
          <p:nvPr/>
        </p:nvSpPr>
        <p:spPr>
          <a:xfrm>
            <a:off x="6286680" y="1928880"/>
            <a:ext cx="242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NEX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Content Placeholder 2"/>
          <p:cNvSpPr/>
          <p:nvPr/>
        </p:nvSpPr>
        <p:spPr>
          <a:xfrm>
            <a:off x="342900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PASS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FIRS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NEX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Content Placeholder 2"/>
          <p:cNvSpPr/>
          <p:nvPr/>
        </p:nvSpPr>
        <p:spPr>
          <a:xfrm>
            <a:off x="71424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RANS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F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ree Selection Mod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F256-BB3B-450E-9A5A-EFADBE48AD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call is made for each table in the expression with simple filter express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ARTIAL PASSTHROUGH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return all the joined columns required to produce the result, but not necessarily completely filtered, grouped or order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MPLETE PASSTHROUGH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return the EXACT record set to be returned to the clie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ASSTHROUGH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6452-C1F3-4787-AA18-D29D4FD79A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SQAPL Server allows ”Selective Passthrough”, which means that the function PASSTHROUGH is always call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is given a ”ParseTree” which describes the statement being execut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fter examining the tree, it can declare whether it wants to fall back to SELECT mo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LECT is very easy; PASSTHROUGH allows optimization, especially for JOI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QUERY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6804-29DF-48F6-BD6A-B5CFEDFB9E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Box 6"/>
          <p:cNvSpPr/>
          <p:nvPr/>
        </p:nvSpPr>
        <p:spPr>
          <a:xfrm>
            <a:off x="0" y="2000160"/>
            <a:ext cx="8858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</a:rPr>
              <a:t>SQL: select * from customers where custid &gt; 0 and custname like 'J%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[SelectQuery]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HighestRows: ¯1  HighestPctRows:   0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bles:  customers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ValueExpr   [ValExpList]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[ValExp]    [Value]  [Column] CUSTID (# 0 in Table# 0)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[ValExp]    [Value]  [Column] CUSTNAME (# 1 in Table# 0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earchExpr     [LogExp]     [LogExp]     [Cond]      [ValExp]    [Value]  [Column] cust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(# 0 in Table# 0)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&gt;            [ValExp]    [Value]   LIT  4 0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nd    [LogExp]     [Cond]             [ValExp]    [Value]  [Column] cust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(# 1 in Table# 0)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#.ParseTree.Like    [ValExp]    [Value]   LIT  12  J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Query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C6E2-0D87-47DE-A294-817EC95C54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Box 6"/>
          <p:cNvSpPr/>
          <p:nvPr/>
        </p:nvSpPr>
        <p:spPr>
          <a:xfrm>
            <a:off x="214200" y="1785960"/>
            <a:ext cx="871560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Parse Trees arrive from the IP in the form of a deeply nested array. This array is conver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an instance of the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SelectQuery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class by the function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ParseTree.New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Properties of a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SelectQuery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etQuantifie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Whether to remove duplicate 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HighestRows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Number of rows in TOP cla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HighestPctRows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If TRUE, number in HighestRows was specified as (TOP n PERC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Value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n object describing the values extracted by the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Tables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 TableList – tables involved in the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earch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 LogExp object describing the filter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GroupVal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 ValueExpList - Group By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Having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 LogExp – the “Having”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UnionType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If “true”, do not check for duplicate records in 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UnionQuery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nother SelectQuery object if there is a UNION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Order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n OrderLi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See the </a:t>
            </a:r>
            <a:r>
              <a:rPr b="0" lang="da-DK" sz="1800" spc="-1" strike="noStrike">
                <a:solidFill>
                  <a:srgbClr val="000000"/>
                </a:solidFill>
                <a:latin typeface="APL385 Unicode"/>
              </a:rPr>
              <a:t>ParseTree</a:t>
            </a: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 class for more information about other object 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assThrough Deci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22B2-7A2B-40AC-975A-A69CFACDE7F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Box 6"/>
          <p:cNvSpPr/>
          <p:nvPr/>
        </p:nvSpPr>
        <p:spPr>
          <a:xfrm>
            <a:off x="142920" y="1643040"/>
            <a:ext cx="885816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PassThrough support is implemented in th PassThrough namesp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The function </a:t>
            </a:r>
            <a:r>
              <a:rPr b="0" lang="da-DK" sz="1800" spc="-1" strike="noStrike">
                <a:solidFill>
                  <a:srgbClr val="000000"/>
                </a:solidFill>
                <a:latin typeface="APL385 Unicode"/>
              </a:rPr>
              <a:t>PassThrough.Check</a:t>
            </a: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 contains the following log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If ok←#.ParseTree.SelectQuery=⊃⎕CLASS Query     ⍝ It’s a SELECT 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ndIf ok←1=⍴table←Query.Tables.Items.Name       ⍝ On a sing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ble←#.Utils.ucase⊃table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blecols←(DB.columns[;3]∊⊂table)⌿DB.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ndIf ok←∧/(Query.ValueExpr.Items).Type∊⊂'Value'            ⍝ Only Value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ndIf ok←∧/(cols←Query.ValueExpr.Items.Arg1).Type∊⊂'Column' ⍝ Which extract 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ndIf ok←∧/(1↑⍴tablecols)≥colix←tablecols[;4]⍳#.Utils.ucase¨cols.Data.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lan←(Query.Tables.Items[1])cols.Data 0 ⍝ Tables, Columns, 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If Query.SearchExpr≢0                  ⍝ There is a Search 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ok←0≢(3⊃Plan)←JITSearch Query.SearchExpr </a:t>
            </a:r>
            <a:br>
              <a:rPr sz="1200"/>
            </a:b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⍝ Compile query and store in 3rd element of ”pl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In other wor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When handing SELECT statements, the sample code will execute the query in PassThrough mode if is is simply selecting columns from a single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IRSTBLOCK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(NEXTBLOCK)</a:t>
            </a:r>
            <a:endParaRPr b="1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2372-2899-46E7-8A72-0798ABB11D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If PASSTHROUGH was selected, the next call from the IP will be FIRSTBLOCK.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The arguments are: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hStmt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Statement Handle (not really used in POC, possibly useful later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BlockSize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Block size (ignored in POC, ALL records are returned by FIRSTBLOCK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ParseTree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The same type of object passed to PASSTHROUGH</a:t>
            </a:r>
            <a:br>
              <a:rPr sz="1400"/>
            </a:b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but with bind variable values inserted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Two types of result are possible: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Final</a:t>
            </a: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The result should be passed unchanged to the ODBC client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BaseCols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All columns required to produce the result are included, containing joined data,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but  OA framework will do final filtering, grouping and ordering if required.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IRSTBLOCK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45CC-1D82-4FC2-9943-AB50CD75B09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Box 6"/>
          <p:cNvSpPr/>
          <p:nvPr/>
        </p:nvSpPr>
        <p:spPr>
          <a:xfrm>
            <a:off x="357120" y="1785960"/>
            <a:ext cx="84297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FIRSTBLOCK(hStmt BlockSize ParseTree);ExecPlan;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alled following a PASSTHROUGH result of 1 (else call SEL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eturns (Mode Cols Data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ode=1: Final result, ready to 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ode=2: Base cols only, OA Server will filter, order,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Requires 2 extra output cols: FullColName, Table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s  : [;1] ColName, [;2] ColNum, [;3] XOType [;4] Col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and in mode 2 also [;5] FullColName, [;6] Table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  : One vector for each column of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[mo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at is i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42960" y="185724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SQAPL Server allows an APL Application to appear to be a Relational Databas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o clients supporting ODBC, JDBC, ADO[.NET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uilt on the OpenAccess Server from DataDir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raps the OA API in a form which is easy to use for APL Develop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minimal implementation only requires modifying a handful of simple APL sample f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4DB0-D8CA-41F2-B8FA-F35BF1B76D1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IRSTBLOCK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F561-6AD7-4B81-A8C0-26318D28860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Box 8"/>
          <p:cNvSpPr/>
          <p:nvPr/>
        </p:nvSpPr>
        <p:spPr>
          <a:xfrm>
            <a:off x="428760" y="2000160"/>
            <a:ext cx="83581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FIRSTBLOCK(hStmt BlockSize ParseTree);ExecPlan;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[continued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Query←#.ParseTree.New Parse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 ExecPlan←#.PassThrough.Check DB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If r=0 ⋄ ∘ ⋄ :EndIf  ⍝ Parano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Hold 'DataBas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B.Prepare 1 Query.Tables.Items.Name Query.SearchExpr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⍝ Give DB a chance to prepa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#.PassThrough.Execute DB ExecPlan                   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⍝ Execute the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nd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E617-B66C-4F4C-8D68-59B1CE049B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Box 6"/>
          <p:cNvSpPr/>
          <p:nvPr/>
        </p:nvSpPr>
        <p:spPr>
          <a:xfrm>
            <a:off x="642960" y="1714680"/>
            <a:ext cx="8358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f PASSTHROUGH was REJECTED, the IP will call SELECT one or more tim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UBSELECT(hStmt Table Columns OptIndex);tab;data;m;i;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alled if PASSTHROUGH is REJ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ar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umns - 5 column matri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1: Column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2: Column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3: Column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4: Column Type (select w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5: Restriction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Optimal Index (Vector of Restriction Li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Restrict List is a Vector of Restrictions to be 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    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Column Name, LeftFn, LeftVal, RightFn, Right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mo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7305-A0A2-43A0-94E3-4E5D77F646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Box 6"/>
          <p:cNvSpPr/>
          <p:nvPr/>
        </p:nvSpPr>
        <p:spPr>
          <a:xfrm>
            <a:off x="642960" y="1714680"/>
            <a:ext cx="8358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f PASSTHROUGH was REJECTED, the IP will call SELECT one or more tim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UBSELECT(hStmt Table Columns OptIndex);tab;data;m;i;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alled if PASSTHROUGH is REJ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ar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umns - 5 column matri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1: Column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2: Column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3: Column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4: Column Type (select w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5: Restriction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Optimal Index (Vector of Restriction Li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Restrict List is a Vector of Restrictions to be 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    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Column Name, LeftFn, LeftVal, RightFn, Right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mo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EDAD-6861-43F6-AD89-DF45D643E6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Box 6"/>
          <p:cNvSpPr/>
          <p:nvPr/>
        </p:nvSpPr>
        <p:spPr>
          <a:xfrm>
            <a:off x="642960" y="1714680"/>
            <a:ext cx="8358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UBSELECT(hStmt Table Columns OptIndex) [continued...] 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Retur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1: Condition Code   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2: nx4 Column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1: Column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2: Column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3: Column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4: Column Type (select w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3: Vector of column data (length=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Numbers as simple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hars as nested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ime, Date, DateTime as numeric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4: Vector of row indices for use by 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            SELECTUPDATE &amp; SELECTDE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In POC, returns all rows at once. 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Later, "Fetch" will collect mo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return "success with pending result") 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mo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 Example: Inp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1151-F9CB-4E64-8641-7B63EEF107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Box 6"/>
          <p:cNvSpPr/>
          <p:nvPr/>
        </p:nvSpPr>
        <p:spPr>
          <a:xfrm>
            <a:off x="642960" y="1714680"/>
            <a:ext cx="835812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</a:rPr>
              <a:t>select * from customers where custid &gt; 0 and custname like 'J%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OptIndex: ┌→─────────────────────────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┌→─────────────────────┐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┌→─────────────────┐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│ ┌→─────┐        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ustid│ 4 0 0 0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│ └──────┘        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└∊─────────────────┘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└∊─────────────────────┘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└∊─────────────────────────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olumns:  ┌→────────────────────────────────────────────────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↓ ┌→─────┐          ┌⊖┐                          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USTID│   0 4  3 │0│                          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└──────┘          └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~┘                          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┌→───────┐        ┌→──────────────────────────┐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USTNAME│ 1 12 3 │ ┌→──────────────────────┐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└────────┘        │ │ ┌→───────┐   ┌→─┐    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                  │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ustname│ 8 │J%│ 0 0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                  │ │ └────────┘   └──┘    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                  │ └∊──────────────────────┘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                  └∊──────────────────────────┘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└∊────────────────────────────────────────────────┘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H="1">
            <a:off x="2642760" y="1927800"/>
            <a:ext cx="929520" cy="7866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782" name="Straight Arrow Connector 12"/>
          <p:cNvCxnSpPr/>
          <p:nvPr/>
        </p:nvCxnSpPr>
        <p:spPr>
          <a:xfrm flipH="1">
            <a:off x="3142800" y="1928880"/>
            <a:ext cx="1000800" cy="9295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783" name="Straight Arrow Connector 16"/>
          <p:cNvCxnSpPr/>
          <p:nvPr/>
        </p:nvCxnSpPr>
        <p:spPr>
          <a:xfrm flipH="1">
            <a:off x="3357360" y="1928880"/>
            <a:ext cx="1000800" cy="9295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784" name="Straight Arrow Connector 19"/>
          <p:cNvCxnSpPr/>
          <p:nvPr/>
        </p:nvCxnSpPr>
        <p:spPr>
          <a:xfrm flipH="1">
            <a:off x="5428800" y="2000160"/>
            <a:ext cx="929520" cy="31442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785" name="Straight Arrow Connector 22"/>
          <p:cNvCxnSpPr/>
          <p:nvPr/>
        </p:nvCxnSpPr>
        <p:spPr>
          <a:xfrm flipH="1">
            <a:off x="4928760" y="2000160"/>
            <a:ext cx="929520" cy="32155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786" name="Straight Arrow Connector 25"/>
          <p:cNvCxnSpPr/>
          <p:nvPr/>
        </p:nvCxnSpPr>
        <p:spPr>
          <a:xfrm flipH="1">
            <a:off x="4357080" y="2000160"/>
            <a:ext cx="857880" cy="31442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 Example: Outp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3CE1-68DC-489F-BA8E-9CD7E8D248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Box 6"/>
          <p:cNvSpPr/>
          <p:nvPr/>
        </p:nvSpPr>
        <p:spPr>
          <a:xfrm>
            <a:off x="642960" y="1714680"/>
            <a:ext cx="8358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</a:rPr>
              <a:t>select * from customers where custid&gt;0 and custname like ''J%'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Data:  ┌→────────────────────────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┌→──┐ ┌→──────────────┐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1 2│ │ ┌→───┐ ┌→───┐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└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~──┘ │ │Jack│ │Jill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      │ └────┘ └────┘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      └∊──────────────┘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└∊────────────────────────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owIx: ┌→──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1 2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└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~──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owIx</a:t>
            </a:r>
            <a:r>
              <a:rPr b="0" lang="da-DK" sz="1200" spc="-1" strike="noStrike">
                <a:solidFill>
                  <a:srgbClr val="000000"/>
                </a:solidFill>
                <a:latin typeface="Geneva"/>
              </a:rPr>
              <a:t> is used by UPDATE and DE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 - Continue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77CB-E8C1-4407-B0FD-DEFB25AC53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642960" y="1714680"/>
            <a:ext cx="8358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UBSELECT(hStmt Table Columns OptInde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[continued...]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←DB⍎ucas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tab[;1+Columns[;2]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(m←data ExecRestrictions OptIndex)⌿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m/m)←m2←data ExecRestrictions (0≠⊃∘⍴¨Columns[;5])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umns[;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m2⌿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owix←m/⍳⍴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↓[1]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Columns[;3]∊9 10 11 ⍝ Time, Date, Dat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m/data)←↑¨m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0(4↑[2]Columns)data row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Executing Restri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D63E-FAF0-46B1-9168-A0555C9565A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Box 6"/>
          <p:cNvSpPr/>
          <p:nvPr/>
        </p:nvSpPr>
        <p:spPr>
          <a:xfrm>
            <a:off x="642960" y="1714680"/>
            <a:ext cx="8358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ExecRestriction(Cols Data Restrictions)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cols lfns lvals rfns rvals)←↓[1]↑Restr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i←Cols[;1]⍳⊂ucase⊃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For j :In ⍳⍴lf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fn←⍎#.ParseTree.CondFn j⊃lf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sk←Data[;i] fn lvals[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If 0≠j⊃rfns ⍝ If there is a ”right fn” (eg Betwe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fn←⍎#.ParseTree.CondFn j⊃rf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sk←Data[;i] fn rvals[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∨←m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nd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#.ParseTree.CondFn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converts fn numbers into APL code fragments (eg 8 = Lik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C632-6EF7-4701-8DC3-3D7D06336D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Box 6"/>
          <p:cNvSpPr/>
          <p:nvPr/>
        </p:nvSpPr>
        <p:spPr>
          <a:xfrm>
            <a:off x="642960" y="1714680"/>
            <a:ext cx="8358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ELECTUPDATE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SelectedRows←4⊃r←SUBSELECT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3↑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UPDATEROWS(hStmt tablename cols rowix data nul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name←ucase tabl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cols[;3]Cast¨data ⍝ Ensure correct APL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⍎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'DB.',tablename,'[',(⍕SelectedRows[1+rowix]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';',(⍕1+cols[;2]),']←dat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0(⍴rowix) ⍝ Return number of rows aff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APL385 Unicode"/>
              </a:rPr>
              <a:t>ToDo: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SelectedRows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needs to be stored ”per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hStmt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owIx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is also not thread safe: Need unique row ident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0CC0-D97C-4A5F-A178-9BE1ADFDCAD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6"/>
          <p:cNvSpPr/>
          <p:nvPr/>
        </p:nvSpPr>
        <p:spPr>
          <a:xfrm>
            <a:off x="642960" y="1714680"/>
            <a:ext cx="8358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ELECTDELETE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SelectedRows←4⊃r←SUBSELECT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3↑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DELETEROWS(hStmt tablename rowix);data;m;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name←ucase tabl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~(⍳1↑⍴data←⍎t←'DB.',tablename)∊SelectedRows[1+rowix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⍎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'DB.',tablename,'←m⌿data' ⍝ Compress rows out of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0(⍴row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APL385 Unicode"/>
              </a:rPr>
              <a:t>ToDo: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S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at Does it Do?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llows an APL application to appear to be an RDBMS, with a minimum of effor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ovides 100% complete and standard SQL language support without re-implementing SQL in the applic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upports SELECT, INSERT, UPDATE, DELETE, DDL, Stored Procedures and Bulk Insert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erver-side comms uses TCP/IP sockets (Conga) for easy scalability and a robust architectur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INSER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B0FC-C5B6-4698-BB52-BEC33524C1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Box 6"/>
          <p:cNvSpPr/>
          <p:nvPr/>
        </p:nvSpPr>
        <p:spPr>
          <a:xfrm>
            <a:off x="642960" y="1714680"/>
            <a:ext cx="8358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INSERT(hStmt tablename cols data nulls);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name←ucase tabl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Create Empty rows with right types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ow←((1↑⍴data),⍴row)⍴row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(DB.columns[;3]∊⊂tablename)⌿DB.columns[;5])Cast¨⊂'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Fill with data actually provi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ow[;1+cols[;2]]←((⍴data)⍴cols[;3])Cast¨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⍎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'DB.',tablename,'⍪←row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0(1↑⍴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APL385 Unicode"/>
              </a:rPr>
              <a:t>ToDo: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Nothing </a:t>
            </a:r>
            <a:r>
              <a:rPr b="0" lang="da-DK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tored Proced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D89A-3FF7-41A0-9734-C2AC8DB85AD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Content Placeholder 2"/>
          <p:cNvSpPr/>
          <p:nvPr/>
        </p:nvSpPr>
        <p:spPr>
          <a:xfrm>
            <a:off x="6286680" y="1928880"/>
            <a:ext cx="242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PROC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NEX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Content Placeholder 2"/>
          <p:cNvSpPr/>
          <p:nvPr/>
        </p:nvSpPr>
        <p:spPr>
          <a:xfrm>
            <a:off x="342900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PASS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FIRS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NEX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Content Placeholder 2"/>
          <p:cNvSpPr/>
          <p:nvPr/>
        </p:nvSpPr>
        <p:spPr>
          <a:xfrm>
            <a:off x="71424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RANS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F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tored Procedure Setup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0A76-1830-4018-8325-7325824F0F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Box 6"/>
          <p:cNvSpPr/>
          <p:nvPr/>
        </p:nvSpPr>
        <p:spPr>
          <a:xfrm>
            <a:off x="642960" y="1714680"/>
            <a:ext cx="83581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PROC and PROCCOLS return schema inform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s←0 9⍴⍬ ⍝ Stored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s⍪←'SCHEMA' 'DYALOG' 'SetTaxRate'        1 0 0 'Set Global Interest Rate' '1' '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←0 14⍴⍬ ⍝ Stored Procedure 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⍪←'SCHEMA' 'DYALOG' 'SetTaxRate' 'Rate'    1  4 'INTEGER'  10   4 ¯1 ¯1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⍪←'SCHEMA' 'DYALOG' 'SetTaxRate' 'Message' 3 12 'VARCHAR' 255 255 ¯1 ¯1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xRate←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SetTaxRate(Data Nu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,⊂,⊂'Tax Rate set to ',(⍕⊃Data),' - was ',⍕Tax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xRate←⊃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rocedure Execu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14F3-4BCF-466C-AF43-AD2E932D7F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Box 6"/>
          <p:cNvSpPr/>
          <p:nvPr/>
        </p:nvSpPr>
        <p:spPr>
          <a:xfrm>
            <a:off x="642960" y="1714680"/>
            <a:ext cx="8358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PROCEDURE(hStmt Name Cols Data Nulls);i;fn;m;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ake a Stored Procedure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i←(ucase¨DB.procs[;3])⍳⊂ucase lastproc←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If (1↑⍴DB.procs)&lt;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OrIf 3≠DB.⎕NC fn←⊃DB.procs[i;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6 'Unknown stored procedure: ',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DB.proccols[;3]∊⊂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s←m⌿DB.proc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s←(cols[;5]=3)⌿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3 cols ((DB⍎fn) Data Nul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Result Type 3 means a stored procedure result (vector or ve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tored Procedure Setup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8E97-403C-44BC-9A46-7CFB5C4863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6"/>
          <p:cNvSpPr/>
          <p:nvPr/>
        </p:nvSpPr>
        <p:spPr>
          <a:xfrm>
            <a:off x="642960" y="1714680"/>
            <a:ext cx="83581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PROC and PROCCOLS return schema inform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s←0 9⍴⍬ ⍝ Stored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s⍪←'SCHEMA' 'DYALOG' 'SetTaxRate'        1 0 0 'Set Global Interest Rate' '1' '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←0 14⍴⍬ ⍝ Stored Procedure 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⍪←'SCHEMA' 'DYALOG' 'SetTaxRate' 'Rate'    1  4 'INTEGER'  10   4 ¯1 ¯1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⍪←'SCHEMA' 'DYALOG' 'SetTaxRate' 'Message' 3 12 'VARCHAR' 255 255 ¯1 ¯1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xRate←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SetTaxRate(Data Nu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,⊂,⊂'Tax Rate set to ',(⍕⊃Data),' - was ',⍕Tax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xRate←⊃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y Would You Want One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ny APL application data which can be described as a table can quickly be exposed to almost any client application with minimal effort, enabling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Reporting Applications using e.g. Crystal Reports, Exc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Writing Custom Front-Ends easily in any Languag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You can serve up Live Data, an do not depend on exports having been (planned and) successfully ru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ata can be exposed to external applications while maintaining application integrity checks, locks et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ime for a Demo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emo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MS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MS Exc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Run the Simple QA Suit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QAPL Server Archite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4" name="TextBox 8"/>
          <p:cNvSpPr/>
          <p:nvPr/>
        </p:nvSpPr>
        <p:spPr>
          <a:xfrm>
            <a:off x="1357200" y="4572000"/>
            <a:ext cx="192888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ODBC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Box 9"/>
          <p:cNvSpPr/>
          <p:nvPr/>
        </p:nvSpPr>
        <p:spPr>
          <a:xfrm>
            <a:off x="3500280" y="3571920"/>
            <a:ext cx="192888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Geneva"/>
              </a:rPr>
              <a:t>OA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3500280" y="3000240"/>
            <a:ext cx="1928880" cy="6426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SQAPL SRV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”IP Provider”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11"/>
          <p:cNvSpPr/>
          <p:nvPr/>
        </p:nvSpPr>
        <p:spPr>
          <a:xfrm>
            <a:off x="428760" y="5214960"/>
            <a:ext cx="192852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MS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12"/>
          <p:cNvSpPr/>
          <p:nvPr/>
        </p:nvSpPr>
        <p:spPr>
          <a:xfrm>
            <a:off x="2571840" y="5214960"/>
            <a:ext cx="192888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MS Ex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214200" y="5643720"/>
            <a:ext cx="192888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Crystal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4"/>
          <p:cNvSpPr/>
          <p:nvPr/>
        </p:nvSpPr>
        <p:spPr>
          <a:xfrm>
            <a:off x="4714920" y="5214960"/>
            <a:ext cx="1928880" cy="45972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VB/C++/C#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6"/>
          <p:cNvSpPr/>
          <p:nvPr/>
        </p:nvSpPr>
        <p:spPr>
          <a:xfrm>
            <a:off x="5072040" y="5643720"/>
            <a:ext cx="1928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Dy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17"/>
          <p:cNvSpPr/>
          <p:nvPr/>
        </p:nvSpPr>
        <p:spPr>
          <a:xfrm>
            <a:off x="3500280" y="4572000"/>
            <a:ext cx="192888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ADO / ADO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18"/>
          <p:cNvSpPr/>
          <p:nvPr/>
        </p:nvSpPr>
        <p:spPr>
          <a:xfrm>
            <a:off x="6786720" y="4572000"/>
            <a:ext cx="192852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JDBC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19"/>
          <p:cNvSpPr/>
          <p:nvPr/>
        </p:nvSpPr>
        <p:spPr>
          <a:xfrm>
            <a:off x="7072200" y="5214960"/>
            <a:ext cx="192888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Java A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Straight Arrow Connector 21"/>
          <p:cNvCxnSpPr/>
          <p:nvPr/>
        </p:nvCxnSpPr>
        <p:spPr>
          <a:xfrm flipV="1">
            <a:off x="2571840" y="3929040"/>
            <a:ext cx="1286640" cy="6433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26" name="Straight Arrow Connector 24"/>
          <p:cNvCxnSpPr/>
          <p:nvPr/>
        </p:nvCxnSpPr>
        <p:spPr>
          <a:xfrm flipV="1">
            <a:off x="4284720" y="3928680"/>
            <a:ext cx="2160" cy="6451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27" name="Straight Arrow Connector 28"/>
          <p:cNvCxnSpPr/>
          <p:nvPr/>
        </p:nvCxnSpPr>
        <p:spPr>
          <a:xfrm flipH="1" flipV="1">
            <a:off x="4928400" y="3929040"/>
            <a:ext cx="2429640" cy="6433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28" name="Straight Arrow Connector 31"/>
          <p:cNvCxnSpPr/>
          <p:nvPr/>
        </p:nvCxnSpPr>
        <p:spPr>
          <a:xfrm flipV="1">
            <a:off x="2000160" y="4928760"/>
            <a:ext cx="21528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Straight Arrow Connector 35"/>
          <p:cNvCxnSpPr/>
          <p:nvPr/>
        </p:nvCxnSpPr>
        <p:spPr>
          <a:xfrm flipH="1" flipV="1">
            <a:off x="2785320" y="4928760"/>
            <a:ext cx="14364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0" name="TextBox 38"/>
          <p:cNvSpPr/>
          <p:nvPr/>
        </p:nvSpPr>
        <p:spPr>
          <a:xfrm>
            <a:off x="2357280" y="5643720"/>
            <a:ext cx="192888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1" name="Straight Arrow Connector 39"/>
          <p:cNvCxnSpPr/>
          <p:nvPr/>
        </p:nvCxnSpPr>
        <p:spPr>
          <a:xfrm flipH="1" flipV="1">
            <a:off x="4928400" y="4928760"/>
            <a:ext cx="14364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2" name="Straight Arrow Connector 40"/>
          <p:cNvCxnSpPr/>
          <p:nvPr/>
        </p:nvCxnSpPr>
        <p:spPr>
          <a:xfrm flipH="1" flipV="1">
            <a:off x="7643160" y="4928760"/>
            <a:ext cx="14364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3" name="TextBox 41"/>
          <p:cNvSpPr/>
          <p:nvPr/>
        </p:nvSpPr>
        <p:spPr>
          <a:xfrm>
            <a:off x="1357200" y="2143080"/>
            <a:ext cx="192888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45"/>
          <p:cNvSpPr/>
          <p:nvPr/>
        </p:nvSpPr>
        <p:spPr>
          <a:xfrm>
            <a:off x="2928960" y="1928880"/>
            <a:ext cx="192888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46"/>
          <p:cNvSpPr/>
          <p:nvPr/>
        </p:nvSpPr>
        <p:spPr>
          <a:xfrm>
            <a:off x="4357800" y="1785960"/>
            <a:ext cx="192888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47"/>
          <p:cNvSpPr/>
          <p:nvPr/>
        </p:nvSpPr>
        <p:spPr>
          <a:xfrm>
            <a:off x="5643720" y="1643040"/>
            <a:ext cx="192852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Straight Arrow Connector 48"/>
          <p:cNvCxnSpPr/>
          <p:nvPr/>
        </p:nvCxnSpPr>
        <p:spPr>
          <a:xfrm flipH="1" flipV="1">
            <a:off x="2857320" y="2499480"/>
            <a:ext cx="1000800" cy="5007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38" name="Straight Arrow Connector 50"/>
          <p:cNvCxnSpPr>
            <a:endCxn id="634" idx="2"/>
          </p:cNvCxnSpPr>
          <p:nvPr/>
        </p:nvCxnSpPr>
        <p:spPr>
          <a:xfrm flipH="1" flipV="1">
            <a:off x="3893760" y="2390040"/>
            <a:ext cx="249840" cy="6102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39" name="Straight Arrow Connector 53"/>
          <p:cNvCxnSpPr>
            <a:stCxn id="616" idx="0"/>
          </p:cNvCxnSpPr>
          <p:nvPr/>
        </p:nvCxnSpPr>
        <p:spPr>
          <a:xfrm flipV="1">
            <a:off x="4464720" y="2071080"/>
            <a:ext cx="678600" cy="9291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40" name="Straight Arrow Connector 55"/>
          <p:cNvCxnSpPr/>
          <p:nvPr/>
        </p:nvCxnSpPr>
        <p:spPr>
          <a:xfrm flipV="1">
            <a:off x="5000760" y="1999800"/>
            <a:ext cx="1823040" cy="10008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641" name="TextBox 60"/>
          <p:cNvSpPr/>
          <p:nvPr/>
        </p:nvSpPr>
        <p:spPr>
          <a:xfrm>
            <a:off x="6143760" y="39290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b050"/>
                </a:solidFill>
                <a:latin typeface="Geneva"/>
              </a:rPr>
              <a:t>DataDirect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61"/>
          <p:cNvSpPr/>
          <p:nvPr/>
        </p:nvSpPr>
        <p:spPr>
          <a:xfrm>
            <a:off x="6215040" y="2357280"/>
            <a:ext cx="23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c000"/>
                </a:solidFill>
                <a:latin typeface="Geneva"/>
              </a:rPr>
              <a:t>Dyalog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62"/>
          <p:cNvSpPr/>
          <p:nvPr/>
        </p:nvSpPr>
        <p:spPr>
          <a:xfrm>
            <a:off x="1597680" y="271476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7030a0"/>
                </a:solidFill>
                <a:latin typeface="Geneva"/>
              </a:rPr>
              <a:t>TCP So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mpon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13880" y="1857240"/>
            <a:ext cx="821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Client Application (Crystal, Access, VBA...) makes ODBC cal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DBC(ADO/JDBC) driver transfers information to the “OA Service” or “Interface Provider” (IP)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yalog’s IP (oadamipdyalog) manages connections and data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ne Conga connection per ODBC Connec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ranslates SQL into “Parse Trees” or (on request) makes simple selections on each table involved in a quer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Buffers data so APL app only deals in array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SQSRV workspace contains code which listens on port 5000 and has fns which map 1:1 to operations requested by the IP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A Agent (oaagent) is used to start &amp; stop services via Command Line tool (oacla) but is not involved in sess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08E0-AE34-4203-8A20-6B52BBFD064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ystem 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lients and Server can run under Windows, Linux, AIX (any Dyalog platform except Windows Mobil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lients can support ODBC, ADO, ADO.NET or JDBC – almost any platfor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22:41:42Z</dcterms:created>
  <dc:creator>Gitte Christensen</dc:creator>
  <dc:description/>
  <dc:language>en-US</dc:language>
  <cp:lastModifiedBy>Windows User</cp:lastModifiedBy>
  <dcterms:modified xsi:type="dcterms:W3CDTF">2009-09-15T12:00:19Z</dcterms:modified>
  <cp:revision>883</cp:revision>
  <dc:subject/>
  <dc:title>Rolling the Process</dc:title>
</cp:coreProperties>
</file>