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6EFF-D977-4BB7-B3DE-3F7C4D746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3E21-454E-4A7C-9059-FCD7A48ED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2AF7-7AC6-4E46-8D9E-B58F54089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 of the class is un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2BFE-E1AD-4E5A-93AE-7A93EDC8D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84D9-CD25-4273-8282-EAB79B11E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generate general help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846C-BA73-4E7E-B2F5-DE059AD9D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AAB9-EC23-4E88-A649-2E63E4288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E98D-8AE5-4855-8022-C66A21037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8F1E-7903-4E64-8A87-46844CB0F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5DCD-02C4-4045-9E71-E5647A4F3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FABC-6704-429B-91E2-43EFBFFB7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E900-3E5E-4BFA-A5B7-34EC431B8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ny ways it is like Users Commands in APL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38BF-FFB1-49A4-B6BD-261E05DC6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1130-D8C6-4169-9B04-3804B2855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1490-BE1D-4AA2-BA1A-8244198AD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6CEB-9ED4-4D88-855C-ADF5C60E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B81B-ED2D-4D65-9F37-A3790BD0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7DC-5C5C-4680-9D4A-ABC82451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0DAF-6EFA-431E-BBAD-C99EC995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AE0D-A775-469E-94BC-9622DF43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F927-E459-464C-830B-6C6F05DC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CD8B-CDAD-4E51-9145-8A662E7B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4D1D-0E8F-4359-8ABC-6994439A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ED5-AB37-4E9D-897B-5DF001E1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CCC7-DF49-46D2-9BB7-060129FA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B04E-A081-43F3-988F-B26E51E1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7F6B-A735-4888-BF09-D1121ED3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24000" y="6381360"/>
            <a:ext cx="22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D8B0-BBB0-4037-8A5E-A72695531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99">
                    <a:alpha val="41000"/>
                  </a:srgbClr>
                </a:solidFill>
                <a:latin typeface="Arial Black"/>
              </a:rPr>
              <a:t>SPICE</a:t>
            </a:r>
            <a:endParaRPr b="0" lang="en-US" sz="1800" spc="1" strike="noStrike">
              <a:ln w="0">
                <a:noFill/>
              </a:ln>
              <a:solidFill>
                <a:srgbClr val="ffff99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Book Antiqua"/>
              </a:rPr>
              <a:t>Spice</a:t>
            </a: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Book Antiqua"/>
              </a:rPr>
              <a:t>in Dyalo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5878080"/>
            <a:ext cx="6400800" cy="5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1.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5760-1962-43BD-8AB2-45910DE92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ce commands are kept in script files, like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ce files have a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ffc000"/>
                </a:solidFill>
                <a:latin typeface="Arial"/>
              </a:rPr>
              <a:t>dyalog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pice script files are kept by default in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[Dyalog]\SALT\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5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FFCF-603B-464A-BF2C-D42E47D49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cript file contains a class with a number of (presumably) related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 a script/class could co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and to search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and to replac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CE72-DEB9-419A-9FB9-30BC54440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ript file MUST contain at least 3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public share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for the Spice handl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contain other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2FC8-5B1D-4867-B05B-6602AD83C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is nilad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turns a list of as many namespaces as there are commands in the script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if there are 2 commands in the script file it returns 2 namespa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E284-B50F-43BD-AEBB-EE030A6E3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50012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amespace returned by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tains 4 variables; each one is a st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name of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group the command belong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Des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hort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Pa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DE05-DCEE-4EBD-92DC-85C1C9F33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ingle word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lo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ingle word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Des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entence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Find string i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Pa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tring describing the command syntax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2 –exclude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0C6A-06F0-40FC-B59C-CA12724CE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∇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⎕NS¨2⍴⊂'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Name←'Locate' 'Replac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Group←⊂'Files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Parse←'1' '2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[1].Desc←'Find a string in files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[2].Desc←'Replace a string by anothe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71BB-6218-46CF-BE30-BF2D8C5F9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is monad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a string naming the command to return detailed help for, 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turns a string describing help for that com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9D9F-4C91-4DB2-BCE8-B60EFC558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∇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Help C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'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,←⊂'Arg: string; shows where the string is found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,←⊂'Arg: 2 strings; replace the first one by the othe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r⊃⍨'Locate' 'Replace'⍳⊂C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A5F9-51BB-4D2C-8610-0E442FDFD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is monad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2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ing naming the command to deal with, 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a string or a namespace which is the argument to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91EC-EF46-4C29-9E8C-0253918D2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user command hand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 V11 &amp; V12 it uses an input area at the bottom of the screen to issue user defined commands using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initialized directly from SA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8"/>
          <p:cNvGrpSpPr/>
          <p:nvPr/>
        </p:nvGrpSpPr>
        <p:grpSpPr>
          <a:xfrm>
            <a:off x="2286000" y="4334040"/>
            <a:ext cx="4800600" cy="2038320"/>
            <a:chOff x="2286000" y="4334040"/>
            <a:chExt cx="4800600" cy="2038320"/>
          </a:xfrm>
        </p:grpSpPr>
        <p:pic>
          <p:nvPicPr>
            <p:cNvPr id="59" name="Picture 5" descr=""/>
            <p:cNvPicPr/>
            <p:nvPr/>
          </p:nvPicPr>
          <p:blipFill>
            <a:blip r:embed="rId2"/>
            <a:stretch/>
          </p:blipFill>
          <p:spPr>
            <a:xfrm>
              <a:off x="2514600" y="4334040"/>
              <a:ext cx="428616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Oval 6"/>
            <p:cNvSpPr/>
            <p:nvPr/>
          </p:nvSpPr>
          <p:spPr>
            <a:xfrm>
              <a:off x="2286000" y="5410080"/>
              <a:ext cx="4800600" cy="609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>
              <a:off x="2819520" y="4991040"/>
              <a:ext cx="220968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CC92-2828-4AB5-8615-FFB461941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∇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r←Run(Cmd ca);ct;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r←0 0⍴'' ⋄ ct←⎕SE.SALT.Load'Utils\fileUtils -noname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w←##.textUtils.splitOn⍨⎕SE.SALT.Settings'workdir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Select C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Case 1⊃Fns ⋄ w ct.showExpr¨⊂ca.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Case 2⊃Fns </a:t>
            </a: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⋄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w ct.replExpr¨⊂ca.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End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66AD-63EF-49B6-B0EA-856A47700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e script Spice\aSample.dy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ontains 2 examples of Spice comma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specific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7C97-2CD3-4AE9-B597-8CD9A1E84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445680" y="1625760"/>
            <a:ext cx="65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ntax is described in the hel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8"/>
          <p:cNvGrpSpPr/>
          <p:nvPr/>
        </p:nvGrpSpPr>
        <p:grpSpPr>
          <a:xfrm>
            <a:off x="1689120" y="2263680"/>
            <a:ext cx="6240240" cy="4093920"/>
            <a:chOff x="1689120" y="2263680"/>
            <a:chExt cx="6240240" cy="4093920"/>
          </a:xfrm>
        </p:grpSpPr>
        <p:pic>
          <p:nvPicPr>
            <p:cNvPr id="180" name="Picture 4" descr=""/>
            <p:cNvPicPr/>
            <p:nvPr/>
          </p:nvPicPr>
          <p:blipFill>
            <a:blip r:embed="rId1"/>
            <a:stretch/>
          </p:blipFill>
          <p:spPr>
            <a:xfrm>
              <a:off x="1689120" y="2263680"/>
              <a:ext cx="6240240" cy="40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Oval 7"/>
            <p:cNvSpPr/>
            <p:nvPr/>
          </p:nvSpPr>
          <p:spPr>
            <a:xfrm>
              <a:off x="3515760" y="4373640"/>
              <a:ext cx="3422160" cy="426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1CC9-4FFE-4B31-9923-E6D7497CE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276960" cy="35434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446400" y="1625760"/>
            <a:ext cx="76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syntax is wrong Spice will comp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1116000" y="4508640"/>
            <a:ext cx="2665440" cy="43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3492360" y="3429000"/>
            <a:ext cx="324036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5"/>
          <p:cNvSpPr/>
          <p:nvPr/>
        </p:nvSpPr>
        <p:spPr>
          <a:xfrm>
            <a:off x="1989000" y="5138640"/>
            <a:ext cx="12970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3654000" y="507204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o argumen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Straight Arrow Connector 12"/>
          <p:cNvCxnSpPr>
            <a:stCxn id="190" idx="1"/>
            <a:endCxn id="189" idx="6"/>
          </p:cNvCxnSpPr>
          <p:nvPr/>
        </p:nvCxnSpPr>
        <p:spPr>
          <a:xfrm flipH="1">
            <a:off x="3285720" y="5255280"/>
            <a:ext cx="357840" cy="100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C535-A686-48EA-91BE-933AC323A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129440" cy="3743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447480" y="1625760"/>
            <a:ext cx="64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syntax is right Spice will do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1763640" y="5138640"/>
            <a:ext cx="12970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348000" y="3429000"/>
            <a:ext cx="360036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8"/>
          <p:cNvSpPr/>
          <p:nvPr/>
        </p:nvSpPr>
        <p:spPr>
          <a:xfrm>
            <a:off x="6199200" y="3889440"/>
            <a:ext cx="72072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7512-50E8-4B12-89CA-C1D98AA8B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command 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APL is installed Spice commands location is [Dyalog]\SALT\spice but you can chang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ALT settings contain Spice’s commands location in 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cmd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]setting  </a:t>
            </a:r>
            <a:r>
              <a:rPr b="1" lang="en-GB" sz="3200" spc="-1" strike="noStrike">
                <a:solidFill>
                  <a:srgbClr val="ffc000"/>
                </a:solidFill>
                <a:latin typeface="Arial"/>
              </a:rPr>
              <a:t>cmd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\my\own\user\cm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hange the Spice/user commands folder to \my\own\user\cm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1E86-DB3E-46DA-B22C-AF06D8276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ecial Spice com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985080" cy="34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6AEB-12CA-45C0-ACEB-AB922B263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development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used to store frequently used (and even less frequently used) use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"/>
          <p:cNvSpPr/>
          <p:nvPr/>
        </p:nvSpPr>
        <p:spPr>
          <a:xfrm flipV="1">
            <a:off x="8244000" y="476280"/>
            <a:ext cx="287280" cy="503280"/>
          </a:xfrm>
          <a:custGeom>
            <a:avLst/>
            <a:gdLst>
              <a:gd name="textAreaLeft" fmla="*/ 59760 w 287280"/>
              <a:gd name="textAreaRight" fmla="*/ 227520 w 287280"/>
              <a:gd name="textAreaTop" fmla="*/ 104760 h 503280"/>
              <a:gd name="textAreaBottom" fmla="*/ 3985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6C13-D535-4886-8773-DE3465DA0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hort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information can be found in the Spice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"/>
          <p:cNvSpPr/>
          <p:nvPr/>
        </p:nvSpPr>
        <p:spPr>
          <a:xfrm flipV="1">
            <a:off x="7956720" y="548280"/>
            <a:ext cx="863280" cy="431640"/>
          </a:xfrm>
          <a:custGeom>
            <a:avLst/>
            <a:gdLst>
              <a:gd name="textAreaLeft" fmla="*/ 179640 w 863280"/>
              <a:gd name="textAreaRight" fmla="*/ 683640 w 863280"/>
              <a:gd name="textAreaTop" fmla="*/ 89640 h 431640"/>
              <a:gd name="textAreaBottom" fmla="*/ 34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F83D-1643-4234-BD6D-1B9F02CE5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be started automatically when starting APL by setting the SALT registry key AddSPICE to ‘1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8"/>
          <p:cNvGrpSpPr/>
          <p:nvPr/>
        </p:nvGrpSpPr>
        <p:grpSpPr>
          <a:xfrm>
            <a:off x="1546200" y="3206880"/>
            <a:ext cx="6121440" cy="3041640"/>
            <a:chOff x="1546200" y="3206880"/>
            <a:chExt cx="6121440" cy="3041640"/>
          </a:xfrm>
        </p:grpSpPr>
        <p:pic>
          <p:nvPicPr>
            <p:cNvPr id="67" name="Picture 6" descr=""/>
            <p:cNvPicPr/>
            <p:nvPr/>
          </p:nvPicPr>
          <p:blipFill>
            <a:blip r:embed="rId1"/>
            <a:stretch/>
          </p:blipFill>
          <p:spPr>
            <a:xfrm>
              <a:off x="1546200" y="3206880"/>
              <a:ext cx="612144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Oval 7"/>
            <p:cNvSpPr/>
            <p:nvPr/>
          </p:nvSpPr>
          <p:spPr>
            <a:xfrm>
              <a:off x="5689440" y="4476600"/>
              <a:ext cx="274680" cy="309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7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36E1-6CE2-4AA1-BEA7-B73E5F989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pice input area can also be started automatically by using the &lt;enableSpice&gt; function in the SALT work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LOAD  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MCj03113240000[1]"/>
          <p:cNvPicPr/>
          <p:nvPr/>
        </p:nvPicPr>
        <p:blipFill>
          <a:blip r:embed="rId1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9BB4-BB70-4D4C-B880-4FE9EA477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71640" y="713880"/>
            <a:ext cx="7800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the Spice area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006640" y="2185920"/>
            <a:ext cx="5641920" cy="4145040"/>
          </a:xfrm>
          <a:prstGeom prst="rect">
            <a:avLst/>
          </a:prstGeom>
          <a:ln w="0">
            <a:noFill/>
          </a:ln>
        </p:spPr>
      </p:pic>
      <p:sp>
        <p:nvSpPr>
          <p:cNvPr id="80" name="Oval 6"/>
          <p:cNvSpPr/>
          <p:nvPr/>
        </p:nvSpPr>
        <p:spPr>
          <a:xfrm>
            <a:off x="1967040" y="307188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F81B-73FA-4F03-9BDD-178BDC323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 in V12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no need to initialize the Spice input area in 12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pice user command handler is always available directly through the ] with 12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y use ] where you would use the input area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]myc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MCj03113240000[1]"/>
          <p:cNvPicPr/>
          <p:nvPr/>
        </p:nvPicPr>
        <p:blipFill>
          <a:blip r:embed="rId1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1F68-8BA4-4C18-A5C0-29B88DDBD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a list of all available commands you enter 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]?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‘?’ in the input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2124000" y="2374920"/>
            <a:ext cx="5256360" cy="3987720"/>
          </a:xfrm>
          <a:prstGeom prst="rect">
            <a:avLst/>
          </a:prstGeom>
          <a:ln w="0">
            <a:noFill/>
          </a:ln>
        </p:spPr>
      </p:pic>
      <p:sp>
        <p:nvSpPr>
          <p:cNvPr id="92" name="Oval 8"/>
          <p:cNvSpPr/>
          <p:nvPr/>
        </p:nvSpPr>
        <p:spPr>
          <a:xfrm>
            <a:off x="2152800" y="5689440"/>
            <a:ext cx="27432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7986600" y="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cc33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EC6E-F104-4FD5-BC74-C223FF90B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1196640"/>
            <a:ext cx="7704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 of a custom Spice command: 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7848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“locat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ring”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locate a regular expression string in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ders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locate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\b</a:t>
            </a:r>
            <a:r>
              <a:rPr b="1" lang="en-GB" sz="3200" spc="-1" strike="noStrike">
                <a:solidFill>
                  <a:srgbClr val="ff9900"/>
                </a:solidFill>
                <a:latin typeface="Courier New"/>
              </a:rPr>
              <a:t>abc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&gt;0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find in SALT files where syntactic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 greater than 0 at the end of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512640" y="3832200"/>
            <a:ext cx="7515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AF6D-F07A-42F4-90BB-CBF95516F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ing SALT commands in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ALT commands bu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ssued here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av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yclass file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compar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1 -ver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ist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oad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y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removeversions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x -v=&lt;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j0208400"/>
          <p:cNvPicPr/>
          <p:nvPr/>
        </p:nvPicPr>
        <p:blipFill>
          <a:blip r:embed="rId1"/>
          <a:stretch/>
        </p:blipFill>
        <p:spPr>
          <a:xfrm rot="232800">
            <a:off x="7924680" y="75960"/>
            <a:ext cx="106056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21:21Z</dcterms:created>
  <dc:creator>DanB</dc:creator>
  <dc:description/>
  <dc:language>en-US</dc:language>
  <cp:lastModifiedBy>Danb</cp:lastModifiedBy>
  <dcterms:modified xsi:type="dcterms:W3CDTF">2009-09-08T20:00:48Z</dcterms:modified>
  <cp:revision>89</cp:revision>
  <dc:subject/>
  <dc:title>SALT in Dyalog</dc:title>
</cp:coreProperties>
</file>