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7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7.png" ContentType="image/png"/>
  <Override PartName="/ppt/media/image37.png" ContentType="image/png"/>
  <Override PartName="/ppt/media/image28.png" ContentType="image/png"/>
  <Override PartName="/ppt/media/image30.png" ContentType="image/png"/>
  <Override PartName="/ppt/media/image8.jpeg" ContentType="image/jpeg"/>
  <Override PartName="/ppt/media/image38.png" ContentType="image/png"/>
  <Override PartName="/ppt/media/image40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0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  <p:sldId id="423" r:id="rId172"/>
    <p:sldId id="424" r:id="rId173"/>
    <p:sldId id="425" r:id="rId174"/>
    <p:sldId id="426" r:id="rId175"/>
    <p:sldId id="427" r:id="rId176"/>
    <p:sldId id="428" r:id="rId177"/>
    <p:sldId id="429" r:id="rId1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slide" Target="slides/slide168.xml"/><Relationship Id="rId173" Type="http://schemas.openxmlformats.org/officeDocument/2006/relationships/slide" Target="slides/slide169.xml"/><Relationship Id="rId174" Type="http://schemas.openxmlformats.org/officeDocument/2006/relationships/slide" Target="slides/slide170.xml"/><Relationship Id="rId175" Type="http://schemas.openxmlformats.org/officeDocument/2006/relationships/slide" Target="slides/slide171.xml"/><Relationship Id="rId176" Type="http://schemas.openxmlformats.org/officeDocument/2006/relationships/slide" Target="slides/slide172.xml"/><Relationship Id="rId177" Type="http://schemas.openxmlformats.org/officeDocument/2006/relationships/slide" Target="slides/slide173.xml"/><Relationship Id="rId178" Type="http://schemas.openxmlformats.org/officeDocument/2006/relationships/slide" Target="slides/slide174.xml"/><Relationship Id="rId1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-36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388584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F8D9-0BCF-4653-9A9B-F07AC24E8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of the time this has worked fairly well – and there was no alterna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4A39-D621-442C-805F-0072B2DA4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46EA-0E42-4AAB-8FC9-8FE06B5EC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llie inherits 3 members (fields) and creates 1 of its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[]NL -2 and the vector format returned. ‘minus’ means ‘Public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8BFB-63B6-4B8F-9621-51532298E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llie inherits 3 members (fields) and creates 1 of its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[]NL -2 and the vector format returned. ‘minus’ means ‘Public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DB50-E800-4B9F-BC5F-0247B3674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 of called constructors. Before setting it Name, Collie calls the Dog ctor which, before setting its Type, calls the Animal 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CF9D-68A1-4DA6-B74A-93246724F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883E-2B57-478E-9208-C509EA9A5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these statements are not used the default is </a:t>
            </a:r>
            <a:r>
              <a:rPr b="0" i="1" lang="en-GB" sz="1200" spc="-1" strike="noStrike">
                <a:solidFill>
                  <a:srgbClr val="99cc00"/>
                </a:solidFill>
                <a:latin typeface="Arial"/>
              </a:rPr>
              <a:t>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8706-34F4-4974-AA54-012B41E7F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ST word in the :FIELD statements is the var n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a slight difference between a variable and a private instance field: their []N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065D-4D0C-4F91-A329-5DF8535B1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25E4-0C54-4437-810A-68D875078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506B-D543-455D-A796-5DCB89611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ID is 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4DE3-E695-4C16-97BC-9DA58AD2C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of the time this has worked fairly well – and there was no alterna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EC14-11F2-46B2-ACB3-5130BF8AF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9ABD-F684-4F86-86CD-8DA11108E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605F-0EBF-42E7-A90A-8478F2C05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rder is unimportant; if &lt;general&gt; is not there and there is no match on the length a LENGTH error will be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of the time this has worked fairly well – and there was no alterna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BD3D-9273-4D3F-B41E-C49672A77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VE button is a dud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C048-F825-4635-9BCC-402AD9C26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FAF4-F60E-4C7C-8161-9085600AF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VE button is still a dud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46E8-8CAA-41A6-A8E2-EF7C18EF8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of the time this has worked fairly well – and there was no alterna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1810-8497-4E8F-B1CA-222D3BB49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ED5A-F81D-475B-99EB-56183FBD4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trig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cies came up with a solution to this problem and invented their own Code Management Systems to group code &amp; data into units but this took a lot of man-days of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2 had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40F5-2961-439A-B6A1-E689AEB05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5A18-229F-44DA-8125-9B107D0E0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cies came up with a solution to this problem and invented their own Code Management Systems to group code &amp; data into units but this took a lot of man-days of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2 had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B3A9-3698-4685-BE70-69CA2D99F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no real need to make that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AAEF-E156-41E3-859D-D2C1C4F8F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e the other property I. There are 2 ways to do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8515-50B9-4FC0-9AE4-9E1E75308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T returns a sca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C6D3-06DB-4505-B873-1A83834C0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oblems are still the same tho: name clashing &amp; cleaning afterw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5571-ABEF-4116-84D2-2A9201F48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D913-A187-45B2-A921-5B6056C96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returns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use of []TH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4AD3-637F-42B5-82E5-D36091A8A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no []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70F5-8384-4FE2-8B66-E597A485E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programmers invented tricks to shadow the names and execute code hidden on the stack but that was like a crutch, something better wa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B865-24EE-4E7B-9BDD-394597DD7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5DC2-E90F-4353-BDD0-F4DF6A559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if coders end up doing simple things in complex ways just because the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A71B-13A9-4964-8D6D-A09C030E8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23B9-1808-4C23-88AC-CD5884B74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workspace releases memory when unused. New prim are squash, power, enhancements are to LCM &amp; G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3089-DE4E-43F2-A4CA-2A2084C8B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had to use the Properties windows on fns and to export the 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3C36-3596-4013-973F-90FC55A13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s can include pointers to functions in languages that support it (like C). All these structures are in DY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737A-E6A3-41DF-A8F8-171A9B831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will be interactive, stop and ask questions any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2CE1-298C-40C5-9D78-70F4D1B92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tion of passing messages is omni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084D-82FD-4D66-9D75-24D50CD6A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 like Basic had no concept of function &amp; local variable, trad system have no concept of objects and their "local"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4BBB-4FEE-4160-8677-D2542B995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ine terms to be used in order to speak the same "LANGUAG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BBF9-22F0-46BF-875B-D25DDC74F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t a single, widely-agreed upon definition of object-oriented progra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a survey of nearly 40 years of computing literature identified a number of fundamental concepts, identified in the strong majority of definitions of OO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le research supporting or dismissing OOP has been difficult to come b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following slides some of the terms used (e.g. SHARED=STATIC) vary from one implementation/language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9F09-D4CE-4A2B-9EA9-00A59CE83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like a “struct”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ext in green refers to items already implemented in Dyalog A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92C2-24D9-4375-A7DF-E733A2D4B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F52F-E62E-4C32-A510-92EB4941F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6C34-6D56-4901-ADBB-3CBE39DCB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utlet is the interface to use to connect into the electrical net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ances must conform to be able to plug into it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093A-134F-4F82-800B-0109428A8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ctions are said to be abstract because they do not have code, only synta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classes are ABSTRACT and cannot be instantiated. Just like a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D267-E620-4673-8510-18C3B830E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time permits show OO implementation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6D47-88E1-46CF-B7F9-DB76B53BB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for others – ex: photoshop plugins which state how to access their inn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how you present yourself to outsi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E306-874B-408A-BBA3-8FF448BA5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faces allow to map some names (from the class) onto another set of names (of the instanc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6908-CE5F-46F7-BFBF-682259A6C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Volv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ould be an instance of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essn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 instance of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In OO there are many types of objects, they are not listed here (e.g. singleton, immutable, prototyp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all OO languages support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structo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or eve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onstructo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.  Instances are also called ‘actors’ in some lit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ed works in italic are found in DYW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.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struct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file to be unt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5CC5-0F5E-46AF-B353-A1141A4A3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nk of an object (namespace) as a mini workspace which can be initialized ([]LX) via a 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9FE5-30E3-4DCF-B233-EA412BE5A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3042-5F42-4CB6-B767-70852C660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RED=STATIC in C#. Shared members are common to all instances and do not need or cannot be copied, e.g. global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61B9-E13C-46C6-8044-EB2C16207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practice APL does not copy the me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5964-8C55-44D2-81F4-EA2ADBA44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har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lso calle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ethod). Shared code can be called directly via the class, no instance requ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B613-788A-4F3C-B987-8B0EE0FFE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languages use the term FINAL instead of READONLY; the terms vary from one language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D45A-5C19-42D9-AA0B-57BB32B24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har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lso calle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ethod). Ex: VISIBL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7EB6-72CB-438E-AB6B-772CA382A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because everyone else is doing it or MS$ (or anyone else) sets the trend or... Explain in more detail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8471-A80D-4582-A49A-1B43B3C48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ssages are commonly used as a means of interprocess communication 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FBF7-10BB-451D-B697-0CA846274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hing to do with money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 Not all languages support it, e.g. VB, which is an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bject-bas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something we (programmers) are familiar with: modify code to get new code OR call existing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33C9-180E-4F58-A6E2-055ADC578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471E-BA38-4027-86A9-E2820280A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 is a class, green is an instance. Fido is an instance of a Collie. It also has all the characteristics of a Dog and an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0145-19FD-478F-86C5-EDB2236DA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many ways to do this and not all languages do it in a consistent manner. There is a lot is disagreement in th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0051-E394-468F-BAD0-A74D865B3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other way to achieve (some sort of) multiple inheritance is by using multiple implemen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A2A8-B487-4D61-A9E7-FEB6CA077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7875-ADBB-406E-A83E-60404ED96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DB46-F4C1-4FEA-BDB7-E7F99D4E1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C836-9C10-49E2-8744-A14DA1541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d so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BE02-FEB4-4753-AADA-1B6C57E01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ew discipline, paradigm, technology, methodology.  SIMULA was the 1</a:t>
            </a:r>
            <a:r>
              <a:rPr b="0" lang="fr-CA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object language. Others; Eiffel, CLOS, SELF, Java, BE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Unlike APL it has been GROWING since the 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acceptance was due a lot to C-&gt;C++ by not having programmers to learn a new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88B3-29E1-46C0-BB19-17F8A5D2C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done in DY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C561-14FE-4634-89BD-D13106F1B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RIDE is also known as VIRTUAL in some cir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A and B ar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depend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&lt;M2&gt; is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brouti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f &lt;M1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B4D7-3ADC-44C4-9171-B69DCFDEE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B is based on A. When it calls M1, M2 is not seen from M1. M2 could be called by other f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1E3B-BCBB-44AE-99E2-E3DEB6D30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 wants to override M2 but A does not allow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07C4-5133-464C-8305-9E9E540AC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 can be overridden and it is effectively don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272C-E55F-4DD0-BF53-F741A68AF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F8D0-3F51-4935-8431-2D102F818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OO languages do NOT offer encapsulation. private=local for a function,public=global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EEFB-6BD2-41A6-BA82-6D84640D5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quares are classes. It’s like localized vars in APL (except that they cannot be seen in subfns). SHARED is also called STATIC someti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12E7-3A88-401C-976C-DE5183D62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akin to localized vars in APL, they can be reached up the stack by called functions. Protected is not supported yet in DY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74C7-92A3-4F06-9CE8-2CDACA75C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 like ctrl struct were a new concept for programmers, oo is another step in the sam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82A5-5293-48B2-A1D0-D924E9207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 glob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B8C9-6B34-44B1-B8FE-2CAEB8F54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elevator &amp; its repairman. He has access to the inner workings of the elev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also other possibilities. Not all languages support these concepts. DYW does not.  This one is, among others, seen in C++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pled with nesting the complexity of a system can become overwhelm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6141-9629-43DB-9C40-AB2C4AF3E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do that in APL using :case on []DR of the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164F-A2CD-428D-B770-3FBB15CF9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Foo is called with an integer the left fn is used. If it is called with a string the right one is used. Else an error occ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B76D-B568-46E7-A283-F3888F4C1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mmon example is the primitive ‘+’ which is overloaded in most languages. Its args have to be often coerced (e.g. 1+0.5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APL most fns are overloa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37E0-3722-45F0-84C9-26CB844D0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times arguments have to be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coerce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o a new type to achieve proper behavi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mmon example is the primitive ‘+’ which is overloaded in most languages. Its args have to be often coerced (e.g. 1+0.5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D4CE-5F46-4E5F-AD20-12BA878C7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rder to delve into the OO paradigm we need to understand a few concep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digm=theoretical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2E99-9321-427E-B074-0E631827D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A109-A379-42FF-94F5-D4556274C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will now go over each one of these, not necessarily in the same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423E-C181-43EA-8928-DD0859A51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circle to denote editing a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AB0E-39D8-4B20-A571-2C89CD1D6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CLASSES is a new system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5CFC-F7CA-4FC0-BDF9-3B4E501EB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od is a fn, op or Dfn/op. Only regular fns can be public. Properties are like variables whose assignment (or reading) is caught via a fn BEFORE being done.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75F1-E11A-4A39-AD0D-D36316A31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’ll see this in more details in the Encapsulatio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7FFB-C8E6-4348-8509-073D000F4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may be more than 1 constructor. D-fns &amp; ops cannot be public (they cannot use the :access state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A7AC-85EA-414A-BA1B-BABFE1A50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rties can be shared too; ra contains Name (there can be many!), NewValue is set &amp; maybe Index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ing of &lt;G/Set&gt; unimpor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1CBA-A8DC-452D-BC97-0918BAACE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ns are not really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me as []NS []OR ‘class’ then call the constructor is per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B8E9-2D79-4D11-96C4-6C5F176A3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4884-79C1-4CAB-9160-C08EDDF87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ide the brackets is the name of th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of the time this has worked fairly well – and there was no alterna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ED22-7477-4C5C-891F-7B1C13937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5F62-36CE-44D4-B0DD-A04A80354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sometimes useful to known who is wh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3DB1-470C-43CA-8228-7B8A70BF9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.Nlegs is not new, it’s been there since refs were introduced. ‘Nlegs’ needs to be in every item of ‘Animal’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8D2E-664F-400A-AAE9-AB5327BB1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fancy naming (“message passing”) scheme does not apply here – its use is kept to stay synchronized with the fundamental concepts s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86F0-A257-46E1-A03D-E2EBFAE2C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ember this? Rex is a Collie, a Dog, an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82D9-88A6-434E-82FD-909E2C019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’s a simpler exa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EA31-23F8-4D73-B59B-3A55D96C3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’s a simpler exa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0736-4C57-43ED-9777-4BD6EF7CD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arrot  calls Bird’s constructor to create Desc, then, upon return, Desc is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base call is made at the statement’s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589D-8902-44F0-B8C8-9B41B86DA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not specific to Dya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1EA5-94F7-47F7-AF4C-EEDBCAB01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time constructors will take arg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F879-829A-450F-B29E-E982D060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F99C-2A24-4971-B465-1444681A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3433-F1EF-499D-93D4-1B63800AF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2B4F-0572-496F-ABEB-77C076DB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4493-395C-468D-9A5D-CE4FC635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FC0C-F7BF-4FDC-8196-DF3CE182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1DE7-ECCB-408B-9134-AF8584B6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4B49-46B9-4DE0-B90E-3228E8FA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2B42-E3D4-4747-B717-753078CA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CBDA-C57B-4018-B173-3AFF788E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A29D-5A23-409C-A1D7-82CA860D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06E0-E82F-4ADE-A677-002C9F33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3570-4533-44E9-8DE6-9F57AAD4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13EC-2CAD-482C-B4AE-A836DE92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270D-980B-47DE-B07C-4E6D8CE7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6CDC-BE11-4703-BF51-6E503DD1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F41B-23F5-4209-814F-68B9B729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70E3-365A-4566-8002-1596FF65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1476-DEBA-4C4B-A5E5-B27AE6D8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5CB-6BC7-4144-A366-0F46312F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4C94-2F08-41AB-9BE1-7AD6F11D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1372-9383-4C81-8368-13A97FE4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CD34-3B60-4117-8E83-1182FBEA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EB1D-8A87-402E-B702-44FCBB70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DDF7-DFBE-4B1A-9158-AE72F805677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18E5-4055-44BD-AA89-D9C523093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hyperlink" Target="http://www.dyalog.com/" TargetMode="External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" Target="slide147.xml"/><Relationship Id="rId2" Type="http://schemas.openxmlformats.org/officeDocument/2006/relationships/slide" Target="slide124.xml"/><Relationship Id="rId3" Type="http://schemas.openxmlformats.org/officeDocument/2006/relationships/slide" Target="slide116.xml"/><Relationship Id="rId4" Type="http://schemas.openxmlformats.org/officeDocument/2006/relationships/slide" Target="slide170.xml"/><Relationship Id="rId5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" Target="slide115.xml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" Target="slide115.xml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" Target="slide115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ight Arrow 3"/>
          <p:cNvSpPr/>
          <p:nvPr/>
        </p:nvSpPr>
        <p:spPr>
          <a:xfrm>
            <a:off x="2714760" y="2827440"/>
            <a:ext cx="4000320" cy="128592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ee821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3080" y="1096560"/>
            <a:ext cx="845964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b469ff"/>
                </a:solidFill>
                <a:latin typeface="Geneva"/>
              </a:rPr>
              <a:t>Object Oriented Programming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50920" y="3212640"/>
            <a:ext cx="51134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New Dire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Dan Barone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009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Geneva"/>
              </a:rPr>
              <a:t>V1.22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ntains everything needed to run an appl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initialized (via []LX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078E-1CE1-43B2-81EB-8B51041B488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15960" y="3319560"/>
            <a:ext cx="5813280" cy="5713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Date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1FEB-63E1-4E72-94BB-25BC062082D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50" name="Picture 13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5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952" name="Text Box 16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7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←⎕NEW Collie ‘Rex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⎕nl 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ame  Nlegs  Sounds 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(Name Ty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nis familiar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Picture 18" descr=""/>
          <p:cNvPicPr/>
          <p:nvPr/>
        </p:nvPicPr>
        <p:blipFill>
          <a:blip r:embed="rId3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955" name="Rectangle 31"/>
          <p:cNvSpPr/>
          <p:nvPr/>
        </p:nvSpPr>
        <p:spPr>
          <a:xfrm>
            <a:off x="2195640" y="3220920"/>
            <a:ext cx="576000" cy="28728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32"/>
          <p:cNvSpPr/>
          <p:nvPr/>
        </p:nvSpPr>
        <p:spPr>
          <a:xfrm>
            <a:off x="5435640" y="2109960"/>
            <a:ext cx="431640" cy="2156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33"/>
          <p:cNvSpPr/>
          <p:nvPr/>
        </p:nvSpPr>
        <p:spPr>
          <a:xfrm>
            <a:off x="6948360" y="3844800"/>
            <a:ext cx="432000" cy="2160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34"/>
          <p:cNvSpPr/>
          <p:nvPr/>
        </p:nvSpPr>
        <p:spPr>
          <a:xfrm>
            <a:off x="324000" y="5084640"/>
            <a:ext cx="4103640" cy="36036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35"/>
          <p:cNvSpPr/>
          <p:nvPr/>
        </p:nvSpPr>
        <p:spPr>
          <a:xfrm>
            <a:off x="2411280" y="1708200"/>
            <a:ext cx="2089440" cy="384120"/>
          </a:xfrm>
          <a:prstGeom prst="leftArrow">
            <a:avLst>
              <a:gd name="adj1" fmla="val 50000"/>
              <a:gd name="adj2" fmla="val 135989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AutoShape 36"/>
          <p:cNvSpPr/>
          <p:nvPr/>
        </p:nvSpPr>
        <p:spPr>
          <a:xfrm rot="3022200">
            <a:off x="4621680" y="2540520"/>
            <a:ext cx="1871640" cy="384120"/>
          </a:xfrm>
          <a:prstGeom prst="leftArrow">
            <a:avLst>
              <a:gd name="adj1" fmla="val 50000"/>
              <a:gd name="adj2" fmla="val 121813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37"/>
          <p:cNvSpPr/>
          <p:nvPr/>
        </p:nvSpPr>
        <p:spPr>
          <a:xfrm flipH="1" rot="20800200">
            <a:off x="3634920" y="3860280"/>
            <a:ext cx="2376720" cy="384480"/>
          </a:xfrm>
          <a:prstGeom prst="leftArrow">
            <a:avLst>
              <a:gd name="adj1" fmla="val 50000"/>
              <a:gd name="adj2" fmla="val 154541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Date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39A9-E640-4A0C-8276-CCD5B0CB883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6" name="Text Box 17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←⎕NEW Collie ‘Rex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⎕nl 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ame  Nlegs  Sounds 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(Name Ty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nis familiar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17"/>
          <p:cNvSpPr/>
          <p:nvPr/>
        </p:nvSpPr>
        <p:spPr>
          <a:xfrm>
            <a:off x="605880" y="2714760"/>
            <a:ext cx="743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t’s go over this again slowl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Date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3146-1886-4373-B2FA-A6EC944CDD2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36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72" name="Picture 3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4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974" name="Text Box 5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6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←⎕NEW Collie ‘Rex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⎕nl 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ame  Nlegs  Sounds 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(Name Ty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nis familiar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Picture 7" descr=""/>
          <p:cNvPicPr/>
          <p:nvPr/>
        </p:nvPicPr>
        <p:blipFill>
          <a:blip r:embed="rId3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977" name="Rectangle 8"/>
          <p:cNvSpPr/>
          <p:nvPr/>
        </p:nvSpPr>
        <p:spPr>
          <a:xfrm>
            <a:off x="6012000" y="4437000"/>
            <a:ext cx="2663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9"/>
          <p:cNvSpPr/>
          <p:nvPr/>
        </p:nvSpPr>
        <p:spPr>
          <a:xfrm>
            <a:off x="4500720" y="2421000"/>
            <a:ext cx="2879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10"/>
          <p:cNvSpPr/>
          <p:nvPr/>
        </p:nvSpPr>
        <p:spPr>
          <a:xfrm>
            <a:off x="1332000" y="2276640"/>
            <a:ext cx="180000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Oval 11"/>
          <p:cNvSpPr/>
          <p:nvPr/>
        </p:nvSpPr>
        <p:spPr>
          <a:xfrm>
            <a:off x="8317080" y="4572000"/>
            <a:ext cx="3585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Oval 12"/>
          <p:cNvSpPr/>
          <p:nvPr/>
        </p:nvSpPr>
        <p:spPr>
          <a:xfrm>
            <a:off x="4951440" y="2233440"/>
            <a:ext cx="43164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Oval 13"/>
          <p:cNvSpPr/>
          <p:nvPr/>
        </p:nvSpPr>
        <p:spPr>
          <a:xfrm>
            <a:off x="6804000" y="2492280"/>
            <a:ext cx="57636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Oval 14"/>
          <p:cNvSpPr/>
          <p:nvPr/>
        </p:nvSpPr>
        <p:spPr>
          <a:xfrm>
            <a:off x="1590840" y="2070000"/>
            <a:ext cx="100800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Oval 15"/>
          <p:cNvSpPr/>
          <p:nvPr/>
        </p:nvSpPr>
        <p:spPr>
          <a:xfrm>
            <a:off x="6497640" y="4105440"/>
            <a:ext cx="3589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Oval 16"/>
          <p:cNvSpPr/>
          <p:nvPr/>
        </p:nvSpPr>
        <p:spPr>
          <a:xfrm>
            <a:off x="3708360" y="4221000"/>
            <a:ext cx="936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6" name="AutoShape 17"/>
          <p:cNvCxnSpPr>
            <a:stCxn id="985" idx="7"/>
            <a:endCxn id="984" idx="1"/>
          </p:cNvCxnSpPr>
          <p:nvPr/>
        </p:nvCxnSpPr>
        <p:spPr>
          <a:xfrm flipH="1" flipV="1" rot="5400000">
            <a:off x="5452920" y="3193200"/>
            <a:ext cx="153000" cy="2042280"/>
          </a:xfrm>
          <a:prstGeom prst="curvedConnector5">
            <a:avLst>
              <a:gd name="adj1" fmla="val 271698"/>
              <a:gd name="adj2" fmla="val 50000"/>
              <a:gd name="adj3" fmla="val 271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7" name="AutoShape 18"/>
          <p:cNvCxnSpPr>
            <a:stCxn id="980" idx="1"/>
            <a:endCxn id="981" idx="5"/>
          </p:cNvCxnSpPr>
          <p:nvPr/>
        </p:nvCxnSpPr>
        <p:spPr>
          <a:xfrm flipV="1" rot="16200000">
            <a:off x="5785920" y="2021760"/>
            <a:ext cx="2116800" cy="305028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8" name="AutoShape 19"/>
          <p:cNvCxnSpPr>
            <a:stCxn id="982" idx="0"/>
            <a:endCxn id="983" idx="0"/>
          </p:cNvCxnSpPr>
          <p:nvPr/>
        </p:nvCxnSpPr>
        <p:spPr>
          <a:xfrm flipV="1" rot="16200000">
            <a:off x="4382640" y="-218520"/>
            <a:ext cx="423000" cy="4998240"/>
          </a:xfrm>
          <a:prstGeom prst="curvedConnector5">
            <a:avLst>
              <a:gd name="adj1" fmla="val 154088"/>
              <a:gd name="adj2" fmla="val 49996"/>
              <a:gd name="adj3" fmla="val 1540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9" name="Straight Arrow Connector 25"/>
          <p:cNvCxnSpPr/>
          <p:nvPr/>
        </p:nvCxnSpPr>
        <p:spPr>
          <a:xfrm flipH="1">
            <a:off x="2069280" y="2428920"/>
            <a:ext cx="252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0" name="Rectangle 26"/>
          <p:cNvSpPr/>
          <p:nvPr/>
        </p:nvSpPr>
        <p:spPr>
          <a:xfrm>
            <a:off x="4500720" y="2857680"/>
            <a:ext cx="78552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1" name="AutoShape 19"/>
          <p:cNvCxnSpPr>
            <a:stCxn id="990" idx="3"/>
          </p:cNvCxnSpPr>
          <p:nvPr/>
        </p:nvCxnSpPr>
        <p:spPr>
          <a:xfrm>
            <a:off x="5286240" y="3035160"/>
            <a:ext cx="643320" cy="1751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2" name="Rectangle 30"/>
          <p:cNvSpPr/>
          <p:nvPr/>
        </p:nvSpPr>
        <p:spPr>
          <a:xfrm>
            <a:off x="5929200" y="4714920"/>
            <a:ext cx="819360" cy="285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33"/>
          <p:cNvSpPr/>
          <p:nvPr/>
        </p:nvSpPr>
        <p:spPr>
          <a:xfrm>
            <a:off x="1285920" y="2714760"/>
            <a:ext cx="214308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4" name="AutoShape 19"/>
          <p:cNvCxnSpPr>
            <a:endCxn id="990" idx="1"/>
          </p:cNvCxnSpPr>
          <p:nvPr/>
        </p:nvCxnSpPr>
        <p:spPr>
          <a:xfrm>
            <a:off x="3428640" y="2928600"/>
            <a:ext cx="1072440" cy="106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B9C3-E96D-4158-8720-324EFA15E79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900000" y="1803240"/>
            <a:ext cx="73440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onceals the exact details of how a particular class works from objects that use its cod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allow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acce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a member there are various access level defini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FAD1-3FDD-43CC-9DC6-19AC92F1F97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/>
          </p:nvPr>
        </p:nvSpPr>
        <p:spPr>
          <a:xfrm>
            <a:off x="321840" y="1844640"/>
            <a:ext cx="8713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expose a member you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mu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ake it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a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a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metho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function) you must use 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:Access public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tem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a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fiel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var) you must use this statemen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	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:Fiel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yFiel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title"/>
          </p:nvPr>
        </p:nvSpPr>
        <p:spPr>
          <a:xfrm>
            <a:off x="394920" y="549000"/>
            <a:ext cx="8350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E7B5-B912-45BD-BB3D-A7CADF5A515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/>
          </p:nvPr>
        </p:nvSpPr>
        <p:spPr>
          <a:xfrm>
            <a:off x="250560" y="1630080"/>
            <a:ext cx="331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to the right shows a few fields (vars) and their acce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access is the same for methods (fns) and properti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title"/>
          </p:nvPr>
        </p:nvSpPr>
        <p:spPr>
          <a:xfrm>
            <a:off x="394920" y="49356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010" name="Group 15"/>
          <p:cNvGrpSpPr/>
          <p:nvPr/>
        </p:nvGrpSpPr>
        <p:grpSpPr>
          <a:xfrm>
            <a:off x="3695760" y="1860480"/>
            <a:ext cx="5268960" cy="4232160"/>
            <a:chOff x="3695760" y="1860480"/>
            <a:chExt cx="5268960" cy="4232160"/>
          </a:xfrm>
        </p:grpSpPr>
        <p:pic>
          <p:nvPicPr>
            <p:cNvPr id="1011" name="Picture 4" descr=""/>
            <p:cNvPicPr/>
            <p:nvPr/>
          </p:nvPicPr>
          <p:blipFill>
            <a:blip r:embed="rId1"/>
            <a:stretch/>
          </p:blipFill>
          <p:spPr>
            <a:xfrm>
              <a:off x="3695760" y="1860480"/>
              <a:ext cx="5268960" cy="42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2" name="Rectangle 7"/>
            <p:cNvSpPr/>
            <p:nvPr/>
          </p:nvSpPr>
          <p:spPr>
            <a:xfrm>
              <a:off x="4716360" y="3371760"/>
              <a:ext cx="36036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8"/>
            <p:cNvSpPr/>
            <p:nvPr/>
          </p:nvSpPr>
          <p:spPr>
            <a:xfrm>
              <a:off x="5508720" y="3589200"/>
              <a:ext cx="30312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9"/>
            <p:cNvSpPr/>
            <p:nvPr/>
          </p:nvSpPr>
          <p:spPr>
            <a:xfrm>
              <a:off x="7308720" y="3805200"/>
              <a:ext cx="36036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10"/>
            <p:cNvSpPr/>
            <p:nvPr/>
          </p:nvSpPr>
          <p:spPr>
            <a:xfrm>
              <a:off x="5508720" y="4020840"/>
              <a:ext cx="30312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11"/>
            <p:cNvSpPr/>
            <p:nvPr/>
          </p:nvSpPr>
          <p:spPr>
            <a:xfrm>
              <a:off x="6227640" y="4236840"/>
              <a:ext cx="30348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12"/>
            <p:cNvSpPr/>
            <p:nvPr/>
          </p:nvSpPr>
          <p:spPr>
            <a:xfrm>
              <a:off x="6227640" y="4452840"/>
              <a:ext cx="30348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13"/>
            <p:cNvSpPr/>
            <p:nvPr/>
          </p:nvSpPr>
          <p:spPr>
            <a:xfrm>
              <a:off x="6227640" y="4668480"/>
              <a:ext cx="30348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14"/>
            <p:cNvSpPr/>
            <p:nvPr/>
          </p:nvSpPr>
          <p:spPr>
            <a:xfrm>
              <a:off x="7913520" y="4865400"/>
              <a:ext cx="30348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D9AA-5D11-4746-91A5-DF905277F04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936720" y="1977840"/>
            <a:ext cx="7488000" cy="36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instance gets a copy of each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mb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a 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membe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t is kept in the class for all instances to see (and us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136E-7F71-4D63-ABD7-18FBA9B3CE6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/>
          </p:nvPr>
        </p:nvSpPr>
        <p:spPr>
          <a:xfrm>
            <a:off x="609120" y="1773000"/>
            <a:ext cx="82105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 keepCou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each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has its own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iv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D and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keeps track of the number of instances created private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DDC9-1710-4503-8A8E-F6D5F329D42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394920" y="1588680"/>
            <a:ext cx="4824360" cy="8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34" name="Rectangle 4"/>
          <p:cNvSpPr/>
          <p:nvPr/>
        </p:nvSpPr>
        <p:spPr>
          <a:xfrm>
            <a:off x="3562200" y="2565360"/>
            <a:ext cx="1944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epCou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←0,1,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MyID MyNam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5"/>
          <p:cNvSpPr/>
          <p:nvPr/>
        </p:nvSpPr>
        <p:spPr>
          <a:xfrm>
            <a:off x="1137600" y="2462040"/>
            <a:ext cx="227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'Count' remai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6"/>
          <p:cNvSpPr/>
          <p:nvPr/>
        </p:nvSpPr>
        <p:spPr>
          <a:xfrm>
            <a:off x="104292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Co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MyID=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yName=XYZ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7"/>
          <p:cNvSpPr/>
          <p:nvPr/>
        </p:nvSpPr>
        <p:spPr>
          <a:xfrm>
            <a:off x="356220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Co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MyID=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yName=XYZ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9"/>
          <p:cNvSpPr/>
          <p:nvPr/>
        </p:nvSpPr>
        <p:spPr>
          <a:xfrm>
            <a:off x="5900040" y="3033720"/>
            <a:ext cx="27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 memb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reated in t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9" name="AutoShape 10"/>
          <p:cNvCxnSpPr>
            <a:stCxn id="1034" idx="2"/>
            <a:endCxn id="1036" idx="0"/>
          </p:cNvCxnSpPr>
          <p:nvPr/>
        </p:nvCxnSpPr>
        <p:spPr>
          <a:xfrm flipH="1">
            <a:off x="2015280" y="3860640"/>
            <a:ext cx="252036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40" name="AutoShape 11"/>
          <p:cNvCxnSpPr>
            <a:stCxn id="1034" idx="2"/>
            <a:endCxn id="1037" idx="0"/>
          </p:cNvCxnSpPr>
          <p:nvPr/>
        </p:nvCxnSpPr>
        <p:spPr>
          <a:xfrm>
            <a:off x="4535280" y="3860640"/>
            <a:ext cx="108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41" name="AutoShape 12"/>
          <p:cNvCxnSpPr>
            <a:stCxn id="1034" idx="2"/>
            <a:endCxn id="1042" idx="0"/>
          </p:cNvCxnSpPr>
          <p:nvPr/>
        </p:nvCxnSpPr>
        <p:spPr>
          <a:xfrm>
            <a:off x="4535280" y="3860640"/>
            <a:ext cx="2523240" cy="64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043" name="PlaceHolder 2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2" name="Rectangle 15"/>
          <p:cNvSpPr/>
          <p:nvPr/>
        </p:nvSpPr>
        <p:spPr>
          <a:xfrm>
            <a:off x="6084720" y="450864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Co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MyID=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yName=XYZ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C185-E369-4450-B755-47D8B9481B3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446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1←⎕new keep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 am XYZ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2←⎕new keep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 am XYZ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3←⎕new keep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 am XYZ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keepCount.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keepCount.⎕nl-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Count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2.⎕nl-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Count  MyName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1.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049" name="Group 10"/>
          <p:cNvGrpSpPr/>
          <p:nvPr/>
        </p:nvGrpSpPr>
        <p:grpSpPr>
          <a:xfrm>
            <a:off x="5035680" y="1460520"/>
            <a:ext cx="3929040" cy="4751280"/>
            <a:chOff x="5035680" y="1460520"/>
            <a:chExt cx="3929040" cy="4751280"/>
          </a:xfrm>
        </p:grpSpPr>
        <p:pic>
          <p:nvPicPr>
            <p:cNvPr id="1050" name="Picture 5" descr=""/>
            <p:cNvPicPr/>
            <p:nvPr/>
          </p:nvPicPr>
          <p:blipFill>
            <a:blip r:embed="rId1"/>
            <a:stretch/>
          </p:blipFill>
          <p:spPr>
            <a:xfrm>
              <a:off x="5035680" y="1460520"/>
              <a:ext cx="392904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1" name="Rectangle 6"/>
            <p:cNvSpPr/>
            <p:nvPr/>
          </p:nvSpPr>
          <p:spPr>
            <a:xfrm>
              <a:off x="6162840" y="2520720"/>
              <a:ext cx="201600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7"/>
            <p:cNvSpPr/>
            <p:nvPr/>
          </p:nvSpPr>
          <p:spPr>
            <a:xfrm>
              <a:off x="5683320" y="4339800"/>
              <a:ext cx="57636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8"/>
            <p:cNvSpPr/>
            <p:nvPr/>
          </p:nvSpPr>
          <p:spPr>
            <a:xfrm>
              <a:off x="6188040" y="3116160"/>
              <a:ext cx="2374920" cy="21528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9"/>
            <p:cNvSpPr/>
            <p:nvPr/>
          </p:nvSpPr>
          <p:spPr>
            <a:xfrm>
              <a:off x="5683320" y="4700160"/>
              <a:ext cx="647640" cy="28728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initialized (via []LX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viewed as an objec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6473-E762-4F5C-8AD0-47FE4CFF7D1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428840" y="3500280"/>
            <a:ext cx="6357960" cy="26751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8"/>
          <p:cNvSpPr/>
          <p:nvPr/>
        </p:nvSpPr>
        <p:spPr>
          <a:xfrm>
            <a:off x="642960" y="2857680"/>
            <a:ext cx="5929200" cy="5713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A0C8-A477-49A9-9AE3-6513E3E11F9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065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PL a function CANNOT have different definitions using a single nam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OH, a constructor MAY have several defini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ince APL is typeless the only way to tell which function to use is by the NUMBER of arguments, from 0 (niladic) to any numb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title"/>
          </p:nvPr>
        </p:nvSpPr>
        <p:spPr>
          <a:xfrm>
            <a:off x="144360" y="566640"/>
            <a:ext cx="903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Polymorphis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/>
          </p:nvPr>
        </p:nvSpPr>
        <p:spPr>
          <a:xfrm>
            <a:off x="5363640" y="1483920"/>
            <a:ext cx="3025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Class manyCtors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general x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This ctor any ar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It can be anythin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nil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This ctor takes no ar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mon1(a1)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This ctor takes 1 ar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It MUST be a ve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mon5(a1 a2 a3 a4 a5)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This ctor takes 5 ar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It MUST be exactly 5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EndClass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C699-86CD-43A8-906F-710DA66437D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title"/>
          </p:nvPr>
        </p:nvSpPr>
        <p:spPr>
          <a:xfrm>
            <a:off x="144360" y="566640"/>
            <a:ext cx="903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Polymorphis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5" name="Text Box 4"/>
          <p:cNvSpPr/>
          <p:nvPr/>
        </p:nvSpPr>
        <p:spPr>
          <a:xfrm>
            <a:off x="395280" y="1892160"/>
            <a:ext cx="4681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pending on the number of arguments, the proper fn will be us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Group 16"/>
          <p:cNvGrpSpPr/>
          <p:nvPr/>
        </p:nvGrpSpPr>
        <p:grpSpPr>
          <a:xfrm>
            <a:off x="5715000" y="1857240"/>
            <a:ext cx="2655720" cy="4214880"/>
            <a:chOff x="5715000" y="1857240"/>
            <a:chExt cx="2655720" cy="4214880"/>
          </a:xfrm>
        </p:grpSpPr>
        <p:sp>
          <p:nvSpPr>
            <p:cNvPr id="1067" name="Rectangle 5"/>
            <p:cNvSpPr/>
            <p:nvPr/>
          </p:nvSpPr>
          <p:spPr>
            <a:xfrm>
              <a:off x="5838840" y="2420640"/>
              <a:ext cx="237708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6"/>
            <p:cNvSpPr/>
            <p:nvPr/>
          </p:nvSpPr>
          <p:spPr>
            <a:xfrm>
              <a:off x="5838840" y="3328920"/>
              <a:ext cx="237708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7"/>
            <p:cNvSpPr/>
            <p:nvPr/>
          </p:nvSpPr>
          <p:spPr>
            <a:xfrm>
              <a:off x="5838840" y="4417920"/>
              <a:ext cx="237708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8"/>
            <p:cNvSpPr/>
            <p:nvPr/>
          </p:nvSpPr>
          <p:spPr>
            <a:xfrm>
              <a:off x="5838840" y="5497560"/>
              <a:ext cx="2377080" cy="2174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11"/>
            <p:cNvSpPr/>
            <p:nvPr/>
          </p:nvSpPr>
          <p:spPr>
            <a:xfrm>
              <a:off x="5715000" y="1857240"/>
              <a:ext cx="2643840" cy="421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Straight Connector 13"/>
            <p:cNvSpPr/>
            <p:nvPr/>
          </p:nvSpPr>
          <p:spPr>
            <a:xfrm>
              <a:off x="5715000" y="2948040"/>
              <a:ext cx="264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Straight Connector 14"/>
            <p:cNvSpPr/>
            <p:nvPr/>
          </p:nvSpPr>
          <p:spPr>
            <a:xfrm>
              <a:off x="5715000" y="3857400"/>
              <a:ext cx="264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Straight Connector 15"/>
            <p:cNvSpPr/>
            <p:nvPr/>
          </p:nvSpPr>
          <p:spPr>
            <a:xfrm>
              <a:off x="5726880" y="4967640"/>
              <a:ext cx="264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A13F-FA5D-4E09-AC5F-2BC3A907927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summa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follows C# rules close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ED to edit 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are much like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members (vars &amp; fns) can all be accessed using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cce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W makes an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can be based on another on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use constructors to initialize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52A8-37C0-4CD0-A744-A23514187B1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971280" y="609120"/>
            <a:ext cx="683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d of implement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714240" y="1933560"/>
            <a:ext cx="77868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re are MANY other things related to OO that have been implemented but are out of the scope of this present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 find more visit Dyalog’s website a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www.dyalog.com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and grab the free document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EAD6-DF5F-4647-8A26-0AAE8F7894E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971280" y="609120"/>
            <a:ext cx="683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d of implement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3131640" y="2719440"/>
            <a:ext cx="2590920" cy="27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QUES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333333"/>
                </a:solidFill>
                <a:latin typeface="Geneva"/>
              </a:rPr>
              <a:t>?</a:t>
            </a:r>
            <a:endParaRPr b="0" lang="en-US" sz="1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4831-CD4D-42A2-8A91-78C09248743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hoice of exercis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imple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 action="ppaction://hlinksldjump"/>
              </a:rPr>
              <a:t>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2" action="ppaction://hlinksldjump"/>
              </a:rPr>
              <a:t>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ars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 formatted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3" action="ppaction://hlinksldjump"/>
              </a:rPr>
              <a:t>for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raphical objec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lnet cli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5" name="Rectangle 6">
            <a:hlinkClick r:id="rId4" action="ppaction://hlinksldjump"/>
          </p:cNvPr>
          <p:cNvSpPr/>
          <p:nvPr/>
        </p:nvSpPr>
        <p:spPr>
          <a:xfrm>
            <a:off x="6357960" y="5429160"/>
            <a:ext cx="1785960" cy="571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DE6F-681C-4F5C-BEA6-777EF08F14D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eriving from Dyalog GUI class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esides classes you can write classes derived fro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LE servers/contro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Net 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7631-D294-4373-B388-E48E83F052B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1←⎕new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'form'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('caption' 'zzz')('size'(100 200)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XL←⎕new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'oleclient'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⊂'classname' 'Excel.application'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←'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sent←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System.DateTime.Now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CD9A-DE05-4B68-B47D-0E448C12A9B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need to write a class that will create a form, just lik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1←⎕new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'form'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('caption' 'zzz')('size'(100 200)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ut with 2 buttons already setup for SAVE and QUIT so we can d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1←⎕new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myForm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(…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8DC9-5DBD-4381-92CE-F90BE88E56F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115" name="Picture 2" descr=""/>
          <p:cNvPicPr/>
          <p:nvPr/>
        </p:nvPicPr>
        <p:blipFill>
          <a:blip r:embed="rId1"/>
          <a:stretch/>
        </p:blipFill>
        <p:spPr>
          <a:xfrm>
            <a:off x="1390680" y="1657440"/>
            <a:ext cx="6362640" cy="4629240"/>
          </a:xfrm>
          <a:prstGeom prst="rect">
            <a:avLst/>
          </a:prstGeom>
          <a:ln w="0">
            <a:noFill/>
          </a:ln>
        </p:spPr>
      </p:pic>
      <p:sp>
        <p:nvSpPr>
          <p:cNvPr id="1116" name="Oval 6"/>
          <p:cNvSpPr/>
          <p:nvPr/>
        </p:nvSpPr>
        <p:spPr>
          <a:xfrm>
            <a:off x="4010040" y="3857760"/>
            <a:ext cx="1133640" cy="407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642680"/>
            <a:ext cx="767232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serve as base and be copied into another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B5AE-1191-4A1B-BD37-AFEF419049E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143000" y="3571920"/>
            <a:ext cx="2071800" cy="25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or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ounded Rectangle 7"/>
          <p:cNvSpPr/>
          <p:nvPr/>
        </p:nvSpPr>
        <p:spPr>
          <a:xfrm>
            <a:off x="6072120" y="3571920"/>
            <a:ext cx="2071800" cy="9288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lesUti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3500280" y="378612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COPY  FilesUt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ounded Rectangle 9"/>
          <p:cNvSpPr/>
          <p:nvPr/>
        </p:nvSpPr>
        <p:spPr>
          <a:xfrm>
            <a:off x="6072120" y="3571920"/>
            <a:ext cx="2071800" cy="9288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lesUti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642960" y="2214720"/>
            <a:ext cx="7643880" cy="10713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00833 L -0.5382 0.16123 E">
                                      <p:cBhvr>
                                        <p:cTn id="3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9864-F446-40F0-AC0B-2A883B86F02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1" name="TextBox 6"/>
          <p:cNvSpPr/>
          <p:nvPr/>
        </p:nvSpPr>
        <p:spPr>
          <a:xfrm>
            <a:off x="627480" y="2000160"/>
            <a:ext cx="76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1←⎕new Dialog(‘pref form' (100 500) ⍬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2" name="Picture 3" descr=""/>
          <p:cNvPicPr/>
          <p:nvPr/>
        </p:nvPicPr>
        <p:blipFill>
          <a:blip r:embed="rId1"/>
          <a:stretch/>
        </p:blipFill>
        <p:spPr>
          <a:xfrm>
            <a:off x="1714680" y="3071880"/>
            <a:ext cx="57369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BD03-B6AF-49E8-B20D-1D9C4E9FF5B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127" name="Picture 2" descr=""/>
          <p:cNvPicPr/>
          <p:nvPr/>
        </p:nvPicPr>
        <p:blipFill>
          <a:blip r:embed="rId1"/>
          <a:stretch/>
        </p:blipFill>
        <p:spPr>
          <a:xfrm>
            <a:off x="428760" y="2786040"/>
            <a:ext cx="8288280" cy="285768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8"/>
          <p:cNvSpPr/>
          <p:nvPr/>
        </p:nvSpPr>
        <p:spPr>
          <a:xfrm>
            <a:off x="598320" y="1857240"/>
            <a:ext cx="60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lass creates an edit objec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Oval 9"/>
          <p:cNvSpPr/>
          <p:nvPr/>
        </p:nvSpPr>
        <p:spPr>
          <a:xfrm>
            <a:off x="3795840" y="4021200"/>
            <a:ext cx="500040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50DE-F622-41ED-A694-41FAFBBD386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4" name="TextBox 6"/>
          <p:cNvSpPr/>
          <p:nvPr/>
        </p:nvSpPr>
        <p:spPr>
          <a:xfrm>
            <a:off x="183960" y="1571760"/>
            <a:ext cx="8866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←⎕new Dialog('pref form' (200 300) ⍬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.fn←f1.⎕new EditField ('First name:' '' (10 60) (⍬ 100) ⍬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.ln←f1.⎕new EditField ('Last name:' '' (38 60) (⍬ 100) ⍬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.ad←f1.⎕new EditField ('Address:' '' (66 60) (90 230) (⊂'style' 'multi')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.(fn ln ad).Text←'Jeremy' 'Cricket'('TopFlower' 'last field'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5" name="Picture 2" descr=""/>
          <p:cNvPicPr/>
          <p:nvPr/>
        </p:nvPicPr>
        <p:blipFill>
          <a:blip r:embed="rId1">
            <a:alphaModFix amt="26000"/>
          </a:blip>
          <a:stretch/>
        </p:blipFill>
        <p:spPr>
          <a:xfrm>
            <a:off x="2286000" y="3360600"/>
            <a:ext cx="4714920" cy="34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D9FA-7BDC-491F-9F57-7C6918211E4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rovem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an interf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 action="ppaction://hlinksldjump"/>
              </a:rPr>
              <a:t>Back to exercise choi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42AE-9C9B-4810-A916-F8507091038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2840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Complex nu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complex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rational or “normal number” is a decimal number that can be viewed on the line of “real” number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-10                     -5                       0                     </a:t>
            </a:r>
            <a:r>
              <a:rPr b="0" lang="en-GB" sz="2800" spc="-1" strike="noStrike">
                <a:solidFill>
                  <a:srgbClr val="ff0000"/>
                </a:solidFill>
                <a:latin typeface="Geneva"/>
              </a:rPr>
              <a:t>+5.3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          +1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146" name="Group 47"/>
          <p:cNvGrpSpPr/>
          <p:nvPr/>
        </p:nvGrpSpPr>
        <p:grpSpPr>
          <a:xfrm>
            <a:off x="785880" y="4925880"/>
            <a:ext cx="7787160" cy="146160"/>
            <a:chOff x="785880" y="4925880"/>
            <a:chExt cx="7787160" cy="146160"/>
          </a:xfrm>
        </p:grpSpPr>
        <p:cxnSp>
          <p:nvCxnSpPr>
            <p:cNvPr id="1147" name="Straight Arrow Connector 7"/>
            <p:cNvCxnSpPr/>
            <p:nvPr/>
          </p:nvCxnSpPr>
          <p:spPr>
            <a:xfrm>
              <a:off x="785880" y="4999680"/>
              <a:ext cx="77875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148" name="Straight Connector 10"/>
            <p:cNvSpPr/>
            <p:nvPr/>
          </p:nvSpPr>
          <p:spPr>
            <a:xfrm flipH="1">
              <a:off x="4642920" y="492876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Straight Connector 11"/>
            <p:cNvSpPr/>
            <p:nvPr/>
          </p:nvSpPr>
          <p:spPr>
            <a:xfrm flipH="1">
              <a:off x="500076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Straight Connector 12"/>
            <p:cNvSpPr/>
            <p:nvPr/>
          </p:nvSpPr>
          <p:spPr>
            <a:xfrm flipH="1">
              <a:off x="535572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Straight Connector 13"/>
            <p:cNvSpPr/>
            <p:nvPr/>
          </p:nvSpPr>
          <p:spPr>
            <a:xfrm flipH="1">
              <a:off x="571356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Straight Connector 14"/>
            <p:cNvSpPr/>
            <p:nvPr/>
          </p:nvSpPr>
          <p:spPr>
            <a:xfrm flipH="1">
              <a:off x="607176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Straight Connector 15"/>
            <p:cNvSpPr/>
            <p:nvPr/>
          </p:nvSpPr>
          <p:spPr>
            <a:xfrm flipH="1">
              <a:off x="642960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Straight Connector 16"/>
            <p:cNvSpPr/>
            <p:nvPr/>
          </p:nvSpPr>
          <p:spPr>
            <a:xfrm flipH="1">
              <a:off x="678456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Straight Connector 17"/>
            <p:cNvSpPr/>
            <p:nvPr/>
          </p:nvSpPr>
          <p:spPr>
            <a:xfrm flipH="1">
              <a:off x="7142400" y="49266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Straight Connector 32"/>
            <p:cNvSpPr/>
            <p:nvPr/>
          </p:nvSpPr>
          <p:spPr>
            <a:xfrm flipH="1">
              <a:off x="178596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Straight Connector 33"/>
            <p:cNvSpPr/>
            <p:nvPr/>
          </p:nvSpPr>
          <p:spPr>
            <a:xfrm flipH="1">
              <a:off x="214380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Straight Connector 34"/>
            <p:cNvSpPr/>
            <p:nvPr/>
          </p:nvSpPr>
          <p:spPr>
            <a:xfrm flipH="1">
              <a:off x="249876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Straight Connector 35"/>
            <p:cNvSpPr/>
            <p:nvPr/>
          </p:nvSpPr>
          <p:spPr>
            <a:xfrm flipH="1">
              <a:off x="2856600" y="49266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Straight Connector 36"/>
            <p:cNvSpPr/>
            <p:nvPr/>
          </p:nvSpPr>
          <p:spPr>
            <a:xfrm flipH="1">
              <a:off x="321480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Straight Connector 37"/>
            <p:cNvSpPr/>
            <p:nvPr/>
          </p:nvSpPr>
          <p:spPr>
            <a:xfrm flipH="1">
              <a:off x="3572640" y="49266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Straight Connector 38"/>
            <p:cNvSpPr/>
            <p:nvPr/>
          </p:nvSpPr>
          <p:spPr>
            <a:xfrm flipH="1">
              <a:off x="3927600" y="49266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Straight Connector 39"/>
            <p:cNvSpPr/>
            <p:nvPr/>
          </p:nvSpPr>
          <p:spPr>
            <a:xfrm flipH="1">
              <a:off x="4285440" y="492588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Straight Connector 40"/>
            <p:cNvSpPr/>
            <p:nvPr/>
          </p:nvSpPr>
          <p:spPr>
            <a:xfrm flipH="1">
              <a:off x="142884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Straight Connector 41"/>
            <p:cNvSpPr/>
            <p:nvPr/>
          </p:nvSpPr>
          <p:spPr>
            <a:xfrm flipH="1">
              <a:off x="750132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Straight Connector 42"/>
            <p:cNvSpPr/>
            <p:nvPr/>
          </p:nvSpPr>
          <p:spPr>
            <a:xfrm flipH="1">
              <a:off x="785844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Straight Connector 43"/>
            <p:cNvSpPr/>
            <p:nvPr/>
          </p:nvSpPr>
          <p:spPr>
            <a:xfrm flipH="1">
              <a:off x="821412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Straight Connector 44"/>
            <p:cNvSpPr/>
            <p:nvPr/>
          </p:nvSpPr>
          <p:spPr>
            <a:xfrm flipH="1">
              <a:off x="107136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9" name="Oval 48"/>
          <p:cNvSpPr/>
          <p:nvPr/>
        </p:nvSpPr>
        <p:spPr>
          <a:xfrm>
            <a:off x="6429240" y="485784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9DFC-84A7-4712-B0AC-37471A251B3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24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285480" y="1671120"/>
            <a:ext cx="37861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complex numb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s a number in th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plan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2 rational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re used t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present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175" name="Group 99"/>
          <p:cNvGrpSpPr/>
          <p:nvPr/>
        </p:nvGrpSpPr>
        <p:grpSpPr>
          <a:xfrm>
            <a:off x="1734120" y="1455480"/>
            <a:ext cx="6338520" cy="5045400"/>
            <a:chOff x="1734120" y="1455480"/>
            <a:chExt cx="6338520" cy="5045400"/>
          </a:xfrm>
        </p:grpSpPr>
        <p:grpSp>
          <p:nvGrpSpPr>
            <p:cNvPr id="1176" name="Group 28"/>
            <p:cNvGrpSpPr/>
            <p:nvPr/>
          </p:nvGrpSpPr>
          <p:grpSpPr>
            <a:xfrm>
              <a:off x="2143080" y="5315400"/>
              <a:ext cx="5929560" cy="142560"/>
              <a:chOff x="2143080" y="5315400"/>
              <a:chExt cx="5929560" cy="142560"/>
            </a:xfrm>
          </p:grpSpPr>
          <p:cxnSp>
            <p:nvCxnSpPr>
              <p:cNvPr id="1177" name="Straight Arrow Connector 29"/>
              <p:cNvCxnSpPr/>
              <p:nvPr/>
            </p:nvCxnSpPr>
            <p:spPr>
              <a:xfrm>
                <a:off x="2143080" y="5387400"/>
                <a:ext cx="59299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1178" name="Straight Connector 30"/>
              <p:cNvSpPr/>
              <p:nvPr/>
            </p:nvSpPr>
            <p:spPr>
              <a:xfrm flipH="1">
                <a:off x="5079600" y="531828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Straight Connector 31"/>
              <p:cNvSpPr/>
              <p:nvPr/>
            </p:nvSpPr>
            <p:spPr>
              <a:xfrm flipH="1">
                <a:off x="535212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Straight Connector 45"/>
              <p:cNvSpPr/>
              <p:nvPr/>
            </p:nvSpPr>
            <p:spPr>
              <a:xfrm flipH="1">
                <a:off x="562248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Straight Connector 46"/>
              <p:cNvSpPr/>
              <p:nvPr/>
            </p:nvSpPr>
            <p:spPr>
              <a:xfrm flipH="1">
                <a:off x="589500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Straight Connector 47"/>
              <p:cNvSpPr/>
              <p:nvPr/>
            </p:nvSpPr>
            <p:spPr>
              <a:xfrm flipH="1">
                <a:off x="616752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Straight Connector 48"/>
              <p:cNvSpPr/>
              <p:nvPr/>
            </p:nvSpPr>
            <p:spPr>
              <a:xfrm flipH="1">
                <a:off x="644004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Straight Connector 49"/>
              <p:cNvSpPr/>
              <p:nvPr/>
            </p:nvSpPr>
            <p:spPr>
              <a:xfrm flipH="1">
                <a:off x="671040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Straight Connector 50"/>
              <p:cNvSpPr/>
              <p:nvPr/>
            </p:nvSpPr>
            <p:spPr>
              <a:xfrm flipH="1">
                <a:off x="6982920" y="531612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Straight Connector 51"/>
              <p:cNvSpPr/>
              <p:nvPr/>
            </p:nvSpPr>
            <p:spPr>
              <a:xfrm flipH="1">
                <a:off x="290412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Straight Connector 52"/>
              <p:cNvSpPr/>
              <p:nvPr/>
            </p:nvSpPr>
            <p:spPr>
              <a:xfrm flipH="1">
                <a:off x="317664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Straight Connector 53"/>
              <p:cNvSpPr/>
              <p:nvPr/>
            </p:nvSpPr>
            <p:spPr>
              <a:xfrm flipH="1">
                <a:off x="344700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Straight Connector 54"/>
              <p:cNvSpPr/>
              <p:nvPr/>
            </p:nvSpPr>
            <p:spPr>
              <a:xfrm flipH="1">
                <a:off x="3719520" y="531612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Straight Connector 55"/>
              <p:cNvSpPr/>
              <p:nvPr/>
            </p:nvSpPr>
            <p:spPr>
              <a:xfrm flipH="1">
                <a:off x="399204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Straight Connector 56"/>
              <p:cNvSpPr/>
              <p:nvPr/>
            </p:nvSpPr>
            <p:spPr>
              <a:xfrm flipH="1">
                <a:off x="4264560" y="531612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Straight Connector 57"/>
              <p:cNvSpPr/>
              <p:nvPr/>
            </p:nvSpPr>
            <p:spPr>
              <a:xfrm flipH="1">
                <a:off x="4534920" y="531612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Straight Connector 58"/>
              <p:cNvSpPr/>
              <p:nvPr/>
            </p:nvSpPr>
            <p:spPr>
              <a:xfrm flipH="1">
                <a:off x="4807440" y="531540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Straight Connector 59"/>
              <p:cNvSpPr/>
              <p:nvPr/>
            </p:nvSpPr>
            <p:spPr>
              <a:xfrm flipH="1">
                <a:off x="263196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Straight Connector 60"/>
              <p:cNvSpPr/>
              <p:nvPr/>
            </p:nvSpPr>
            <p:spPr>
              <a:xfrm flipH="1">
                <a:off x="725616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Straight Connector 61"/>
              <p:cNvSpPr/>
              <p:nvPr/>
            </p:nvSpPr>
            <p:spPr>
              <a:xfrm flipH="1">
                <a:off x="752796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Straight Connector 62"/>
              <p:cNvSpPr/>
              <p:nvPr/>
            </p:nvSpPr>
            <p:spPr>
              <a:xfrm flipH="1">
                <a:off x="779904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Straight Connector 63"/>
              <p:cNvSpPr/>
              <p:nvPr/>
            </p:nvSpPr>
            <p:spPr>
              <a:xfrm flipH="1">
                <a:off x="236016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9" name="Group 64"/>
            <p:cNvGrpSpPr/>
            <p:nvPr/>
          </p:nvGrpSpPr>
          <p:grpSpPr>
            <a:xfrm>
              <a:off x="4439880" y="1455480"/>
              <a:ext cx="189360" cy="5045400"/>
              <a:chOff x="4439880" y="1455480"/>
              <a:chExt cx="189360" cy="5045400"/>
            </a:xfrm>
          </p:grpSpPr>
          <p:cxnSp>
            <p:nvCxnSpPr>
              <p:cNvPr id="1200" name="Straight Arrow Connector 65"/>
              <p:cNvCxnSpPr/>
              <p:nvPr/>
            </p:nvCxnSpPr>
            <p:spPr>
              <a:xfrm flipV="1">
                <a:off x="4535280" y="1455480"/>
                <a:ext cx="2520" cy="5045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1201" name="Straight Connector 66"/>
              <p:cNvSpPr/>
              <p:nvPr/>
            </p:nvSpPr>
            <p:spPr>
              <a:xfrm>
                <a:off x="4443840" y="40014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Straight Connector 67"/>
              <p:cNvSpPr/>
              <p:nvPr/>
            </p:nvSpPr>
            <p:spPr>
              <a:xfrm>
                <a:off x="4442760" y="37692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Straight Connector 68"/>
              <p:cNvSpPr/>
              <p:nvPr/>
            </p:nvSpPr>
            <p:spPr>
              <a:xfrm>
                <a:off x="4442760" y="35395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Straight Connector 69"/>
              <p:cNvSpPr/>
              <p:nvPr/>
            </p:nvSpPr>
            <p:spPr>
              <a:xfrm>
                <a:off x="4441680" y="33073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Straight Connector 70"/>
              <p:cNvSpPr/>
              <p:nvPr/>
            </p:nvSpPr>
            <p:spPr>
              <a:xfrm>
                <a:off x="4442760" y="307548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Straight Connector 71"/>
              <p:cNvSpPr/>
              <p:nvPr/>
            </p:nvSpPr>
            <p:spPr>
              <a:xfrm>
                <a:off x="4441680" y="284364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Straight Connector 72"/>
              <p:cNvSpPr/>
              <p:nvPr/>
            </p:nvSpPr>
            <p:spPr>
              <a:xfrm>
                <a:off x="4441680" y="26136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Straight Connector 73"/>
              <p:cNvSpPr/>
              <p:nvPr/>
            </p:nvSpPr>
            <p:spPr>
              <a:xfrm>
                <a:off x="4440600" y="238176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Straight Connector 74"/>
              <p:cNvSpPr/>
              <p:nvPr/>
            </p:nvSpPr>
            <p:spPr>
              <a:xfrm>
                <a:off x="4442760" y="585216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Straight Connector 75"/>
              <p:cNvSpPr/>
              <p:nvPr/>
            </p:nvSpPr>
            <p:spPr>
              <a:xfrm>
                <a:off x="4441680" y="56203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Straight Connector 76"/>
              <p:cNvSpPr/>
              <p:nvPr/>
            </p:nvSpPr>
            <p:spPr>
              <a:xfrm>
                <a:off x="4441680" y="539028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Straight Connector 77"/>
              <p:cNvSpPr/>
              <p:nvPr/>
            </p:nvSpPr>
            <p:spPr>
              <a:xfrm>
                <a:off x="4440600" y="515844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Straight Connector 78"/>
              <p:cNvSpPr/>
              <p:nvPr/>
            </p:nvSpPr>
            <p:spPr>
              <a:xfrm>
                <a:off x="4441680" y="49266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Straight Connector 79"/>
              <p:cNvSpPr/>
              <p:nvPr/>
            </p:nvSpPr>
            <p:spPr>
              <a:xfrm>
                <a:off x="4440600" y="469476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Straight Connector 80"/>
              <p:cNvSpPr/>
              <p:nvPr/>
            </p:nvSpPr>
            <p:spPr>
              <a:xfrm>
                <a:off x="4440600" y="44647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Straight Connector 81"/>
              <p:cNvSpPr/>
              <p:nvPr/>
            </p:nvSpPr>
            <p:spPr>
              <a:xfrm>
                <a:off x="4439880" y="423288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Straight Connector 82"/>
              <p:cNvSpPr/>
              <p:nvPr/>
            </p:nvSpPr>
            <p:spPr>
              <a:xfrm>
                <a:off x="4442760" y="608364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Straight Connector 83"/>
              <p:cNvSpPr/>
              <p:nvPr/>
            </p:nvSpPr>
            <p:spPr>
              <a:xfrm>
                <a:off x="4442760" y="21492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Straight Connector 84"/>
              <p:cNvSpPr/>
              <p:nvPr/>
            </p:nvSpPr>
            <p:spPr>
              <a:xfrm>
                <a:off x="4442760" y="19177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Straight Connector 85"/>
              <p:cNvSpPr/>
              <p:nvPr/>
            </p:nvSpPr>
            <p:spPr>
              <a:xfrm>
                <a:off x="4442760" y="16873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Straight Connector 86"/>
              <p:cNvSpPr/>
              <p:nvPr/>
            </p:nvSpPr>
            <p:spPr>
              <a:xfrm>
                <a:off x="4442760" y="63151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2" name="TextBox 87"/>
            <p:cNvSpPr/>
            <p:nvPr/>
          </p:nvSpPr>
          <p:spPr>
            <a:xfrm>
              <a:off x="1734120" y="5600880"/>
              <a:ext cx="633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-4                   -2                    0                   +2                  +4                  +6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TextBox 88"/>
            <p:cNvSpPr/>
            <p:nvPr/>
          </p:nvSpPr>
          <p:spPr>
            <a:xfrm>
              <a:off x="3931200" y="4314960"/>
              <a:ext cx="38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+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TextBox 89"/>
            <p:cNvSpPr/>
            <p:nvPr/>
          </p:nvSpPr>
          <p:spPr>
            <a:xfrm>
              <a:off x="3971520" y="3386160"/>
              <a:ext cx="38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+4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TextBox 90"/>
            <p:cNvSpPr/>
            <p:nvPr/>
          </p:nvSpPr>
          <p:spPr>
            <a:xfrm>
              <a:off x="3971520" y="2457000"/>
              <a:ext cx="38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+6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Straight Connector 92"/>
            <p:cNvSpPr/>
            <p:nvPr/>
          </p:nvSpPr>
          <p:spPr>
            <a:xfrm flipV="1">
              <a:off x="6164280" y="2814840"/>
              <a:ext cx="1440" cy="292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Straight Connector 94"/>
            <p:cNvSpPr/>
            <p:nvPr/>
          </p:nvSpPr>
          <p:spPr>
            <a:xfrm flipH="1" flipV="1">
              <a:off x="3999960" y="3538800"/>
              <a:ext cx="25714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Oval 97"/>
            <p:cNvSpPr/>
            <p:nvPr/>
          </p:nvSpPr>
          <p:spPr>
            <a:xfrm>
              <a:off x="6019920" y="3405240"/>
              <a:ext cx="285480" cy="285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TextBox 98"/>
          <p:cNvSpPr/>
          <p:nvPr/>
        </p:nvSpPr>
        <p:spPr>
          <a:xfrm>
            <a:off x="5871600" y="195732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umber 3J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F655-89FF-40D0-A19B-D9F96F9050B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complex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will contain 2 real numbers and 3 methods to perform Add, Multiply and return the Reciprocal of a complex numb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BDE9-24E1-423F-BDF3-7949B345171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complex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methods to perform Add and Multiply will be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in the class) methods and the Reciprocal will be an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tho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3756-FD1A-480D-820B-4402A9E8131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 = 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a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+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b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,  where i = ¯1 * 0.5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gineers use the J notation,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3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j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4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denote the complex number with a real value of 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3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an imaginary value of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4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7229-2707-4F22-A394-0E94D4484EC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ddition of 2 complex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1 + C2 = (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a1+a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+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b1+b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ntains everything needed to run an appl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initialized (via []LX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viewed as an objec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serve as base and be copied into another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modifi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A7BD-D459-4BAA-B8CF-2BBA914ED56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642960" y="5572080"/>
            <a:ext cx="4214880" cy="5716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BF38-1A09-44C2-B2D7-501E68089BD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685800" y="1805040"/>
            <a:ext cx="82072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tiplication of 2 complex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a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 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b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x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2          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a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 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b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=(a1×a2) + (b1i × b2i) + (a1×b2i) + (b1i×a2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((a1×a2) - (b1 × b2))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+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((a1×b2) + (b1×a2))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255" name="Group 9"/>
          <p:cNvGrpSpPr/>
          <p:nvPr/>
        </p:nvGrpSpPr>
        <p:grpSpPr>
          <a:xfrm>
            <a:off x="2700360" y="3518280"/>
            <a:ext cx="1295280" cy="705240"/>
            <a:chOff x="2700360" y="3518280"/>
            <a:chExt cx="1295280" cy="705240"/>
          </a:xfrm>
        </p:grpSpPr>
        <p:sp>
          <p:nvSpPr>
            <p:cNvPr id="1256" name="AutoShape 5"/>
            <p:cNvSpPr/>
            <p:nvPr/>
          </p:nvSpPr>
          <p:spPr>
            <a:xfrm rot="5400000">
              <a:off x="2541600" y="3730320"/>
              <a:ext cx="565200" cy="247680"/>
            </a:xfrm>
            <a:prstGeom prst="rightArrow">
              <a:avLst>
                <a:gd name="adj1" fmla="val 50000"/>
                <a:gd name="adj2" fmla="val 5704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AutoShape 6"/>
            <p:cNvSpPr/>
            <p:nvPr/>
          </p:nvSpPr>
          <p:spPr>
            <a:xfrm rot="5400000">
              <a:off x="3589200" y="3741480"/>
              <a:ext cx="565200" cy="247680"/>
            </a:xfrm>
            <a:prstGeom prst="rightArrow">
              <a:avLst>
                <a:gd name="adj1" fmla="val 50000"/>
                <a:gd name="adj2" fmla="val 5704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AutoShape 7"/>
            <p:cNvSpPr/>
            <p:nvPr/>
          </p:nvSpPr>
          <p:spPr>
            <a:xfrm rot="2700000">
              <a:off x="3012840" y="3736800"/>
              <a:ext cx="720720" cy="247680"/>
            </a:xfrm>
            <a:prstGeom prst="rightArrow">
              <a:avLst>
                <a:gd name="adj1" fmla="val 50000"/>
                <a:gd name="adj2" fmla="val 7274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AutoShape 8"/>
            <p:cNvSpPr/>
            <p:nvPr/>
          </p:nvSpPr>
          <p:spPr>
            <a:xfrm rot="8100000">
              <a:off x="2963520" y="3756960"/>
              <a:ext cx="720720" cy="247680"/>
            </a:xfrm>
            <a:prstGeom prst="rightArrow">
              <a:avLst>
                <a:gd name="adj1" fmla="val 50000"/>
                <a:gd name="adj2" fmla="val 7274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C88E-4C64-45D9-876C-F3C368CAAE0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ciprocal of a complex number is 1÷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uch that        C × R = 1 = 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+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0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real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 ((a1×a2) - (b1 × b2))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 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img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 ((a1×b2) + (b1×a2))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 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lvin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Ra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  Ca÷((Ca×Ca)-(Cb×Cb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Rb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 -Cb÷((Ca×Ca)-(Cb×Cb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9740-ADBD-46B4-9935-78D5F796AB4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thing to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)ED ○ complex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70" name="Picture 4" descr=""/>
          <p:cNvPicPr/>
          <p:nvPr/>
        </p:nvPicPr>
        <p:blipFill>
          <a:blip r:embed="rId1"/>
          <a:stretch/>
        </p:blipFill>
        <p:spPr>
          <a:xfrm>
            <a:off x="2195640" y="3362400"/>
            <a:ext cx="439236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DF1C-9070-4232-86BA-06E8F76E8C4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field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76" name="Picture 5" descr=""/>
          <p:cNvPicPr/>
          <p:nvPr/>
        </p:nvPicPr>
        <p:blipFill>
          <a:blip r:embed="rId1"/>
          <a:stretch/>
        </p:blipFill>
        <p:spPr>
          <a:xfrm>
            <a:off x="1979640" y="2844720"/>
            <a:ext cx="4824360" cy="29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9D19-767C-43FD-99C9-FBF8636DC24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constructor, it takes 2 numbers as arguments, it merely sets the 2 field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82" name="Picture 6" descr=""/>
          <p:cNvPicPr/>
          <p:nvPr/>
        </p:nvPicPr>
        <p:blipFill>
          <a:blip r:embed="rId1"/>
          <a:stretch/>
        </p:blipFill>
        <p:spPr>
          <a:xfrm>
            <a:off x="2556000" y="2852640"/>
            <a:ext cx="525600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28CB-1345-4AAB-8068-9C604E20486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85800" y="14922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←⎕NEW complex (3,4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.re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ease creation of complex number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j←{⎕new complex (⍺ ⍵)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2←5 j 1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2.im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FBB6-C13B-4045-B03D-7179DA38DE9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85800" y="1563480"/>
            <a:ext cx="7772400" cy="48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yping c1 does not provide useful inform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t would be nice if we could find what the numbers are without having to u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.(real img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CAAF-DD98-46E5-8C38-AC7B85FF28C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isplay form can be improv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use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F to show a different string, e.g. 3J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. ⎕DF '3J4'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or whatever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ncluding the setting in the construct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BB0D-A694-488D-8A5D-5B6D162F9FA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ignment does not change the displa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.img←2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verify that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⎕←c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has the same display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properties to change th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2 proper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⎕DF to change the display in the &lt;set&gt; functio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9B34-DDB6-472E-A027-084A3065FCE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first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lu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08" name="Picture 6" descr=""/>
          <p:cNvPicPr/>
          <p:nvPr/>
        </p:nvPicPr>
        <p:blipFill>
          <a:blip r:embed="rId1"/>
          <a:stretch/>
        </p:blipFill>
        <p:spPr>
          <a:xfrm>
            <a:off x="2124000" y="2847960"/>
            <a:ext cx="45356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proble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 clashing (using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COP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608B-98BF-481B-B475-8E51451E3CE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1143000" y="3571920"/>
            <a:ext cx="2071800" cy="25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n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n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ounded Rectangle 7"/>
          <p:cNvSpPr/>
          <p:nvPr/>
        </p:nvSpPr>
        <p:spPr>
          <a:xfrm>
            <a:off x="6072120" y="3571920"/>
            <a:ext cx="2071800" cy="9288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n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3500280" y="378612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COPY  FilesUt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ounded Rectangle 9"/>
          <p:cNvSpPr/>
          <p:nvPr/>
        </p:nvSpPr>
        <p:spPr>
          <a:xfrm>
            <a:off x="6072120" y="3571920"/>
            <a:ext cx="2071800" cy="9288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n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2.41962E-006 L -0.54132 0.21582 E">
                                      <p:cBhvr>
                                        <p:cTn id="48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2193-ECB1-44C4-B816-0FFBCBCFF92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lu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s←c1  complex.plus  c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s.real 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DEE2-D6D5-46CA-908D-64BE0FD7331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ime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19" name="Picture 4" descr=""/>
          <p:cNvPicPr/>
          <p:nvPr/>
        </p:nvPicPr>
        <p:blipFill>
          <a:blip r:embed="rId1"/>
          <a:stretch/>
        </p:blipFill>
        <p:spPr>
          <a:xfrm>
            <a:off x="1763640" y="2954160"/>
            <a:ext cx="5472360" cy="28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BD99-0708-4130-BF1C-B015E4DD27A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ime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t←c1  complex.times  c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t.real 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5214-8949-4157-BB33-14D32A1E705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reciprocal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30" name="Picture 5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511308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FF44-4BE1-45AB-BEF9-82BA2ED4B5C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omplex.plus/4⍴c1 ⍝ if funny display, us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←{⍵.(real  img)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omplex.plus/4⍴c1     ⍝ 12 16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omplex.times\3⍴c1   ⍝ 3 4  ¯7 24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omplex.plus/c1 complex.times¨4⍴c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5C7E-8634-4E47-879B-85F3D040169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⍝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 ÷ c1   or   c1 × ÷c1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1 complex.times c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2 complex.times c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2.52   0.64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1653-5194-49EA-BD41-BA4D525B252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rovem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 functions (magnitude?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ccept a single (real) numb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 action="ppaction://hlinksldjump"/>
              </a:rPr>
              <a:t>Back to exercise choi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2428-55B8-4F60-B7F3-1ACF3E01809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simple math with 2 integers representing frac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a Numerator &amp; a Denominat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.:  3 / 7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th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A2D1-DD32-4D03-8B25-1446B86CAA1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simple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will contain 2 integer numbers and 3 methods to perform Add, Multiply and return the Reciprocal of a pair of simple numbers representing a frac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C26A-2847-40F5-BF77-4F8A0B8911D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simple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methods to perform Add and Multiply will be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in the class) methods and the Reciprocal will be an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tho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proble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 clashing (using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COP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not be stored as a unit on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ly 1 workspace item per component (variable or function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ed to cleanup when finish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55F9-153D-4193-9B6D-ACF5C0996BA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5711-3156-4AF9-8347-CBC337653D6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imple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number will be called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number will be called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will be stored in a vector (2 elem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will be two properties to access them individual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87E0-0E34-43DA-A1C2-972B54106B0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858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imple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ddition of 2 simple numbers (fraction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1 + S2 = (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n1 x d2 + n2 x d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,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d1 x d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tiplication of 2 simple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1 x S2 = (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n1 x n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,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d1 x d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ciprocal of a simple numb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÷S1 = (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d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,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n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793A-039D-4F02-91E0-9AC818C78C8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thing to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)ED ○ simp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76" name="Picture 2" descr=""/>
          <p:cNvPicPr/>
          <p:nvPr/>
        </p:nvPicPr>
        <p:blipFill>
          <a:blip r:embed="rId1"/>
          <a:stretch/>
        </p:blipFill>
        <p:spPr>
          <a:xfrm>
            <a:off x="2571840" y="3286080"/>
            <a:ext cx="4071960" cy="22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E98A-6AAA-4135-880B-29CCB00193D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fiel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82" name="Picture 2" descr=""/>
          <p:cNvPicPr/>
          <p:nvPr/>
        </p:nvPicPr>
        <p:blipFill>
          <a:blip r:embed="rId1"/>
          <a:stretch/>
        </p:blipFill>
        <p:spPr>
          <a:xfrm>
            <a:off x="2500200" y="2857680"/>
            <a:ext cx="443700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80BA-9EB9-496B-B5D5-113D66EDC47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constructor, it takes 2 numbers as arguments, it merely sets the fiel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88" name="Picture 2" descr=""/>
          <p:cNvPicPr/>
          <p:nvPr/>
        </p:nvPicPr>
        <p:blipFill>
          <a:blip r:embed="rId1"/>
          <a:stretch/>
        </p:blipFill>
        <p:spPr>
          <a:xfrm>
            <a:off x="2643120" y="2928960"/>
            <a:ext cx="4429080" cy="31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07E9-3F68-45E8-A07B-15F79819153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685800" y="14922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t this point the class does not do anythin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‘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Numbers’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s private and cannot be accessed from outsid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Let’s create properties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7419-9A16-4A51-804C-DBF870CE681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properties, they take 1 number to set a value in the fiel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99" name="Picture 2" descr=""/>
          <p:cNvPicPr/>
          <p:nvPr/>
        </p:nvPicPr>
        <p:blipFill>
          <a:blip r:embed="rId1"/>
          <a:stretch/>
        </p:blipFill>
        <p:spPr>
          <a:xfrm>
            <a:off x="2000160" y="2906640"/>
            <a:ext cx="5072040" cy="3094200"/>
          </a:xfrm>
          <a:prstGeom prst="rect">
            <a:avLst/>
          </a:prstGeom>
          <a:ln w="0">
            <a:noFill/>
          </a:ln>
        </p:spPr>
      </p:pic>
      <p:sp>
        <p:nvSpPr>
          <p:cNvPr id="1400" name="Rectangle 7"/>
          <p:cNvSpPr/>
          <p:nvPr/>
        </p:nvSpPr>
        <p:spPr>
          <a:xfrm>
            <a:off x="4062240" y="3684600"/>
            <a:ext cx="2858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F09A-8240-4BAF-B44B-D7CF9F93ABF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85800" y="14922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←⎕NEW simple(3,4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.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ease creation of simple number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←{⎕new simple (⍺ ⍵)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2←5 s 1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2.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"/>
          <p:cNvSpPr txBox="1"/>
          <p:nvPr/>
        </p:nvSpPr>
        <p:spPr>
          <a:xfrm>
            <a:off x="685800" y="19807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w enter the second property…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0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4CCA-11C7-43D3-B92B-4A79217C061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1" name="Picture 9" descr=""/>
          <p:cNvPicPr/>
          <p:nvPr/>
        </p:nvPicPr>
        <p:blipFill>
          <a:blip r:embed="rId1"/>
          <a:stretch/>
        </p:blipFill>
        <p:spPr>
          <a:xfrm>
            <a:off x="1500120" y="2786040"/>
            <a:ext cx="61437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73DA-11CC-46AF-A0F9-2F8CECD7E3E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685800" y="1563480"/>
            <a:ext cx="7772400" cy="48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yping s1 does not provide useful inform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t would be nice if we could find what the numbers are without having to u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.(N  D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(solution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ackag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overla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group items (vars &amp; fns) togeth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act as a (static) un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 be stored on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 be copied, like wss, into existing code and dispersed in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0656-DF7C-4F14-AD63-6E8C5627268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307A-2B85-4F55-9D13-5EB3F1D0916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isplay form can be improv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use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F to show a different string, e.g. 3/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. ⎕DF '3/4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ncluding the setting in the construct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E61B-7CC5-471E-B5F9-C7F8935D3F1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ignment does not change the displa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.N←2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verify that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⎕←s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has the same display form it had befo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the properties’ code to change th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⎕DF to change the display in the &lt;set&gt; functio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6C59-B56A-4709-B2F6-C7DF05507DC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first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lu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32" name="Picture 8" descr=""/>
          <p:cNvPicPr/>
          <p:nvPr/>
        </p:nvPicPr>
        <p:blipFill>
          <a:blip r:embed="rId1"/>
          <a:stretch/>
        </p:blipFill>
        <p:spPr>
          <a:xfrm>
            <a:off x="2143080" y="2705040"/>
            <a:ext cx="478620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4DA7-8DAC-4E6D-A7B1-513887EF1C1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lu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s←s1  simple.plus  s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s.N 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2371-183E-4C07-AB40-B1542E1D25C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ethod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ime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43" name="Picture 8" descr=""/>
          <p:cNvPicPr/>
          <p:nvPr/>
        </p:nvPicPr>
        <p:blipFill>
          <a:blip r:embed="rId1"/>
          <a:stretch/>
        </p:blipFill>
        <p:spPr>
          <a:xfrm>
            <a:off x="1785960" y="2714760"/>
            <a:ext cx="5500800" cy="32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A741-EE2D-4AEA-909F-044895B78CD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ime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t←s1  simple.times  s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t.N 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A746-AAEB-4B3D-8799-0F41453AE7E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reciprocal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54" name="Picture 8" descr=""/>
          <p:cNvPicPr/>
          <p:nvPr/>
        </p:nvPicPr>
        <p:blipFill>
          <a:blip r:embed="rId1"/>
          <a:stretch/>
        </p:blipFill>
        <p:spPr>
          <a:xfrm>
            <a:off x="1857240" y="2786040"/>
            <a:ext cx="5429520" cy="32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F578-F4BF-4938-B922-E6983B79882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imple.plus/4⍴s1 ⍝ if funny display, us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←{⍵.(N ‘/’ D)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imple.plus/4⍴s1     ⍝ 22/1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imple.times\3⍴s1   ⍝ 11/2 121/4…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imple.plus/s1 simple.times¨4⍴s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034E-7DC5-4ABC-A5A5-11D6B992C40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⍝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 ÷ s1   or   s1 × ÷s1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1 simple.times s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2 simple.times s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5/66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FCFC-E34E-4C75-98D7-97990966DAA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rovem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 functions (square, abs?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ccept a single (real) numb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ake this into a complex number 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 action="ppaction://hlinksldjump"/>
              </a:rPr>
              <a:t>Back to exercise choi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– packa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were only a partial solution to a more general probl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 clashing still happen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ean up was still need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97A3-C97C-455B-BDCE-AABE4A2D7DD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09F1-9E3C-42D4-9F4D-393DC7D9B36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/>
          </p:nvPr>
        </p:nvSpPr>
        <p:spPr>
          <a:xfrm>
            <a:off x="610920" y="1876320"/>
            <a:ext cx="806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many advantages to using OO languages over procedural languag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e of modif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duced maintenance cos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mod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an speed up development 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4918-491D-4451-BDDE-29C3B448117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569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O languages make abstraction eas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encourage architectures with elaborate layers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can be good when the problem domain is truly complex and demands a lot of abstrac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5358-989B-4BC8-94F3-AFE608A7E58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/>
          </p:nvPr>
        </p:nvSpPr>
        <p:spPr>
          <a:xfrm>
            <a:off x="250560" y="1917360"/>
            <a:ext cx="84582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ll OO languages show some tendency to suck programmers into the trap of excessive layer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bject frameworks and object browsers are not a substitute for good design or document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0182-95C7-4131-A3FA-4A5FF20BAC7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4582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o many layers destroy transparency: It becomes too difficult to see down through them and mentally model what the code is actually doing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Rules of Simplicity, Clarity, and Transparency can get violated wholesale, and the result is code full of obscure bugs and continuing maintenance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4E75-A20F-44F3-8736-A7D3688C644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/>
          </p:nvPr>
        </p:nvSpPr>
        <p:spPr>
          <a:xfrm>
            <a:off x="3059280" y="3610080"/>
            <a:ext cx="3457440" cy="89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Buyer beware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– name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he 80s a company came up with the concept of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amespa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probably from other languages like C++ and Jav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s are like workspaces but nes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BA3D-1367-4BAD-8DD2-EA82A866CEB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14240" y="16426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OS V1.0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V1.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1,ex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ar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2.ex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n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bc.dw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ar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te.tx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unction_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do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lat structu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4B4E-89F2-4FC9-B809-B4271639A8E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4286160" y="2286000"/>
            <a:ext cx="2286000" cy="30002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642960" y="2286000"/>
            <a:ext cx="2286000" cy="30002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2272-CB6C-4E9A-A985-81A463461F9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000" y="3068640"/>
            <a:ext cx="813420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Geneva"/>
              </a:rPr>
              <a:t>Object Orientation</a:t>
            </a:r>
            <a:endParaRPr b="0" lang="en-US" sz="4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258920" y="1714680"/>
            <a:ext cx="64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alog V11 was released in 2006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jor features wa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703440" y="1571400"/>
            <a:ext cx="77724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OS V2.0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V8.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Dir1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s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ile2.ext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var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bc.dws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var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ote.txt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unction_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older2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amespace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Etc.doc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na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subf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subn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ile1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na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ilex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opb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ich.log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objxv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ee (nested) structu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5EF3-3FCC-4A2B-B77B-9CFF0C86696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4357800" y="2143080"/>
            <a:ext cx="2643120" cy="37148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714240" y="2143080"/>
            <a:ext cx="2643480" cy="37148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4429080" y="2193840"/>
            <a:ext cx="1571760" cy="100008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776160" y="2184480"/>
            <a:ext cx="1571760" cy="100008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5286240" y="4357800"/>
            <a:ext cx="1490760" cy="1041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1071720" y="4357800"/>
            <a:ext cx="1490400" cy="107136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4429080" y="3643200"/>
            <a:ext cx="2428920" cy="181296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765000" y="3602160"/>
            <a:ext cx="2021040" cy="187776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99680" y="1500120"/>
            <a:ext cx="83581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namespace is similar to a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It contains functions, variables (including some system variable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It can contain an entire appl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It acts as a unit: it can be put as a single item on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It 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dynam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 it can be moved into to execute code, no need to disperse conten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3E1D-DC1D-4C64-BA33-A476E5ACFA4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285840" y="1690560"/>
            <a:ext cx="885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namespace is similar to a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ike a workspace, if you need to tweak one you take a copy and modify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orkspace: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Namesp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myApp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newApp&lt;-[]NS []OR ’myApp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&lt;-3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newApp.A&lt;-3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SAVE newApp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742A-9546-4457-9D8A-5B5DBBA3D3E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99680" y="1619280"/>
            <a:ext cx="8286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Reusability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one of the key conce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rom a template you create a new version possibly modifying it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1 namespace      many possibly different ver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BB7C-B7CB-449E-BCFC-615FF273E26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9" name="Right Arrow 7"/>
          <p:cNvSpPr/>
          <p:nvPr/>
        </p:nvSpPr>
        <p:spPr>
          <a:xfrm>
            <a:off x="3124080" y="402912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99680" y="1619280"/>
            <a:ext cx="8286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Reusability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are very much like namespac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rom a class you create a new version possibly modifying it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1 class      many possibly different ver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1D0B-9533-4078-9961-EF27673ADEF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5" name="Right Arrow 7"/>
          <p:cNvSpPr/>
          <p:nvPr/>
        </p:nvSpPr>
        <p:spPr>
          <a:xfrm>
            <a:off x="1928880" y="4024440"/>
            <a:ext cx="428400" cy="28548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O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Net is based on namespaces and supports many OO concep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APL is based on namespaces and supports many OO concepts.</a:t>
            </a:r>
            <a:br>
              <a:rPr sz="3200"/>
            </a:b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go well hand in hand togeth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BFDA-3225-4C69-AC14-2FC1DE2B8C9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8185-B342-4D8F-A3B4-D0539F31729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Dyalo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588680"/>
            <a:ext cx="838836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not new! The ability to use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create classes was already in V10 but it was more difficult to u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46" name="Group 8"/>
          <p:cNvGrpSpPr/>
          <p:nvPr/>
        </p:nvGrpSpPr>
        <p:grpSpPr>
          <a:xfrm>
            <a:off x="250920" y="3200400"/>
            <a:ext cx="8713800" cy="3036960"/>
            <a:chOff x="250920" y="3200400"/>
            <a:chExt cx="8713800" cy="3036960"/>
          </a:xfrm>
        </p:grpSpPr>
        <p:pic>
          <p:nvPicPr>
            <p:cNvPr id="247" name="Picture 4" descr=""/>
            <p:cNvPicPr/>
            <p:nvPr/>
          </p:nvPicPr>
          <p:blipFill>
            <a:blip r:embed="rId1"/>
            <a:stretch/>
          </p:blipFill>
          <p:spPr>
            <a:xfrm>
              <a:off x="250920" y="3200400"/>
              <a:ext cx="2914560" cy="30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6" descr=""/>
            <p:cNvPicPr/>
            <p:nvPr/>
          </p:nvPicPr>
          <p:blipFill>
            <a:blip r:embed="rId2"/>
            <a:stretch/>
          </p:blipFill>
          <p:spPr>
            <a:xfrm>
              <a:off x="3316320" y="3200400"/>
              <a:ext cx="2192400" cy="30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7" descr=""/>
            <p:cNvPicPr/>
            <p:nvPr/>
          </p:nvPicPr>
          <p:blipFill>
            <a:blip r:embed="rId3"/>
            <a:stretch/>
          </p:blipFill>
          <p:spPr>
            <a:xfrm>
              <a:off x="5707080" y="3200400"/>
              <a:ext cx="3257640" cy="3036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1BE5-D207-459C-BC5E-FD7BB072C64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8097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1749"/>
              </a:spcBef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lementary data elements (like int) and arrays of them (all the same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78880" indent="-578880">
              <a:spcBef>
                <a:spcPts val="1749"/>
              </a:spcBef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tructures (like {i: int; d: date}), many elementary elements or structures (recursive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78880" indent="-578880">
              <a:spcBef>
                <a:spcPts val="1749"/>
              </a:spcBef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amespaces (structures whose elements are referred to by name). They include cod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78880" indent="-578880">
              <a:spcBef>
                <a:spcPts val="1749"/>
              </a:spcBef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lasses (namespaces with initializers &amp; cleaners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D7DE-FE33-4F2D-9C98-C1AF717C221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 in Dyalog APL (DYW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2207880"/>
            <a:ext cx="7772400" cy="29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DYW all these objects exis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often simulate one by anoth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: a table of names &amp; values can represent a namespace of variab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W can also store the ⎕OR of a namespa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8FFB-8237-4C80-8AAF-334C475EC0F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4360" y="151560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raditional (procedural) systems, data is separated from co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65" name="Group 24"/>
          <p:cNvGrpSpPr/>
          <p:nvPr/>
        </p:nvGrpSpPr>
        <p:grpSpPr>
          <a:xfrm>
            <a:off x="1116000" y="2492280"/>
            <a:ext cx="6624720" cy="3744720"/>
            <a:chOff x="1116000" y="2492280"/>
            <a:chExt cx="6624720" cy="3744720"/>
          </a:xfrm>
        </p:grpSpPr>
        <p:sp>
          <p:nvSpPr>
            <p:cNvPr id="266" name="Line 11"/>
            <p:cNvSpPr/>
            <p:nvPr/>
          </p:nvSpPr>
          <p:spPr>
            <a:xfrm>
              <a:off x="4322880" y="2492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4"/>
            <p:cNvSpPr/>
            <p:nvPr/>
          </p:nvSpPr>
          <p:spPr>
            <a:xfrm>
              <a:off x="1116000" y="285264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5"/>
            <p:cNvSpPr/>
            <p:nvPr/>
          </p:nvSpPr>
          <p:spPr>
            <a:xfrm>
              <a:off x="1116000" y="400500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2484360" y="501300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7"/>
            <p:cNvSpPr/>
            <p:nvPr/>
          </p:nvSpPr>
          <p:spPr>
            <a:xfrm>
              <a:off x="7020000" y="285264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8"/>
            <p:cNvSpPr/>
            <p:nvPr/>
          </p:nvSpPr>
          <p:spPr>
            <a:xfrm>
              <a:off x="3780000" y="2997000"/>
              <a:ext cx="1081080" cy="72072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9"/>
            <p:cNvSpPr/>
            <p:nvPr/>
          </p:nvSpPr>
          <p:spPr>
            <a:xfrm>
              <a:off x="3778200" y="4005000"/>
              <a:ext cx="1081080" cy="72072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0"/>
            <p:cNvSpPr/>
            <p:nvPr/>
          </p:nvSpPr>
          <p:spPr>
            <a:xfrm>
              <a:off x="3780000" y="5013000"/>
              <a:ext cx="1081080" cy="72072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2"/>
            <p:cNvSpPr/>
            <p:nvPr/>
          </p:nvSpPr>
          <p:spPr>
            <a:xfrm>
              <a:off x="4327560" y="5732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3"/>
            <p:cNvSpPr/>
            <p:nvPr/>
          </p:nvSpPr>
          <p:spPr>
            <a:xfrm>
              <a:off x="4327560" y="37159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4"/>
            <p:cNvSpPr/>
            <p:nvPr/>
          </p:nvSpPr>
          <p:spPr>
            <a:xfrm>
              <a:off x="4313160" y="472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7" name="AutoShape 15"/>
            <p:cNvCxnSpPr>
              <a:stCxn id="267" idx="5"/>
              <a:endCxn id="271" idx="1"/>
            </p:cNvCxnSpPr>
            <p:nvPr/>
          </p:nvCxnSpPr>
          <p:spPr>
            <a:xfrm flipV="1">
              <a:off x="1763280" y="3356640"/>
              <a:ext cx="201708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8" name="AutoShape 16"/>
            <p:cNvCxnSpPr>
              <a:stCxn id="271" idx="3"/>
              <a:endCxn id="270" idx="2"/>
            </p:cNvCxnSpPr>
            <p:nvPr/>
          </p:nvCxnSpPr>
          <p:spPr>
            <a:xfrm>
              <a:off x="4860720" y="3357000"/>
              <a:ext cx="223092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9" name="AutoShape 17"/>
            <p:cNvCxnSpPr>
              <a:stCxn id="268" idx="5"/>
              <a:endCxn id="271" idx="1"/>
            </p:cNvCxnSpPr>
            <p:nvPr/>
          </p:nvCxnSpPr>
          <p:spPr>
            <a:xfrm flipV="1">
              <a:off x="1763280" y="3356640"/>
              <a:ext cx="2017080" cy="118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AutoShape 18"/>
            <p:cNvCxnSpPr>
              <a:stCxn id="268" idx="5"/>
              <a:endCxn id="272" idx="1"/>
            </p:cNvCxnSpPr>
            <p:nvPr/>
          </p:nvCxnSpPr>
          <p:spPr>
            <a:xfrm flipV="1">
              <a:off x="1763640" y="4364640"/>
              <a:ext cx="2015280" cy="18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AutoShape 19"/>
            <p:cNvCxnSpPr>
              <a:stCxn id="272" idx="3"/>
              <a:endCxn id="270" idx="2"/>
            </p:cNvCxnSpPr>
            <p:nvPr/>
          </p:nvCxnSpPr>
          <p:spPr>
            <a:xfrm flipV="1">
              <a:off x="4859280" y="3393000"/>
              <a:ext cx="2232720" cy="9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2" name="AutoShape 20"/>
            <p:cNvCxnSpPr>
              <a:stCxn id="269" idx="5"/>
              <a:endCxn id="273" idx="1"/>
            </p:cNvCxnSpPr>
            <p:nvPr/>
          </p:nvCxnSpPr>
          <p:spPr>
            <a:xfrm flipV="1">
              <a:off x="3132000" y="5372640"/>
              <a:ext cx="648360" cy="18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092E-C7EA-4B68-AB08-E23292F6CFC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eneva"/>
              </a:rPr>
              <a:t>This presentation is based on two things: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2600" y="2852640"/>
            <a:ext cx="828684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What is Object Orientation programming? 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1100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How do I use it in APL?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68360" y="1557360"/>
            <a:ext cx="8136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9E95-4BA3-4F51-8023-6DC374CD052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4360" y="166032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the same in traditional APL systems, data is separated from co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88" name="Group 33"/>
          <p:cNvGrpSpPr/>
          <p:nvPr/>
        </p:nvGrpSpPr>
        <p:grpSpPr>
          <a:xfrm>
            <a:off x="1042920" y="3068640"/>
            <a:ext cx="4321080" cy="1944720"/>
            <a:chOff x="1042920" y="3068640"/>
            <a:chExt cx="4321080" cy="1944720"/>
          </a:xfrm>
        </p:grpSpPr>
        <p:pic>
          <p:nvPicPr>
            <p:cNvPr id="289" name="Picture 25" descr=""/>
            <p:cNvPicPr/>
            <p:nvPr/>
          </p:nvPicPr>
          <p:blipFill>
            <a:blip r:embed="rId1"/>
            <a:stretch/>
          </p:blipFill>
          <p:spPr>
            <a:xfrm>
              <a:off x="1042920" y="3068640"/>
              <a:ext cx="432108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Rectangle 26"/>
            <p:cNvSpPr/>
            <p:nvPr/>
          </p:nvSpPr>
          <p:spPr>
            <a:xfrm>
              <a:off x="1090800" y="405720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7"/>
            <p:cNvSpPr/>
            <p:nvPr/>
          </p:nvSpPr>
          <p:spPr>
            <a:xfrm>
              <a:off x="2432880" y="4411440"/>
              <a:ext cx="75672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28"/>
            <p:cNvSpPr/>
            <p:nvPr/>
          </p:nvSpPr>
          <p:spPr>
            <a:xfrm>
              <a:off x="1090800" y="370584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29"/>
            <p:cNvSpPr/>
            <p:nvPr/>
          </p:nvSpPr>
          <p:spPr>
            <a:xfrm>
              <a:off x="2584080" y="371124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30"/>
            <p:cNvSpPr/>
            <p:nvPr/>
          </p:nvSpPr>
          <p:spPr>
            <a:xfrm>
              <a:off x="3489120" y="370872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31"/>
            <p:cNvSpPr/>
            <p:nvPr/>
          </p:nvSpPr>
          <p:spPr>
            <a:xfrm>
              <a:off x="3785040" y="405720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32"/>
            <p:cNvSpPr/>
            <p:nvPr/>
          </p:nvSpPr>
          <p:spPr>
            <a:xfrm>
              <a:off x="4387320" y="370332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51"/>
          <p:cNvGrpSpPr/>
          <p:nvPr/>
        </p:nvGrpSpPr>
        <p:grpSpPr>
          <a:xfrm>
            <a:off x="6299280" y="2421000"/>
            <a:ext cx="2376360" cy="3600000"/>
            <a:chOff x="6299280" y="2421000"/>
            <a:chExt cx="2376360" cy="3600000"/>
          </a:xfrm>
        </p:grpSpPr>
        <p:sp>
          <p:nvSpPr>
            <p:cNvPr id="298" name="Line 52"/>
            <p:cNvSpPr/>
            <p:nvPr/>
          </p:nvSpPr>
          <p:spPr>
            <a:xfrm>
              <a:off x="7449480" y="2421000"/>
              <a:ext cx="0" cy="4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53"/>
            <p:cNvSpPr/>
            <p:nvPr/>
          </p:nvSpPr>
          <p:spPr>
            <a:xfrm>
              <a:off x="6299280" y="2767320"/>
              <a:ext cx="258480" cy="103932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54"/>
            <p:cNvSpPr/>
            <p:nvPr/>
          </p:nvSpPr>
          <p:spPr>
            <a:xfrm>
              <a:off x="6299280" y="3875400"/>
              <a:ext cx="258480" cy="103932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55"/>
            <p:cNvSpPr/>
            <p:nvPr/>
          </p:nvSpPr>
          <p:spPr>
            <a:xfrm>
              <a:off x="6789960" y="4844520"/>
              <a:ext cx="258480" cy="103932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56"/>
            <p:cNvSpPr/>
            <p:nvPr/>
          </p:nvSpPr>
          <p:spPr>
            <a:xfrm>
              <a:off x="8417160" y="2767320"/>
              <a:ext cx="258480" cy="103932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utoShape 57"/>
            <p:cNvSpPr/>
            <p:nvPr/>
          </p:nvSpPr>
          <p:spPr>
            <a:xfrm>
              <a:off x="7254720" y="2905920"/>
              <a:ext cx="387720" cy="69264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58"/>
            <p:cNvSpPr/>
            <p:nvPr/>
          </p:nvSpPr>
          <p:spPr>
            <a:xfrm>
              <a:off x="7254000" y="3875400"/>
              <a:ext cx="387720" cy="69264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59"/>
            <p:cNvSpPr/>
            <p:nvPr/>
          </p:nvSpPr>
          <p:spPr>
            <a:xfrm>
              <a:off x="7254720" y="4844520"/>
              <a:ext cx="387720" cy="69264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60"/>
            <p:cNvSpPr/>
            <p:nvPr/>
          </p:nvSpPr>
          <p:spPr>
            <a:xfrm>
              <a:off x="7451280" y="5536080"/>
              <a:ext cx="0" cy="4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61"/>
            <p:cNvSpPr/>
            <p:nvPr/>
          </p:nvSpPr>
          <p:spPr>
            <a:xfrm>
              <a:off x="7451280" y="3597120"/>
              <a:ext cx="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62"/>
            <p:cNvSpPr/>
            <p:nvPr/>
          </p:nvSpPr>
          <p:spPr>
            <a:xfrm>
              <a:off x="7446240" y="4566960"/>
              <a:ext cx="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9" name="AutoShape 63"/>
            <p:cNvCxnSpPr>
              <a:stCxn id="299" idx="5"/>
              <a:endCxn id="303" idx="1"/>
            </p:cNvCxnSpPr>
            <p:nvPr/>
          </p:nvCxnSpPr>
          <p:spPr>
            <a:xfrm flipV="1">
              <a:off x="6531120" y="3251880"/>
              <a:ext cx="723960" cy="3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10" name="AutoShape 64"/>
            <p:cNvCxnSpPr>
              <a:stCxn id="303" idx="3"/>
              <a:endCxn id="302" idx="2"/>
            </p:cNvCxnSpPr>
            <p:nvPr/>
          </p:nvCxnSpPr>
          <p:spPr>
            <a:xfrm>
              <a:off x="7642800" y="3252240"/>
              <a:ext cx="800640" cy="3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11" name="AutoShape 65"/>
            <p:cNvCxnSpPr>
              <a:stCxn id="300" idx="5"/>
              <a:endCxn id="303" idx="1"/>
            </p:cNvCxnSpPr>
            <p:nvPr/>
          </p:nvCxnSpPr>
          <p:spPr>
            <a:xfrm flipV="1">
              <a:off x="6531120" y="3251880"/>
              <a:ext cx="723960" cy="114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AutoShape 66"/>
            <p:cNvCxnSpPr>
              <a:stCxn id="300" idx="5"/>
              <a:endCxn id="304" idx="1"/>
            </p:cNvCxnSpPr>
            <p:nvPr/>
          </p:nvCxnSpPr>
          <p:spPr>
            <a:xfrm flipV="1">
              <a:off x="6531120" y="4221000"/>
              <a:ext cx="723240" cy="17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" name="AutoShape 67"/>
            <p:cNvCxnSpPr>
              <a:stCxn id="304" idx="3"/>
              <a:endCxn id="302" idx="2"/>
            </p:cNvCxnSpPr>
            <p:nvPr/>
          </p:nvCxnSpPr>
          <p:spPr>
            <a:xfrm flipV="1">
              <a:off x="7642080" y="3287160"/>
              <a:ext cx="801360" cy="93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AutoShape 68"/>
            <p:cNvCxnSpPr>
              <a:stCxn id="301" idx="5"/>
              <a:endCxn id="305" idx="1"/>
            </p:cNvCxnSpPr>
            <p:nvPr/>
          </p:nvCxnSpPr>
          <p:spPr>
            <a:xfrm flipV="1">
              <a:off x="7021800" y="5190120"/>
              <a:ext cx="232920" cy="17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79AE-EA92-4CF8-97D3-57C26FD55E2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4360" y="158724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OO systems, data is more tightly coupled with co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20" name="Group 26"/>
          <p:cNvGrpSpPr/>
          <p:nvPr/>
        </p:nvGrpSpPr>
        <p:grpSpPr>
          <a:xfrm>
            <a:off x="1000080" y="3500280"/>
            <a:ext cx="3024360" cy="1656000"/>
            <a:chOff x="1000080" y="3500280"/>
            <a:chExt cx="3024360" cy="1656000"/>
          </a:xfrm>
        </p:grpSpPr>
        <p:sp>
          <p:nvSpPr>
            <p:cNvPr id="321" name="AutoShape 8"/>
            <p:cNvSpPr/>
            <p:nvPr/>
          </p:nvSpPr>
          <p:spPr>
            <a:xfrm>
              <a:off x="1000080" y="3500280"/>
              <a:ext cx="3024360" cy="165600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4"/>
            <p:cNvSpPr/>
            <p:nvPr/>
          </p:nvSpPr>
          <p:spPr>
            <a:xfrm>
              <a:off x="1215720" y="3787560"/>
              <a:ext cx="720720" cy="108144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7"/>
            <p:cNvSpPr/>
            <p:nvPr/>
          </p:nvSpPr>
          <p:spPr>
            <a:xfrm>
              <a:off x="3089520" y="3787560"/>
              <a:ext cx="720720" cy="108144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AutoShape 9"/>
          <p:cNvSpPr/>
          <p:nvPr/>
        </p:nvSpPr>
        <p:spPr>
          <a:xfrm>
            <a:off x="6804000" y="314172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7"/>
          <p:cNvSpPr/>
          <p:nvPr/>
        </p:nvSpPr>
        <p:spPr>
          <a:xfrm>
            <a:off x="6804000" y="404352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8"/>
          <p:cNvSpPr/>
          <p:nvPr/>
        </p:nvSpPr>
        <p:spPr>
          <a:xfrm>
            <a:off x="6804000" y="497052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9"/>
          <p:cNvSpPr/>
          <p:nvPr/>
        </p:nvSpPr>
        <p:spPr>
          <a:xfrm>
            <a:off x="7307280" y="38908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30"/>
          <p:cNvSpPr/>
          <p:nvPr/>
        </p:nvSpPr>
        <p:spPr>
          <a:xfrm>
            <a:off x="7307280" y="4789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1"/>
          <p:cNvSpPr/>
          <p:nvPr/>
        </p:nvSpPr>
        <p:spPr>
          <a:xfrm>
            <a:off x="7307280" y="56912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32"/>
          <p:cNvSpPr/>
          <p:nvPr/>
        </p:nvSpPr>
        <p:spPr>
          <a:xfrm>
            <a:off x="7307280" y="27576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43"/>
          <p:cNvSpPr/>
          <p:nvPr/>
        </p:nvSpPr>
        <p:spPr>
          <a:xfrm>
            <a:off x="3714840" y="4286160"/>
            <a:ext cx="3313080" cy="216000"/>
          </a:xfrm>
          <a:prstGeom prst="leftRightArrow">
            <a:avLst>
              <a:gd name="adj1" fmla="val 50000"/>
              <a:gd name="adj2" fmla="val 305346"/>
            </a:avLst>
          </a:prstGeom>
          <a:solidFill>
            <a:srgbClr val="790082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7"/>
          <p:cNvSpPr/>
          <p:nvPr/>
        </p:nvSpPr>
        <p:spPr>
          <a:xfrm>
            <a:off x="7000920" y="4143240"/>
            <a:ext cx="261720" cy="48132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7"/>
          <p:cNvSpPr/>
          <p:nvPr/>
        </p:nvSpPr>
        <p:spPr>
          <a:xfrm>
            <a:off x="7462800" y="4143240"/>
            <a:ext cx="260280" cy="48132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ACCE-5EB1-44B2-87DB-4C60DD765F3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4360" y="166032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me thing in OO APL system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39" name="Group 21"/>
          <p:cNvGrpSpPr/>
          <p:nvPr/>
        </p:nvGrpSpPr>
        <p:grpSpPr>
          <a:xfrm>
            <a:off x="1000080" y="3143160"/>
            <a:ext cx="3457800" cy="2008440"/>
            <a:chOff x="1000080" y="3143160"/>
            <a:chExt cx="3457800" cy="2008440"/>
          </a:xfrm>
        </p:grpSpPr>
        <p:sp>
          <p:nvSpPr>
            <p:cNvPr id="340" name="AutoShape 5"/>
            <p:cNvSpPr/>
            <p:nvPr/>
          </p:nvSpPr>
          <p:spPr>
            <a:xfrm>
              <a:off x="1000080" y="3143160"/>
              <a:ext cx="3457800" cy="200844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6"/>
            <p:cNvSpPr/>
            <p:nvPr/>
          </p:nvSpPr>
          <p:spPr>
            <a:xfrm>
              <a:off x="1246680" y="3491640"/>
              <a:ext cx="824040" cy="13114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7"/>
            <p:cNvSpPr/>
            <p:nvPr/>
          </p:nvSpPr>
          <p:spPr>
            <a:xfrm>
              <a:off x="3388680" y="3491640"/>
              <a:ext cx="824040" cy="13114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AutoShape 8"/>
          <p:cNvSpPr/>
          <p:nvPr/>
        </p:nvSpPr>
        <p:spPr>
          <a:xfrm>
            <a:off x="5076720" y="282420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3"/>
          <p:cNvSpPr/>
          <p:nvPr/>
        </p:nvSpPr>
        <p:spPr>
          <a:xfrm>
            <a:off x="5076720" y="372600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4"/>
          <p:cNvSpPr/>
          <p:nvPr/>
        </p:nvSpPr>
        <p:spPr>
          <a:xfrm>
            <a:off x="5076720" y="465300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5"/>
          <p:cNvSpPr/>
          <p:nvPr/>
        </p:nvSpPr>
        <p:spPr>
          <a:xfrm>
            <a:off x="5580000" y="3573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>
            <a:off x="558000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8"/>
          <p:cNvSpPr/>
          <p:nvPr/>
        </p:nvSpPr>
        <p:spPr>
          <a:xfrm>
            <a:off x="5580000" y="2440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6"/>
          <p:cNvSpPr/>
          <p:nvPr/>
        </p:nvSpPr>
        <p:spPr>
          <a:xfrm>
            <a:off x="5464080" y="4303800"/>
            <a:ext cx="0" cy="11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5"/>
          <p:cNvSpPr/>
          <p:nvPr/>
        </p:nvSpPr>
        <p:spPr>
          <a:xfrm>
            <a:off x="5072040" y="3714840"/>
            <a:ext cx="1096920" cy="73656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6"/>
          <p:cNvSpPr/>
          <p:nvPr/>
        </p:nvSpPr>
        <p:spPr>
          <a:xfrm>
            <a:off x="5149800" y="3843360"/>
            <a:ext cx="262080" cy="47952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7"/>
          <p:cNvSpPr/>
          <p:nvPr/>
        </p:nvSpPr>
        <p:spPr>
          <a:xfrm>
            <a:off x="5829480" y="3843360"/>
            <a:ext cx="261720" cy="47952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28"/>
          <p:cNvSpPr/>
          <p:nvPr/>
        </p:nvSpPr>
        <p:spPr>
          <a:xfrm>
            <a:off x="4456080" y="3147840"/>
            <a:ext cx="615960" cy="56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traight Connector 30"/>
          <p:cNvSpPr/>
          <p:nvPr/>
        </p:nvSpPr>
        <p:spPr>
          <a:xfrm flipV="1">
            <a:off x="4471200" y="4446720"/>
            <a:ext cx="590760" cy="72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5"/>
          <p:cNvSpPr/>
          <p:nvPr/>
        </p:nvSpPr>
        <p:spPr>
          <a:xfrm>
            <a:off x="5572080" y="450072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5E9F-C67E-4AFB-B1EC-B8969FB5677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WordArt 4"/>
          <p:cNvSpPr txBox="1"/>
          <p:nvPr/>
        </p:nvSpPr>
        <p:spPr>
          <a:xfrm>
            <a:off x="826920" y="2708280"/>
            <a:ext cx="763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fc20"/>
                    </a:gs>
                    <a:gs pos="100000">
                      <a:srgbClr val="bed81b"/>
                    </a:gs>
                  </a:gsLst>
                  <a:lin ang="5400000"/>
                </a:gradFill>
                <a:latin typeface="Times New Roman"/>
              </a:rPr>
              <a:t>Definitions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fc20"/>
                  </a:gs>
                  <a:gs pos="100000">
                    <a:srgbClr val="bed81b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808200" y="28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24000" y="1069920"/>
            <a:ext cx="871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Object Oriented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F0CB-D993-4111-A446-EA73A556BF0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8360" y="1660320"/>
            <a:ext cx="7989840" cy="68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bject Oriented paradigm is based 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2338560" y="2517840"/>
            <a:ext cx="4465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&amp;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anc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2937-7F23-4741-8C98-FCF697199C3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000" y="1750680"/>
            <a:ext cx="83516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1. Class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clas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fines the abstract characteristics of some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object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, akin to a blueprin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t describes a collection of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members (data and cod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asses can be nes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7675-BBE7-48A8-9289-3E35F961FFC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000" y="1733040"/>
            <a:ext cx="835164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Class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ex: House blueprint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78" name="Group 11"/>
          <p:cNvGrpSpPr/>
          <p:nvPr/>
        </p:nvGrpSpPr>
        <p:grpSpPr>
          <a:xfrm>
            <a:off x="3203280" y="3860640"/>
            <a:ext cx="3097440" cy="1944720"/>
            <a:chOff x="3203280" y="3860640"/>
            <a:chExt cx="3097440" cy="1944720"/>
          </a:xfrm>
        </p:grpSpPr>
        <p:sp>
          <p:nvSpPr>
            <p:cNvPr id="379" name="Rectangle 4"/>
            <p:cNvSpPr/>
            <p:nvPr/>
          </p:nvSpPr>
          <p:spPr>
            <a:xfrm>
              <a:off x="3564000" y="4581360"/>
              <a:ext cx="2376360" cy="122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5"/>
            <p:cNvSpPr/>
            <p:nvPr/>
          </p:nvSpPr>
          <p:spPr>
            <a:xfrm flipH="1">
              <a:off x="3203280" y="3860640"/>
              <a:ext cx="158436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6"/>
            <p:cNvSpPr/>
            <p:nvPr/>
          </p:nvSpPr>
          <p:spPr>
            <a:xfrm flipH="1" flipV="1">
              <a:off x="4788000" y="3860640"/>
              <a:ext cx="151272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9"/>
            <p:cNvSpPr/>
            <p:nvPr/>
          </p:nvSpPr>
          <p:spPr>
            <a:xfrm>
              <a:off x="3786120" y="5000400"/>
              <a:ext cx="857160" cy="35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0"/>
            <p:cNvSpPr/>
            <p:nvPr/>
          </p:nvSpPr>
          <p:spPr>
            <a:xfrm>
              <a:off x="5143680" y="5143320"/>
              <a:ext cx="3571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1098-0712-4A9A-B6D8-98A5FA92B10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000" y="1733400"/>
            <a:ext cx="835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Class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clas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Geneva"/>
              </a:rPr>
              <a:t>can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mplement one or more </a:t>
            </a:r>
            <a:r>
              <a:rPr b="0" i="1" lang="en-US" sz="3200" spc="-1" strike="noStrike">
                <a:solidFill>
                  <a:srgbClr val="000000"/>
                </a:solidFill>
                <a:latin typeface="Geneva"/>
              </a:rPr>
              <a:t>interface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terfa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scribes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what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t should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describe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ho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t should be do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a class implements an interface it should do it completely, no partial implementation is allow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6BF7-8960-4A8D-9FFE-ABC047F222C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68000" y="1733040"/>
            <a:ext cx="8351640" cy="27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Interfac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terfa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scribes how to communicate with an objec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: electrical system &amp; electrical outle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94" name="Picture 7" descr="C:\Users\Danb\Pictures\outlet.jpg"/>
          <p:cNvPicPr/>
          <p:nvPr/>
        </p:nvPicPr>
        <p:blipFill>
          <a:blip r:embed="rId1"/>
          <a:stretch/>
        </p:blipFill>
        <p:spPr>
          <a:xfrm>
            <a:off x="3049560" y="4043520"/>
            <a:ext cx="2808360" cy="16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CE07-B51F-4934-B076-3498A8E2EEB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terfaces -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94920" y="1820520"/>
            <a:ext cx="8064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following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maneuvering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interface describes what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HA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o be done with a machin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ethod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teer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(direction);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// where to go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ethod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ccellerat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(power);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// go fast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ethod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lowDow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(strength); // go slow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t does NOT specify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HOW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it should be don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A98F-577F-45AE-942F-08ACF41003F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ve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339640" y="2449440"/>
            <a:ext cx="410364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ne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History of OO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711360" indent="-711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ne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Definitions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711360" indent="-711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ne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The APL way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42D7-2767-4014-A697-83945CAB3FB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7" descr="carcockpit3"/>
          <p:cNvPicPr/>
          <p:nvPr/>
        </p:nvPicPr>
        <p:blipFill>
          <a:blip r:embed="rId1"/>
          <a:stretch/>
        </p:blipFill>
        <p:spPr>
          <a:xfrm>
            <a:off x="5943600" y="1916280"/>
            <a:ext cx="3205080" cy="424944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terfaces -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81080" y="1371240"/>
            <a:ext cx="82072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ar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bject implement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179280" y="2085840"/>
            <a:ext cx="626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ar : maneuver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teeringWhee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Ste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turn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GasPed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Acceller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push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BreakPed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SlowDow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hit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E389-38B9-4CE3-8D3E-DB04313D665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cockpit2"/>
          <p:cNvPicPr/>
          <p:nvPr/>
        </p:nvPicPr>
        <p:blipFill>
          <a:blip r:embed="rId1"/>
          <a:stretch/>
        </p:blipFill>
        <p:spPr>
          <a:xfrm>
            <a:off x="5722920" y="2060640"/>
            <a:ext cx="3421080" cy="4032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terfaces -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5330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lan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bject implement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250920" y="2157480"/>
            <a:ext cx="5761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la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aneuver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Yok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Ste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move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Hand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Acceller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pp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lap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SlowDow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degree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4F75-652B-4F0D-B3FE-7E9B9DDF0CA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360" y="158904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2. Instanc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ose are tangible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object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created from a specific cla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creation any specific action is carried out by 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code) of the class if some sort of initialization is requi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destruction, 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destructo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responsible for cleaning up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3B54-4B1F-4CD3-863B-A20F572122C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68000" y="1588680"/>
            <a:ext cx="38178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2. Instanc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New House (Blue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24" name="Group 11" descr=""/>
          <p:cNvPicPr/>
          <p:nvPr/>
        </p:nvPicPr>
        <p:blipFill>
          <a:blip r:embed="rId1"/>
          <a:stretch/>
        </p:blipFill>
        <p:spPr>
          <a:xfrm>
            <a:off x="3054240" y="2981160"/>
            <a:ext cx="3121200" cy="1968840"/>
          </a:xfrm>
          <a:prstGeom prst="rect">
            <a:avLst/>
          </a:prstGeom>
          <a:ln w="0">
            <a:noFill/>
          </a:ln>
        </p:spPr>
      </p:pic>
      <p:sp>
        <p:nvSpPr>
          <p:cNvPr id="425" name="Isosceles Triangle 12"/>
          <p:cNvSpPr/>
          <p:nvPr/>
        </p:nvSpPr>
        <p:spPr>
          <a:xfrm>
            <a:off x="3429000" y="2998800"/>
            <a:ext cx="2428920" cy="716040"/>
          </a:xfrm>
          <a:prstGeom prst="triangle">
            <a:avLst>
              <a:gd name="adj" fmla="val 49574"/>
            </a:avLst>
          </a:prstGeom>
          <a:solidFill>
            <a:srgbClr val="72bfc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3"/>
          <p:cNvSpPr/>
          <p:nvPr/>
        </p:nvSpPr>
        <p:spPr>
          <a:xfrm>
            <a:off x="605520" y="5072040"/>
            <a:ext cx="740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ter the creation of the new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ructor paints it in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E447-B4FE-437C-AB91-442510469FD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55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94920" y="1660320"/>
            <a:ext cx="8280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3. Memb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is the code and the data of a cla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ode is divided into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Metho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functions) and data is divided into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Fiel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variables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also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operti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hich are Fields implemented via functions to read/set th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E8B2-7599-43D0-A21C-4669E0AA390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95280" y="1589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emb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se can reside inside the class if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in 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: the .Net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ateTim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has a member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No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at does not require an instance to be called.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ateTime.Now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⍝ straight from the 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2007/10/21  9:12:0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D499-0C05-4A14-9A20-2260EF3C5C8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94920" y="1589040"/>
            <a:ext cx="4824360" cy="12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3562200" y="2565360"/>
            <a:ext cx="1944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1 S2 S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I1 I2 I3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695160" y="2462040"/>
            <a:ext cx="27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red me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ain in th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104292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S1 S2 S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1 I2 I3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56220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S1 S2 S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1 I2 I3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608328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S1 S2 S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1 I2 I3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5900040" y="3033720"/>
            <a:ext cx="27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 memb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reated in t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8" name="AutoShape 10"/>
          <p:cNvCxnSpPr>
            <a:stCxn id="442" idx="2"/>
            <a:endCxn id="444" idx="0"/>
          </p:cNvCxnSpPr>
          <p:nvPr/>
        </p:nvCxnSpPr>
        <p:spPr>
          <a:xfrm flipH="1">
            <a:off x="2015280" y="3860640"/>
            <a:ext cx="252036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49" name="AutoShape 12"/>
          <p:cNvCxnSpPr>
            <a:stCxn id="442" idx="2"/>
            <a:endCxn id="445" idx="0"/>
          </p:cNvCxnSpPr>
          <p:nvPr/>
        </p:nvCxnSpPr>
        <p:spPr>
          <a:xfrm>
            <a:off x="4535280" y="3860640"/>
            <a:ext cx="108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50" name="AutoShape 13"/>
          <p:cNvCxnSpPr>
            <a:stCxn id="442" idx="2"/>
            <a:endCxn id="446" idx="0"/>
          </p:cNvCxnSpPr>
          <p:nvPr/>
        </p:nvCxnSpPr>
        <p:spPr>
          <a:xfrm>
            <a:off x="4535640" y="3860640"/>
            <a:ext cx="252144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0263-8134-4817-AAFF-1FB1BB30A97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660320"/>
            <a:ext cx="7989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embers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Method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ose can either reside in the class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metho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 or in the instance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metho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also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abstrac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thods (e.g. in interfaces) with no code, only calling syntax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destructor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re method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B75D-A382-4A05-8555-281E32664D0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80504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embers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Field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ose can either reside in the class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fiel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 or in the instance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fiel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 also b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read onl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C9D7-C408-4E48-B831-BB5BA7886C9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60320"/>
            <a:ext cx="8352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embers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Properti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ose are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Field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lemented by 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access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thods, i.e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 </a:t>
            </a:r>
            <a:r>
              <a:rPr b="0" lang="en-GB" sz="2800" spc="-1" strike="noStrike">
                <a:solidFill>
                  <a:srgbClr val="333333"/>
                </a:solidFill>
                <a:latin typeface="APL385 Unicode"/>
              </a:rPr>
              <a:t>PropX←</a:t>
            </a:r>
            <a:r>
              <a:rPr b="0" lang="fr-CA" sz="2800" spc="-1" strike="noStrike">
                <a:solidFill>
                  <a:srgbClr val="333333"/>
                </a:solidFill>
                <a:latin typeface="APL385 Unicode"/>
              </a:rPr>
              <a:t>value </a:t>
            </a:r>
            <a:r>
              <a:rPr b="0" lang="fr-CA" sz="28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⍝ </a:t>
            </a:r>
            <a:r>
              <a:rPr b="0" lang="fr-CA" sz="2800" spc="-1" strike="noStrike">
                <a:solidFill>
                  <a:srgbClr val="333333"/>
                </a:solidFill>
                <a:latin typeface="Geneva"/>
              </a:rPr>
              <a:t>is implemented by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33"/>
                </a:solidFill>
                <a:latin typeface="APL385 Unicode"/>
              </a:rPr>
              <a:t> </a:t>
            </a:r>
            <a:r>
              <a:rPr b="0" lang="fr-CA" sz="2800" spc="-1" strike="noStrike">
                <a:solidFill>
                  <a:srgbClr val="333333"/>
                </a:solidFill>
                <a:latin typeface="APL385 Unicode"/>
              </a:rPr>
              <a:t>SET valu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can either reside in the class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 or in the instance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4146-073B-421B-AAB1-13584495355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sons: why do this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763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Because Object Orientation is a Valuable Tool of Though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To be able to Share Tools and Components more Easi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To help us Manage Complexity in all Project Pha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use .Net more easi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4F8B-473A-4E22-9F15-79D6682204A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9640" y="1805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4. Message passing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is the (usually asynchronous) sending (often by copy) of a data item to a communication endpoint (process, thread, socket, etc.)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procedural languages like Dyalog, it corresponds to a call made to a routi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6DB1-9A7C-4767-A9E6-055FA331A3B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24000" y="1589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5. 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This is a way to avoid rewriting code by writing general classes and classes that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derive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from them and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inherit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their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members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This helps achieve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reusability, 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a cornerstone of OO by avoiding to rewrite code and use what already exis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DE47-4372-4D0A-B575-D65DACF3FC3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95280" y="17334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We say that a (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derived)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class is </a:t>
            </a:r>
            <a:r>
              <a:rPr b="0" i="1" lang="fr-CA" sz="3200" spc="-1" strike="noStrike">
                <a:solidFill>
                  <a:srgbClr val="99cc00"/>
                </a:solidFill>
                <a:latin typeface="Geneva"/>
              </a:rPr>
              <a:t>based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on another o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33"/>
                </a:solidFill>
                <a:latin typeface="Geneva"/>
              </a:rPr>
              <a:t>All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classes (but one) are derived from another one or from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System.Object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(the defaul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6D71-2E7F-4F17-BEC3-BC872744A2B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31280" y="1660320"/>
            <a:ext cx="838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classes (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reusability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lang="en-GB" sz="28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an be based on another based class. See </a:t>
            </a:r>
            <a:r>
              <a:rPr b="0" lang="en-GB" sz="28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Collie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on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 Dog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on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 Anima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86" name="Group 24"/>
          <p:cNvGrpSpPr/>
          <p:nvPr/>
        </p:nvGrpSpPr>
        <p:grpSpPr>
          <a:xfrm>
            <a:off x="322200" y="3287880"/>
            <a:ext cx="8353440" cy="2877480"/>
            <a:chOff x="322200" y="3287880"/>
            <a:chExt cx="8353440" cy="2877480"/>
          </a:xfrm>
        </p:grpSpPr>
        <p:sp>
          <p:nvSpPr>
            <p:cNvPr id="487" name="Rectangle 4"/>
            <p:cNvSpPr/>
            <p:nvPr/>
          </p:nvSpPr>
          <p:spPr>
            <a:xfrm>
              <a:off x="827280" y="4366800"/>
              <a:ext cx="158400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5"/>
            <p:cNvSpPr/>
            <p:nvPr/>
          </p:nvSpPr>
          <p:spPr>
            <a:xfrm>
              <a:off x="2914560" y="357480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og: 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6"/>
            <p:cNvSpPr/>
            <p:nvPr/>
          </p:nvSpPr>
          <p:spPr>
            <a:xfrm>
              <a:off x="7091280" y="5157360"/>
              <a:ext cx="158436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x (Colli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7"/>
            <p:cNvSpPr/>
            <p:nvPr/>
          </p:nvSpPr>
          <p:spPr>
            <a:xfrm>
              <a:off x="2914560" y="494316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sh: 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8"/>
            <p:cNvSpPr/>
            <p:nvPr/>
          </p:nvSpPr>
          <p:spPr>
            <a:xfrm>
              <a:off x="7091280" y="4006440"/>
              <a:ext cx="158436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do (Colli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3"/>
            <p:cNvSpPr/>
            <p:nvPr/>
          </p:nvSpPr>
          <p:spPr>
            <a:xfrm>
              <a:off x="5002200" y="3287880"/>
              <a:ext cx="194472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eat Dane: Do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4"/>
            <p:cNvSpPr/>
            <p:nvPr/>
          </p:nvSpPr>
          <p:spPr>
            <a:xfrm>
              <a:off x="5002200" y="465444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llie: Do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4" name="AutoShape 15"/>
            <p:cNvCxnSpPr>
              <a:stCxn id="487" idx="3"/>
              <a:endCxn id="488" idx="1"/>
            </p:cNvCxnSpPr>
            <p:nvPr/>
          </p:nvCxnSpPr>
          <p:spPr>
            <a:xfrm flipV="1">
              <a:off x="2411280" y="4079160"/>
              <a:ext cx="50400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5" name="AutoShape 16"/>
            <p:cNvCxnSpPr>
              <a:stCxn id="487" idx="3"/>
              <a:endCxn id="490" idx="1"/>
            </p:cNvCxnSpPr>
            <p:nvPr/>
          </p:nvCxnSpPr>
          <p:spPr>
            <a:xfrm>
              <a:off x="2411280" y="4871520"/>
              <a:ext cx="504000" cy="57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6" name="AutoShape 17"/>
            <p:cNvCxnSpPr>
              <a:stCxn id="488" idx="3"/>
              <a:endCxn id="492" idx="1"/>
            </p:cNvCxnSpPr>
            <p:nvPr/>
          </p:nvCxnSpPr>
          <p:spPr>
            <a:xfrm flipV="1">
              <a:off x="4498920" y="3791520"/>
              <a:ext cx="504000" cy="28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7" name="AutoShape 18"/>
            <p:cNvCxnSpPr>
              <a:stCxn id="488" idx="3"/>
              <a:endCxn id="493" idx="1"/>
            </p:cNvCxnSpPr>
            <p:nvPr/>
          </p:nvCxnSpPr>
          <p:spPr>
            <a:xfrm>
              <a:off x="4498920" y="4079520"/>
              <a:ext cx="504000" cy="108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8" name="AutoShape 19"/>
            <p:cNvCxnSpPr>
              <a:stCxn id="493" idx="3"/>
              <a:endCxn id="491" idx="1"/>
            </p:cNvCxnSpPr>
            <p:nvPr/>
          </p:nvCxnSpPr>
          <p:spPr>
            <a:xfrm flipV="1">
              <a:off x="6586560" y="4511160"/>
              <a:ext cx="505440" cy="64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9" name="AutoShape 20"/>
            <p:cNvCxnSpPr>
              <a:stCxn id="493" idx="3"/>
              <a:endCxn id="489" idx="1"/>
            </p:cNvCxnSpPr>
            <p:nvPr/>
          </p:nvCxnSpPr>
          <p:spPr>
            <a:xfrm>
              <a:off x="6586560" y="5158800"/>
              <a:ext cx="505440" cy="50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Text Box 21"/>
            <p:cNvSpPr/>
            <p:nvPr/>
          </p:nvSpPr>
          <p:spPr>
            <a:xfrm>
              <a:off x="7164720" y="354924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bfd87"/>
                  </a:solidFill>
                  <a:latin typeface="Arial"/>
                </a:rPr>
                <a:t>Instanc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22"/>
            <p:cNvSpPr/>
            <p:nvPr/>
          </p:nvSpPr>
          <p:spPr>
            <a:xfrm>
              <a:off x="3193920" y="4546440"/>
              <a:ext cx="108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ccff"/>
                  </a:solidFill>
                  <a:latin typeface="Arial"/>
                </a:rPr>
                <a:t>Class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23"/>
            <p:cNvSpPr/>
            <p:nvPr/>
          </p:nvSpPr>
          <p:spPr>
            <a:xfrm>
              <a:off x="322200" y="48700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2C32-A80F-47FE-BF49-8AB59F75A04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24000" y="1589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tiple inheri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lang="en-GB" sz="32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an be based on several other classes Here </a:t>
            </a:r>
            <a:r>
              <a:rPr b="0" lang="en-GB" sz="3200" spc="-1" strike="noStrike">
                <a:solidFill>
                  <a:srgbClr val="00ccff"/>
                </a:solidFill>
                <a:latin typeface="Geneva"/>
              </a:rPr>
              <a:t>clas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e is made out of 2 different class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508" name="Group 21"/>
          <p:cNvGrpSpPr/>
          <p:nvPr/>
        </p:nvGrpSpPr>
        <p:grpSpPr>
          <a:xfrm>
            <a:off x="2771640" y="3429000"/>
            <a:ext cx="3889440" cy="2374920"/>
            <a:chOff x="2771640" y="3429000"/>
            <a:chExt cx="3889440" cy="2374920"/>
          </a:xfrm>
        </p:grpSpPr>
        <p:sp>
          <p:nvSpPr>
            <p:cNvPr id="509" name="Rectangle 9"/>
            <p:cNvSpPr/>
            <p:nvPr/>
          </p:nvSpPr>
          <p:spPr>
            <a:xfrm>
              <a:off x="2771640" y="3429000"/>
              <a:ext cx="158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ors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10"/>
            <p:cNvSpPr/>
            <p:nvPr/>
          </p:nvSpPr>
          <p:spPr>
            <a:xfrm>
              <a:off x="2771640" y="4795920"/>
              <a:ext cx="158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onkey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1" name="AutoShape 15"/>
            <p:cNvCxnSpPr>
              <a:stCxn id="510" idx="3"/>
              <a:endCxn id="512" idx="1"/>
            </p:cNvCxnSpPr>
            <p:nvPr/>
          </p:nvCxnSpPr>
          <p:spPr>
            <a:xfrm flipV="1">
              <a:off x="4356000" y="4725720"/>
              <a:ext cx="721440" cy="57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3" name="AutoShape 19"/>
            <p:cNvCxnSpPr>
              <a:stCxn id="509" idx="3"/>
              <a:endCxn id="512" idx="1"/>
            </p:cNvCxnSpPr>
            <p:nvPr/>
          </p:nvCxnSpPr>
          <p:spPr>
            <a:xfrm>
              <a:off x="4356000" y="3933360"/>
              <a:ext cx="721440" cy="793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2" name="Rectangle 20"/>
            <p:cNvSpPr/>
            <p:nvPr/>
          </p:nvSpPr>
          <p:spPr>
            <a:xfrm>
              <a:off x="5076720" y="4221000"/>
              <a:ext cx="158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ul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4C63-A792-4FA3-9EF9-80180966B1C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4720" y="1660320"/>
            <a:ext cx="8460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mulat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tiple inheri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lang="en-GB" sz="32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an implement several interfaces. Here </a:t>
            </a:r>
            <a:r>
              <a:rPr b="0" lang="en-GB" sz="3200" spc="-1" strike="noStrike">
                <a:solidFill>
                  <a:srgbClr val="00ccff"/>
                </a:solidFill>
                <a:latin typeface="Geneva"/>
              </a:rPr>
              <a:t>clas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enguin implements 2 different behaviours (interfaces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2556000" y="4005360"/>
            <a:ext cx="1584360" cy="1008000"/>
          </a:xfrm>
          <a:prstGeom prst="rect">
            <a:avLst/>
          </a:prstGeom>
          <a:solidFill>
            <a:srgbClr val="dd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wim,egg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2556000" y="5156280"/>
            <a:ext cx="1584360" cy="1008000"/>
          </a:xfrm>
          <a:prstGeom prst="rect">
            <a:avLst/>
          </a:prstGeom>
          <a:solidFill>
            <a:srgbClr val="dd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fly,eggs,s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1" name="AutoShape 7"/>
          <p:cNvCxnSpPr>
            <a:stCxn id="520" idx="3"/>
            <a:endCxn id="522" idx="1"/>
          </p:cNvCxnSpPr>
          <p:nvPr/>
        </p:nvCxnSpPr>
        <p:spPr>
          <a:xfrm flipV="1">
            <a:off x="4140360" y="5086080"/>
            <a:ext cx="72144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AutoShape 8"/>
          <p:cNvCxnSpPr>
            <a:stCxn id="519" idx="3"/>
            <a:endCxn id="522" idx="1"/>
          </p:cNvCxnSpPr>
          <p:nvPr/>
        </p:nvCxnSpPr>
        <p:spPr>
          <a:xfrm>
            <a:off x="4140360" y="4509720"/>
            <a:ext cx="72144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2" name="Rectangle 9"/>
          <p:cNvSpPr/>
          <p:nvPr/>
        </p:nvSpPr>
        <p:spPr>
          <a:xfrm>
            <a:off x="4861080" y="4365720"/>
            <a:ext cx="215892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ngui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wims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ies n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egg/y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oaks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191C-2FED-49BF-B025-805C7798D5B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24000" y="1805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When an </a:t>
            </a:r>
            <a:r>
              <a:rPr b="0" i="1" lang="fr-CA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is created from a class </a:t>
            </a:r>
            <a:r>
              <a:rPr b="0" i="1" lang="fr-CA" sz="3200" spc="-1" strike="noStrike">
                <a:solidFill>
                  <a:srgbClr val="99cc00"/>
                </a:solidFill>
                <a:latin typeface="Geneva"/>
              </a:rPr>
              <a:t>based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on another one it inherits all its members automatical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Members can be redefined but </a:t>
            </a:r>
            <a:r>
              <a:rPr b="0" lang="fr-CA" sz="3200" spc="-1" strike="noStrike" u="sng">
                <a:solidFill>
                  <a:srgbClr val="333333"/>
                </a:solidFill>
                <a:uFillTx/>
                <a:latin typeface="Geneva"/>
              </a:rPr>
              <a:t>subroutines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must be specifically set to </a:t>
            </a:r>
            <a:r>
              <a:rPr b="0" i="1" lang="fr-CA" sz="3200" spc="-1" strike="noStrike">
                <a:solidFill>
                  <a:srgbClr val="99cc00"/>
                </a:solidFill>
                <a:latin typeface="Geneva"/>
              </a:rPr>
              <a:t>override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base class subroutin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14CB-6EE6-44F7-A8D3-CC9B8B7970A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24000" y="1805040"/>
            <a:ext cx="864072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a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derived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 class inherits all the base memb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900000" y="3355920"/>
            <a:ext cx="172728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6156360" y="3355920"/>
            <a:ext cx="1727280" cy="2160720"/>
          </a:xfrm>
          <a:prstGeom prst="rect">
            <a:avLst/>
          </a:prstGeom>
          <a:solidFill>
            <a:srgbClr val="bbe0e3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2: 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75341E-006 L -0.29254 -0.00023 E">
                                      <p:cBhvr>
                                        <p:cTn id="54" dur="2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3257E-007 L 0.28351 0.00023 E">
                                      <p:cBhvr>
                                        <p:cTn id="56" dur="2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6597-0132-4B3A-A0E5-1B2893B39C0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24000" y="1805040"/>
            <a:ext cx="864072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a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derived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 class inherits all the base memb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900000" y="3355920"/>
            <a:ext cx="172728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469ff"/>
                </a:solidFill>
                <a:latin typeface="Arial"/>
              </a:rPr>
              <a:t>membe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469ff"/>
                </a:solidFill>
                <a:latin typeface="Arial"/>
              </a:rPr>
              <a:t>member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469ff"/>
                </a:solidFill>
                <a:latin typeface="Arial"/>
              </a:rPr>
              <a:t>membe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5"/>
          <p:cNvSpPr/>
          <p:nvPr/>
        </p:nvSpPr>
        <p:spPr>
          <a:xfrm>
            <a:off x="6156360" y="3355920"/>
            <a:ext cx="1727280" cy="2160720"/>
          </a:xfrm>
          <a:prstGeom prst="rect">
            <a:avLst/>
          </a:prstGeom>
          <a:solidFill>
            <a:srgbClr val="bbe0e3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2: 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75341E-006 L -0.29254 -0.00023 E">
                                      <p:cBhvr>
                                        <p:cTn id="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3257E-007 L 0.28351 0.00023 E">
                                      <p:cBhvr>
                                        <p:cTn id="64" dur="2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1419-9DB1-42DE-B523-07A325AC7D1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40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itialization</a:t>
            </a: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 is performed by the </a:t>
            </a:r>
            <a:r>
              <a:rPr b="0" i="1" lang="en-GB" sz="36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If a class is derived, the </a:t>
            </a:r>
            <a:r>
              <a:rPr b="0" lang="en-GB" sz="3600" spc="-1" strike="noStrike">
                <a:solidFill>
                  <a:srgbClr val="99cc00"/>
                </a:solidFill>
                <a:latin typeface="Geneva"/>
              </a:rPr>
              <a:t>base</a:t>
            </a: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 class' </a:t>
            </a:r>
            <a:r>
              <a:rPr b="0" i="1" lang="en-GB" sz="36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 will also be called if there is one.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8CCE-5C17-4C57-BA74-CBD5A2FE00C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Histo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89040"/>
            <a:ext cx="8207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O is not new, it’s been around for a whi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tty much the same story as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50s: concep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60s: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mplementation (SIMULA compiler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70s: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user base, Smalltalk compil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80s: starts to be used more serious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0s: popularity grows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≠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) thanks to C++ and Java &amp; the Interne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A477-5FF5-4971-B5F4-C1A9173F8F7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24000" y="1660680"/>
            <a:ext cx="864072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Some classes may be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sealed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to prevent other classes from inheriting th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88A0-AC57-4B5D-8AC9-C4BD8EB4C51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e concep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1122480" y="4460760"/>
            <a:ext cx="250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  A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5376960" y="4437000"/>
            <a:ext cx="250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B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  B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1"/>
          <p:cNvSpPr/>
          <p:nvPr/>
        </p:nvSpPr>
        <p:spPr>
          <a:xfrm>
            <a:off x="4788000" y="2181240"/>
            <a:ext cx="129672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2"/>
          <p:cNvSpPr/>
          <p:nvPr/>
        </p:nvSpPr>
        <p:spPr>
          <a:xfrm>
            <a:off x="6299280" y="290196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3"/>
          <p:cNvSpPr/>
          <p:nvPr/>
        </p:nvSpPr>
        <p:spPr>
          <a:xfrm>
            <a:off x="5722920" y="31179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4"/>
          <p:cNvSpPr/>
          <p:nvPr/>
        </p:nvSpPr>
        <p:spPr>
          <a:xfrm>
            <a:off x="5435640" y="27576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5"/>
          <p:cNvSpPr/>
          <p:nvPr/>
        </p:nvSpPr>
        <p:spPr>
          <a:xfrm flipH="1">
            <a:off x="5506920" y="34783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6"/>
          <p:cNvSpPr/>
          <p:nvPr/>
        </p:nvSpPr>
        <p:spPr>
          <a:xfrm>
            <a:off x="5435640" y="3478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7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8"/>
          <p:cNvSpPr/>
          <p:nvPr/>
        </p:nvSpPr>
        <p:spPr>
          <a:xfrm>
            <a:off x="5870160" y="1411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9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0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2BBE-DBC2-4BEB-A0D1-764A1C42AB1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1117440" y="446076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A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365440" y="443700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B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3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529272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15"/>
          <p:cNvSpPr/>
          <p:nvPr/>
        </p:nvSpPr>
        <p:spPr>
          <a:xfrm>
            <a:off x="5651640" y="2962440"/>
            <a:ext cx="129672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6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8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9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CA6C-4FE5-4C08-8EC8-F095CEECAA7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0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1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2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3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4"/>
          <p:cNvSpPr/>
          <p:nvPr/>
        </p:nvSpPr>
        <p:spPr>
          <a:xfrm>
            <a:off x="5292720" y="200808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15"/>
          <p:cNvSpPr/>
          <p:nvPr/>
        </p:nvSpPr>
        <p:spPr>
          <a:xfrm>
            <a:off x="5580000" y="2924280"/>
            <a:ext cx="15112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r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6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8"/>
          <p:cNvSpPr/>
          <p:nvPr/>
        </p:nvSpPr>
        <p:spPr>
          <a:xfrm>
            <a:off x="1117440" y="446076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A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9"/>
          <p:cNvSpPr/>
          <p:nvPr/>
        </p:nvSpPr>
        <p:spPr>
          <a:xfrm>
            <a:off x="5365440" y="443700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B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0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1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22"/>
          <p:cNvSpPr/>
          <p:nvPr/>
        </p:nvSpPr>
        <p:spPr>
          <a:xfrm>
            <a:off x="2055600" y="558972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:M2 does not allow to be overrid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D643-7A3B-43BD-AF5F-8BAC2758852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22"/>
          <p:cNvSpPr/>
          <p:nvPr/>
        </p:nvSpPr>
        <p:spPr>
          <a:xfrm>
            <a:off x="5580000" y="2924280"/>
            <a:ext cx="15112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r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3" name="AutoShape 6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rid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7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I am 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8"/>
          <p:cNvSpPr/>
          <p:nvPr/>
        </p:nvSpPr>
        <p:spPr>
          <a:xfrm>
            <a:off x="1835280" y="314172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9"/>
          <p:cNvSpPr/>
          <p:nvPr/>
        </p:nvSpPr>
        <p:spPr>
          <a:xfrm>
            <a:off x="1547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1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2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3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4"/>
          <p:cNvSpPr/>
          <p:nvPr/>
        </p:nvSpPr>
        <p:spPr>
          <a:xfrm>
            <a:off x="154764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5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6"/>
          <p:cNvSpPr/>
          <p:nvPr/>
        </p:nvSpPr>
        <p:spPr>
          <a:xfrm>
            <a:off x="527220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7"/>
          <p:cNvSpPr/>
          <p:nvPr/>
        </p:nvSpPr>
        <p:spPr>
          <a:xfrm flipH="1">
            <a:off x="1547280" y="350028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8"/>
          <p:cNvSpPr/>
          <p:nvPr/>
        </p:nvSpPr>
        <p:spPr>
          <a:xfrm>
            <a:off x="1117440" y="446076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A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9"/>
          <p:cNvSpPr/>
          <p:nvPr/>
        </p:nvSpPr>
        <p:spPr>
          <a:xfrm>
            <a:off x="5365440" y="443700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B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B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0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21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23"/>
          <p:cNvSpPr/>
          <p:nvPr/>
        </p:nvSpPr>
        <p:spPr>
          <a:xfrm>
            <a:off x="1481040" y="5589720"/>
            <a:ext cx="63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:M2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llow to be overridden AND B wants to override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9984-C22B-47C7-A5C9-58F3791B050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6. Encapsul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Hides the underlying functionality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It conceals the exact details of how a particular class works from objects (external or internal) that use its cod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This allows to modify 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he internal implementation of a class without requiring changes to its services (i.e. methods)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27C4-6405-4CF2-947D-2C0E6186649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ample: a ca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nsider a car: the functionality is hidden, it is encapsulated, you don’t see all the wiring inside, you’re only given specific controls to manipulate the car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50" name="Picture 4" descr="dash-wiring4"/>
          <p:cNvPicPr/>
          <p:nvPr/>
        </p:nvPicPr>
        <p:blipFill>
          <a:blip r:embed="rId1"/>
          <a:stretch/>
        </p:blipFill>
        <p:spPr>
          <a:xfrm>
            <a:off x="2195640" y="3284640"/>
            <a:ext cx="4608360" cy="307332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5" descr="closeddash1"/>
          <p:cNvPicPr/>
          <p:nvPr/>
        </p:nvPicPr>
        <p:blipFill>
          <a:blip r:embed="rId2"/>
          <a:stretch/>
        </p:blipFill>
        <p:spPr>
          <a:xfrm>
            <a:off x="2077920" y="3068640"/>
            <a:ext cx="4799160" cy="35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8D7B-8D4F-45A2-851B-79C7ABFA3DF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capsulation (access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allow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acce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a member there are various level defini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, to expose a member you must use some syntax that will declare it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y default,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iv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the nor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ED37-21F2-496C-8F90-EBC04B510D9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5"/>
          <p:cNvSpPr/>
          <p:nvPr/>
        </p:nvSpPr>
        <p:spPr>
          <a:xfrm>
            <a:off x="1908000" y="4214880"/>
            <a:ext cx="4969080" cy="1950840"/>
          </a:xfrm>
          <a:prstGeom prst="ellipse">
            <a:avLst/>
          </a:prstGeom>
          <a:solidFill>
            <a:srgbClr val="72b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24000" y="1517760"/>
            <a:ext cx="864072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privat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iv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mber cannot be seen from anywhere. Methods can only access it from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insid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 cla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sted or derived objects can't see it eith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n in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te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72bfc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7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72bfc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6B0B-06F6-40AE-9D82-3561F235566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40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protected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protect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mber can only be seen from within the instance of from nested or derived objec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1" name="Oval 4"/>
          <p:cNvSpPr/>
          <p:nvPr/>
        </p:nvSpPr>
        <p:spPr>
          <a:xfrm>
            <a:off x="1908000" y="4221000"/>
            <a:ext cx="4969080" cy="1872000"/>
          </a:xfrm>
          <a:prstGeom prst="ellipse">
            <a:avLst/>
          </a:prstGeom>
          <a:solidFill>
            <a:srgbClr val="72b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5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n in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te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6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5603-3D93-443B-8A43-AF2AB55275B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nother to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bject Orientation is another tool for programmers. Users won’t see any differen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a way for programmers to simplify their lives by supplying each other with already made objects (almost) ready to u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D220-BF09-4EC1-937B-FC581FFF772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public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mber can be seen from anywhere. All Methods can access it from anywhere whether it is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 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 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0" name="Oval 4"/>
          <p:cNvSpPr/>
          <p:nvPr/>
        </p:nvSpPr>
        <p:spPr>
          <a:xfrm>
            <a:off x="1908000" y="4221000"/>
            <a:ext cx="4969080" cy="1872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5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 is se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ll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le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6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146E-E803-4748-A616-463AC34A535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407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friend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class declared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frie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an see the offerer’s private and public member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9" name="AutoShape 14"/>
          <p:cNvSpPr/>
          <p:nvPr/>
        </p:nvSpPr>
        <p:spPr>
          <a:xfrm>
            <a:off x="5508720" y="4149720"/>
            <a:ext cx="2160360" cy="1727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te Bp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c B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iend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20"/>
          <p:cNvSpPr/>
          <p:nvPr/>
        </p:nvSpPr>
        <p:spPr>
          <a:xfrm>
            <a:off x="1890360" y="35211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21"/>
          <p:cNvSpPr/>
          <p:nvPr/>
        </p:nvSpPr>
        <p:spPr>
          <a:xfrm>
            <a:off x="5870160" y="35002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22"/>
          <p:cNvSpPr/>
          <p:nvPr/>
        </p:nvSpPr>
        <p:spPr>
          <a:xfrm>
            <a:off x="1547640" y="4148280"/>
            <a:ext cx="2160720" cy="936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te Ap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c A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3"/>
          <p:cNvSpPr/>
          <p:nvPr/>
        </p:nvSpPr>
        <p:spPr>
          <a:xfrm>
            <a:off x="5508720" y="472428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24"/>
          <p:cNvSpPr/>
          <p:nvPr/>
        </p:nvSpPr>
        <p:spPr>
          <a:xfrm flipH="1">
            <a:off x="3595680" y="4508640"/>
            <a:ext cx="220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25"/>
          <p:cNvSpPr/>
          <p:nvPr/>
        </p:nvSpPr>
        <p:spPr>
          <a:xfrm flipH="1" flipV="1">
            <a:off x="3564000" y="4724280"/>
            <a:ext cx="22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6"/>
          <p:cNvSpPr/>
          <p:nvPr/>
        </p:nvSpPr>
        <p:spPr>
          <a:xfrm>
            <a:off x="919800" y="5270400"/>
            <a:ext cx="372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e A sees B’s me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its own me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4C3D-4D06-4FF1-B383-32DD9EE8467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24000" y="17334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7. Polymorphism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t is behavior that allows a single definition to be used with different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type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of data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a way to call various sections of code using the same nam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yped languages can tell the difference by looking at the “signature” of the functions (their number of arguments and their type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7163-D54E-4828-B3EA-37C79FA917C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24000" y="1442880"/>
            <a:ext cx="8640720" cy="8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Polymorphism exampl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7" name="Text Box 4"/>
          <p:cNvSpPr/>
          <p:nvPr/>
        </p:nvSpPr>
        <p:spPr>
          <a:xfrm>
            <a:off x="539640" y="2284560"/>
            <a:ext cx="3600720" cy="301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 (integer ar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/ fn called wi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/ an integer ar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42 //“Int arg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"/>
          <p:cNvSpPr/>
          <p:nvPr/>
        </p:nvSpPr>
        <p:spPr>
          <a:xfrm>
            <a:off x="4788000" y="2284560"/>
            <a:ext cx="3600360" cy="301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 (string ar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/ fn called wi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/ a string ar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“String arg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7"/>
          <p:cNvSpPr/>
          <p:nvPr/>
        </p:nvSpPr>
        <p:spPr>
          <a:xfrm>
            <a:off x="1621440" y="5430960"/>
            <a:ext cx="58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me function name, different c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105B-BB90-408A-A888-1968442D495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24000" y="1442880"/>
            <a:ext cx="8640720" cy="8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Polymorphism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395280" y="2122560"/>
            <a:ext cx="799308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ogram that accepts multiple defini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said to b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overloaded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ic language example: + is used to add and caten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2+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‘aaa’+’bbb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aabb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F1D4-DA6D-40A4-9BAB-9899B345D6D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24000" y="1658520"/>
            <a:ext cx="864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ore concept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395280" y="271764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many more concep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ose presented here are the most common on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ast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not an OO concept but it is often us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3B64-72B7-409F-9536-AE470AF28C6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OO C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ncepts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Summa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68000" y="170136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O is based on +-7 key conce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are blueprin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ances are objects created from 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ontain members (data &amp; cod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access is restric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relation between classes is based on inheritance and/or specific acce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A882-B2DD-4BEC-8225-BBE04C035F6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d of OO basic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131640" y="2719440"/>
            <a:ext cx="2590920" cy="27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QUES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333333"/>
                </a:solidFill>
                <a:latin typeface="Geneva"/>
              </a:rPr>
              <a:t>?</a:t>
            </a:r>
            <a:endParaRPr b="0" lang="en-US" sz="1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47AD-BB39-4EC7-BB58-BA520649FBF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WordArt 5"/>
          <p:cNvSpPr txBox="1"/>
          <p:nvPr/>
        </p:nvSpPr>
        <p:spPr>
          <a:xfrm>
            <a:off x="900000" y="1844640"/>
            <a:ext cx="727236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The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Dyalog APL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way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BD95-1EB8-46D8-9544-A0ABA6882E5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follows C# rules close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extensions to the language have been made in following with the </a:t>
            </a:r>
            <a:r>
              <a:rPr b="1" lang="en-GB" sz="3200" spc="-1" strike="noStrike">
                <a:solidFill>
                  <a:srgbClr val="99cc00"/>
                </a:solidFill>
                <a:latin typeface="Geneva"/>
              </a:rPr>
              <a:t>: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Keywor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scheme introduced in the 90s (All new keywords start with ‘</a:t>
            </a:r>
            <a:r>
              <a:rPr b="1" lang="en-GB" sz="3200" spc="-1" strike="noStrike">
                <a:solidFill>
                  <a:srgbClr val="99cc00"/>
                </a:solidFill>
                <a:latin typeface="Geneva"/>
              </a:rPr>
              <a:t>: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’ 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me new system functions have been added 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me new system command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name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rom the beginning APL had this kind of notion in the form of the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Namespace = Workspace?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6D7B-A309-466C-AA9E-377C6E7AA4E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42DA-523F-4993-BA71-2B668B09951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731960"/>
            <a:ext cx="798984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et’s see how Dyalog APL does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6" name="Text Box 4"/>
          <p:cNvSpPr/>
          <p:nvPr/>
        </p:nvSpPr>
        <p:spPr>
          <a:xfrm>
            <a:off x="2554200" y="2589120"/>
            <a:ext cx="468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and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anc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7375-D042-4AB9-BF59-6DA81BC1400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690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class can be defined using the )EDitor as i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)ED ○ My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exiting, MyClass will be defined in the current namespace (e.g. #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52" name="Picture 4" descr=""/>
          <p:cNvPicPr/>
          <p:nvPr/>
        </p:nvPicPr>
        <p:blipFill>
          <a:blip r:embed="rId1"/>
          <a:stretch/>
        </p:blipFill>
        <p:spPr>
          <a:xfrm>
            <a:off x="5075280" y="2357280"/>
            <a:ext cx="331308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EF00-DC61-4023-890F-7F788699D7D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he workspac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My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ppears as a namesp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NC ‘MyClass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)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My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BA56-FAAE-4417-8123-7538ADCA308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me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members in a class a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Fiel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 same as a variab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Metho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 same as a fun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 looks and feels like a variable but implemented as a (pair of) func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can be either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riv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the defaul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2409-F7A4-460D-A8C4-31AE794D548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me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250560" y="1701720"/>
            <a:ext cx="3313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to the right shows a few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fiel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vars) and their acce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acce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the same for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metho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fns) and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roperti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768" name="Group 10"/>
          <p:cNvGrpSpPr/>
          <p:nvPr/>
        </p:nvGrpSpPr>
        <p:grpSpPr>
          <a:xfrm>
            <a:off x="3635280" y="1933560"/>
            <a:ext cx="5268960" cy="4232160"/>
            <a:chOff x="3635280" y="1933560"/>
            <a:chExt cx="5268960" cy="4232160"/>
          </a:xfrm>
        </p:grpSpPr>
        <p:pic>
          <p:nvPicPr>
            <p:cNvPr id="769" name="Picture 6" descr=""/>
            <p:cNvPicPr/>
            <p:nvPr/>
          </p:nvPicPr>
          <p:blipFill>
            <a:blip r:embed="rId1"/>
            <a:stretch/>
          </p:blipFill>
          <p:spPr>
            <a:xfrm>
              <a:off x="3635280" y="1933560"/>
              <a:ext cx="5268960" cy="42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Rectangle 7"/>
            <p:cNvSpPr/>
            <p:nvPr/>
          </p:nvSpPr>
          <p:spPr>
            <a:xfrm>
              <a:off x="5419440" y="4319280"/>
              <a:ext cx="792360" cy="82872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8"/>
            <p:cNvSpPr/>
            <p:nvPr/>
          </p:nvSpPr>
          <p:spPr>
            <a:xfrm>
              <a:off x="5448240" y="3878280"/>
              <a:ext cx="180000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9"/>
            <p:cNvSpPr/>
            <p:nvPr/>
          </p:nvSpPr>
          <p:spPr>
            <a:xfrm>
              <a:off x="6211800" y="4929120"/>
              <a:ext cx="71892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554A-5A3D-43D3-AAEA-88537D4C60F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me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3168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class to the right shows a few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method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(fns) and their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acce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&lt;mon1&gt; is also used as a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 It MUST be public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778" name="Group 9"/>
          <p:cNvGrpSpPr/>
          <p:nvPr/>
        </p:nvGrpSpPr>
        <p:grpSpPr>
          <a:xfrm>
            <a:off x="4459320" y="1557360"/>
            <a:ext cx="4289400" cy="4608360"/>
            <a:chOff x="4459320" y="1557360"/>
            <a:chExt cx="4289400" cy="4608360"/>
          </a:xfrm>
        </p:grpSpPr>
        <p:pic>
          <p:nvPicPr>
            <p:cNvPr id="779" name="Picture 5" descr=""/>
            <p:cNvPicPr/>
            <p:nvPr/>
          </p:nvPicPr>
          <p:blipFill>
            <a:blip r:embed="rId1"/>
            <a:stretch/>
          </p:blipFill>
          <p:spPr>
            <a:xfrm>
              <a:off x="4459320" y="1557360"/>
              <a:ext cx="428940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Rectangle 6"/>
            <p:cNvSpPr/>
            <p:nvPr/>
          </p:nvSpPr>
          <p:spPr>
            <a:xfrm>
              <a:off x="5600880" y="3601800"/>
              <a:ext cx="215892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7"/>
            <p:cNvSpPr/>
            <p:nvPr/>
          </p:nvSpPr>
          <p:spPr>
            <a:xfrm>
              <a:off x="5599080" y="4336920"/>
              <a:ext cx="1944720" cy="21528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8"/>
            <p:cNvSpPr/>
            <p:nvPr/>
          </p:nvSpPr>
          <p:spPr>
            <a:xfrm>
              <a:off x="5599080" y="3420720"/>
              <a:ext cx="1368360" cy="18072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2785-55EB-4EBB-81C9-3132E08583F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me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2560" y="1557000"/>
            <a:ext cx="3168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class to the right shows 2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propertie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and their acces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1</a:t>
            </a:r>
            <a:r>
              <a:rPr b="0" lang="en-GB" sz="28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ne is private and readonly (it has no </a:t>
            </a:r>
            <a:r>
              <a:rPr b="0" i="1" lang="en-GB" sz="2800" spc="-1" strike="noStrike">
                <a:solidFill>
                  <a:srgbClr val="99cc00"/>
                </a:solidFill>
                <a:latin typeface="Geneva"/>
              </a:rPr>
              <a:t>se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fn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2</a:t>
            </a:r>
            <a:r>
              <a:rPr b="0" lang="en-GB" sz="28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ne is public read/writ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788" name="Group 9"/>
          <p:cNvGrpSpPr/>
          <p:nvPr/>
        </p:nvGrpSpPr>
        <p:grpSpPr>
          <a:xfrm>
            <a:off x="4776840" y="1557360"/>
            <a:ext cx="3682800" cy="4608360"/>
            <a:chOff x="4776840" y="1557360"/>
            <a:chExt cx="3682800" cy="4608360"/>
          </a:xfrm>
        </p:grpSpPr>
        <p:pic>
          <p:nvPicPr>
            <p:cNvPr id="789" name="Picture 5" descr=""/>
            <p:cNvPicPr/>
            <p:nvPr/>
          </p:nvPicPr>
          <p:blipFill>
            <a:blip r:embed="rId1"/>
            <a:stretch/>
          </p:blipFill>
          <p:spPr>
            <a:xfrm>
              <a:off x="4776840" y="1557360"/>
              <a:ext cx="368280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Rectangle 6"/>
            <p:cNvSpPr/>
            <p:nvPr/>
          </p:nvSpPr>
          <p:spPr>
            <a:xfrm>
              <a:off x="5640120" y="2421000"/>
              <a:ext cx="2520720" cy="865080"/>
            </a:xfrm>
            <a:prstGeom prst="rect">
              <a:avLst/>
            </a:prstGeom>
            <a:solidFill>
              <a:srgbClr val="ff0000">
                <a:alpha val="3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7"/>
            <p:cNvSpPr/>
            <p:nvPr/>
          </p:nvSpPr>
          <p:spPr>
            <a:xfrm>
              <a:off x="5640120" y="3429000"/>
              <a:ext cx="2520720" cy="2160360"/>
            </a:xfrm>
            <a:prstGeom prst="rect">
              <a:avLst/>
            </a:prstGeom>
            <a:solidFill>
              <a:srgbClr val="ff0000">
                <a:alpha val="3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8"/>
            <p:cNvSpPr/>
            <p:nvPr/>
          </p:nvSpPr>
          <p:spPr>
            <a:xfrm>
              <a:off x="5713200" y="3573360"/>
              <a:ext cx="115056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FAE6-38B7-477A-AAFC-DEDD976177E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614160" y="1589040"/>
            <a:ext cx="8134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are like blueprints: they define how things should b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NE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is a new system function that creates an object using a class as an instance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ever is in the class will appear in the instance as a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op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not a refere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stan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9A39-C60F-4FDD-B040-D77F1974925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685440" y="1874520"/>
            <a:ext cx="81342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NE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ccepts a one or two elements argumen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ne is the class (not in quote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if present, is what to start/initialize the instance with. It can only be supplied if the class allow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title"/>
          </p:nvPr>
        </p:nvSpPr>
        <p:spPr>
          <a:xfrm>
            <a:off x="685800" y="566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⎕N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12E5-2A2D-41C1-A177-13721D152D7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/>
          </p:nvPr>
        </p:nvSpPr>
        <p:spPr>
          <a:xfrm>
            <a:off x="685440" y="1733400"/>
            <a:ext cx="8134200" cy="43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myInstance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← ⎕NEW 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MyClas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display form includes [brackets] by defaul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myInstan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[MyClass]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t is another type of namespa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NC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‘myInstance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⎕N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ntains everything needed to run an appl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BCFC-43E2-44D5-8ACC-B6EBD21956A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071720" y="3357720"/>
            <a:ext cx="7200720" cy="26762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9"/>
          <p:cNvSpPr/>
          <p:nvPr/>
        </p:nvSpPr>
        <p:spPr>
          <a:xfrm>
            <a:off x="642960" y="2286000"/>
            <a:ext cx="7715160" cy="9288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B3F6-F89F-450A-AD7D-4C1BD568FF0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685440" y="1733400"/>
            <a:ext cx="8134200" cy="43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F allows to change the default Display Form of a namespa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⎕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obj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←⎕NEW 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MyClas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[MyClass]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obj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.⎕DF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‘OO class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obj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OO clas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⎕DF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7371-E32C-4631-985A-5191C0568C1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/>
          </p:nvPr>
        </p:nvSpPr>
        <p:spPr>
          <a:xfrm>
            <a:off x="323640" y="1587240"/>
            <a:ext cx="8134200" cy="17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lasses may requir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something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o initialize the instance. Ex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)ED ○ Anima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title"/>
          </p:nvPr>
        </p:nvSpPr>
        <p:spPr>
          <a:xfrm>
            <a:off x="323640" y="58104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constructo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8" name="Text Box 5"/>
          <p:cNvSpPr/>
          <p:nvPr/>
        </p:nvSpPr>
        <p:spPr>
          <a:xfrm>
            <a:off x="166680" y="3506760"/>
            <a:ext cx="415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re a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nim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u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have at least tw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of le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ounds it mak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8"/>
          <p:cNvGrpSpPr/>
          <p:nvPr/>
        </p:nvGrpSpPr>
        <p:grpSpPr>
          <a:xfrm>
            <a:off x="4500720" y="2440080"/>
            <a:ext cx="4248000" cy="3652920"/>
            <a:chOff x="4500720" y="2440080"/>
            <a:chExt cx="4248000" cy="3652920"/>
          </a:xfrm>
        </p:grpSpPr>
        <p:pic>
          <p:nvPicPr>
            <p:cNvPr id="820" name="Picture 4" descr=""/>
            <p:cNvPicPr/>
            <p:nvPr/>
          </p:nvPicPr>
          <p:blipFill>
            <a:blip r:embed="rId1"/>
            <a:stretch/>
          </p:blipFill>
          <p:spPr>
            <a:xfrm>
              <a:off x="4500720" y="2440080"/>
              <a:ext cx="4248000" cy="36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Rectangle 6"/>
            <p:cNvSpPr/>
            <p:nvPr/>
          </p:nvSpPr>
          <p:spPr>
            <a:xfrm>
              <a:off x="5651640" y="3616560"/>
              <a:ext cx="2233800" cy="36036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7"/>
            <p:cNvSpPr/>
            <p:nvPr/>
          </p:nvSpPr>
          <p:spPr>
            <a:xfrm>
              <a:off x="5437440" y="4743720"/>
              <a:ext cx="2016000" cy="36036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5A30-039B-42D1-8985-3DD03217D52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/>
          </p:nvPr>
        </p:nvSpPr>
        <p:spPr>
          <a:xfrm>
            <a:off x="323640" y="1587240"/>
            <a:ext cx="8134200" cy="17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everal instances can be made up of the same Animal clas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title"/>
          </p:nvPr>
        </p:nvSpPr>
        <p:spPr>
          <a:xfrm>
            <a:off x="323640" y="49356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constructo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28" name="Picture 6" descr=""/>
          <p:cNvPicPr/>
          <p:nvPr/>
        </p:nvPicPr>
        <p:blipFill>
          <a:blip r:embed="rId1"/>
          <a:stretch/>
        </p:blipFill>
        <p:spPr>
          <a:xfrm>
            <a:off x="3429000" y="2135160"/>
            <a:ext cx="5175360" cy="2293920"/>
          </a:xfrm>
          <a:prstGeom prst="rect">
            <a:avLst/>
          </a:prstGeom>
          <a:ln w="0">
            <a:noFill/>
          </a:ln>
        </p:spPr>
      </p:pic>
      <p:sp>
        <p:nvSpPr>
          <p:cNvPr id="829" name="Text Box 7"/>
          <p:cNvSpPr/>
          <p:nvPr/>
        </p:nvSpPr>
        <p:spPr>
          <a:xfrm>
            <a:off x="167040" y="2930400"/>
            <a:ext cx="85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running th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in a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ace we hav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)o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fish monkey snake tiger Anim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⎕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NC ‘animals’   ⍝ this is a variable holding 4 inst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animals.Nlegs   ⍝ how many legs for each anima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4 0 0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7E17-BF0E-4078-B06E-A67EACFD8EC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79280" y="566640"/>
            <a:ext cx="8856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message passing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PL this merely consists in calling the methods directly either from the instance or from the class if shared,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Myclass.sharedFn   arg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myInstance.Fn   args ⍝ args if requir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83B9-9B3B-490C-9760-DE0BF5877EC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95280" y="566640"/>
            <a:ext cx="856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3516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lang="en-GB" sz="28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an be based on another based class. See </a:t>
            </a:r>
            <a:r>
              <a:rPr b="0" lang="en-GB" sz="28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Collie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on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 Dog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on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 Anima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840" name="Group 21"/>
          <p:cNvGrpSpPr/>
          <p:nvPr/>
        </p:nvGrpSpPr>
        <p:grpSpPr>
          <a:xfrm>
            <a:off x="179280" y="3359160"/>
            <a:ext cx="8353440" cy="2806200"/>
            <a:chOff x="179280" y="3359160"/>
            <a:chExt cx="8353440" cy="2806200"/>
          </a:xfrm>
        </p:grpSpPr>
        <p:sp>
          <p:nvSpPr>
            <p:cNvPr id="841" name="Rectangle 4"/>
            <p:cNvSpPr/>
            <p:nvPr/>
          </p:nvSpPr>
          <p:spPr>
            <a:xfrm>
              <a:off x="684360" y="4366800"/>
              <a:ext cx="158400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5"/>
            <p:cNvSpPr/>
            <p:nvPr/>
          </p:nvSpPr>
          <p:spPr>
            <a:xfrm>
              <a:off x="2771640" y="357480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og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: 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6"/>
            <p:cNvSpPr/>
            <p:nvPr/>
          </p:nvSpPr>
          <p:spPr>
            <a:xfrm>
              <a:off x="6948360" y="5157360"/>
              <a:ext cx="158436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x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(Colli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7"/>
            <p:cNvSpPr/>
            <p:nvPr/>
          </p:nvSpPr>
          <p:spPr>
            <a:xfrm>
              <a:off x="2771640" y="494316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sh: 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8"/>
            <p:cNvSpPr/>
            <p:nvPr/>
          </p:nvSpPr>
          <p:spPr>
            <a:xfrm>
              <a:off x="6948360" y="4006440"/>
              <a:ext cx="158436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do (Colli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10"/>
            <p:cNvSpPr/>
            <p:nvPr/>
          </p:nvSpPr>
          <p:spPr>
            <a:xfrm>
              <a:off x="4859280" y="4727160"/>
              <a:ext cx="158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llie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: Do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7" name="AutoShape 11"/>
            <p:cNvCxnSpPr>
              <a:stCxn id="841" idx="3"/>
              <a:endCxn id="842" idx="1"/>
            </p:cNvCxnSpPr>
            <p:nvPr/>
          </p:nvCxnSpPr>
          <p:spPr>
            <a:xfrm flipV="1">
              <a:off x="2268360" y="4079160"/>
              <a:ext cx="504000" cy="792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8" name="AutoShape 12"/>
            <p:cNvCxnSpPr>
              <a:stCxn id="841" idx="3"/>
              <a:endCxn id="844" idx="1"/>
            </p:cNvCxnSpPr>
            <p:nvPr/>
          </p:nvCxnSpPr>
          <p:spPr>
            <a:xfrm>
              <a:off x="2268360" y="4871520"/>
              <a:ext cx="504000" cy="57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9" name="AutoShape 13"/>
            <p:cNvCxnSpPr>
              <a:stCxn id="842" idx="3"/>
              <a:endCxn id="850" idx="1"/>
            </p:cNvCxnSpPr>
            <p:nvPr/>
          </p:nvCxnSpPr>
          <p:spPr>
            <a:xfrm flipV="1">
              <a:off x="4355640" y="3863520"/>
              <a:ext cx="361080" cy="216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1" name="AutoShape 14"/>
            <p:cNvCxnSpPr>
              <a:stCxn id="842" idx="3"/>
              <a:endCxn id="846" idx="1"/>
            </p:cNvCxnSpPr>
            <p:nvPr/>
          </p:nvCxnSpPr>
          <p:spPr>
            <a:xfrm>
              <a:off x="4356000" y="4079160"/>
              <a:ext cx="504000" cy="1152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2" name="AutoShape 15"/>
            <p:cNvCxnSpPr>
              <a:stCxn id="846" idx="3"/>
              <a:endCxn id="845" idx="1"/>
            </p:cNvCxnSpPr>
            <p:nvPr/>
          </p:nvCxnSpPr>
          <p:spPr>
            <a:xfrm flipV="1">
              <a:off x="6443640" y="4510800"/>
              <a:ext cx="505440" cy="72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3" name="AutoShape 16"/>
            <p:cNvCxnSpPr>
              <a:stCxn id="846" idx="3"/>
              <a:endCxn id="843" idx="1"/>
            </p:cNvCxnSpPr>
            <p:nvPr/>
          </p:nvCxnSpPr>
          <p:spPr>
            <a:xfrm>
              <a:off x="6443640" y="5232240"/>
              <a:ext cx="505440" cy="430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54" name="Text Box 17"/>
            <p:cNvSpPr/>
            <p:nvPr/>
          </p:nvSpPr>
          <p:spPr>
            <a:xfrm>
              <a:off x="7021800" y="354924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bfd87"/>
                  </a:solidFill>
                  <a:latin typeface="Arial"/>
                </a:rPr>
                <a:t>Instanc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18"/>
            <p:cNvSpPr/>
            <p:nvPr/>
          </p:nvSpPr>
          <p:spPr>
            <a:xfrm>
              <a:off x="3051000" y="4546440"/>
              <a:ext cx="108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ccff"/>
                  </a:solidFill>
                  <a:latin typeface="Arial"/>
                </a:rPr>
                <a:t>Class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Line 19"/>
            <p:cNvSpPr/>
            <p:nvPr/>
          </p:nvSpPr>
          <p:spPr>
            <a:xfrm>
              <a:off x="179280" y="48700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20"/>
            <p:cNvSpPr/>
            <p:nvPr/>
          </p:nvSpPr>
          <p:spPr>
            <a:xfrm>
              <a:off x="4716360" y="3359160"/>
              <a:ext cx="194472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eat Dane: Do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FBD6-71D3-4573-BDEC-C2D7F5D2008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323640" y="1803240"/>
            <a:ext cx="8134200" cy="8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xample: a bird’s generic description is ‘plain Bird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Birdy←⎕NEW Bir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Birdy.Desc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plain Bir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title"/>
          </p:nvPr>
        </p:nvSpPr>
        <p:spPr>
          <a:xfrm>
            <a:off x="468360" y="566640"/>
            <a:ext cx="820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862" name="Group 27"/>
          <p:cNvGrpSpPr/>
          <p:nvPr/>
        </p:nvGrpSpPr>
        <p:grpSpPr>
          <a:xfrm>
            <a:off x="754200" y="4149720"/>
            <a:ext cx="3888720" cy="1008000"/>
            <a:chOff x="754200" y="4149720"/>
            <a:chExt cx="3888720" cy="1008000"/>
          </a:xfrm>
        </p:grpSpPr>
        <p:sp>
          <p:nvSpPr>
            <p:cNvPr id="863" name="Rectangle 4"/>
            <p:cNvSpPr/>
            <p:nvPr/>
          </p:nvSpPr>
          <p:spPr>
            <a:xfrm>
              <a:off x="1114200" y="4149720"/>
              <a:ext cx="158400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ir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4" name="AutoShape 12"/>
            <p:cNvCxnSpPr>
              <a:stCxn id="863" idx="3"/>
              <a:endCxn id="865" idx="1"/>
            </p:cNvCxnSpPr>
            <p:nvPr/>
          </p:nvCxnSpPr>
          <p:spPr>
            <a:xfrm>
              <a:off x="2698560" y="4654080"/>
              <a:ext cx="360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5" name="Rectangle 19"/>
            <p:cNvSpPr/>
            <p:nvPr/>
          </p:nvSpPr>
          <p:spPr>
            <a:xfrm>
              <a:off x="3058920" y="4149720"/>
              <a:ext cx="158400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irdy (Bird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Line 20"/>
            <p:cNvSpPr/>
            <p:nvPr/>
          </p:nvSpPr>
          <p:spPr>
            <a:xfrm>
              <a:off x="754200" y="46544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Rectangle 23"/>
          <p:cNvSpPr/>
          <p:nvPr/>
        </p:nvSpPr>
        <p:spPr>
          <a:xfrm>
            <a:off x="324000" y="3573360"/>
            <a:ext cx="1511280" cy="50328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Group 26"/>
          <p:cNvGrpSpPr/>
          <p:nvPr/>
        </p:nvGrpSpPr>
        <p:grpSpPr>
          <a:xfrm>
            <a:off x="4932360" y="2749680"/>
            <a:ext cx="3887640" cy="2766960"/>
            <a:chOff x="4932360" y="2749680"/>
            <a:chExt cx="3887640" cy="2766960"/>
          </a:xfrm>
        </p:grpSpPr>
        <p:pic>
          <p:nvPicPr>
            <p:cNvPr id="869" name="Picture 22" descr=""/>
            <p:cNvPicPr/>
            <p:nvPr/>
          </p:nvPicPr>
          <p:blipFill>
            <a:blip r:embed="rId1"/>
            <a:stretch/>
          </p:blipFill>
          <p:spPr>
            <a:xfrm>
              <a:off x="4932360" y="2749680"/>
              <a:ext cx="3887640" cy="27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Rectangle 24"/>
            <p:cNvSpPr/>
            <p:nvPr/>
          </p:nvSpPr>
          <p:spPr>
            <a:xfrm>
              <a:off x="6661080" y="4314960"/>
              <a:ext cx="1224000" cy="288720"/>
            </a:xfrm>
            <a:prstGeom prst="rect">
              <a:avLst/>
            </a:prstGeom>
            <a:solidFill>
              <a:srgbClr val="ff00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Text Box 25"/>
          <p:cNvSpPr/>
          <p:nvPr/>
        </p:nvSpPr>
        <p:spPr>
          <a:xfrm>
            <a:off x="591840" y="5573880"/>
            <a:ext cx="80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Birdy is created, Bird’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onstruc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call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F68C-68B5-4A66-8337-6F3E5B23A2C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/>
          </p:nvPr>
        </p:nvSpPr>
        <p:spPr>
          <a:xfrm>
            <a:off x="323640" y="1699920"/>
            <a:ext cx="81342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a base class has a constructor it must be call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ase constructors are called when the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:Implements constructo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statement is reach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several classes are based one on another their constructors’ call are made in the same fash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title"/>
          </p:nvPr>
        </p:nvSpPr>
        <p:spPr>
          <a:xfrm>
            <a:off x="468360" y="637920"/>
            <a:ext cx="8207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57D2-83DA-49C9-9451-4B74F14ACE4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17" descr=""/>
          <p:cNvPicPr/>
          <p:nvPr/>
        </p:nvPicPr>
        <p:blipFill>
          <a:blip r:embed="rId1"/>
          <a:stretch/>
        </p:blipFill>
        <p:spPr>
          <a:xfrm>
            <a:off x="5076720" y="1420920"/>
            <a:ext cx="3888000" cy="276696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39" descr=""/>
          <p:cNvPicPr/>
          <p:nvPr/>
        </p:nvPicPr>
        <p:blipFill>
          <a:blip r:embed="rId2"/>
          <a:stretch/>
        </p:blipFill>
        <p:spPr>
          <a:xfrm>
            <a:off x="5364000" y="3292560"/>
            <a:ext cx="3637080" cy="3449520"/>
          </a:xfrm>
          <a:prstGeom prst="rect">
            <a:avLst/>
          </a:prstGeom>
          <a:ln w="0">
            <a:noFill/>
          </a:ln>
        </p:spPr>
      </p:pic>
      <p:sp>
        <p:nvSpPr>
          <p:cNvPr id="882" name="PlaceHolder 1"/>
          <p:cNvSpPr>
            <a:spLocks noGrp="1"/>
          </p:cNvSpPr>
          <p:nvPr>
            <p:ph/>
          </p:nvPr>
        </p:nvSpPr>
        <p:spPr>
          <a:xfrm>
            <a:off x="323640" y="1564920"/>
            <a:ext cx="4679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parrot is a bir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Coco←⎕NEW Parro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Coco.Desc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Geneva"/>
              </a:rPr>
              <a:t>Not a plain Bird, a Parro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title"/>
          </p:nvPr>
        </p:nvSpPr>
        <p:spPr>
          <a:xfrm>
            <a:off x="468360" y="493560"/>
            <a:ext cx="820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884" name="Group 16"/>
          <p:cNvGrpSpPr/>
          <p:nvPr/>
        </p:nvGrpSpPr>
        <p:grpSpPr>
          <a:xfrm>
            <a:off x="395280" y="4157640"/>
            <a:ext cx="5256000" cy="1942920"/>
            <a:chOff x="395280" y="4157640"/>
            <a:chExt cx="5256000" cy="1942920"/>
          </a:xfrm>
        </p:grpSpPr>
        <p:sp>
          <p:nvSpPr>
            <p:cNvPr id="885" name="Rectangle 4"/>
            <p:cNvSpPr/>
            <p:nvPr/>
          </p:nvSpPr>
          <p:spPr>
            <a:xfrm>
              <a:off x="715680" y="4957560"/>
              <a:ext cx="1410120" cy="79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ir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6" name="AutoShape 5"/>
            <p:cNvCxnSpPr>
              <a:stCxn id="885" idx="3"/>
              <a:endCxn id="887" idx="1"/>
            </p:cNvCxnSpPr>
            <p:nvPr/>
          </p:nvCxnSpPr>
          <p:spPr>
            <a:xfrm flipV="1">
              <a:off x="2126160" y="4557600"/>
              <a:ext cx="321120" cy="80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7" name="Rectangle 6"/>
            <p:cNvSpPr/>
            <p:nvPr/>
          </p:nvSpPr>
          <p:spPr>
            <a:xfrm>
              <a:off x="2446920" y="4157640"/>
              <a:ext cx="1410120" cy="79992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irdy (Bird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Line 7"/>
            <p:cNvSpPr/>
            <p:nvPr/>
          </p:nvSpPr>
          <p:spPr>
            <a:xfrm>
              <a:off x="395280" y="535824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10"/>
            <p:cNvSpPr/>
            <p:nvPr/>
          </p:nvSpPr>
          <p:spPr>
            <a:xfrm>
              <a:off x="2446920" y="5300640"/>
              <a:ext cx="1410120" cy="79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arrot: Bir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0" name="AutoShape 11"/>
            <p:cNvCxnSpPr>
              <a:stCxn id="885" idx="3"/>
              <a:endCxn id="889" idx="1"/>
            </p:cNvCxnSpPr>
            <p:nvPr/>
          </p:nvCxnSpPr>
          <p:spPr>
            <a:xfrm>
              <a:off x="2126160" y="5358240"/>
              <a:ext cx="32112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1" name="Rectangle 13"/>
            <p:cNvSpPr/>
            <p:nvPr/>
          </p:nvSpPr>
          <p:spPr>
            <a:xfrm>
              <a:off x="4241160" y="5300640"/>
              <a:ext cx="1410120" cy="79992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co (Parrot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2" name="AutoShape 15"/>
            <p:cNvCxnSpPr>
              <a:stCxn id="889" idx="3"/>
              <a:endCxn id="891" idx="1"/>
            </p:cNvCxnSpPr>
            <p:nvPr/>
          </p:nvCxnSpPr>
          <p:spPr>
            <a:xfrm>
              <a:off x="3856680" y="5700960"/>
              <a:ext cx="384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3" name="Rectangle 18"/>
          <p:cNvSpPr/>
          <p:nvPr/>
        </p:nvSpPr>
        <p:spPr>
          <a:xfrm>
            <a:off x="6804000" y="3005280"/>
            <a:ext cx="1224000" cy="2538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19"/>
          <p:cNvSpPr/>
          <p:nvPr/>
        </p:nvSpPr>
        <p:spPr>
          <a:xfrm>
            <a:off x="6408720" y="5603760"/>
            <a:ext cx="2340000" cy="2174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20"/>
          <p:cNvSpPr/>
          <p:nvPr/>
        </p:nvSpPr>
        <p:spPr>
          <a:xfrm>
            <a:off x="395280" y="3292560"/>
            <a:ext cx="3960720" cy="4316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21"/>
          <p:cNvSpPr/>
          <p:nvPr/>
        </p:nvSpPr>
        <p:spPr>
          <a:xfrm>
            <a:off x="4140360" y="242892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22"/>
          <p:cNvSpPr/>
          <p:nvPr/>
        </p:nvSpPr>
        <p:spPr>
          <a:xfrm>
            <a:off x="6118200" y="422928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23"/>
          <p:cNvSpPr/>
          <p:nvPr/>
        </p:nvSpPr>
        <p:spPr>
          <a:xfrm>
            <a:off x="8028000" y="502128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4"/>
          <p:cNvSpPr/>
          <p:nvPr/>
        </p:nvSpPr>
        <p:spPr>
          <a:xfrm>
            <a:off x="6443640" y="2500200"/>
            <a:ext cx="716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0" name="AutoShape 25"/>
          <p:cNvCxnSpPr>
            <a:stCxn id="896" idx="1"/>
            <a:endCxn id="897" idx="7"/>
          </p:cNvCxnSpPr>
          <p:nvPr/>
        </p:nvCxnSpPr>
        <p:spPr>
          <a:xfrm flipH="1" rot="16200000">
            <a:off x="4264920" y="2325960"/>
            <a:ext cx="1800720" cy="2028240"/>
          </a:xfrm>
          <a:prstGeom prst="curvedConnector5">
            <a:avLst>
              <a:gd name="adj1" fmla="val -439"/>
              <a:gd name="adj2" fmla="val 49991"/>
              <a:gd name="adj3" fmla="val -43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1" name="AutoShape 26"/>
          <p:cNvCxnSpPr>
            <a:stCxn id="898" idx="1"/>
            <a:endCxn id="899" idx="1"/>
          </p:cNvCxnSpPr>
          <p:nvPr/>
        </p:nvCxnSpPr>
        <p:spPr>
          <a:xfrm flipV="1" rot="16200000">
            <a:off x="5985720" y="2979000"/>
            <a:ext cx="2521800" cy="1585080"/>
          </a:xfrm>
          <a:prstGeom prst="curvedConnector5">
            <a:avLst>
              <a:gd name="adj1" fmla="val 129711"/>
              <a:gd name="adj2" fmla="val 50000"/>
              <a:gd name="adj3" fmla="val 129711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2" name="Freeform 30"/>
          <p:cNvSpPr/>
          <p:nvPr/>
        </p:nvSpPr>
        <p:spPr>
          <a:xfrm>
            <a:off x="6443640" y="3141720"/>
            <a:ext cx="2089080" cy="2158920"/>
          </a:xfrm>
          <a:prstGeom prst="pie">
            <a:avLst/>
          </a:pr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31"/>
          <p:cNvSpPr/>
          <p:nvPr/>
        </p:nvSpPr>
        <p:spPr>
          <a:xfrm>
            <a:off x="6189840" y="4373640"/>
            <a:ext cx="7128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38"/>
          <p:cNvSpPr/>
          <p:nvPr/>
        </p:nvSpPr>
        <p:spPr>
          <a:xfrm>
            <a:off x="6443640" y="5373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3890-E6B0-4EFD-8AAF-CCC7A3E3F96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351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create classes and instances at all leve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title"/>
          </p:nvPr>
        </p:nvSpPr>
        <p:spPr>
          <a:xfrm>
            <a:off x="468360" y="637920"/>
            <a:ext cx="8207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0" name="Rectangle 4"/>
          <p:cNvSpPr/>
          <p:nvPr/>
        </p:nvSpPr>
        <p:spPr>
          <a:xfrm>
            <a:off x="611280" y="34290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2556000" y="43308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rot: Bi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6877080" y="4724280"/>
            <a:ext cx="1800360" cy="93672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eety (Macaw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9"/>
          <p:cNvSpPr/>
          <p:nvPr/>
        </p:nvSpPr>
        <p:spPr>
          <a:xfrm>
            <a:off x="4643280" y="501336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aw: Parr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4" name="AutoShape 10"/>
          <p:cNvCxnSpPr>
            <a:stCxn id="910" idx="3"/>
            <a:endCxn id="911" idx="1"/>
          </p:cNvCxnSpPr>
          <p:nvPr/>
        </p:nvCxnSpPr>
        <p:spPr>
          <a:xfrm>
            <a:off x="2195280" y="3933360"/>
            <a:ext cx="361080" cy="90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5" name="AutoShape 11"/>
          <p:cNvCxnSpPr>
            <a:stCxn id="910" idx="3"/>
            <a:endCxn id="916" idx="1"/>
          </p:cNvCxnSpPr>
          <p:nvPr/>
        </p:nvCxnSpPr>
        <p:spPr>
          <a:xfrm flipV="1">
            <a:off x="2195280" y="3069360"/>
            <a:ext cx="36108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7" name="AutoShape 13"/>
          <p:cNvCxnSpPr>
            <a:stCxn id="911" idx="3"/>
            <a:endCxn id="913" idx="1"/>
          </p:cNvCxnSpPr>
          <p:nvPr/>
        </p:nvCxnSpPr>
        <p:spPr>
          <a:xfrm>
            <a:off x="4140000" y="4835520"/>
            <a:ext cx="503640" cy="68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8" name="AutoShape 14"/>
          <p:cNvCxnSpPr>
            <a:stCxn id="913" idx="3"/>
            <a:endCxn id="912" idx="1"/>
          </p:cNvCxnSpPr>
          <p:nvPr/>
        </p:nvCxnSpPr>
        <p:spPr>
          <a:xfrm flipV="1">
            <a:off x="6227640" y="5192280"/>
            <a:ext cx="65016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9" name="Text Box 16"/>
          <p:cNvSpPr/>
          <p:nvPr/>
        </p:nvSpPr>
        <p:spPr>
          <a:xfrm>
            <a:off x="7021800" y="426708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bfd87"/>
                </a:solidFill>
                <a:latin typeface="Arial"/>
              </a:rPr>
              <a:t>Inst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7"/>
          <p:cNvSpPr/>
          <p:nvPr/>
        </p:nvSpPr>
        <p:spPr>
          <a:xfrm>
            <a:off x="2762280" y="393372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18"/>
          <p:cNvSpPr/>
          <p:nvPr/>
        </p:nvSpPr>
        <p:spPr>
          <a:xfrm>
            <a:off x="2556000" y="2565360"/>
            <a:ext cx="1584360" cy="100800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rdy (Bir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9"/>
          <p:cNvSpPr/>
          <p:nvPr/>
        </p:nvSpPr>
        <p:spPr>
          <a:xfrm>
            <a:off x="25092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20"/>
          <p:cNvSpPr/>
          <p:nvPr/>
        </p:nvSpPr>
        <p:spPr>
          <a:xfrm>
            <a:off x="4788000" y="350028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co (Parro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3" name="AutoShape 21"/>
          <p:cNvCxnSpPr>
            <a:stCxn id="911" idx="3"/>
            <a:endCxn id="922" idx="1"/>
          </p:cNvCxnSpPr>
          <p:nvPr/>
        </p:nvCxnSpPr>
        <p:spPr>
          <a:xfrm flipV="1">
            <a:off x="4140000" y="4005000"/>
            <a:ext cx="648360" cy="83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624C-EA0E-4A79-A76F-24BD68918F6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95280" y="637920"/>
            <a:ext cx="85694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8200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nstructors with argument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Using the animal kingdom as exampl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9" name="Rectangle 4"/>
          <p:cNvSpPr/>
          <p:nvPr/>
        </p:nvSpPr>
        <p:spPr>
          <a:xfrm>
            <a:off x="684360" y="4221000"/>
            <a:ext cx="158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5"/>
          <p:cNvSpPr/>
          <p:nvPr/>
        </p:nvSpPr>
        <p:spPr>
          <a:xfrm>
            <a:off x="2771640" y="34290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Anim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6"/>
          <p:cNvSpPr/>
          <p:nvPr/>
        </p:nvSpPr>
        <p:spPr>
          <a:xfrm>
            <a:off x="6948360" y="501156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Colli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7"/>
          <p:cNvSpPr/>
          <p:nvPr/>
        </p:nvSpPr>
        <p:spPr>
          <a:xfrm>
            <a:off x="2771640" y="479736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sh: Anim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8"/>
          <p:cNvSpPr/>
          <p:nvPr/>
        </p:nvSpPr>
        <p:spPr>
          <a:xfrm>
            <a:off x="6948360" y="386064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do (Colli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9"/>
          <p:cNvSpPr/>
          <p:nvPr/>
        </p:nvSpPr>
        <p:spPr>
          <a:xfrm>
            <a:off x="4859280" y="314172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g Dane: D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0"/>
          <p:cNvSpPr/>
          <p:nvPr/>
        </p:nvSpPr>
        <p:spPr>
          <a:xfrm>
            <a:off x="4859280" y="450864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lli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D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6" name="AutoShape 11"/>
          <p:cNvCxnSpPr>
            <a:stCxn id="929" idx="3"/>
            <a:endCxn id="930" idx="1"/>
          </p:cNvCxnSpPr>
          <p:nvPr/>
        </p:nvCxnSpPr>
        <p:spPr>
          <a:xfrm flipV="1">
            <a:off x="2268360" y="3933000"/>
            <a:ext cx="504000" cy="793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7" name="AutoShape 12"/>
          <p:cNvCxnSpPr>
            <a:stCxn id="929" idx="3"/>
            <a:endCxn id="932" idx="1"/>
          </p:cNvCxnSpPr>
          <p:nvPr/>
        </p:nvCxnSpPr>
        <p:spPr>
          <a:xfrm>
            <a:off x="2268360" y="4726080"/>
            <a:ext cx="504000" cy="57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8" name="AutoShape 13"/>
          <p:cNvCxnSpPr>
            <a:stCxn id="930" idx="3"/>
            <a:endCxn id="934" idx="1"/>
          </p:cNvCxnSpPr>
          <p:nvPr/>
        </p:nvCxnSpPr>
        <p:spPr>
          <a:xfrm flipV="1">
            <a:off x="4356000" y="3646080"/>
            <a:ext cx="5040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9" name="AutoShape 14"/>
          <p:cNvCxnSpPr>
            <a:stCxn id="930" idx="3"/>
            <a:endCxn id="935" idx="1"/>
          </p:cNvCxnSpPr>
          <p:nvPr/>
        </p:nvCxnSpPr>
        <p:spPr>
          <a:xfrm>
            <a:off x="4356000" y="3933360"/>
            <a:ext cx="504000" cy="1080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0" name="AutoShape 15"/>
          <p:cNvCxnSpPr>
            <a:stCxn id="935" idx="3"/>
            <a:endCxn id="933" idx="1"/>
          </p:cNvCxnSpPr>
          <p:nvPr/>
        </p:nvCxnSpPr>
        <p:spPr>
          <a:xfrm flipV="1">
            <a:off x="6443640" y="4365000"/>
            <a:ext cx="50544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1" name="AutoShape 16"/>
          <p:cNvCxnSpPr>
            <a:stCxn id="935" idx="3"/>
            <a:endCxn id="931" idx="1"/>
          </p:cNvCxnSpPr>
          <p:nvPr/>
        </p:nvCxnSpPr>
        <p:spPr>
          <a:xfrm>
            <a:off x="6443640" y="5013360"/>
            <a:ext cx="505440" cy="504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2" name="Text Box 17"/>
          <p:cNvSpPr/>
          <p:nvPr/>
        </p:nvSpPr>
        <p:spPr>
          <a:xfrm>
            <a:off x="7021800" y="34034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bfd87"/>
                </a:solidFill>
                <a:latin typeface="Arial"/>
              </a:rPr>
              <a:t>Inst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8"/>
          <p:cNvSpPr/>
          <p:nvPr/>
        </p:nvSpPr>
        <p:spPr>
          <a:xfrm>
            <a:off x="3051000" y="440064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9"/>
          <p:cNvSpPr/>
          <p:nvPr/>
        </p:nvSpPr>
        <p:spPr>
          <a:xfrm>
            <a:off x="179280" y="4724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20"/>
          <p:cNvSpPr/>
          <p:nvPr/>
        </p:nvSpPr>
        <p:spPr>
          <a:xfrm>
            <a:off x="4859280" y="3141720"/>
            <a:ext cx="19447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at Dane: D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02:30:52Z</dcterms:created>
  <dc:creator>DanB</dc:creator>
  <dc:description/>
  <dc:language>en-US</dc:language>
  <cp:lastModifiedBy>Danb</cp:lastModifiedBy>
  <dcterms:modified xsi:type="dcterms:W3CDTF">2009-02-17T16:29:00Z</dcterms:modified>
  <cp:revision>602</cp:revision>
  <dc:subject/>
  <dc:title>OO Obj OR pgm</dc:title>
</cp:coreProperties>
</file>