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ftr" idx="4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 type="sldNum" idx="4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7856-828C-4DC9-AD34-827213BE75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8901-BAE1-4C8F-B9B4-5876B9EA7B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2A7C-8672-4881-9E47-9B7A00AB36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50A2-7B2E-4023-BE84-0AB55384F9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409A-9406-41BA-9848-7859EEBAD0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0A6C-2CCF-4A7F-8387-49EB140202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F0E5-1045-40C0-9EB9-BD330F9098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8013-7405-41AB-B1C5-EEFB9A3960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C97A-BF1E-4562-99AA-4077AB4849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D445-E62B-44A6-85CA-C330A911EB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E412-0297-4083-A108-2DEF97E100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DF6F-9D09-4D14-AA75-1E3197A767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70F5-6888-4507-8143-E43D11ADE3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1A8B-6278-45E9-82C3-C9A9390A20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6202-60FB-45A5-98BE-F211106563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6D6B-58D8-451A-98F4-68EA758B91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7189-B74F-4A4E-ACC1-057ACF40B2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E9B3-B45B-4124-A92D-24A301944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3D1A-17A8-477B-B3FF-A66C36AB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185F2A-C5EE-4E2E-8806-6DC9BDAF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D2A18F-D046-43A9-9C95-575C4479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F8F89A-075A-4036-97FF-BB3EE1F8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F85A44-57B6-4F92-B49B-732C736E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19A404-DDC8-4BE8-A4ED-83B238F5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B480F6-532B-4A57-8C19-29E2CAF9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F1C291-FFF9-4C8C-B3A3-3DEAF71A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6AD9D6-5E01-4010-85F9-A3E7E0DB3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A754FE-1BF2-4150-8C49-B6B9E2989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4CEE3-F0F5-4781-9665-49D7E7912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D4FC-86EC-46AC-9DD4-9D9CE8D19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9742F6-2FD6-4CAC-A17B-7828AF72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BECF41-3F9F-4F6F-8857-B55A8009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B97D21-BBCE-444A-ACE2-C8C9300A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E203EC-4C1C-4BA7-9CA9-A2F2AA30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4108D9-934E-455A-A9ED-CAC4DF9F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B1AAC-AF92-46A8-8BD4-A21BFE39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7FDE78-D01F-46DB-8801-E7BEB686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07F12-A918-4DDE-A4FE-D8405785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DD69F3-47B3-4743-86C5-4CC5364E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1ADFF-FD02-4BBB-9349-6B9D72E7E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227B-F0ED-4A07-B520-9D589A8F1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1694B7-65AE-4120-B633-15CBDEC87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AEA4B-21AB-49A4-A494-3827C7861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B3B9A-BBD7-4C82-A4B1-2DF8D34D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1C99B7-5B24-4335-8141-D3610BB9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C0199-AEA0-44BE-8340-8B6BDAB0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205D2-BC14-4181-80A4-6748D074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34BEDF-608F-4EB4-8DF2-C00E145D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4D2E2-67E9-403E-BC5E-BCE05C78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02AF5-BB70-4DC9-9C67-818AAB2E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3CAB3-E5D4-4086-A588-966FDC3E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36AD-84FE-42A8-9A75-796483B0B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380C5-02A8-4A3F-ACDE-14F2567F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B53E5-7614-4D64-8A5E-C62B9AFCD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1ED5B-254F-4504-853C-CC2BAC961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F9CA97-DBBD-45D1-A0AE-3E04E5BA9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B7EBF0-3ACE-49C1-B79F-EFD82819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EECDDF-98C2-48BD-8556-F4BCCE28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E85450-C328-4354-AD1B-FFD51EF2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775143-F6EA-49F4-90A3-A9104DAE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288BC6-930A-4BC5-BF25-D84D6764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039E1B-C67B-469B-9DF3-70063226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5A20-E7C4-43A2-8DDC-9603967C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3912DF-0B6F-4487-AB9D-975E0D89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39C16E-E5EA-4C6E-A01E-ACC64C5B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287F41-9D64-4F9E-BB8C-B38DD783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55A9E-2AB0-4219-853A-6893D7FE2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81D6F8-E165-49DB-BB39-7D0D2E75B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016FB5-D2D9-4353-9CC5-D43DE400B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A85B72-5311-4856-ABF7-33A75708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68AB77-588B-493B-B60F-93AE3B92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41AF36-9CF6-49EC-A118-7DD3688B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46CF2D-3DDD-4CF1-9350-17CA355A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FDB6-270B-42C4-9328-2055F8DD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83EE9B-CCB4-4F5C-A579-5BAEBA35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FFC269-6612-4ECC-99D1-C7E39BE8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C50AD4-9D98-4DC1-A152-E855D98C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15DF6B-17B9-4788-9009-C5BBEE6D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68914C-10BB-40DD-9CFF-339E31D2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5A9720-C1E7-4453-AA22-676E429C0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AEA5D2-85AE-4FA9-8EA8-96384FFDC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145D8B-1D18-42F9-BCD0-DD79994C1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4F897E-1BCF-46BC-8ACF-3E3A2AB1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4A3A76-B995-487F-9E53-B480B7D6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44A2-CCA2-4600-AF8A-C09313B2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5F3ECE-7491-44C7-B056-4A2F66BF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0D4D64-13F4-4992-A2FD-6D2CA2BA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319D2A-7CAC-4AE0-B65C-F5664A5C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421E4E-657F-43D9-829B-9E5A7B38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FBDF82-C41F-44C9-B970-B8C9EA9A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28C7F4-F6DA-448C-8F38-50E223C7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F0547E-44EE-406D-99EB-AEE220B8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755CB4-F5BA-4924-A192-6F726E4A0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CCD9C4-2F99-45EC-A464-6D706E28A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F6E8-40CA-4B69-89A1-D2767477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E549-69D5-4B9A-A8CF-C90B437B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903C-9B00-410E-9A9B-FFB9337D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84DF-1779-4856-A089-F973F4A7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E19E-FD0A-4316-8AA3-6819B6CC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69D9-727C-41B7-B0C2-24CCF9A2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7737-A2BA-4C23-8AE5-9EAFC54C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9CA9-FA95-4CE7-BAC0-9C3E4BDFD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F7FC-7E11-490F-BF2E-C0BB7A574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0BF33-7022-415A-A89E-395AB2490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0D515-C65C-45C4-9826-EFA41C43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1676F-A849-4B95-AB0E-19EC8C43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7C627-4CB8-4F23-8F23-5164D4D5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F5781-8A82-427B-B56A-DC4D24CC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A5FD-C9DD-4452-9E9C-D5C53CDD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20C3B-C192-4F18-BF6B-7AA8B94B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ECFFF-D125-4AB9-89C7-F77C7828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D39AC-EBFF-48FF-8FC5-264967C4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799DC-6743-400C-9E22-9D5D2176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EC39D-FDAC-4D6B-9A85-63F10DA7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AA69A-FD5A-4ED6-98EC-23C7AC049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A5C0D-EF61-4073-90BD-0034A252B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E0B2B-C8F1-40B0-B581-3701781DE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AEE7A-730A-4928-B02D-B3436DA4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D336C-A03C-487C-8544-1638934D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C23E-2AA0-4FF8-8BCC-DEEA4A5E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07280-86E3-4355-9644-848BDD45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A932C-8A5E-42A3-BF5D-75F63768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5CDDE-C22F-4B07-9BAE-C46E8D50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E8149-8A64-48F2-A93B-40EAA44A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23EE3-6A09-4F8D-A880-4361E117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519C0-FACD-4EEF-B885-4A12B1C6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D12A8-2850-4E20-BD24-30F90A8B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9D313-DF33-4D24-B5D8-C14827895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187D2-CDCD-4655-BC20-257F9CE31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D35D4-4999-4791-83D4-49B78BE41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3188-574C-4DA0-95B6-C1E62FFB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0FC79-E9D9-4285-8A89-B47D7137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1A67C-B685-48E1-A622-1FFC810D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469D3-8DA6-4698-832A-978503D1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3AEBF-08FF-4E5B-9AB7-D268D7ED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C1D54-630F-4B3E-BCA9-B4E2991B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8AF77-1044-4760-A7BA-2C04F048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83770-E086-4279-96A1-23520CCB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6D16A-8519-4621-BD93-AC02F7F1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65803-D986-46C2-BAB5-1AF82DAD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CB354-21C5-41FC-9057-F057FA82C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C451-DDD3-42E1-82B2-043F755B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1EFC0-7830-4CA5-B8CB-F3B778A2E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53953-9F21-473B-BAFE-004383761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1FC19-47CC-434E-8EA9-BD1E0808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4DCC0-E82E-4EC8-86D7-55449B15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A96B8-2B9D-420B-AE01-CB923CCF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98C80-F40F-4265-AF88-EC87DBA2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986AE-04CE-4959-B471-FE87FBEA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AB738-BB45-4C5D-B452-C5E64540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277BC-A2B0-49AB-B041-FB08A1A9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171CC-0C36-46BE-AD9D-BE83D494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02A0-8133-4EC7-8F3E-AB4B1784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42FF1-0B93-43E7-B63B-3E54CFE1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AB192-184B-4CE8-AC5D-825E4AAB6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E2DCB-89EE-42E8-885A-4D80D0DB2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B1C8F-BFA5-42A9-AAAD-8DE086327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E2B98-F38A-442A-A552-8E615084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9A8C2-B291-4097-A49E-11D0F8BF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BA766-8ED3-4BDA-8DAE-C7C00C44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063C7-B3B0-4557-8C7E-2DC9A580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3E7FC-D25D-4A6C-96F5-6B40D45D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8142E-B83C-4671-84C4-2EEEED33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CD99-9F2D-49D8-925E-D2CEE657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0D76F-B758-4C08-A952-AA20D691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25C56-9C5E-4D91-9D07-C31F4A1E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E32E4-5F17-4C3D-B3A1-9CA3EFDC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772E5-0E7D-41C5-93D3-81DE416BC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C62DF-809E-4303-9E64-BCEA22BDE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95AD2-DA04-42B4-AD4D-C247B8484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258BD-8A47-44D3-A58A-66C51DFD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CC25E-6412-4FE3-92F5-2E2CE7DB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F4AF7-AF8C-4D4A-8D6B-9C4694E6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42B75-7893-4413-9E63-84C0D96B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523A-3D31-438C-8E17-CCB5D8B9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9917C-DFCE-4F40-8376-05E7E4CC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7B4D5-C711-4D17-B656-1A2AA4DA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2749A-D16E-47CE-9ED7-A01E79F9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AB7C3-D71B-4445-9807-2776FD42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344DE-EDCE-40F4-9D0F-E226D6AF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49CA8-B641-48FE-BDB0-FF81C1EA4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1CC95-9AF7-47CC-829B-F95D85FAA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EDFEC7-8696-43D6-83BF-EE3552C5A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5E791B-C75B-4742-A4D1-13F3304B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828163-8FA5-47FF-A0A9-E5C3AFBC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66FF-831A-431E-9051-EFE810C45D8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4552-5947-4BC5-8A7B-12E4CBAB4F2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57AC-0E8F-4E6F-B177-5B4B79ACA6A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F5BA-9F09-4844-B4E5-05CB9BB8E49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D0EA-5B84-4A8A-8EE9-0529E55FD54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4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3F87-8BE5-45CE-A033-CFD4298C55C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FAA5-8741-4315-B8B1-E48DF057D2C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6BA0-FCE5-4DC2-AD8A-3D707A9510E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5160-B58C-46E4-999D-34636643DEB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9A48-6F45-457B-A6D9-F32DD1E0DAA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4CDE-F00E-4FB6-A723-DEB80D49DCD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1C05-10A8-4E22-A04F-A7FF96BB956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8BB3-45FA-441C-87C1-3C65CF72C9B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8715-E823-4C36-AFCC-A036B58427C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Dyalog’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5429160"/>
            <a:ext cx="91440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Dyalog’09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96" name="Picture 4" descr="tegning09"/>
          <p:cNvPicPr/>
          <p:nvPr/>
        </p:nvPicPr>
        <p:blipFill>
          <a:blip r:embed="rId1"/>
          <a:stretch/>
        </p:blipFill>
        <p:spPr>
          <a:xfrm>
            <a:off x="1785960" y="1143000"/>
            <a:ext cx="527688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Page Data – Example ...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71320" y="1642680"/>
            <a:ext cx="81723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1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ldServer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9B6A-6068-4A14-9084-574435A27B2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4" name="Picture 2" descr=""/>
          <p:cNvPicPr/>
          <p:nvPr/>
        </p:nvPicPr>
        <p:blipFill>
          <a:blip r:embed="rId1"/>
          <a:stretch/>
        </p:blipFill>
        <p:spPr>
          <a:xfrm>
            <a:off x="0" y="142920"/>
            <a:ext cx="7819920" cy="689616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3" descr=""/>
          <p:cNvPicPr/>
          <p:nvPr/>
        </p:nvPicPr>
        <p:blipFill>
          <a:blip r:embed="rId2"/>
          <a:stretch/>
        </p:blipFill>
        <p:spPr>
          <a:xfrm>
            <a:off x="1743120" y="3429000"/>
            <a:ext cx="7400880" cy="342900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4" descr=""/>
          <p:cNvPicPr/>
          <p:nvPr/>
        </p:nvPicPr>
        <p:blipFill>
          <a:blip r:embed="rId3"/>
          <a:stretch/>
        </p:blipFill>
        <p:spPr>
          <a:xfrm>
            <a:off x="1743120" y="3429000"/>
            <a:ext cx="7400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Source Code Management ...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571320" y="1642680"/>
            <a:ext cx="81723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MildServer is also a demonstration of the ”new way” of developing Dyalog application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ALL the code is in UTF-8 text files, managed by SALT (the Simple APL Library Toolkit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SubVersion (a free source code management system) is used to manage the source cod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It is available as a download from the APL Wiki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This does not compromise the way that you develop APL applications at all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9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ldServer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5AF9-67A4-49BE-9188-D98D6FED101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MildServer Component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571320" y="1642680"/>
            <a:ext cx="81723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33333"/>
                </a:solidFill>
                <a:latin typeface="Geneva"/>
              </a:rPr>
              <a:t>MildServer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is a TCP/IP server which accepts connections, incoming data, and returns outpu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33333"/>
                </a:solidFill>
                <a:latin typeface="Geneva"/>
              </a:rPr>
              <a:t>HTTPRequest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is a class which decodes an HTTP Request into APL data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33333"/>
                </a:solidFill>
                <a:latin typeface="Geneva"/>
              </a:rPr>
              <a:t>SimpleAuth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is a basic security provider which uses the HTTP Challenge protocol based on XML inpu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33333"/>
                </a:solidFill>
                <a:latin typeface="Geneva"/>
              </a:rPr>
              <a:t>SimpleSessions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is a simple cookie-based session manager which preserves application data for the duration of a sessio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4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ldServer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35C1-504D-42C2-AD40-23ABA79BB97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MildServer Configur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71320" y="1642680"/>
            <a:ext cx="81723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9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ldServer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F14C-C59D-4A19-806E-983AA2B0B0D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Picture 2" descr=""/>
          <p:cNvPicPr/>
          <p:nvPr/>
        </p:nvPicPr>
        <p:blipFill>
          <a:blip r:embed="rId1"/>
          <a:stretch/>
        </p:blipFill>
        <p:spPr>
          <a:xfrm>
            <a:off x="357120" y="1500120"/>
            <a:ext cx="5019840" cy="325764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3" descr=""/>
          <p:cNvPicPr/>
          <p:nvPr/>
        </p:nvPicPr>
        <p:blipFill>
          <a:blip r:embed="rId2"/>
          <a:stretch/>
        </p:blipFill>
        <p:spPr>
          <a:xfrm>
            <a:off x="1928880" y="2214720"/>
            <a:ext cx="4981680" cy="370512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4" descr=""/>
          <p:cNvPicPr/>
          <p:nvPr/>
        </p:nvPicPr>
        <p:blipFill>
          <a:blip r:embed="rId3"/>
          <a:stretch/>
        </p:blipFill>
        <p:spPr>
          <a:xfrm>
            <a:off x="3857760" y="2143080"/>
            <a:ext cx="52862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Open, Modular Desig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71320" y="1642680"/>
            <a:ext cx="81723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Note that the </a:t>
            </a:r>
            <a:r>
              <a:rPr b="1" lang="da-DK" sz="2800" spc="-1" strike="noStrike">
                <a:solidFill>
                  <a:srgbClr val="333333"/>
                </a:solidFill>
                <a:latin typeface="Geneva"/>
              </a:rPr>
              <a:t>Session Handler</a:t>
            </a: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 and </a:t>
            </a:r>
            <a:r>
              <a:rPr b="1" lang="da-DK" sz="2800" spc="-1" strike="noStrike">
                <a:solidFill>
                  <a:srgbClr val="333333"/>
                </a:solidFill>
                <a:latin typeface="Geneva"/>
              </a:rPr>
              <a:t>Authentication</a:t>
            </a: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 components are configurable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Each one is defined in a script file; you can enhance them or replace the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Over time, more and more of the MildServer </a:t>
            </a:r>
            <a:r>
              <a:rPr b="1" lang="da-DK" sz="2800" spc="-1" strike="noStrike">
                <a:solidFill>
                  <a:srgbClr val="333333"/>
                </a:solidFill>
                <a:latin typeface="Geneva"/>
              </a:rPr>
              <a:t>should</a:t>
            </a: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 become configurabl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The idea is that the community will build a more sophisticated shared web framework in APL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7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ldServer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C780-D2BD-4C66-9DF1-ECD83CD621A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My Own ”To Do” List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71320" y="1642680"/>
            <a:ext cx="81723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Make HTMLInput Class Extensibl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Add optional Authentication Handler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Combine SSL and certificates with password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Provide a more elegant security plugin using an HTML subform rather than the HTTP Challenge protocol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Error Logging and Reporting module prototype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Run MildServer as a Windows Service (autostart when Windows starts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2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ldServer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02C0-0192-4658-A77B-1C1F57BA9F3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71680" y="1642680"/>
            <a:ext cx="85723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Proposition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MildServer is sufficient for many ”simple” applica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nyone who can write an APL function can implement a web site using MildServer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Scripted code does not compromise the ”APL Way”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NO additional components needed (IIS/Apache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It is an experiment (but already in ”production” use in simple applications)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Please take a look and comment, and contribute!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7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ldServer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9BBF-B695-40C3-9688-9E6B61C0BB5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0040" y="1928880"/>
            <a:ext cx="777384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Overview of MildServer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1785600" y="3571560"/>
            <a:ext cx="52578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Morten Kromberg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Dyalog’09 – Princeton, NJ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99" name="Picture 4" descr="tegning09"/>
          <p:cNvPicPr/>
          <p:nvPr/>
        </p:nvPicPr>
        <p:blipFill>
          <a:blip r:embed="rId1"/>
          <a:stretch/>
        </p:blipFill>
        <p:spPr>
          <a:xfrm>
            <a:off x="214200" y="5857920"/>
            <a:ext cx="100008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Goals and Philosophy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The goal is to make it possible for ”ordinary” APL developers to develop web pag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The ”MildServer” is an experimental platform for this work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What’s the problem, anyway?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2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ldServer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F848-4D1B-4ACB-B449-2F964CE6723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Picture 4" descr="tegning09"/>
          <p:cNvPicPr/>
          <p:nvPr/>
        </p:nvPicPr>
        <p:blipFill>
          <a:blip r:embed="rId1"/>
          <a:stretch/>
        </p:blipFill>
        <p:spPr>
          <a:xfrm>
            <a:off x="7380360" y="5877000"/>
            <a:ext cx="100008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What’s the Problem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56760" y="15717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POST /linreg.dyalog HTTP/1.1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Accept: image/gif, image/x-xbitmap, image/jpeg, image/pjpeg, application/x-ms-application, application/vnd.ms-xpsdocument, application/xaml+xml, ... blah blah blah ...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Accept-Language: da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Content-Type: multipart/form-data; boundary=---------------------------7d83002220638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UA-CPU: x86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User-Agent: Mozilla/4.0 (compatible; MSIE 7.0; Windows NT 6.0; SLCC1; ... blah blah ...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Content-Length: 2198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Connection: Keep-Alive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Cache-Control: no-cache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Cookie: UserId=mkrom; Session=dOiEkOvDgxAVdTpXZMRhpwCxpalFAI5p2pvbbhTHHAA=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-----------------------------7d83002220638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Content-Disposition: form-data; name="Degree"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1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-----------------------------7d83002220638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Content-Disposition: form-data; name="X"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1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-----------------------------7d83002220638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Content-Disposition: form-data; name="Y"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2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8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ldServer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18A7-4ED6-49B0-945D-DE1D1A6F5D7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The Desired Answer...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56760" y="15717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HTTP/1.0 200 OK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Content-Length: 2515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content-type: text/html; charset=utf-8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&lt;html&gt;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    </a:t>
            </a: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&lt;head&gt;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        </a:t>
            </a: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&lt;title&gt;Demo Server&lt;/title&gt;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        </a:t>
            </a: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&lt;link href="/Styles/Style.css" rel="stylesheet" type="text/css"&gt;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    </a:t>
            </a: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&lt;/head&gt;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    </a:t>
            </a: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&lt;body&gt;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        </a:t>
            </a: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&lt;h2&gt;Linear Regression&lt;/h2&gt;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        </a:t>
            </a: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&lt;table &gt;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           </a:t>
            </a: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&lt;tr&gt;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      </a:t>
            </a: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&lt;td&gt;&lt;form action="/linreg.dyalog" method="post" enctype="multipart/form-data"&gt;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           </a:t>
            </a: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&lt;table&gt;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               </a:t>
            </a: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&lt;tr&gt;&lt;td &gt;&lt;b&gt;Degree...&lt;/b&gt;&lt;/td&gt;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               </a:t>
            </a: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&lt;td&gt;&lt;select " name="Degree" value="1"&gt;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                    </a:t>
            </a: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&lt;option selected&gt;1&lt;/option&gt;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                    </a:t>
            </a: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&lt;option&gt;2&lt;/option&gt;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                    </a:t>
            </a: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&lt;option&gt;3&lt;/option&gt;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                   </a:t>
            </a: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&lt;/select&gt;... of polynomial&lt;/td&gt;&lt;/tr&gt;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3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ldServer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42D6-B7F4-488A-A2F6-CCA2227DDBC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Picture 3" descr=""/>
          <p:cNvPicPr/>
          <p:nvPr/>
        </p:nvPicPr>
        <p:blipFill>
          <a:blip r:embed="rId1"/>
          <a:stretch/>
        </p:blipFill>
        <p:spPr>
          <a:xfrm>
            <a:off x="1285920" y="0"/>
            <a:ext cx="677232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What’s The Problem (again)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71320" y="1642680"/>
            <a:ext cx="81723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Decode the HTTP Headers and Data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Make data available to the application developer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(Detect and) Manage ”Sessions”: Persistence of data from one request to the nex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A ”Cookie” is a bit of data stored on your PC, which is transmitted to the server with every reques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A session cookie tracks a user from one page to the nex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Provide Security: Identify the User and</a:t>
            </a:r>
            <a:br>
              <a:rPr sz="2400"/>
            </a:b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   Restrict Access to parts of the Web Sit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Help the application developer generate HTML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And a bit later (perhaps), more complex control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9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ldServer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F0C2-4F0E-4870-98D5-840C866B60F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BIG Thanks to ”WildHeart”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1642680"/>
            <a:ext cx="81723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I have been allowed to steal code from the ”WildServer” and other servers Stefano Lanzavecchia has buil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698400" indent="-26856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(all the tricky bits about decoding HTTP!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2800" spc="-1" strike="noStrike">
                <a:solidFill>
                  <a:srgbClr val="333333"/>
                </a:solidFill>
                <a:latin typeface="Geneva"/>
              </a:rPr>
              <a:t>WildServer</a:t>
            </a: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 is a more complete, ”more object-oriented” HTTP server developed by Stefano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2800" spc="-1" strike="noStrike">
                <a:solidFill>
                  <a:srgbClr val="333333"/>
                </a:solidFill>
                <a:latin typeface="Geneva"/>
              </a:rPr>
              <a:t>MildServer</a:t>
            </a: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 is Mortens ”watered down” environment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”</a:t>
            </a: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Anyone who is able to write an APL function should be able to turn it into a web page” ™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4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ldServer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7F18-2E2E-4800-B760-41B95BEA90C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A MildServer Page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71320" y="1642680"/>
            <a:ext cx="81723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Each page is a class which must derive from </a:t>
            </a:r>
            <a:r>
              <a:rPr b="1" lang="da-DK" sz="2800" spc="-1" strike="noStrike">
                <a:solidFill>
                  <a:srgbClr val="333333"/>
                </a:solidFill>
                <a:latin typeface="Geneva"/>
              </a:rPr>
              <a:t>MildPag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It must have a public function called </a:t>
            </a:r>
            <a:r>
              <a:rPr b="1" lang="da-DK" sz="2800" spc="-1" strike="noStrike">
                <a:solidFill>
                  <a:srgbClr val="333333"/>
                </a:solidFill>
                <a:latin typeface="Geneva"/>
              </a:rPr>
              <a:t>Render</a:t>
            </a: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 which takes an instance of </a:t>
            </a:r>
            <a:r>
              <a:rPr b="1" lang="da-DK" sz="2800" spc="-1" strike="noStrike">
                <a:solidFill>
                  <a:srgbClr val="333333"/>
                </a:solidFill>
                <a:latin typeface="Geneva"/>
              </a:rPr>
              <a:t>HTTPRequest</a:t>
            </a: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 as its argumen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Render must end by calling one of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Request.</a:t>
            </a:r>
            <a:r>
              <a:rPr b="1" lang="da-DK" sz="2400" spc="-1" strike="noStrike">
                <a:solidFill>
                  <a:srgbClr val="333333"/>
                </a:solidFill>
                <a:latin typeface="Geneva"/>
              </a:rPr>
              <a:t>Return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(HTML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Request.</a:t>
            </a:r>
            <a:r>
              <a:rPr b="1" lang="da-DK" sz="2400" spc="-1" strike="noStrike">
                <a:solidFill>
                  <a:srgbClr val="333333"/>
                </a:solidFill>
                <a:latin typeface="Geneva"/>
              </a:rPr>
              <a:t>ReturnFile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(FileName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Request.</a:t>
            </a:r>
            <a:r>
              <a:rPr b="1" lang="da-DK" sz="2400" spc="-1" strike="noStrike">
                <a:solidFill>
                  <a:srgbClr val="333333"/>
                </a:solidFill>
                <a:latin typeface="Geneva"/>
              </a:rPr>
              <a:t>Fail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(HTTPCode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9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ldServer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0485-3BCF-499D-AFC7-22720770922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2" name="Picture 2" descr=""/>
          <p:cNvPicPr/>
          <p:nvPr/>
        </p:nvPicPr>
        <p:blipFill>
          <a:blip r:embed="rId1"/>
          <a:stretch/>
        </p:blipFill>
        <p:spPr>
          <a:xfrm>
            <a:off x="378000" y="857160"/>
            <a:ext cx="8766000" cy="50720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3" descr=""/>
          <p:cNvPicPr/>
          <p:nvPr/>
        </p:nvPicPr>
        <p:blipFill>
          <a:blip r:embed="rId2"/>
          <a:stretch/>
        </p:blipFill>
        <p:spPr>
          <a:xfrm>
            <a:off x="2952720" y="2448000"/>
            <a:ext cx="619128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Page Data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71320" y="1642680"/>
            <a:ext cx="81723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For each user </a:t>
            </a:r>
            <a:r>
              <a:rPr b="1" lang="da-DK" sz="2400" spc="-1" strike="noStrike">
                <a:solidFill>
                  <a:srgbClr val="333333"/>
                </a:solidFill>
                <a:latin typeface="Geneva"/>
              </a:rPr>
              <a:t>session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, an </a:t>
            </a:r>
            <a:r>
              <a:rPr b="1" lang="da-DK" sz="2400" spc="-1" strike="noStrike">
                <a:solidFill>
                  <a:srgbClr val="333333"/>
                </a:solidFill>
                <a:latin typeface="Geneva"/>
              </a:rPr>
              <a:t>instance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of the </a:t>
            </a:r>
            <a:r>
              <a:rPr b="1" lang="da-DK" sz="2400" spc="-1" strike="noStrike">
                <a:solidFill>
                  <a:srgbClr val="333333"/>
                </a:solidFill>
                <a:latin typeface="Geneva"/>
              </a:rPr>
              <a:t>page class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is made (object orientation is a good tool for this </a:t>
            </a:r>
            <a:r>
              <a:rPr b="0" lang="da-DK" sz="2400" spc="-1" strike="noStrike">
                <a:solidFill>
                  <a:srgbClr val="333333"/>
                </a:solidFill>
                <a:latin typeface="Wingdings"/>
                <a:ea typeface="Wingdings"/>
              </a:rPr>
              <a:t>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If your page has </a:t>
            </a:r>
            <a:r>
              <a:rPr b="1" lang="da-DK" sz="2400" spc="-1" strike="noStrike">
                <a:solidFill>
                  <a:srgbClr val="333333"/>
                </a:solidFill>
                <a:latin typeface="Geneva"/>
              </a:rPr>
              <a:t>Public Fields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or </a:t>
            </a:r>
            <a:r>
              <a:rPr b="1" lang="da-DK" sz="2400" spc="-1" strike="noStrike">
                <a:solidFill>
                  <a:srgbClr val="333333"/>
                </a:solidFill>
                <a:latin typeface="Geneva"/>
              </a:rPr>
              <a:t>Properties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, MildServer will move data </a:t>
            </a:r>
            <a:r>
              <a:rPr b="1" lang="da-DK" sz="2400" spc="-1" strike="noStrike">
                <a:solidFill>
                  <a:srgbClr val="333333"/>
                </a:solidFill>
                <a:latin typeface="Geneva"/>
              </a:rPr>
              <a:t>from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the HTTP request </a:t>
            </a:r>
            <a:r>
              <a:rPr b="1" lang="da-DK" sz="2400" spc="-1" strike="noStrike">
                <a:solidFill>
                  <a:srgbClr val="333333"/>
                </a:solidFill>
                <a:latin typeface="Geneva"/>
              </a:rPr>
              <a:t>into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your page if the HTTP element has the </a:t>
            </a:r>
            <a:r>
              <a:rPr b="1" lang="da-DK" sz="2400" spc="-1" strike="noStrike">
                <a:solidFill>
                  <a:srgbClr val="333333"/>
                </a:solidFill>
                <a:latin typeface="Geneva"/>
              </a:rPr>
              <a:t>same nam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ny data inside the instance will survive until the session ends (times out after inactivity or user LogOut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6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ldServer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C0A6-C31A-466E-A612-D88D9F7F1F9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6T22:41:42Z</dcterms:created>
  <dc:creator>Gitte Christensen</dc:creator>
  <dc:description/>
  <dc:language>en-US</dc:language>
  <cp:lastModifiedBy>Windows User</cp:lastModifiedBy>
  <dcterms:modified xsi:type="dcterms:W3CDTF">2009-09-13T16:15:45Z</dcterms:modified>
  <cp:revision>351</cp:revision>
  <dc:subject/>
  <dc:title>Rolling the Process</dc:title>
</cp:coreProperties>
</file>