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9C0F-B5D8-4547-833C-4C94A8343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F1A-AB8A-48AB-9758-D1D25E9C9E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910B-0097-4B89-AC0B-0426462049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4E6-0F13-4731-99DB-507110CA79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4AA-6B6B-4CEA-A187-413F69BCD8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6757-049E-41CB-ACA2-2D9AD8B72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DF60-4D09-45BA-B5E4-7450B4AE7D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6498-FA0E-4F79-BDEA-B66851DB5C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F16-7A64-4C47-8A47-CA5238CE94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CF3-9757-4C81-9629-4B634F3E5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F69-C045-4A19-B989-98BF7AB24C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C9F-BA4A-43D1-A3B6-80D7AE1CB1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2826-691A-4C59-A8E8-A4ED7DACFA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463-25D6-42A5-8550-2E0333BD01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C65-5670-4CBE-86BC-5FA8B0E60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8AF-205E-4556-86E0-E616CD7AF4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BB7-4B61-4494-AEEE-08532C0CC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625E-C0FD-484E-AAFC-FBEDD5CE5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FA6-75C2-4894-9FC8-C6E25A3EB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A7E4-0615-4366-AA31-1E9DBDC509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4DB-7A62-4D85-85E3-A84821F00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DC7-8A7A-46C5-966A-121C8C3DC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135-E313-403C-BAD0-89ACF6B6AC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2AA1-F9C5-44FF-A9FD-B80174BBFB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F1E-F9A1-49E0-AA7C-B8806BF80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225-488B-46E7-B060-14259FE30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5241-255E-4393-811D-7C0BF92B8F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A83-3D96-4A5F-8ED1-72D17C3579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AA7B-21BA-40FE-8782-D9C80169D1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A8CA-B7F8-4CD9-AEB9-F38D90264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676-C144-4D81-A4D6-4E961B415D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3717-8C21-449F-B069-630E02D50C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E77-7E38-4E6B-B57B-4D45D1707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720-09DB-4625-830B-BE864E390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EEA2-A2ED-47FE-8453-E66664B464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8E0-1DA1-47AD-9A01-6023DD18D0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FEAF-434F-4412-A28E-8B0F1B5A8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69B-8084-4760-81BA-CA02830005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1A2-0C24-4C0A-87CC-B7E6ED665F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581-8B97-4986-A332-919986E9C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D05-5B39-46E7-820F-8D4190C94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820-A62E-4932-B6D6-4EDB89B5A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371-4C33-471C-929D-7CE363342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E59-0F2F-467F-801E-74D4E2EF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4E2-E3BF-456C-94C9-5B166093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4810D-568B-466A-B4FA-639E216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8D0D4-2469-466C-A0CE-50D268D2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F609C-EB0E-4490-B7A0-B737792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166A6-6CAD-410C-BDA5-BCB76D7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8CE67-B878-4590-A166-8D7130A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C3F1F-D657-4271-BE73-62E51B2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E6E52-8ADE-45C8-84AF-18DA879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AE1E9-0D51-421F-ACEC-6D4103B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08296-E8F4-490D-98B8-00CDE4AF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8C03-6C24-4C8E-8083-A2FB9833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CD0-0895-44A2-8C6D-22EFA086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5ED78-4151-4DCD-99D1-08DAE38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C18DE-360E-4BE3-A4D5-02F1FBA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CD05D-0DD1-4CA9-9FBA-807700F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E43A8-C4F2-4E8B-BDEB-E435942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65DB2-E6F5-477B-ACCB-08946CE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DCD98-64B9-454D-9037-A1EF8AD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35232-4BE9-492C-9F3D-D59DDC6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01673-910D-44AE-AB79-F1B491B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112D-47DD-467E-A8F7-2EF0B5E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F8099-2F6D-4341-BB65-E54B39B0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A30-E79A-4478-802C-DA25908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179A-A670-4694-8843-F0D27424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07DC-C66E-4603-8921-251C381A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A5B50-D09B-4ED2-A310-11DC11F3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5151-24D6-408F-80DC-6E1C2D6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67FA-0D6A-4571-B784-F559288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8EA1-6ED6-487D-B0BF-CE9CA24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BC048-C95C-4067-99C0-683AD432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47AA-06BA-4EAD-A4DA-2116D99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AE3A3-485F-46E6-B9BB-1EAF789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F3ED-0EC4-4737-941E-18876BD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BF2-E506-4E22-9D23-0F1C5767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F070-7257-4D8F-AC8A-9459574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F16E-E2AA-4F08-A840-9AC63D6C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49A1B-D454-47C6-8824-3347626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4A8A9-2DD6-4E0D-943D-0629AD93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F90C2-6C64-45F6-AACC-F16F602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831E1-30AB-4B34-8012-2E75A74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066B0-FEA0-479E-9C81-842F43E0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6F368-1332-417E-8795-76269828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51726-7120-4AFB-99CD-0D237384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F86A8-6B41-47BB-91E8-2184D928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CCDD-1375-4FB0-A5DA-DFE7527A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9C5BA-514D-4755-9BE3-7EEF050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5A515-5414-4A68-9887-D14AEEB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E6FDE-0272-49B4-B1E2-6538ACF7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DB25A-F1B6-47D5-B3DE-6780E9E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82B19-1D5A-446D-8B3C-B441589D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510B1-A0A0-4435-A6E5-F9D73199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15A9A-12DF-49B6-A2F9-7333A29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881E6-75AF-4660-87F7-649817F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49CBF-31D4-4411-9713-A03F431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C7CBD-35C2-465D-99D1-E6E535C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E4D-E034-4447-9B27-E874F4F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64121-7A65-494C-B05F-4FACB98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48694-01D9-49C4-8D39-B4F26CB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37B00-27A2-478A-8712-D5C70D5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CAC17-2A24-40B7-AFF3-1FFFEB7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15296-DA59-4BE1-981B-57B74DB9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C7C4B-D506-4F7C-9DF1-E979EF4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EC942-A877-4190-B30B-9BB4F069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083E4-B402-4F70-A6A3-AD6E1062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F0C21-7373-4011-A5B0-8721218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73188-3CEA-4242-9B7C-3D878A6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628-25FD-41AA-88C6-991DD96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7CC14-0E86-4956-BAFC-0EE66038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385D4-F099-4A43-BA29-040CB955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85FD9-F7F3-466C-8BB5-0DE3B01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36DFB-2886-48F5-BBA9-9B4B9CF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3C186-2F79-4244-A617-5A4BA4B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2A6DF-BABB-4003-861C-E27E699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4F97B-68F6-4DD2-88A8-6CFF394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FDFE8-5C2D-40EB-B1B5-09A682A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D5219-B7E3-4DD0-B4C4-8D79D941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475D-7AE7-4BCA-889A-F0D61A19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9B41-4E96-4303-B173-928162CE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976E-3125-4B78-A33A-3738ECF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231-413F-4CC1-B9BE-96AE63F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1860-7434-47AC-99B9-C92A806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F72-A8C1-4CB2-8453-C8C96C7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EA6-0E75-4D8E-8EBC-8654C24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7A19-5969-4104-8668-1240CE97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B85-EC3E-4E60-8613-1DC63ABE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FFAE-5B2C-41AF-90CF-FBF92F7A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1D1B-2744-4653-997C-4B60C580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D153-0B07-42E2-88B9-E898248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09F4-F794-4C9E-BF42-CB92173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B9A2-9004-4FEA-B54C-1C11706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349-0F96-4930-94C8-2F3BCA61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6B40-3F02-4CB0-9170-D84959A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9D2E-88FC-477A-B508-F19C145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A1BC-29BA-4AF5-8A18-411FC89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55E7-5BF5-4D0C-95D3-2956400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A16F-0940-4ABB-8169-173EF4F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B005-9C54-40BF-B7F5-5C4EDBF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A55BB-7373-4856-BF61-ACC90692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D452-0D00-4937-A71E-E095DFEF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7127-B1F1-40A7-820A-A3BA05E4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E958-9FCD-49E5-A76D-8AA8A046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161-77AE-4A00-836C-EC10A84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0F7C-6DC7-4B5B-A98C-B1DC4EA9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DB8F-4788-4D6D-B012-56565F5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992A-5C68-4348-80A0-26D1764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96A9-F076-4981-B943-C49F776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063A-93C8-4378-8906-AB80AAE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67A7-06B8-4E51-8A05-CAB300A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69A6-9C52-4298-ABA0-34413839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9229-F32B-480B-917F-4BF86E2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D08C-EBF2-4C2C-985D-5D878948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22FC-CD21-472C-A199-27DBB809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2CD-C5D8-42B7-A761-70CEA5D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F06A-3C48-4A3E-8C31-688BF85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99C1-7AFC-4A5B-82FB-9202958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DB7E-5D88-49B5-A922-E6C0C43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C3A1-5D9A-43BE-80ED-F4CBCB85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047E-8F08-4E28-ABB0-CC5452D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FC02F-14A0-41FC-A8DC-4177908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2B29-9692-4386-A5F7-644A0C9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4C1B-8B91-48F3-88EB-9A3B02C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F8B4-1DD0-41EF-97E0-55A6D120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1ED10-B425-4BD5-A959-4FC3F05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D73-0122-40A4-AC42-74DC5FE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3C6C-14C1-4176-9F12-051160D5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AD36-0BD2-4A9F-8F1C-C9E467FD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A14C-729B-46E3-99DD-14AD31B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90A33-2C93-4384-8DF5-6FF064EB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F97D-ABB3-41DC-A562-0D2B3F36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2F17-5827-44D5-963D-F7A21265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ED969-0BA1-4F43-BDEA-B4D9BB4F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98FD-4893-45C4-80E7-DD76D44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263C-0D92-4BBD-8E63-98574967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0D18-C74F-4BAC-8792-EE65E4C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178-9021-4596-92BC-8C379CB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18A5F-65A1-49F2-B47B-20F1607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6E61-C778-478F-93EB-89D4D47B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C648-221E-46AC-B278-ED16521B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C9E7-E844-4B96-85EA-29958626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BFA3-0235-4E89-A26A-915FD7F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97DF-A929-42A2-8D49-3DCE54D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75C62-A3A8-48FD-B1BC-EF22A05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9E119-6840-4A6F-AED2-8BA305DF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5236C-28BE-400E-8D4B-2D99DA5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766EA-D836-47EF-AE26-5368058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845-457D-4C36-88D6-9531E6A8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394F-9608-45FC-BD44-8BEDFB6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A7A7-F5E5-4793-A00F-5D7A8D6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31ADB-3047-4374-B5D3-EE32BC3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301B-F19F-4D9B-AD8A-C09D3E4C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0AED-1504-4C9C-8910-C5849C9C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6EEC-A499-4928-9B86-FC3BEFCD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DAB9-260D-4BA2-9648-2B1A3150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4CEA1-2DF7-4687-9B5D-066B8C9C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E70FD-93BB-4508-A3C7-9CE3204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5D86F-2F34-42CB-80C6-C24D9A39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2E4-1368-4DB7-9086-7068A9B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F888-0558-4C8A-95DC-A8CDA5E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3910-89C0-4CAF-8DA1-5716266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018D-F1A3-4988-A4B5-F32CEE9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62301-3902-44E8-85CA-674DFA1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2BD8-44A5-455D-9EAA-A7C1560E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0C51-AF7C-4F2A-AA71-145662A2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40A9-A226-4E16-80E4-DB274E4E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E2F18-6733-454A-8C0A-976A20F5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13138-F05F-4612-A1D4-34AFFF2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6E315-F719-437B-995D-2E54CD1C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672C-6697-46A5-A62A-86DE52E561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57C-58B1-4B99-98A2-79BDD32A4E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E7E-75E2-4A4C-9A6B-3E8CE13083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302-D698-4EEA-97DB-1AB43AF0B3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5394-0B82-4F1A-A31D-AC9087B4B8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02E-8ED9-49B9-B6DD-D625C5B47E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44A-F26A-4A48-9DA9-CBBFC5796F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561-FDBF-408A-899F-2E6471CDA0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033-D311-4826-A67A-467848CA8C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20C1-B03B-4140-B9A8-9FBBC73A90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D13-4C8D-465E-8395-32D78E2E1F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F0E7-5E9B-4013-96A6-7D18DB8442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27D-B5BD-4087-B1E2-44CCF211E9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0F5F-B014-4C03-B1FA-811B6588ED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Program%20Files/Dyalog/Dyalog%20APL%2012.1%20Unicode/SALT/Spice/monitor.dyalo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krom@dyalog.com" TargetMode="External"/><Relationship Id="rId2" Type="http://schemas.openxmlformats.org/officeDocument/2006/relationships/hyperlink" Target="http://www.dyalog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aplsharp/silverlight/aplsharp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erformance Case Stud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isited company in Bruxelles doing “actuarial calculation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12.1 gave a 20% speedup “out of the box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We found 20% more by doing “hot spot” analysis for a couple of hou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 8 core machine (2xQuad) gave a 5x speedup using “PEACH” on the inner loop of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mmary: 7-8x faster. 1 Hour calculation takes &lt;10 minutes. Customer is pleased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CE9B-E152-473A-90B5-4A4EF2BA57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ser Command Process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idea as in APL*PLUS, but based on Unicode text files as source for user command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“User command” consists of 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single Unicode Text fil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, all you need to do is drop it in a particular folder (no need to restart AP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akes it *VERY* easy to share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]display 2 2↑3 3⍴'UCMDS' 'Rock!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┌→────────────────┐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↓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UCMDS│ │Rock!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Rock!│ │UCMDS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└∊────────────────┘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8C2-6575-465C-B262-CA6C1BDFF3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Editor has been completely rewritten to better support editing large classes an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utlining, Collapsible Regions, “Refactoring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hn Daintree will show you all the new features after lunch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43BC-CDF9-4A12-9F44-D9C910983E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ast XML Transform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nverts XML text to (&amp;from) an array: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1] Level of nesting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2] Element Name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3] Element Data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Attributes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5] Node type (0=Empty Tag, 1=Text only, 3=Has Children, etc…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not required when generating XML, [;5] ignored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5F1-EAA1-44FD-B01D-C96D9941FF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tegrated MS.Net GU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8AAA-31DA-490C-887B-87E46D9511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/>
          <a:stretch/>
        </p:blipFill>
        <p:spPr>
          <a:xfrm>
            <a:off x="357120" y="0"/>
            <a:ext cx="85820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9430-8F7A-4D2A-89A1-F9827DFE73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Timefram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mplete except for packaging and a rapidly diminishing number of bugs in the new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for General Availability on Windows+AIX is August/September 2009 (was “before” Dyalog’09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inux and PDA before year e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n’t too late to join the Beta-Test programme: Write to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mkrom@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nd explain what you would like to test…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onit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2"/>
              </a:rPr>
              <a:t>http://www.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2000" spc="-1" strike="noStrike">
                <a:solidFill>
                  <a:srgbClr val="333399"/>
                </a:solidFill>
                <a:latin typeface="Geneva"/>
              </a:rPr>
              <a:t>twitter.com/dyalogapl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for notif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83D-7AF6-497A-A717-28E538A7D9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tatus – Spring’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B34-A175-43C8-9AE4-CE55A9DCC7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1"/>
          <a:stretch/>
        </p:blipFill>
        <p:spPr>
          <a:xfrm>
            <a:off x="642960" y="0"/>
            <a:ext cx="77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1239-6B47-4B1E-AF93-530214C236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pport for More Certificate Typ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’ve had help from Peter-Michael Ha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ncrypted Certificat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Windows Certificate Store (allows use of SmartCards and other “Tokens” that interface with thi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available early in 20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2DB1-7684-4D91-A2A8-F069E951CA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Performance and QA 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tinued focus on multi-core, cache optimization and other aspects of modern chip architec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ndustrial Strength” local and distributed PEAC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 “2 billion element” limit from 64-bit ve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Data Type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28-bit Decimal Floating Point (IEEE-754-2008) for banking appl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mplex Numbers to attract educational us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ational Numbers / Unlimited Precision Integers can wai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We have decided we do NOT NEED 64-bit Integ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C53B-8F7D-4CEC-9AE1-F3B7E6E30D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mprove and rationalise internal developer tool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DMX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Diagnostic Message –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Provide more detailed information about erro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MONITO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Measure CPU and Elapsed Time with higher precision, easier to use, handle recu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STACK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SI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to return “ref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NC, ⎕NL…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ationalise “Metadata” or “Reflection” tool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4E2F-FC4A-499F-ABCB-C53F70D530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Likely v13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pport for Unicode source files built-in to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ad, Save and direct Edit of Unicode Text fil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General-purpose Encryption Library (Hashing, Symmetrical and Asymmetrical encryption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availability for v13 in “roughly 12 month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6DDB-5072-4BF7-922B-48218D44B4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ther Potential Proje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SQAPL Serv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Allow an APL application to appear to be a Relational Database Engine (with ODBC, ADO, ADO.NET and JDBC driver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(This will not be a free product due to 3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party licensing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te IDE for DyalogAPL on all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no” Bridge – use .Net Framework under Linu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ovide More Developer Tools – as part of the APL Library. Cultivate an “Open Source” code repository,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0ED5-6322-4BEC-BB31-C1700A94F9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started a research project, to produce a completely new, ”Fully Managed” APL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publish a specification and discuss it, first with major customers and then ”in public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be fully integrated with Microsoft.Net – but the core language syntax will be independent of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3AA-62F9-4FAB-851F-CC5D14B7C4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- Benefi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s written in APL# will be deployable in a ”secure” fashion over the internet, and in other scenarios where ”managed code” is a requirement or provides a significant advant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xample, you will be able to write web applications with APL code executing in the browser to provide a ”rich client” experi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F10-9057-44B4-8CDA-401A3B4818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ull set of APL primitives, operators and other core language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igned as a tool for APL thinkers – but comfortable for software engineers</a:t>
            </a:r>
            <a:br>
              <a:rPr sz="2400"/>
            </a:b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NE BIG difference: No ”semiglobals” (a function cannot see the locals of its calling environment)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re WILL be true globa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the equivalent of namespaces will provide a ”reasonable” migration pa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75B-E573-4DD0-B7D1-452B57AB31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 NO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uxiliary Processor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ML, ⎕OR, ⎕SM, ⎕RTL, ⎕SD, ⎕SR, ⎕NTIE, ⎕ARBIN, ⎕W*, ⎕AI, ⎕SVO, ⎕DQ, ⎕D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(Library functions for which a perfectly good equivalent exists in the .Net framework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aved workspaces will not be able to have an )SI stac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First versions may not be able )SAVE workspaces at all</a:t>
            </a:r>
            <a:br>
              <a:rPr sz="1600"/>
            </a:b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APL385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CT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I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jury is still out), and a small set of carefully selected library functions, Component Fil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XML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etc) which provide unique value to APL programm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111-5ADB-4C49-ADAB-A8CA77A592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” vs ”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a complimentary product which allows the use of APL in places where it can not be deployed today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useful to organizations who need managed code, or use Visual Studio / C# or are otherwise heavily invested in Microsoft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ate of development of the core product 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continue to accele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wo products will inter-operate seamlessl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34F-E9A4-4082-B940-013F18C66B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</a:t>
            </a:r>
            <a:r>
              <a:rPr b="1" lang="da-DK" sz="4400" spc="-1" strike="noStrike">
                <a:solidFill>
                  <a:srgbClr val="333333"/>
                </a:solidFill>
                <a:latin typeface="APL385 Unicode"/>
              </a:rPr>
              <a:t>→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APL # ”Interop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assemblies can be called by Dyalog APL (as any other .NET assembly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and APL# will (eventually) be able to share Component Files and communicate (many) APL arrays via TCP/IP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But not saved work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lected New Language Features in APL# will be ported to Dyalog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allow the writing of code which can be used in both environ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F07-8465-46BE-B517-2289BB5126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ntroducing Version 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emonstration of some Key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ga 2.1, Encryption &amp; Encoding Libra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APL#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” -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new APL interpreter to complement Dyalog 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gle’s Eye View of Curves in the Roa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commendations on preparing for the futu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5F38-A9B9-4B58-B9DA-0239780937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imelin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still being designed, but see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24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C:\aplsharp\silverlight\aplsharp.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start reviewing the design externally this winter (come to APL2010 to heck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totype may be available at APL’2010 – earliest ”General Availability” in 201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essure (and funding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 from customers could make us more ambitious about the features, but probably not the timing, of the firs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3A7-50FF-4BB1-A2EF-5E4E1D400C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good home for ”Vapourware”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ave Thomas is about to teach us how to recognize and use different forms of cloud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18C6-A5C1-4194-B250-4305D6AB88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8" descr="http://www.enchantedlearning.com/cgifs/clouds.GIF"/>
          <p:cNvPicPr/>
          <p:nvPr/>
        </p:nvPicPr>
        <p:blipFill>
          <a:blip r:embed="rId1"/>
          <a:stretch/>
        </p:blipFill>
        <p:spPr>
          <a:xfrm>
            <a:off x="3214800" y="2357280"/>
            <a:ext cx="537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mazon Web Services (AW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”mature” provider of ”web and computing infrastructure” (since 2006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provide a virtual machine image and Amazon ”scales it infinitely” at reasonable cos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are investigating providing tools to support EC2 (Elastic Compute Cloud), S3 (Simple Storage Servic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Goal is to provide recipes, or pre-configured ”Amazon Machine Images” to build up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a lot to learn, but hope to wrap our new knowledge up nicely for Dyalog us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timeline... Talk to us if you have a potential app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293-647E-4DE9-ADDF-F98ABAB08E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oughts about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49E-7AA8-4ACF-B449-8DAB0A82E1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" descr="http://susty.com/image/country-road-clouds-photoshoped-into-world-map-continents-float-in-blue-sky-clear-green-grass-black-pavement-white-broken-line-image-photo.jpg"/>
          <p:cNvPicPr/>
          <p:nvPr/>
        </p:nvPicPr>
        <p:blipFill>
          <a:blip r:embed="rId1"/>
          <a:stretch/>
        </p:blipFill>
        <p:spPr>
          <a:xfrm>
            <a:off x="1928880" y="2286000"/>
            <a:ext cx="5297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 Very Brief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9FD-2072-4014-84F0-51069AD5E6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3F9D-7EFB-45FA-84E8-6E74B2E820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”Back”: v1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ctober 2009, Key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aster, more Robus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hanced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XML, Web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utorials and Tools – and more to co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ACC-E598-453F-89BC-5B1F54D7E5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o Come 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“Commercial” and “Technical” Data Typ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Speed – Especially On Multiple Co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cryption and Other Web Enabling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naged Cod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Ways to Run APL as a Service across Multiple Platforms (ODBC Data Source etc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E36-D03A-460C-8146-90D1230E19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, even on Wind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Good news: Porting to 64-bit requires few code changes (once all the other components you need are available in 64-bit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investigate what it will take to mig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hurry – but eventually, we will start adding new features in Unicode only (we’ll need more symbol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ook at PEACH and other forms of ”multicore” spli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E54-2729-4550-B60E-6085FAD40E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prepare for the Web or Cloud - think about addding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Front Ends using ASP.NET, MildServer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Services using ASP.NET or SA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 ODBC or ADO frontend using the SQAPL Server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ake a look at Source Code in Unicode Text Fi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asier sharing and manage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ccess to many excellent (often free) tools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714-AF44-44C2-80ED-95B6AA8570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was supposed to be a “Year of Consolidation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et the new QA manager take char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d, Install &amp; QA on every platform, every ni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nd and Kill more bugs, Speed things up a bi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 But we managed to sneak a few new things into v12.1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3CE5-BB05-4776-A90A-A9C340EDFA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D37-95E5-4493-8D25-5F0CCF8E51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ve been keeping bus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re starting to enjoy the benefits of being a significantly larger tea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ope that you will enjoy some of the new Features - and Products - that are heading your wa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ank You For Listening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4ED-EBD9-4235-94DD-29DFC90790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194B-A69D-4FB4-BBF9-11A0B2CE28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8CB-9059-4C76-A78F-45BCD53A69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425-C182-4661-81D1-971F8FA53A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785880" y="1857240"/>
          <a:ext cx="7358040" cy="4391280"/>
        </p:xfrm>
        <a:graphic>
          <a:graphicData uri="http://schemas.openxmlformats.org/drawingml/2006/table">
            <a:tbl>
              <a:tblPr/>
              <a:tblGrid>
                <a:gridCol w="500040"/>
                <a:gridCol w="533520"/>
                <a:gridCol w="537840"/>
                <a:gridCol w="1357560"/>
                <a:gridCol w="1741320"/>
                <a:gridCol w="115920"/>
                <a:gridCol w="714600"/>
                <a:gridCol w="823680"/>
                <a:gridCol w="1033560"/>
              </a:tblGrid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Boolean Scans and Reductions Highly Opt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 1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⌿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et Functions” (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PL385 Unicode"/>
                        </a:rPr>
                        <a:t>⍳ ∊ ∪ ∩ ~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) Optimized for “One Small Argumen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~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(vec≠5)/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Transpose Rewrit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Uses Less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i j←1000?¨1000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i;]</a:t>
                      </a: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⍝ (kb u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is also (often)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mat[i;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j;]←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5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50F-237B-4CAF-BD12-6CFA6C9D6F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857160" y="1643040"/>
          <a:ext cx="7572600" cy="4357800"/>
        </p:xfrm>
        <a:graphic>
          <a:graphicData uri="http://schemas.openxmlformats.org/drawingml/2006/table">
            <a:tbl>
              <a:tblPr/>
              <a:tblGrid>
                <a:gridCol w="603360"/>
                <a:gridCol w="2825640"/>
                <a:gridCol w="1143000"/>
                <a:gridCol w="505080"/>
                <a:gridCol w="552240"/>
                <a:gridCol w="965160"/>
                <a:gridCol w="978120"/>
              </a:tblGrid>
              <a:tr h="2491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Grade Uses New (lexicographic) Algorit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For “Small Range” Data, Even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ort” is  now an idi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]}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      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00 4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;]}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20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arithmetic (+ - ×) has been fully rewritten in assembl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imple Arith uses “SSE” instructions where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000∘rand¨50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⍝ 1-byte 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+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ore Optimized Cross-Type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 0.001×(1000 1000)∘rand¨50 1000000 ⍝ a: 1-byte ints, b:fl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×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atrix iota idiom extended to numeric ar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10000 10 rand 1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{(↓⍺)⍳↓⍵}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Scalar Dyadic Functions on Floating-Point arguments will use multiple cores (configurab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ut not + and -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8CE-21C4-47D4-BC27-F8EF2B32A7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14720" y="3500280"/>
          <a:ext cx="4786200" cy="2229120"/>
        </p:xfrm>
        <a:graphic>
          <a:graphicData uri="http://schemas.openxmlformats.org/drawingml/2006/table">
            <a:tbl>
              <a:tblPr/>
              <a:tblGrid>
                <a:gridCol w="1595160"/>
                <a:gridCol w="1041480"/>
                <a:gridCol w="21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rallel Each Oper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42960" y="185724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 user-defined operator called PEACH is included with v12.1. It uses Conga to orchestrate multiple core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Demo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arallel Each on a single machine works well with algorithms that have a good CPU:Memory rati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stributed Each” works for any kind of calculation if transfer or arguments and results not too expensi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9CCC-A40E-49D4-92D2-1EAD9A0BCA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9-09-15T11:45:56Z</dcterms:modified>
  <cp:revision>377</cp:revision>
  <dc:subject/>
  <dc:title>Rolling the Process</dc:title>
</cp:coreProperties>
</file>