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EFB64-7E0D-40AE-88D7-0A80AF47D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C76D7-3359-48C9-8636-C2C77FAFD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F330C-1E9B-49DC-950B-E06093895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559FD-BB84-4870-AE72-F21E4B523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2A246-D30C-41C0-A8EC-D9B182DAB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2A817-9E9B-46A2-A346-C953011BF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EAD96-5C87-40AF-BA56-BF5547125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97CEC-3E8A-496F-90BD-CD0A3C734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FE709-24CE-480D-AD4F-6442179E8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7FA86-43D5-46D2-A03F-D5D4842D6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345E2-E274-4C28-8E48-8940766C9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14A7E-C11F-4F16-9E65-07ED75C6E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5DE8-AE2A-400B-918D-54373998FB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Design Patterns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havioral pattern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n of Responsibilit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en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late Meth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ito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ngleto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ton is a class of which only a single instance may exist at every given tim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alternative mechanism for object crea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 regular object crea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ngleto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us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Balancer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clas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to the object poo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or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totyp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 object by copying existing rather then using []NEW.</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ze cloning of objects as alternative way to create instance instead of regular object crea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need to prevent regular object creatio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totyp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us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es with time and resource consuming initialization proces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bstract Factor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s a series of objects without specifying object clas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interface structure define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multiple interface implementation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bstract Factory</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It is more relevant to the strongly typed world as strong typing puts limitations, which this pattern trying to resolve.</a:t>
            </a:r>
            <a:endParaRPr b="0" lang="en-US" sz="32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use: </a:t>
            </a:r>
            <a:endParaRPr b="0" lang="en-US" sz="32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ools which operate/generate different classes with the same interfac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apt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s an interface representing another interface/clas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interface structure define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multiple interface implementation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apter</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s an interface to represent another interface/clas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encapsulation of class behavior.</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xy</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s an interface representing another interface/clas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interface structure define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multiple interface implementation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design patte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needs design patter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fferent are classes and objects in APL compared to the rest of the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fferent are patterns in AP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design patter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patterns are solution templates for frequently occurring problems. This term is widely applied to the design of Objects and their relations with each oth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needs design pattern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ly classes in my first application using Object Oriented programming where static classes. If you are in the same boat why do we need Object Orientation at a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fferent are classes and objects in APL?</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less nature of variables/objects – Type of variable is defined at the run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full nature of workspace – workspace at every point in time has preexisting sta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els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 of type-less nature on classes/object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typing of results helps resolving data type compatibility problems at a time of compi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ence of strong typing gives flexibility for developers at implementation time, but may cause type compatibility issues at a run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fields and method’s results of classes are not strongly typ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e will see it may be good or b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 of state full workspace on classe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lass is defined by static members (fields, properties) of class (State of object is defined by dynamic memb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full nature of workspace may be described as the fact that at every point in time workspace is continuation of previous work rather then start from scratch. Static members are assigned at the time of class initialization. And may already change several times during test run before workspace will be saved. So application will start with static members which comes not from class definition but from intermediate state prior workspace sav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onal patter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gle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stract Fac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y Meth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oty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al Patter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ap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r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ç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ywe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x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16:39:39Z</dcterms:created>
  <dc:creator>Fiserv</dc:creator>
  <dc:description/>
  <dc:language>en-US</dc:language>
  <cp:lastModifiedBy>Fiserv</cp:lastModifiedBy>
  <dcterms:modified xsi:type="dcterms:W3CDTF">2009-09-08T21:04:36Z</dcterms:modified>
  <cp:revision>10</cp:revision>
  <dc:subject/>
  <dc:title>Introduction to Design Patterns </dc:title>
</cp:coreProperties>
</file>