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FB8C-6654-4EAE-9646-757747D1E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0EAB-9F1F-4C60-83C0-ED43364B7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BAE5-BB38-4D08-A3D6-17F91946A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F38C-C2A8-4642-AC14-A50812C3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FD8D-2BC6-46F8-B52E-C69CAECA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 Ex: large file: (3{take}components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-1 2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F0DB-4B9B-4535-8D42-B47A1371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730B-077E-4E16-AB6A-935DE1A74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7FDC-9A1D-4008-9DC5-3DD2D0A39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lso works in the workspace, outsid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4EE-DD75-496F-9B8B-22A80A2B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FB9-E34C-4435-8208-EA30B91C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BDC9-754D-4860-A7AA-2DE92AFE8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139B-DC52-4648-96FA-7049D5A0E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02F4-875C-4042-8236-84BC9A2D9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F46C-C48D-4030-A854-2BCE4D71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52BD-58CD-4193-B045-6054ED47A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353D-8997-4D5E-8459-911336706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0434-29BC-4A4B-AE4F-017AE0A9A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already takes several type editor character: ∇∊-→, now + ○⍟∘; ns can conta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635F-DB0E-487B-A101-02DAE38A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D0D-00F8-4E93-B8C5-464C8CD4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34E-3B32-47C2-9434-F2807783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[]NL-2.1 will NEVER report anything as vars (≠ fields) are NOT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CA02-C929-4827-875C-4BC724138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8C7E-5BE5-459D-B97C-688856D6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7B7-C7AA-4B48-9C0E-4F76C3B89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20D6-0ACA-4615-A876-BE9CD3CC6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1CF1-400D-4746-B7DC-F88AF110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[]NEW there is no need to perform all that sequence of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0BCB-C8D1-47E5-A83D-3371173E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0187-7CB8-4E8C-974D-25BA22772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491F-A412-42EA-829F-B027C2A7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71B4-1548-43B7-A8AF-F744AA8C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56B5-0B74-4155-9B9F-F77D3DFAD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750A-9DBD-4022-8D15-244740138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02B9-009B-48BC-B4C7-3E574D23E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20E2-3FF3-47B6-96ED-1D5F278A4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D5AD-D388-4EC6-97D4-CDE738D0A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2DE-2347-4FCA-AD6F-FFD218A0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5E6C-1B9D-4185-A37F-58D8EFD4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24BC-D0D6-41B7-9FA4-4C541E41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E9EA-F28A-4825-90AF-1F43F6ACD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C282-7859-49F5-9AC4-F3D16A2D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1FCC-E6FE-46C7-880F-4FBA2E090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ABD0-4995-430C-BBC7-530E2D9F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E738-244A-4396-92A8-D780529C0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A291-1BE6-4721-96F6-FDE46E5ED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F6F-403C-4B23-80E2-7FCEB1397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describes the syntax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2F78-5936-4B49-A1DB-1C09B147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258A-265A-4BB9-8881-A022DA5C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9D71-F82D-43DD-B83A-1681FFA7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84FE-3866-4CD3-B5CB-D434A29BC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12F2-18B4-4401-8AF0-FE5E481E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classes that include nss are not refixed when the included ns is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D0B1-F498-4E32-ADE4-60013B15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A72-48CC-4439-ACBF-1823D25E2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6146-EAEC-476A-9F82-8B6CAA21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 with this class is that it is not perform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173C-D98B-4644-96A0-B56049C4E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: see VW thru th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F9EE-5859-4113-9D2A-5B50972A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174C-A098-4BE7-8A89-F6B2F329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BEC5-323A-48B4-99DC-25DDC692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9E9C-ADB2-4743-ACE5-EA598E78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6717-80D7-43F7-9066-31AB8FB2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would offer to use your "engine" through that interface. User would be free to implement your interface any way they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80A8-6413-4341-B32A-00CA7E777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50CB-C14A-4434-9EE3-A85483DE0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9CD4-CC9F-411C-A082-4F4BEFB3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248E-DFEA-461A-B2D2-4D6C9AE3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D0C9-4827-4E24-8DA8-708484319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59F2-6D52-4D7B-90AE-EC039E39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022A-34C9-44DC-AEA8-D4A402931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6C8-8A6E-4C58-958F-5F30B1420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7DA-304A-480E-B283-A361B9B0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CB6-AD3A-4839-80C5-F698B0FA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8060-85BB-4593-890D-4F76F1A4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C58A-5E88-4911-81AC-6A8A169DF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 and using SALT you can now use a control version system to stor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0738-296F-4428-A6A3-D26E726B7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25AE-2C3D-4173-A1FF-4C944D06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D34-4051-4185-B818-620C6EDC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386-B0C8-4874-81A1-879E95D7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749-15A1-46E2-AA39-D98344E4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63E-DF76-4F7C-82B5-F84DD395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C4D0-3173-4E31-A58C-EC7A2590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E0EA-DB77-42B1-8A18-2BD326D7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13B5-F38A-4315-B6AC-A26E610C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A91C-4E21-40DE-A0CC-9D97DAF6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3ED7-93FE-47D7-8DF3-59D4E5C8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7333-7ED1-456E-A0A3-C89FA972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B790-0811-4BA9-BE9C-228F68BA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C6E-953A-4D78-8E04-AE2D7E56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4F66-BDEB-4715-BC29-81D0B0E9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6D7C-7299-4787-97C0-FFC9CD2A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BFFD-11A4-474D-9DEB-51BE5562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363D-506A-4C36-AA65-5850ABB1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3701-5D40-4D2C-81D1-6F41CA07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CF7-1E6A-4473-A1FA-B33E41E7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F2A-D35A-4737-867D-166E93C6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F6A-9B1A-4A18-ADB7-86DB4A2E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BC0-8508-4B0B-B1FC-8A407BFC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F61-DFF1-44F0-9E65-B73F7351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F2C-FBDB-4FBB-8D75-6F727DB2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411-CB4F-49CE-8C1A-11E1B41A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7F17-4162-4BC4-9F24-A3B6A5EF6942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1693-33DB-4644-BB55-11E962BA569C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 Dyalog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V1.0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6000" y="151596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C# they are implemented as a pair of functions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PL the 'name←' case is handled naturally. It is called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 and is the defa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cond case where indexing is made using any object (as opposed to numbers) is also handled easily. This is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array nature of APL introduced a notion of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roperty. This is the third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5724360" y="1844640"/>
            <a:ext cx="3384360" cy="4392720"/>
            <a:chOff x="5724360" y="1844640"/>
            <a:chExt cx="3384360" cy="439272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5724360" y="1844640"/>
              <a:ext cx="3384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7237080" y="3787560"/>
              <a:ext cx="35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7472160" y="4230720"/>
              <a:ext cx="2682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6227640" y="3284640"/>
            <a:ext cx="2665440" cy="2232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1515960"/>
            <a:ext cx="6300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a property is set,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retrieved, 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G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rgument is a name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taining the name of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perty (Name) and its valu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NewValue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’ also contains the indices of the property (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property MUST be used with [brackets] and their contents cannot be eli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594400" y="1484280"/>
            <a:ext cx="349560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84720" y="2813040"/>
            <a:ext cx="2808360" cy="256068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et/get function call is made,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ONC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er index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a’ also contains the index to deal with (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may be used with indices.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HAP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unction is used to check and generate indic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1016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443640" y="3141720"/>
            <a:ext cx="2305080" cy="2448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fault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re can be only 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[index]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s the same a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</a:t>
            </a:r>
            <a:r>
              <a:rPr b="1" lang="en-GB" sz="2800" spc="-1" strike="noStrike">
                <a:solidFill>
                  <a:srgbClr val="ff0000"/>
                </a:solidFill>
                <a:latin typeface="Geneva"/>
              </a:rPr>
              <a:t>.defProp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[index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ltiple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several properties are similar the definition statement may include several names separated by commas,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Property P1,P2,P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Get/Set functions’ argument will contain the name in ‘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am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’ (as in arg.N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21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←⎕NEW trigger1 ('Dan' 'Baronet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.FirstName←'Danie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iel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Inheritance: new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used to call base class construc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ASE used to call base class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override/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structors are called when the instance is destroy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C/⎕NL have been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is the same as (⎕NS'').#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mplements, :acce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an be GUI based (ex: :Class F: ‘form’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nclu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6"/>
          <p:cNvCxnSpPr>
            <a:stCxn id="175" idx="7"/>
            <a:endCxn id="17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7"/>
          <p:cNvCxnSpPr>
            <a:stCxn id="170" idx="1"/>
            <a:endCxn id="17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8"/>
          <p:cNvCxnSpPr>
            <a:stCxn id="172" idx="3"/>
            <a:endCxn id="173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: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←⎕new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.surface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6664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6093000" y="141300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5732640" y="3500280"/>
            <a:ext cx="31604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implemented Object Orientation (OO)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territory was uncovered when venturing into O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any were answe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slides will explain this in more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154120" y="5157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154120" y="5157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7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587240"/>
            <a:ext cx="4680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structo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y are used to clean-up after an instance is destroy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k←⎕new life ‘Kong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ing  Kong  is born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erase k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ong  is dead, long live the king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Interfaces, Classes &amp; some Namespaces (ICN) come in scrip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RC: Just like ⎕NR returns the representation of a function in nested form, ⎕SRC returns the representation of an ICN in nes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X: Just like ⎕FX creates a function, ⎕FIX creates an IC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ED ∘Interf /○Cl/ ⍟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nce classes and instances are a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typ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of namespace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basi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classification is 9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find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sub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-class they need to be enclos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-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NC are symmetric such tha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∊⎕NC ⎕NL 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vn∊⎕NL ⎕NC¨vn  ⍝ vn is a list of nam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77440" y="15890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⎕NC also apply to variables and func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omplete list i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/4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1  Variabl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raditional fn/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S created by ⎕NS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2  Fiel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-fns or –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stance (could be form)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3  Property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erived/Primitive            -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4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Class    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5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terface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6  External/share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         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Class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7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Interface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44360" y="1805040"/>
            <a:ext cx="70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To see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vars or fiel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va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ns or metho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fns/metho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terfac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nt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ev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prop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4920" y="566640"/>
            <a:ext cx="907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stem commands</a:t>
            </a:r>
            <a:endParaRPr b="1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63792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1800" y="170172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L also includes instance members when used with a negative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.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⎕NL -2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.2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report all fiel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of Namespaces and their ⎕N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wo already existed in V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gular 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 (NOT 9.3!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f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11280" y="709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3792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49636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ault display form of a namespace is its pa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't1.s1' ⎕NS 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#.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.⎕df  '(S1: son of t1)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1760" y="1915920"/>
            <a:ext cx="8327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   ⍝ even if assigned a new nam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what does this look like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≡t1.s1   ⍝ it “remembers” its refere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⍬≡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it is still just a ref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its display has a lengt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.v11←’var’ ⍝ If we change th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.⎕fx ‘f1’ ‘...’ ⍝ contents of s1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t1.s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abc.⎕nl 2 3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abc will “see” i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’abc’  ‘t1’  ‘t1.s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1  9.1  9.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539640" y="4869000"/>
            <a:ext cx="3745080" cy="865080"/>
            <a:chOff x="539640" y="4869000"/>
            <a:chExt cx="3745080" cy="865080"/>
          </a:xfrm>
        </p:grpSpPr>
        <p:sp>
          <p:nvSpPr>
            <p:cNvPr id="294" name="Rectangle 4"/>
            <p:cNvSpPr/>
            <p:nvPr/>
          </p:nvSpPr>
          <p:spPr>
            <a:xfrm>
              <a:off x="3276720" y="4869000"/>
              <a:ext cx="100800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"/>
            <p:cNvSpPr/>
            <p:nvPr/>
          </p:nvSpPr>
          <p:spPr>
            <a:xfrm>
              <a:off x="1908000" y="5373720"/>
              <a:ext cx="50328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539640" y="5373720"/>
              <a:ext cx="50328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1692360" y="4869000"/>
              <a:ext cx="79200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1235160" y="537372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2627280" y="486900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1731960"/>
            <a:ext cx="8821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nadic ⎕CLASS returns the tree of refere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dic ⎕CLASS    casts an instance into another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CLASS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lists classes in the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Implement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identifies what it imple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F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change the display form of a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INTERFACES     lists all interfaces in the curren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348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get a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istinc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py of t1.s1 we need to d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←⎕NS ⎕OR 't1.s1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abc.⎕NL  2  3    ⍝ everything is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cop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even its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≡t1.s1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but they’re differ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.⎕df ‘I am ABC’    ⋄  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 am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03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25800" y="154152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6086520" y="13971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16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325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←⎕ns 'tx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efault display form of a Form is its path, just like a regular namesp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'F1' ⎕WC 'form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df '&lt;F1 is in great form&gt;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can add items to i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b1’ ⎕wc ‘butt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’ F1.⎕wc ‘edit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’  ‘F1.b1’  ‘F1.e2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2  9.2  9.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have 3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instances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of built-in APL 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e2   F1  ⍝ each with its own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.e2   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47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contains 2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2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‘Capti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form is pretty much like a namespac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can contain variables and functio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v1←’some va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fx ‘f1’ ‘whateve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   ⍝ these are POSITIVE numb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are the items WE have add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60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now contains 4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4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T a form also has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wx←1          ⍝ to be able to se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-2 3  ⍝ include internal ite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erator  ... Caption ...  YRan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Caption’   ⍝ Caption is extern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¯2.6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ew 65 items are the only visibl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he form. They do NOT appear in ⎕nl +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180504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8640" y="1483920"/>
            <a:ext cx="440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4 external objec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77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78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3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388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19"/>
          <p:cNvSpPr/>
          <p:nvPr/>
        </p:nvSpPr>
        <p:spPr>
          <a:xfrm>
            <a:off x="6190200" y="160344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8"/>
          <p:cNvSpPr/>
          <p:nvPr/>
        </p:nvSpPr>
        <p:spPr>
          <a:xfrm>
            <a:off x="460440" y="1482840"/>
            <a:ext cx="4400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69 tot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Accelerator ... Caption ...  Y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6185520" y="1595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96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97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407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411" name="Group 2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grpSp>
            <p:nvGrpSpPr>
              <p:cNvPr id="412" name="Group 23"/>
              <p:cNvGrpSpPr/>
              <p:nvPr/>
            </p:nvGrpSpPr>
            <p:grpSpPr>
              <a:xfrm>
                <a:off x="5148360" y="2276640"/>
                <a:ext cx="3527280" cy="3671640"/>
                <a:chOff x="5148360" y="2276640"/>
                <a:chExt cx="3527280" cy="3671640"/>
              </a:xfrm>
            </p:grpSpPr>
            <p:sp>
              <p:nvSpPr>
                <p:cNvPr id="413" name="Rectangle 24"/>
                <p:cNvSpPr/>
                <p:nvPr/>
              </p:nvSpPr>
              <p:spPr>
                <a:xfrm>
                  <a:off x="5148360" y="2276640"/>
                  <a:ext cx="3527280" cy="3671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"/>
                <p:cNvSpPr/>
                <p:nvPr/>
              </p:nvSpPr>
              <p:spPr>
                <a:xfrm>
                  <a:off x="5148360" y="2923920"/>
                  <a:ext cx="35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26"/>
              <p:cNvSpPr/>
              <p:nvPr/>
            </p:nvSpPr>
            <p:spPr>
              <a:xfrm>
                <a:off x="5763960" y="2421000"/>
                <a:ext cx="2289960" cy="368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lt;F1 is in great form&gt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7"/>
              <p:cNvSpPr/>
              <p:nvPr/>
            </p:nvSpPr>
            <p:spPr>
              <a:xfrm>
                <a:off x="5293800" y="3573360"/>
                <a:ext cx="729360" cy="825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8"/>
              <p:cNvSpPr/>
              <p:nvPr/>
            </p:nvSpPr>
            <p:spPr>
              <a:xfrm>
                <a:off x="6659640" y="299700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9"/>
              <p:cNvSpPr/>
              <p:nvPr/>
            </p:nvSpPr>
            <p:spPr>
              <a:xfrm>
                <a:off x="7814160" y="3429000"/>
                <a:ext cx="502200" cy="45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"/>
                  </a:rPr>
                  <a:t>v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30"/>
              <p:cNvGrpSpPr/>
              <p:nvPr/>
            </p:nvGrpSpPr>
            <p:grpSpPr>
              <a:xfrm>
                <a:off x="5291280" y="2997000"/>
                <a:ext cx="720720" cy="502920"/>
                <a:chOff x="5291280" y="2997000"/>
                <a:chExt cx="720720" cy="502920"/>
              </a:xfrm>
            </p:grpSpPr>
            <p:pic>
              <p:nvPicPr>
                <p:cNvPr id="420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360" y="3058560"/>
                  <a:ext cx="57132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Rectangle 32"/>
                <p:cNvSpPr/>
                <p:nvPr/>
              </p:nvSpPr>
              <p:spPr>
                <a:xfrm>
                  <a:off x="5291280" y="2997000"/>
                  <a:ext cx="720720" cy="50292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3"/>
              <p:cNvGrpSpPr/>
              <p:nvPr/>
            </p:nvGrpSpPr>
            <p:grpSpPr>
              <a:xfrm>
                <a:off x="6875640" y="4653000"/>
                <a:ext cx="1439640" cy="360000"/>
                <a:chOff x="6875640" y="4653000"/>
                <a:chExt cx="1439640" cy="360000"/>
              </a:xfrm>
            </p:grpSpPr>
            <p:pic>
              <p:nvPicPr>
                <p:cNvPr id="423" name="Picture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46920" y="4700520"/>
                  <a:ext cx="128520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Rectangle 35"/>
                <p:cNvSpPr/>
                <p:nvPr/>
              </p:nvSpPr>
              <p:spPr>
                <a:xfrm>
                  <a:off x="6875640" y="4653000"/>
                  <a:ext cx="1439640" cy="36000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e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Text Box 36"/>
            <p:cNvSpPr/>
            <p:nvPr/>
          </p:nvSpPr>
          <p:spPr>
            <a:xfrm>
              <a:off x="6110280" y="2995560"/>
              <a:ext cx="108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Accele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Ca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7"/>
            <p:cNvSpPr/>
            <p:nvPr/>
          </p:nvSpPr>
          <p:spPr>
            <a:xfrm>
              <a:off x="7949880" y="292428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H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1"/>
            <p:cNvSpPr/>
            <p:nvPr/>
          </p:nvSpPr>
          <p:spPr>
            <a:xfrm>
              <a:off x="6345000" y="357192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Help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2"/>
            <p:cNvSpPr/>
            <p:nvPr/>
          </p:nvSpPr>
          <p:spPr>
            <a:xfrm>
              <a:off x="5318280" y="494028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iz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tep X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3"/>
            <p:cNvSpPr/>
            <p:nvPr/>
          </p:nvSpPr>
          <p:spPr>
            <a:xfrm>
              <a:off x="5302440" y="430200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Picture  Posn  PropList  Range  Re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4"/>
            <p:cNvSpPr/>
            <p:nvPr/>
          </p:nvSpPr>
          <p:spPr>
            <a:xfrm>
              <a:off x="6447600" y="400212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Border  B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5"/>
            <p:cNvSpPr/>
            <p:nvPr/>
          </p:nvSpPr>
          <p:spPr>
            <a:xfrm>
              <a:off x="5215680" y="4608360"/>
              <a:ext cx="16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cceptFiles  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6"/>
            <p:cNvSpPr/>
            <p:nvPr/>
          </p:nvSpPr>
          <p:spPr>
            <a:xfrm>
              <a:off x="7663680" y="3787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Y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5725080" y="40593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VSc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8"/>
            <p:cNvSpPr/>
            <p:nvPr/>
          </p:nvSpPr>
          <p:spPr>
            <a:xfrm>
              <a:off x="7115040" y="3209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i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9"/>
            <p:cNvSpPr/>
            <p:nvPr/>
          </p:nvSpPr>
          <p:spPr>
            <a:xfrm>
              <a:off x="5234760" y="53704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o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0"/>
            <p:cNvSpPr/>
            <p:nvPr/>
          </p:nvSpPr>
          <p:spPr>
            <a:xfrm>
              <a:off x="5705280" y="558648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MethodList  MinButton  Move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1"/>
            <p:cNvSpPr/>
            <p:nvPr/>
          </p:nvSpPr>
          <p:spPr>
            <a:xfrm>
              <a:off x="6467040" y="5084640"/>
              <a:ext cx="213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CursorObj  Data  Det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422360"/>
            <a:ext cx="8147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has 2 types of functions and variabl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174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in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specific to its typ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, those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w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d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NEGATIVE ⎕NL argument ONL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POSITIVE ⎕NL argument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- includes both types of elemen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we redefine the form all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bjects disappea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‘F1’⎕wc’form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 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-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446" name="Rectangle 5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7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55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69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80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491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s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ha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∘maneuv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681440" y="2509920"/>
            <a:ext cx="4066920" cy="3727440"/>
            <a:chOff x="4681440" y="2509920"/>
            <a:chExt cx="4066920" cy="37274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4681440" y="2509920"/>
              <a:ext cx="406692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>
              <a:off x="7634160" y="3448080"/>
              <a:ext cx="50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767200" y="5086080"/>
              <a:ext cx="863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338520" y="4356000"/>
              <a:ext cx="1079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0800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720" y="1268280"/>
            <a:ext cx="885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ing we have all types of namespace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s←⎕ns 'v1' 'f1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o←⎕new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'form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in1←⎕new c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ll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←ns,fo,cl1,in1,i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¨all.⎕nl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2   65  1  2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80720" y="1268280"/>
            <a:ext cx="843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1 external item to each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2 65 1 2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ll.X←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3 66 2 3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Inclu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y be because the code to include is comm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ny new system commands &amp;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faces show how it is 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umbered Properties are implemented in a special manner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iggers offer lightweight proper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/⎕NC have been extend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otion of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names is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lusion of common code is pos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is used to create complex numbers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can perform most simple math operations on them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ublic instanc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1 public shared fiel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instanc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share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se perform the basic operations: + - × ÷ *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6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60880" y="213660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5565600" y="350208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565600" y="458136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565600" y="5345280"/>
            <a:ext cx="3240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923240" y="350208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923240" y="458136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923240" y="5345280"/>
            <a:ext cx="88272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6720" y="1515960"/>
            <a:ext cx="82076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26920" y="3349800"/>
            <a:ext cx="2808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26920" y="3957480"/>
            <a:ext cx="2808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constructors 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ne of which is a trigger for when one of the fields is modifi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rt o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.Read ‘key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065560" y="0"/>
            <a:ext cx="425952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ke this →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icrosoft.Net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orms and more via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is possible to create forms using ⎕new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te that the class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name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You can create OLE controls with ⎕new too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system function eXposes Window’s interf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0= do NOT expose anyth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2= use new V11 syntax (e.g. Sheet[3]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x allows to use V10 syntax or the new V11 synta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1 ⍝ use V10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 ActiveWorkbook.Sheets.(Item 1).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3 ⍝ use V11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ActiveWorkbook.Sheets[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Sheet2'].Index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ndardize dialog box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1←⎕NEW Dialog ('Hello World' (50 250) ⍬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For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(a nam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You can do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m←⎕NEW ‘form’ .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2"/>
          <p:cNvGrpSpPr/>
          <p:nvPr/>
        </p:nvGrpSpPr>
        <p:grpSpPr>
          <a:xfrm>
            <a:off x="4832280" y="1865160"/>
            <a:ext cx="4276800" cy="4371840"/>
            <a:chOff x="4832280" y="1865160"/>
            <a:chExt cx="4276800" cy="437184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4832280" y="1865160"/>
              <a:ext cx="427680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3"/>
            <p:cNvSpPr/>
            <p:nvPr/>
          </p:nvSpPr>
          <p:spPr>
            <a:xfrm>
              <a:off x="5337000" y="338580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692840" y="338580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337000" y="4457520"/>
              <a:ext cx="324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337000" y="537336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92840" y="4457520"/>
              <a:ext cx="884520" cy="21564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7692840" y="537336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7640" y="13712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87520" y="436572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87520" y="497376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utili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re is a lot of utilities out there that can be used in AP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y are found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o be able to use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 with ⎕USING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USING←’System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←⎕new DateTime ⎕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 ⍝ let’s see its display form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2007/10/01 21:47:08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c ‘now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5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nu it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5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Signature statem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 made up o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Geneva"/>
              </a:rPr>
              <a:t>:Signatur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...] ] 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rt←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return type. If present it MUST be followed by ←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at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type, if prese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am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name of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g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...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for the other argu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 C#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System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APLClasses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 // the namespace in which our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is fou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static void Main() {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rimitives apl = new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Primitives();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APL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int[] rslt = apl.GenIndices(10)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cal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for (int i=0;i&lt;rslt.Length;i++) Console.WriteLine(rslt[i]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} }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nother APL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←'APLclasses,c:\...\apl.dl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←⎕NEW Primitiv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.GenIndices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 2 3 4 5 6 7 8 9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eb services can be writt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SMX files and ASPX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workspaces “behin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009999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00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9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612" name="Picture 10" descr=""/>
            <p:cNvPicPr/>
            <p:nvPr/>
          </p:nvPicPr>
          <p:blipFill>
            <a:blip r:embed="rId1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Rectangle 11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615" name="Picture 13" descr=""/>
            <p:cNvPicPr/>
            <p:nvPr/>
          </p:nvPicPr>
          <p:blipFill>
            <a:blip r:embed="rId2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14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6000" y="1517400"/>
            <a:ext cx="882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ember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mbers ar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variables)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functions)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othe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e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lists the instances of a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creat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ecial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rig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U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sing vs ⎕US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Using X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kin to ⎕USING,←'X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0⍴⊂⍬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amespaces in 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09999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5"/>
          <p:cNvSpPr/>
          <p:nvPr/>
        </p:nvSpPr>
        <p:spPr>
          <a:xfrm>
            <a:off x="322920" y="134136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load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using←'System'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←⎕new DateTime ⎕ts ⍝ assume it is 2007/10/10 19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2←⎕new DateTime (2007 10 16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t1←⎕new TimeSpan (7 2 0 0) ⍝ 7 days, 2 hou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+d3←d1-t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2007/10/03 17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&lt;d2,d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1 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95280" y="17334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95280" y="166032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468360" y="105264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This doesn't mean you have to rewrite everything! But y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ou are now competitive with the other guys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someone tells you "you can't do OO or .Net" you can now say "We can!"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4:44:56Z</dcterms:created>
  <dc:creator>DanB</dc:creator>
  <dc:description/>
  <dc:language>en-US</dc:language>
  <cp:lastModifiedBy>Danb</cp:lastModifiedBy>
  <dcterms:modified xsi:type="dcterms:W3CDTF">2008-10-03T01:49:20Z</dcterms:modified>
  <cp:revision>43</cp:revision>
  <dc:subject/>
  <dc:title>Slide 1</dc:title>
</cp:coreProperties>
</file>