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5040" y="518760"/>
            <a:ext cx="511776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6377040"/>
            <a:ext cx="4891320" cy="26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6BA8-02E8-42C4-AA0C-274221294A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9956-1141-4739-BA65-591AE24CD6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AD86-3C6E-49BE-923D-3C789655C9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FE46-41EF-4227-864E-1FBC492EB2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584B-DAC1-4E29-B233-98FC2355EA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FCA-01DD-410F-8894-749C8F29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C86-A1C4-4EB9-A23E-58E66BC2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66B5-F375-412B-99B7-F8CA9D07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FE2-25C0-466B-BE85-4D7C9744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B73-37AC-43A4-9DE6-EEDBCA3C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16E-0F1F-46A7-AA13-49B73C7A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369-F29E-42FC-8819-01E45668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66F-4897-4268-997F-36E98D0B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304-0C39-4FBF-8646-325025A5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8D4-004E-45A5-9F61-7D33CADD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B3E-227E-4040-8FC5-178F0334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CBD-0587-4C24-B247-6341CF90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BA64-A317-4ABE-A82C-39E1ED47FD3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XM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41428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4 September, 200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XM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 means of transporting data and data structure between applica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haracter stre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da-DK" sz="3200" spc="-1" strike="noStrike">
                <a:solidFill>
                  <a:srgbClr val="333333"/>
                </a:solidFill>
                <a:latin typeface="Geneva"/>
              </a:rPr>
              <a:t>XML converts to/from APL matri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Based on Mark E Johns’ APL imple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Designed with Micro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8FBC-4CD2-4258-A0D3-A93FFD31390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56760" y="856800"/>
            <a:ext cx="857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" name="2nd html no end tags"/>
          <p:cNvSpPr/>
          <p:nvPr/>
        </p:nvSpPr>
        <p:spPr>
          <a:xfrm>
            <a:off x="1133640" y="857160"/>
            <a:ext cx="80103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title&gt;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1&gt;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orem ipsum dolor sit amet, consectetur adipiscing el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b&gt;Donec commodo turpis a mauris fringilla phare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enean semper nibh vitae ante mattis ac feugiat neque a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Initial html"/>
          <p:cNvSpPr/>
          <p:nvPr/>
        </p:nvSpPr>
        <p:spPr>
          <a:xfrm>
            <a:off x="1133640" y="857160"/>
            <a:ext cx="80103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title&gt;Maecenas sed risus vitae sem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1&gt;Maecenas sed risus vitae sem&lt;/h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orem ipsum dolor sit amet, consectetur adipiscing el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b&gt;Donec commodo turpis a mauris fringilla pharetra.&lt;/b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enean semper nibh vitae ante mattis ac feugiat neque a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/html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3rd html no blank lines"/>
          <p:cNvSpPr/>
          <p:nvPr/>
        </p:nvSpPr>
        <p:spPr>
          <a:xfrm>
            <a:off x="1133640" y="857160"/>
            <a:ext cx="80103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title&gt;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1&gt;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orem ipsum dolor sit amet, consectetur adipiscing el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b&gt;Donec commodo turpis a mauris fringilla phare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enean semper nibh vitae ante mattis ac feugiat neque a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2nd Levels no blank lines"/>
          <p:cNvSpPr/>
          <p:nvPr/>
        </p:nvSpPr>
        <p:spPr>
          <a:xfrm>
            <a:off x="357120" y="857160"/>
            <a:ext cx="8571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4th html spread out"/>
          <p:cNvSpPr/>
          <p:nvPr/>
        </p:nvSpPr>
        <p:spPr>
          <a:xfrm>
            <a:off x="1133640" y="857160"/>
            <a:ext cx="80103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title&gt;     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1&gt;       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orem ipsum dolor sit amet, consectetur adipiscing el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b&gt;         Donec commodo turpis a mauris fringilla phare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enean semper nibh vitae ante mattis ac feugiat nequ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571680" y="1571760"/>
            <a:ext cx="8429400" cy="342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traight Connector 10"/>
          <p:cNvSpPr/>
          <p:nvPr/>
        </p:nvSpPr>
        <p:spPr>
          <a:xfrm>
            <a:off x="571680" y="192888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2"/>
          <p:cNvSpPr/>
          <p:nvPr/>
        </p:nvSpPr>
        <p:spPr>
          <a:xfrm>
            <a:off x="571680" y="228600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571680" y="271476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6"/>
          <p:cNvSpPr/>
          <p:nvPr/>
        </p:nvSpPr>
        <p:spPr>
          <a:xfrm>
            <a:off x="571680" y="307188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18"/>
          <p:cNvSpPr/>
          <p:nvPr/>
        </p:nvSpPr>
        <p:spPr>
          <a:xfrm>
            <a:off x="570960" y="342900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0"/>
          <p:cNvSpPr/>
          <p:nvPr/>
        </p:nvSpPr>
        <p:spPr>
          <a:xfrm>
            <a:off x="571680" y="378612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traight Connector 22"/>
          <p:cNvSpPr/>
          <p:nvPr/>
        </p:nvSpPr>
        <p:spPr>
          <a:xfrm>
            <a:off x="571680" y="414324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24"/>
          <p:cNvSpPr/>
          <p:nvPr/>
        </p:nvSpPr>
        <p:spPr>
          <a:xfrm>
            <a:off x="1357200" y="157176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26"/>
          <p:cNvSpPr/>
          <p:nvPr/>
        </p:nvSpPr>
        <p:spPr>
          <a:xfrm>
            <a:off x="2500200" y="157176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Demonstr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5DFB-B499-401C-9E84-68B99E851B5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XM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41428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4 September, 200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5:51:48Z</dcterms:created>
  <dc:creator/>
  <dc:description/>
  <dc:language>en-US</dc:language>
  <cp:lastModifiedBy/>
  <dcterms:modified xsi:type="dcterms:W3CDTF">2009-09-08T13:22:49Z</dcterms:modified>
  <cp:revision>1</cp:revision>
  <dc:subject/>
  <dc:title/>
</cp:coreProperties>
</file>