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media/image59.png" ContentType="image/png"/>
  <Override PartName="/ppt/media/image3.wmf" ContentType="image/x-wmf"/>
  <Override PartName="/ppt/media/image58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88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79.png" ContentType="image/png"/>
  <Override PartName="/ppt/media/image78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9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5B58-E1C1-4517-BAEA-E723A0DC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7ACB-D38D-4703-AC37-430D77BF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9B6D-D042-430B-B137-10B6C859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FE66-FD27-4D4F-A06F-7703C0C0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DEFF-EE88-4CCC-B307-E4630324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0B1-BC40-4314-98F2-24062BDE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33B-9FD2-4549-A268-7CFEFA66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909A-1588-40D8-ABC9-279949A3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7CE2-567F-42DE-ACA2-43573FB8C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C24-012B-4360-B3D1-3CFF7F57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B25-9559-454F-B2F7-CC3DE19A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30DD-DEB2-47D4-A917-998C4DD0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3452-BE0B-47D3-89EE-358D9399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FB5-A2D2-4E5E-8D6A-281B9E45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BDF4-B903-4E42-8825-DD683CDC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5EF-DE89-4AC0-992E-616DD8F9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ven SOM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2CF-6FEC-47EA-A655-F8181FAE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B28E-FB3D-4A21-BD67-E2719DE1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2A0-7414-4E8E-B5E5-CC8FC1C0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D1E-AAF9-4328-A4C7-DA235CA6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181D-0505-4A7B-9EE2-FFC81632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E6CA-DC24-419B-BADF-590A638B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477-930F-4FEA-8DFA-2B9F79D1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FCA9-5C73-4874-8BAF-80ECC856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 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67CD-49E9-447E-AB91-8A2C22A6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7DB4-6257-4CCE-96BF-1491CEEA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4401-AB48-409B-A13A-A5AB033A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161-D7C1-4BA5-A2E1-C2C0E62A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4544-2390-433E-99AD-9143F7A9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DFB5-74E9-4E05-8245-D7589753B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2039-8E04-40C3-B9E8-DCD0E918D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C85A-6086-44B6-BBA5-A77FFD05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 storage 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D73B-8F94-45C8-9F6C-D6B06D20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. ]SNAP work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879-988B-4BBD-9DCB-B1D260E4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6ADC-1BC8-4F09-AEAA-DCA69E6A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 we could let APL and SALT take care of the code and forget SVN but not if this is a big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CCC0-6133-4287-BA58-7251815F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5F43-479B-4EDE-BF8E-5545698F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0BFB-2CC0-4D74-9E9B-32C5159C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418-FD01-47B5-8D23-3ABBCDAA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 - 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4697-9E55-4913-BB66-EE797FF04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case it makes sens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E74-1E4C-410B-A446-EEFD0D5F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 so we shouldn’t hav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B269-A6C6-4A85-BB9F-DE35B1893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A827-8ED1-4704-AE4F-6CFE1E6F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06D9-A40E-427A-B42A-993C1570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n't save we'll need to reload the files from disk each time we )LOAD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BFC-1931-46C6-8CD8-C56B8E0C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036-1077-4753-B09D-6787630B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804-DE91-4F86-9D99-4D9E7159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the differences using the ]compare command with switch –version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40E-680E-4B64-818F-CAF9821C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5FA-BEAC-4FDB-A662-9F570DA9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will create a script that can recreate a workspace with switch -LOAD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6766-FE44-48D7-8E6A-7C4E0BF7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7300-BA82-48F6-B2C7-5DF77FB9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CDCB-F424-4FF7-90DB-E713DDCC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3C1E-1795-4A0F-9422-CF50511F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A370-4593-49A5-9594-828C2943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F80B-FA16-48EC-BD37-6AA513AB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DB68-5CF4-4480-97E7-9B13E646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02DA-1866-4E5B-BBDE-45149D21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18FA-9435-4BFC-9150-E7EC0E77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583E-0879-4363-8699-7E24FBCFB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632-9B8D-417B-B793-F56E5B33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0C7-4007-4EDA-BEDA-860E47AB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323-ACE3-48CA-89F7-557BCBED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C24-4981-4CBC-A643-528295B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C63-3DA3-4538-90A0-033A590A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9BF5-D8B1-40FA-B39E-FCCE90E5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3E91-C50A-4842-B1A1-8CDFAB96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81BD-952A-48D5-B618-FCF5084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93FB-DBA8-489F-9331-E5E6EB27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023D-19DA-48F8-88B3-7199C86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2681-76C3-463D-B402-6E4E5D0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6FA-3E78-40D8-99A7-5855FED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AA13-8F53-4868-B44B-9C471FF8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F1A9-D85B-49A6-951F-85D1E6F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865E-3150-43CE-B1F6-45E8B52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7D10-2690-4376-AC24-367BE5F1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2E8F-C64A-4169-8BFA-2B0722A9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B03-6F92-4135-B2C5-6595BF35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B2C-7BFE-45E4-B9AF-F2EAA1EB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43D-55BB-49DF-BE39-F2BE50E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2B0-048B-4422-B214-A4B0706E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652-F5A2-4384-AF36-321F58C4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E38-BC0D-411F-B1A7-F634604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C25-B2A0-42AB-A490-1A0DA3F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724E-D5B8-4AB2-99FA-20D8C3D5E3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28B5-66D0-4D7A-B512-A073A83E56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9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o maintain the code management system (CMS) itsel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need time to lear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“useless” skills when they le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ptm sees APL as a problem, an outca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B77F-A8BC-4419-B61B-D4741F2F64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4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BA79-F194-4687-A954-86B8C84F20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8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46D-D50C-42C8-A5BB-6793FABB28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991F-31CC-46D7-8538-D34B1CCCFB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0AF2-E7F6-4939-AFE7-0AE6E63D6C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0" name="Picture 11" descr=""/>
          <p:cNvPicPr/>
          <p:nvPr/>
        </p:nvPicPr>
        <p:blipFill>
          <a:blip r:embed="rId3"/>
          <a:stretch/>
        </p:blipFill>
        <p:spPr>
          <a:xfrm>
            <a:off x="1619280" y="2411280"/>
            <a:ext cx="61214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802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ECB-1BB0-410F-85CF-D3AA3A179C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1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8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8B2-CC83-468A-8C7A-DBB8663CD0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47F-54F5-4BD9-812D-49BC162015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BF82-C19E-4DC9-9E9C-2116C7F3A2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7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832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DEA-34A7-4AF4-A611-63BDCAE419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839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9F2C-E9AF-4EBB-8D79-DA03BD80DF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9752-286B-42BA-BDFE-59840DF10E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1D7-95FF-4B98-941F-668E3E8700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857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58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1E3-22DE-4DF1-BD1B-605579EDCB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86E3-31EB-4161-AADA-EE936873E8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67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D63F-5556-4603-A9D3-4B612E1E00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separate too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3" name="Rounded Rectangle 8"/>
          <p:cNvSpPr/>
          <p:nvPr/>
        </p:nvSpPr>
        <p:spPr>
          <a:xfrm>
            <a:off x="785880" y="4375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CC6-A32B-416B-B47A-F7AC2E875B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80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3DD-D827-47DB-8760-E989A7E8F6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87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244-EC57-4372-8990-92C02B772B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9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94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065-BAAB-4361-97C4-9C2A669AA2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0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01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3754-1429-4276-A42A-E668D1DEFA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6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908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F349-6996-4486-AE47-1180EC6372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exist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 bas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to write your own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may already know abou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useful skil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epartment doesn’t see APL as a non team play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B6D3-51C2-4C93-B4C9-87010B3F18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13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sp>
        <p:nvSpPr>
          <p:cNvPr id="91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896-7F02-4DA2-BE00-F3CF8ECFC6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2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9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879C-676A-4B38-BEE5-068331BA7C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928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A22A-7EE0-4FE2-A92E-73EA155C3E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93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7CF0-491F-4297-9816-378BA1ED4B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8556-C0E5-4453-BF8C-7B41047EFB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3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54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C258-9F85-4C5E-B2A5-1B76CCF42A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61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63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91F-1417-45DD-A40D-8C55C2D206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8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7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B496-EE13-459B-863D-1C352E8CE9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8DA2-7D68-4944-996F-34096FA35F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ooter Placeholder 1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  <p:sp>
        <p:nvSpPr>
          <p:cNvPr id="9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A07B-43C8-4D3F-938D-B35FEDB57F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449-D2EB-4975-A27B-DB7BA10D91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91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9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336-09CB-46FE-860F-A1D85CE47A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D311-23AB-4E73-8B60-720E0B4CFE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56D-B7EA-44F8-9E4B-3566CEE763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2509-5E96-4AD2-8D53-1C18AD85A4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e.g.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y can be exchanged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4DDE-3015-4157-8661-2CE6199D98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405C-F267-488A-8A59-ABE773079B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5161-6346-46A8-8D66-463D0B86F5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90BF-610D-4D72-A7C6-D73494CFD6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ver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742D-E2FF-440D-8285-C4A238E347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483-B9E2-47DE-B88D-4E2F217EEE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ther the code is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mall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bi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5209-8CB8-4167-AF5E-05DEF32B87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0E90-3389-4294-8616-E662CE3CDF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C96E-669A-4D8A-84D5-62E0AB366A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A93-2D20-4EE6-B0C8-17EBDF8382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 &amp;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A08-88DA-4231-B45F-E99734FBDC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6E8-DFFB-4758-8970-1AF3F7A214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250-6905-4AFD-9A07-0DB675AAC8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9" name="Picture 4" descr="MCj03914580000[1]"/>
          <p:cNvPicPr/>
          <p:nvPr/>
        </p:nvPicPr>
        <p:blipFill>
          <a:blip r:embed="rId1"/>
          <a:stretch/>
        </p:blipFill>
        <p:spPr>
          <a:xfrm>
            <a:off x="3995640" y="4365720"/>
            <a:ext cx="182412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5786-C9C8-4AD7-A1CD-B4EE06E78B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-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F46-74F2-47BD-9207-242F5B4C01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1880" y="194580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ditor can be rigged to react on edition of SALTed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s include all the SALT functions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Geneva"/>
              </a:rPr>
              <a:t>]save   myns   \path\my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0" name="Picture 11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8569-111A-4382-A888-B59A599E8E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2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E31-0BF0-475C-AE31-1163F4B7D2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grams evolve and distributed copies should be kept separately, even if sm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8598-D595-4AF7-B1CE-C59834DF0B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7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F5C8-55BD-4093-8907-03D3A1CE34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82C8-30DC-4D4C-A180-EFA93F1BA4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6572160" cy="260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2"/>
          <p:cNvSpPr/>
          <p:nvPr/>
        </p:nvSpPr>
        <p:spPr>
          <a:xfrm>
            <a:off x="3143160" y="4794120"/>
            <a:ext cx="9622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4983120" y="5000760"/>
            <a:ext cx="1357200" cy="214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0EE-330F-4E74-A653-C57100DF60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1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8130-4FF9-4338-B6D6-802A3D255D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77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78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112-65E2-40E1-955F-70B3809D95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2112-133C-4447-BECE-A37C0FEBFC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D558-99F3-4B4F-8389-CD1959C938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B72-1872-4D3F-90C0-38774DBD6E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315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A987-D839-41A0-BA1A-5ACB91EE6F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ce his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 culpri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26C0-9CE5-41A0-87E7-B95F5F7C11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23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28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7894-B271-4780-8869-2C3F84176A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F92D-689F-485A-99B7-A764F807B2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5B6D-AF89-4544-9968-B152959B82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CC3A-B647-458C-B514-639F7A41B3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57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4A9E-9404-4B68-8747-8734C6A52C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7DB-CA75-4C3F-9B62-D528FAFF1B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1DC-7B05-4D40-8C6F-78C17C6BDE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319-C42F-4622-BC7A-604F31F681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9E9D-5BD2-4CE4-88F1-20C548CDB3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C143-FC66-4106-AF5A-3E9B14643B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D9AE-0457-4022-99F3-2BB3911957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C8D8-2F64-494F-B21D-E792B9112A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integra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72C0-21B2-4C5B-A40E-515E57372F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63F-BBFD-47ED-993E-2060CAEE90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FABE-28DF-4B1B-940D-842F378275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400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34B6-11D6-4264-BD8A-181703D8E9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C38-DE03-4DA6-8602-ADE8D1E06B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2E75-18B7-4328-AC1D-D581BC6776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 (or use the 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]sav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106D-0BE0-4731-A39A-5EBF85E515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17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all we need to do 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Pound \ROBOTS\Troopers\Pound  -make –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make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s the folder if necessa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convert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s the namespace to []SRC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B3F-C444-4224-8A31-411D8BD186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SDuck  \ROBOTS\Troopers\SDuck  -convert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Robot1  \ROBOTS\Troopers\Robot1 -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52DF-261C-40F7-9456-3DFFA939AB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12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F768-4985-4065-881B-39F22E670F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-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E3F9-D74A-450E-B573-8F0753F0478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436-1294-4A93-81FB-5016F08CCE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  <p:sp>
        <p:nvSpPr>
          <p:cNvPr id="44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62B-81E8-4494-9B2F-9B02184F04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we have 2 copi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link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2BC-6C69-48A6-8E0B-C1697FDFF9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lowchart: Predefined Process 8"/>
          <p:cNvSpPr/>
          <p:nvPr/>
        </p:nvSpPr>
        <p:spPr>
          <a:xfrm>
            <a:off x="1357200" y="378612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lowchart: Multidocument 9"/>
          <p:cNvSpPr/>
          <p:nvPr/>
        </p:nvSpPr>
        <p:spPr>
          <a:xfrm>
            <a:off x="5500800" y="371484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eft-Right Arrow 10"/>
          <p:cNvSpPr/>
          <p:nvPr/>
        </p:nvSpPr>
        <p:spPr>
          <a:xfrm>
            <a:off x="3857760" y="421488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nd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8E63-338A-4DD2-A885-AFBACEA789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61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07C8-F31C-430B-A762-B91620B2E6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67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70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D243-F97B-4573-AEB9-DF99E8B3DC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39C-CA3C-4D10-9B9D-845C505360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82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8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3F2-4A87-4F86-B6EC-351804D4A4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7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88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91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1D1-49B2-4A2F-AC65-805414E78D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64304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 wa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(distributed, e.g. file syst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18B-BB26-4CE6-B986-460B694895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ant to preserve the original location we can check out the empty repository into it after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9687-25F9-4251-9881-D733F6C2DE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656-37BF-4233-83BC-357FB661C9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8E41-F1E5-414F-9915-0F436C3451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02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438-02EE-4371-8603-946DED3D56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520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A516-CE15-4609-81E4-71FCFC02F2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381-03F3-486E-BB25-5A8C6EDECA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D402-7041-43F0-AD57-13809C7815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7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45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1036-30F0-449F-88D5-EC3266828E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E082-0BCE-45C5-91C4-531F7740A7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BAE-04EE-444F-A569-40B73FB7A5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3ED9-D884-4A96-B1BD-C581511C95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7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69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8E9-C377-4C40-A59E-0B8D68F9F8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nly used by one person at a time it can be saved with the link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(when finished editin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6FA-6048-4426-A97D-BA07B82A31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eft-Right Arrow 10"/>
          <p:cNvSpPr/>
          <p:nvPr/>
        </p:nvSpPr>
        <p:spPr>
          <a:xfrm>
            <a:off x="3857760" y="430380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ut of sync and needs refres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bring back the out of sync code, e.g.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load  Troopers/Pou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8408-E73F-456D-BF87-74F81EA75F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n attempt is made to use an out of sync object SALT will warn you of the fact and confirm your intentions before sa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5FE-D3EF-4E61-958F-A04225FA48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2714760" y="3573360"/>
            <a:ext cx="46432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26"/>
          <p:cNvCxnSpPr>
            <a:stCxn id="601" idx="3"/>
            <a:endCxn id="604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0" name="AutoShape 27"/>
          <p:cNvCxnSpPr>
            <a:stCxn id="602" idx="3"/>
            <a:endCxn id="605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AutoShape 28"/>
          <p:cNvCxnSpPr>
            <a:stCxn id="597" idx="3"/>
            <a:endCxn id="608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AutoShape 30"/>
          <p:cNvCxnSpPr>
            <a:stCxn id="598" idx="3"/>
            <a:endCxn id="607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AutoShape 31"/>
          <p:cNvCxnSpPr>
            <a:stCxn id="596" idx="3"/>
            <a:endCxn id="606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4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2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AAB-762C-4096-9B58-550B931A28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2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94"/>
          <p:cNvCxnSpPr>
            <a:stCxn id="630" idx="3"/>
            <a:endCxn id="633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9" name="AutoShape 95"/>
          <p:cNvCxnSpPr>
            <a:stCxn id="631" idx="3"/>
            <a:endCxn id="634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0" name="AutoShape 96"/>
          <p:cNvCxnSpPr>
            <a:stCxn id="626" idx="3"/>
            <a:endCxn id="637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1" name="AutoShape 97"/>
          <p:cNvCxnSpPr>
            <a:stCxn id="627" idx="3"/>
            <a:endCxn id="636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2" name="AutoShape 98"/>
          <p:cNvCxnSpPr>
            <a:stCxn id="625" idx="3"/>
            <a:endCxn id="635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3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AutoShape 110"/>
          <p:cNvCxnSpPr>
            <a:stCxn id="637" idx="3"/>
            <a:endCxn id="646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4" name="AutoShape 112"/>
          <p:cNvCxnSpPr>
            <a:stCxn id="636" idx="3"/>
            <a:endCxn id="647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5" name="AutoShape 113"/>
          <p:cNvCxnSpPr>
            <a:stCxn id="635" idx="3"/>
            <a:endCxn id="645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AutoShape 114"/>
          <p:cNvCxnSpPr>
            <a:stCxn id="634" idx="3"/>
            <a:endCxn id="651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7" name="AutoShape 115"/>
          <p:cNvCxnSpPr>
            <a:stCxn id="633" idx="3"/>
            <a:endCxn id="650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8" name="Slide Number Placeholder 4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AA6F-7C23-4741-9C15-3A41A6D111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used by more than one person at a time it should reconstruct the links at load tim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28F3-F663-418C-92D6-E25A017636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1"/>
          <p:cNvSpPr/>
          <p:nvPr/>
        </p:nvSpPr>
        <p:spPr>
          <a:xfrm rot="5400000">
            <a:off x="4357800" y="4071960"/>
            <a:ext cx="3571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70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74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329-39AF-457E-B442-47F0D0609B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81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82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B65-42C1-4774-B3A8-B369382281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F6E-6741-4AE7-B0AF-AE6D43FDFF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6250-8DDE-4467-BDB1-1CB836793A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97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700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EE8D-9A21-47F1-908C-6E4EBFDEAA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70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037-DAAC-4C7B-A183-7CAB197E6D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1D3-78A3-4BA9-B7BE-033E8F2993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7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7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5986-45F0-460E-A7A1-36248A7EC6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22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72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11E4-745F-4AC1-8536-5A22BB762E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E21-BD2D-4481-8AFF-ADEC3E180A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C8B-B057-49D9-AF59-C3ECEDF0E0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2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E36F-07C1-4619-977E-0D6CEC4F56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A383-90F8-4741-97AB-316CB75943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57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D7A2-D5DE-4E81-94D2-637E7D6825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11-08-19T15:43:09Z</dcterms:modified>
  <cp:revision>332</cp:revision>
  <dc:subject/>
  <dc:title>SALT and subversion</dc:title>
</cp:coreProperties>
</file>