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F9AE-9E34-46B5-9097-15B7805F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1635-5217-43EE-ACD6-BF5C63A09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EA9B-E78F-4076-93B0-E7ACF0393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of the class is un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89C4-ABD4-47A1-A219-CCBCFD73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5468-7445-4BE5-97E7-9A43F2F3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generate general help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11B3-D7F0-45A3-B063-E9B0B8EB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F26-7E57-43EB-A3E5-BAEB891CC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6FA5-5A1F-47AE-B7D9-0C3844C9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A3ED-709E-4A79-9FCB-849BF037F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3815-B768-4386-AF33-55D665B2D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6BB-42BE-4E35-9FD7-36280ED8F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A868-EBE8-442C-B374-E399665B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ways it is like Users Commands in APL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69D8-8D94-472B-A4E4-66ED4B91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C64A-9A7A-4205-BA58-F887F13D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2C3E-156D-4BC4-9464-09AA59CF6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F33-A861-4B5E-A4BD-CF67BBE7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490-CD96-44DA-8585-2466BAA5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2DE-3074-4CFA-8E10-29E0B393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D8E-6DF5-4C0D-BBF7-3E8AA4D5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958-22BC-43CC-9EC8-10A00243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382-AB3F-4A7C-9579-31070FF2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4C9-00B4-491B-95EC-0D30E3F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736-CF0C-465B-A668-AA2CDE54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901-CDB7-4DD1-ADD7-6C5F08F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0B7-4727-431E-84CC-0D7E323C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574-E133-4D56-80FA-A638AD86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188-3B4C-46C0-8F47-BEBF0C49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BF8C-529A-4F11-832E-01217AA16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>
                    <a:alpha val="41000"/>
                  </a:srgbClr>
                </a:solidFill>
                <a:latin typeface="Arial Black"/>
              </a:rPr>
              <a:t>SPICE</a:t>
            </a:r>
            <a:endParaRPr b="0" lang="en-US" sz="1800" spc="1" strike="noStrike">
              <a:ln w="0">
                <a:noFill/>
              </a:ln>
              <a:solidFill>
                <a:srgbClr val="ffff99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ook Antiqua"/>
              </a:rPr>
              <a:t>Spice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Book Antiqua"/>
              </a:rPr>
              <a:t>in Dya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87808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 V1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commands are kept in script files, lik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files have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ice script files are kept by default in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[Dyalog]\SALT\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cript file contains a class or a namespace with a number of (presumably) relate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a script/class could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search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replac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ipt file MUST contain at least 3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ublic sha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for the Spice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contain othe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nil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list of as many namespaces as there are commands in the scrip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if there are 2 commands in the script file it returns 2 namesp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mespace returned by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tains 4 variables; each one is a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ame of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group the command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ntence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nd string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tring describing the command syntax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   –exclud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⎕NS¨2⍴⊂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Name←'Locate' 'Replac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Group←⊂'Files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Parse←'1' '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1].Desc←'Find a string in file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2].Desc←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ambiv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rguments are a string naming the cmd to return detailed help for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right and the hel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string describing help for that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evel Help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⊂'Shows where the string is fou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r⊃⍨'Locate' 'Replace'⍳⊂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lev↓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r,←⎕av[4],'More help here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2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ng naming the command to deal with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string or a namespace which is the argument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ser command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V11 &amp; V12 it uses an input area at the bottom of the screen to issue user defined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2286000" y="4334040"/>
            <a:ext cx="4800600" cy="2038320"/>
            <a:chOff x="2286000" y="4334040"/>
            <a:chExt cx="4800600" cy="2038320"/>
          </a:xfrm>
        </p:grpSpPr>
        <p:pic>
          <p:nvPicPr>
            <p:cNvPr id="58" name="Picture 5" descr=""/>
            <p:cNvPicPr/>
            <p:nvPr/>
          </p:nvPicPr>
          <p:blipFill>
            <a:blip r:embed="rId2"/>
            <a:stretch/>
          </p:blipFill>
          <p:spPr>
            <a:xfrm>
              <a:off x="2514600" y="4334040"/>
              <a:ext cx="428616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Oval 6"/>
            <p:cNvSpPr/>
            <p:nvPr/>
          </p:nvSpPr>
          <p:spPr>
            <a:xfrm>
              <a:off x="2286000" y="5410080"/>
              <a:ext cx="480060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2819520" y="4991040"/>
              <a:ext cx="22096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Run(Cmd ca);ct;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0 0⍴'' ⋄ ct←⎕SE.SALT.Load'Utils\fileUtils -no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←##.textUtils.splitOn⍨⎕SE.SALT.Settings'workdi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Select 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Locate’  ⋄ w ct.show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Replace’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⋄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 ct.repl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End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script Spice\aSample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2 examples of Spice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pecific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45680" y="162576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ntax is described in the 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1689120" y="2263680"/>
            <a:ext cx="6240240" cy="4093920"/>
            <a:chOff x="1689120" y="2263680"/>
            <a:chExt cx="6240240" cy="409392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1689120" y="2263680"/>
              <a:ext cx="6240240" cy="40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val 7"/>
            <p:cNvSpPr/>
            <p:nvPr/>
          </p:nvSpPr>
          <p:spPr>
            <a:xfrm>
              <a:off x="3515760" y="4373640"/>
              <a:ext cx="3422160" cy="426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76960" cy="3543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46400" y="16257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wrong Spice will com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1116000" y="4508640"/>
            <a:ext cx="266544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492360" y="3429000"/>
            <a:ext cx="324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900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3654000" y="50720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argu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2"/>
          <p:cNvCxnSpPr>
            <a:stCxn id="171" idx="1"/>
            <a:endCxn id="170" idx="6"/>
          </p:cNvCxnSpPr>
          <p:nvPr/>
        </p:nvCxnSpPr>
        <p:spPr>
          <a:xfrm flipH="1">
            <a:off x="3285720" y="5255280"/>
            <a:ext cx="357840" cy="10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3743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47480" y="162576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right Spice will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176364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48000" y="3429000"/>
            <a:ext cx="360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199200" y="3889440"/>
            <a:ext cx="720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command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APL is installed the Spice commands' location is [Dyalog]\SALT\spice but you can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LT settings contain Spice’s commands location in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setting  </a:t>
            </a:r>
            <a:r>
              <a:rPr b="1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\my\own\user\cm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hange the Spice/user commands folder to \my\own\user\c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used to store frequently used (and even less frequently used) use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pic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started automatically when starting APL by setting the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1546200" y="3206880"/>
            <a:ext cx="6121440" cy="3041640"/>
            <a:chOff x="1546200" y="3206880"/>
            <a:chExt cx="6121440" cy="3041640"/>
          </a:xfrm>
        </p:grpSpPr>
        <p:pic>
          <p:nvPicPr>
            <p:cNvPr id="65" name="Picture 6" descr=""/>
            <p:cNvPicPr/>
            <p:nvPr/>
          </p:nvPicPr>
          <p:blipFill>
            <a:blip r:embed="rId1"/>
            <a:stretch/>
          </p:blipFill>
          <p:spPr>
            <a:xfrm>
              <a:off x="1546200" y="3206880"/>
              <a:ext cx="61214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Oval 7"/>
            <p:cNvSpPr/>
            <p:nvPr/>
          </p:nvSpPr>
          <p:spPr>
            <a:xfrm>
              <a:off x="5689440" y="4476600"/>
              <a:ext cx="274680" cy="309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input area can also be started automatically by using the &lt;enableSpice&gt; function in the SALT work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 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71640" y="713880"/>
            <a:ext cx="7800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the Spice area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 in V1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to initialize the Spice input area in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user command handler is always available directly through the ] with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y use ] where you would use the input area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myc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4241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detailed list of all available commands enter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?+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‘?+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2124000" y="2536920"/>
            <a:ext cx="5256360" cy="3987720"/>
            <a:chOff x="2124000" y="2536920"/>
            <a:chExt cx="5256360" cy="398772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2124000" y="2536920"/>
              <a:ext cx="525636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Oval 8"/>
            <p:cNvSpPr/>
            <p:nvPr/>
          </p:nvSpPr>
          <p:spPr>
            <a:xfrm>
              <a:off x="2152440" y="5877720"/>
              <a:ext cx="330840" cy="309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9"/>
          <p:cNvSpPr/>
          <p:nvPr/>
        </p:nvSpPr>
        <p:spPr>
          <a:xfrm>
            <a:off x="7986600" y="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226600" y="58770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428200" y="29973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70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a custom Spice command: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f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48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ffi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a regular expression string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</a:t>
            </a:r>
            <a:r>
              <a:rPr b="1" lang="en-GB" sz="3200" spc="-1" strike="noStrike">
                <a:solidFill>
                  <a:srgbClr val="ff9900"/>
                </a:solidFill>
                <a:latin typeface="Courier New"/>
              </a:rPr>
              <a:t>abc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&gt;0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find in SALT files where syntactic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 greater than 0 at the end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512640" y="3832200"/>
            <a:ext cx="7515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ALT commands in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class fil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j0208400"/>
          <p:cNvPicPr/>
          <p:nvPr/>
        </p:nvPicPr>
        <p:blipFill>
          <a:blip r:embed="rId1"/>
          <a:stretch/>
        </p:blipFill>
        <p:spPr>
          <a:xfrm rot="232800">
            <a:off x="7924680" y="75960"/>
            <a:ext cx="1060560" cy="19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4:17Z</dcterms:modified>
  <cp:revision>94</cp:revision>
  <dc:subject/>
  <dc:title>SALT in Dyalog</dc:title>
</cp:coreProperties>
</file>