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neva"/>
            </a:endParaRPr>
          </a:p>
        </p:txBody>
      </p:sp>
      <p:sp>
        <p:nvSpPr>
          <p:cNvPr id="5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EA4A-F99D-442D-AB2F-AB01F8576F56}"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stem command )SAVE saves a work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CMD ]SAVE saves an object</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E61A-873D-453F-9ED7-64A80B7057D5}"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don't NEED to use a class, a namespace will also do. Classes can be used to get into the habit but since the whole thing is already contained within the Spice processor this is not needed – in fact it can be a problem in some cases where visibility is necessary.</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AE25-3ED7-4E16-90BA-F555C2D3FAF9}"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ake effect until you reload APL tho</a:t>
            </a: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8D14-E10F-46E3-83D5-E8A75B359D3F}"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E623-165E-4C3B-A236-5EA099012A62}"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1CB0-E4E5-4151-B355-E9E66D674736}"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4DCF-D283-4E01-B5FB-7E6CFB2534A7}"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D5D9B-30FB-4859-8BF9-3C4FC84B6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7126D-A83F-4FB3-9DC0-44CEF5A27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6A73FC6-FC36-4FD3-97BC-116A76462C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127F560-71B4-4495-ADF5-CCEC1B15C6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19903FE-4CCF-4721-9C9B-5EDEA0BF26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79BD2B8-4C85-4D56-B23A-0978E11145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F82789D-668E-4AD1-B9F6-C5EBD86B48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780867B-6A50-4859-B968-5028B7AE4B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950C25E-7E05-420E-B945-A958E22D99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0C7B09EF-CAE3-48B5-92A5-CF0E015DE2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EA622C9-D101-46FD-83C5-3F27A1B317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CC9281-D36D-4381-94D6-C0977177A72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81013-9D53-4B38-84BA-B8BD60847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C7A07C-950E-4C6E-8614-12872C8A36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9177CB-B34B-4CF1-8ADE-05084875E4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8049FE-B11C-4790-BAB4-ED744E4C1A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A65D7D-30C3-46C6-919B-44C3F50AE7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B27210-44D4-4717-AF6A-708807C5FD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BB319A-3EF5-4519-BBF1-AF7469BA92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8F1CC8-AF69-4116-B2B7-7EF0F1AE6C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60BD8A-FD0F-4ED8-A2BF-06E3C17BB4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1A5C43-108F-4763-92CE-3E58C032E6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2F71E69-A58C-4AD6-BBF2-F2CD52B4CC7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56CCF-2BDE-4FF4-B375-0AF90A957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543236-15F7-441B-9943-01DC8A1577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3B78D0-B84D-4382-A898-5805837DEC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7E4D07-ADEE-49F0-A77F-587341F40C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BAC118-8CBC-49A2-9FAE-6B7E8847F9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1B88F3-8AC4-4296-A279-7E07636BC8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D17AEE-4AF9-4D37-AFC1-101A4E37A3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B3A49D-4049-4417-A8AF-D9EDC1CC56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CEBB68-AE51-4B90-A2FA-CDB67F72E0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4FB2B2-B92A-41A9-BF71-FC86D5A895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B88182-C833-44C5-813F-55E06C7570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B3B9A-28F0-4E7F-9353-22E88AA73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68AFAC-3BBA-4C7E-92E1-9CBDF524A4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FD3E07-03C0-410E-91C3-541ED2871D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4002E0-197A-4D5A-8E40-90C24A7860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7CF767-9052-48DD-8D4A-19EE0C7697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1DC1EA-1BE5-426D-AD5F-3989606E52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559CC2-CDDE-40B2-BE27-A633E07F3D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061E3A-68C6-4022-B230-645DBFCCCA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22A03B-37E9-4B29-81AB-01B4BE237E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AD6BA4-69F6-44D9-993F-ADB49CE5B2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7F38CE-9304-4691-88D9-61F5A49E79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B27E9-3A62-49D9-AFE4-099B3FFAC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022576-9D98-48CB-9D07-E6B8917619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3B1125-073C-451B-BC6B-EE54432BA1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658BF3-D526-45B2-BEC6-96338FF793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B04936D-49B2-4405-9D9A-716400FE0D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9AA79D1-EAA1-46D5-914F-FA87FB5B04A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5673418-FC92-4810-9767-4E843C78DD5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09FC50-FF32-4375-BF82-26EEBF4234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4DE037-4FDE-4FFF-92C8-89E761CE6A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C8C26B-E473-435D-85C9-5A425AC1B58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32B57F-7E96-4AA1-9FBD-3AD23891E7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9A3F5-A950-4BF3-9614-1DD32FE4B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14E5783-9326-420D-8544-356D1C87D1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81C97B-0972-43C9-8199-D6CE89CBBD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07F10A-6C0D-4249-87B3-B8084E8B4F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A6650D-E159-4BE4-B1FB-F73075B1EB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BB662F-2E22-4AD2-B837-AC0DFCEB4F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FA63385-ADE5-4CBA-9492-5AA179DFE5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182C048-9CA6-4DEC-AEBD-0956F126EFE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4A7A9DE-0A46-4E6B-AA12-FC98F45CC18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F51B5C-3253-4C0B-94D1-95A7AB5ABB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672FC8-669D-4628-890A-FE74CE4728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36B69-6B52-4E3B-81CA-48A7E4DC8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60A3D2-3B2D-4D9A-8C49-645E6D8D01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AB0EC9-30A8-4282-BEA6-7469F5944A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F2734A-14A1-4AE1-96AF-792509FB09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15F12C-D963-4615-9007-3CE5F98ECD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C82FF7-7635-425F-9B14-2529772886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174C78-797C-4C64-9029-B54D2C19A9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254B8FC-5ACC-4040-86C6-F9D9FA00278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13DC4A0-5407-4767-AE09-C2482746D63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43016B5-BD51-41B7-A509-9FE95E11888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A6E51-E6F9-4E35-AEA5-732DC6EC5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607DE-8F2F-44AD-9144-6CE2BB41D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F0BEA-CFFE-428D-ABFB-C37473E11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C172B-DCD8-45FE-B319-BDAB3D573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4E7D8-4018-43A3-A1F8-C20EA151C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26CF5-A3B8-43D4-86DA-9E25C9BA5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7A93B-4D5E-40AE-A321-F582441A5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9EED4-DB46-49F8-A858-FB880DCC2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2242BA-A494-497E-BAA1-F824FD895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C0477E-355A-4D68-AD77-81A47CA47A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29C0F5-F368-4063-953A-5C9D784914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A81BA1-4A4E-465E-8936-6103F02074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68312F-52FA-407D-A29D-B02FD1AAB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5ED4CC-8CA0-4021-943C-A0ED0FBB4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44AF2-7300-450C-9B9C-882AF1E4E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BA5A9-4B65-47E5-8922-346C1F4614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0AF49-CE5F-4F49-9878-00CC22C45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28F6C-415D-4498-9057-384FC972A3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31336B-57DF-4EDB-9A13-9FED353C1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7EB2F5-184E-4E33-93C0-78333F1EF8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B00249-EFBF-4036-905D-0D5398ACA9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D6B6C8-7511-4E61-A6E7-8F3D9FD05F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85BDCA-1B1D-4B7E-A042-3CB2E78C3D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A1AE81-F643-425D-8E67-57767D58AC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E8DB30-544C-4A14-A1A6-D4EE4B460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AE671-2234-4D95-8B65-E6A831B3B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15169D-7808-4AFC-9193-68D8E23D78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BE6C0-5056-4D2E-AE8E-634AB2077A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8EE427-B502-43FA-9696-D9826C5D9E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AF3430-245E-46AA-B4F4-E4A2E3BD7A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D16224-2C7B-43F2-9671-0624CC6DE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4524E3-1959-4BE7-A6D2-26AD27E2AD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93C44C-141D-4B76-8250-99DFBD3F3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562DF6-1308-4534-A48E-A20379B648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26D63D-D955-42F3-92A0-9C38847606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9A44E3-CCA3-46A6-9C21-B021EFF986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DE87C-D338-4E30-BD8D-5C398C963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07A984-0EBB-4405-93C9-A9C4EC5F2A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402F7A-0E65-4304-8CDC-D57A6503D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B17B29-B1F5-4148-B171-F077EF77AD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2F8D86-7E2D-4D09-B28C-3F9BFFD30E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1F2930-0E6D-44F1-9026-AF4957321C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A849F6-33C4-450C-9B39-F1FE9CE8B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8B1B47-3235-4D54-AB1E-8FF500A510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3B427D-9B72-4C33-A727-2C5B259365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3E8AB4-D483-40AA-80C4-453183AC6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E9B682-0793-47D6-A9C9-C01DC25C69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3B3B5-8936-4821-895E-1C4CCB4FD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512ABE-D557-445F-A60C-A0CA2619E7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AA5488-7772-409A-8562-8D78D65FD7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7364E9-9BCF-440C-93C7-84EB2D659E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2BBB28-0B46-4892-819D-EA9A9166E5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0FF425-6897-47C6-881C-F68B9D4DB4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DDF8A9-0B38-490D-8CEE-C75D16E1CB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55E423-CEB5-45BC-9773-C0C5C8C087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6517CD-3983-46BE-A203-4F11C5816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FAF07-9440-4F24-B6DF-D53417CA87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9016F8-D7F7-4A65-9FB6-4ECC81125D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EF419-DD22-45A1-B868-4F66C11FC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EA11F4-EED4-4E8C-BC26-33B90FA473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D6F52E-76C3-4875-A5FA-B572FCE36A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C6C093-74CE-4CFA-A32D-D82D410D6C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EE2556-1223-471B-BFCF-619B2F229D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9A62C0-932A-4008-9926-BD2F142DA5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64CB2A-AC87-4948-925D-0FB3324BA6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DE348A-E7F3-4091-A8F6-36AA32D78D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AEAD0E-A8BC-414C-BC21-8D3985E85D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AE2573-5F10-4C64-89AE-6AD199C177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51BAF4-9571-4C77-B5BF-AF4543C313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3F3C-3B7A-4943-A582-06A64CA56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FEBBF5-7D69-40BC-8A35-6BB9D5D032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0B682E-F73B-46A5-B19A-88E3026923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13DAE2-57A7-4AF6-A148-3F7E732042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4A9341-DEE2-4D4E-B7A3-3F79AD2C81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B2FFFB-2EED-4E77-B363-89D921EDEA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47C541-C1F1-48F3-AFA9-4AE0F30854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F77E63-0F86-43F2-9DDC-4FE8E80BA1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EC4881-DA27-4F31-B119-A8006B28BA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91674E-5A8B-4E2A-8D7D-9F5C833661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ABBD0E-EBBC-40DD-BC5E-921686780D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0AE2B-5BDB-460D-BCBE-EE5445FB5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F22BFC-C90D-4EAC-B75C-E8CE8C556F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C345EF-17D0-4AA8-A542-C827D3DB0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34429A-5983-47AE-BBAF-0DF483437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207F5B-A6B6-4A21-A788-174A1633B0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47F847-C034-4EBB-8192-1803C4440F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4EDD0F-0224-4346-BC44-355F5F1347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7852D0-6E08-4A50-9CEF-A965BF374C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C6917DE-79DD-4176-B7C6-16D573C574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6DED1FE-AFB4-4775-ABDC-FDA8BD5439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1EBE213-74DE-466E-B2DE-6889D49690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UCMDs</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CAB7-CFBF-4761-953F-3ED13454CFE1}"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6B8D-EE72-4B38-B653-6A76C2D8BF25}"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0EC2-8013-4CC0-905E-830F8CD7372B}"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27F4-CDF5-4D8E-A9AD-94FA55ED5022}"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DC92-A3E0-4ADB-B179-3A5955938414}"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7925-B08E-420D-82FF-65302BD2788D}"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3F66-0946-4F12-A863-945BD7ED3D1F}"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14CB-41F3-49B7-A1BD-5DB3F3ACD2E6}"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6FF5-AE5B-4875-AA2F-0EE4CD96F7CB}"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DCB4-D012-4924-97CB-B8AEB4A906C3}"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D641-E882-4EF1-9106-B2D08E904E12}"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2579-0F44-4C4A-B686-05EF82A8C4B4}"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2560-CB93-4930-82ED-99ABAA0E4090}"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062D-3AA3-4F64-BE7E-7FF8E84CF02B}"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br>
              <a:rPr sz="4400"/>
            </a:br>
            <a:r>
              <a:rPr b="1" lang="en-GB" sz="4400" spc="-1" strike="noStrike">
                <a:solidFill>
                  <a:srgbClr val="333333"/>
                </a:solidFill>
                <a:latin typeface="Geneva"/>
              </a:rPr>
              <a:t>in Dyalog APL</a:t>
            </a:r>
            <a:br>
              <a:rPr sz="4400"/>
            </a:br>
            <a:r>
              <a:rPr b="1" lang="en-GB" sz="2400" spc="-1" strike="noStrike">
                <a:solidFill>
                  <a:srgbClr val="333333"/>
                </a:solidFill>
                <a:latin typeface="Geneva"/>
              </a:rPr>
              <a:t>By Dan Baronet</a:t>
            </a:r>
            <a:endParaRPr b="1" lang="en-US" sz="2400" spc="-1" strike="noStrike">
              <a:solidFill>
                <a:srgbClr val="333333"/>
              </a:solidFill>
              <a:latin typeface="Geneva"/>
            </a:endParaRPr>
          </a:p>
        </p:txBody>
      </p:sp>
      <p:sp>
        <p:nvSpPr>
          <p:cNvPr id="5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programmer's tool - V1.03</a:t>
            </a:r>
            <a:endParaRPr b="0" lang="en-US" sz="3200" spc="-1" strike="noStrike">
              <a:solidFill>
                <a:srgbClr val="333333"/>
              </a:solidFill>
              <a:latin typeface="Geneva"/>
            </a:endParaRPr>
          </a:p>
        </p:txBody>
      </p:sp>
      <p:pic>
        <p:nvPicPr>
          <p:cNvPr id="597" name="Picture 7" descr="newsnake.png"/>
          <p:cNvPicPr/>
          <p:nvPr/>
        </p:nvPicPr>
        <p:blipFill>
          <a:blip r:embed="rId1"/>
          <a:stretch/>
        </p:blipFill>
        <p:spPr>
          <a:xfrm>
            <a:off x="304920" y="4338720"/>
            <a:ext cx="160020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15" name=""/>
          <p:cNvSpPr txBox="1"/>
          <p:nvPr/>
        </p:nvSpPr>
        <p:spPr>
          <a:xfrm>
            <a:off x="324000" y="1700280"/>
            <a:ext cx="8496000" cy="46814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he command ]SAVE , which saves an OBJECT (not a workspace), takes up to 2 arguments, saving the object named in the 1</a:t>
            </a:r>
            <a:r>
              <a:rPr b="0" lang="en-GB" sz="3200" spc="-1" strike="noStrike" baseline="30000">
                <a:solidFill>
                  <a:srgbClr val="333333"/>
                </a:solidFill>
                <a:latin typeface="Geneva"/>
              </a:rPr>
              <a:t>st</a:t>
            </a:r>
            <a:r>
              <a:rPr b="0" lang="en-GB" sz="3200" spc="-1" strike="noStrike">
                <a:solidFill>
                  <a:srgbClr val="333333"/>
                </a:solidFill>
                <a:latin typeface="Geneva"/>
              </a:rPr>
              <a:t> argument to, if present, the location named in the 2</a:t>
            </a:r>
            <a:r>
              <a:rPr b="0" lang="en-GB" sz="3200" spc="-1" strike="noStrike" baseline="30000">
                <a:solidFill>
                  <a:srgbClr val="333333"/>
                </a:solidFill>
                <a:latin typeface="Geneva"/>
              </a:rPr>
              <a:t>nd</a:t>
            </a:r>
            <a:r>
              <a:rPr b="0" lang="en-GB" sz="3200" spc="-1" strike="noStrike">
                <a:solidFill>
                  <a:srgbClr val="333333"/>
                </a:solidFill>
                <a:latin typeface="Geneva"/>
              </a:rPr>
              <a:t> argument. Ex:</a:t>
            </a:r>
            <a:endParaRPr b="0" lang="en-US" sz="32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333333"/>
                </a:solidFill>
                <a:latin typeface="Geneva"/>
              </a:rPr>
              <a:t>]</a:t>
            </a:r>
            <a:r>
              <a:rPr b="1" lang="en-GB" sz="2400" spc="-1" strike="noStrike">
                <a:solidFill>
                  <a:srgbClr val="333333"/>
                </a:solidFill>
                <a:latin typeface="Geneva"/>
              </a:rPr>
              <a:t>save</a:t>
            </a:r>
            <a:r>
              <a:rPr b="0" lang="en-GB" sz="2400" spc="-1" strike="noStrike">
                <a:solidFill>
                  <a:srgbClr val="333333"/>
                </a:solidFill>
                <a:latin typeface="Geneva"/>
              </a:rPr>
              <a:t>  myfn  \my\location\myfn</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o bring the object back use the command ]LOAD:</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333333"/>
                </a:solidFill>
                <a:latin typeface="Geneva"/>
              </a:rPr>
              <a:t>]</a:t>
            </a:r>
            <a:r>
              <a:rPr b="1" lang="en-GB" sz="2400" spc="-1" strike="noStrike">
                <a:solidFill>
                  <a:srgbClr val="333333"/>
                </a:solidFill>
                <a:latin typeface="Geneva"/>
              </a:rPr>
              <a:t>load</a:t>
            </a:r>
            <a:r>
              <a:rPr b="0" lang="en-GB" sz="2400" spc="-1" strike="noStrike">
                <a:solidFill>
                  <a:srgbClr val="333333"/>
                </a:solidFill>
                <a:latin typeface="Geneva"/>
              </a:rPr>
              <a:t>  my\location\myfn</a:t>
            </a:r>
            <a:endParaRPr b="0" lang="en-US" sz="2400" spc="-1" strike="noStrike">
              <a:solidFill>
                <a:srgbClr val="333333"/>
              </a:solidFill>
              <a:latin typeface="Gene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Help </a:t>
            </a:r>
            <a:endParaRPr b="1" lang="en-US" sz="4400" spc="-1" strike="noStrike">
              <a:solidFill>
                <a:srgbClr val="333333"/>
              </a:solidFill>
              <a:latin typeface="Geneva"/>
            </a:endParaRPr>
          </a:p>
        </p:txBody>
      </p:sp>
      <p:sp>
        <p:nvSpPr>
          <p:cNvPr id="617" name=""/>
          <p:cNvSpPr txBox="1"/>
          <p:nvPr/>
        </p:nvSpPr>
        <p:spPr>
          <a:xfrm>
            <a:off x="468360" y="1628280"/>
            <a:ext cx="8229600" cy="47530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General help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list of all commands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 And ]?+</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Specific help for a command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 more detailed help, if any,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path\to\file\containing\a\user\cmd</a:t>
            </a:r>
            <a:endParaRPr b="0" lang="en-US" sz="2700" spc="-1" strike="noStrike">
              <a:solidFill>
                <a:srgbClr val="333333"/>
              </a:solidFill>
              <a:latin typeface="Genev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vailable</a:t>
            </a:r>
            <a:endParaRPr b="1" lang="en-US" sz="4400" spc="-1" strike="noStrike">
              <a:solidFill>
                <a:srgbClr val="333333"/>
              </a:solidFill>
              <a:latin typeface="Geneva"/>
            </a:endParaRPr>
          </a:p>
        </p:txBody>
      </p:sp>
      <p:sp>
        <p:nvSpPr>
          <p:cNvPr id="619" name=""/>
          <p:cNvSpPr txBox="1"/>
          <p:nvPr/>
        </p:nvSpPr>
        <p:spPr>
          <a:xfrm>
            <a:off x="395280" y="1699920"/>
            <a:ext cx="8229600" cy="47530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Dyalog comes pre-packaged with some already defined UCMD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y are divided into some 7 group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ALT</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pice (UCMD)</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vn</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ysmon</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ol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ransfer</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wsutil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ALT</a:t>
            </a:r>
            <a:endParaRPr b="1" lang="en-US" sz="4400" spc="-1" strike="noStrike">
              <a:solidFill>
                <a:srgbClr val="333333"/>
              </a:solidFill>
              <a:latin typeface="Geneva"/>
            </a:endParaRPr>
          </a:p>
        </p:txBody>
      </p:sp>
      <p:sp>
        <p:nvSpPr>
          <p:cNvPr id="621" name=""/>
          <p:cNvSpPr txBox="1"/>
          <p:nvPr/>
        </p:nvSpPr>
        <p:spPr>
          <a:xfrm>
            <a:off x="468360" y="1699920"/>
            <a:ext cx="8229600" cy="47530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se are the same as their SALT functions:</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av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object</a:t>
            </a:r>
            <a:r>
              <a:rPr b="0" lang="en-GB" sz="3000" spc="-1" strike="noStrike">
                <a:solidFill>
                  <a:srgbClr val="333333"/>
                </a:solidFill>
                <a:latin typeface="Geneva"/>
              </a:rPr>
              <a:t>	</a:t>
            </a:r>
            <a:r>
              <a:rPr b="0" lang="en-GB" sz="3000" spc="-1" strike="noStrike">
                <a:solidFill>
                  <a:srgbClr val="333333"/>
                </a:solidFill>
                <a:latin typeface="Geneva"/>
              </a:rPr>
              <a:t>[to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oad</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Compare</a:t>
            </a:r>
            <a:r>
              <a:rPr b="0" lang="en-GB" sz="3000" spc="-1" strike="noStrike">
                <a:solidFill>
                  <a:srgbClr val="333333"/>
                </a:solidFill>
                <a:latin typeface="Geneva"/>
              </a:rPr>
              <a:t>	</a:t>
            </a:r>
            <a:r>
              <a:rPr b="0" lang="en-GB" sz="3000" spc="-1" strike="noStrike">
                <a:solidFill>
                  <a:srgbClr val="333333"/>
                </a:solidFill>
                <a:latin typeface="Geneva"/>
              </a:rPr>
              <a:t>file1</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ile2]</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ettings</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typ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value]]</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Explor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older|file]</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ist</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older]</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nap</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to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Removeversions</a:t>
            </a:r>
            <a:r>
              <a:rPr b="0" lang="en-GB" sz="3000" spc="-1" strike="noStrike">
                <a:solidFill>
                  <a:srgbClr val="333333"/>
                </a:solidFill>
                <a:latin typeface="Geneva"/>
              </a:rPr>
              <a:t>	</a:t>
            </a:r>
            <a:r>
              <a:rPr b="0" lang="en-GB" sz="3000" spc="-1" strike="noStrike">
                <a:solidFill>
                  <a:srgbClr val="333333"/>
                </a:solidFill>
                <a:latin typeface="Geneva"/>
              </a:rPr>
              <a:t>file</a:t>
            </a:r>
            <a:endParaRPr b="0" lang="en-US" sz="3000" spc="-1" strike="noStrike">
              <a:solidFill>
                <a:srgbClr val="333333"/>
              </a:solidFill>
              <a:latin typeface="Genev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pice</a:t>
            </a:r>
            <a:endParaRPr b="1" lang="en-US" sz="4400" spc="-1" strike="noStrike">
              <a:solidFill>
                <a:srgbClr val="333333"/>
              </a:solidFill>
              <a:latin typeface="Geneva"/>
            </a:endParaRPr>
          </a:p>
        </p:txBody>
      </p:sp>
      <p:sp>
        <p:nvSpPr>
          <p:cNvPr id="623" name=""/>
          <p:cNvSpPr txBox="1"/>
          <p:nvPr/>
        </p:nvSpPr>
        <p:spPr>
          <a:xfrm>
            <a:off x="68436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are commands used to manage the User commands system:</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load</a:t>
            </a:r>
            <a:r>
              <a:rPr b="0" lang="en-GB" sz="2800" spc="-1" strike="noStrike">
                <a:solidFill>
                  <a:srgbClr val="333333"/>
                </a:solidFill>
                <a:latin typeface="Geneva"/>
              </a:rPr>
              <a:t>	</a:t>
            </a:r>
            <a:r>
              <a:rPr b="0" lang="en-GB" sz="2800" spc="-1" strike="noStrike">
                <a:solidFill>
                  <a:srgbClr val="333333"/>
                </a:solidFill>
                <a:latin typeface="Geneva"/>
              </a:rPr>
              <a:t>command </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debug</a:t>
            </a:r>
            <a:r>
              <a:rPr b="0" lang="en-GB" sz="2800" spc="-1" strike="noStrike">
                <a:solidFill>
                  <a:srgbClr val="333333"/>
                </a:solidFill>
                <a:latin typeface="Geneva"/>
              </a:rPr>
              <a:t>	</a:t>
            </a:r>
            <a:r>
              <a:rPr b="0" lang="en-GB" sz="2800" spc="-1" strike="noStrike">
                <a:solidFill>
                  <a:srgbClr val="333333"/>
                </a:solidFill>
                <a:latin typeface="Geneva"/>
              </a:rPr>
              <a:t>ON|OFF</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clean</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new</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rese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version </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monitor</a:t>
            </a:r>
            <a:endParaRPr b="0" lang="en-US" sz="2800" spc="-1" strike="noStrike">
              <a:solidFill>
                <a:srgbClr val="333333"/>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vn</a:t>
            </a:r>
            <a:endParaRPr b="1" lang="en-US" sz="4400" spc="-1" strike="noStrike">
              <a:solidFill>
                <a:srgbClr val="333333"/>
              </a:solidFill>
              <a:latin typeface="Geneva"/>
            </a:endParaRPr>
          </a:p>
        </p:txBody>
      </p:sp>
      <p:sp>
        <p:nvSpPr>
          <p:cNvPr id="625" name=""/>
          <p:cNvSpPr txBox="1"/>
          <p:nvPr/>
        </p:nvSpPr>
        <p:spPr>
          <a:xfrm>
            <a:off x="61128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contains commands to mimic SubVersion's commands:</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ci: commi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co: check ou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add/delete: add/delete new fil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status/resolv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diff: show changes to a fil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import/expor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update: bring in most recen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ysMon</a:t>
            </a:r>
            <a:endParaRPr b="1" lang="en-US" sz="4400" spc="-1" strike="noStrike">
              <a:solidFill>
                <a:srgbClr val="333333"/>
              </a:solidFill>
              <a:latin typeface="Geneva"/>
            </a:endParaRPr>
          </a:p>
        </p:txBody>
      </p:sp>
      <p:sp>
        <p:nvSpPr>
          <p:cNvPr id="627" name=""/>
          <p:cNvSpPr txBox="1"/>
          <p:nvPr/>
        </p:nvSpPr>
        <p:spPr>
          <a:xfrm>
            <a:off x="457200" y="1934640"/>
            <a:ext cx="8686800" cy="43894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is group is used to monitor the system:</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APLMON: used to monitor expressions by primitive, ex:</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aplmon  {+/1=⍵∨⍳⍵}¨⍳1000   –file=\tmp\data</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LOAD APLMON</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InitMon  '\tmp\data.csv'</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CPUtime: used to find CPU used for expressions, ex:</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cputime  {+/1=⍵∨⍳⍵}¨⍳1000</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Monitor: used to find lines consuming the most CPU</a:t>
            </a:r>
            <a:endParaRPr b="0" lang="en-US" sz="2500" spc="-1" strike="noStrike">
              <a:solidFill>
                <a:srgbClr val="333333"/>
              </a:solidFill>
              <a:latin typeface="Genev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Transfer</a:t>
            </a:r>
            <a:endParaRPr b="1" lang="en-US" sz="4400" spc="-1" strike="noStrike">
              <a:solidFill>
                <a:srgbClr val="333333"/>
              </a:solidFill>
              <a:latin typeface="Geneva"/>
            </a:endParaRPr>
          </a:p>
        </p:txBody>
      </p:sp>
      <p:sp>
        <p:nvSpPr>
          <p:cNvPr id="629"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is used to move code in and out of ATF files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out</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 move code in and out of "extended" files with code translation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x/outx</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s Tools &amp; WSutils</a:t>
            </a:r>
            <a:endParaRPr b="1" lang="en-US" sz="4400" spc="-1" strike="noStrike">
              <a:solidFill>
                <a:srgbClr val="333333"/>
              </a:solidFill>
              <a:latin typeface="Geneva"/>
            </a:endParaRPr>
          </a:p>
        </p:txBody>
      </p:sp>
      <p:sp>
        <p:nvSpPr>
          <p:cNvPr id="631" name=""/>
          <p:cNvSpPr txBox="1"/>
          <p:nvPr/>
        </p:nvSpPr>
        <p:spPr>
          <a:xfrm>
            <a:off x="468000" y="1268280"/>
            <a:ext cx="828036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2 groups contain various utilities e.g. to show a subset of names following a specific pattern or do function call analysis or search the workspace for strings of code/text:</a:t>
            </a:r>
            <a:endParaRPr b="0" lang="en-US" sz="32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000" spc="-1" strike="noStrike">
                <a:solidFill>
                  <a:srgbClr val="333333"/>
                </a:solidFill>
                <a:latin typeface="Geneva"/>
              </a:rPr>
              <a:t>]fnslike   GUI*  -date=&gt;20090307</a:t>
            </a:r>
            <a:endParaRPr b="0" lang="en-US" sz="30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fncalls   MainProgram   -details    -treeview</a:t>
            </a:r>
            <a:endParaRPr b="0" lang="en-US" sz="30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wsloc    \babc[∧\w]←     -pattern   -recursive</a:t>
            </a:r>
            <a:endParaRPr b="0" lang="en-US" sz="3000" spc="-1" strike="noStrike">
              <a:solidFill>
                <a:srgbClr val="333333"/>
              </a:solidFill>
              <a:latin typeface="Genev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3"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code to run a UCMD is contained in a class or namespace in a SALT (text, Unicode)fil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at file may be host to several UCMDs</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Command names are case insensitive, e.g. ‘find’ and ‘FIND’ call the same cod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Switches names </a:t>
            </a:r>
            <a:r>
              <a:rPr b="0" lang="en-GB" sz="2500" spc="-1" strike="noStrike" u="sng">
                <a:solidFill>
                  <a:srgbClr val="333333"/>
                </a:solidFill>
                <a:uFillTx/>
                <a:latin typeface="Geneva"/>
              </a:rPr>
              <a:t>are</a:t>
            </a:r>
            <a:r>
              <a:rPr b="0" lang="en-GB" sz="2500" spc="-1" strike="noStrike">
                <a:solidFill>
                  <a:srgbClr val="333333"/>
                </a:solidFill>
                <a:latin typeface="Geneva"/>
              </a:rPr>
              <a:t> case sensitiv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UCMDs are grouped together, e.g. utilities can be grouped under the group ‘wsutils’</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class or namespace must contain at least 3 public functions: ‘List’, ‘Run’ and ‘Help’</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Procedure</a:t>
            </a:r>
            <a:endParaRPr b="1" lang="en-US" sz="4400" spc="-1" strike="noStrike">
              <a:solidFill>
                <a:srgbClr val="333333"/>
              </a:solidFill>
              <a:latin typeface="Geneva"/>
            </a:endParaRPr>
          </a:p>
        </p:txBody>
      </p:sp>
      <p:sp>
        <p:nvSpPr>
          <p:cNvPr id="5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tutorial is divided into 4 area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hy UCMDs and introduc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s UCM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mplementation of the UCMD framework</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r UCMDs: how to write them</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ist’ function is used to gather basic info displayed when using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 is used to display more complete info when using ]?cmdx or ]??cmdx</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Run’ function is the one doing the work.</a:t>
            </a:r>
            <a:endParaRPr b="0" lang="en-US" sz="3200" spc="-1" strike="noStrike">
              <a:solidFill>
                <a:srgbClr val="333333"/>
              </a:solidFill>
              <a:latin typeface="Genev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7" name=""/>
          <p:cNvSpPr txBox="1"/>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whole framework is based on 2 thing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ALT: used to read/write Unicode text file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pice: used to implement the rules of UCMD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7">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3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et’s assume we have a simple function we wish to call once in a while without having to copy/call/erase it each time:</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calendar  3</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Mar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S  M  T  W  T  F  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1  2  3  4  5  6</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7  8  9 10 11 12 12</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14 15 16 17 18 19 20</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1 22 23 24 25 26 27</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8 29 30 31</a:t>
            </a:r>
            <a:endParaRPr b="0" lang="en-US" sz="2200" spc="-1" strike="noStrike">
              <a:solidFill>
                <a:srgbClr val="333333"/>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1"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We need to create a class with the 3 basic functions, the &lt;List&gt; function:</a:t>
            </a:r>
            <a:endParaRPr b="0" lang="en-US" sz="1800" spc="-1" strike="noStrike">
              <a:solidFill>
                <a:srgbClr val="333333"/>
              </a:solidFill>
              <a:latin typeface="Geneva"/>
            </a:endParaRPr>
          </a:p>
          <a:p>
            <a:pPr marL="318960" indent="-31896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Class  dates</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a:t>
            </a:r>
            <a:r>
              <a:rPr b="0" lang="en-GB" sz="1800" spc="-1" strike="noStrike">
                <a:solidFill>
                  <a:srgbClr val="333333"/>
                </a:solidFill>
                <a:latin typeface="APL385 Unicode"/>
              </a:rPr>
              <a:t>IO←1 ⋄ ⎕ML←1</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List</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Access Shared Public</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NS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Name, group, short description and parsing rules</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Name← 'cal'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Group←'dates'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Desc← 'returns the calendar for a given month'</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Parse←''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endParaRPr b="0" lang="en-US" sz="1800" spc="-1" strike="noStrike">
              <a:solidFill>
                <a:srgbClr val="333333"/>
              </a:solidFill>
              <a:latin typeface="Geneva"/>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3"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r>
              <a:rPr b="0" lang="en-GB" sz="3200" spc="-1" strike="noStrike">
                <a:solidFill>
                  <a:srgbClr val="333333"/>
                </a:solidFill>
                <a:latin typeface="APL385 Unicode"/>
              </a:rPr>
              <a:t>r←Help dummy</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Access Shared Public</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r>
              <a:rPr b="0" lang="en-GB" sz="3200" spc="-1" strike="noStrike">
                <a:solidFill>
                  <a:srgbClr val="333333"/>
                </a:solidFill>
                <a:latin typeface="APL385 Unicode"/>
              </a:rPr>
              <a:t>r←'Enter a month as argument' </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5" name=""/>
          <p:cNvSpPr txBox="1"/>
          <p:nvPr/>
        </p:nvSpPr>
        <p:spPr>
          <a:xfrm>
            <a:off x="684360" y="1557360"/>
            <a:ext cx="7772400" cy="411480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RUN function:</a:t>
            </a:r>
            <a:endParaRPr b="0" lang="en-US" sz="3000" spc="-1" strike="noStrike">
              <a:solidFill>
                <a:srgbClr val="333333"/>
              </a:solidFill>
              <a:latin typeface="Geneva"/>
            </a:endParaRPr>
          </a:p>
          <a:p>
            <a:pPr marL="339480" indent="-3394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r←Run(a1 a2)</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Access Shared Public</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calendar' ⎕CY 'myutils'</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r←calendar ⍎a2</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endclass</a:t>
            </a:r>
            <a:endParaRPr b="0" lang="en-US" sz="3000" spc="-1" strike="noStrike">
              <a:solidFill>
                <a:srgbClr val="333333"/>
              </a:solidFill>
              <a:latin typeface="Genev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Because each class may contain more than one UCMD the HELP and RUN functions should really account for that.</a:t>
            </a:r>
            <a:endParaRPr b="0" lang="en-US" sz="3200" spc="-1" strike="noStrike">
              <a:solidFill>
                <a:srgbClr val="333333"/>
              </a:solidFill>
              <a:latin typeface="Genev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HELP function for more than one comman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r>
              <a:rPr b="0" lang="en-GB" sz="2500" spc="-1" strike="noStrike">
                <a:solidFill>
                  <a:srgbClr val="333333"/>
                </a:solidFill>
                <a:latin typeface="APL385 Unicode"/>
              </a:rPr>
              <a:t>r←Help Cm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Access Shared Public</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Select Cm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Case 'cal'</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r← 'Enter a month as argument'</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Case 'other'</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EndSelect</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1" name=""/>
          <p:cNvSpPr txBox="1"/>
          <p:nvPr/>
        </p:nvSpPr>
        <p:spPr>
          <a:xfrm>
            <a:off x="468360" y="1628280"/>
            <a:ext cx="8229600" cy="4923000"/>
          </a:xfrm>
          <a:prstGeom prst="rect">
            <a:avLst/>
          </a:prstGeom>
          <a:noFill/>
          <a:ln w="0">
            <a:noFill/>
          </a:ln>
        </p:spPr>
        <p:txBody>
          <a:bodyPr anchor="t">
            <a:normAutofit/>
          </a:bodyPr>
          <a:p>
            <a:pPr marL="343080" indent="-34308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RUN function for more than one command:</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r←Run(Cmd Arg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Access Shared Public</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Select Cmd</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Case 'cal'</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 ⎕CY 'myutil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r←calendar ⍎Argument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Case 'othe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EndSelec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endParaRPr b="0" lang="en-US" sz="2700" spc="-1" strike="noStrike">
              <a:solidFill>
                <a:srgbClr val="333333"/>
              </a:solidFill>
              <a:latin typeface="Genev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3" name=""/>
          <p:cNvSpPr txBox="1"/>
          <p:nvPr/>
        </p:nvSpPr>
        <p:spPr>
          <a:xfrm>
            <a:off x="324000" y="1341360"/>
            <a:ext cx="8424720" cy="41148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utomatic parsing of the arguments is desired the system will look at the line given as argument, split the tokens on spaces and put the resulting vector of text vectors in variable 'Arguments' in a namespace.</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at namespace will be given as the 2</a:t>
            </a:r>
            <a:r>
              <a:rPr b="0" lang="en-GB" sz="2800" spc="-1" strike="noStrike" baseline="30000">
                <a:solidFill>
                  <a:srgbClr val="333333"/>
                </a:solidFill>
                <a:latin typeface="Geneva"/>
              </a:rPr>
              <a:t>nd</a:t>
            </a:r>
            <a:r>
              <a:rPr b="0" lang="en-GB" sz="2800" spc="-1" strike="noStrike">
                <a:solidFill>
                  <a:srgbClr val="333333"/>
                </a:solidFill>
                <a:latin typeface="Geneva"/>
              </a:rPr>
              <a:t> argument to the function &lt;Run&gt;.</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o request parsing simply put in 'Parse' (in function &lt;List&gt;) the rules to follow, e.g. '3' to ensure 3 arguments.</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no parsing is desired simply leave 'Parse' empty.</a:t>
            </a:r>
            <a:endParaRPr b="0" lang="en-US" sz="2800" spc="-1" strike="noStrike">
              <a:solidFill>
                <a:srgbClr val="333333"/>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hy</a:t>
            </a:r>
            <a:endParaRPr b="1" lang="en-US" sz="4400" spc="-1" strike="noStrike">
              <a:solidFill>
                <a:srgbClr val="333333"/>
              </a:solidFill>
              <a:latin typeface="Geneva"/>
            </a:endParaRPr>
          </a:p>
        </p:txBody>
      </p:sp>
      <p:sp>
        <p:nvSpPr>
          <p:cNvPr id="6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idea is to provide a mechanism for accessing tools anywhere b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parating utilities from the common workspac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ake them available at any time</a:t>
            </a:r>
            <a:endParaRPr b="0" lang="en-US" sz="3200" spc="-1" strike="noStrike">
              <a:solidFill>
                <a:srgbClr val="333333"/>
              </a:solidFill>
              <a:latin typeface="Genev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5" name=""/>
          <p:cNvSpPr txBox="1"/>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If we wish the system to check the number of arguments (here  1) for us we tell it in &lt;List&gt;:</a:t>
            </a:r>
            <a:endParaRPr b="0" lang="en-US" sz="1800" spc="-1" strike="noStrike">
              <a:solidFill>
                <a:srgbClr val="333333"/>
              </a:solidFill>
              <a:latin typeface="Geneva"/>
            </a:endParaRPr>
          </a:p>
          <a:p>
            <a:pPr marL="339480" indent="-3394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r←List</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ccess Shared Public</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S¨1⍴⊂⍬</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Name, group, short description and parsing rules</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ame← ⊂ 'cal'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Group←⊂ 'dates'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Desc← ⊂ 'returns the calendar for a given month'</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r.Parse← '1'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In that case the 2</a:t>
            </a:r>
            <a:r>
              <a:rPr b="0" lang="en-GB" sz="1800" spc="-1" strike="noStrike" baseline="30000">
                <a:solidFill>
                  <a:srgbClr val="333333"/>
                </a:solidFill>
                <a:latin typeface="APL385 Unicode"/>
              </a:rPr>
              <a:t>nd</a:t>
            </a:r>
            <a:r>
              <a:rPr b="0" lang="en-GB" sz="1800" spc="-1" strike="noStrike">
                <a:solidFill>
                  <a:srgbClr val="333333"/>
                </a:solidFill>
                <a:latin typeface="APL385 Unicode"/>
              </a:rPr>
              <a:t> argument in &lt;Run&gt; will contain a namespace:</a:t>
            </a:r>
            <a:endParaRPr b="0" lang="en-US" sz="1800" spc="-1" strike="noStrike">
              <a:solidFill>
                <a:srgbClr val="333333"/>
              </a:solidFill>
              <a:latin typeface="Genev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7" name=""/>
          <p:cNvSpPr txBox="1"/>
          <p:nvPr/>
        </p:nvSpPr>
        <p:spPr>
          <a:xfrm>
            <a:off x="684360" y="1341360"/>
            <a:ext cx="7772400" cy="4114800"/>
          </a:xfrm>
          <a:prstGeom prst="rect">
            <a:avLst/>
          </a:prstGeom>
          <a:noFill/>
          <a:ln w="0">
            <a:noFill/>
          </a:ln>
        </p:spPr>
        <p:txBody>
          <a:bodyPr anchor="t">
            <a:normAutofit fontScale="81000"/>
          </a:bodyPr>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 </a:t>
            </a:r>
            <a:r>
              <a:rPr b="0" lang="en-GB" sz="2800" spc="-1" strike="noStrike">
                <a:solidFill>
                  <a:srgbClr val="333333"/>
                </a:solidFill>
                <a:latin typeface="APL385 Unicode"/>
              </a:rPr>
              <a:t>r←Run(Cmd a2)</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Access Shared Public</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Select Cmd</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Case 'cal'</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calendar' ⎕CY 'myutils'</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r←calendar ⍎1⊃a2.Arguments</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EndSelect</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a:t>
            </a:r>
            <a:endParaRPr b="0" lang="en-US" sz="2800" spc="-1" strike="noStrike">
              <a:solidFill>
                <a:srgbClr val="333333"/>
              </a:solidFill>
              <a:latin typeface="Geneva"/>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Function &lt;calendar&gt; can also/should be defined in the class.</a:t>
            </a:r>
            <a:endParaRPr b="0" lang="en-US" sz="2800" spc="-1" strike="noStrike">
              <a:solidFill>
                <a:srgbClr val="333333"/>
              </a:solidFill>
              <a:latin typeface="Genev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9" name=""/>
          <p:cNvSpPr txBox="1"/>
          <p:nvPr/>
        </p:nvSpPr>
        <p:spPr>
          <a:xfrm>
            <a:off x="684360" y="1557360"/>
            <a:ext cx="7772400" cy="4114800"/>
          </a:xfrm>
          <a:prstGeom prst="rect">
            <a:avLst/>
          </a:prstGeom>
          <a:noFill/>
          <a:ln w="0">
            <a:noFill/>
          </a:ln>
        </p:spPr>
        <p:txBody>
          <a:bodyPr anchor="t">
            <a:normAutofit fontScale="87000"/>
          </a:bodyPr>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cal  3</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Mar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S  M  T  W  T  F  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1  2  3  4  5  6</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7  8  9 10 11 12 12</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14 15 16 17 18 19 20</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1 22 23 24 25 26 27</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8 29 30 31</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59">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59">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59">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5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59">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9">
                                            <p:txEl>
                                              <p:pRg st="6" end="6"/>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1"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ea typeface="Courier New"/>
              </a:rPr>
              <a:t>If Parsing is enabled, entering the wrong number of arguments will be refuse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	</a:t>
            </a:r>
            <a:r>
              <a:rPr b="0" lang="en-GB" sz="3000" spc="-1" strike="noStrike">
                <a:solidFill>
                  <a:srgbClr val="333333"/>
                </a:solidFill>
                <a:latin typeface="Courier New"/>
                <a:ea typeface="Courier New"/>
              </a:rPr>
              <a:t>]cal</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few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33"/>
                </a:solidFill>
                <a:latin typeface="Courier New"/>
                <a:ea typeface="Courier New"/>
              </a:rPr>
              <a:t>]cal 2 3 </a:t>
            </a:r>
            <a:endParaRPr b="0" lang="en-US" sz="26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many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3"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ocation of user commands is preset to Dyalog's folder SALT\Spice under APL's location, e.g.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Geneva"/>
              </a:rPr>
              <a:t>C:\program files\Dyalog\V121\SALT\Spic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5"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location of UCMDs is one of SALT's setting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 know what they are:</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SE.SAL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Or, as a UCM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7"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You can reset it too.</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It follows the same rule as SALT's workdir setting, i.e. it is a series of paths separated by semicolons, e.g.</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7f7f7f"/>
                </a:solidFill>
                <a:latin typeface="Geneva"/>
              </a:rPr>
              <a:t>\my\own\path</a:t>
            </a:r>
            <a:r>
              <a:rPr b="1" lang="en-GB" sz="3100" spc="-1" strike="noStrike">
                <a:solidFill>
                  <a:srgbClr val="333333"/>
                </a:solidFill>
                <a:latin typeface="Geneva"/>
              </a:rPr>
              <a:t>;</a:t>
            </a:r>
            <a:r>
              <a:rPr b="0" lang="en-GB" sz="2500" spc="-1" strike="noStrike">
                <a:solidFill>
                  <a:srgbClr val="7f7f7f"/>
                </a:solidFill>
                <a:latin typeface="Geneva"/>
              </a:rPr>
              <a:t>C:\program files\Dyalog\V121\SALT\Spice</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For example, to add "\my\own\path" to the existing path:</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note the comma)</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	</a:t>
            </a:r>
            <a:r>
              <a:rPr b="0" lang="en-GB" sz="2500" spc="-1" strike="noStrike">
                <a:solidFill>
                  <a:srgbClr val="333333"/>
                </a:solidFill>
                <a:latin typeface="Geneva"/>
              </a:rPr>
              <a:t>]settings cmddir  ,\my\own\path</a:t>
            </a:r>
            <a:endParaRPr b="0" lang="en-US" sz="2500" spc="-1" strike="noStrike">
              <a:solidFill>
                <a:srgbClr val="333333"/>
              </a:solidFill>
              <a:latin typeface="Genev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9"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 can set them manually or in Options/Configur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pic>
        <p:nvPicPr>
          <p:cNvPr id="671" name="Picture 2" descr=""/>
          <p:cNvPicPr/>
          <p:nvPr/>
        </p:nvPicPr>
        <p:blipFill>
          <a:blip r:embed="rId1"/>
          <a:stretch/>
        </p:blipFill>
        <p:spPr>
          <a:xfrm>
            <a:off x="1428840" y="1928880"/>
            <a:ext cx="6357960" cy="4629240"/>
          </a:xfrm>
          <a:prstGeom prst="rect">
            <a:avLst/>
          </a:prstGeom>
          <a:ln w="0">
            <a:noFill/>
          </a:ln>
        </p:spPr>
      </p:pic>
      <p:sp>
        <p:nvSpPr>
          <p:cNvPr id="672" name="Oval 4"/>
          <p:cNvSpPr/>
          <p:nvPr/>
        </p:nvSpPr>
        <p:spPr>
          <a:xfrm>
            <a:off x="4714920" y="2313000"/>
            <a:ext cx="192888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74" name=""/>
          <p:cNvSpPr txBox="1"/>
          <p:nvPr/>
        </p:nvSpPr>
        <p:spPr>
          <a:xfrm>
            <a:off x="468000" y="1699920"/>
            <a:ext cx="8472600" cy="43894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commands are always there: Spice's and SALT's</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oing (note NO comma)</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ttings cmddir  \my\own\path</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ll keep Spice and SALT's commands even though they have not been specified.</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History</a:t>
            </a:r>
            <a:endParaRPr b="1" lang="en-US" sz="4400" spc="-1" strike="noStrike">
              <a:solidFill>
                <a:srgbClr val="333333"/>
              </a:solidFill>
              <a:latin typeface="Geneva"/>
            </a:endParaRPr>
          </a:p>
        </p:txBody>
      </p:sp>
      <p:sp>
        <p:nvSpPr>
          <p:cNvPr id="60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oncept of user commands (UCMDs) is not new.</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PL/PC had them in the 90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IPSharp users had them (through S-Task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ir implementation was different but the idea was the same</a:t>
            </a:r>
            <a:endParaRPr b="0" lang="en-US" sz="3200" spc="-1" strike="noStrike">
              <a:solidFill>
                <a:srgbClr val="333333"/>
              </a:solidFill>
              <a:latin typeface="Genev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76" name=""/>
          <p:cNvSpPr txBox="1"/>
          <p:nvPr/>
        </p:nvSpPr>
        <p:spPr>
          <a:xfrm>
            <a:off x="685800" y="1981080"/>
            <a:ext cx="7772400" cy="411480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Debugging code</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udebug ON|OFF</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FF errors are reported in the calling environmen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Command Execution Failed: DOMAIN ERRO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N errors are reported in the clas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DOMAIN ERRO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4] r←n÷month</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a:t>
            </a:r>
            <a:endParaRPr b="0" lang="en-US" sz="2700" spc="-1" strike="noStrike">
              <a:solidFill>
                <a:srgbClr val="333333"/>
              </a:solidFill>
              <a:latin typeface="Genev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78" name=""/>
          <p:cNvSpPr txBox="1"/>
          <p:nvPr/>
        </p:nvSpPr>
        <p:spPr>
          <a:xfrm>
            <a:off x="684360" y="14842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ose can be specified in the Parse variabl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come in different form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out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aybe with a value: /sw[=]</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specification for each includes the switch delimiter (here /)</a:t>
            </a:r>
            <a:endParaRPr b="0" lang="en-US" sz="2800" spc="-1" strike="noStrike">
              <a:solidFill>
                <a:srgbClr val="333333"/>
              </a:solidFill>
              <a:latin typeface="Genev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0" name=""/>
          <p:cNvSpPr txBox="1"/>
          <p:nvPr/>
        </p:nvSpPr>
        <p:spPr>
          <a:xfrm>
            <a:off x="684360" y="1628640"/>
            <a:ext cx="7772400" cy="4114800"/>
          </a:xfrm>
          <a:prstGeom prst="rect">
            <a:avLst/>
          </a:prstGeom>
          <a:noFill/>
          <a:ln w="0">
            <a:noFill/>
          </a:ln>
        </p:spPr>
        <p:txBody>
          <a:bodyPr anchor="t">
            <a:normAutofit fontScale="92000"/>
          </a:bodyPr>
          <a:p>
            <a:pPr marL="315360" indent="-315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values may be specified, e.g.</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nimal=cat  monkey  giraffe</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characters can also be specified:</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r</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the switch can be specified without a value</a:t>
            </a:r>
            <a:endParaRPr b="0" lang="en-US" sz="2800" spc="-1" strike="noStrike">
              <a:solidFill>
                <a:srgbClr val="333333"/>
              </a:solidFill>
              <a:latin typeface="Genev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2" name=""/>
          <p:cNvSpPr txBox="1"/>
          <p:nvPr/>
        </p:nvSpPr>
        <p:spPr>
          <a:xfrm>
            <a:off x="468360" y="1981080"/>
            <a:ext cx="79898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 – Exampl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1. Switch </a:t>
            </a:r>
            <a:r>
              <a:rPr b="1" i="1" lang="en-GB" sz="2800" spc="-1" strike="noStrike">
                <a:solidFill>
                  <a:srgbClr val="333333"/>
                </a:solidFill>
                <a:latin typeface="Geneva"/>
              </a:rPr>
              <a:t>time</a:t>
            </a:r>
            <a:r>
              <a:rPr b="0" lang="en-GB" sz="2800" spc="-1" strike="noStrike">
                <a:solidFill>
                  <a:srgbClr val="333333"/>
                </a:solidFill>
                <a:latin typeface="Geneva"/>
              </a:rPr>
              <a:t> takes a value, switch </a:t>
            </a:r>
            <a:r>
              <a:rPr b="1" i="1" lang="en-GB" sz="2800" spc="-1" strike="noStrike">
                <a:solidFill>
                  <a:srgbClr val="333333"/>
                </a:solidFill>
                <a:latin typeface="Geneva"/>
              </a:rPr>
              <a:t>PM</a:t>
            </a:r>
            <a:r>
              <a:rPr b="0" lang="en-GB" sz="2800" spc="-1" strike="noStrike">
                <a:solidFill>
                  <a:srgbClr val="333333"/>
                </a:solidFill>
                <a:latin typeface="Geneva"/>
              </a:rPr>
              <a:t> does not, switch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arse ← '/time=   /PM'</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2. Switch </a:t>
            </a:r>
            <a:r>
              <a:rPr b="1" i="1" lang="en-GB" sz="2800" spc="-1" strike="noStrike">
                <a:solidFill>
                  <a:srgbClr val="333333"/>
                </a:solidFill>
                <a:latin typeface="Geneva"/>
              </a:rPr>
              <a:t>Prime</a:t>
            </a:r>
            <a:r>
              <a:rPr b="0" lang="en-GB" sz="2800" spc="-1" strike="noStrike">
                <a:solidFill>
                  <a:srgbClr val="333333"/>
                </a:solidFill>
                <a:latin typeface="Geneva"/>
              </a:rPr>
              <a:t> </a:t>
            </a:r>
            <a:r>
              <a:rPr b="0" lang="en-GB" sz="2800" spc="-1" strike="noStrike" u="sng">
                <a:solidFill>
                  <a:srgbClr val="333333"/>
                </a:solidFill>
                <a:uFillTx/>
                <a:latin typeface="Geneva"/>
              </a:rPr>
              <a:t>may</a:t>
            </a:r>
            <a:r>
              <a:rPr b="0" lang="en-GB" sz="2800" spc="-1" strike="noStrike">
                <a:solidFill>
                  <a:srgbClr val="333333"/>
                </a:solidFill>
                <a:latin typeface="Geneva"/>
              </a:rPr>
              <a:t> accept values 2, 3, 5 and 7, switch </a:t>
            </a:r>
            <a:r>
              <a:rPr b="1" i="1" lang="en-GB" sz="2800" spc="-1" strike="noStrike">
                <a:solidFill>
                  <a:srgbClr val="333333"/>
                </a:solidFill>
                <a:latin typeface="Geneva"/>
              </a:rPr>
              <a:t>Octal</a:t>
            </a:r>
            <a:r>
              <a:rPr b="0" lang="en-GB" sz="2800" spc="-1" strike="noStrike">
                <a:solidFill>
                  <a:srgbClr val="333333"/>
                </a:solidFill>
                <a:latin typeface="Geneva"/>
              </a:rPr>
              <a:t> accepts values made out of '01234567',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arse ←'+Prime[=]2  3  5  7    +Octal∊01234567'</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4"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 Example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and number of arguments are specified together. A command accepting 2 arguments and a switch </a:t>
            </a:r>
            <a:r>
              <a:rPr b="1" i="1" lang="en-GB" sz="3200" spc="-1" strike="noStrike">
                <a:solidFill>
                  <a:srgbClr val="333333"/>
                </a:solidFill>
                <a:latin typeface="Geneva"/>
              </a:rPr>
              <a:t>offset</a:t>
            </a:r>
            <a:r>
              <a:rPr b="0" lang="en-GB" sz="3200" spc="-1" strike="noStrike">
                <a:solidFill>
                  <a:srgbClr val="333333"/>
                </a:solidFill>
                <a:latin typeface="Geneva"/>
              </a:rPr>
              <a:t> with a value would be specified a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rse ←'2  -offset='</a:t>
            </a:r>
            <a:endParaRPr b="0" lang="en-US" sz="3200" spc="-1" strike="noStrike">
              <a:solidFill>
                <a:srgbClr val="333333"/>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6" name=""/>
          <p:cNvSpPr txBox="1"/>
          <p:nvPr/>
        </p:nvSpPr>
        <p:spPr>
          <a:xfrm>
            <a:off x="685800" y="1981080"/>
            <a:ext cx="7772400" cy="4114800"/>
          </a:xfrm>
          <a:prstGeom prst="rect">
            <a:avLst/>
          </a:prstGeom>
          <a:noFill/>
          <a:ln w="0">
            <a:noFill/>
          </a:ln>
        </p:spPr>
        <p:txBody>
          <a:bodyPr anchor="t">
            <a:normAutofit fontScale="98000"/>
          </a:bodyPr>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 are delimited by space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n argument must contain spaces, or the switch delimiter character or a quote, it should be surrounded by quotes. For example, if the switch delimiter is /, the following call will contain 4 argument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mycmd   'arg 1'   '2001/4/5'   OK   "I'm"  /lights=on</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8" name=""/>
          <p:cNvSpPr txBox="1"/>
          <p:nvPr/>
        </p:nvSpPr>
        <p:spPr>
          <a:xfrm>
            <a:off x="394920" y="1341360"/>
            <a:ext cx="8497800" cy="4114800"/>
          </a:xfrm>
          <a:prstGeom prst="rect">
            <a:avLst/>
          </a:prstGeom>
          <a:noFill/>
          <a:ln w="0">
            <a:noFill/>
          </a:ln>
        </p:spPr>
        <p:txBody>
          <a:bodyPr anchor="t">
            <a:normAutofit fontScale="93000"/>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Long Arguments</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 command accepts N arguments and the last argument may contain spaces then it may be unnecessary to quote the last argument simply by stating the command as "long". For ex, if command </a:t>
            </a:r>
            <a:r>
              <a:rPr b="0" i="1" lang="en-GB" sz="2800" spc="-1" strike="noStrike">
                <a:solidFill>
                  <a:srgbClr val="333333"/>
                </a:solidFill>
                <a:latin typeface="Geneva"/>
              </a:rPr>
              <a:t>addrec</a:t>
            </a:r>
            <a:r>
              <a:rPr b="0" lang="en-GB" sz="2800" spc="-1" strike="noStrike">
                <a:solidFill>
                  <a:srgbClr val="333333"/>
                </a:solidFill>
                <a:latin typeface="Geneva"/>
              </a:rPr>
              <a:t> accepts 3 arguments it could accept</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addrec  Joe Blow 42 main str</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Parse ←'3L'</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arguments will be   'Joe'   'Blow'   '42 main str'</a:t>
            </a:r>
            <a:endParaRPr b="0" lang="en-US" sz="2800" spc="-1" strike="noStrike">
              <a:solidFill>
                <a:srgbClr val="333333"/>
              </a:solidFill>
              <a:latin typeface="Genev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90"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hort Argument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f a command accepts a maximum of N arguments it can be specified as "short". For ex,</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th Parse ←'3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y number of argument less than or equal to 3 will be accepted.</a:t>
            </a:r>
            <a:endParaRPr b="0" lang="en-US" sz="3200" spc="-1" strike="noStrike">
              <a:solidFill>
                <a:srgbClr val="333333"/>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Exercices</a:t>
            </a:r>
            <a:endParaRPr b="1" lang="en-US" sz="4400" spc="-1" strike="noStrike">
              <a:solidFill>
                <a:srgbClr val="333333"/>
              </a:solidFill>
              <a:latin typeface="Geneva"/>
            </a:endParaRPr>
          </a:p>
        </p:txBody>
      </p:sp>
      <p:sp>
        <p:nvSpPr>
          <p:cNvPr id="692" name=""/>
          <p:cNvSpPr txBox="1"/>
          <p:nvPr/>
        </p:nvSpPr>
        <p:spPr>
          <a:xfrm>
            <a:off x="685800" y="1981080"/>
            <a:ext cx="7772400" cy="4114800"/>
          </a:xfrm>
          <a:prstGeom prst="rect">
            <a:avLst/>
          </a:prstGeom>
          <a:noFill/>
          <a:ln w="0">
            <a:noFill/>
          </a:ln>
        </p:spPr>
        <p:txBody>
          <a:bodyPr anchor="t">
            <a:normAutofit/>
          </a:bodyPr>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formatted</a:t>
            </a:r>
            <a:endParaRPr b="0" lang="en-US" sz="3200" spc="-1" strike="noStrike">
              <a:solidFill>
                <a:srgbClr val="333333"/>
              </a:solidFill>
              <a:latin typeface="Geneva"/>
            </a:endParaRPr>
          </a:p>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in another city</a:t>
            </a:r>
            <a:endParaRPr b="0" lang="en-US" sz="3200" spc="-1" strike="noStrike">
              <a:solidFill>
                <a:srgbClr val="333333"/>
              </a:solidFill>
              <a:latin typeface="Genev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685800" y="1981080"/>
            <a:ext cx="7772400" cy="4114800"/>
          </a:xfrm>
          <a:prstGeom prst="rect">
            <a:avLst/>
          </a:prstGeom>
          <a:noFill/>
          <a:ln w="0">
            <a:noFill/>
          </a:ln>
        </p:spPr>
        <p:txBody>
          <a:bodyPr anchor="t">
            <a:normAutofit/>
          </a:bodyPr>
          <a:p>
            <a:pPr marL="343080" indent="-343080" algn="ctr">
              <a:spcBef>
                <a:spcPts val="4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600" spc="-1" strike="noStrike">
                <a:solidFill>
                  <a:srgbClr val="333333"/>
                </a:solidFill>
                <a:latin typeface="Geneva"/>
              </a:rPr>
              <a:t>]END</a:t>
            </a:r>
            <a:endParaRPr b="0" lang="en-US" sz="16600" spc="-1" strike="noStrike">
              <a:solidFill>
                <a:srgbClr val="333333"/>
              </a:solidFill>
              <a:latin typeface="Genev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05"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A user command (UCMD) is similar to a system command like )LOAD or )WSID.</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It is a call to an independent routine written by a user, not a routine provided by the system.</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ystem commands start with a ), e.g. )SAVE</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User commands start with a ], e.g. ]WSLOC</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07" name=""/>
          <p:cNvSpPr txBox="1"/>
          <p:nvPr/>
        </p:nvSpPr>
        <p:spPr>
          <a:xfrm>
            <a:off x="685800" y="1546200"/>
            <a:ext cx="7772400" cy="411480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their system commands counterpart, user commands </a:t>
            </a:r>
            <a:r>
              <a:rPr b="1" lang="en-GB" sz="3200" spc="-1" strike="noStrike">
                <a:solidFill>
                  <a:srgbClr val="333333"/>
                </a:solidFill>
                <a:latin typeface="Geneva"/>
              </a:rPr>
              <a:t>may </a:t>
            </a:r>
            <a:r>
              <a:rPr b="0" lang="en-GB" sz="3200" spc="-1" strike="noStrike">
                <a:solidFill>
                  <a:srgbClr val="333333"/>
                </a:solidFill>
                <a:latin typeface="Geneva"/>
              </a:rPr>
              <a:t>take arguments, e.g.</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WSID [</a:t>
            </a:r>
            <a:r>
              <a:rPr b="1" i="1" lang="en-GB" sz="3200" spc="-1" strike="noStrike">
                <a:solidFill>
                  <a:srgbClr val="333333"/>
                </a:solidFill>
                <a:latin typeface="Geneva"/>
              </a:rPr>
              <a:t>newname</a:t>
            </a:r>
            <a:r>
              <a:rPr b="0" lang="en-GB" sz="3200" spc="-1" strike="noStrike">
                <a:solidFill>
                  <a:srgbClr val="333333"/>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FNSLIKE [</a:t>
            </a:r>
            <a:r>
              <a:rPr b="1" i="1" lang="en-GB" sz="3200" spc="-1" strike="noStrike">
                <a:solidFill>
                  <a:srgbClr val="333333"/>
                </a:solidFill>
                <a:latin typeface="Geneva"/>
              </a:rPr>
              <a:t>pattern</a:t>
            </a:r>
            <a:r>
              <a:rPr b="0" lang="en-GB" sz="3200" spc="-1" strike="noStrike">
                <a:solidFill>
                  <a:srgbClr val="333333"/>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system commands they are not case sensitive.</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Unlike system commands, in the actual implementation, they can also take modifiers, e.g.</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FNSLIKE  [Pattern] </a:t>
            </a:r>
            <a:r>
              <a:rPr b="1" lang="en-GB" sz="3200" spc="-1" strike="noStrike">
                <a:solidFill>
                  <a:srgbClr val="333333"/>
                </a:solidFill>
                <a:latin typeface="Geneva"/>
              </a:rPr>
              <a:t>–</a:t>
            </a:r>
            <a:r>
              <a:rPr b="1" i="1" lang="en-GB" sz="3200" spc="-1" strike="noStrike">
                <a:solidFill>
                  <a:srgbClr val="333333"/>
                </a:solidFill>
                <a:latin typeface="Geneva"/>
              </a:rPr>
              <a:t>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preceded by a specific character (here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case sensitiv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is Dyalog's implementation.</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 fact, UCMDs could take any 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E decide what is acceptable</a:t>
            </a:r>
            <a:endParaRPr b="0" lang="en-US" sz="3200" spc="-1" strike="noStrike">
              <a:solidFill>
                <a:srgbClr val="333333"/>
              </a:solidFill>
              <a:latin typeface="Gene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 comes pre-packaged with a set of user commands divided into group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Groups exist for SALT, workspace utilities, code utilities, user commands management, etc.</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8:58:15Z</dcterms:created>
  <dc:creator>Danb</dc:creator>
  <dc:description/>
  <dc:language>en-US</dc:language>
  <cp:lastModifiedBy>danb</cp:lastModifiedBy>
  <dcterms:modified xsi:type="dcterms:W3CDTF">2011-09-30T20:03:01Z</dcterms:modified>
  <cp:revision>51</cp:revision>
  <dc:subject/>
  <dc:title>User Commands  in Dyalog APL</dc:title>
</cp:coreProperties>
</file>