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70A9-4807-4FE0-BE0E-5D4D4E7E6C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07AA-134B-469E-AE74-2FCBF67323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Unlocked code 2. e.g. compare versions + other external util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088C-E516-47B6-BDAC-39804DD798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eople take for granted []SE without realizing its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9727-6CBB-4967-B7F1-6EA274AC48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)COPY requires some management (like clean up afterwar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CBD6-9E90-4CC2-B41F-D1F79BA2B0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following is probably known by many people (but not everyone) so we won’t spend much time on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7000-041C-4A1F-B8BE-2009F4E8CF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tiin []PATH before saving will include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D2FA-48AC-4BE9-85DF-A6378C9AFF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tting []PATH before saving will include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8619-4BFC-4A67-9372-DF7253A691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you want APL to load your DSE file at startup time you’ll need to tell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C8AF-C070-42E1-8CEA-620AEA6A9F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BC4D-D44F-4860-866F-80E398B4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9F1-CB03-4889-801B-FFB9FDB0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467E97-F302-41E8-8AD8-645F89ED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19E19C-6777-4B30-A2C8-CC277CCF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6619DA-A1EB-4619-BF78-0C260F1F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EFF02B-7F33-480E-8AC4-69AD989F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E90D51-8385-4A88-9BCE-192CCD0A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FFBC86-90AC-4127-8A3F-9B6171F1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39186E-8EF8-4FE8-9D5B-040BFAEC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9FA057-5BB9-4E7D-BEF9-98BFA717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252688-C089-46F8-B278-1E5E71DD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637C6-DB58-481A-8EFD-71F3595C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194E-8D62-42E5-8845-9873BE33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64E29-DF06-4136-BC3A-9458B994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87DB1-8EA2-4A24-8E82-36A0D7DB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26860-DEC4-4E20-848E-39D5C0FE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1E1AD-1B7A-4D0A-8B88-0E1BBDCD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CB049-5333-4EFE-8109-475D4B42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28168-4952-4859-97B7-0E9BEE47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288FC-713C-403D-B173-82FB27C3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28B15-68AB-44D2-B6A7-F005938C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DF516-AD84-42EE-AA9F-BBFA5C76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63C1A-4EC1-478B-9E5B-FD744F5B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CB4-D88E-49BE-86BB-214F5E8E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60D9B-6C06-48A6-B17D-B3FCAC70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CC2B1-20AE-4A00-808D-213C3028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E15B7-B8D6-4B54-A51B-9571D3C2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E4741-B77C-4258-B977-C8703F60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08125-5F55-45BF-A7C3-95CDA77E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BEDDC-08DF-4ABA-870A-12DC17E1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E3C9F-844E-4A63-969A-B48AB0DE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98385-AE0D-45D4-A188-9EC8D6E3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33554-E6E1-465E-BA50-FDAB350B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B089F-B47D-46F0-B06A-55D04DB4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8D0D-863A-49CF-83B1-D0F72561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2DEC0-B07C-4713-B7B6-9ED97908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C21CF-F25B-48E4-AB53-6D2FF23B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71AF3-DC3A-42CE-845A-791D18B6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42C34-2711-4898-96CD-BAC7E313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65A4C-1FD5-4791-BA61-E0EB51CF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16243-EFB6-4C47-A083-0B4947D0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BF6C0-4DA2-490F-9457-0A854C99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4EA78-D895-4DDB-8E9D-B1DDAA3D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35E6B-7530-4781-A54E-B66D82FC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6C480-D9A4-47C5-AE0F-77DA9797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513D-3DE7-41C2-B707-111B4CB7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F15CD-3BA5-49DD-9B44-DC593AA5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1FF9B-7345-46BE-A4D7-19A0F494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E5D79-E282-4A50-B929-37C6E28E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C65C1-96AF-4C4F-8597-77B8B123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29666-79E1-4572-81DD-4596CA9D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64998-B138-4C72-822B-6A652389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F5B63D-DAB4-4D24-89C4-7B6731AC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1EE4D-84F7-4E98-B007-8887BBE1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3D876E-C42E-479E-A255-3545E416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6B3BBC-EFE3-4D98-A446-A8F45374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1982-DE93-42D4-9E73-EF04B006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45568-3008-46DD-A391-C8F4FE05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DA448F-1652-49B4-A95B-974F8CB6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3674E-A3E9-455E-BEAD-C91F78D8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E67FBF-DE28-40F1-BA18-A00D0322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54646-9D5E-417F-8936-A203529B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F6BEB-CC6F-495B-A2A4-E98D8BEC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F7790E-4743-4CEA-AFDF-996387C6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84AE1-A6A9-4B19-9C64-652F763B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0F679A-C287-44C0-8FEE-4201226C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C83CCC-4E4F-42ED-9B73-F2829C8E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EE74-9E18-4A19-8125-DD954650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F7A9C1-3BB1-4951-A7B1-C8E73CDC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CF7ED4-905E-4A84-AB72-E191833B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31433-405D-4F29-B22B-0C89CA90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330821-B8FC-4E3A-ADF0-0713AB2A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E29A8C-7E2D-41C6-8F9A-0DD182A9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BBF5B0-B819-4FBA-B4B8-496C3E59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5BEA26-005C-47B1-BDD4-FF83CE44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DFE255-9A30-4E86-88FF-DAEC5DC5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F234F-90A8-4749-98FA-05CEF98E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1CDA-D591-4C93-9DCB-FF860A4A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3263-1543-4B99-9F6F-0560C0CC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C29F-EFAA-448F-ADBF-B2CFA8ED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0A7-7577-4DD4-96C6-E90AF3B3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459C-2555-49BC-83AB-E9C93D66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F75E-A71A-44A5-B812-CB1B4C4E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CC63-BB4F-46CD-8F6C-5257D8B7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7962-98BA-4675-BB5C-74634101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1A38-DF1D-4175-8F0D-88CA36AC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6AD15-AA7C-4711-A508-5012AFED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440AE-2B1F-4C6B-96F0-720C1AF0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F0043-7C37-4473-B096-89A68BF9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AD887-9F25-48FE-A687-3790C6DD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194B0-0201-4D08-BFB5-7B273AB4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B32-4297-475E-B12F-9F994990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0C8F8-930B-418D-BC56-7D9EAC59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82523-A468-489A-8982-726F868C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5C570-5CF4-4E2A-B02D-06CFB8C0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DAC26-5F11-43FC-AD45-89EF0856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E0AF-377B-497B-9DB8-236B584A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C1E3B-DFC7-42D3-8CF4-B5B89251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3B6B4-F394-4DBB-8C66-CCAD422D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9A8E6-45DC-45AC-B4CE-8D29D4E8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55ED8-92C5-4245-8B20-A33A6358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1B236-BBAB-46C4-82D0-DCE8E47D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438D-6F00-4D17-99AE-53A61C30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A28F1-E66E-4DD0-B81C-FE4F9DEF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14FD0-D83A-49CC-B341-F6618786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2F720-F48B-45AC-A65F-BD352DF3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048EC-E4CE-4456-8BF1-CF14B806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E27CC-180D-4221-8A55-4BE5A1A6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683F8-7CB8-4E90-9A95-A8E4F8DD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35A20-BE82-4D4E-B4F5-DEEC2E76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4EE9E-14CF-44A1-B1FD-F2928DD3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2377E-9896-43C5-B11E-44092C74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8C99E-825A-46E7-95BE-2890424E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ADD-6BD7-4B5A-8009-F5930708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0A7C4-E386-4775-A0B4-39AFF5AC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81645-2E3A-49F3-A2BB-85EA26DA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BCA0A-43B9-4D71-B3DF-F20188E5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2DDE4-A289-45FF-83B1-DE886155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52B70-AE73-4FCC-9FFD-F845C69B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DBC58-73D0-4392-89BB-50B5B41B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7F325-BA34-4ABE-9279-FF89F2A3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655EC-24C4-4887-A5DE-C3B71463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745F9-A83A-4791-A910-1BDC8AE2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65C3B-58BA-4D75-846C-F26493E5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8E9-CB74-4243-B6D2-78EA2DF9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2CD4C-8F8C-4A56-86EC-E1261D67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39A08-F03C-4C5B-AE06-79C5A67F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74E61-56DA-4BF2-9700-984E1ABC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D7020-E149-49F0-A210-BBCB44ED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9CE54-9CE4-472B-990C-8A26BC81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E51C9-F31C-4EF4-93B8-DB68B2D2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19EF0-728B-4190-A935-2AA19F3D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0A4A4-C086-4A49-84AB-54C5259F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F571D-88C0-41DE-B0E8-A770C309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07599-A934-4C88-8227-2AC881F3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38A-33BF-4F24-8DD5-44AAF430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96A83-DB5C-4A25-BDE4-FD50B309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0DF41-C04D-4779-8817-88CD1B0D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4F238-1EE7-44B0-B62A-41BC61C8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23EFD-7964-4C23-BB4E-3D116193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CBFCC-27F1-4A04-BF2B-C8167F57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E685E-0A59-4653-83D9-0DBB6CE7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623A3-3D0E-4316-98E6-6DB4E507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2795F-94DE-453B-B278-66E90721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80256-9B7A-4FEE-B628-6965FBB3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A0DBD-30EF-4AEF-B0D4-CC8E2BAE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A52-7084-4491-870C-08C0A34F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C37A4-BE7D-4EC5-B4FD-116E9CE9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A8275-7849-4707-B926-FE4082AD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FB77F-1C29-41CA-9F2F-A6EC4E0B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34D52-4C14-489D-ADA6-C654AA8D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21BB5-0665-42A5-96CD-A59D6FCC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C47B7-215B-461B-B38F-06862A2C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D6FF8-F150-45F6-9FED-7524C524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44AF5-97CF-466E-9EEE-BEBC8E50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A0F87-E61C-4391-A03C-74920BE0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42F9A-6C47-4A4E-8F5A-F743C14F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802A-467F-4A43-84D9-2247D3F2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29E8C-6276-4226-87ED-03F6E794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498BF-0334-4DC2-8B11-792F4C3F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DACA1-2D6F-4A45-A597-AE02B76A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683C7-4A1F-4D4F-B2D3-D95EEE41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8CFA7-C878-4E03-AE0E-1CE53EF9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24D12-45A8-4EEA-B87B-65408786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9A469-37A6-4A99-954B-DA6F7850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1772F0-6642-4EF3-9C7A-7122E025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D97732-4C53-4B88-8EFD-999782CF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3A6D38-EF52-4A1D-BF4D-A5B6AF9B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5B24-6D46-4D7D-9BB1-1C5178B7975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85E4-7949-410E-8E11-AC05A0E9A30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60AE-4818-44A3-B3D3-49D05FBFFEF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8527-7F71-43C7-B9FA-C2A2E0871F1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6A64-4868-4D4D-967C-4AAF741615F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9119-B314-4AE6-A3AF-42CEB5CE5C9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4E79-D1F0-4A85-9532-3586EF105BF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1C7A-97AB-466E-8975-0C9A56793DB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2570-61B9-4B9E-A68C-CEEF882182A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AC71-33AD-40B8-9C48-C4472D85112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A5E6-D5E2-4F35-8D94-45765BE50BB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F8B0-A637-4FA7-AC6E-1AC3F07C4CC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F9AD-35A8-444D-9E99-0AD085A9A50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02DD-EF3A-4035-A4D1-958DCD6123F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33"/>
                </a:solidFill>
                <a:latin typeface="Geneva"/>
              </a:rPr>
              <a:t>Utilities in </a:t>
            </a:r>
            <a:r>
              <a:rPr b="1" i="1" lang="en-GB" sz="5400" spc="-1" strike="noStrike">
                <a:solidFill>
                  <a:srgbClr val="333333"/>
                </a:solidFill>
                <a:latin typeface="Geneva"/>
              </a:rPr>
              <a:t>Dyalog APL</a:t>
            </a:r>
            <a:endParaRPr b="1" lang="en-US" sz="5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85800" y="3352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Dan Baronet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Boston 2011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Geneva"/>
              </a:rPr>
              <a:t>V1.00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5214-E829-403D-BC7B-DD77619894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Date Placeholder 6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7" descr="newsnake.png"/>
          <p:cNvPicPr/>
          <p:nvPr/>
        </p:nvPicPr>
        <p:blipFill>
          <a:blip r:embed="rId1"/>
          <a:stretch/>
        </p:blipFill>
        <p:spPr>
          <a:xfrm>
            <a:off x="304920" y="4338720"/>
            <a:ext cx="160020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: using it as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523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may be convenient enough to store utilities in []SE and use them from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even add some GUI to use th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43DC-5254-4399-BF4D-D6F7D167904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2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5381640" cy="30481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"/>
          <p:cNvPicPr/>
          <p:nvPr/>
        </p:nvPicPr>
        <p:blipFill>
          <a:blip r:embed="rId2"/>
          <a:stretch/>
        </p:blipFill>
        <p:spPr>
          <a:xfrm>
            <a:off x="1914480" y="3218040"/>
            <a:ext cx="5375160" cy="3041640"/>
          </a:xfrm>
          <a:prstGeom prst="rect">
            <a:avLst/>
          </a:prstGeom>
          <a:ln w="0">
            <a:noFill/>
          </a:ln>
        </p:spPr>
      </p:pic>
      <p:sp>
        <p:nvSpPr>
          <p:cNvPr id="663" name="Oval 8"/>
          <p:cNvSpPr/>
          <p:nvPr/>
        </p:nvSpPr>
        <p:spPr>
          <a:xfrm>
            <a:off x="6324480" y="3286080"/>
            <a:ext cx="914400" cy="555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9"/>
          <p:cNvSpPr/>
          <p:nvPr/>
        </p:nvSpPr>
        <p:spPr>
          <a:xfrm>
            <a:off x="1828800" y="3478320"/>
            <a:ext cx="914400" cy="555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– storing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stores utilities in []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are in namespa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eneral  line Pars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&amp; Spice (UCMD framework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har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r Command functi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C3EC-9181-48B4-A0C9-CE652B53DFA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basically a pair of  functions to read and write APL code outside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e feature of SALT is to hook into the editor to save objects automatic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has more functionality and can be used as a version control syst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FA51-407A-48C5-A6BB-9F5189BA915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uses Unicode text files as storage mediu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xt files can be shared and integrate well with other VC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the base for Spi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20BE-7001-41DA-9447-BADCDE6E8F9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is the interface between you and your code stored in SALT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allows you to execute your code under your own ru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is the framework of User Command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EAF9-F0D6-4E12-B9E9-94F21D044FF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ser Commands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CMDS are SALT based functions called thru the ] syntax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the basic code resides in a SALTed text file with specific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 “]CAL  12” is entered in the session its main &lt;Run&gt; function is called with arguments ‘CAL’ ‘12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E7A6-CDE0-4867-99D3-F768301BA41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Keyboard Shortcu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805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trl-Shift-End : highlight to  the end of tex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Ctrl-delet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: remove highlighted tex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trl-Home/End  : go to the beginning/end of the tex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Shift-Esc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: cancel oper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Spac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(in session): mark current line for re-execution (several can be marked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Keypad -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: toggle line number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Keypad /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: reformat according to configur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Ctrl-Up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   : localize  nam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Ctrl-Shift-BS/Enter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: undo/redo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DB51-45BA-442B-92FB-A4FEE787F19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amp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&lt;calendar&gt; fun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&lt;time&gt; user comm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yalog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9092-167C-477A-A83F-AA97A5A8503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APL Wiki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0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88A3-7829-4ECC-9F24-463A2DD5D19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31A0-8D14-4812-B904-DD83326A6CE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2"/>
          <a:stretch/>
        </p:blipFill>
        <p:spPr>
          <a:xfrm>
            <a:off x="-11160" y="762120"/>
            <a:ext cx="915516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vs #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2 “work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pa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” available at all times when using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[]S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ich holds session (static) dat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#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hich is the workspace as such (dynamic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BA12-3E0A-4E3C-A265-DD91EC63A02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E270-BE0F-40EA-87B9-9DD4685AFA8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2" descr=""/>
          <p:cNvPicPr/>
          <p:nvPr/>
        </p:nvPicPr>
        <p:blipFill>
          <a:blip r:embed="rId2"/>
          <a:stretch/>
        </p:blipFill>
        <p:spPr>
          <a:xfrm>
            <a:off x="76320" y="723960"/>
            <a:ext cx="8991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FD90-8CA4-42BB-B5BD-9E5F09CD14F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3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282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emory lay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7241-D58C-42F7-9654-DE3FB35A6DE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1752480" y="2057400"/>
            <a:ext cx="5867640" cy="358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1905120" y="2209680"/>
            <a:ext cx="1600200" cy="327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]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lowchart: Direct Access Storage 8"/>
          <p:cNvSpPr/>
          <p:nvPr/>
        </p:nvSpPr>
        <p:spPr>
          <a:xfrm>
            <a:off x="380880" y="3124080"/>
            <a:ext cx="990720" cy="121932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lowchart: Direct Access Storage 9"/>
          <p:cNvSpPr/>
          <p:nvPr/>
        </p:nvSpPr>
        <p:spPr>
          <a:xfrm>
            <a:off x="7924680" y="3048120"/>
            <a:ext cx="990720" cy="12189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0"/>
          <p:cNvSpPr/>
          <p:nvPr/>
        </p:nvSpPr>
        <p:spPr>
          <a:xfrm>
            <a:off x="3657600" y="2209680"/>
            <a:ext cx="3809880" cy="32767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eft-Right Arrow 11"/>
          <p:cNvSpPr/>
          <p:nvPr/>
        </p:nvSpPr>
        <p:spPr>
          <a:xfrm>
            <a:off x="1295280" y="3352680"/>
            <a:ext cx="914400" cy="6858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eft-Right Arrow 12"/>
          <p:cNvSpPr/>
          <p:nvPr/>
        </p:nvSpPr>
        <p:spPr>
          <a:xfrm>
            <a:off x="7118280" y="3352680"/>
            <a:ext cx="990720" cy="76212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viously  []SE was only used in GUI versions to hold session objects (menus, toolbars, statusbars, …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now used to also contain utilities like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F703-86C6-4017-AF37-F9354A40E39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#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# is dynamic, this is where you )LOAD workspaces and )SAVE them fro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write utilities, store them in a .DWS file and )COPY them when need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at’s one way to do it and it’s been done for ag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F74B-FD9E-47F8-A583-3F56EF5F34B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[]SE is static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store utilities there and refer to them either using their full path (e.g. []SE.myUtil) or by setting []PATH to ‘[]SE’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 other APL offers th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many this is new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5182-3EF3-4B48-9FAF-CA9EBCDB105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– loading and sav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858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[]SE is loaded at start-up tim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modify it it can be saved using the Session/Save menu item: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2C3E-3F7A-4336-9C41-D465B753083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3" descr=""/>
          <p:cNvPicPr/>
          <p:nvPr/>
        </p:nvPicPr>
        <p:blipFill>
          <a:blip r:embed="rId1"/>
          <a:stretch/>
        </p:blipFill>
        <p:spPr>
          <a:xfrm>
            <a:off x="2362320" y="3429000"/>
            <a:ext cx="502920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4410000" cy="243828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– loading and sav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858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wish to use a different name for the session file you can use Save as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EA96-79C9-4625-A5AC-210C1258597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2" descr=""/>
          <p:cNvPicPr/>
          <p:nvPr/>
        </p:nvPicPr>
        <p:blipFill>
          <a:blip r:embed="rId2"/>
          <a:stretch/>
        </p:blipFill>
        <p:spPr>
          <a:xfrm>
            <a:off x="2052720" y="2757600"/>
            <a:ext cx="4881600" cy="3443040"/>
          </a:xfrm>
          <a:prstGeom prst="rect">
            <a:avLst/>
          </a:prstGeom>
          <a:ln w="0">
            <a:noFill/>
          </a:ln>
        </p:spPr>
      </p:pic>
      <p:sp>
        <p:nvSpPr>
          <p:cNvPr id="645" name="Oval 9"/>
          <p:cNvSpPr/>
          <p:nvPr/>
        </p:nvSpPr>
        <p:spPr>
          <a:xfrm>
            <a:off x="2819520" y="5002200"/>
            <a:ext cx="121896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– loading and sav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76212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want APL to use it automatically you will then need to tell APL which session (.DSE) file to load at start-up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A9D1-F76E-4375-83F6-C05E44E1C3D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2057400" y="3505320"/>
            <a:ext cx="4960800" cy="27432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3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5962680" cy="44193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" descr=""/>
          <p:cNvPicPr/>
          <p:nvPr/>
        </p:nvPicPr>
        <p:blipFill>
          <a:blip r:embed="rId3"/>
          <a:stretch/>
        </p:blipFill>
        <p:spPr>
          <a:xfrm>
            <a:off x="1676520" y="1905120"/>
            <a:ext cx="5962680" cy="4419360"/>
          </a:xfrm>
          <a:prstGeom prst="rect">
            <a:avLst/>
          </a:prstGeom>
          <a:ln w="0">
            <a:noFill/>
          </a:ln>
        </p:spPr>
      </p:pic>
      <p:sp>
        <p:nvSpPr>
          <p:cNvPr id="654" name="Oval 11"/>
          <p:cNvSpPr/>
          <p:nvPr/>
        </p:nvSpPr>
        <p:spPr>
          <a:xfrm>
            <a:off x="5943600" y="2057400"/>
            <a:ext cx="1219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4191120" y="5257800"/>
            <a:ext cx="121896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anb</dc:creator>
  <dc:description/>
  <dc:language>en-US</dc:language>
  <cp:lastModifiedBy>danb</cp:lastModifiedBy>
  <dcterms:modified xsi:type="dcterms:W3CDTF">2011-09-30T19:43:05Z</dcterms:modified>
  <cp:revision>1077</cp:revision>
  <dc:subject/>
  <dc:title>DirectX +-=assembler of graphics</dc:title>
</cp:coreProperties>
</file>