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8C7-22F0-45EB-BD9A-3AE7B47E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217-4F1B-4E3C-B31E-E912ECAF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4BE-704A-4E31-8C5F-002DBC2F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8B8-6C27-41EE-99AD-9A235E5D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0AA1-8AD6-46DB-954C-F162FC42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98B-879F-4696-9448-533F1A6D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B45-0434-4C8E-81A5-DFB219EC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3775-F8FD-4F23-B1C6-5EA6F69B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DCF1-80A8-4631-80EA-D7E9D1772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9BE-A06F-44D7-9701-E9A27F42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EA1E-C03B-4EAE-A411-311D59B2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5887-5BF3-4291-9A6A-6667282A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954-AD2B-488B-962B-AD3EAC16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F79-AA2B-4D26-8A68-5EFBC12F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391-A09F-4D09-89C4-11B50C0F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4C4C-6AB2-4DDC-A76F-A1D45E15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6D6E-F9C8-4F4E-9A47-D83ABBBA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3CD-0A7E-4A37-A72C-7ADC3065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D3C-387E-4826-B7CD-2BD6C377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A71C-879D-4A1C-B395-F8849C43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03C-B04C-461F-A03F-5240362B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E55-39AC-4C6C-9F62-0F6E907E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45B-937C-417D-B493-E7ECD56F1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8E73-9434-46AA-9895-317B50C0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F32-36C8-4890-A333-5D06D2A0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B14A-BB76-49DA-8C6D-EFAB2A7C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8FF-F491-4371-AA2C-64BC07D4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3C4-7655-4EF2-A116-6CBF2B496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0684-22F2-4689-BCFD-7127F896D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84C0-A46B-47A1-93AD-367A1F00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7679-3581-4AB8-9FBD-3C940E44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4E5-2A0E-4129-A57A-B783538D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7AA1-2CE8-48F4-9577-298C020B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25F-54CD-457E-9725-9B5877FC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09E-A359-41C2-9EAC-DE606E60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095-D618-445D-B54E-F061B494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DBE-0957-4D1D-95D1-7FDC0247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B9A-E017-4199-A1DB-C0DD2B36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C22-E59A-4B29-884A-1D8EBB46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67FE-459D-4905-8235-0122E73E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FCD-D2F5-4F25-A686-BFBA7EED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BBEB-07A5-40B6-87DE-F9B9888A8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B05-3B65-47FF-867E-C9421BDB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AFD-7EF2-4121-B0D5-25180E05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4C6-E8EE-404B-B89B-0DB1AF3F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43F-847A-499E-A0CA-95659365C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1A36-E976-475B-B6A6-2E98231E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2EC-1881-4F04-991E-7591286D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ACD-F1B2-47A4-B070-3891DA8F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EA1A-FB71-4BFA-ABDA-52B9A306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2E0-EB7C-4CA8-A76B-E4B79EB6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AEA-5D61-4882-838B-2643098B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C97-5C22-4B42-A713-2D565FC0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5AA0-C3C4-4047-9BE3-F999514A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86B-DA9E-4330-8A06-936E2225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F038-0484-4490-8B49-F6C2C340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FAC-372E-4379-9128-BC49AF31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5C8-73B4-4064-83A5-D173A9EE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BE0-CD3D-47C0-BFAA-C8C2D05E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01F-E29F-46AB-BEFA-803E0258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0F2-B646-4883-8B63-2CAF19DD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EBE-E870-4513-B8C9-C5DE75B4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C0C-AC88-474F-AED9-9D7EF180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2EB9-34C6-46C7-A014-688A31EE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C2C1-6983-4649-B331-F8577F2C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94D-8E4E-4BCA-ABA1-4D778A21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CCD-7F5D-4634-AEF1-D4BFED32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84D-14A0-4BA8-ACFE-3BA63BCA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AE4C-D56D-4F3F-88D4-3D163637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718-7EDD-4405-A645-65BE38FB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493-2554-464B-9B06-87BC7E08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266-1A12-4C6D-8016-46D4BF86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23E-2D16-41CB-8ABB-77A7FC4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E33-A91B-42F9-9783-6D8FF309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F60-E02F-48E4-AF7C-E19B355D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294-1CEE-46BD-9EC0-9D7E8E8F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D113-4457-4718-85D3-D5B03F3C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75C7-B03E-4542-B66E-2E8CE53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9718-128C-4374-89B4-2453625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3828-A17C-4874-BD12-20230FF7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AF40-E227-4973-8148-18D7D9D9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80D1-8B06-4A2D-A447-5B69365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3F9C-98B5-4A47-85E7-D604D31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CA4-8A6F-4C1F-AA56-26073B36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C5BB-5026-4136-8F98-5542530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53D-3C86-4898-9E77-3B20CAF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A1E0-6A19-41CD-BE39-23402B7C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C422-6B85-4F86-B398-CCD114EC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9C99-76DF-49F9-B483-AEAFDC76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6A7-B8AC-4D11-A22C-9AE9891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F5F-3BCC-4000-99DA-585D1B17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2C7-225D-4B54-88AE-5370161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2CE-8A02-4930-B8B9-81E0744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EC1-7C97-467C-9B5B-31FE252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E9F-0D19-478F-9691-A6697613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CB3-C0B5-4D95-B31E-4646E5AB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24D8-A6F3-4AE9-8064-C1DD668270B3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967-89D4-458D-BD3C-CD31AD3E5F66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APL385 Unicode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APL385 Unicode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PL385 Unicode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202068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78264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←t1.s1   ⍝ even if assigned a new nam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 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what does this look like?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(S1: son of t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≡t1.s1   ⍝ it “remembers” its referenc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⍬≡⍴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 is still just a ref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⍴⍕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abc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    ⍝ its display has a length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APL385 Unicode"/>
              </a:rPr>
              <a:t>15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v11←’var’ ⍝ If we change the 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t1.s1.⎕fx ‘f1’ ‘...’ ⍝ contents of s1: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t1.s1.⎕nl 2 3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,abc.⎕nl 2 3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  ⍝ abc will “see” it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700" spc="-1" strike="noStrike">
                <a:solidFill>
                  <a:srgbClr val="009999"/>
                </a:solidFill>
                <a:latin typeface="APL385 Unicode"/>
              </a:rPr>
              <a:t>NC ’abc’  ‘t1’  ‘t1.s1’</a:t>
            </a:r>
            <a:endParaRPr b="0" lang="en-US" sz="27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745160"/>
            <a:ext cx="5113440" cy="865080"/>
            <a:chOff x="539640" y="4745160"/>
            <a:chExt cx="5113440" cy="865080"/>
          </a:xfrm>
        </p:grpSpPr>
        <p:sp>
          <p:nvSpPr>
            <p:cNvPr id="294" name="Rectangle 4"/>
            <p:cNvSpPr/>
            <p:nvPr/>
          </p:nvSpPr>
          <p:spPr>
            <a:xfrm>
              <a:off x="4645080" y="474516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24988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24988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835280" y="474516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24988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3349800" y="4745160"/>
              <a:ext cx="50292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5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,abc.⎕NL 2 3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APL385 Unicode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“Yes 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11-04-11T15:03:44Z</dcterms:modified>
  <cp:revision>46</cp:revision>
  <dc:subject/>
  <dc:title>Slide 1</dc:title>
</cp:coreProperties>
</file>