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15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 type="sldNum" idx="17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DF5-022F-487F-A4B9-D828F47F9BA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806-4440-47F1-9FC2-3F5C8727B1F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7AC-A57B-4545-B1FB-7C0123D8A2C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30F6-4504-4AAF-A0FC-AF816FC7B7E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F14-92C1-4561-BA27-251EF09A93F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D86-D5CC-4AF8-8946-BA3E721D11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CE55-0379-457B-85F4-7C39C304BC1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76A0-12E5-45FA-92BD-86CA40F6D5A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599A-AB2C-44FA-8D73-99DB77F3FD6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A6A-E2E9-4B35-AF1A-438C1EBB07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C75-F7D1-4E97-8ED1-3BD8538F86A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DC3-1CC0-44BD-A559-87408026E8C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F65-1644-454E-9A79-01FA49A4999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D79-79A2-41B5-BA7A-7545A92CF0A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616-C5B5-45C0-8C07-A8675C1E575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E759-74FD-4430-8C72-B549953634C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5BB-34C3-42CA-A972-949D6E596C4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DB3-8718-4781-8955-9CFFEE8A5C1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078-4215-4F1C-9729-3DC6DC12513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083-A14D-474B-B832-398277B358F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D36-5FEF-497E-A897-A50959F9712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46D6-8557-4D77-8E09-F822BB80D04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BD3-B2D2-46EA-AEE7-4481DB6BD38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DFB8-BD7B-4C6D-A155-954DB5EEEA9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2F4-4902-4611-AAB3-84CFDB7931C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6F6-ADE3-4993-9016-CE094C0C27C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2E5-F6CB-4915-A827-D233671832D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F7EB-8F65-4E4C-8B0C-BED660C69F6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051-A120-4002-885B-47C41396F95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D68-BFDE-4D0E-AAA9-2EA77EDF8BB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98D6-4D16-4671-A7AD-D81E6B27783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891D-6DC9-4E55-80FE-413B84C9B3E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B46-75DF-473F-A75D-BACAAAA2851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EB8E-D225-45CA-882F-761D0A4D23B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FF8-6227-449A-AD2B-C717B6575DB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C378-5318-4C2F-9874-A38BE290085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0A18-2910-4F0A-BD0E-0DA1FDC9441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766-4366-4399-BDB3-FA8ADF2F6F9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D25B-BA0A-4A02-9FA7-0C9952C948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B79-CFC2-4B20-9BF8-21F4F9AED9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E050-8CE4-4B72-8164-2F19363976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840B-694E-426B-9AF3-E435835C43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82A3-E099-4686-9F6A-C49401C3B5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A3A-B87E-4B3F-BF19-BAC5F82B6D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976-C9E0-478A-963D-3BA9C67E43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9E75-0FC9-466D-A1FD-C41515D212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D02F-BD7D-4B74-823C-A5AD642A39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F7E18-7388-4C94-964B-D76AD61AB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91B82-0231-4794-A8FC-0945E25C90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BC770-DC30-4070-AD88-4BC37B2D45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AD3DC-D8DF-4188-8607-894F1DD18D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45319-197F-490F-BCD3-F5B6045390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61058-608D-4CE3-9CFA-4E95108662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86B19-3E1D-4284-A857-087BD4FEEDD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43039-3820-480B-A7E8-25D790AF8B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464EE-F9E1-4CF4-865F-06F08D747F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07C88-E2F1-4662-8D30-65F03A5E04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C391A-2B17-4A54-9CB8-65F1A9AF1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27F09-F98D-4AE4-9670-E216DD094B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CFA79-6B3B-4924-AEB7-B87415620E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4BF42-5CB5-40DE-BA10-9BD0DE349C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D56D2-6ABD-4156-A304-B1DCDCC5BF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2DEE-8EAA-401C-9273-1A203E33B2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6F172-91A8-4B23-9F03-B94B6A4900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30EF4-04FD-43E7-8564-EA30BC154B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C36E3-5C3F-4855-B587-3588F54F5B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78709-71A2-486B-AE70-FEE493292B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5FB11-F874-41B3-9F61-A8DDB4DBD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4028-C004-4786-84D1-BE41359EA1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4A9A6-4ED0-41A8-AD21-DEA9380454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4D38E-3866-4F31-8048-C7DEADB17F3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B452D-3FA8-453A-98B7-3575E1BC433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68B5-1B3A-4911-8B32-89860AB020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6161-B2EB-481F-81C8-072889455B9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7AB7-32DA-4E16-9415-AC0FC0C18E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F3F5-A35D-4592-827A-966CC6B431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B8F6-A663-4EDC-B851-3DAC623494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914B-9636-46B9-81E9-A6C36081FF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5BD4-B520-4C9A-898D-C242FB182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27AB-44EC-41D4-B294-7D6FF3FB4A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18A3-DB5C-4E22-B2E2-B0FAEC7832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F56C-4050-40F3-B503-8F2E336CCC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E989-D027-4117-9BAB-D8F94771FE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F42C-7AF8-4608-9062-163F211372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DE14-C381-4617-B292-603FFF65AA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C67F0-02D8-42E5-AADD-91FD81886A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32743-3B72-462D-BA12-C2E7030000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852D2-A2C8-40F6-B9B2-717FD7D828A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69788-7BA6-42DF-83F3-26537EBE28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4BD00-6C67-43E5-B8B8-7C0F7A763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269E-A910-45BA-A269-9FE4F388D9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27BE7-686E-4CAD-B8AA-BB0C1FF204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F0D99-BDDE-44D6-BD3F-504104084A2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EF615-B98E-43C7-A7ED-033BEA9D9A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009C8-21DC-421F-A280-06CD3971D8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170DB-A7E8-4234-A3B3-60BD4CEF15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54110-2DF3-4C29-9EA7-B1B525EAB7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1036D-39B1-43B3-AFF6-912C34A430A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AF238-CE66-4300-8A75-7D15DF1864E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747EB-8EDF-4BC4-862D-BFF5AEDFE5A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D35E1-2996-4D13-A003-F1E970B6A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D51D-EA4C-4C09-B43B-CBD3EC8AF77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FAE89-80F0-4091-AC6E-F6BE9BF4261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0CF56-1D51-4084-A791-35BE51C46E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48AFD-2A56-45D6-B368-6504372F68E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0E454-1D3C-4DD6-9E49-770C1E1D648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827C3-67F6-4251-8C8C-D330D4973E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4BFA8-2AE2-432C-9055-AD2568F7864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8E516-E2BB-4746-A6EE-82A6BAC4B69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6548E-1F3D-4E85-B13C-FE73D8956F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7EC31-B211-45D5-88DA-F09899330D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96C4-C0C0-41D6-9F98-6850F7345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5038-2539-4E65-9407-46B912430F1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D0FC-86D8-4767-ADFC-7D8815C7B1E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1873-DE0D-4851-98C3-9552EDDD168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51B5-ECC4-4FFE-AE6C-861FE28284B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0F6A-FE9B-470D-BB9A-E725C40EA58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F29A-3AA1-48E2-82EE-9B1559DB84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C6CB-5066-40D8-889F-FE502A2059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4707-463A-4985-A16E-28F8BDC75B1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9FEC-0076-45BD-9F0A-F4934213F8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B859-C097-4B01-A638-BA8FC30D5D1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9C3C-7BE9-45A2-9239-402FDB965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3893-8C60-4559-945A-AF88E31D136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93A7-C319-498D-882B-7A00029980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4F08D7-5B15-4966-A3CA-F80E1138158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AC3701-472E-48C7-A40E-2FC9EEB34A5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69637-2A3A-465B-9228-AA3037670B2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74250D-4F0C-43BE-9590-02C2CECD7A2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5C1DA8-5D58-4CAC-87F8-602D86A9F7E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74FBA-78D0-40C1-8CEA-0CD9702EFA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73297-504A-4E16-A086-287785D0C75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31DC2-0939-4E83-B11C-2D19C06D4A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85A00-6868-4AC7-98B4-467550ADB4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7217-FC71-4096-9482-973F499643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02E40-B7DB-4DF6-A68C-92C20AA2F9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35B68D-0C1C-4977-8767-DA32FD8C75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86A04C-4661-41C6-B506-C68C7ECAB10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3772D-534A-4A3E-AD70-D50C1F0EAB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F6F4A-7C25-4254-B38C-5274689292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8F254-68E1-4F90-BE82-E522E83E743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499D8-7EC9-49E7-B375-6D45461D499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48D4E-66F9-4245-B62A-2D76213981D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24B81-6DF0-47C7-94FD-99BD0C57E2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FD0F8-9486-4723-8991-99AEE29BB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A2A0-3409-4FF3-B277-C7303CF5B10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4E3A0-218C-4566-8E0A-E03541CE670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F5E5E-C48C-40ED-A4F6-B02F4001BB7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AE127-D78D-46B9-89E7-D65FDF9E91D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CBC2E-5FDF-4C60-BFDF-3242E3A1D84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16E66-EF1D-4C3D-9BD6-3A91DE2DA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3A83-2FFB-447D-9E5B-960FB081F5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0790-D229-4C2F-955D-B1C8498AA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A211-6D5A-4663-B5FE-5BD508933F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5FFE-5E6D-4548-9BF2-6D67371ADF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E097-AF14-4738-BA02-EDD5C9D0FE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73AE-1C5F-4702-B9A6-0298271B0D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4D98-910D-4969-8A0D-D3D53F53D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BA19-F02F-43D4-9891-642203A3CD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A201-9113-441B-996B-9DC0B4C09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E738-76E2-457F-96AA-05C371FCD9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8D17-09DD-4498-A54D-62419666A0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F653-A2C6-48CE-9796-EDA592A519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D6BA-6F53-4798-9FD9-BC3F8A29D0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03FA-6F3D-466A-8956-4B5BA02B89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C0BE-4D6C-4B6A-9E9A-E78886C0E1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4000-27D3-4F4F-899F-F66FDAA82C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6DD-7E51-43E3-A7A3-49B3BC090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A6E-E698-48BE-B6E4-BC2AF18736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4F5-8C14-41B6-8642-12ED1ED413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3B4-BFDF-461B-A170-A164FAA92D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13F-7E08-4F8A-8674-6D9BA2BB2F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FEA-5259-47F3-A050-8AFD7E10CA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61D-7F59-4A4F-BE50-854586E5AD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813-7A6E-4682-9DC6-EADF337F67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A38-EBBA-4BF3-AB21-A15F86CD88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837-48A1-4387-8425-0FA98C0707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68B-F02B-4EC3-B756-796B58B5E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86C-DD54-40E9-B3BA-29658572BD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F16A8-27AF-4477-9E8D-CCDEB683D1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BEF55-2725-4600-8EF5-385A6530C3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F118B-F5C0-4182-89AA-705690F31C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387FA-073E-4AB3-B60E-F6DECAA04D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9D368-DF3F-45D1-BCB2-145A995AC6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5E9C2-6203-4E31-8260-F53B6EE282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84681-B0F4-4D70-B51C-D95EBA568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7304C-758F-4F05-8B35-9A0AE47E3E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21344-35A3-4EA0-B5A7-B4591F9F3A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9D84-B3C8-405E-AD02-51CFB3248F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B36E8-9E0A-479D-9FD2-36583D329D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D4DE1-4C23-4B65-8916-010A12E887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3AC31-969A-4D0F-930D-B2145ABB51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47030-0868-41FE-85C8-3DF4A2DE49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3295C-103D-4828-B420-ADD4843098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B483-E4FF-45FF-8686-008D2A69EB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D610-1BC1-4E11-BF6B-72A2AF998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B9CDA-ECB9-4F7C-B4D4-C631D29221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A2813-7665-4290-9B29-E6EEE27965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2E832-27BC-4C2B-A921-C0845EEC28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0E06-79EF-4E06-91B2-612B199E5E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3BBBC-1622-4171-B5FF-E4C4A93848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8AAE-BB9B-4AC8-B58E-54981BCB16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22014-A776-48F0-AF0A-A2847969EA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E966-2F88-4237-9390-B250904EE7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B38-1EEF-483A-87E2-3D8D7F47BA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3050-88D5-4D82-8E91-3619003A5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86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88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7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044-F544-4A1C-9E2C-28BF341C9F4B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34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8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D22-DFEC-4C1C-8F3F-007B53816B8C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8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9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89D-0A54-4DC8-8195-92D420944F3F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25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27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0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8BA-A812-4A72-A555-F4BA0839A88C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71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73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1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186-66CE-472A-8AEA-23F2E8237C1A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12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0925-F317-4F61-9303-FEDC80540E75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6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6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3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BE6-7F73-4384-8BEB-275E0659548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70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710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71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14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3471-3D53-4570-AB92-FB054BF3CBC2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8077320" y="647712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04EB-A816-460E-9992-E7F06E93E66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magine 6" descr="SOFIA.jpg"/>
          <p:cNvPicPr/>
          <p:nvPr/>
        </p:nvPicPr>
        <p:blipFill>
          <a:blip r:embed="rId3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nettore 1 1"/>
          <p:cNvSpPr/>
          <p:nvPr/>
        </p:nvSpPr>
        <p:spPr>
          <a:xfrm flipV="1">
            <a:off x="0" y="665172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e 2"/>
          <p:cNvSpPr/>
          <p:nvPr/>
        </p:nvSpPr>
        <p:spPr>
          <a:xfrm>
            <a:off x="8580600" y="6543720"/>
            <a:ext cx="21564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e 3"/>
          <p:cNvSpPr/>
          <p:nvPr/>
        </p:nvSpPr>
        <p:spPr>
          <a:xfrm>
            <a:off x="8815320" y="6548400"/>
            <a:ext cx="21600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1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17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3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2"/>
          </p:nvPr>
        </p:nvSpPr>
        <p:spPr>
          <a:xfrm>
            <a:off x="8561160" y="6489720"/>
            <a:ext cx="91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8DC-0BC7-4537-A958-9B77479E39D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60" name="Connettore 1 4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5"/>
          <p:cNvSpPr/>
          <p:nvPr/>
        </p:nvSpPr>
        <p:spPr>
          <a:xfrm flipV="1">
            <a:off x="0" y="663264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6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7"/>
          <p:cNvSpPr/>
          <p:nvPr/>
        </p:nvSpPr>
        <p:spPr>
          <a:xfrm>
            <a:off x="8815320" y="652932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Num" idx="3"/>
          </p:nvPr>
        </p:nvSpPr>
        <p:spPr>
          <a:xfrm>
            <a:off x="8562960" y="6472080"/>
            <a:ext cx="90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64E-54A8-447A-9ACF-8F047066E0F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tangolo 4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6" descr="sofialogoCMYK.jpg"/>
          <p:cNvPicPr/>
          <p:nvPr/>
        </p:nvPicPr>
        <p:blipFill>
          <a:blip r:embed="rId3"/>
          <a:stretch/>
        </p:blipFill>
        <p:spPr>
          <a:xfrm>
            <a:off x="214200" y="5950080"/>
            <a:ext cx="1073160" cy="358560"/>
          </a:xfrm>
          <a:prstGeom prst="rect">
            <a:avLst/>
          </a:prstGeom>
          <a:ln w="0">
            <a:noFill/>
          </a:ln>
        </p:spPr>
      </p:pic>
      <p:sp>
        <p:nvSpPr>
          <p:cNvPr id="203" name="Rettangolo 6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6" descr="SOFIA.jpg"/>
          <p:cNvPicPr/>
          <p:nvPr/>
        </p:nvPicPr>
        <p:blipFill>
          <a:blip r:embed="rId4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Immagine 8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46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magine 1" descr="testata.jpg"/>
          <p:cNvPicPr/>
          <p:nvPr/>
        </p:nvPicPr>
        <p:blipFill>
          <a:blip r:embed="rId5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15" descr="Logoapl_defRGB.jpg"/>
          <p:cNvPicPr/>
          <p:nvPr/>
        </p:nvPicPr>
        <p:blipFill>
          <a:blip r:embed="rId6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sp>
        <p:nvSpPr>
          <p:cNvPr id="249" name="Connettore 1 10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ttore 1 11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e 12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e 13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4"/>
          </p:nvPr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3EB4-5552-4629-97B3-4A55E0686542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9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9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5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91D-5511-4F90-9D02-D831932AB5B8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3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4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6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F482-398E-4FD5-A5BE-1DC2F57C363C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CasellaDiTesto 5"/>
          <p:cNvSpPr/>
          <p:nvPr/>
        </p:nvSpPr>
        <p:spPr>
          <a:xfrm>
            <a:off x="161928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pplying Version 13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UI Features to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5"/>
          <p:cNvSpPr/>
          <p:nvPr/>
        </p:nvSpPr>
        <p:spPr>
          <a:xfrm>
            <a:off x="1979640" y="544500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alog '13 Conference, Florida,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tober 20 - 24,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CasellaDiTesto 5"/>
          <p:cNvSpPr/>
          <p:nvPr/>
        </p:nvSpPr>
        <p:spPr>
          <a:xfrm>
            <a:off x="1692360" y="1989000"/>
            <a:ext cx="72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alentina Settimi, APL 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ttangolo 36"/>
          <p:cNvSpPr/>
          <p:nvPr/>
        </p:nvSpPr>
        <p:spPr>
          <a:xfrm>
            <a:off x="1692360" y="1917720"/>
            <a:ext cx="575928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1692360" y="1989000"/>
            <a:ext cx="57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SOFIA is a financial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tangolo 38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tangolo 37"/>
          <p:cNvSpPr/>
          <p:nvPr/>
        </p:nvSpPr>
        <p:spPr>
          <a:xfrm>
            <a:off x="169236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uppo 22"/>
          <p:cNvGrpSpPr/>
          <p:nvPr/>
        </p:nvGrpSpPr>
        <p:grpSpPr>
          <a:xfrm>
            <a:off x="4716000" y="2781360"/>
            <a:ext cx="360360" cy="576360"/>
            <a:chOff x="4716000" y="2781360"/>
            <a:chExt cx="360360" cy="576360"/>
          </a:xfrm>
        </p:grpSpPr>
        <p:sp>
          <p:nvSpPr>
            <p:cNvPr id="832" name="Freccia a destra 24"/>
            <p:cNvSpPr/>
            <p:nvPr/>
          </p:nvSpPr>
          <p:spPr>
            <a:xfrm rot="5400000">
              <a:off x="4576320" y="292104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ccia a destra 24"/>
            <p:cNvSpPr/>
            <p:nvPr/>
          </p:nvSpPr>
          <p:spPr>
            <a:xfrm rot="5400000">
              <a:off x="4676040" y="295740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10"/>
          <p:cNvSpPr/>
          <p:nvPr/>
        </p:nvSpPr>
        <p:spPr>
          <a:xfrm>
            <a:off x="529272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169236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39"/>
          <p:cNvSpPr/>
          <p:nvPr/>
        </p:nvSpPr>
        <p:spPr>
          <a:xfrm>
            <a:off x="1619280" y="3573360"/>
            <a:ext cx="58323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1619280" y="3716280"/>
            <a:ext cx="58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Change the look but not the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Guidelines – New GUI: How to do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22"/>
          <p:cNvSpPr/>
          <p:nvPr/>
        </p:nvSpPr>
        <p:spPr>
          <a:xfrm>
            <a:off x="1690560" y="5084640"/>
            <a:ext cx="58341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1692360" y="5229360"/>
            <a:ext cx="583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Only Dyalog</a:t>
            </a: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uppo 22"/>
          <p:cNvGrpSpPr/>
          <p:nvPr/>
        </p:nvGrpSpPr>
        <p:grpSpPr>
          <a:xfrm>
            <a:off x="4355640" y="4508640"/>
            <a:ext cx="360360" cy="504720"/>
            <a:chOff x="4355640" y="4508640"/>
            <a:chExt cx="360360" cy="504720"/>
          </a:xfrm>
        </p:grpSpPr>
        <p:sp>
          <p:nvSpPr>
            <p:cNvPr id="843" name="Freccia a destra 24"/>
            <p:cNvSpPr/>
            <p:nvPr/>
          </p:nvSpPr>
          <p:spPr>
            <a:xfrm rot="5400000">
              <a:off x="4249440" y="4614480"/>
              <a:ext cx="473760" cy="261720"/>
            </a:xfrm>
            <a:prstGeom prst="rightArrow">
              <a:avLst>
                <a:gd name="adj1" fmla="val 50000"/>
                <a:gd name="adj2" fmla="val 68510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ccia a destra 24"/>
            <p:cNvSpPr/>
            <p:nvPr/>
          </p:nvSpPr>
          <p:spPr>
            <a:xfrm rot="5400000">
              <a:off x="4349160" y="4646520"/>
              <a:ext cx="473040" cy="260640"/>
            </a:xfrm>
            <a:prstGeom prst="rightArrow">
              <a:avLst>
                <a:gd name="adj1" fmla="val 50000"/>
                <a:gd name="adj2" fmla="val 68521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uppo 22"/>
          <p:cNvGrpSpPr/>
          <p:nvPr/>
        </p:nvGrpSpPr>
        <p:grpSpPr>
          <a:xfrm>
            <a:off x="3995280" y="2782800"/>
            <a:ext cx="360360" cy="576360"/>
            <a:chOff x="3995280" y="2782800"/>
            <a:chExt cx="360360" cy="576360"/>
          </a:xfrm>
        </p:grpSpPr>
        <p:sp>
          <p:nvSpPr>
            <p:cNvPr id="846" name="Freccia a destra 24"/>
            <p:cNvSpPr/>
            <p:nvPr/>
          </p:nvSpPr>
          <p:spPr>
            <a:xfrm rot="5400000">
              <a:off x="3855600" y="292248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ccia a destra 24"/>
            <p:cNvSpPr/>
            <p:nvPr/>
          </p:nvSpPr>
          <p:spPr>
            <a:xfrm rot="5400000">
              <a:off x="3955320" y="295884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ttangolo arrotondato 12"/>
          <p:cNvSpPr/>
          <p:nvPr/>
        </p:nvSpPr>
        <p:spPr>
          <a:xfrm>
            <a:off x="971640" y="407664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971640" y="2131920"/>
            <a:ext cx="7200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56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16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6" name="Picture 17" descr=""/>
          <p:cNvPicPr/>
          <p:nvPr/>
        </p:nvPicPr>
        <p:blipFill>
          <a:blip r:embed="rId2"/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16" descr="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0" name="Rettangolo 66"/>
          <p:cNvSpPr/>
          <p:nvPr/>
        </p:nvSpPr>
        <p:spPr>
          <a:xfrm>
            <a:off x="2771640" y="3645000"/>
            <a:ext cx="1440000" cy="604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ttangolo 67"/>
          <p:cNvSpPr/>
          <p:nvPr/>
        </p:nvSpPr>
        <p:spPr>
          <a:xfrm>
            <a:off x="1619280" y="2924280"/>
            <a:ext cx="720720" cy="288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ttangolo 68"/>
          <p:cNvSpPr/>
          <p:nvPr/>
        </p:nvSpPr>
        <p:spPr>
          <a:xfrm>
            <a:off x="250920" y="1652760"/>
            <a:ext cx="187308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7" descr=""/>
          <p:cNvPicPr/>
          <p:nvPr/>
        </p:nvPicPr>
        <p:blipFill>
          <a:blip r:embed="rId2">
            <a:lum bright="-34000"/>
          </a:blip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9" name="Picture 16" descr=""/>
          <p:cNvPicPr/>
          <p:nvPr/>
        </p:nvPicPr>
        <p:blipFill>
          <a:blip r:embed="rId3"/>
          <a:srcRect l="0" t="8749" r="56855" b="70411"/>
          <a:stretch/>
        </p:blipFill>
        <p:spPr>
          <a:xfrm>
            <a:off x="652320" y="1125360"/>
            <a:ext cx="355932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0" name="Picture 16" descr=""/>
          <p:cNvPicPr/>
          <p:nvPr/>
        </p:nvPicPr>
        <p:blipFill>
          <a:blip r:embed="rId4"/>
          <a:srcRect l="58148" t="63417" r="8367" b="19339"/>
          <a:stretch/>
        </p:blipFill>
        <p:spPr>
          <a:xfrm>
            <a:off x="395280" y="4387680"/>
            <a:ext cx="361800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1" name="Picture 16" descr=""/>
          <p:cNvPicPr/>
          <p:nvPr/>
        </p:nvPicPr>
        <p:blipFill>
          <a:blip r:embed="rId5"/>
          <a:srcRect l="31680" t="43389" r="51563" b="48087"/>
          <a:stretch/>
        </p:blipFill>
        <p:spPr>
          <a:xfrm>
            <a:off x="-36360" y="2997360"/>
            <a:ext cx="180648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2" name="Connettore 1 52"/>
          <p:cNvSpPr/>
          <p:nvPr/>
        </p:nvSpPr>
        <p:spPr>
          <a:xfrm flipH="1">
            <a:off x="250560" y="1844640"/>
            <a:ext cx="401400" cy="18576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Connettore 1 26"/>
          <p:cNvSpPr/>
          <p:nvPr/>
        </p:nvSpPr>
        <p:spPr>
          <a:xfrm flipH="1">
            <a:off x="1769760" y="3068640"/>
            <a:ext cx="569880" cy="3128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nettore 1 29"/>
          <p:cNvSpPr/>
          <p:nvPr/>
        </p:nvSpPr>
        <p:spPr>
          <a:xfrm flipH="1">
            <a:off x="2205000" y="3645000"/>
            <a:ext cx="1287360" cy="7426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ttangolo 70"/>
          <p:cNvSpPr/>
          <p:nvPr/>
        </p:nvSpPr>
        <p:spPr>
          <a:xfrm>
            <a:off x="7164360" y="5157720"/>
            <a:ext cx="1440000" cy="64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ttangolo 71"/>
          <p:cNvSpPr/>
          <p:nvPr/>
        </p:nvSpPr>
        <p:spPr>
          <a:xfrm>
            <a:off x="5918040" y="4406760"/>
            <a:ext cx="720720" cy="28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ttangolo 72"/>
          <p:cNvSpPr/>
          <p:nvPr/>
        </p:nvSpPr>
        <p:spPr>
          <a:xfrm>
            <a:off x="4500720" y="3105000"/>
            <a:ext cx="187164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Connettore 1 75"/>
          <p:cNvSpPr/>
          <p:nvPr/>
        </p:nvSpPr>
        <p:spPr>
          <a:xfrm flipH="1">
            <a:off x="5435280" y="3429000"/>
            <a:ext cx="1368360" cy="43164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nettore 1 76"/>
          <p:cNvSpPr/>
          <p:nvPr/>
        </p:nvSpPr>
        <p:spPr>
          <a:xfrm flipV="1">
            <a:off x="6638760" y="4319280"/>
            <a:ext cx="669960" cy="2300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onnettore 1 77"/>
          <p:cNvSpPr/>
          <p:nvPr/>
        </p:nvSpPr>
        <p:spPr>
          <a:xfrm flipH="1">
            <a:off x="8317080" y="5481720"/>
            <a:ext cx="287280" cy="5032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7" descr=""/>
          <p:cNvPicPr/>
          <p:nvPr/>
        </p:nvPicPr>
        <p:blipFill>
          <a:blip r:embed="rId6"/>
          <a:srcRect l="778" t="8614" r="55648" b="70163"/>
          <a:stretch/>
        </p:blipFill>
        <p:spPr>
          <a:xfrm>
            <a:off x="4788000" y="1773360"/>
            <a:ext cx="40320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2" name="Picture 17" descr=""/>
          <p:cNvPicPr/>
          <p:nvPr/>
        </p:nvPicPr>
        <p:blipFill>
          <a:blip r:embed="rId7"/>
          <a:srcRect l="32909" t="43239" r="51246" b="48523"/>
          <a:stretch/>
        </p:blipFill>
        <p:spPr>
          <a:xfrm>
            <a:off x="7308720" y="3933720"/>
            <a:ext cx="1764000" cy="7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3" name="Picture 17" descr=""/>
          <p:cNvPicPr/>
          <p:nvPr/>
        </p:nvPicPr>
        <p:blipFill>
          <a:blip r:embed="rId8"/>
          <a:srcRect l="59191" t="62916" r="6360" b="19576"/>
          <a:stretch/>
        </p:blipFill>
        <p:spPr>
          <a:xfrm>
            <a:off x="4788000" y="5229360"/>
            <a:ext cx="35290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ttangolo 29"/>
          <p:cNvSpPr/>
          <p:nvPr/>
        </p:nvSpPr>
        <p:spPr>
          <a:xfrm>
            <a:off x="2700360" y="1628640"/>
            <a:ext cx="3743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2700360" y="170028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Modern 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ttangolo 8"/>
          <p:cNvSpPr/>
          <p:nvPr/>
        </p:nvSpPr>
        <p:spPr>
          <a:xfrm>
            <a:off x="3040200" y="2708280"/>
            <a:ext cx="304452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asellaDiTesto 15"/>
          <p:cNvSpPr/>
          <p:nvPr/>
        </p:nvSpPr>
        <p:spPr>
          <a:xfrm>
            <a:off x="3059280" y="2779560"/>
            <a:ext cx="29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Version 13.2 enhancement  of Windows  Native Look&amp;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homogeneous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uppo 22"/>
          <p:cNvGrpSpPr/>
          <p:nvPr/>
        </p:nvGrpSpPr>
        <p:grpSpPr>
          <a:xfrm>
            <a:off x="4430520" y="4365720"/>
            <a:ext cx="285480" cy="576000"/>
            <a:chOff x="4430520" y="4365720"/>
            <a:chExt cx="285480" cy="576000"/>
          </a:xfrm>
        </p:grpSpPr>
        <p:sp>
          <p:nvSpPr>
            <p:cNvPr id="902" name="Freccia a destra 24"/>
            <p:cNvSpPr/>
            <p:nvPr/>
          </p:nvSpPr>
          <p:spPr>
            <a:xfrm rot="5400000">
              <a:off x="4287960" y="4507920"/>
              <a:ext cx="540720" cy="255960"/>
            </a:xfrm>
            <a:prstGeom prst="rightArrow">
              <a:avLst>
                <a:gd name="adj1" fmla="val 50000"/>
                <a:gd name="adj2" fmla="val 7995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ccia a destra 24"/>
            <p:cNvSpPr/>
            <p:nvPr/>
          </p:nvSpPr>
          <p:spPr>
            <a:xfrm rot="5400000">
              <a:off x="4318560" y="4544280"/>
              <a:ext cx="539640" cy="254880"/>
            </a:xfrm>
            <a:prstGeom prst="rightArrow">
              <a:avLst>
                <a:gd name="adj1" fmla="val 50000"/>
                <a:gd name="adj2" fmla="val 79935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7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9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Connettore 4 16"/>
          <p:cNvCxnSpPr/>
          <p:nvPr/>
        </p:nvCxnSpPr>
        <p:spPr>
          <a:xfrm flipV="1">
            <a:off x="7056360" y="4622400"/>
            <a:ext cx="216720" cy="94320"/>
          </a:xfrm>
          <a:prstGeom prst="bentConnector3">
            <a:avLst>
              <a:gd name="adj1" fmla="val 49916"/>
            </a:avLst>
          </a:prstGeom>
          <a:ln cap="rnd"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cxnSp>
        <p:nvCxnSpPr>
          <p:cNvPr id="927" name="Connettore 4 38"/>
          <p:cNvCxnSpPr/>
          <p:nvPr/>
        </p:nvCxnSpPr>
        <p:spPr>
          <a:xfrm flipV="1">
            <a:off x="7056360" y="5422680"/>
            <a:ext cx="216720" cy="94320"/>
          </a:xfrm>
          <a:prstGeom prst="bentConnector3">
            <a:avLst>
              <a:gd name="adj1" fmla="val 49916"/>
            </a:avLst>
          </a:prstGeom>
          <a:ln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sp>
        <p:nvSpPr>
          <p:cNvPr id="928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0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2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954" name="Connettore 2 42"/>
          <p:cNvCxnSpPr/>
          <p:nvPr/>
        </p:nvCxnSpPr>
        <p:spPr>
          <a:xfrm>
            <a:off x="7902720" y="5040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5" name="Connettore 2 52"/>
          <p:cNvCxnSpPr/>
          <p:nvPr/>
        </p:nvCxnSpPr>
        <p:spPr>
          <a:xfrm>
            <a:off x="7902720" y="538128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6" name="Connettore 2 53"/>
          <p:cNvCxnSpPr/>
          <p:nvPr/>
        </p:nvCxnSpPr>
        <p:spPr>
          <a:xfrm>
            <a:off x="7902720" y="5724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7" name="Connettore 2 54"/>
          <p:cNvCxnSpPr/>
          <p:nvPr/>
        </p:nvCxnSpPr>
        <p:spPr>
          <a:xfrm>
            <a:off x="7902720" y="606564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8" name="Connettore 2 55"/>
          <p:cNvCxnSpPr/>
          <p:nvPr/>
        </p:nvCxnSpPr>
        <p:spPr>
          <a:xfrm>
            <a:off x="7902720" y="640836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9" name="Connettore 2 56"/>
          <p:cNvCxnSpPr/>
          <p:nvPr/>
        </p:nvCxnSpPr>
        <p:spPr>
          <a:xfrm>
            <a:off x="4895640" y="538128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ttangolo 11"/>
          <p:cNvSpPr/>
          <p:nvPr/>
        </p:nvSpPr>
        <p:spPr>
          <a:xfrm>
            <a:off x="971640" y="2349360"/>
            <a:ext cx="7200720" cy="2808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042920" y="2349360"/>
            <a:ext cx="6985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Grid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size for Icon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Bits property for 32-bit 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xtended Masked property for transpa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Version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1DA-308D-4097-ADB0-D529B1F5C496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ttangolo 15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971640" y="2131920"/>
            <a:ext cx="720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7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ttangolo 22"/>
          <p:cNvSpPr/>
          <p:nvPr/>
        </p:nvSpPr>
        <p:spPr>
          <a:xfrm>
            <a:off x="108000" y="3789360"/>
            <a:ext cx="885672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ttangolo 21"/>
          <p:cNvSpPr/>
          <p:nvPr/>
        </p:nvSpPr>
        <p:spPr>
          <a:xfrm>
            <a:off x="108000" y="1413000"/>
            <a:ext cx="8856720" cy="230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7596360" y="34290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179280" y="3643200"/>
            <a:ext cx="8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1" descr=""/>
          <p:cNvPicPr/>
          <p:nvPr/>
        </p:nvPicPr>
        <p:blipFill>
          <a:blip r:embed="rId1"/>
          <a:stretch/>
        </p:blipFill>
        <p:spPr>
          <a:xfrm>
            <a:off x="179280" y="4014720"/>
            <a:ext cx="8807400" cy="25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4" name="Picture 12" descr=""/>
          <p:cNvPicPr/>
          <p:nvPr/>
        </p:nvPicPr>
        <p:blipFill>
          <a:blip r:embed="rId2"/>
          <a:srcRect l="0" t="0" r="4955" b="0"/>
          <a:stretch/>
        </p:blipFill>
        <p:spPr>
          <a:xfrm>
            <a:off x="108000" y="1413000"/>
            <a:ext cx="8785080" cy="210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ttangolo 15"/>
          <p:cNvSpPr/>
          <p:nvPr/>
        </p:nvSpPr>
        <p:spPr>
          <a:xfrm>
            <a:off x="3419640" y="2349360"/>
            <a:ext cx="5473440" cy="4175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ttangolo 13"/>
          <p:cNvSpPr/>
          <p:nvPr/>
        </p:nvSpPr>
        <p:spPr>
          <a:xfrm>
            <a:off x="250920" y="1917720"/>
            <a:ext cx="5184720" cy="410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4643280" y="191628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rcRect l="50012" t="0" r="0" b="0"/>
          <a:stretch/>
        </p:blipFill>
        <p:spPr>
          <a:xfrm>
            <a:off x="250920" y="1917720"/>
            <a:ext cx="4392360" cy="39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3" name="Picture 13" descr=""/>
          <p:cNvPicPr/>
          <p:nvPr/>
        </p:nvPicPr>
        <p:blipFill>
          <a:blip r:embed="rId2"/>
          <a:srcRect l="48397" t="0" r="0" b="0"/>
          <a:stretch/>
        </p:blipFill>
        <p:spPr>
          <a:xfrm>
            <a:off x="4500720" y="2637000"/>
            <a:ext cx="4427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4" name="Rettangolo 10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ttangolo 27"/>
          <p:cNvSpPr/>
          <p:nvPr/>
        </p:nvSpPr>
        <p:spPr>
          <a:xfrm>
            <a:off x="2668680" y="3139920"/>
            <a:ext cx="3774960" cy="2089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CasellaDiTesto 15"/>
          <p:cNvSpPr/>
          <p:nvPr/>
        </p:nvSpPr>
        <p:spPr>
          <a:xfrm>
            <a:off x="2771640" y="3211560"/>
            <a:ext cx="36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with Version 13.2 of ShowBalloonTip metho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SysTrayItem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ttangolo 29"/>
          <p:cNvSpPr/>
          <p:nvPr/>
        </p:nvSpPr>
        <p:spPr>
          <a:xfrm>
            <a:off x="2411280" y="2060640"/>
            <a:ext cx="439272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411280" y="213192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oherent appea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ttangolo 8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ttangolo 16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15"/>
          <p:cNvSpPr/>
          <p:nvPr/>
        </p:nvSpPr>
        <p:spPr>
          <a:xfrm>
            <a:off x="2881440" y="2779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he SysTrayItem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ttangolo 17"/>
          <p:cNvSpPr/>
          <p:nvPr/>
        </p:nvSpPr>
        <p:spPr>
          <a:xfrm>
            <a:off x="2411280" y="1917720"/>
            <a:ext cx="432144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2411280" y="1989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CasellaDiTesto 15"/>
          <p:cNvSpPr/>
          <p:nvPr/>
        </p:nvSpPr>
        <p:spPr>
          <a:xfrm>
            <a:off x="3203640" y="3284640"/>
            <a:ext cx="266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asellaDiTesto 15"/>
          <p:cNvSpPr/>
          <p:nvPr/>
        </p:nvSpPr>
        <p:spPr>
          <a:xfrm>
            <a:off x="3132000" y="479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ake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ttangolo 11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ttangolo 26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6" descr=""/>
          <p:cNvPicPr/>
          <p:nvPr/>
        </p:nvPicPr>
        <p:blipFill>
          <a:blip r:embed="rId1"/>
          <a:srcRect l="0" t="0" r="9017" b="3572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3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ttangolo 10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ttangolo 9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5" descr=""/>
          <p:cNvPicPr/>
          <p:nvPr/>
        </p:nvPicPr>
        <p:blipFill>
          <a:blip r:embed="rId1"/>
          <a:srcRect l="0" t="0" r="9090" b="3673"/>
          <a:stretch/>
        </p:blipFill>
        <p:spPr>
          <a:xfrm>
            <a:off x="250920" y="1341360"/>
            <a:ext cx="5761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2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ttangolo 22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5" descr=""/>
          <p:cNvPicPr/>
          <p:nvPr/>
        </p:nvPicPr>
        <p:blipFill>
          <a:blip r:embed="rId1"/>
          <a:srcRect l="0" t="0" r="10215" b="2077"/>
          <a:stretch/>
        </p:blipFill>
        <p:spPr>
          <a:xfrm>
            <a:off x="250920" y="1341360"/>
            <a:ext cx="5761080" cy="371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ttangolo 17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ttangolo 9"/>
          <p:cNvSpPr/>
          <p:nvPr/>
        </p:nvSpPr>
        <p:spPr>
          <a:xfrm>
            <a:off x="1692360" y="270828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11" descr=""/>
          <p:cNvPicPr/>
          <p:nvPr/>
        </p:nvPicPr>
        <p:blipFill>
          <a:blip r:embed="rId2"/>
          <a:stretch/>
        </p:blipFill>
        <p:spPr>
          <a:xfrm>
            <a:off x="2576520" y="2698920"/>
            <a:ext cx="638820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29316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08E-B7F4-4CAE-AC95-4863ACAE4D10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ttangolo arrotondato 11"/>
          <p:cNvSpPr/>
          <p:nvPr/>
        </p:nvSpPr>
        <p:spPr>
          <a:xfrm>
            <a:off x="971640" y="2220840"/>
            <a:ext cx="7200720" cy="574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ttangolo 12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8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04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512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ttangolo 21"/>
          <p:cNvSpPr/>
          <p:nvPr/>
        </p:nvSpPr>
        <p:spPr>
          <a:xfrm>
            <a:off x="2124000" y="1628640"/>
            <a:ext cx="4896000" cy="936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2124000" y="1700280"/>
            <a:ext cx="48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malfunc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ttangolo 11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15"/>
          <p:cNvSpPr/>
          <p:nvPr/>
        </p:nvSpPr>
        <p:spPr>
          <a:xfrm>
            <a:off x="2843280" y="277956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Un-maximized windows with titl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no GotFocus event when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uppo 22"/>
          <p:cNvGrpSpPr/>
          <p:nvPr/>
        </p:nvGrpSpPr>
        <p:grpSpPr>
          <a:xfrm>
            <a:off x="4383000" y="3645000"/>
            <a:ext cx="333360" cy="576000"/>
            <a:chOff x="4383000" y="3645000"/>
            <a:chExt cx="333360" cy="576000"/>
          </a:xfrm>
        </p:grpSpPr>
        <p:sp>
          <p:nvSpPr>
            <p:cNvPr id="1081" name="Freccia a destra 24"/>
            <p:cNvSpPr/>
            <p:nvPr/>
          </p:nvSpPr>
          <p:spPr>
            <a:xfrm rot="5400000">
              <a:off x="4251240" y="3776760"/>
              <a:ext cx="540720" cy="277200"/>
            </a:xfrm>
            <a:prstGeom prst="rightArrow">
              <a:avLst>
                <a:gd name="adj1" fmla="val 50000"/>
                <a:gd name="adj2" fmla="val 73826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ccia a destra 24"/>
            <p:cNvSpPr/>
            <p:nvPr/>
          </p:nvSpPr>
          <p:spPr>
            <a:xfrm rot="5400000">
              <a:off x="4308120" y="3812760"/>
              <a:ext cx="539640" cy="276480"/>
            </a:xfrm>
            <a:prstGeom prst="rightArrow">
              <a:avLst>
                <a:gd name="adj1" fmla="val 50000"/>
                <a:gd name="adj2" fmla="val 73763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0"/>
          <p:cNvSpPr/>
          <p:nvPr/>
        </p:nvSpPr>
        <p:spPr>
          <a:xfrm>
            <a:off x="3708360" y="2060640"/>
            <a:ext cx="316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(Windows s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ttangolo 27"/>
          <p:cNvSpPr/>
          <p:nvPr/>
        </p:nvSpPr>
        <p:spPr>
          <a:xfrm>
            <a:off x="2881440" y="2708280"/>
            <a:ext cx="3346200" cy="1800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CasellaDiTesto 15"/>
          <p:cNvSpPr/>
          <p:nvPr/>
        </p:nvSpPr>
        <p:spPr>
          <a:xfrm>
            <a:off x="2952720" y="2779560"/>
            <a:ext cx="32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Logical window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More freedom with Splitt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ttangolo 29"/>
          <p:cNvSpPr/>
          <p:nvPr/>
        </p:nvSpPr>
        <p:spPr>
          <a:xfrm>
            <a:off x="2916360" y="1268280"/>
            <a:ext cx="331128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2916360" y="1339920"/>
            <a:ext cx="33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Spl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ttangolo 17"/>
          <p:cNvSpPr/>
          <p:nvPr/>
        </p:nvSpPr>
        <p:spPr>
          <a:xfrm>
            <a:off x="250920" y="1989000"/>
            <a:ext cx="5184720" cy="374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ttangolo 18"/>
          <p:cNvSpPr/>
          <p:nvPr/>
        </p:nvSpPr>
        <p:spPr>
          <a:xfrm>
            <a:off x="3924360" y="2708280"/>
            <a:ext cx="496872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4500720" y="1989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2914560" y="6093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4" descr=""/>
          <p:cNvPicPr/>
          <p:nvPr/>
        </p:nvPicPr>
        <p:blipFill>
          <a:blip r:embed="rId1"/>
          <a:srcRect l="0" t="0" r="23080" b="0"/>
          <a:stretch/>
        </p:blipFill>
        <p:spPr>
          <a:xfrm>
            <a:off x="250920" y="1989000"/>
            <a:ext cx="4249800" cy="340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1" name="Picture 13" descr=""/>
          <p:cNvPicPr/>
          <p:nvPr/>
        </p:nvPicPr>
        <p:blipFill>
          <a:blip r:embed="rId2"/>
          <a:srcRect l="0" t="0" r="29589" b="0"/>
          <a:stretch/>
        </p:blipFill>
        <p:spPr>
          <a:xfrm>
            <a:off x="4643280" y="2874960"/>
            <a:ext cx="424980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ttangolo 27"/>
          <p:cNvSpPr/>
          <p:nvPr/>
        </p:nvSpPr>
        <p:spPr>
          <a:xfrm>
            <a:off x="2881440" y="2708280"/>
            <a:ext cx="3346200" cy="1657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CasellaDiTesto 15" descr=""/>
          <p:cNvPicPr/>
          <p:nvPr/>
        </p:nvPicPr>
        <p:blipFill>
          <a:blip r:embed="rId1"/>
          <a:stretch/>
        </p:blipFill>
        <p:spPr>
          <a:xfrm>
            <a:off x="1285920" y="2730600"/>
            <a:ext cx="6443640" cy="3041640"/>
          </a:xfrm>
          <a:prstGeom prst="rect">
            <a:avLst/>
          </a:prstGeom>
          <a:ln w="0">
            <a:noFill/>
          </a:ln>
        </p:spPr>
      </p:pic>
      <p:sp>
        <p:nvSpPr>
          <p:cNvPr id="1107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ttangolo 7"/>
          <p:cNvSpPr/>
          <p:nvPr/>
        </p:nvSpPr>
        <p:spPr>
          <a:xfrm>
            <a:off x="1763640" y="1628640"/>
            <a:ext cx="561672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1763640" y="1700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New GUI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very little effect on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ttangolo 8"/>
          <p:cNvSpPr/>
          <p:nvPr/>
        </p:nvSpPr>
        <p:spPr>
          <a:xfrm>
            <a:off x="2627280" y="2708280"/>
            <a:ext cx="3911760" cy="1441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asellaDiTesto 15"/>
          <p:cNvSpPr/>
          <p:nvPr/>
        </p:nvSpPr>
        <p:spPr>
          <a:xfrm>
            <a:off x="2722680" y="27795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Switching from old GUI to new GUI simply by properly setting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0" y="2708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That’s all flolk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DABB-E284-45EC-BFE1-AC1BB3F663CF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8" descr=""/>
          <p:cNvPicPr/>
          <p:nvPr/>
        </p:nvPicPr>
        <p:blipFill>
          <a:blip r:embed="rId1"/>
          <a:stretch/>
        </p:blipFill>
        <p:spPr>
          <a:xfrm>
            <a:off x="352440" y="1330200"/>
            <a:ext cx="8467560" cy="519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C28B-CA6A-4B67-883B-76401C3B496F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"/>
          <p:cNvSpPr/>
          <p:nvPr/>
        </p:nvSpPr>
        <p:spPr>
          <a:xfrm>
            <a:off x="250920" y="587700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Immagine 6" descr="access2011.png"/>
          <p:cNvPicPr/>
          <p:nvPr/>
        </p:nvPicPr>
        <p:blipFill>
          <a:blip r:embed="rId1"/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4" name="Text Box 10"/>
          <p:cNvSpPr/>
          <p:nvPr/>
        </p:nvSpPr>
        <p:spPr>
          <a:xfrm>
            <a:off x="539640" y="6165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Immagine 15" descr="photoshop2011d.jpg"/>
          <p:cNvPicPr/>
          <p:nvPr/>
        </p:nvPicPr>
        <p:blipFill>
          <a:blip r:embed="rId2">
            <a:lum bright="10000"/>
          </a:blip>
          <a:srcRect l="0" t="0" r="0" b="11236"/>
          <a:stretch/>
        </p:blipFill>
        <p:spPr>
          <a:xfrm>
            <a:off x="539640" y="1557360"/>
            <a:ext cx="79930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0" name="Text Box 10"/>
          <p:cNvSpPr/>
          <p:nvPr/>
        </p:nvSpPr>
        <p:spPr>
          <a:xfrm>
            <a:off x="971640" y="638172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Sof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Immagine 15" descr="photoshop2011d.jpg"/>
          <p:cNvPicPr/>
          <p:nvPr/>
        </p:nvPicPr>
        <p:blipFill>
          <a:blip r:embed="rId2">
            <a:lum bright="-20000"/>
          </a:blip>
          <a:srcRect l="-898" t="0" r="0" b="11236"/>
          <a:stretch/>
        </p:blipFill>
        <p:spPr>
          <a:xfrm>
            <a:off x="468360" y="1557360"/>
            <a:ext cx="806436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4" name="Picture 8" descr=""/>
          <p:cNvPicPr/>
          <p:nvPr/>
        </p:nvPicPr>
        <p:blipFill>
          <a:blip r:embed="rId3"/>
          <a:srcRect l="0" t="2790" r="0" b="0"/>
          <a:stretch/>
        </p:blipFill>
        <p:spPr>
          <a:xfrm>
            <a:off x="971640" y="1773360"/>
            <a:ext cx="784836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ttangolo 4"/>
          <p:cNvSpPr/>
          <p:nvPr/>
        </p:nvSpPr>
        <p:spPr>
          <a:xfrm>
            <a:off x="971640" y="2205000"/>
            <a:ext cx="7200720" cy="2951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e1e7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42920" y="2419200"/>
            <a:ext cx="6985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Aesthetics: previous SOFIA GUI 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ot very attractive to new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ew technology: tablets and smart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uppo 36"/>
          <p:cNvGrpSpPr/>
          <p:nvPr/>
        </p:nvGrpSpPr>
        <p:grpSpPr>
          <a:xfrm>
            <a:off x="2387520" y="3211560"/>
            <a:ext cx="312840" cy="255600"/>
            <a:chOff x="2387520" y="3211560"/>
            <a:chExt cx="312840" cy="255600"/>
          </a:xfrm>
        </p:grpSpPr>
        <p:sp>
          <p:nvSpPr>
            <p:cNvPr id="811" name="Freccia a destra 24"/>
            <p:cNvSpPr/>
            <p:nvPr/>
          </p:nvSpPr>
          <p:spPr>
            <a:xfrm>
              <a:off x="2413080" y="324972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ccia a destra 24"/>
            <p:cNvSpPr/>
            <p:nvPr/>
          </p:nvSpPr>
          <p:spPr>
            <a:xfrm>
              <a:off x="2387520" y="321156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uppo 36"/>
          <p:cNvGrpSpPr/>
          <p:nvPr/>
        </p:nvGrpSpPr>
        <p:grpSpPr>
          <a:xfrm>
            <a:off x="2411280" y="4363920"/>
            <a:ext cx="312840" cy="255600"/>
            <a:chOff x="2411280" y="4363920"/>
            <a:chExt cx="312840" cy="255600"/>
          </a:xfrm>
        </p:grpSpPr>
        <p:sp>
          <p:nvSpPr>
            <p:cNvPr id="814" name="Freccia a destra 24"/>
            <p:cNvSpPr/>
            <p:nvPr/>
          </p:nvSpPr>
          <p:spPr>
            <a:xfrm>
              <a:off x="2436840" y="44020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ccia a destra 24"/>
            <p:cNvSpPr/>
            <p:nvPr/>
          </p:nvSpPr>
          <p:spPr>
            <a:xfrm>
              <a:off x="2411280" y="436392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tangolo arrotondato 12"/>
          <p:cNvSpPr/>
          <p:nvPr/>
        </p:nvSpPr>
        <p:spPr>
          <a:xfrm>
            <a:off x="971640" y="2924280"/>
            <a:ext cx="7200720" cy="10810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alibri"/>
              </a:rPr>
              <a:t>How: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24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2:29Z</dcterms:created>
  <dc:creator>Chiara Zanni</dc:creator>
  <dc:description/>
  <dc:language>en-US</dc:language>
  <cp:lastModifiedBy>Fiona Smith</cp:lastModifiedBy>
  <dcterms:modified xsi:type="dcterms:W3CDTF">2013-11-08T14:14:18Z</dcterms:modified>
  <cp:revision>1598</cp:revision>
  <dc:subject/>
  <dc:title>Diapositiva 1</dc:title>
</cp:coreProperties>
</file>