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D3D0B-8DBD-4617-A44E-C0C6E0C8AD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15A91-44AC-4E88-AA2F-5C7D629795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5CBB3-C094-486B-81D1-DAC895CE22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F7F78-60A9-47E3-B035-76E72A81EE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2909B-5939-43AE-B0AC-ED2CBA459F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DEC3E-906D-4276-8F80-5E0090D93D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E9D0F-5FC8-4D00-BADC-B7D134490C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39FAB-0941-4459-A0CC-A097764DC2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CD5A4-352E-4044-BE69-BD4EDEC8AD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A65A4-6BE9-42FA-9082-F2D0ED6F79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EE14F-D460-48E8-8FB9-FE4F9E8FDC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53878-D9B3-48FF-A53E-49C5FE5AA8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yalogpower-768x1024.gif                                       00020D4A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42840"/>
            <a:ext cx="9191520" cy="68864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"/>
          <p:cNvPicPr/>
          <p:nvPr/>
        </p:nvPicPr>
        <p:blipFill>
          <a:blip r:embed="rId3"/>
          <a:stretch/>
        </p:blipFill>
        <p:spPr>
          <a:xfrm>
            <a:off x="324000" y="5587920"/>
            <a:ext cx="952200" cy="9367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" descr=""/>
          <p:cNvPicPr/>
          <p:nvPr/>
        </p:nvPicPr>
        <p:blipFill>
          <a:blip r:embed="rId4"/>
          <a:stretch/>
        </p:blipFill>
        <p:spPr>
          <a:xfrm>
            <a:off x="7164360" y="6421320"/>
            <a:ext cx="1274760" cy="1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3566880" y="633744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Geneva"/>
              </a:rPr>
              <a:t>Slide </a:t>
            </a:r>
            <a:fld id="{26F95E6D-DE0A-424A-8705-AA9889A1B17C}" type="slidenum">
              <a:rPr b="0" lang="en-GB" sz="1200" spc="-1" strike="noStrike">
                <a:solidFill>
                  <a:srgbClr val="898989"/>
                </a:solidFill>
                <a:latin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3" descr=""/>
          <p:cNvPicPr/>
          <p:nvPr/>
        </p:nvPicPr>
        <p:blipFill>
          <a:blip r:embed="rId1"/>
          <a:stretch/>
        </p:blipFill>
        <p:spPr>
          <a:xfrm>
            <a:off x="3071880" y="2286000"/>
            <a:ext cx="3247920" cy="3887640"/>
          </a:xfrm>
          <a:prstGeom prst="rect">
            <a:avLst/>
          </a:prstGeom>
          <a:ln w="0">
            <a:noFill/>
          </a:ln>
        </p:spPr>
      </p:pic>
      <p:sp>
        <p:nvSpPr>
          <p:cNvPr id="41" name="Title Placeholder 4"/>
          <p:cNvSpPr/>
          <p:nvPr/>
        </p:nvSpPr>
        <p:spPr>
          <a:xfrm>
            <a:off x="685800" y="1413000"/>
            <a:ext cx="77724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Gitte &amp; N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itle Placeholder 4"/>
          <p:cNvSpPr/>
          <p:nvPr/>
        </p:nvSpPr>
        <p:spPr>
          <a:xfrm>
            <a:off x="652320" y="620640"/>
            <a:ext cx="7886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The SharpPlot Chart Wiza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harpPlot, as of v14.0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55640" y="1700280"/>
            <a:ext cx="86025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yalog took over Causeway in 2008 (v12.0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27920" indent="-28008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Nic’s in charge since 2013 (v14.0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RainPro frozen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27920" indent="-28008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harpRain for emulation/conversion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harpPlot on all platform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27920" indent="-28008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.Net version 10x faster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harpPlot Chart Wizar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817416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The visual interpretation of data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46" name="Picture 4" descr="rabbit-or-duck.jpg"/>
          <p:cNvPicPr/>
          <p:nvPr/>
        </p:nvPicPr>
        <p:blipFill>
          <a:blip r:embed="rId1"/>
          <a:stretch/>
        </p:blipFill>
        <p:spPr>
          <a:xfrm>
            <a:off x="1928880" y="1643040"/>
            <a:ext cx="5395680" cy="42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The SharpPlot Chart Wizard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5640" y="1700280"/>
            <a:ext cx="763272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Visually explore workspace data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teractively experiment chart setting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Produce images (many formats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utomate chart generation from similar data (produce APL script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14240" y="278568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Live Demo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0T07:31:57Z</dcterms:created>
  <dc:creator>Nicolas</dc:creator>
  <dc:description/>
  <dc:language>en-US</dc:language>
  <cp:lastModifiedBy>Nicolas</cp:lastModifiedBy>
  <cp:lastPrinted>2014-08-15T09:52:37Z</cp:lastPrinted>
  <dcterms:modified xsi:type="dcterms:W3CDTF">2014-09-22T20:33:32Z</dcterms:modified>
  <cp:revision>28</cp:revision>
  <dc:subject/>
  <dc:title>Slide 0</dc:title>
</cp:coreProperties>
</file>